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7B8-4ADC-48FC-84E4-CA03A7B9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3AA-5BD0-4ADA-A6A0-007E5F0E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5977-4A99-4B84-9AB4-6A27D6DA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AD4D-598D-44EC-9203-E7D9A271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E3C5-A504-4F11-9192-2C117E1C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A171-9181-4655-B316-198A452B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0C88-FAB7-4F67-89FE-011F4652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D044-74C6-4364-9C8D-4990265C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82D5-C5CD-419C-872A-FC80FE19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8E5B-E395-42D4-A143-90401E7A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378D-B2D9-4D9E-8C6F-EDD9D4AE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C40-6879-4407-8B82-66004ED0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E5D2-6939-4EF4-BAF9-489C75B9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8B7B-59A4-404D-888B-25CF9E22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9BEF-FF45-4959-9860-DAB1F3F5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E685-AD61-4610-B530-0B8EF5C7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867E-FD2B-45C4-9B98-A3D1C596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9158-9EB7-4F6F-A14D-92235E0F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B60-86E7-44E3-82D0-784712D5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9C24-73A5-41F1-BCCF-7D6DBF03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2E7F-9026-4377-A58F-5429CB24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A91-2603-4989-A093-299EF5C4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9C7C-8A44-4A72-9496-EE85A8E7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1BF8-6CA2-4912-B25E-9C52368D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58F7-CFDA-4DE6-84EE-41021843C6A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987B-E081-4968-AABC-7EDB435272B5}" type="slidenum">
              <a:rPr b="0" lang="fr-FR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47040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d7e08"/>
                </a:solidFill>
                <a:latin typeface="微软雅黑"/>
                <a:ea typeface="微软雅黑"/>
              </a:rPr>
              <a:t>绿叶水滴通用</a:t>
            </a:r>
            <a:r>
              <a:rPr b="1" lang="en-US" sz="4000" spc="-1" strike="noStrike">
                <a:solidFill>
                  <a:srgbClr val="2d7e08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2d7e08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611280" y="-1440"/>
            <a:ext cx="9363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457200" y="47815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8000" y="206280"/>
            <a:ext cx="64184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2d7e08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68000" y="1200240"/>
            <a:ext cx="64184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7e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d7e08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794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7e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d7e08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474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530280" y="4875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3059280"/>
            <a:ext cx="9144000" cy="208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96720" y="106056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Calibri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2d7e08"/>
                </a:solidFill>
                <a:latin typeface="Calibri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-219600" y="397656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  <a:ea typeface="Ari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3:04:23Z</dcterms:created>
  <dc:creator/>
  <dc:description/>
  <cp:keywords/>
  <dc:language>en-US</dc:language>
  <cp:lastModifiedBy>王玉清</cp:lastModifiedBy>
  <cp:lastPrinted>1899-12-30T00:00:00Z</cp:lastPrinted>
  <dcterms:modified xsi:type="dcterms:W3CDTF">2016-02-21T03:50:05Z</dcterms:modified>
  <cp:revision>4</cp:revision>
  <dc:subject/>
  <dc:title>绿叶水滴幻灯片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