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2D8-E233-40A8-99EF-81294BC7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524-6535-4A7E-A322-E43BC2E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362-64D3-49E1-8909-D3666C44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407-8E55-4506-8816-877437AB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89BD-5859-4A86-BA23-29C56AE7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6A0-6940-40A9-97AB-637E09A2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BA2C-E627-4361-88BC-18DD72B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F16-55CB-4D7A-A2F9-21C24F5E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BA5-7C4F-4AA3-978F-86E04A6B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FCB-5893-4F9B-BCD0-92B1A3C8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B4D-3548-483F-9A1A-10CFD5F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59A-74F2-4201-977F-DC044698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A5E-DB0B-4418-B9EB-ADC7EB19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AB29-4A55-4D60-8E53-2A86393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002-D77B-4116-A1C6-2273E49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B27-C9A3-4D68-B9B6-70494A2C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B632-FB40-4A99-A6D2-4668C682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03C6-68D6-4055-9BB1-AF826B20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FCEA-AE6B-4DDD-9983-C319F150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0A1E-69F5-48BC-9FEF-132456A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E02D-096A-42B0-97A7-4DE9BAD1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BBFF-68DF-4C76-A466-60CD90B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97F-6261-4816-8C86-5A94F54F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36A6-1339-4127-8F73-2A9F750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7520-9B9F-48B0-B410-116E440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F991-8102-41F0-8141-02372A5B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A305-9F89-4607-A8A0-08FE7DD2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DB1A-3B5F-43FF-B19C-3F357C4D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E15B7-2EE9-4B67-893A-3F73E6C4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6B3A-62AD-43C4-A86F-DCD1DE85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A6AB-DB34-4B90-A33D-FF413D5A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7B6D-53C2-4680-A979-2CCB54E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B6DB-6E1E-4AC2-9625-3389A03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185-B00D-4F51-9D89-D54F63B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3AE35-1F02-4750-84B6-A1250AD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56B5-80C1-4DA4-A830-3A7E5071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26AF-221F-4BC7-A342-E069A917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EC92-964B-4970-85BA-C5351FE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2108-D06D-46C8-B82C-D9414FA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6D6C-94B0-4E87-AEE6-EC8C258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A4F6-7D8B-46D6-8E39-DBA7A02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60BC-BD0B-466F-9F21-7157ADC5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7264-5D15-4AAA-B5D6-B2AC71CC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AA74-9992-4D7D-B599-38A37BCF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000-B8EB-4C24-97E5-D59570F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94DE-E5F8-4B39-8A0C-7D15250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6042-2970-4C17-A308-76FAE072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2655-F3A4-4516-8BEF-6C7BAA7B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7FA8-07C0-458C-B26C-7982EDD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F420A-7AEF-49D4-A57C-C7EB864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ED3A-0FFD-4257-A86C-4572333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C965-E1D0-40D4-8AB8-D40CDCE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7F8F-A6D3-45E7-B881-08F8810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0BFA-44D9-4375-A9CC-3E7F05D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90C2-BFFA-4528-970D-0DAE19D9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1EB-6248-4789-A736-C2CF2AC7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96F26-AF52-4392-99A1-1ABA6BC5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EE4-5DB3-44FC-8009-1E69329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1FC-A387-4915-8977-217231B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2F3-DB26-4CAB-9ED3-1252815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gif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b0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133800" y="0"/>
            <a:ext cx="6010200" cy="1874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0476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165480" cy="10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02B-2DA2-4777-866D-A0BA9BCB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9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640080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160880"/>
            <a:ext cx="3578400" cy="2697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05320" y="4708440"/>
            <a:ext cx="5638680" cy="2149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63D-416A-474F-9676-55B5A1299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4950000"/>
            <a:ext cx="9144000" cy="190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200400" y="4950000"/>
            <a:ext cx="2378160" cy="190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14F-8F2D-4BDF-AD4D-F7184177F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25920" y="5565600"/>
            <a:ext cx="461808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537240" y="2681280"/>
            <a:ext cx="2606760" cy="2892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D5E7-76D7-4167-9EA9-710D23E63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525920" y="2676600"/>
            <a:ext cx="4618080" cy="4181400"/>
            <a:chOff x="4525920" y="2676600"/>
            <a:chExt cx="4618080" cy="418140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537240" y="2676600"/>
              <a:ext cx="2606760" cy="28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4525920" y="5565960"/>
              <a:ext cx="4618080" cy="12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60A-C87A-492A-BB7B-B1BC2FC7A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42040" y="549360"/>
            <a:ext cx="34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漫画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b0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9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350208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283D-36E3-4F85-A043-AA1CC9C4E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26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09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