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C4C-CF70-4FC9-8A69-889C1C1C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5F1-13BE-4B91-AB8F-B6E86526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85C-1A89-408B-934B-F3B2CA79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B74-62E3-4E57-81BA-2287507D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CCD-A7D7-4FB4-8D5B-61947964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F0FA-F550-4974-82E7-F06276FE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03E-823B-4564-BFFF-8170D156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2DA-16B2-4EE4-9260-1DB3607F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0F4-C432-472E-8920-5EF5F065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418-D0C1-4FE3-902E-49C2DA8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0431-FE40-4092-997C-045881D5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39B-0E09-4729-866C-0D501B6D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ABE41D-FAA4-4E90-908D-2DEE710C438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8316360" y="29880"/>
            <a:ext cx="71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e6e6e6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e6e6e6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2321280" y="54864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美丽花朵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9"/>
          <p:cNvSpPr/>
          <p:nvPr/>
        </p:nvSpPr>
        <p:spPr>
          <a:xfrm>
            <a:off x="251640" y="6165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7069320" y="43578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9"/>
          <p:cNvSpPr/>
          <p:nvPr/>
        </p:nvSpPr>
        <p:spPr>
          <a:xfrm>
            <a:off x="251640" y="6165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9"/>
          <p:cNvSpPr/>
          <p:nvPr/>
        </p:nvSpPr>
        <p:spPr>
          <a:xfrm>
            <a:off x="251640" y="6165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  <Words>136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1T03:38:52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3</vt:r8>
  </property>
</Properties>
</file>