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2E7-7E44-460C-BA34-12F417A3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D40-8C81-4732-8D30-71F439CC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DAC-81BD-4AC1-803C-131DDA7C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5EF-00A4-4B27-AE15-46B184A8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508B-4ED4-4E5F-9304-85C98549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CF68-732B-4800-93DD-9FBA5DA5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AD00-4C4A-4FEB-AEFD-497B027F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C910-73EF-42C2-AA23-D4331E57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167A-9E1D-4382-B4A2-E936C42B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F2E9-7415-4976-A424-715C8E5A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7809-87BE-44BE-9F8F-A185782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39B-9A92-48AF-BD21-72D1569B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DE88-695F-4A8A-AF35-362BA61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193B-0A86-475A-A644-F86A8AB4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2E98-CFDE-4DC9-AC66-B95E0A9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14C1-AD27-42AF-834F-4715C123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73B0-77AB-47E3-B973-6DC1CACE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5DA-C828-4817-A52F-10752D3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D26-B1CE-4DA4-A65C-8544633B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770-C277-4975-8597-70208DF8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D78-B5AB-4811-BDB6-39C795A5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434-FF46-45DF-8CAD-F89A82E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958-8C56-4E5C-8596-3C917B6A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5C5-A830-4254-90DC-AAA32138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5F1E-676A-4DE1-9620-DF0015855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1D81-9D74-45BD-BEE9-69751784C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未标题-1.png"/>
          <p:cNvPicPr/>
          <p:nvPr/>
        </p:nvPicPr>
        <p:blipFill>
          <a:blip r:embed="rId2"/>
          <a:stretch/>
        </p:blipFill>
        <p:spPr>
          <a:xfrm>
            <a:off x="3500280" y="2857680"/>
            <a:ext cx="1262160" cy="1261800"/>
          </a:xfrm>
          <a:prstGeom prst="rect">
            <a:avLst/>
          </a:prstGeom>
          <a:ln w="0">
            <a:noFill/>
          </a:ln>
        </p:spPr>
      </p:pic>
      <p:sp>
        <p:nvSpPr>
          <p:cNvPr id="91" name="矩形 7"/>
          <p:cNvSpPr/>
          <p:nvPr/>
        </p:nvSpPr>
        <p:spPr>
          <a:xfrm>
            <a:off x="1166400" y="1214280"/>
            <a:ext cx="46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汉仪综艺体简"/>
                <a:ea typeface="汉仪综艺体简"/>
              </a:rPr>
              <a:t>美女通用</a:t>
            </a:r>
            <a:r>
              <a:rPr b="0" lang="en-US" sz="4000" spc="-1" strike="noStrike">
                <a:solidFill>
                  <a:srgbClr val="92d050"/>
                </a:solidFill>
                <a:latin typeface="汉仪综艺体简"/>
                <a:ea typeface="汉仪综艺体简"/>
              </a:rPr>
              <a:t>PPT</a:t>
            </a:r>
            <a:r>
              <a:rPr b="0" lang="zh-CN" sz="4000" spc="-1" strike="noStrike">
                <a:solidFill>
                  <a:srgbClr val="92d050"/>
                </a:solidFill>
                <a:latin typeface="汉仪综艺体简"/>
                <a:ea typeface="汉仪综艺体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142920" y="5281560"/>
            <a:ext cx="6715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not yet forgiven the crow for depriving him of the young magpies, so he carried the crow to the edg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recipice and threw him over, intending to go round by a path he knew and pick him up at the bott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no sooner had the fox let the crow go than he soared up into the air, and hovering just out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1" descr="未标题-1.png"/>
          <p:cNvPicPr/>
          <p:nvPr/>
        </p:nvPicPr>
        <p:blipFill>
          <a:blip r:embed="rId2"/>
          <a:stretch/>
        </p:blipFill>
        <p:spPr>
          <a:xfrm>
            <a:off x="5786280" y="27860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95" name="矩形 12"/>
          <p:cNvSpPr/>
          <p:nvPr/>
        </p:nvSpPr>
        <p:spPr>
          <a:xfrm>
            <a:off x="357120" y="357120"/>
            <a:ext cx="8286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ugh deeply grieved for the loss of his little one, found some comfort in the thought that only a bird of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ordinary wisdom would have dreamed of saving the rest by the sacrifice of the one. But what do you t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k happened? Why, a few days later, Michael the fox might have been seen sitting under the very same 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e, and a dreadful pang shot through the heart of the magpie as he peeped at him from a hole in the n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sat on the edge of his nest, his head drooping and his feathers all ruffled, looking the picture of mis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eed he was so different from the gay, jaunty magpie whom every creature in the forest knew, that a c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 who was flying past, stopped to inquire what was the matter. 'Where are the two young ones who are 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next morning the fox came to his usual place in front of the tree, for he was hungry, and a nice yo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pie would have suited him very well for dinner. But this time there was no cowering, timid magpi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his bidding, but a bird with his head erect and a determined vo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428760" y="4643280"/>
            <a:ext cx="25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00"/>
                </a:solidFill>
                <a:latin typeface="Arial"/>
              </a:rPr>
              <a:t>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55640" y="6446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5414400" y="27417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方正综艺_GBK"/>
                <a:ea typeface="方正综艺_GBK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arkey</dc:creator>
  <dc:description/>
  <dc:language>en-US</dc:language>
  <cp:lastModifiedBy>王玉清</cp:lastModifiedBy>
  <dcterms:modified xsi:type="dcterms:W3CDTF">2016-02-21T04:13:18Z</dcterms:modified>
  <cp:revision>52</cp:revision>
  <dc:subject/>
  <dc:title>Slide 1</dc:title>
</cp:coreProperties>
</file>