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AC7-F7E3-46F2-A0D5-B50CA326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547-F858-420D-BD06-0B717F7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DD5-1BBF-403D-B7FC-81606756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3A0-D506-443E-9107-281DC573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5A0-11B4-4554-9151-D595AC1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FE5-5176-414C-832D-73B2AE0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976-1B68-4C1D-8147-59F08C3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565-A74D-410B-9A6B-3C578882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DA0-9258-48F1-B5BB-C5D073A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5C1-ED73-4006-B4F6-5C8CD960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486-6384-4859-9185-8105426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BA-3094-4B2C-8E89-5581834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1F5-B5CE-47EB-8375-3C71173A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封面文字"/>
          <p:cNvPicPr/>
          <p:nvPr/>
        </p:nvPicPr>
        <p:blipFill>
          <a:blip r:embed="rId2"/>
          <a:stretch/>
        </p:blipFill>
        <p:spPr>
          <a:xfrm>
            <a:off x="1790640" y="907920"/>
            <a:ext cx="5562720" cy="1028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3520080" y="170028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一天都是崭新的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内页文字"/>
          <p:cNvPicPr/>
          <p:nvPr/>
        </p:nvPicPr>
        <p:blipFill>
          <a:blip r:embed="rId2"/>
          <a:stretch/>
        </p:blipFill>
        <p:spPr>
          <a:xfrm>
            <a:off x="468360" y="404640"/>
            <a:ext cx="366696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内页文字-正文"/>
          <p:cNvPicPr/>
          <p:nvPr/>
        </p:nvPicPr>
        <p:blipFill>
          <a:blip r:embed="rId3"/>
          <a:stretch/>
        </p:blipFill>
        <p:spPr>
          <a:xfrm>
            <a:off x="900000" y="2349360"/>
            <a:ext cx="73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7:37:54Z</dcterms:created>
  <dc:creator>YE</dc:creator>
  <dc:description/>
  <dc:language>en-US</dc:language>
  <cp:lastModifiedBy>王玉清</cp:lastModifiedBy>
  <dcterms:modified xsi:type="dcterms:W3CDTF">2016-02-24T04:04:06Z</dcterms:modified>
  <cp:revision>5</cp:revision>
  <dc:subject/>
  <dc:title>幻灯片 1</dc:title>
</cp:coreProperties>
</file>