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9887-9D72-426E-BE87-6DCF6E7F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884-6E3F-44D4-8B5F-1E908136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0D459-BE11-4C59-828F-CD72BDD2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31FE5-3516-4434-8E35-2266EFE2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4EACC-AB6C-4FA2-A79D-DF944EB7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3BEC8-E5F4-4779-8160-2CBFAA07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77DD6-3E38-4E6F-B0A7-9F8DDC2C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68145-CA3D-4AB8-A602-18FF492F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F8316B-27D9-435E-8547-D34ABFEE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BBC30-1D15-49BD-97B9-A98091EE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4BC11-E834-4A21-BDE6-D89262BF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30459-517E-4595-A833-0D02B382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A07-1E41-45FB-BE55-6255A5E4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CE920-8B55-4ADF-996C-E23109E43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0C27B-65EE-43B7-9F50-74EE66EC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72237-782F-4FF8-A5C0-75F9ACEC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3B286-998F-4ABD-A303-07EB23EF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F3E91-BE19-424B-BADA-EA0EE84A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CD4FA-1AFF-4AC7-AF88-E4AA5384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26C9A-0383-4F87-A4E5-21E6021C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FCB28-5B99-4D9E-8000-9FC9C513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6B22E-5670-47C5-ABFA-BCFE53AE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A539E-8003-4AE6-A2AD-77D1E083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D7F-7210-42E9-B3F8-33F6DACD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394FF-BE01-457A-B12C-86434A41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A38A1-A2B5-4BF3-90E9-9B12F70B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A1728-A655-43F3-ABAA-F79269DC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27CB6-5B5A-402B-A697-CA9D3A45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577BC-E528-4B3A-B932-39143BE5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B075B-B0AE-4998-9720-5D284FD4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414E6-BC05-4614-A315-225340B4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EC918-018F-4910-B680-BBAB4FF5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04018-B5B8-441D-93F1-3E5A7B2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FBAA6-F3E4-4380-B511-CB68B7A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1D74C-C1E6-400E-A33E-E225DCFA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641F5-9BD7-4762-8B5A-5B915817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61B12C-51FB-4FF7-9B5C-4DDC3FE02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DBE33-4839-4F94-BD75-857A0DDAC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7D8C7-4C10-47F8-9703-85035F1D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076A8B-D5D1-4191-BE1C-4A25A4B7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89E4-3C56-4A11-92F6-33DC0E24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EA295-27A9-43D9-9EA4-E1528501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9AEF5B-BA9D-4078-A436-11DEC121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4249B-FFF6-4087-AB82-C85F99C0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62D4D-E303-435F-9FED-1D538E01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F7089-11F4-4407-8B8D-018D9F0C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12052-31AE-4160-AE90-D2E2CCCB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2601BB-78FE-448A-BB87-DC1C67D5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A27DC-4FA9-4722-9D8C-55E4E4DC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F570F-C96C-4511-A1D5-D1BFFF9A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97617-206D-4FC0-8F11-65B32174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A305BB-6B50-4513-8CE3-850CAD57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03831-2C36-4248-BE20-6AD5EC5D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A8FDFD-302C-48ED-A830-AF665B14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DDD450-E633-46C4-86B3-14D88032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C9750E-08BD-4DA5-9D94-95920571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4876-77A3-480A-A7E4-E490135C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72509-2C14-4595-ACD4-3EBE1678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191FE-7D5C-4E32-89C4-F12B891E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EE0494-B080-4C44-83C9-4233595B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FBEEE-49FB-4CC2-A1D6-52E14D77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5258DD-A6AE-426C-8DD8-5A69D89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66BC3-C632-46D8-8388-FAF506C8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6B86B-AE21-4F15-BC21-59E8CD1D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89C6-D135-4425-B3FC-7173FA20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5A12-E3FC-408F-9537-54922866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627C-2ED6-4A72-9A82-5C107A5E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11076-D697-42BB-BF52-C677A46E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E4C3-6E40-43E8-920A-67F0B1F3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EA39-F6FD-481B-B437-C9DF4277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6A6F-FBDE-4669-BD6B-E98116DA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21E8-BE4B-4C6E-8686-D333ED47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47A7-B279-45B5-8575-508B0B0AE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BE9D-608D-442E-8E62-2360E02B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CA278-56CD-4324-88D4-657E4D16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FF57-B84E-43AB-BA8C-F14B8E74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317C-190A-4CD5-93F4-0863BDAE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29865-23C3-48F2-9AFE-E8B3F811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18BD1-FE32-4936-A9AE-5B2C1A46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88F9-7D41-4CD5-92A9-E316EF69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3AEE-CFBB-4EFE-BA37-76DB0AFD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1382D-C00A-4365-8123-A12CBEE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8F1A8-1A0C-49D7-AE50-61D7B2EE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1909B-FE92-4A8E-9398-548F2026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AA268-179A-4426-8082-5956CE9F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490A-9A4B-4913-9567-E17AA046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7555-E612-4702-9A7F-3CC61AD1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1A0C9-6005-49EB-96A4-F6CB93D9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0CD76-65EC-4250-9D9C-CF614936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8AC8E-BBC9-4BCD-8D68-0BEE4D23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A455-2D89-46D7-ADFD-B5481843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00650-961A-4858-A648-95CC0D24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8F29B-D425-4883-BF03-4C39D994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4F84C-4567-4DC2-A5A8-2529F4C1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167A6-98CB-417D-A495-89690D9A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DAA3B-4E88-4B9C-AC6D-99F9ECF0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C141-5F4F-4BD3-BD17-68FE97E9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E83C7-9DC0-4FA1-A448-CAFE0E73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FA1C3-9D4C-4F97-B6AA-93AF3FC2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66DD7-DBB6-4466-93C4-64ADE30C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E78E1-CEA4-46CD-A44B-AE4FF403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300-DA7A-4F16-88A4-79C1509E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84EED-954C-4C84-B1DD-5B4E43EA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CA32E-3FBB-4B5E-B381-21E78A77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C0E5F-F3E5-417E-ADDD-50419BD1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4434-46C6-4EC3-98AE-18F2C74D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5265B-33CF-4499-BBAB-B3DF7333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A51BA-61D2-4C64-945E-C187F4DD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9B669-DAB8-473F-8ABE-79BE1202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B41E9-83C7-42C3-94DD-89876BC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3A595-1C53-41E2-93C7-6D639D285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33902-4F97-4026-B0C9-DE1429E7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7F9-420A-43EA-B245-47825BDA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903DE-B917-4A84-B17E-7063D7B8D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C545-9BB5-4269-92E0-ED4877EE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9E61F-965E-4E04-9FC1-6D3BAD45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7FFE7-3DE8-4DDC-8500-4C807E67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B518F-0FE7-403F-A268-1D48E8AA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F4FCA-78A7-4DE6-9012-B03A553A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49309-F727-43B9-9092-E31AB0B4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8239F-EA02-4FF5-94CA-32A85AFE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A43F0-D916-4CA1-9347-77ADAFDD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FE886-93C1-4353-8474-48F82563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906-B619-47A2-98E7-ACB90BAE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69EC6-CA58-48C6-A2D2-E66BB1E3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B3A88-532E-48CA-932C-16C214FE5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F7375-E720-4117-9A3D-CC5C2184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9BC33-4129-41F7-9AF8-08E1B558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A39E-6A23-4012-82CF-1B48B0E3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BFDED-F0C8-484C-9015-6C903D74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5DC60-83DC-4CE3-87B2-B2CCB12B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4D354-D436-49F8-B422-E5A77E03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2AF4F-F44D-4D9B-9524-E665804C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B9E65-81A8-45FD-9F3B-EC1D2FC4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F320-A132-4B82-870F-19437F86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1029C-B788-436A-B663-E0506985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BB8DE-1935-4E58-AA23-B71164BB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3090A-4029-42CC-9818-C42FF415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7CF87-5173-4DE2-912A-5DF79D40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198C6-84DC-4445-AFCE-86BA4F89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7E720-34EF-4017-ADC4-0F3EFD06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101D8-0D42-4519-B627-5A870D1F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9E2A2-AE77-4D59-ACCE-73C2ED26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BF4B6-7137-4F76-A2C4-E28BD9A9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6C21A-4274-42E7-BF87-89ED451F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2F5-63F7-4EC5-B02C-C57AFB2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15740-B720-468D-A4DC-8C95B583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35B2D9-58F5-4149-BB96-AA43E38D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3B4FE-5579-4E0B-B128-6664E997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E2FD5-152F-4327-B446-79576FD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FABFA-7017-4CB5-9515-6CD737C3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CCB4F-E669-40A6-B159-FF272D07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084BC-556C-4F95-A9BB-EA1AA7213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85DF89-6D28-47C0-9A16-1E0F8828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B7E26C-E9DC-4251-97E9-55B66338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FC0C7-41DE-4821-8F51-B20C04BC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A2FB-17D0-4B86-80A2-8DFE9B5D6CE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D9BA-40AA-4319-8361-D25C591C85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3BF-3BD0-4BB6-A55F-EA9F7E63A79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2545-C578-4D94-A4EB-B5C6D18EBF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B10E-532A-4820-AE29-8935D74C8E8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7539-2EDA-46C5-92D8-71116D4726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FDFB-0529-47D9-80EC-862582C31F7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47D5-8F33-4552-997E-D2FA52A1A6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4C94-08C7-46F7-A2AE-BCF8C62D5BB5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A679-472D-4ABA-81F8-30C7B3FA47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86DF-B7A2-4D19-913E-10915BB677E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F74E-CE13-47E4-89E4-C9616DE4A5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6D52-8B1C-4643-AD67-5B128B5B4A01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A209-4C8F-45DC-A989-BE8835DB060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BB7-16C7-4008-B870-3FB9978E1EE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7844-E3C6-4481-B6E0-1D584B5A9B1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EFFC-6A84-46A0-AC74-528E5A7097A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FB1E-4A24-46DE-A24B-D071E288D43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0F03-52D1-4F43-A6CA-D6A15A344D96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0F21-AD0A-4419-AAB9-5ACAD55E87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B7F1-11BC-4591-BF5F-547FAA39E12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BED2-1913-45E7-A465-C415836D0B9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46CD-06D3-4B44-BB19-2A56D848096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FF15-B27C-4508-A847-D303722C80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B30E-2C82-4B76-A77E-E6B44BC1DC4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B8F2-4980-45A9-AEE7-168EA1A109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7"/>
          <p:cNvSpPr/>
          <p:nvPr/>
        </p:nvSpPr>
        <p:spPr>
          <a:xfrm>
            <a:off x="0" y="0"/>
            <a:ext cx="5016600" cy="685800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8"/>
          <p:cNvSpPr/>
          <p:nvPr/>
        </p:nvSpPr>
        <p:spPr>
          <a:xfrm>
            <a:off x="7175520" y="0"/>
            <a:ext cx="5016600" cy="6858000"/>
          </a:xfrm>
          <a:prstGeom prst="rect">
            <a:avLst/>
          </a:prstGeom>
          <a:solidFill>
            <a:srgbClr val="a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平行四边形 9"/>
          <p:cNvSpPr/>
          <p:nvPr/>
        </p:nvSpPr>
        <p:spPr>
          <a:xfrm>
            <a:off x="2635200" y="0"/>
            <a:ext cx="7221600" cy="6858000"/>
          </a:xfrm>
          <a:prstGeom prst="parallelogram">
            <a:avLst>
              <a:gd name="adj" fmla="val 24999"/>
            </a:avLst>
          </a:prstGeom>
          <a:solidFill>
            <a:srgbClr val="f3c2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等腰三角形 10"/>
          <p:cNvSpPr/>
          <p:nvPr/>
        </p:nvSpPr>
        <p:spPr>
          <a:xfrm rot="624600">
            <a:off x="3250800" y="137880"/>
            <a:ext cx="479520" cy="6858000"/>
          </a:xfrm>
          <a:prstGeom prst="triangle">
            <a:avLst>
              <a:gd name="adj" fmla="val 88981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11"/>
          <p:cNvSpPr/>
          <p:nvPr/>
        </p:nvSpPr>
        <p:spPr>
          <a:xfrm rot="11444400">
            <a:off x="8755920" y="-122040"/>
            <a:ext cx="477720" cy="6858000"/>
          </a:xfrm>
          <a:prstGeom prst="triangle">
            <a:avLst>
              <a:gd name="adj" fmla="val 82417"/>
            </a:avLst>
          </a:prstGeom>
          <a:solidFill>
            <a:srgbClr val="c29b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平行四边形 13"/>
          <p:cNvSpPr/>
          <p:nvPr/>
        </p:nvSpPr>
        <p:spPr>
          <a:xfrm>
            <a:off x="1962000" y="3746520"/>
            <a:ext cx="7866360" cy="1493640"/>
          </a:xfrm>
          <a:prstGeom prst="parallelogram">
            <a:avLst>
              <a:gd name="adj" fmla="val -24108"/>
            </a:avLst>
          </a:prstGeom>
          <a:gradFill rotWithShape="0">
            <a:gsLst>
              <a:gs pos="0">
                <a:srgbClr val="5e0041"/>
              </a:gs>
              <a:gs pos="100000">
                <a:srgbClr val="a2006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平行四边形 12"/>
          <p:cNvSpPr/>
          <p:nvPr/>
        </p:nvSpPr>
        <p:spPr>
          <a:xfrm>
            <a:off x="793800" y="2286000"/>
            <a:ext cx="10353600" cy="2098800"/>
          </a:xfrm>
          <a:prstGeom prst="parallelogram">
            <a:avLst>
              <a:gd name="adj" fmla="val -12327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6296040" y="460368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方正兰亭黑简体"/>
              </a:rPr>
              <a:t>谁才是真正的预言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3"/>
          <p:cNvSpPr/>
          <p:nvPr/>
        </p:nvSpPr>
        <p:spPr>
          <a:xfrm>
            <a:off x="1933560" y="2565360"/>
            <a:ext cx="832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年终奖离你有多远动态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方正兰亭粗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燕尾形 14"/>
          <p:cNvSpPr/>
          <p:nvPr/>
        </p:nvSpPr>
        <p:spPr>
          <a:xfrm>
            <a:off x="437508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燕尾形 15"/>
          <p:cNvSpPr/>
          <p:nvPr/>
        </p:nvSpPr>
        <p:spPr>
          <a:xfrm>
            <a:off x="400356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燕尾形 16"/>
          <p:cNvSpPr/>
          <p:nvPr/>
        </p:nvSpPr>
        <p:spPr>
          <a:xfrm>
            <a:off x="3632040" y="4668840"/>
            <a:ext cx="343080" cy="396720"/>
          </a:xfrm>
          <a:custGeom>
            <a:avLst/>
            <a:gdLst>
              <a:gd name="textAreaLeft" fmla="*/ 0 w 343080"/>
              <a:gd name="textAreaRight" fmla="*/ 343440 w 34308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燕尾形 17"/>
          <p:cNvSpPr/>
          <p:nvPr/>
        </p:nvSpPr>
        <p:spPr>
          <a:xfrm>
            <a:off x="326088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燕尾形 18"/>
          <p:cNvSpPr/>
          <p:nvPr/>
        </p:nvSpPr>
        <p:spPr>
          <a:xfrm>
            <a:off x="288936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燕尾形 19"/>
          <p:cNvSpPr/>
          <p:nvPr/>
        </p:nvSpPr>
        <p:spPr>
          <a:xfrm>
            <a:off x="2517840" y="4668840"/>
            <a:ext cx="342720" cy="396720"/>
          </a:xfrm>
          <a:custGeom>
            <a:avLst/>
            <a:gdLst>
              <a:gd name="textAreaLeft" fmla="*/ 0 w 342720"/>
              <a:gd name="textAreaRight" fmla="*/ 343080 w 342720"/>
              <a:gd name="textAreaTop" fmla="*/ 0 h 396720"/>
              <a:gd name="textAreaBottom" fmla="*/ 397080 h 3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20"/>
          <p:cNvSpPr/>
          <p:nvPr/>
        </p:nvSpPr>
        <p:spPr>
          <a:xfrm>
            <a:off x="4175280" y="808200"/>
            <a:ext cx="5051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的职业是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            </a:t>
            </a: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你们单位是怎么发年终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21"/>
          <p:cNvSpPr/>
          <p:nvPr/>
        </p:nvSpPr>
        <p:spPr>
          <a:xfrm>
            <a:off x="9607680" y="19782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为年终奖达不到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期在次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      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选择离职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22"/>
          <p:cNvSpPr/>
          <p:nvPr/>
        </p:nvSpPr>
        <p:spPr>
          <a:xfrm>
            <a:off x="7689960" y="605304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17171"/>
                </a:solidFill>
                <a:latin typeface="黑体"/>
                <a:ea typeface="方正兰亭黑简体"/>
              </a:rPr>
              <a:t>你目前月收入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23"/>
          <p:cNvSpPr/>
          <p:nvPr/>
        </p:nvSpPr>
        <p:spPr>
          <a:xfrm>
            <a:off x="3705120" y="5578560"/>
            <a:ext cx="50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1a1a1"/>
                </a:solidFill>
                <a:latin typeface="黑体"/>
                <a:ea typeface="方正兰亭黑简体"/>
              </a:rPr>
              <a:t>你拿到手最多的一笔年终奖有多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24"/>
          <p:cNvSpPr/>
          <p:nvPr/>
        </p:nvSpPr>
        <p:spPr>
          <a:xfrm>
            <a:off x="163440" y="2065320"/>
            <a:ext cx="14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你会和同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  </a:t>
            </a:r>
            <a:r>
              <a:rPr b="0" lang="zh-CN" sz="1800" spc="-1" strike="noStrike">
                <a:solidFill>
                  <a:srgbClr val="7f7f7f"/>
                </a:solidFill>
                <a:latin typeface="方正兰亭黑简体"/>
                <a:ea typeface="方正兰亭黑简体"/>
              </a:rPr>
              <a:t>等披露年终奖数字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任意多边形 67"/>
          <p:cNvSpPr/>
          <p:nvPr/>
        </p:nvSpPr>
        <p:spPr>
          <a:xfrm>
            <a:off x="6989760" y="2924280"/>
            <a:ext cx="806400" cy="722160"/>
          </a:xfrm>
          <a:custGeom>
            <a:avLst/>
            <a:gdLst>
              <a:gd name="textAreaLeft" fmla="*/ 0 w 806400"/>
              <a:gd name="textAreaRight" fmla="*/ 806760 w 806400"/>
              <a:gd name="textAreaTop" fmla="*/ 0 h 722160"/>
              <a:gd name="textAreaBottom" fmla="*/ 722160 h 722160"/>
            </a:gdLst>
            <a:ahLst/>
            <a:rect l="textAreaLeft" t="textAreaTop" r="textAreaRight" b="textAreaBottom"/>
            <a:pathLst>
              <a:path w="809625" h="714375">
                <a:moveTo>
                  <a:pt x="0" y="504825"/>
                </a:moveTo>
                <a:lnTo>
                  <a:pt x="809625" y="0"/>
                </a:lnTo>
                <a:cubicBezTo>
                  <a:pt x="808037" y="238125"/>
                  <a:pt x="806450" y="476250"/>
                  <a:pt x="804862" y="714375"/>
                </a:cubicBezTo>
                <a:lnTo>
                  <a:pt x="0" y="504825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9"/>
          <p:cNvSpPr/>
          <p:nvPr/>
        </p:nvSpPr>
        <p:spPr>
          <a:xfrm>
            <a:off x="6989760" y="5519880"/>
            <a:ext cx="809640" cy="742680"/>
          </a:xfrm>
          <a:custGeom>
            <a:avLst/>
            <a:gdLst>
              <a:gd name="textAreaLeft" fmla="*/ 0 w 809640"/>
              <a:gd name="textAreaRight" fmla="*/ 810000 w 809640"/>
              <a:gd name="textAreaTop" fmla="*/ 0 h 742680"/>
              <a:gd name="textAreaBottom" fmla="*/ 743040 h 742680"/>
            </a:gdLst>
            <a:ahLst/>
            <a:rect l="textAreaLeft" t="textAreaTop" r="textAreaRight" b="textAreaBottom"/>
            <a:pathLst>
              <a:path w="809625" h="742950">
                <a:moveTo>
                  <a:pt x="804862" y="742950"/>
                </a:moveTo>
                <a:cubicBezTo>
                  <a:pt x="806450" y="495300"/>
                  <a:pt x="808037" y="247650"/>
                  <a:pt x="809625" y="0"/>
                </a:cubicBezTo>
                <a:lnTo>
                  <a:pt x="0" y="200025"/>
                </a:lnTo>
                <a:lnTo>
                  <a:pt x="804862" y="742950"/>
                </a:lnTo>
                <a:close/>
              </a:path>
            </a:pathLst>
          </a:custGeom>
          <a:solidFill>
            <a:srgbClr val="7a00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梯形 65"/>
          <p:cNvSpPr/>
          <p:nvPr/>
        </p:nvSpPr>
        <p:spPr>
          <a:xfrm flipV="1" rot="5400000">
            <a:off x="6729480" y="3686040"/>
            <a:ext cx="2325600" cy="1789200"/>
          </a:xfrm>
          <a:custGeom>
            <a:avLst/>
            <a:gdLst>
              <a:gd name="textAreaLeft" fmla="*/ 417240 w 2325600"/>
              <a:gd name="textAreaRight" fmla="*/ 1908360 w 2325600"/>
              <a:gd name="textAreaTop" fmla="*/ 321120 h 1789200"/>
              <a:gd name="textAreaBottom" fmla="*/ 1468080 h 178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153" y="21600"/>
                </a:lnTo>
                <a:lnTo>
                  <a:pt x="174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4c00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圆角矩形 57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圆角矩形 48"/>
          <p:cNvSpPr/>
          <p:nvPr/>
        </p:nvSpPr>
        <p:spPr>
          <a:xfrm>
            <a:off x="800280" y="428760"/>
            <a:ext cx="443196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图片 1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grpSp>
        <p:nvGrpSpPr>
          <p:cNvPr id="560" name="组合 47"/>
          <p:cNvGrpSpPr/>
          <p:nvPr/>
        </p:nvGrpSpPr>
        <p:grpSpPr>
          <a:xfrm>
            <a:off x="317520" y="254160"/>
            <a:ext cx="1155600" cy="1155600"/>
            <a:chOff x="317520" y="254160"/>
            <a:chExt cx="1155600" cy="1155600"/>
          </a:xfrm>
        </p:grpSpPr>
        <p:sp>
          <p:nvSpPr>
            <p:cNvPr id="561" name="椭圆 46"/>
            <p:cNvSpPr/>
            <p:nvPr/>
          </p:nvSpPr>
          <p:spPr>
            <a:xfrm>
              <a:off x="317520" y="254160"/>
              <a:ext cx="1155600" cy="1155600"/>
            </a:xfrm>
            <a:prstGeom prst="ellipse">
              <a:avLst/>
            </a:prstGeom>
            <a:solidFill>
              <a:srgbClr val="cb1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45"/>
            <p:cNvSpPr/>
            <p:nvPr/>
          </p:nvSpPr>
          <p:spPr>
            <a:xfrm>
              <a:off x="465840" y="305280"/>
              <a:ext cx="855360" cy="868680"/>
            </a:xfrm>
            <a:custGeom>
              <a:avLst/>
              <a:gdLst>
                <a:gd name="textAreaLeft" fmla="*/ 0 w 855360"/>
                <a:gd name="textAreaRight" fmla="*/ 855720 w 855360"/>
                <a:gd name="textAreaTop" fmla="*/ 0 h 868680"/>
                <a:gd name="textAreaBottom" fmla="*/ 868680 h 868680"/>
              </a:gdLst>
              <a:ahLst/>
              <a:rect l="textAreaLeft" t="textAreaTop" r="textAreaRight" b="textAreaBottom"/>
              <a:pathLst>
                <a:path w="2346011" h="2382139">
                  <a:moveTo>
                    <a:pt x="1732806" y="1395175"/>
                  </a:moveTo>
                  <a:lnTo>
                    <a:pt x="2276482" y="1538723"/>
                  </a:lnTo>
                  <a:lnTo>
                    <a:pt x="2263209" y="1538723"/>
                  </a:lnTo>
                  <a:cubicBezTo>
                    <a:pt x="2308939" y="1538723"/>
                    <a:pt x="2346011" y="1575110"/>
                    <a:pt x="2346011" y="1619995"/>
                  </a:cubicBezTo>
                  <a:lnTo>
                    <a:pt x="2346011" y="2382139"/>
                  </a:lnTo>
                  <a:lnTo>
                    <a:pt x="1913338" y="2382139"/>
                  </a:lnTo>
                  <a:lnTo>
                    <a:pt x="1913338" y="2190845"/>
                  </a:lnTo>
                  <a:lnTo>
                    <a:pt x="1795619" y="2382139"/>
                  </a:lnTo>
                  <a:lnTo>
                    <a:pt x="1431622" y="2382139"/>
                  </a:lnTo>
                  <a:lnTo>
                    <a:pt x="1434518" y="2377151"/>
                  </a:lnTo>
                  <a:cubicBezTo>
                    <a:pt x="1457079" y="2337074"/>
                    <a:pt x="1480815" y="2292495"/>
                    <a:pt x="1504595" y="2245151"/>
                  </a:cubicBezTo>
                  <a:cubicBezTo>
                    <a:pt x="1552155" y="2150464"/>
                    <a:pt x="1590888" y="2062648"/>
                    <a:pt x="1615062" y="1997213"/>
                  </a:cubicBezTo>
                  <a:lnTo>
                    <a:pt x="1629850" y="1954105"/>
                  </a:lnTo>
                  <a:lnTo>
                    <a:pt x="1633396" y="1951211"/>
                  </a:lnTo>
                  <a:cubicBezTo>
                    <a:pt x="1658108" y="1912084"/>
                    <a:pt x="1694317" y="1734792"/>
                    <a:pt x="1719884" y="1520247"/>
                  </a:cubicBezTo>
                  <a:cubicBezTo>
                    <a:pt x="1723536" y="1489599"/>
                    <a:pt x="1726798" y="1459640"/>
                    <a:pt x="1729664" y="1430673"/>
                  </a:cubicBezTo>
                  <a:lnTo>
                    <a:pt x="1732806" y="1395175"/>
                  </a:lnTo>
                  <a:close/>
                  <a:moveTo>
                    <a:pt x="613204" y="1395175"/>
                  </a:moveTo>
                  <a:lnTo>
                    <a:pt x="616346" y="1430673"/>
                  </a:lnTo>
                  <a:cubicBezTo>
                    <a:pt x="619211" y="1459640"/>
                    <a:pt x="622474" y="1489599"/>
                    <a:pt x="626126" y="1520247"/>
                  </a:cubicBezTo>
                  <a:cubicBezTo>
                    <a:pt x="651693" y="1734792"/>
                    <a:pt x="687901" y="1912084"/>
                    <a:pt x="712614" y="1951211"/>
                  </a:cubicBezTo>
                  <a:lnTo>
                    <a:pt x="716162" y="1954107"/>
                  </a:lnTo>
                  <a:lnTo>
                    <a:pt x="730948" y="1997212"/>
                  </a:lnTo>
                  <a:cubicBezTo>
                    <a:pt x="755123" y="2062647"/>
                    <a:pt x="793856" y="2150463"/>
                    <a:pt x="841416" y="2245150"/>
                  </a:cubicBezTo>
                  <a:cubicBezTo>
                    <a:pt x="865196" y="2292494"/>
                    <a:pt x="888932" y="2337074"/>
                    <a:pt x="911493" y="2377150"/>
                  </a:cubicBezTo>
                  <a:lnTo>
                    <a:pt x="914390" y="2382139"/>
                  </a:lnTo>
                  <a:lnTo>
                    <a:pt x="572738" y="2382139"/>
                  </a:lnTo>
                  <a:lnTo>
                    <a:pt x="455019" y="2190845"/>
                  </a:lnTo>
                  <a:lnTo>
                    <a:pt x="455019" y="2382139"/>
                  </a:lnTo>
                  <a:lnTo>
                    <a:pt x="0" y="2382139"/>
                  </a:lnTo>
                  <a:lnTo>
                    <a:pt x="0" y="1619995"/>
                  </a:lnTo>
                  <a:cubicBezTo>
                    <a:pt x="0" y="1575110"/>
                    <a:pt x="37072" y="1538723"/>
                    <a:pt x="82802" y="1538723"/>
                  </a:cubicBezTo>
                  <a:lnTo>
                    <a:pt x="69528" y="1538723"/>
                  </a:lnTo>
                  <a:lnTo>
                    <a:pt x="613204" y="1395175"/>
                  </a:lnTo>
                  <a:close/>
                  <a:moveTo>
                    <a:pt x="899156" y="1319674"/>
                  </a:moveTo>
                  <a:lnTo>
                    <a:pt x="902612" y="1402211"/>
                  </a:lnTo>
                  <a:cubicBezTo>
                    <a:pt x="921914" y="1629297"/>
                    <a:pt x="989335" y="1814186"/>
                    <a:pt x="1078107" y="1892437"/>
                  </a:cubicBezTo>
                  <a:lnTo>
                    <a:pt x="1083582" y="1895998"/>
                  </a:lnTo>
                  <a:lnTo>
                    <a:pt x="1123556" y="1465319"/>
                  </a:lnTo>
                  <a:lnTo>
                    <a:pt x="1104180" y="1465319"/>
                  </a:lnTo>
                  <a:lnTo>
                    <a:pt x="1104180" y="1405745"/>
                  </a:lnTo>
                  <a:lnTo>
                    <a:pt x="1138865" y="1371702"/>
                  </a:lnTo>
                  <a:lnTo>
                    <a:pt x="1207147" y="1371702"/>
                  </a:lnTo>
                  <a:lnTo>
                    <a:pt x="1241831" y="1405745"/>
                  </a:lnTo>
                  <a:lnTo>
                    <a:pt x="1241831" y="1465319"/>
                  </a:lnTo>
                  <a:lnTo>
                    <a:pt x="1222457" y="1465319"/>
                  </a:lnTo>
                  <a:lnTo>
                    <a:pt x="1262431" y="1895997"/>
                  </a:lnTo>
                  <a:lnTo>
                    <a:pt x="1267904" y="1892437"/>
                  </a:lnTo>
                  <a:cubicBezTo>
                    <a:pt x="1356677" y="1814186"/>
                    <a:pt x="1424097" y="1629297"/>
                    <a:pt x="1443399" y="1402211"/>
                  </a:cubicBezTo>
                  <a:lnTo>
                    <a:pt x="1446855" y="1319674"/>
                  </a:lnTo>
                  <a:lnTo>
                    <a:pt x="1711959" y="1389671"/>
                  </a:lnTo>
                  <a:lnTo>
                    <a:pt x="1698181" y="1517755"/>
                  </a:lnTo>
                  <a:cubicBezTo>
                    <a:pt x="1687773" y="1605093"/>
                    <a:pt x="1675659" y="1689651"/>
                    <a:pt x="1662878" y="1765281"/>
                  </a:cubicBezTo>
                  <a:lnTo>
                    <a:pt x="1645508" y="1859478"/>
                  </a:lnTo>
                  <a:lnTo>
                    <a:pt x="1559236" y="1833895"/>
                  </a:lnTo>
                  <a:lnTo>
                    <a:pt x="1616816" y="1942433"/>
                  </a:lnTo>
                  <a:lnTo>
                    <a:pt x="1611799" y="1956257"/>
                  </a:lnTo>
                  <a:cubicBezTo>
                    <a:pt x="1580668" y="2035917"/>
                    <a:pt x="1536096" y="2134619"/>
                    <a:pt x="1485273" y="2235801"/>
                  </a:cubicBezTo>
                  <a:cubicBezTo>
                    <a:pt x="1468332" y="2269529"/>
                    <a:pt x="1451191" y="2302547"/>
                    <a:pt x="1434183" y="2334277"/>
                  </a:cubicBezTo>
                  <a:lnTo>
                    <a:pt x="1407657" y="2382139"/>
                  </a:lnTo>
                  <a:lnTo>
                    <a:pt x="938355" y="2382139"/>
                  </a:lnTo>
                  <a:lnTo>
                    <a:pt x="911828" y="2334276"/>
                  </a:lnTo>
                  <a:cubicBezTo>
                    <a:pt x="894820" y="2302547"/>
                    <a:pt x="877679" y="2269528"/>
                    <a:pt x="860738" y="2235800"/>
                  </a:cubicBezTo>
                  <a:cubicBezTo>
                    <a:pt x="809915" y="2134618"/>
                    <a:pt x="765343" y="2035916"/>
                    <a:pt x="734212" y="1956257"/>
                  </a:cubicBezTo>
                  <a:lnTo>
                    <a:pt x="729195" y="1942433"/>
                  </a:lnTo>
                  <a:lnTo>
                    <a:pt x="786775" y="1833894"/>
                  </a:lnTo>
                  <a:lnTo>
                    <a:pt x="700501" y="1859477"/>
                  </a:lnTo>
                  <a:lnTo>
                    <a:pt x="683131" y="1765281"/>
                  </a:lnTo>
                  <a:cubicBezTo>
                    <a:pt x="670351" y="1689651"/>
                    <a:pt x="658236" y="1605093"/>
                    <a:pt x="647829" y="1517755"/>
                  </a:cubicBezTo>
                  <a:lnTo>
                    <a:pt x="634050" y="1389671"/>
                  </a:lnTo>
                  <a:lnTo>
                    <a:pt x="899156" y="1319674"/>
                  </a:lnTo>
                  <a:close/>
                  <a:moveTo>
                    <a:pt x="1059539" y="0"/>
                  </a:moveTo>
                  <a:lnTo>
                    <a:pt x="1212261" y="0"/>
                  </a:lnTo>
                  <a:cubicBezTo>
                    <a:pt x="1525808" y="0"/>
                    <a:pt x="1779988" y="254180"/>
                    <a:pt x="1779988" y="567726"/>
                  </a:cubicBezTo>
                  <a:lnTo>
                    <a:pt x="1779988" y="715184"/>
                  </a:lnTo>
                  <a:cubicBezTo>
                    <a:pt x="1779988" y="871958"/>
                    <a:pt x="1716443" y="1013889"/>
                    <a:pt x="1613705" y="1116628"/>
                  </a:cubicBezTo>
                  <a:lnTo>
                    <a:pt x="1600104" y="1127850"/>
                  </a:lnTo>
                  <a:lnTo>
                    <a:pt x="1624628" y="1082667"/>
                  </a:lnTo>
                  <a:cubicBezTo>
                    <a:pt x="1647964" y="1027495"/>
                    <a:pt x="1660868" y="966837"/>
                    <a:pt x="1660868" y="903166"/>
                  </a:cubicBezTo>
                  <a:lnTo>
                    <a:pt x="1660868" y="595719"/>
                  </a:lnTo>
                  <a:cubicBezTo>
                    <a:pt x="1660868" y="510820"/>
                    <a:pt x="1592043" y="441995"/>
                    <a:pt x="1507144" y="441995"/>
                  </a:cubicBezTo>
                  <a:lnTo>
                    <a:pt x="784050" y="441995"/>
                  </a:lnTo>
                  <a:cubicBezTo>
                    <a:pt x="699152" y="441995"/>
                    <a:pt x="630327" y="510820"/>
                    <a:pt x="630327" y="595719"/>
                  </a:cubicBezTo>
                  <a:lnTo>
                    <a:pt x="630327" y="903166"/>
                  </a:lnTo>
                  <a:cubicBezTo>
                    <a:pt x="630327" y="966837"/>
                    <a:pt x="643230" y="1027495"/>
                    <a:pt x="666566" y="1082667"/>
                  </a:cubicBezTo>
                  <a:lnTo>
                    <a:pt x="706820" y="1156830"/>
                  </a:lnTo>
                  <a:lnTo>
                    <a:pt x="658096" y="1116628"/>
                  </a:lnTo>
                  <a:cubicBezTo>
                    <a:pt x="555357" y="1013889"/>
                    <a:pt x="491812" y="871958"/>
                    <a:pt x="491812" y="715184"/>
                  </a:cubicBezTo>
                  <a:lnTo>
                    <a:pt x="491812" y="567726"/>
                  </a:lnTo>
                  <a:cubicBezTo>
                    <a:pt x="491812" y="254180"/>
                    <a:pt x="745992" y="0"/>
                    <a:pt x="105953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文本框 49"/>
          <p:cNvSpPr/>
          <p:nvPr/>
        </p:nvSpPr>
        <p:spPr>
          <a:xfrm>
            <a:off x="1825560" y="541440"/>
            <a:ext cx="34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的职业是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任意多边形 50"/>
          <p:cNvSpPr/>
          <p:nvPr/>
        </p:nvSpPr>
        <p:spPr>
          <a:xfrm>
            <a:off x="947880" y="4708440"/>
            <a:ext cx="691920" cy="703440"/>
          </a:xfrm>
          <a:custGeom>
            <a:avLst/>
            <a:gdLst>
              <a:gd name="textAreaLeft" fmla="*/ 0 w 691920"/>
              <a:gd name="textAreaRight" fmla="*/ 691920 w 691920"/>
              <a:gd name="textAreaTop" fmla="*/ 0 h 703440"/>
              <a:gd name="textAreaBottom" fmla="*/ 703800 h 703440"/>
            </a:gdLst>
            <a:ahLst/>
            <a:rect l="textAreaLeft" t="textAreaTop" r="textAreaRight" b="textAreaBottom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51"/>
          <p:cNvSpPr/>
          <p:nvPr/>
        </p:nvSpPr>
        <p:spPr>
          <a:xfrm>
            <a:off x="1577880" y="457848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7.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52"/>
          <p:cNvSpPr/>
          <p:nvPr/>
        </p:nvSpPr>
        <p:spPr>
          <a:xfrm>
            <a:off x="3867120" y="28954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53"/>
          <p:cNvSpPr/>
          <p:nvPr/>
        </p:nvSpPr>
        <p:spPr>
          <a:xfrm>
            <a:off x="1577880" y="5119560"/>
            <a:ext cx="171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54"/>
          <p:cNvSpPr/>
          <p:nvPr/>
        </p:nvSpPr>
        <p:spPr>
          <a:xfrm>
            <a:off x="3867120" y="2446200"/>
            <a:ext cx="23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单位员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56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父母都知道我们是上班族，但福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楼第二大职业是事业单位员工，小编现在才知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59"/>
          <p:cNvSpPr/>
          <p:nvPr/>
        </p:nvSpPr>
        <p:spPr>
          <a:xfrm>
            <a:off x="7781760" y="2924280"/>
            <a:ext cx="1435320" cy="82548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60"/>
          <p:cNvSpPr/>
          <p:nvPr/>
        </p:nvSpPr>
        <p:spPr>
          <a:xfrm>
            <a:off x="7781760" y="3728880"/>
            <a:ext cx="1435320" cy="449280"/>
          </a:xfrm>
          <a:prstGeom prst="rect">
            <a:avLst/>
          </a:prstGeom>
          <a:solidFill>
            <a:srgbClr val="e600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58"/>
          <p:cNvSpPr/>
          <p:nvPr/>
        </p:nvSpPr>
        <p:spPr>
          <a:xfrm>
            <a:off x="8099280" y="31100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61"/>
          <p:cNvSpPr/>
          <p:nvPr/>
        </p:nvSpPr>
        <p:spPr>
          <a:xfrm>
            <a:off x="7781760" y="4178160"/>
            <a:ext cx="1435320" cy="42552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2"/>
          <p:cNvSpPr/>
          <p:nvPr/>
        </p:nvSpPr>
        <p:spPr>
          <a:xfrm>
            <a:off x="7781760" y="4603680"/>
            <a:ext cx="1435320" cy="425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3"/>
          <p:cNvSpPr/>
          <p:nvPr/>
        </p:nvSpPr>
        <p:spPr>
          <a:xfrm>
            <a:off x="7781760" y="5024520"/>
            <a:ext cx="1435320" cy="425520"/>
          </a:xfrm>
          <a:prstGeom prst="rect">
            <a:avLst/>
          </a:prstGeom>
          <a:solidFill>
            <a:srgbClr val="e6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4"/>
          <p:cNvSpPr/>
          <p:nvPr/>
        </p:nvSpPr>
        <p:spPr>
          <a:xfrm>
            <a:off x="7781760" y="5454720"/>
            <a:ext cx="1435320" cy="807840"/>
          </a:xfrm>
          <a:prstGeom prst="rect">
            <a:avLst/>
          </a:pr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文本框 70"/>
          <p:cNvSpPr/>
          <p:nvPr/>
        </p:nvSpPr>
        <p:spPr>
          <a:xfrm>
            <a:off x="8099280" y="37450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4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71"/>
          <p:cNvSpPr/>
          <p:nvPr/>
        </p:nvSpPr>
        <p:spPr>
          <a:xfrm>
            <a:off x="8099280" y="416556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72"/>
          <p:cNvSpPr/>
          <p:nvPr/>
        </p:nvSpPr>
        <p:spPr>
          <a:xfrm>
            <a:off x="8099280" y="460044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73"/>
          <p:cNvSpPr/>
          <p:nvPr/>
        </p:nvSpPr>
        <p:spPr>
          <a:xfrm>
            <a:off x="8099280" y="499752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文本框 74"/>
          <p:cNvSpPr/>
          <p:nvPr/>
        </p:nvSpPr>
        <p:spPr>
          <a:xfrm>
            <a:off x="8042400" y="5586480"/>
            <a:ext cx="9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文本框 75"/>
          <p:cNvSpPr/>
          <p:nvPr/>
        </p:nvSpPr>
        <p:spPr>
          <a:xfrm>
            <a:off x="9340920" y="3095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务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文本框 76"/>
          <p:cNvSpPr/>
          <p:nvPr/>
        </p:nvSpPr>
        <p:spPr>
          <a:xfrm>
            <a:off x="9340920" y="37958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由职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文本框 77"/>
          <p:cNvSpPr/>
          <p:nvPr/>
        </p:nvSpPr>
        <p:spPr>
          <a:xfrm>
            <a:off x="9340920" y="42354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职太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文本框 78"/>
          <p:cNvSpPr/>
          <p:nvPr/>
        </p:nvSpPr>
        <p:spPr>
          <a:xfrm>
            <a:off x="9340920" y="4638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79"/>
          <p:cNvSpPr/>
          <p:nvPr/>
        </p:nvSpPr>
        <p:spPr>
          <a:xfrm>
            <a:off x="9340920" y="508464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待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文本框 80"/>
          <p:cNvSpPr/>
          <p:nvPr/>
        </p:nvSpPr>
        <p:spPr>
          <a:xfrm>
            <a:off x="9340920" y="575136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右箭头 81"/>
          <p:cNvSpPr/>
          <p:nvPr/>
        </p:nvSpPr>
        <p:spPr>
          <a:xfrm>
            <a:off x="4827600" y="4048200"/>
            <a:ext cx="1871640" cy="10713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任意多边形 82"/>
          <p:cNvSpPr/>
          <p:nvPr/>
        </p:nvSpPr>
        <p:spPr>
          <a:xfrm>
            <a:off x="3365640" y="3497400"/>
            <a:ext cx="488880" cy="496800"/>
          </a:xfrm>
          <a:custGeom>
            <a:avLst/>
            <a:gdLst>
              <a:gd name="textAreaLeft" fmla="*/ 0 w 488880"/>
              <a:gd name="textAreaRight" fmla="*/ 489240 w 48888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346011" h="2382139">
                <a:moveTo>
                  <a:pt x="1732806" y="1395175"/>
                </a:moveTo>
                <a:lnTo>
                  <a:pt x="2276482" y="1538723"/>
                </a:lnTo>
                <a:lnTo>
                  <a:pt x="2263209" y="1538723"/>
                </a:lnTo>
                <a:cubicBezTo>
                  <a:pt x="2308939" y="1538723"/>
                  <a:pt x="2346011" y="1575110"/>
                  <a:pt x="2346011" y="1619995"/>
                </a:cubicBezTo>
                <a:lnTo>
                  <a:pt x="2346011" y="2382139"/>
                </a:lnTo>
                <a:lnTo>
                  <a:pt x="1913338" y="2382139"/>
                </a:lnTo>
                <a:lnTo>
                  <a:pt x="1913338" y="2190845"/>
                </a:lnTo>
                <a:lnTo>
                  <a:pt x="1795619" y="2382139"/>
                </a:lnTo>
                <a:lnTo>
                  <a:pt x="1431622" y="2382139"/>
                </a:lnTo>
                <a:lnTo>
                  <a:pt x="1434518" y="2377151"/>
                </a:lnTo>
                <a:cubicBezTo>
                  <a:pt x="1457079" y="2337074"/>
                  <a:pt x="1480815" y="2292495"/>
                  <a:pt x="1504595" y="2245151"/>
                </a:cubicBezTo>
                <a:cubicBezTo>
                  <a:pt x="1552155" y="2150464"/>
                  <a:pt x="1590888" y="2062648"/>
                  <a:pt x="1615062" y="1997213"/>
                </a:cubicBezTo>
                <a:lnTo>
                  <a:pt x="1629850" y="1954105"/>
                </a:lnTo>
                <a:lnTo>
                  <a:pt x="1633396" y="1951211"/>
                </a:lnTo>
                <a:cubicBezTo>
                  <a:pt x="1658108" y="1912084"/>
                  <a:pt x="1694317" y="1734792"/>
                  <a:pt x="1719884" y="1520247"/>
                </a:cubicBezTo>
                <a:cubicBezTo>
                  <a:pt x="1723536" y="1489599"/>
                  <a:pt x="1726798" y="1459640"/>
                  <a:pt x="1729664" y="1430673"/>
                </a:cubicBezTo>
                <a:lnTo>
                  <a:pt x="1732806" y="1395175"/>
                </a:lnTo>
                <a:close/>
                <a:moveTo>
                  <a:pt x="613204" y="1395175"/>
                </a:moveTo>
                <a:lnTo>
                  <a:pt x="616346" y="1430673"/>
                </a:lnTo>
                <a:cubicBezTo>
                  <a:pt x="619211" y="1459640"/>
                  <a:pt x="622474" y="1489599"/>
                  <a:pt x="626126" y="1520247"/>
                </a:cubicBezTo>
                <a:cubicBezTo>
                  <a:pt x="651693" y="1734792"/>
                  <a:pt x="687901" y="1912084"/>
                  <a:pt x="712614" y="1951211"/>
                </a:cubicBezTo>
                <a:lnTo>
                  <a:pt x="716162" y="1954107"/>
                </a:lnTo>
                <a:lnTo>
                  <a:pt x="730948" y="1997212"/>
                </a:lnTo>
                <a:cubicBezTo>
                  <a:pt x="755123" y="2062647"/>
                  <a:pt x="793856" y="2150463"/>
                  <a:pt x="841416" y="2245150"/>
                </a:cubicBezTo>
                <a:cubicBezTo>
                  <a:pt x="865196" y="2292494"/>
                  <a:pt x="888932" y="2337074"/>
                  <a:pt x="911493" y="2377150"/>
                </a:cubicBezTo>
                <a:lnTo>
                  <a:pt x="914390" y="2382139"/>
                </a:lnTo>
                <a:lnTo>
                  <a:pt x="572738" y="2382139"/>
                </a:lnTo>
                <a:lnTo>
                  <a:pt x="455019" y="2190845"/>
                </a:lnTo>
                <a:lnTo>
                  <a:pt x="455019" y="2382139"/>
                </a:lnTo>
                <a:lnTo>
                  <a:pt x="0" y="2382139"/>
                </a:lnTo>
                <a:lnTo>
                  <a:pt x="0" y="1619995"/>
                </a:lnTo>
                <a:cubicBezTo>
                  <a:pt x="0" y="1575110"/>
                  <a:pt x="37072" y="1538723"/>
                  <a:pt x="82802" y="1538723"/>
                </a:cubicBezTo>
                <a:lnTo>
                  <a:pt x="69528" y="1538723"/>
                </a:lnTo>
                <a:lnTo>
                  <a:pt x="613204" y="1395175"/>
                </a:lnTo>
                <a:close/>
                <a:moveTo>
                  <a:pt x="899156" y="1319674"/>
                </a:moveTo>
                <a:lnTo>
                  <a:pt x="902612" y="1402211"/>
                </a:lnTo>
                <a:cubicBezTo>
                  <a:pt x="921914" y="1629297"/>
                  <a:pt x="989335" y="1814186"/>
                  <a:pt x="1078107" y="1892437"/>
                </a:cubicBezTo>
                <a:lnTo>
                  <a:pt x="1083582" y="1895998"/>
                </a:lnTo>
                <a:lnTo>
                  <a:pt x="1123556" y="1465319"/>
                </a:lnTo>
                <a:lnTo>
                  <a:pt x="1104180" y="1465319"/>
                </a:lnTo>
                <a:lnTo>
                  <a:pt x="1104180" y="1405745"/>
                </a:lnTo>
                <a:lnTo>
                  <a:pt x="1138865" y="1371702"/>
                </a:lnTo>
                <a:lnTo>
                  <a:pt x="1207147" y="1371702"/>
                </a:lnTo>
                <a:lnTo>
                  <a:pt x="1241831" y="1405745"/>
                </a:lnTo>
                <a:lnTo>
                  <a:pt x="1241831" y="1465319"/>
                </a:lnTo>
                <a:lnTo>
                  <a:pt x="1222457" y="1465319"/>
                </a:lnTo>
                <a:lnTo>
                  <a:pt x="1262431" y="1895997"/>
                </a:lnTo>
                <a:lnTo>
                  <a:pt x="1267904" y="1892437"/>
                </a:lnTo>
                <a:cubicBezTo>
                  <a:pt x="1356677" y="1814186"/>
                  <a:pt x="1424097" y="1629297"/>
                  <a:pt x="1443399" y="1402211"/>
                </a:cubicBezTo>
                <a:lnTo>
                  <a:pt x="1446855" y="1319674"/>
                </a:lnTo>
                <a:lnTo>
                  <a:pt x="1711959" y="1389671"/>
                </a:lnTo>
                <a:lnTo>
                  <a:pt x="1698181" y="1517755"/>
                </a:lnTo>
                <a:cubicBezTo>
                  <a:pt x="1687773" y="1605093"/>
                  <a:pt x="1675659" y="1689651"/>
                  <a:pt x="1662878" y="1765281"/>
                </a:cubicBezTo>
                <a:lnTo>
                  <a:pt x="1645508" y="1859478"/>
                </a:lnTo>
                <a:lnTo>
                  <a:pt x="1559236" y="1833895"/>
                </a:lnTo>
                <a:lnTo>
                  <a:pt x="1616816" y="1942433"/>
                </a:lnTo>
                <a:lnTo>
                  <a:pt x="1611799" y="1956257"/>
                </a:lnTo>
                <a:cubicBezTo>
                  <a:pt x="1580668" y="2035917"/>
                  <a:pt x="1536096" y="2134619"/>
                  <a:pt x="1485273" y="2235801"/>
                </a:cubicBezTo>
                <a:cubicBezTo>
                  <a:pt x="1468332" y="2269529"/>
                  <a:pt x="1451191" y="2302547"/>
                  <a:pt x="1434183" y="2334277"/>
                </a:cubicBezTo>
                <a:lnTo>
                  <a:pt x="1407657" y="2382139"/>
                </a:lnTo>
                <a:lnTo>
                  <a:pt x="938355" y="2382139"/>
                </a:lnTo>
                <a:lnTo>
                  <a:pt x="911828" y="2334276"/>
                </a:lnTo>
                <a:cubicBezTo>
                  <a:pt x="894820" y="2302547"/>
                  <a:pt x="877679" y="2269528"/>
                  <a:pt x="860738" y="2235800"/>
                </a:cubicBezTo>
                <a:cubicBezTo>
                  <a:pt x="809915" y="2134618"/>
                  <a:pt x="765343" y="2035916"/>
                  <a:pt x="734212" y="1956257"/>
                </a:cubicBezTo>
                <a:lnTo>
                  <a:pt x="729195" y="1942433"/>
                </a:lnTo>
                <a:lnTo>
                  <a:pt x="786775" y="1833894"/>
                </a:lnTo>
                <a:lnTo>
                  <a:pt x="700501" y="1859477"/>
                </a:lnTo>
                <a:lnTo>
                  <a:pt x="683131" y="1765281"/>
                </a:lnTo>
                <a:cubicBezTo>
                  <a:pt x="670351" y="1689651"/>
                  <a:pt x="658236" y="1605093"/>
                  <a:pt x="647829" y="1517755"/>
                </a:cubicBezTo>
                <a:lnTo>
                  <a:pt x="634050" y="1389671"/>
                </a:lnTo>
                <a:lnTo>
                  <a:pt x="899156" y="1319674"/>
                </a:lnTo>
                <a:close/>
                <a:moveTo>
                  <a:pt x="1059539" y="0"/>
                </a:moveTo>
                <a:lnTo>
                  <a:pt x="1212261" y="0"/>
                </a:lnTo>
                <a:cubicBezTo>
                  <a:pt x="1525808" y="0"/>
                  <a:pt x="1779988" y="254180"/>
                  <a:pt x="1779988" y="567726"/>
                </a:cubicBezTo>
                <a:lnTo>
                  <a:pt x="1779988" y="715184"/>
                </a:lnTo>
                <a:cubicBezTo>
                  <a:pt x="1779988" y="871958"/>
                  <a:pt x="1716443" y="1013889"/>
                  <a:pt x="1613705" y="1116628"/>
                </a:cubicBezTo>
                <a:lnTo>
                  <a:pt x="1600104" y="1127850"/>
                </a:lnTo>
                <a:lnTo>
                  <a:pt x="1624628" y="1082667"/>
                </a:lnTo>
                <a:cubicBezTo>
                  <a:pt x="1647964" y="1027495"/>
                  <a:pt x="1660868" y="966837"/>
                  <a:pt x="1660868" y="903166"/>
                </a:cubicBezTo>
                <a:lnTo>
                  <a:pt x="1660868" y="595719"/>
                </a:lnTo>
                <a:cubicBezTo>
                  <a:pt x="1660868" y="510820"/>
                  <a:pt x="1592043" y="441995"/>
                  <a:pt x="1507144" y="441995"/>
                </a:cubicBezTo>
                <a:lnTo>
                  <a:pt x="784050" y="441995"/>
                </a:lnTo>
                <a:cubicBezTo>
                  <a:pt x="699152" y="441995"/>
                  <a:pt x="630327" y="510820"/>
                  <a:pt x="630327" y="595719"/>
                </a:cubicBezTo>
                <a:lnTo>
                  <a:pt x="630327" y="903166"/>
                </a:lnTo>
                <a:cubicBezTo>
                  <a:pt x="630327" y="966837"/>
                  <a:pt x="643230" y="1027495"/>
                  <a:pt x="666566" y="1082667"/>
                </a:cubicBezTo>
                <a:lnTo>
                  <a:pt x="706820" y="1156830"/>
                </a:lnTo>
                <a:lnTo>
                  <a:pt x="658096" y="1116628"/>
                </a:lnTo>
                <a:cubicBezTo>
                  <a:pt x="555357" y="1013889"/>
                  <a:pt x="491812" y="871958"/>
                  <a:pt x="491812" y="715184"/>
                </a:cubicBezTo>
                <a:lnTo>
                  <a:pt x="491812" y="567726"/>
                </a:lnTo>
                <a:cubicBezTo>
                  <a:pt x="491812" y="254180"/>
                  <a:pt x="745992" y="0"/>
                  <a:pt x="105953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任意多边形 401"/>
          <p:cNvSpPr/>
          <p:nvPr/>
        </p:nvSpPr>
        <p:spPr>
          <a:xfrm>
            <a:off x="669960" y="3746520"/>
            <a:ext cx="11179080" cy="2095560"/>
          </a:xfrm>
          <a:custGeom>
            <a:avLst/>
            <a:gdLst>
              <a:gd name="textAreaLeft" fmla="*/ 0 w 11179080"/>
              <a:gd name="textAreaRight" fmla="*/ 11179440 w 1117908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0909300" h="2095500">
                <a:moveTo>
                  <a:pt x="0" y="584200"/>
                </a:moveTo>
                <a:lnTo>
                  <a:pt x="1308100" y="152400"/>
                </a:lnTo>
                <a:lnTo>
                  <a:pt x="3162300" y="0"/>
                </a:lnTo>
                <a:lnTo>
                  <a:pt x="4711700" y="1054100"/>
                </a:lnTo>
                <a:lnTo>
                  <a:pt x="6248400" y="1562100"/>
                </a:lnTo>
                <a:lnTo>
                  <a:pt x="7493000" y="952500"/>
                </a:lnTo>
                <a:lnTo>
                  <a:pt x="8445500" y="1790700"/>
                </a:lnTo>
                <a:lnTo>
                  <a:pt x="9512300" y="2044700"/>
                </a:lnTo>
                <a:lnTo>
                  <a:pt x="10299700" y="2095500"/>
                </a:lnTo>
                <a:lnTo>
                  <a:pt x="10909300" y="2032000"/>
                </a:lnTo>
                <a:lnTo>
                  <a:pt x="10909300" y="2019300"/>
                </a:lnTo>
              </a:path>
            </a:pathLst>
          </a:custGeom>
          <a:noFill/>
          <a:ln w="209520">
            <a:solidFill>
              <a:srgbClr val="bfbfbf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 1"/>
          <p:cNvSpPr/>
          <p:nvPr/>
        </p:nvSpPr>
        <p:spPr>
          <a:xfrm>
            <a:off x="800280" y="428760"/>
            <a:ext cx="458460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椭圆 3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5"/>
          <p:cNvSpPr/>
          <p:nvPr/>
        </p:nvSpPr>
        <p:spPr>
          <a:xfrm>
            <a:off x="1469880" y="55404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目前的月收入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组合 44"/>
          <p:cNvGrpSpPr/>
          <p:nvPr/>
        </p:nvGrpSpPr>
        <p:grpSpPr>
          <a:xfrm>
            <a:off x="458640" y="469800"/>
            <a:ext cx="873360" cy="722520"/>
            <a:chOff x="458640" y="469800"/>
            <a:chExt cx="873360" cy="722520"/>
          </a:xfrm>
        </p:grpSpPr>
        <p:grpSp>
          <p:nvGrpSpPr>
            <p:cNvPr id="595" name="组合 9"/>
            <p:cNvGrpSpPr/>
            <p:nvPr/>
          </p:nvGrpSpPr>
          <p:grpSpPr>
            <a:xfrm>
              <a:off x="937440" y="1052640"/>
              <a:ext cx="326880" cy="136800"/>
              <a:chOff x="937440" y="1052640"/>
              <a:chExt cx="326880" cy="136800"/>
            </a:xfrm>
          </p:grpSpPr>
          <p:sp>
            <p:nvSpPr>
              <p:cNvPr id="596" name="圆角矩形 6"/>
              <p:cNvSpPr/>
              <p:nvPr/>
            </p:nvSpPr>
            <p:spPr>
              <a:xfrm>
                <a:off x="937440" y="10638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椭圆 7"/>
              <p:cNvSpPr/>
              <p:nvPr/>
            </p:nvSpPr>
            <p:spPr>
              <a:xfrm>
                <a:off x="946440" y="10526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组合 10"/>
            <p:cNvGrpSpPr/>
            <p:nvPr/>
          </p:nvGrpSpPr>
          <p:grpSpPr>
            <a:xfrm>
              <a:off x="951840" y="928080"/>
              <a:ext cx="326880" cy="136800"/>
              <a:chOff x="951840" y="928080"/>
              <a:chExt cx="326880" cy="136800"/>
            </a:xfrm>
          </p:grpSpPr>
          <p:sp>
            <p:nvSpPr>
              <p:cNvPr id="599" name="圆角矩形 11"/>
              <p:cNvSpPr/>
              <p:nvPr/>
            </p:nvSpPr>
            <p:spPr>
              <a:xfrm>
                <a:off x="951840" y="93924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椭圆 12"/>
              <p:cNvSpPr/>
              <p:nvPr/>
            </p:nvSpPr>
            <p:spPr>
              <a:xfrm>
                <a:off x="960840" y="92808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组合 13"/>
            <p:cNvGrpSpPr/>
            <p:nvPr/>
          </p:nvGrpSpPr>
          <p:grpSpPr>
            <a:xfrm>
              <a:off x="918360" y="804240"/>
              <a:ext cx="326880" cy="136800"/>
              <a:chOff x="918360" y="804240"/>
              <a:chExt cx="326880" cy="136800"/>
            </a:xfrm>
          </p:grpSpPr>
          <p:sp>
            <p:nvSpPr>
              <p:cNvPr id="602" name="圆角矩形 14"/>
              <p:cNvSpPr/>
              <p:nvPr/>
            </p:nvSpPr>
            <p:spPr>
              <a:xfrm>
                <a:off x="918360" y="8154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椭圆 15"/>
              <p:cNvSpPr/>
              <p:nvPr/>
            </p:nvSpPr>
            <p:spPr>
              <a:xfrm>
                <a:off x="927360" y="8042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组合 16"/>
            <p:cNvGrpSpPr/>
            <p:nvPr/>
          </p:nvGrpSpPr>
          <p:grpSpPr>
            <a:xfrm>
              <a:off x="1005120" y="707040"/>
              <a:ext cx="326880" cy="136800"/>
              <a:chOff x="1005120" y="707040"/>
              <a:chExt cx="326880" cy="136800"/>
            </a:xfrm>
          </p:grpSpPr>
          <p:sp>
            <p:nvSpPr>
              <p:cNvPr id="605" name="圆角矩形 17"/>
              <p:cNvSpPr/>
              <p:nvPr/>
            </p:nvSpPr>
            <p:spPr>
              <a:xfrm>
                <a:off x="1005120" y="71820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椭圆 18"/>
              <p:cNvSpPr/>
              <p:nvPr/>
            </p:nvSpPr>
            <p:spPr>
              <a:xfrm>
                <a:off x="1014120" y="70704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23"/>
            <p:cNvGrpSpPr/>
            <p:nvPr/>
          </p:nvGrpSpPr>
          <p:grpSpPr>
            <a:xfrm>
              <a:off x="927360" y="592920"/>
              <a:ext cx="326880" cy="136800"/>
              <a:chOff x="927360" y="592920"/>
              <a:chExt cx="326880" cy="136800"/>
            </a:xfrm>
          </p:grpSpPr>
          <p:sp>
            <p:nvSpPr>
              <p:cNvPr id="608" name="圆角矩形 24"/>
              <p:cNvSpPr/>
              <p:nvPr/>
            </p:nvSpPr>
            <p:spPr>
              <a:xfrm>
                <a:off x="927360" y="6040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椭圆 25"/>
              <p:cNvSpPr/>
              <p:nvPr/>
            </p:nvSpPr>
            <p:spPr>
              <a:xfrm>
                <a:off x="936360" y="5929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组合 26"/>
            <p:cNvGrpSpPr/>
            <p:nvPr/>
          </p:nvGrpSpPr>
          <p:grpSpPr>
            <a:xfrm>
              <a:off x="900360" y="469800"/>
              <a:ext cx="326880" cy="136800"/>
              <a:chOff x="900360" y="469800"/>
              <a:chExt cx="326880" cy="136800"/>
            </a:xfrm>
          </p:grpSpPr>
          <p:sp>
            <p:nvSpPr>
              <p:cNvPr id="611" name="圆角矩形 27"/>
              <p:cNvSpPr/>
              <p:nvPr/>
            </p:nvSpPr>
            <p:spPr>
              <a:xfrm>
                <a:off x="900360" y="4809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椭圆 28"/>
              <p:cNvSpPr/>
              <p:nvPr/>
            </p:nvSpPr>
            <p:spPr>
              <a:xfrm>
                <a:off x="909360" y="4698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29"/>
            <p:cNvGrpSpPr/>
            <p:nvPr/>
          </p:nvGrpSpPr>
          <p:grpSpPr>
            <a:xfrm>
              <a:off x="458640" y="1055520"/>
              <a:ext cx="326880" cy="136800"/>
              <a:chOff x="458640" y="1055520"/>
              <a:chExt cx="326880" cy="136800"/>
            </a:xfrm>
          </p:grpSpPr>
          <p:sp>
            <p:nvSpPr>
              <p:cNvPr id="614" name="圆角矩形 30"/>
              <p:cNvSpPr/>
              <p:nvPr/>
            </p:nvSpPr>
            <p:spPr>
              <a:xfrm>
                <a:off x="458640" y="10666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椭圆 31"/>
              <p:cNvSpPr/>
              <p:nvPr/>
            </p:nvSpPr>
            <p:spPr>
              <a:xfrm>
                <a:off x="467640" y="10555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32"/>
            <p:cNvGrpSpPr/>
            <p:nvPr/>
          </p:nvGrpSpPr>
          <p:grpSpPr>
            <a:xfrm>
              <a:off x="528840" y="941400"/>
              <a:ext cx="326880" cy="136800"/>
              <a:chOff x="528840" y="941400"/>
              <a:chExt cx="326880" cy="136800"/>
            </a:xfrm>
          </p:grpSpPr>
          <p:sp>
            <p:nvSpPr>
              <p:cNvPr id="617" name="圆角矩形 33"/>
              <p:cNvSpPr/>
              <p:nvPr/>
            </p:nvSpPr>
            <p:spPr>
              <a:xfrm>
                <a:off x="528840" y="9525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椭圆 34"/>
              <p:cNvSpPr/>
              <p:nvPr/>
            </p:nvSpPr>
            <p:spPr>
              <a:xfrm>
                <a:off x="537840" y="9414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35"/>
            <p:cNvGrpSpPr/>
            <p:nvPr/>
          </p:nvGrpSpPr>
          <p:grpSpPr>
            <a:xfrm>
              <a:off x="478080" y="823320"/>
              <a:ext cx="326880" cy="136800"/>
              <a:chOff x="478080" y="823320"/>
              <a:chExt cx="326880" cy="136800"/>
            </a:xfrm>
          </p:grpSpPr>
          <p:sp>
            <p:nvSpPr>
              <p:cNvPr id="620" name="圆角矩形 36"/>
              <p:cNvSpPr/>
              <p:nvPr/>
            </p:nvSpPr>
            <p:spPr>
              <a:xfrm>
                <a:off x="478080" y="8344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椭圆 37"/>
              <p:cNvSpPr/>
              <p:nvPr/>
            </p:nvSpPr>
            <p:spPr>
              <a:xfrm>
                <a:off x="487080" y="8233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组合 38"/>
            <p:cNvGrpSpPr/>
            <p:nvPr/>
          </p:nvGrpSpPr>
          <p:grpSpPr>
            <a:xfrm>
              <a:off x="582120" y="720720"/>
              <a:ext cx="326880" cy="136800"/>
              <a:chOff x="582120" y="720720"/>
              <a:chExt cx="326880" cy="136800"/>
            </a:xfrm>
          </p:grpSpPr>
          <p:sp>
            <p:nvSpPr>
              <p:cNvPr id="623" name="圆角矩形 39"/>
              <p:cNvSpPr/>
              <p:nvPr/>
            </p:nvSpPr>
            <p:spPr>
              <a:xfrm>
                <a:off x="582120" y="73188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椭圆 40"/>
              <p:cNvSpPr/>
              <p:nvPr/>
            </p:nvSpPr>
            <p:spPr>
              <a:xfrm>
                <a:off x="591120" y="72072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41"/>
            <p:cNvGrpSpPr/>
            <p:nvPr/>
          </p:nvGrpSpPr>
          <p:grpSpPr>
            <a:xfrm>
              <a:off x="504360" y="606600"/>
              <a:ext cx="326880" cy="136800"/>
              <a:chOff x="504360" y="606600"/>
              <a:chExt cx="326880" cy="136800"/>
            </a:xfrm>
          </p:grpSpPr>
          <p:sp>
            <p:nvSpPr>
              <p:cNvPr id="626" name="圆角矩形 42"/>
              <p:cNvSpPr/>
              <p:nvPr/>
            </p:nvSpPr>
            <p:spPr>
              <a:xfrm>
                <a:off x="504360" y="617760"/>
                <a:ext cx="32688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椭圆 43"/>
              <p:cNvSpPr/>
              <p:nvPr/>
            </p:nvSpPr>
            <p:spPr>
              <a:xfrm>
                <a:off x="513360" y="606600"/>
                <a:ext cx="303480" cy="3456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8" name="圆角矩形 45"/>
          <p:cNvSpPr/>
          <p:nvPr/>
        </p:nvSpPr>
        <p:spPr>
          <a:xfrm>
            <a:off x="6608880" y="1162080"/>
            <a:ext cx="5164200" cy="11174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46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6049800" y="917640"/>
            <a:ext cx="559080" cy="137628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47"/>
          <p:cNvSpPr/>
          <p:nvPr/>
        </p:nvSpPr>
        <p:spPr>
          <a:xfrm>
            <a:off x="6730920" y="125424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达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2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而近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/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月收入在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万元户竟然有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.7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组合 151"/>
          <p:cNvGrpSpPr/>
          <p:nvPr/>
        </p:nvGrpSpPr>
        <p:grpSpPr>
          <a:xfrm>
            <a:off x="314280" y="3863880"/>
            <a:ext cx="919080" cy="584280"/>
            <a:chOff x="314280" y="3863880"/>
            <a:chExt cx="919080" cy="584280"/>
          </a:xfrm>
        </p:grpSpPr>
        <p:grpSp>
          <p:nvGrpSpPr>
            <p:cNvPr id="632" name="组合 134"/>
            <p:cNvGrpSpPr/>
            <p:nvPr/>
          </p:nvGrpSpPr>
          <p:grpSpPr>
            <a:xfrm>
              <a:off x="760680" y="3863880"/>
              <a:ext cx="472680" cy="584280"/>
              <a:chOff x="760680" y="3863880"/>
              <a:chExt cx="472680" cy="584280"/>
            </a:xfrm>
          </p:grpSpPr>
          <p:grpSp>
            <p:nvGrpSpPr>
              <p:cNvPr id="633" name="组合 55"/>
              <p:cNvGrpSpPr/>
              <p:nvPr/>
            </p:nvGrpSpPr>
            <p:grpSpPr>
              <a:xfrm>
                <a:off x="905760" y="4311720"/>
                <a:ext cx="327600" cy="136440"/>
                <a:chOff x="905760" y="4311720"/>
                <a:chExt cx="327600" cy="136440"/>
              </a:xfrm>
            </p:grpSpPr>
            <p:sp>
              <p:nvSpPr>
                <p:cNvPr id="634" name="圆角矩形 68"/>
                <p:cNvSpPr/>
                <p:nvPr/>
              </p:nvSpPr>
              <p:spPr>
                <a:xfrm flipH="1">
                  <a:off x="9057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69"/>
                <p:cNvSpPr/>
                <p:nvPr/>
              </p:nvSpPr>
              <p:spPr>
                <a:xfrm flipH="1">
                  <a:off x="9198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56"/>
              <p:cNvGrpSpPr/>
              <p:nvPr/>
            </p:nvGrpSpPr>
            <p:grpSpPr>
              <a:xfrm>
                <a:off x="835200" y="4197960"/>
                <a:ext cx="327600" cy="136440"/>
                <a:chOff x="835200" y="4197960"/>
                <a:chExt cx="327600" cy="136440"/>
              </a:xfrm>
            </p:grpSpPr>
            <p:sp>
              <p:nvSpPr>
                <p:cNvPr id="637" name="圆角矩形 66"/>
                <p:cNvSpPr/>
                <p:nvPr/>
              </p:nvSpPr>
              <p:spPr>
                <a:xfrm flipH="1">
                  <a:off x="8352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67"/>
                <p:cNvSpPr/>
                <p:nvPr/>
              </p:nvSpPr>
              <p:spPr>
                <a:xfrm flipH="1">
                  <a:off x="8492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组合 57"/>
              <p:cNvGrpSpPr/>
              <p:nvPr/>
            </p:nvGrpSpPr>
            <p:grpSpPr>
              <a:xfrm>
                <a:off x="886320" y="4079880"/>
                <a:ext cx="327600" cy="136440"/>
                <a:chOff x="886320" y="4079880"/>
                <a:chExt cx="327600" cy="136440"/>
              </a:xfrm>
            </p:grpSpPr>
            <p:sp>
              <p:nvSpPr>
                <p:cNvPr id="640" name="圆角矩形 64"/>
                <p:cNvSpPr/>
                <p:nvPr/>
              </p:nvSpPr>
              <p:spPr>
                <a:xfrm flipH="1">
                  <a:off x="8863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椭圆 65"/>
                <p:cNvSpPr/>
                <p:nvPr/>
              </p:nvSpPr>
              <p:spPr>
                <a:xfrm flipH="1">
                  <a:off x="9003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组合 58"/>
              <p:cNvGrpSpPr/>
              <p:nvPr/>
            </p:nvGrpSpPr>
            <p:grpSpPr>
              <a:xfrm>
                <a:off x="820080" y="3977640"/>
                <a:ext cx="327600" cy="136440"/>
                <a:chOff x="820080" y="3977640"/>
                <a:chExt cx="327600" cy="136440"/>
              </a:xfrm>
            </p:grpSpPr>
            <p:sp>
              <p:nvSpPr>
                <p:cNvPr id="643" name="圆角矩形 62"/>
                <p:cNvSpPr/>
                <p:nvPr/>
              </p:nvSpPr>
              <p:spPr>
                <a:xfrm flipH="1">
                  <a:off x="8200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椭圆 63"/>
                <p:cNvSpPr/>
                <p:nvPr/>
              </p:nvSpPr>
              <p:spPr>
                <a:xfrm flipH="1">
                  <a:off x="8341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5" name="组合 59"/>
              <p:cNvGrpSpPr/>
              <p:nvPr/>
            </p:nvGrpSpPr>
            <p:grpSpPr>
              <a:xfrm>
                <a:off x="760680" y="3863880"/>
                <a:ext cx="327600" cy="136440"/>
                <a:chOff x="760680" y="3863880"/>
                <a:chExt cx="327600" cy="136440"/>
              </a:xfrm>
            </p:grpSpPr>
            <p:sp>
              <p:nvSpPr>
                <p:cNvPr id="646" name="圆角矩形 60"/>
                <p:cNvSpPr/>
                <p:nvPr/>
              </p:nvSpPr>
              <p:spPr>
                <a:xfrm flipH="1">
                  <a:off x="7606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椭圆 61"/>
                <p:cNvSpPr/>
                <p:nvPr/>
              </p:nvSpPr>
              <p:spPr>
                <a:xfrm flipH="1">
                  <a:off x="7747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8" name="组合 135"/>
            <p:cNvGrpSpPr/>
            <p:nvPr/>
          </p:nvGrpSpPr>
          <p:grpSpPr>
            <a:xfrm>
              <a:off x="314280" y="3863880"/>
              <a:ext cx="472680" cy="584280"/>
              <a:chOff x="314280" y="3863880"/>
              <a:chExt cx="472680" cy="584280"/>
            </a:xfrm>
          </p:grpSpPr>
          <p:grpSp>
            <p:nvGrpSpPr>
              <p:cNvPr id="649" name="组合 136"/>
              <p:cNvGrpSpPr/>
              <p:nvPr/>
            </p:nvGrpSpPr>
            <p:grpSpPr>
              <a:xfrm>
                <a:off x="459360" y="4311720"/>
                <a:ext cx="327600" cy="136440"/>
                <a:chOff x="459360" y="4311720"/>
                <a:chExt cx="327600" cy="136440"/>
              </a:xfrm>
            </p:grpSpPr>
            <p:sp>
              <p:nvSpPr>
                <p:cNvPr id="650" name="圆角矩形 149"/>
                <p:cNvSpPr/>
                <p:nvPr/>
              </p:nvSpPr>
              <p:spPr>
                <a:xfrm flipH="1">
                  <a:off x="459360" y="4322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150"/>
                <p:cNvSpPr/>
                <p:nvPr/>
              </p:nvSpPr>
              <p:spPr>
                <a:xfrm flipH="1">
                  <a:off x="473400" y="4311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组合 137"/>
              <p:cNvGrpSpPr/>
              <p:nvPr/>
            </p:nvGrpSpPr>
            <p:grpSpPr>
              <a:xfrm>
                <a:off x="388800" y="4197960"/>
                <a:ext cx="327600" cy="136440"/>
                <a:chOff x="388800" y="4197960"/>
                <a:chExt cx="327600" cy="136440"/>
              </a:xfrm>
            </p:grpSpPr>
            <p:sp>
              <p:nvSpPr>
                <p:cNvPr id="653" name="圆角矩形 147"/>
                <p:cNvSpPr/>
                <p:nvPr/>
              </p:nvSpPr>
              <p:spPr>
                <a:xfrm flipH="1">
                  <a:off x="388800" y="420912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椭圆 148"/>
                <p:cNvSpPr/>
                <p:nvPr/>
              </p:nvSpPr>
              <p:spPr>
                <a:xfrm flipH="1">
                  <a:off x="402840" y="4197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组合 138"/>
              <p:cNvGrpSpPr/>
              <p:nvPr/>
            </p:nvGrpSpPr>
            <p:grpSpPr>
              <a:xfrm>
                <a:off x="439920" y="4079880"/>
                <a:ext cx="327600" cy="136440"/>
                <a:chOff x="439920" y="4079880"/>
                <a:chExt cx="327600" cy="136440"/>
              </a:xfrm>
            </p:grpSpPr>
            <p:sp>
              <p:nvSpPr>
                <p:cNvPr id="656" name="圆角矩形 145"/>
                <p:cNvSpPr/>
                <p:nvPr/>
              </p:nvSpPr>
              <p:spPr>
                <a:xfrm flipH="1">
                  <a:off x="439920" y="4091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46"/>
                <p:cNvSpPr/>
                <p:nvPr/>
              </p:nvSpPr>
              <p:spPr>
                <a:xfrm flipH="1">
                  <a:off x="453960" y="4079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组合 139"/>
              <p:cNvGrpSpPr/>
              <p:nvPr/>
            </p:nvGrpSpPr>
            <p:grpSpPr>
              <a:xfrm>
                <a:off x="373680" y="3977640"/>
                <a:ext cx="327600" cy="136440"/>
                <a:chOff x="373680" y="3977640"/>
                <a:chExt cx="327600" cy="136440"/>
              </a:xfrm>
            </p:grpSpPr>
            <p:sp>
              <p:nvSpPr>
                <p:cNvPr id="659" name="圆角矩形 143"/>
                <p:cNvSpPr/>
                <p:nvPr/>
              </p:nvSpPr>
              <p:spPr>
                <a:xfrm flipH="1">
                  <a:off x="373680" y="398880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44"/>
                <p:cNvSpPr/>
                <p:nvPr/>
              </p:nvSpPr>
              <p:spPr>
                <a:xfrm flipH="1">
                  <a:off x="387720" y="39776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组合 140"/>
              <p:cNvGrpSpPr/>
              <p:nvPr/>
            </p:nvGrpSpPr>
            <p:grpSpPr>
              <a:xfrm>
                <a:off x="314280" y="3863880"/>
                <a:ext cx="327600" cy="136440"/>
                <a:chOff x="314280" y="3863880"/>
                <a:chExt cx="327600" cy="136440"/>
              </a:xfrm>
            </p:grpSpPr>
            <p:sp>
              <p:nvSpPr>
                <p:cNvPr id="662" name="圆角矩形 141"/>
                <p:cNvSpPr/>
                <p:nvPr/>
              </p:nvSpPr>
              <p:spPr>
                <a:xfrm flipH="1">
                  <a:off x="314280" y="3875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142"/>
                <p:cNvSpPr/>
                <p:nvPr/>
              </p:nvSpPr>
              <p:spPr>
                <a:xfrm flipH="1">
                  <a:off x="328320" y="3863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64" name="组合 172"/>
          <p:cNvGrpSpPr/>
          <p:nvPr/>
        </p:nvGrpSpPr>
        <p:grpSpPr>
          <a:xfrm>
            <a:off x="1778040" y="3351240"/>
            <a:ext cx="942840" cy="739800"/>
            <a:chOff x="1778040" y="3351240"/>
            <a:chExt cx="942840" cy="739800"/>
          </a:xfrm>
        </p:grpSpPr>
        <p:grpSp>
          <p:nvGrpSpPr>
            <p:cNvPr id="665" name="组合 155"/>
            <p:cNvGrpSpPr/>
            <p:nvPr/>
          </p:nvGrpSpPr>
          <p:grpSpPr>
            <a:xfrm>
              <a:off x="1778040" y="3496680"/>
              <a:ext cx="471600" cy="594360"/>
              <a:chOff x="1778040" y="3496680"/>
              <a:chExt cx="471600" cy="594360"/>
            </a:xfrm>
          </p:grpSpPr>
          <p:grpSp>
            <p:nvGrpSpPr>
              <p:cNvPr id="666" name="组合 133"/>
              <p:cNvGrpSpPr/>
              <p:nvPr/>
            </p:nvGrpSpPr>
            <p:grpSpPr>
              <a:xfrm>
                <a:off x="1922760" y="3954600"/>
                <a:ext cx="326880" cy="136440"/>
                <a:chOff x="1922760" y="3954600"/>
                <a:chExt cx="326880" cy="136440"/>
              </a:xfrm>
            </p:grpSpPr>
            <p:sp>
              <p:nvSpPr>
                <p:cNvPr id="667" name="圆角矩形 84"/>
                <p:cNvSpPr/>
                <p:nvPr/>
              </p:nvSpPr>
              <p:spPr>
                <a:xfrm flipH="1">
                  <a:off x="1922760" y="39657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85"/>
                <p:cNvSpPr/>
                <p:nvPr/>
              </p:nvSpPr>
              <p:spPr>
                <a:xfrm flipH="1">
                  <a:off x="1936440" y="39546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组合 132"/>
              <p:cNvGrpSpPr/>
              <p:nvPr/>
            </p:nvGrpSpPr>
            <p:grpSpPr>
              <a:xfrm>
                <a:off x="1852560" y="3835800"/>
                <a:ext cx="326880" cy="136440"/>
                <a:chOff x="1852560" y="3835800"/>
                <a:chExt cx="326880" cy="136440"/>
              </a:xfrm>
            </p:grpSpPr>
            <p:sp>
              <p:nvSpPr>
                <p:cNvPr id="670" name="圆角矩形 87"/>
                <p:cNvSpPr/>
                <p:nvPr/>
              </p:nvSpPr>
              <p:spPr>
                <a:xfrm flipH="1">
                  <a:off x="1852560" y="38469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椭圆 88"/>
                <p:cNvSpPr/>
                <p:nvPr/>
              </p:nvSpPr>
              <p:spPr>
                <a:xfrm flipH="1">
                  <a:off x="1866240" y="38358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组合 131"/>
              <p:cNvGrpSpPr/>
              <p:nvPr/>
            </p:nvGrpSpPr>
            <p:grpSpPr>
              <a:xfrm>
                <a:off x="1903320" y="3717720"/>
                <a:ext cx="326880" cy="136440"/>
                <a:chOff x="1903320" y="3717720"/>
                <a:chExt cx="326880" cy="136440"/>
              </a:xfrm>
            </p:grpSpPr>
            <p:sp>
              <p:nvSpPr>
                <p:cNvPr id="673" name="圆角矩形 90"/>
                <p:cNvSpPr/>
                <p:nvPr/>
              </p:nvSpPr>
              <p:spPr>
                <a:xfrm flipH="1">
                  <a:off x="1903320" y="37288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椭圆 91"/>
                <p:cNvSpPr/>
                <p:nvPr/>
              </p:nvSpPr>
              <p:spPr>
                <a:xfrm flipH="1">
                  <a:off x="191700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组合 130"/>
              <p:cNvGrpSpPr/>
              <p:nvPr/>
            </p:nvGrpSpPr>
            <p:grpSpPr>
              <a:xfrm>
                <a:off x="1837440" y="3615120"/>
                <a:ext cx="326880" cy="136440"/>
                <a:chOff x="1837440" y="3615120"/>
                <a:chExt cx="326880" cy="136440"/>
              </a:xfrm>
            </p:grpSpPr>
            <p:sp>
              <p:nvSpPr>
                <p:cNvPr id="676" name="圆角矩形 93"/>
                <p:cNvSpPr/>
                <p:nvPr/>
              </p:nvSpPr>
              <p:spPr>
                <a:xfrm flipH="1">
                  <a:off x="1837440" y="3626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椭圆 94"/>
                <p:cNvSpPr/>
                <p:nvPr/>
              </p:nvSpPr>
              <p:spPr>
                <a:xfrm flipH="1">
                  <a:off x="1851120" y="3615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组合 129"/>
              <p:cNvGrpSpPr/>
              <p:nvPr/>
            </p:nvGrpSpPr>
            <p:grpSpPr>
              <a:xfrm>
                <a:off x="1778040" y="3496680"/>
                <a:ext cx="326880" cy="136440"/>
                <a:chOff x="1778040" y="3496680"/>
                <a:chExt cx="326880" cy="136440"/>
              </a:xfrm>
            </p:grpSpPr>
            <p:sp>
              <p:nvSpPr>
                <p:cNvPr id="679" name="圆角矩形 96"/>
                <p:cNvSpPr/>
                <p:nvPr/>
              </p:nvSpPr>
              <p:spPr>
                <a:xfrm flipH="1">
                  <a:off x="1778040" y="3507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椭圆 97"/>
                <p:cNvSpPr/>
                <p:nvPr/>
              </p:nvSpPr>
              <p:spPr>
                <a:xfrm flipH="1">
                  <a:off x="1791720" y="3496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1" name="组合 152"/>
            <p:cNvGrpSpPr/>
            <p:nvPr/>
          </p:nvGrpSpPr>
          <p:grpSpPr>
            <a:xfrm>
              <a:off x="2007360" y="3351240"/>
              <a:ext cx="326880" cy="136440"/>
              <a:chOff x="2007360" y="3351240"/>
              <a:chExt cx="326880" cy="136440"/>
            </a:xfrm>
          </p:grpSpPr>
          <p:sp>
            <p:nvSpPr>
              <p:cNvPr id="682" name="圆角矩形 153"/>
              <p:cNvSpPr/>
              <p:nvPr/>
            </p:nvSpPr>
            <p:spPr>
              <a:xfrm flipH="1">
                <a:off x="2007360" y="3362400"/>
                <a:ext cx="326880" cy="125280"/>
              </a:xfrm>
              <a:prstGeom prst="roundRect">
                <a:avLst>
                  <a:gd name="adj" fmla="val 16667"/>
                </a:avLst>
              </a:prstGeom>
              <a:solidFill>
                <a:srgbClr val="cb1b5e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椭圆 154"/>
              <p:cNvSpPr/>
              <p:nvPr/>
            </p:nvSpPr>
            <p:spPr>
              <a:xfrm flipH="1">
                <a:off x="2021040" y="3351240"/>
                <a:ext cx="30348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b1b5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组合 156"/>
            <p:cNvGrpSpPr/>
            <p:nvPr/>
          </p:nvGrpSpPr>
          <p:grpSpPr>
            <a:xfrm>
              <a:off x="2249280" y="3483000"/>
              <a:ext cx="471600" cy="594360"/>
              <a:chOff x="2249280" y="3483000"/>
              <a:chExt cx="471600" cy="594360"/>
            </a:xfrm>
          </p:grpSpPr>
          <p:grpSp>
            <p:nvGrpSpPr>
              <p:cNvPr id="685" name="组合 157"/>
              <p:cNvGrpSpPr/>
              <p:nvPr/>
            </p:nvGrpSpPr>
            <p:grpSpPr>
              <a:xfrm>
                <a:off x="2394000" y="3940920"/>
                <a:ext cx="326880" cy="136440"/>
                <a:chOff x="2394000" y="3940920"/>
                <a:chExt cx="326880" cy="136440"/>
              </a:xfrm>
            </p:grpSpPr>
            <p:sp>
              <p:nvSpPr>
                <p:cNvPr id="686" name="圆角矩形 170"/>
                <p:cNvSpPr/>
                <p:nvPr/>
              </p:nvSpPr>
              <p:spPr>
                <a:xfrm flipH="1">
                  <a:off x="2394000" y="39520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171"/>
                <p:cNvSpPr/>
                <p:nvPr/>
              </p:nvSpPr>
              <p:spPr>
                <a:xfrm flipH="1">
                  <a:off x="2407680" y="39409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8" name="组合 158"/>
              <p:cNvGrpSpPr/>
              <p:nvPr/>
            </p:nvGrpSpPr>
            <p:grpSpPr>
              <a:xfrm>
                <a:off x="2323800" y="3822120"/>
                <a:ext cx="326880" cy="136440"/>
                <a:chOff x="2323800" y="3822120"/>
                <a:chExt cx="326880" cy="136440"/>
              </a:xfrm>
            </p:grpSpPr>
            <p:sp>
              <p:nvSpPr>
                <p:cNvPr id="689" name="圆角矩形 168"/>
                <p:cNvSpPr/>
                <p:nvPr/>
              </p:nvSpPr>
              <p:spPr>
                <a:xfrm flipH="1">
                  <a:off x="2323800" y="38332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169"/>
                <p:cNvSpPr/>
                <p:nvPr/>
              </p:nvSpPr>
              <p:spPr>
                <a:xfrm flipH="1">
                  <a:off x="2337480" y="38221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1" name="组合 159"/>
              <p:cNvGrpSpPr/>
              <p:nvPr/>
            </p:nvGrpSpPr>
            <p:grpSpPr>
              <a:xfrm>
                <a:off x="2374560" y="3704040"/>
                <a:ext cx="326880" cy="136440"/>
                <a:chOff x="2374560" y="3704040"/>
                <a:chExt cx="326880" cy="136440"/>
              </a:xfrm>
            </p:grpSpPr>
            <p:sp>
              <p:nvSpPr>
                <p:cNvPr id="692" name="圆角矩形 166"/>
                <p:cNvSpPr/>
                <p:nvPr/>
              </p:nvSpPr>
              <p:spPr>
                <a:xfrm flipH="1">
                  <a:off x="2374560" y="37152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椭圆 167"/>
                <p:cNvSpPr/>
                <p:nvPr/>
              </p:nvSpPr>
              <p:spPr>
                <a:xfrm flipH="1">
                  <a:off x="2388240" y="37040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4" name="组合 160"/>
              <p:cNvGrpSpPr/>
              <p:nvPr/>
            </p:nvGrpSpPr>
            <p:grpSpPr>
              <a:xfrm>
                <a:off x="2308680" y="3601440"/>
                <a:ext cx="326880" cy="136440"/>
                <a:chOff x="2308680" y="3601440"/>
                <a:chExt cx="326880" cy="136440"/>
              </a:xfrm>
            </p:grpSpPr>
            <p:sp>
              <p:nvSpPr>
                <p:cNvPr id="695" name="圆角矩形 164"/>
                <p:cNvSpPr/>
                <p:nvPr/>
              </p:nvSpPr>
              <p:spPr>
                <a:xfrm flipH="1">
                  <a:off x="2308680" y="3612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椭圆 165"/>
                <p:cNvSpPr/>
                <p:nvPr/>
              </p:nvSpPr>
              <p:spPr>
                <a:xfrm flipH="1">
                  <a:off x="2322360" y="3601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7" name="组合 161"/>
              <p:cNvGrpSpPr/>
              <p:nvPr/>
            </p:nvGrpSpPr>
            <p:grpSpPr>
              <a:xfrm>
                <a:off x="2249280" y="3483000"/>
                <a:ext cx="326880" cy="136440"/>
                <a:chOff x="2249280" y="3483000"/>
                <a:chExt cx="326880" cy="136440"/>
              </a:xfrm>
            </p:grpSpPr>
            <p:sp>
              <p:nvSpPr>
                <p:cNvPr id="698" name="圆角矩形 162"/>
                <p:cNvSpPr/>
                <p:nvPr/>
              </p:nvSpPr>
              <p:spPr>
                <a:xfrm flipH="1">
                  <a:off x="2249280" y="349416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椭圆 163"/>
                <p:cNvSpPr/>
                <p:nvPr/>
              </p:nvSpPr>
              <p:spPr>
                <a:xfrm flipH="1">
                  <a:off x="2262960" y="34830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0" name="组合 206"/>
          <p:cNvGrpSpPr/>
          <p:nvPr/>
        </p:nvGrpSpPr>
        <p:grpSpPr>
          <a:xfrm>
            <a:off x="3200400" y="3254400"/>
            <a:ext cx="1282680" cy="611280"/>
            <a:chOff x="3200400" y="3254400"/>
            <a:chExt cx="1282680" cy="611280"/>
          </a:xfrm>
        </p:grpSpPr>
        <p:grpSp>
          <p:nvGrpSpPr>
            <p:cNvPr id="701" name="组合 173"/>
            <p:cNvGrpSpPr/>
            <p:nvPr/>
          </p:nvGrpSpPr>
          <p:grpSpPr>
            <a:xfrm>
              <a:off x="3622680" y="3269880"/>
              <a:ext cx="471960" cy="595800"/>
              <a:chOff x="3622680" y="3269880"/>
              <a:chExt cx="471960" cy="595800"/>
            </a:xfrm>
          </p:grpSpPr>
          <p:grpSp>
            <p:nvGrpSpPr>
              <p:cNvPr id="702" name="组合 128"/>
              <p:cNvGrpSpPr/>
              <p:nvPr/>
            </p:nvGrpSpPr>
            <p:grpSpPr>
              <a:xfrm>
                <a:off x="3767760" y="3728880"/>
                <a:ext cx="326880" cy="136800"/>
                <a:chOff x="3767760" y="3728880"/>
                <a:chExt cx="326880" cy="136800"/>
              </a:xfrm>
            </p:grpSpPr>
            <p:sp>
              <p:nvSpPr>
                <p:cNvPr id="703" name="圆角矩形 99"/>
                <p:cNvSpPr/>
                <p:nvPr/>
              </p:nvSpPr>
              <p:spPr>
                <a:xfrm flipH="1">
                  <a:off x="3767760" y="3740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椭圆 100"/>
                <p:cNvSpPr/>
                <p:nvPr/>
              </p:nvSpPr>
              <p:spPr>
                <a:xfrm flipH="1">
                  <a:off x="3781440" y="3728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5" name="组合 127"/>
              <p:cNvGrpSpPr/>
              <p:nvPr/>
            </p:nvGrpSpPr>
            <p:grpSpPr>
              <a:xfrm>
                <a:off x="3697200" y="3609720"/>
                <a:ext cx="326880" cy="136800"/>
                <a:chOff x="3697200" y="3609720"/>
                <a:chExt cx="326880" cy="136800"/>
              </a:xfrm>
            </p:grpSpPr>
            <p:sp>
              <p:nvSpPr>
                <p:cNvPr id="706" name="圆角矩形 101"/>
                <p:cNvSpPr/>
                <p:nvPr/>
              </p:nvSpPr>
              <p:spPr>
                <a:xfrm flipH="1">
                  <a:off x="3697200" y="3620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椭圆 102"/>
                <p:cNvSpPr/>
                <p:nvPr/>
              </p:nvSpPr>
              <p:spPr>
                <a:xfrm flipH="1">
                  <a:off x="3710880" y="3609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8" name="组合 126"/>
              <p:cNvGrpSpPr/>
              <p:nvPr/>
            </p:nvGrpSpPr>
            <p:grpSpPr>
              <a:xfrm>
                <a:off x="3747960" y="3491640"/>
                <a:ext cx="326880" cy="136800"/>
                <a:chOff x="3747960" y="3491640"/>
                <a:chExt cx="326880" cy="136800"/>
              </a:xfrm>
            </p:grpSpPr>
            <p:sp>
              <p:nvSpPr>
                <p:cNvPr id="709" name="圆角矩形 103"/>
                <p:cNvSpPr/>
                <p:nvPr/>
              </p:nvSpPr>
              <p:spPr>
                <a:xfrm flipH="1">
                  <a:off x="3747960" y="35028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椭圆 104"/>
                <p:cNvSpPr/>
                <p:nvPr/>
              </p:nvSpPr>
              <p:spPr>
                <a:xfrm flipH="1">
                  <a:off x="3761640" y="34916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1" name="组合 125"/>
              <p:cNvGrpSpPr/>
              <p:nvPr/>
            </p:nvGrpSpPr>
            <p:grpSpPr>
              <a:xfrm>
                <a:off x="3682080" y="3388680"/>
                <a:ext cx="326880" cy="136800"/>
                <a:chOff x="3682080" y="3388680"/>
                <a:chExt cx="326880" cy="136800"/>
              </a:xfrm>
            </p:grpSpPr>
            <p:sp>
              <p:nvSpPr>
                <p:cNvPr id="712" name="圆角矩形 105"/>
                <p:cNvSpPr/>
                <p:nvPr/>
              </p:nvSpPr>
              <p:spPr>
                <a:xfrm flipH="1">
                  <a:off x="3682080" y="33998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106"/>
                <p:cNvSpPr/>
                <p:nvPr/>
              </p:nvSpPr>
              <p:spPr>
                <a:xfrm flipH="1">
                  <a:off x="3695760" y="3388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组合 124"/>
              <p:cNvGrpSpPr/>
              <p:nvPr/>
            </p:nvGrpSpPr>
            <p:grpSpPr>
              <a:xfrm>
                <a:off x="3622680" y="3269880"/>
                <a:ext cx="326880" cy="136800"/>
                <a:chOff x="3622680" y="3269880"/>
                <a:chExt cx="326880" cy="136800"/>
              </a:xfrm>
            </p:grpSpPr>
            <p:sp>
              <p:nvSpPr>
                <p:cNvPr id="715" name="圆角矩形 107"/>
                <p:cNvSpPr/>
                <p:nvPr/>
              </p:nvSpPr>
              <p:spPr>
                <a:xfrm flipH="1">
                  <a:off x="3622680" y="32810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椭圆 108"/>
                <p:cNvSpPr/>
                <p:nvPr/>
              </p:nvSpPr>
              <p:spPr>
                <a:xfrm flipH="1">
                  <a:off x="3636360" y="32698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"/>
            <p:cNvGrpSpPr/>
            <p:nvPr/>
          </p:nvGrpSpPr>
          <p:grpSpPr>
            <a:xfrm>
              <a:off x="3200400" y="3258720"/>
              <a:ext cx="471960" cy="595800"/>
              <a:chOff x="3200400" y="3258720"/>
              <a:chExt cx="471960" cy="595800"/>
            </a:xfrm>
          </p:grpSpPr>
          <p:grpSp>
            <p:nvGrpSpPr>
              <p:cNvPr id="718" name="组合 175"/>
              <p:cNvGrpSpPr/>
              <p:nvPr/>
            </p:nvGrpSpPr>
            <p:grpSpPr>
              <a:xfrm>
                <a:off x="3345480" y="3717720"/>
                <a:ext cx="326880" cy="136800"/>
                <a:chOff x="3345480" y="3717720"/>
                <a:chExt cx="326880" cy="136800"/>
              </a:xfrm>
            </p:grpSpPr>
            <p:sp>
              <p:nvSpPr>
                <p:cNvPr id="719" name="圆角矩形 188"/>
                <p:cNvSpPr/>
                <p:nvPr/>
              </p:nvSpPr>
              <p:spPr>
                <a:xfrm flipH="1">
                  <a:off x="3345480" y="3728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189"/>
                <p:cNvSpPr/>
                <p:nvPr/>
              </p:nvSpPr>
              <p:spPr>
                <a:xfrm flipH="1">
                  <a:off x="3359160" y="3717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1" name="组合 176"/>
              <p:cNvGrpSpPr/>
              <p:nvPr/>
            </p:nvGrpSpPr>
            <p:grpSpPr>
              <a:xfrm>
                <a:off x="3274920" y="3598560"/>
                <a:ext cx="326880" cy="136800"/>
                <a:chOff x="3274920" y="3598560"/>
                <a:chExt cx="326880" cy="136800"/>
              </a:xfrm>
            </p:grpSpPr>
            <p:sp>
              <p:nvSpPr>
                <p:cNvPr id="722" name="圆角矩形 186"/>
                <p:cNvSpPr/>
                <p:nvPr/>
              </p:nvSpPr>
              <p:spPr>
                <a:xfrm flipH="1">
                  <a:off x="3274920" y="36097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椭圆 187"/>
                <p:cNvSpPr/>
                <p:nvPr/>
              </p:nvSpPr>
              <p:spPr>
                <a:xfrm flipH="1">
                  <a:off x="3288600" y="35985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4" name="组合 177"/>
              <p:cNvGrpSpPr/>
              <p:nvPr/>
            </p:nvGrpSpPr>
            <p:grpSpPr>
              <a:xfrm>
                <a:off x="3325680" y="3480480"/>
                <a:ext cx="326880" cy="136800"/>
                <a:chOff x="3325680" y="3480480"/>
                <a:chExt cx="326880" cy="136800"/>
              </a:xfrm>
            </p:grpSpPr>
            <p:sp>
              <p:nvSpPr>
                <p:cNvPr id="725" name="圆角矩形 184"/>
                <p:cNvSpPr/>
                <p:nvPr/>
              </p:nvSpPr>
              <p:spPr>
                <a:xfrm flipH="1">
                  <a:off x="3325680" y="349164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椭圆 185"/>
                <p:cNvSpPr/>
                <p:nvPr/>
              </p:nvSpPr>
              <p:spPr>
                <a:xfrm flipH="1">
                  <a:off x="3339360" y="34804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7" name="组合 178"/>
              <p:cNvGrpSpPr/>
              <p:nvPr/>
            </p:nvGrpSpPr>
            <p:grpSpPr>
              <a:xfrm>
                <a:off x="3259800" y="3377520"/>
                <a:ext cx="326880" cy="136800"/>
                <a:chOff x="3259800" y="3377520"/>
                <a:chExt cx="326880" cy="136800"/>
              </a:xfrm>
            </p:grpSpPr>
            <p:sp>
              <p:nvSpPr>
                <p:cNvPr id="728" name="圆角矩形 182"/>
                <p:cNvSpPr/>
                <p:nvPr/>
              </p:nvSpPr>
              <p:spPr>
                <a:xfrm flipH="1">
                  <a:off x="3259800" y="33886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椭圆 183"/>
                <p:cNvSpPr/>
                <p:nvPr/>
              </p:nvSpPr>
              <p:spPr>
                <a:xfrm flipH="1">
                  <a:off x="3273480" y="3377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组合 179"/>
              <p:cNvGrpSpPr/>
              <p:nvPr/>
            </p:nvGrpSpPr>
            <p:grpSpPr>
              <a:xfrm>
                <a:off x="3200400" y="3258720"/>
                <a:ext cx="326880" cy="136800"/>
                <a:chOff x="3200400" y="3258720"/>
                <a:chExt cx="326880" cy="136800"/>
              </a:xfrm>
            </p:grpSpPr>
            <p:sp>
              <p:nvSpPr>
                <p:cNvPr id="731" name="圆角矩形 180"/>
                <p:cNvSpPr/>
                <p:nvPr/>
              </p:nvSpPr>
              <p:spPr>
                <a:xfrm flipH="1">
                  <a:off x="3200400" y="326988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椭圆 181"/>
                <p:cNvSpPr/>
                <p:nvPr/>
              </p:nvSpPr>
              <p:spPr>
                <a:xfrm flipH="1">
                  <a:off x="3214080" y="32587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3" name="组合 190"/>
            <p:cNvGrpSpPr/>
            <p:nvPr/>
          </p:nvGrpSpPr>
          <p:grpSpPr>
            <a:xfrm>
              <a:off x="4011120" y="3254400"/>
              <a:ext cx="471960" cy="595800"/>
              <a:chOff x="4011120" y="3254400"/>
              <a:chExt cx="471960" cy="595800"/>
            </a:xfrm>
          </p:grpSpPr>
          <p:grpSp>
            <p:nvGrpSpPr>
              <p:cNvPr id="734" name="组合 191"/>
              <p:cNvGrpSpPr/>
              <p:nvPr/>
            </p:nvGrpSpPr>
            <p:grpSpPr>
              <a:xfrm>
                <a:off x="4156200" y="3713400"/>
                <a:ext cx="326880" cy="136800"/>
                <a:chOff x="4156200" y="3713400"/>
                <a:chExt cx="326880" cy="136800"/>
              </a:xfrm>
            </p:grpSpPr>
            <p:sp>
              <p:nvSpPr>
                <p:cNvPr id="735" name="圆角矩形 204"/>
                <p:cNvSpPr/>
                <p:nvPr/>
              </p:nvSpPr>
              <p:spPr>
                <a:xfrm flipH="1">
                  <a:off x="4156200" y="3724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椭圆 205"/>
                <p:cNvSpPr/>
                <p:nvPr/>
              </p:nvSpPr>
              <p:spPr>
                <a:xfrm flipH="1">
                  <a:off x="4169880" y="3713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组合 192"/>
              <p:cNvGrpSpPr/>
              <p:nvPr/>
            </p:nvGrpSpPr>
            <p:grpSpPr>
              <a:xfrm>
                <a:off x="4085640" y="3594240"/>
                <a:ext cx="326880" cy="136800"/>
                <a:chOff x="4085640" y="3594240"/>
                <a:chExt cx="326880" cy="136800"/>
              </a:xfrm>
            </p:grpSpPr>
            <p:sp>
              <p:nvSpPr>
                <p:cNvPr id="738" name="圆角矩形 202"/>
                <p:cNvSpPr/>
                <p:nvPr/>
              </p:nvSpPr>
              <p:spPr>
                <a:xfrm flipH="1">
                  <a:off x="4085640" y="360540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椭圆 203"/>
                <p:cNvSpPr/>
                <p:nvPr/>
              </p:nvSpPr>
              <p:spPr>
                <a:xfrm flipH="1">
                  <a:off x="4099320" y="35942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组合 193"/>
              <p:cNvGrpSpPr/>
              <p:nvPr/>
            </p:nvGrpSpPr>
            <p:grpSpPr>
              <a:xfrm>
                <a:off x="4136400" y="3476160"/>
                <a:ext cx="326880" cy="136800"/>
                <a:chOff x="4136400" y="3476160"/>
                <a:chExt cx="326880" cy="136800"/>
              </a:xfrm>
            </p:grpSpPr>
            <p:sp>
              <p:nvSpPr>
                <p:cNvPr id="741" name="圆角矩形 200"/>
                <p:cNvSpPr/>
                <p:nvPr/>
              </p:nvSpPr>
              <p:spPr>
                <a:xfrm flipH="1">
                  <a:off x="4136400" y="348732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椭圆 201"/>
                <p:cNvSpPr/>
                <p:nvPr/>
              </p:nvSpPr>
              <p:spPr>
                <a:xfrm flipH="1">
                  <a:off x="4150080" y="34761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94"/>
              <p:cNvGrpSpPr/>
              <p:nvPr/>
            </p:nvGrpSpPr>
            <p:grpSpPr>
              <a:xfrm>
                <a:off x="4070520" y="3373200"/>
                <a:ext cx="326880" cy="136800"/>
                <a:chOff x="4070520" y="3373200"/>
                <a:chExt cx="326880" cy="136800"/>
              </a:xfrm>
            </p:grpSpPr>
            <p:sp>
              <p:nvSpPr>
                <p:cNvPr id="744" name="圆角矩形 198"/>
                <p:cNvSpPr/>
                <p:nvPr/>
              </p:nvSpPr>
              <p:spPr>
                <a:xfrm flipH="1">
                  <a:off x="4070520" y="33843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椭圆 199"/>
                <p:cNvSpPr/>
                <p:nvPr/>
              </p:nvSpPr>
              <p:spPr>
                <a:xfrm flipH="1">
                  <a:off x="4084200" y="33732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组合 195"/>
              <p:cNvGrpSpPr/>
              <p:nvPr/>
            </p:nvGrpSpPr>
            <p:grpSpPr>
              <a:xfrm>
                <a:off x="4011120" y="3254400"/>
                <a:ext cx="326880" cy="136800"/>
                <a:chOff x="4011120" y="3254400"/>
                <a:chExt cx="326880" cy="136800"/>
              </a:xfrm>
            </p:grpSpPr>
            <p:sp>
              <p:nvSpPr>
                <p:cNvPr id="747" name="圆角矩形 196"/>
                <p:cNvSpPr/>
                <p:nvPr/>
              </p:nvSpPr>
              <p:spPr>
                <a:xfrm flipH="1">
                  <a:off x="4011120" y="3265560"/>
                  <a:ext cx="32688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0000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椭圆 197"/>
                <p:cNvSpPr/>
                <p:nvPr/>
              </p:nvSpPr>
              <p:spPr>
                <a:xfrm flipH="1">
                  <a:off x="4024800" y="325440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49" name="组合 224"/>
          <p:cNvGrpSpPr/>
          <p:nvPr/>
        </p:nvGrpSpPr>
        <p:grpSpPr>
          <a:xfrm>
            <a:off x="4998960" y="4260960"/>
            <a:ext cx="928800" cy="595080"/>
            <a:chOff x="4998960" y="4260960"/>
            <a:chExt cx="928800" cy="595080"/>
          </a:xfrm>
        </p:grpSpPr>
        <p:grpSp>
          <p:nvGrpSpPr>
            <p:cNvPr id="750" name="组合 223"/>
            <p:cNvGrpSpPr/>
            <p:nvPr/>
          </p:nvGrpSpPr>
          <p:grpSpPr>
            <a:xfrm>
              <a:off x="4998960" y="4260960"/>
              <a:ext cx="472680" cy="595080"/>
              <a:chOff x="4998960" y="4260960"/>
              <a:chExt cx="472680" cy="595080"/>
            </a:xfrm>
          </p:grpSpPr>
          <p:grpSp>
            <p:nvGrpSpPr>
              <p:cNvPr id="751" name="组合 123"/>
              <p:cNvGrpSpPr/>
              <p:nvPr/>
            </p:nvGrpSpPr>
            <p:grpSpPr>
              <a:xfrm>
                <a:off x="5144040" y="4719240"/>
                <a:ext cx="327600" cy="136800"/>
                <a:chOff x="5144040" y="4719240"/>
                <a:chExt cx="327600" cy="136800"/>
              </a:xfrm>
            </p:grpSpPr>
            <p:sp>
              <p:nvSpPr>
                <p:cNvPr id="752" name="圆角矩形 109"/>
                <p:cNvSpPr/>
                <p:nvPr/>
              </p:nvSpPr>
              <p:spPr>
                <a:xfrm flipH="1">
                  <a:off x="5144040" y="47304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椭圆 110"/>
                <p:cNvSpPr/>
                <p:nvPr/>
              </p:nvSpPr>
              <p:spPr>
                <a:xfrm flipH="1">
                  <a:off x="5157720" y="47192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22"/>
              <p:cNvGrpSpPr/>
              <p:nvPr/>
            </p:nvGrpSpPr>
            <p:grpSpPr>
              <a:xfrm>
                <a:off x="5073480" y="4600440"/>
                <a:ext cx="327600" cy="136800"/>
                <a:chOff x="5073480" y="4600440"/>
                <a:chExt cx="327600" cy="136800"/>
              </a:xfrm>
            </p:grpSpPr>
            <p:sp>
              <p:nvSpPr>
                <p:cNvPr id="755" name="圆角矩形 111"/>
                <p:cNvSpPr/>
                <p:nvPr/>
              </p:nvSpPr>
              <p:spPr>
                <a:xfrm flipH="1">
                  <a:off x="5073480" y="461160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椭圆 112"/>
                <p:cNvSpPr/>
                <p:nvPr/>
              </p:nvSpPr>
              <p:spPr>
                <a:xfrm flipH="1">
                  <a:off x="5087160" y="460044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7" name="组合 121"/>
              <p:cNvGrpSpPr/>
              <p:nvPr/>
            </p:nvGrpSpPr>
            <p:grpSpPr>
              <a:xfrm>
                <a:off x="5124600" y="4482360"/>
                <a:ext cx="327600" cy="136800"/>
                <a:chOff x="5124600" y="4482360"/>
                <a:chExt cx="327600" cy="136800"/>
              </a:xfrm>
            </p:grpSpPr>
            <p:sp>
              <p:nvSpPr>
                <p:cNvPr id="758" name="圆角矩形 113"/>
                <p:cNvSpPr/>
                <p:nvPr/>
              </p:nvSpPr>
              <p:spPr>
                <a:xfrm flipH="1">
                  <a:off x="5124600" y="44935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椭圆 114"/>
                <p:cNvSpPr/>
                <p:nvPr/>
              </p:nvSpPr>
              <p:spPr>
                <a:xfrm flipH="1">
                  <a:off x="5138280" y="44823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组合 120"/>
              <p:cNvGrpSpPr/>
              <p:nvPr/>
            </p:nvGrpSpPr>
            <p:grpSpPr>
              <a:xfrm>
                <a:off x="5058360" y="4379760"/>
                <a:ext cx="327600" cy="136800"/>
                <a:chOff x="5058360" y="4379760"/>
                <a:chExt cx="327600" cy="136800"/>
              </a:xfrm>
            </p:grpSpPr>
            <p:sp>
              <p:nvSpPr>
                <p:cNvPr id="761" name="圆角矩形 115"/>
                <p:cNvSpPr/>
                <p:nvPr/>
              </p:nvSpPr>
              <p:spPr>
                <a:xfrm flipH="1">
                  <a:off x="5058360" y="43909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椭圆 116"/>
                <p:cNvSpPr/>
                <p:nvPr/>
              </p:nvSpPr>
              <p:spPr>
                <a:xfrm flipH="1">
                  <a:off x="5072040" y="43797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组合 119"/>
              <p:cNvGrpSpPr/>
              <p:nvPr/>
            </p:nvGrpSpPr>
            <p:grpSpPr>
              <a:xfrm>
                <a:off x="4998960" y="4260960"/>
                <a:ext cx="327600" cy="136800"/>
                <a:chOff x="4998960" y="4260960"/>
                <a:chExt cx="327600" cy="136800"/>
              </a:xfrm>
            </p:grpSpPr>
            <p:sp>
              <p:nvSpPr>
                <p:cNvPr id="764" name="圆角矩形 117"/>
                <p:cNvSpPr/>
                <p:nvPr/>
              </p:nvSpPr>
              <p:spPr>
                <a:xfrm flipH="1">
                  <a:off x="4998960" y="427212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椭圆 118"/>
                <p:cNvSpPr/>
                <p:nvPr/>
              </p:nvSpPr>
              <p:spPr>
                <a:xfrm flipH="1">
                  <a:off x="5012640" y="426096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6" name="组合 222"/>
            <p:cNvGrpSpPr/>
            <p:nvPr/>
          </p:nvGrpSpPr>
          <p:grpSpPr>
            <a:xfrm>
              <a:off x="5514480" y="4354200"/>
              <a:ext cx="413280" cy="476280"/>
              <a:chOff x="5514480" y="4354200"/>
              <a:chExt cx="413280" cy="476280"/>
            </a:xfrm>
          </p:grpSpPr>
          <p:grpSp>
            <p:nvGrpSpPr>
              <p:cNvPr id="767" name="组合 207"/>
              <p:cNvGrpSpPr/>
              <p:nvPr/>
            </p:nvGrpSpPr>
            <p:grpSpPr>
              <a:xfrm>
                <a:off x="5600160" y="4693680"/>
                <a:ext cx="327600" cy="136800"/>
                <a:chOff x="5600160" y="4693680"/>
                <a:chExt cx="327600" cy="136800"/>
              </a:xfrm>
            </p:grpSpPr>
            <p:sp>
              <p:nvSpPr>
                <p:cNvPr id="768" name="圆角矩形 208"/>
                <p:cNvSpPr/>
                <p:nvPr/>
              </p:nvSpPr>
              <p:spPr>
                <a:xfrm flipH="1">
                  <a:off x="5600160" y="47048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椭圆 209"/>
                <p:cNvSpPr/>
                <p:nvPr/>
              </p:nvSpPr>
              <p:spPr>
                <a:xfrm flipH="1">
                  <a:off x="561384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组合 210"/>
              <p:cNvGrpSpPr/>
              <p:nvPr/>
            </p:nvGrpSpPr>
            <p:grpSpPr>
              <a:xfrm>
                <a:off x="5529600" y="4574880"/>
                <a:ext cx="327600" cy="136800"/>
                <a:chOff x="5529600" y="4574880"/>
                <a:chExt cx="327600" cy="136800"/>
              </a:xfrm>
            </p:grpSpPr>
            <p:sp>
              <p:nvSpPr>
                <p:cNvPr id="771" name="圆角矩形 211"/>
                <p:cNvSpPr/>
                <p:nvPr/>
              </p:nvSpPr>
              <p:spPr>
                <a:xfrm flipH="1">
                  <a:off x="5529600" y="458604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椭圆 212"/>
                <p:cNvSpPr/>
                <p:nvPr/>
              </p:nvSpPr>
              <p:spPr>
                <a:xfrm flipH="1">
                  <a:off x="554328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3" name="组合 213"/>
              <p:cNvGrpSpPr/>
              <p:nvPr/>
            </p:nvGrpSpPr>
            <p:grpSpPr>
              <a:xfrm>
                <a:off x="5580360" y="4456800"/>
                <a:ext cx="327600" cy="136800"/>
                <a:chOff x="5580360" y="4456800"/>
                <a:chExt cx="327600" cy="136800"/>
              </a:xfrm>
            </p:grpSpPr>
            <p:sp>
              <p:nvSpPr>
                <p:cNvPr id="774" name="圆角矩形 214"/>
                <p:cNvSpPr/>
                <p:nvPr/>
              </p:nvSpPr>
              <p:spPr>
                <a:xfrm flipH="1">
                  <a:off x="5580360" y="44679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椭圆 215"/>
                <p:cNvSpPr/>
                <p:nvPr/>
              </p:nvSpPr>
              <p:spPr>
                <a:xfrm flipH="1">
                  <a:off x="559404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6" name="组合 216"/>
              <p:cNvGrpSpPr/>
              <p:nvPr/>
            </p:nvGrpSpPr>
            <p:grpSpPr>
              <a:xfrm>
                <a:off x="5514480" y="4354200"/>
                <a:ext cx="327600" cy="136800"/>
                <a:chOff x="5514480" y="4354200"/>
                <a:chExt cx="327600" cy="136800"/>
              </a:xfrm>
            </p:grpSpPr>
            <p:sp>
              <p:nvSpPr>
                <p:cNvPr id="777" name="圆角矩形 217"/>
                <p:cNvSpPr/>
                <p:nvPr/>
              </p:nvSpPr>
              <p:spPr>
                <a:xfrm flipH="1">
                  <a:off x="5514480" y="4365360"/>
                  <a:ext cx="327600" cy="125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2b800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椭圆 218"/>
                <p:cNvSpPr/>
                <p:nvPr/>
              </p:nvSpPr>
              <p:spPr>
                <a:xfrm flipH="1">
                  <a:off x="552816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2b8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79" name="组合 259"/>
          <p:cNvGrpSpPr/>
          <p:nvPr/>
        </p:nvGrpSpPr>
        <p:grpSpPr>
          <a:xfrm>
            <a:off x="6413400" y="4873680"/>
            <a:ext cx="917280" cy="584280"/>
            <a:chOff x="6413400" y="4873680"/>
            <a:chExt cx="917280" cy="584280"/>
          </a:xfrm>
        </p:grpSpPr>
        <p:grpSp>
          <p:nvGrpSpPr>
            <p:cNvPr id="780" name="组合 258"/>
            <p:cNvGrpSpPr/>
            <p:nvPr/>
          </p:nvGrpSpPr>
          <p:grpSpPr>
            <a:xfrm>
              <a:off x="6933240" y="5207760"/>
              <a:ext cx="397440" cy="250200"/>
              <a:chOff x="6933240" y="5207760"/>
              <a:chExt cx="397440" cy="250200"/>
            </a:xfrm>
          </p:grpSpPr>
          <p:grpSp>
            <p:nvGrpSpPr>
              <p:cNvPr id="781" name="组合 243"/>
              <p:cNvGrpSpPr/>
              <p:nvPr/>
            </p:nvGrpSpPr>
            <p:grpSpPr>
              <a:xfrm>
                <a:off x="7003440" y="5321520"/>
                <a:ext cx="327240" cy="136440"/>
                <a:chOff x="7003440" y="5321520"/>
                <a:chExt cx="327240" cy="136440"/>
              </a:xfrm>
            </p:grpSpPr>
            <p:sp>
              <p:nvSpPr>
                <p:cNvPr id="782" name="圆角矩形 256"/>
                <p:cNvSpPr/>
                <p:nvPr/>
              </p:nvSpPr>
              <p:spPr>
                <a:xfrm flipH="1">
                  <a:off x="7003080" y="533268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椭圆 257"/>
                <p:cNvSpPr/>
                <p:nvPr/>
              </p:nvSpPr>
              <p:spPr>
                <a:xfrm flipH="1">
                  <a:off x="7017840" y="532152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组合 244"/>
              <p:cNvGrpSpPr/>
              <p:nvPr/>
            </p:nvGrpSpPr>
            <p:grpSpPr>
              <a:xfrm>
                <a:off x="6933240" y="5207760"/>
                <a:ext cx="327240" cy="136440"/>
                <a:chOff x="6933240" y="5207760"/>
                <a:chExt cx="327240" cy="136440"/>
              </a:xfrm>
            </p:grpSpPr>
            <p:sp>
              <p:nvSpPr>
                <p:cNvPr id="785" name="圆角矩形 254"/>
                <p:cNvSpPr/>
                <p:nvPr/>
              </p:nvSpPr>
              <p:spPr>
                <a:xfrm flipH="1">
                  <a:off x="6932880" y="5218920"/>
                  <a:ext cx="32724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椭圆 255"/>
                <p:cNvSpPr/>
                <p:nvPr/>
              </p:nvSpPr>
              <p:spPr>
                <a:xfrm flipH="1">
                  <a:off x="6947640" y="5207760"/>
                  <a:ext cx="30384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7" name="组合 227"/>
            <p:cNvGrpSpPr/>
            <p:nvPr/>
          </p:nvGrpSpPr>
          <p:grpSpPr>
            <a:xfrm>
              <a:off x="6413400" y="4873680"/>
              <a:ext cx="471960" cy="584280"/>
              <a:chOff x="6413400" y="4873680"/>
              <a:chExt cx="471960" cy="584280"/>
            </a:xfrm>
          </p:grpSpPr>
          <p:grpSp>
            <p:nvGrpSpPr>
              <p:cNvPr id="788" name="组合 228"/>
              <p:cNvGrpSpPr/>
              <p:nvPr/>
            </p:nvGrpSpPr>
            <p:grpSpPr>
              <a:xfrm>
                <a:off x="6558480" y="5321520"/>
                <a:ext cx="326880" cy="136440"/>
                <a:chOff x="6558480" y="5321520"/>
                <a:chExt cx="326880" cy="136440"/>
              </a:xfrm>
            </p:grpSpPr>
            <p:sp>
              <p:nvSpPr>
                <p:cNvPr id="789" name="圆角矩形 241"/>
                <p:cNvSpPr/>
                <p:nvPr/>
              </p:nvSpPr>
              <p:spPr>
                <a:xfrm flipH="1">
                  <a:off x="6558480" y="533268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椭圆 242"/>
                <p:cNvSpPr/>
                <p:nvPr/>
              </p:nvSpPr>
              <p:spPr>
                <a:xfrm flipH="1">
                  <a:off x="6572520" y="532152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1" name="组合 229"/>
              <p:cNvGrpSpPr/>
              <p:nvPr/>
            </p:nvGrpSpPr>
            <p:grpSpPr>
              <a:xfrm>
                <a:off x="6487920" y="5207760"/>
                <a:ext cx="326880" cy="136440"/>
                <a:chOff x="6487920" y="5207760"/>
                <a:chExt cx="326880" cy="136440"/>
              </a:xfrm>
            </p:grpSpPr>
            <p:sp>
              <p:nvSpPr>
                <p:cNvPr id="792" name="圆角矩形 239"/>
                <p:cNvSpPr/>
                <p:nvPr/>
              </p:nvSpPr>
              <p:spPr>
                <a:xfrm flipH="1">
                  <a:off x="6487920" y="521892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椭圆 240"/>
                <p:cNvSpPr/>
                <p:nvPr/>
              </p:nvSpPr>
              <p:spPr>
                <a:xfrm flipH="1">
                  <a:off x="6501960" y="520776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4" name="组合 230"/>
              <p:cNvGrpSpPr/>
              <p:nvPr/>
            </p:nvGrpSpPr>
            <p:grpSpPr>
              <a:xfrm>
                <a:off x="6538680" y="5089680"/>
                <a:ext cx="326880" cy="136440"/>
                <a:chOff x="6538680" y="5089680"/>
                <a:chExt cx="326880" cy="136440"/>
              </a:xfrm>
            </p:grpSpPr>
            <p:sp>
              <p:nvSpPr>
                <p:cNvPr id="795" name="圆角矩形 237"/>
                <p:cNvSpPr/>
                <p:nvPr/>
              </p:nvSpPr>
              <p:spPr>
                <a:xfrm flipH="1">
                  <a:off x="6538680" y="5100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椭圆 238"/>
                <p:cNvSpPr/>
                <p:nvPr/>
              </p:nvSpPr>
              <p:spPr>
                <a:xfrm flipH="1">
                  <a:off x="6552720" y="5089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组合 231"/>
              <p:cNvGrpSpPr/>
              <p:nvPr/>
            </p:nvGrpSpPr>
            <p:grpSpPr>
              <a:xfrm>
                <a:off x="6472800" y="4987440"/>
                <a:ext cx="326880" cy="136440"/>
                <a:chOff x="6472800" y="4987440"/>
                <a:chExt cx="326880" cy="136440"/>
              </a:xfrm>
            </p:grpSpPr>
            <p:sp>
              <p:nvSpPr>
                <p:cNvPr id="798" name="圆角矩形 235"/>
                <p:cNvSpPr/>
                <p:nvPr/>
              </p:nvSpPr>
              <p:spPr>
                <a:xfrm flipH="1">
                  <a:off x="6472800" y="499860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椭圆 236"/>
                <p:cNvSpPr/>
                <p:nvPr/>
              </p:nvSpPr>
              <p:spPr>
                <a:xfrm flipH="1">
                  <a:off x="6486840" y="498744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0" name="组合 232"/>
              <p:cNvGrpSpPr/>
              <p:nvPr/>
            </p:nvGrpSpPr>
            <p:grpSpPr>
              <a:xfrm>
                <a:off x="6413400" y="4873680"/>
                <a:ext cx="326880" cy="136440"/>
                <a:chOff x="6413400" y="4873680"/>
                <a:chExt cx="326880" cy="136440"/>
              </a:xfrm>
            </p:grpSpPr>
            <p:sp>
              <p:nvSpPr>
                <p:cNvPr id="801" name="圆角矩形 233"/>
                <p:cNvSpPr/>
                <p:nvPr/>
              </p:nvSpPr>
              <p:spPr>
                <a:xfrm flipH="1">
                  <a:off x="6413400" y="4884840"/>
                  <a:ext cx="32688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8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椭圆 234"/>
                <p:cNvSpPr/>
                <p:nvPr/>
              </p:nvSpPr>
              <p:spPr>
                <a:xfrm flipH="1">
                  <a:off x="6427440" y="4873680"/>
                  <a:ext cx="30348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b8007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03" name="组合 296"/>
          <p:cNvGrpSpPr/>
          <p:nvPr/>
        </p:nvGrpSpPr>
        <p:grpSpPr>
          <a:xfrm>
            <a:off x="7670880" y="4235400"/>
            <a:ext cx="944640" cy="608040"/>
            <a:chOff x="7670880" y="4235400"/>
            <a:chExt cx="944640" cy="608040"/>
          </a:xfrm>
        </p:grpSpPr>
        <p:grpSp>
          <p:nvGrpSpPr>
            <p:cNvPr id="804" name="组合 261"/>
            <p:cNvGrpSpPr/>
            <p:nvPr/>
          </p:nvGrpSpPr>
          <p:grpSpPr>
            <a:xfrm>
              <a:off x="7670880" y="4248720"/>
              <a:ext cx="472680" cy="594720"/>
              <a:chOff x="7670880" y="4248720"/>
              <a:chExt cx="472680" cy="594720"/>
            </a:xfrm>
          </p:grpSpPr>
          <p:grpSp>
            <p:nvGrpSpPr>
              <p:cNvPr id="805" name="组合 281"/>
              <p:cNvGrpSpPr/>
              <p:nvPr/>
            </p:nvGrpSpPr>
            <p:grpSpPr>
              <a:xfrm>
                <a:off x="7815960" y="4707000"/>
                <a:ext cx="327600" cy="136440"/>
                <a:chOff x="7815960" y="4707000"/>
                <a:chExt cx="327600" cy="136440"/>
              </a:xfrm>
            </p:grpSpPr>
            <p:sp>
              <p:nvSpPr>
                <p:cNvPr id="806" name="圆角矩形 294"/>
                <p:cNvSpPr/>
                <p:nvPr/>
              </p:nvSpPr>
              <p:spPr>
                <a:xfrm flipH="1">
                  <a:off x="7815960" y="47181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椭圆 295"/>
                <p:cNvSpPr/>
                <p:nvPr/>
              </p:nvSpPr>
              <p:spPr>
                <a:xfrm flipH="1">
                  <a:off x="7829640" y="47070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8" name="组合 282"/>
              <p:cNvGrpSpPr/>
              <p:nvPr/>
            </p:nvGrpSpPr>
            <p:grpSpPr>
              <a:xfrm>
                <a:off x="7745400" y="4588200"/>
                <a:ext cx="327600" cy="136440"/>
                <a:chOff x="7745400" y="4588200"/>
                <a:chExt cx="327600" cy="136440"/>
              </a:xfrm>
            </p:grpSpPr>
            <p:sp>
              <p:nvSpPr>
                <p:cNvPr id="809" name="圆角矩形 292"/>
                <p:cNvSpPr/>
                <p:nvPr/>
              </p:nvSpPr>
              <p:spPr>
                <a:xfrm flipH="1">
                  <a:off x="7745400" y="4599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椭圆 293"/>
                <p:cNvSpPr/>
                <p:nvPr/>
              </p:nvSpPr>
              <p:spPr>
                <a:xfrm flipH="1">
                  <a:off x="7759080" y="4588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1" name="组合 283"/>
              <p:cNvGrpSpPr/>
              <p:nvPr/>
            </p:nvGrpSpPr>
            <p:grpSpPr>
              <a:xfrm>
                <a:off x="7796520" y="4470120"/>
                <a:ext cx="327600" cy="136440"/>
                <a:chOff x="7796520" y="4470120"/>
                <a:chExt cx="327600" cy="136440"/>
              </a:xfrm>
            </p:grpSpPr>
            <p:sp>
              <p:nvSpPr>
                <p:cNvPr id="812" name="圆角矩形 290"/>
                <p:cNvSpPr/>
                <p:nvPr/>
              </p:nvSpPr>
              <p:spPr>
                <a:xfrm flipH="1">
                  <a:off x="7796520" y="44812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椭圆 291"/>
                <p:cNvSpPr/>
                <p:nvPr/>
              </p:nvSpPr>
              <p:spPr>
                <a:xfrm flipH="1">
                  <a:off x="7810200" y="44701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4" name="组合 284"/>
              <p:cNvGrpSpPr/>
              <p:nvPr/>
            </p:nvGrpSpPr>
            <p:grpSpPr>
              <a:xfrm>
                <a:off x="7730280" y="4367520"/>
                <a:ext cx="327600" cy="136440"/>
                <a:chOff x="7730280" y="4367520"/>
                <a:chExt cx="327600" cy="136440"/>
              </a:xfrm>
            </p:grpSpPr>
            <p:sp>
              <p:nvSpPr>
                <p:cNvPr id="815" name="圆角矩形 288"/>
                <p:cNvSpPr/>
                <p:nvPr/>
              </p:nvSpPr>
              <p:spPr>
                <a:xfrm flipH="1">
                  <a:off x="7730280" y="43786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椭圆 289"/>
                <p:cNvSpPr/>
                <p:nvPr/>
              </p:nvSpPr>
              <p:spPr>
                <a:xfrm flipH="1">
                  <a:off x="7743960" y="43675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组合 285"/>
              <p:cNvGrpSpPr/>
              <p:nvPr/>
            </p:nvGrpSpPr>
            <p:grpSpPr>
              <a:xfrm>
                <a:off x="7670880" y="4248720"/>
                <a:ext cx="327600" cy="136440"/>
                <a:chOff x="7670880" y="4248720"/>
                <a:chExt cx="327600" cy="136440"/>
              </a:xfrm>
            </p:grpSpPr>
            <p:sp>
              <p:nvSpPr>
                <p:cNvPr id="818" name="圆角矩形 286"/>
                <p:cNvSpPr/>
                <p:nvPr/>
              </p:nvSpPr>
              <p:spPr>
                <a:xfrm flipH="1">
                  <a:off x="7670880" y="425988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椭圆 287"/>
                <p:cNvSpPr/>
                <p:nvPr/>
              </p:nvSpPr>
              <p:spPr>
                <a:xfrm flipH="1">
                  <a:off x="7684560" y="424872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0" name="组合 263"/>
            <p:cNvGrpSpPr/>
            <p:nvPr/>
          </p:nvGrpSpPr>
          <p:grpSpPr>
            <a:xfrm>
              <a:off x="8142840" y="4235400"/>
              <a:ext cx="472680" cy="594720"/>
              <a:chOff x="8142840" y="4235400"/>
              <a:chExt cx="472680" cy="594720"/>
            </a:xfrm>
          </p:grpSpPr>
          <p:grpSp>
            <p:nvGrpSpPr>
              <p:cNvPr id="821" name="组合 264"/>
              <p:cNvGrpSpPr/>
              <p:nvPr/>
            </p:nvGrpSpPr>
            <p:grpSpPr>
              <a:xfrm>
                <a:off x="8287920" y="4693680"/>
                <a:ext cx="327600" cy="136440"/>
                <a:chOff x="8287920" y="4693680"/>
                <a:chExt cx="327600" cy="136440"/>
              </a:xfrm>
            </p:grpSpPr>
            <p:sp>
              <p:nvSpPr>
                <p:cNvPr id="822" name="圆角矩形 277"/>
                <p:cNvSpPr/>
                <p:nvPr/>
              </p:nvSpPr>
              <p:spPr>
                <a:xfrm flipH="1">
                  <a:off x="8287920" y="47048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椭圆 278"/>
                <p:cNvSpPr/>
                <p:nvPr/>
              </p:nvSpPr>
              <p:spPr>
                <a:xfrm flipH="1">
                  <a:off x="8301600" y="46936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组合 265"/>
              <p:cNvGrpSpPr/>
              <p:nvPr/>
            </p:nvGrpSpPr>
            <p:grpSpPr>
              <a:xfrm>
                <a:off x="8217360" y="4574880"/>
                <a:ext cx="327600" cy="136440"/>
                <a:chOff x="8217360" y="4574880"/>
                <a:chExt cx="327600" cy="136440"/>
              </a:xfrm>
            </p:grpSpPr>
            <p:sp>
              <p:nvSpPr>
                <p:cNvPr id="825" name="圆角矩形 275"/>
                <p:cNvSpPr/>
                <p:nvPr/>
              </p:nvSpPr>
              <p:spPr>
                <a:xfrm flipH="1">
                  <a:off x="8217360" y="458604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椭圆 276"/>
                <p:cNvSpPr/>
                <p:nvPr/>
              </p:nvSpPr>
              <p:spPr>
                <a:xfrm flipH="1">
                  <a:off x="8231040" y="457488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组合 266"/>
              <p:cNvGrpSpPr/>
              <p:nvPr/>
            </p:nvGrpSpPr>
            <p:grpSpPr>
              <a:xfrm>
                <a:off x="8268480" y="4456800"/>
                <a:ext cx="327600" cy="136440"/>
                <a:chOff x="8268480" y="4456800"/>
                <a:chExt cx="327600" cy="136440"/>
              </a:xfrm>
            </p:grpSpPr>
            <p:sp>
              <p:nvSpPr>
                <p:cNvPr id="828" name="圆角矩形 273"/>
                <p:cNvSpPr/>
                <p:nvPr/>
              </p:nvSpPr>
              <p:spPr>
                <a:xfrm flipH="1">
                  <a:off x="8268480" y="44679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椭圆 274"/>
                <p:cNvSpPr/>
                <p:nvPr/>
              </p:nvSpPr>
              <p:spPr>
                <a:xfrm flipH="1">
                  <a:off x="8282160" y="44568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0" name="组合 267"/>
              <p:cNvGrpSpPr/>
              <p:nvPr/>
            </p:nvGrpSpPr>
            <p:grpSpPr>
              <a:xfrm>
                <a:off x="8202240" y="4354200"/>
                <a:ext cx="327600" cy="136440"/>
                <a:chOff x="8202240" y="4354200"/>
                <a:chExt cx="327600" cy="136440"/>
              </a:xfrm>
            </p:grpSpPr>
            <p:sp>
              <p:nvSpPr>
                <p:cNvPr id="831" name="圆角矩形 271"/>
                <p:cNvSpPr/>
                <p:nvPr/>
              </p:nvSpPr>
              <p:spPr>
                <a:xfrm flipH="1">
                  <a:off x="8202240" y="43653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椭圆 272"/>
                <p:cNvSpPr/>
                <p:nvPr/>
              </p:nvSpPr>
              <p:spPr>
                <a:xfrm flipH="1">
                  <a:off x="8215920" y="43542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3" name="组合 268"/>
              <p:cNvGrpSpPr/>
              <p:nvPr/>
            </p:nvGrpSpPr>
            <p:grpSpPr>
              <a:xfrm>
                <a:off x="8142840" y="4235400"/>
                <a:ext cx="327600" cy="136440"/>
                <a:chOff x="8142840" y="4235400"/>
                <a:chExt cx="327600" cy="136440"/>
              </a:xfrm>
            </p:grpSpPr>
            <p:sp>
              <p:nvSpPr>
                <p:cNvPr id="834" name="圆角矩形 269"/>
                <p:cNvSpPr/>
                <p:nvPr/>
              </p:nvSpPr>
              <p:spPr>
                <a:xfrm flipH="1">
                  <a:off x="8142840" y="4246560"/>
                  <a:ext cx="327600" cy="1252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b1b5e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椭圆 270"/>
                <p:cNvSpPr/>
                <p:nvPr/>
              </p:nvSpPr>
              <p:spPr>
                <a:xfrm flipH="1">
                  <a:off x="8156520" y="4235400"/>
                  <a:ext cx="304200" cy="3456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cb1b5e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6" name="组合 400"/>
          <p:cNvGrpSpPr/>
          <p:nvPr/>
        </p:nvGrpSpPr>
        <p:grpSpPr>
          <a:xfrm>
            <a:off x="9105480" y="5345280"/>
            <a:ext cx="398520" cy="255600"/>
            <a:chOff x="9105480" y="5345280"/>
            <a:chExt cx="398520" cy="255600"/>
          </a:xfrm>
        </p:grpSpPr>
        <p:grpSp>
          <p:nvGrpSpPr>
            <p:cNvPr id="837" name="组合 316"/>
            <p:cNvGrpSpPr/>
            <p:nvPr/>
          </p:nvGrpSpPr>
          <p:grpSpPr>
            <a:xfrm>
              <a:off x="9176040" y="5464080"/>
              <a:ext cx="327960" cy="136800"/>
              <a:chOff x="9176040" y="5464080"/>
              <a:chExt cx="327960" cy="136800"/>
            </a:xfrm>
          </p:grpSpPr>
          <p:sp>
            <p:nvSpPr>
              <p:cNvPr id="838" name="圆角矩形 329"/>
              <p:cNvSpPr/>
              <p:nvPr/>
            </p:nvSpPr>
            <p:spPr>
              <a:xfrm flipH="1">
                <a:off x="9175680" y="54752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椭圆 330"/>
              <p:cNvSpPr/>
              <p:nvPr/>
            </p:nvSpPr>
            <p:spPr>
              <a:xfrm flipH="1">
                <a:off x="9190800" y="54640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0" name="组合 317"/>
            <p:cNvGrpSpPr/>
            <p:nvPr/>
          </p:nvGrpSpPr>
          <p:grpSpPr>
            <a:xfrm>
              <a:off x="9105480" y="5345280"/>
              <a:ext cx="327960" cy="136800"/>
              <a:chOff x="9105480" y="5345280"/>
              <a:chExt cx="327960" cy="136800"/>
            </a:xfrm>
          </p:grpSpPr>
          <p:sp>
            <p:nvSpPr>
              <p:cNvPr id="841" name="圆角矩形 327"/>
              <p:cNvSpPr/>
              <p:nvPr/>
            </p:nvSpPr>
            <p:spPr>
              <a:xfrm flipH="1">
                <a:off x="9105120" y="5356440"/>
                <a:ext cx="327960" cy="12564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椭圆 328"/>
              <p:cNvSpPr/>
              <p:nvPr/>
            </p:nvSpPr>
            <p:spPr>
              <a:xfrm flipH="1">
                <a:off x="9120240" y="5345280"/>
                <a:ext cx="304560" cy="34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c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组合 361"/>
          <p:cNvGrpSpPr/>
          <p:nvPr/>
        </p:nvGrpSpPr>
        <p:grpSpPr>
          <a:xfrm>
            <a:off x="10067400" y="5646600"/>
            <a:ext cx="327240" cy="136800"/>
            <a:chOff x="10067400" y="5646600"/>
            <a:chExt cx="327240" cy="136800"/>
          </a:xfrm>
        </p:grpSpPr>
        <p:sp>
          <p:nvSpPr>
            <p:cNvPr id="844" name="圆角矩形 374"/>
            <p:cNvSpPr/>
            <p:nvPr/>
          </p:nvSpPr>
          <p:spPr>
            <a:xfrm flipH="1">
              <a:off x="10067040" y="5657760"/>
              <a:ext cx="327240" cy="125640"/>
            </a:xfrm>
            <a:prstGeom prst="roundRect">
              <a:avLst>
                <a:gd name="adj" fmla="val 16667"/>
              </a:avLst>
            </a:prstGeom>
            <a:solidFill>
              <a:srgbClr val="f2b800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椭圆 375"/>
            <p:cNvSpPr/>
            <p:nvPr/>
          </p:nvSpPr>
          <p:spPr>
            <a:xfrm flipH="1">
              <a:off x="10082160" y="5646600"/>
              <a:ext cx="30384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2b8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组合 394"/>
          <p:cNvGrpSpPr/>
          <p:nvPr/>
        </p:nvGrpSpPr>
        <p:grpSpPr>
          <a:xfrm>
            <a:off x="10848960" y="5724360"/>
            <a:ext cx="326880" cy="136800"/>
            <a:chOff x="10848960" y="5724360"/>
            <a:chExt cx="326880" cy="136800"/>
          </a:xfrm>
        </p:grpSpPr>
        <p:sp>
          <p:nvSpPr>
            <p:cNvPr id="847" name="圆角矩形 398"/>
            <p:cNvSpPr/>
            <p:nvPr/>
          </p:nvSpPr>
          <p:spPr>
            <a:xfrm flipH="1">
              <a:off x="10848960" y="5735520"/>
              <a:ext cx="326880" cy="125640"/>
            </a:xfrm>
            <a:prstGeom prst="roundRect">
              <a:avLst>
                <a:gd name="adj" fmla="val 16667"/>
              </a:avLst>
            </a:prstGeom>
            <a:solidFill>
              <a:srgbClr val="b800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399"/>
            <p:cNvSpPr/>
            <p:nvPr/>
          </p:nvSpPr>
          <p:spPr>
            <a:xfrm flipH="1">
              <a:off x="10863000" y="5724360"/>
              <a:ext cx="303480" cy="3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b800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9" name="圆角矩形标注 402"/>
          <p:cNvSpPr/>
          <p:nvPr/>
        </p:nvSpPr>
        <p:spPr>
          <a:xfrm>
            <a:off x="212760" y="28702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文本框 403"/>
          <p:cNvSpPr/>
          <p:nvPr/>
        </p:nvSpPr>
        <p:spPr>
          <a:xfrm>
            <a:off x="263520" y="29908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圆角矩形标注 404"/>
          <p:cNvSpPr/>
          <p:nvPr/>
        </p:nvSpPr>
        <p:spPr>
          <a:xfrm>
            <a:off x="1623960" y="239868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文本框 405"/>
          <p:cNvSpPr/>
          <p:nvPr/>
        </p:nvSpPr>
        <p:spPr>
          <a:xfrm>
            <a:off x="1674720" y="251928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.4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圆角矩形标注 406"/>
          <p:cNvSpPr/>
          <p:nvPr/>
        </p:nvSpPr>
        <p:spPr>
          <a:xfrm>
            <a:off x="3238560" y="2235240"/>
            <a:ext cx="11970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407"/>
          <p:cNvSpPr/>
          <p:nvPr/>
        </p:nvSpPr>
        <p:spPr>
          <a:xfrm>
            <a:off x="3289320" y="2355840"/>
            <a:ext cx="11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.3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圆角矩形标注 408"/>
          <p:cNvSpPr/>
          <p:nvPr/>
        </p:nvSpPr>
        <p:spPr>
          <a:xfrm>
            <a:off x="4776840" y="327492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文本框 409"/>
          <p:cNvSpPr/>
          <p:nvPr/>
        </p:nvSpPr>
        <p:spPr>
          <a:xfrm>
            <a:off x="4827600" y="33955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.2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标注 410"/>
          <p:cNvSpPr/>
          <p:nvPr/>
        </p:nvSpPr>
        <p:spPr>
          <a:xfrm>
            <a:off x="6151680" y="3821040"/>
            <a:ext cx="119844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文本框 411"/>
          <p:cNvSpPr/>
          <p:nvPr/>
        </p:nvSpPr>
        <p:spPr>
          <a:xfrm>
            <a:off x="6200640" y="394164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.1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圆角矩形标注 412"/>
          <p:cNvSpPr/>
          <p:nvPr/>
        </p:nvSpPr>
        <p:spPr>
          <a:xfrm>
            <a:off x="7588080" y="3263760"/>
            <a:ext cx="1198800" cy="69696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b1b5e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文本框 413"/>
          <p:cNvSpPr/>
          <p:nvPr/>
        </p:nvSpPr>
        <p:spPr>
          <a:xfrm>
            <a:off x="7639200" y="338472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8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圆角矩形标注 414"/>
          <p:cNvSpPr/>
          <p:nvPr/>
        </p:nvSpPr>
        <p:spPr>
          <a:xfrm>
            <a:off x="8740800" y="4417920"/>
            <a:ext cx="990720" cy="63684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c000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文本框 415"/>
          <p:cNvSpPr/>
          <p:nvPr/>
        </p:nvSpPr>
        <p:spPr>
          <a:xfrm>
            <a:off x="8791560" y="4478400"/>
            <a:ext cx="11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7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标注 416"/>
          <p:cNvSpPr/>
          <p:nvPr/>
        </p:nvSpPr>
        <p:spPr>
          <a:xfrm>
            <a:off x="9858240" y="473400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f2b800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文本框 417"/>
          <p:cNvSpPr/>
          <p:nvPr/>
        </p:nvSpPr>
        <p:spPr>
          <a:xfrm>
            <a:off x="9871200" y="486720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圆角矩形标注 418"/>
          <p:cNvSpPr/>
          <p:nvPr/>
        </p:nvSpPr>
        <p:spPr>
          <a:xfrm>
            <a:off x="10823400" y="4797360"/>
            <a:ext cx="935280" cy="698400"/>
          </a:xfrm>
          <a:prstGeom prst="wedgeRoundRectCallout">
            <a:avLst>
              <a:gd name="adj1" fmla="val -19500"/>
              <a:gd name="adj2" fmla="val 73953"/>
              <a:gd name="adj3" fmla="val 16667"/>
            </a:avLst>
          </a:prstGeom>
          <a:solidFill>
            <a:srgbClr val="b8007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文本框 419"/>
          <p:cNvSpPr/>
          <p:nvPr/>
        </p:nvSpPr>
        <p:spPr>
          <a:xfrm>
            <a:off x="10874520" y="4917960"/>
            <a:ext cx="8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5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文本框 420"/>
          <p:cNvSpPr/>
          <p:nvPr/>
        </p:nvSpPr>
        <p:spPr>
          <a:xfrm>
            <a:off x="423720" y="447048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&gt;2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421"/>
          <p:cNvSpPr/>
          <p:nvPr/>
        </p:nvSpPr>
        <p:spPr>
          <a:xfrm>
            <a:off x="1909800" y="416412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-3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422"/>
          <p:cNvSpPr/>
          <p:nvPr/>
        </p:nvSpPr>
        <p:spPr>
          <a:xfrm>
            <a:off x="3395520" y="38847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423"/>
          <p:cNvSpPr/>
          <p:nvPr/>
        </p:nvSpPr>
        <p:spPr>
          <a:xfrm>
            <a:off x="5060880" y="48513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-5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424"/>
          <p:cNvSpPr/>
          <p:nvPr/>
        </p:nvSpPr>
        <p:spPr>
          <a:xfrm>
            <a:off x="6434280" y="5457960"/>
            <a:ext cx="8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-6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文本框 425"/>
          <p:cNvSpPr/>
          <p:nvPr/>
        </p:nvSpPr>
        <p:spPr>
          <a:xfrm>
            <a:off x="7648560" y="48481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K-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426"/>
          <p:cNvSpPr/>
          <p:nvPr/>
        </p:nvSpPr>
        <p:spPr>
          <a:xfrm>
            <a:off x="8734320" y="561168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-1.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427"/>
          <p:cNvSpPr/>
          <p:nvPr/>
        </p:nvSpPr>
        <p:spPr>
          <a:xfrm>
            <a:off x="9609120" y="59022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5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文本框 428"/>
          <p:cNvSpPr/>
          <p:nvPr/>
        </p:nvSpPr>
        <p:spPr>
          <a:xfrm>
            <a:off x="10823400" y="5850000"/>
            <a:ext cx="125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圆角矩形 1"/>
          <p:cNvSpPr/>
          <p:nvPr/>
        </p:nvSpPr>
        <p:spPr>
          <a:xfrm>
            <a:off x="800280" y="428760"/>
            <a:ext cx="50162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椭圆 2"/>
          <p:cNvSpPr/>
          <p:nvPr/>
        </p:nvSpPr>
        <p:spPr>
          <a:xfrm>
            <a:off x="31752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文本框 3"/>
          <p:cNvSpPr/>
          <p:nvPr/>
        </p:nvSpPr>
        <p:spPr>
          <a:xfrm>
            <a:off x="1469880" y="554040"/>
            <a:ext cx="43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你们单位怎么发年终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46"/>
          <p:cNvGrpSpPr/>
          <p:nvPr/>
        </p:nvGrpSpPr>
        <p:grpSpPr>
          <a:xfrm>
            <a:off x="453960" y="449640"/>
            <a:ext cx="831960" cy="705960"/>
            <a:chOff x="453960" y="449640"/>
            <a:chExt cx="831960" cy="705960"/>
          </a:xfrm>
        </p:grpSpPr>
        <p:sp>
          <p:nvSpPr>
            <p:cNvPr id="880" name="任意多边形 5"/>
            <p:cNvSpPr/>
            <p:nvPr/>
          </p:nvSpPr>
          <p:spPr>
            <a:xfrm>
              <a:off x="453960" y="702720"/>
              <a:ext cx="831960" cy="452880"/>
            </a:xfrm>
            <a:custGeom>
              <a:avLst/>
              <a:gdLst>
                <a:gd name="textAreaLeft" fmla="*/ 0 w 831960"/>
                <a:gd name="textAreaRight" fmla="*/ 832320 w 83196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1676400" h="914400">
                  <a:moveTo>
                    <a:pt x="1663700" y="914400"/>
                  </a:moveTo>
                  <a:lnTo>
                    <a:pt x="1676400" y="254000"/>
                  </a:lnTo>
                  <a:lnTo>
                    <a:pt x="1460500" y="254000"/>
                  </a:lnTo>
                  <a:lnTo>
                    <a:pt x="1422400" y="317500"/>
                  </a:lnTo>
                  <a:lnTo>
                    <a:pt x="1206500" y="0"/>
                  </a:lnTo>
                  <a:lnTo>
                    <a:pt x="622300" y="114300"/>
                  </a:lnTo>
                  <a:lnTo>
                    <a:pt x="596900" y="203200"/>
                  </a:lnTo>
                  <a:lnTo>
                    <a:pt x="825500" y="241300"/>
                  </a:lnTo>
                  <a:lnTo>
                    <a:pt x="558800" y="342900"/>
                  </a:lnTo>
                  <a:lnTo>
                    <a:pt x="12700" y="228600"/>
                  </a:lnTo>
                  <a:lnTo>
                    <a:pt x="0" y="444500"/>
                  </a:lnTo>
                  <a:lnTo>
                    <a:pt x="63500" y="584200"/>
                  </a:lnTo>
                  <a:lnTo>
                    <a:pt x="381000" y="762000"/>
                  </a:lnTo>
                  <a:lnTo>
                    <a:pt x="1092200" y="685800"/>
                  </a:lnTo>
                  <a:lnTo>
                    <a:pt x="1397000" y="787400"/>
                  </a:lnTo>
                  <a:lnTo>
                    <a:pt x="1422400" y="901700"/>
                  </a:lnTo>
                  <a:lnTo>
                    <a:pt x="1663700" y="9144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1" name="组合 7"/>
            <p:cNvGrpSpPr/>
            <p:nvPr/>
          </p:nvGrpSpPr>
          <p:grpSpPr>
            <a:xfrm>
              <a:off x="484920" y="703800"/>
              <a:ext cx="217080" cy="130680"/>
              <a:chOff x="484920" y="703800"/>
              <a:chExt cx="217080" cy="130680"/>
            </a:xfrm>
          </p:grpSpPr>
          <p:sp>
            <p:nvSpPr>
              <p:cNvPr id="882" name="圆角矩形 38"/>
              <p:cNvSpPr/>
              <p:nvPr/>
            </p:nvSpPr>
            <p:spPr>
              <a:xfrm rot="844200">
                <a:off x="491400" y="732600"/>
                <a:ext cx="204120" cy="78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椭圆 39"/>
              <p:cNvSpPr/>
              <p:nvPr/>
            </p:nvSpPr>
            <p:spPr>
              <a:xfrm rot="844200">
                <a:off x="505080" y="726480"/>
                <a:ext cx="18972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组合 40"/>
            <p:cNvGrpSpPr/>
            <p:nvPr/>
          </p:nvGrpSpPr>
          <p:grpSpPr>
            <a:xfrm>
              <a:off x="641520" y="516240"/>
              <a:ext cx="184320" cy="210600"/>
              <a:chOff x="641520" y="516240"/>
              <a:chExt cx="184320" cy="210600"/>
            </a:xfrm>
          </p:grpSpPr>
          <p:sp>
            <p:nvSpPr>
              <p:cNvPr id="885" name="圆角矩形 41"/>
              <p:cNvSpPr/>
              <p:nvPr/>
            </p:nvSpPr>
            <p:spPr>
              <a:xfrm rot="3223800">
                <a:off x="631440" y="58212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椭圆 42"/>
              <p:cNvSpPr/>
              <p:nvPr/>
            </p:nvSpPr>
            <p:spPr>
              <a:xfrm rot="3223800">
                <a:off x="666360" y="588240"/>
                <a:ext cx="189360" cy="2160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7" name="组合 43"/>
            <p:cNvGrpSpPr/>
            <p:nvPr/>
          </p:nvGrpSpPr>
          <p:grpSpPr>
            <a:xfrm>
              <a:off x="834840" y="449640"/>
              <a:ext cx="145080" cy="218520"/>
              <a:chOff x="834840" y="449640"/>
              <a:chExt cx="145080" cy="218520"/>
            </a:xfrm>
          </p:grpSpPr>
          <p:sp>
            <p:nvSpPr>
              <p:cNvPr id="888" name="圆角矩形 44"/>
              <p:cNvSpPr/>
              <p:nvPr/>
            </p:nvSpPr>
            <p:spPr>
              <a:xfrm flipH="1" rot="17367000">
                <a:off x="806760" y="519480"/>
                <a:ext cx="203760" cy="78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椭圆 45"/>
              <p:cNvSpPr/>
              <p:nvPr/>
            </p:nvSpPr>
            <p:spPr>
              <a:xfrm flipH="1" rot="17367000">
                <a:off x="781200" y="534600"/>
                <a:ext cx="189360" cy="21240"/>
              </a:xfrm>
              <a:prstGeom prst="ellipse">
                <a:avLst/>
              </a:prstGeom>
              <a:solidFill>
                <a:srgbClr val="cb1b5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90" name="图片 47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1305000" y="1825560"/>
            <a:ext cx="558720" cy="1376280"/>
          </a:xfrm>
          <a:prstGeom prst="rect">
            <a:avLst/>
          </a:prstGeom>
          <a:ln w="0">
            <a:noFill/>
          </a:ln>
        </p:spPr>
      </p:pic>
      <p:sp>
        <p:nvSpPr>
          <p:cNvPr id="891" name="任意多边形 81"/>
          <p:cNvSpPr/>
          <p:nvPr/>
        </p:nvSpPr>
        <p:spPr>
          <a:xfrm>
            <a:off x="341280" y="3151080"/>
            <a:ext cx="6492960" cy="3160800"/>
          </a:xfrm>
          <a:custGeom>
            <a:avLst/>
            <a:gdLst>
              <a:gd name="textAreaLeft" fmla="*/ 0 w 6492960"/>
              <a:gd name="textAreaRight" fmla="*/ 6493320 w 6492960"/>
              <a:gd name="textAreaTop" fmla="*/ 0 h 3160800"/>
              <a:gd name="textAreaBottom" fmla="*/ 3161160 h 3160800"/>
            </a:gdLst>
            <a:ahLst/>
            <a:rect l="textAreaLeft" t="textAreaTop" r="textAreaRight" b="textAreaBottom"/>
            <a:pathLst>
              <a:path w="6493320" h="3161295">
                <a:moveTo>
                  <a:pt x="0" y="0"/>
                </a:moveTo>
                <a:lnTo>
                  <a:pt x="329723" y="0"/>
                </a:lnTo>
                <a:lnTo>
                  <a:pt x="340267" y="208800"/>
                </a:lnTo>
                <a:cubicBezTo>
                  <a:pt x="489875" y="1681974"/>
                  <a:pt x="1734016" y="2831574"/>
                  <a:pt x="3246661" y="2831574"/>
                </a:cubicBezTo>
                <a:cubicBezTo>
                  <a:pt x="4759306" y="2831574"/>
                  <a:pt x="6003447" y="1681974"/>
                  <a:pt x="6153056" y="208800"/>
                </a:cubicBezTo>
                <a:lnTo>
                  <a:pt x="6163599" y="0"/>
                </a:lnTo>
                <a:lnTo>
                  <a:pt x="6493320" y="0"/>
                </a:lnTo>
                <a:lnTo>
                  <a:pt x="6481074" y="242511"/>
                </a:lnTo>
                <a:cubicBezTo>
                  <a:pt x="6314580" y="1881949"/>
                  <a:pt x="4930024" y="3161295"/>
                  <a:pt x="3246660" y="3161295"/>
                </a:cubicBezTo>
                <a:cubicBezTo>
                  <a:pt x="1563297" y="3161295"/>
                  <a:pt x="178740" y="1881949"/>
                  <a:pt x="12246" y="242511"/>
                </a:cubicBezTo>
                <a:lnTo>
                  <a:pt x="0" y="0"/>
                </a:lnTo>
                <a:close/>
              </a:path>
            </a:pathLst>
          </a:cu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任意多边形 91"/>
          <p:cNvSpPr/>
          <p:nvPr/>
        </p:nvSpPr>
        <p:spPr>
          <a:xfrm>
            <a:off x="4906800" y="3151080"/>
            <a:ext cx="1341720" cy="2044800"/>
          </a:xfrm>
          <a:custGeom>
            <a:avLst/>
            <a:gdLst>
              <a:gd name="textAreaLeft" fmla="*/ 0 w 1341720"/>
              <a:gd name="textAreaRight" fmla="*/ 1342080 w 1341720"/>
              <a:gd name="textAreaTop" fmla="*/ 0 h 2044800"/>
              <a:gd name="textAreaBottom" fmla="*/ 2045160 h 2044800"/>
            </a:gdLst>
            <a:ahLst/>
            <a:rect l="textAreaLeft" t="textAreaTop" r="textAreaRight" b="textAreaBottom"/>
            <a:pathLst>
              <a:path w="1341616" h="2043768">
                <a:moveTo>
                  <a:pt x="1035419" y="0"/>
                </a:moveTo>
                <a:lnTo>
                  <a:pt x="1341616" y="0"/>
                </a:lnTo>
                <a:lnTo>
                  <a:pt x="1333719" y="156378"/>
                </a:lnTo>
                <a:cubicBezTo>
                  <a:pt x="1252994" y="951272"/>
                  <a:pt x="803151" y="1637045"/>
                  <a:pt x="158297" y="2039593"/>
                </a:cubicBezTo>
                <a:lnTo>
                  <a:pt x="150879" y="2043768"/>
                </a:lnTo>
                <a:lnTo>
                  <a:pt x="0" y="1777167"/>
                </a:lnTo>
                <a:lnTo>
                  <a:pt x="161055" y="1666246"/>
                </a:lnTo>
                <a:cubicBezTo>
                  <a:pt x="638750" y="1304521"/>
                  <a:pt x="965270" y="753624"/>
                  <a:pt x="1029103" y="125071"/>
                </a:cubicBezTo>
                <a:lnTo>
                  <a:pt x="1035419" y="0"/>
                </a:lnTo>
                <a:close/>
              </a:path>
            </a:pathLst>
          </a:cu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任意多边形 93"/>
          <p:cNvSpPr/>
          <p:nvPr/>
        </p:nvSpPr>
        <p:spPr>
          <a:xfrm>
            <a:off x="4807080" y="3151080"/>
            <a:ext cx="933480" cy="1494000"/>
          </a:xfrm>
          <a:custGeom>
            <a:avLst/>
            <a:gdLst>
              <a:gd name="textAreaLeft" fmla="*/ 0 w 933480"/>
              <a:gd name="textAreaRight" fmla="*/ 933840 w 933480"/>
              <a:gd name="textAreaTop" fmla="*/ 0 h 1494000"/>
              <a:gd name="textAreaBottom" fmla="*/ 1494360 h 1494000"/>
            </a:gdLst>
            <a:ahLst/>
            <a:rect l="textAreaLeft" t="textAreaTop" r="textAreaRight" b="textAreaBottom"/>
            <a:pathLst>
              <a:path w="932716" h="1492946">
                <a:moveTo>
                  <a:pt x="631249" y="0"/>
                </a:moveTo>
                <a:lnTo>
                  <a:pt x="932716" y="0"/>
                </a:lnTo>
                <a:lnTo>
                  <a:pt x="926997" y="113270"/>
                </a:lnTo>
                <a:cubicBezTo>
                  <a:pt x="876116" y="614289"/>
                  <a:pt x="639112" y="1060285"/>
                  <a:pt x="286218" y="1381026"/>
                </a:cubicBezTo>
                <a:lnTo>
                  <a:pt x="151417" y="1492946"/>
                </a:lnTo>
                <a:lnTo>
                  <a:pt x="0" y="1203905"/>
                </a:lnTo>
                <a:lnTo>
                  <a:pt x="83574" y="1135750"/>
                </a:lnTo>
                <a:cubicBezTo>
                  <a:pt x="382946" y="868492"/>
                  <a:pt x="584003" y="496865"/>
                  <a:pt x="627167" y="79390"/>
                </a:cubicBezTo>
                <a:lnTo>
                  <a:pt x="631249" y="0"/>
                </a:lnTo>
                <a:close/>
              </a:path>
            </a:pathLst>
          </a:cu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任意多边形 96"/>
          <p:cNvSpPr/>
          <p:nvPr/>
        </p:nvSpPr>
        <p:spPr>
          <a:xfrm>
            <a:off x="4573440" y="3151080"/>
            <a:ext cx="668520" cy="1041480"/>
          </a:xfrm>
          <a:custGeom>
            <a:avLst/>
            <a:gdLst>
              <a:gd name="textAreaLeft" fmla="*/ 0 w 668520"/>
              <a:gd name="textAreaRight" fmla="*/ 668880 w 66852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667541" h="1041509">
                <a:moveTo>
                  <a:pt x="361643" y="0"/>
                </a:moveTo>
                <a:lnTo>
                  <a:pt x="667541" y="0"/>
                </a:lnTo>
                <a:lnTo>
                  <a:pt x="663781" y="74455"/>
                </a:lnTo>
                <a:cubicBezTo>
                  <a:pt x="627766" y="429096"/>
                  <a:pt x="476473" y="749658"/>
                  <a:pt x="247966" y="998081"/>
                </a:cubicBezTo>
                <a:lnTo>
                  <a:pt x="204278" y="1041509"/>
                </a:lnTo>
                <a:lnTo>
                  <a:pt x="0" y="797733"/>
                </a:lnTo>
                <a:lnTo>
                  <a:pt x="22833" y="775439"/>
                </a:lnTo>
                <a:cubicBezTo>
                  <a:pt x="207869" y="577853"/>
                  <a:pt x="330380" y="322889"/>
                  <a:pt x="359544" y="40820"/>
                </a:cubicBezTo>
                <a:lnTo>
                  <a:pt x="361643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任意多边形 98"/>
          <p:cNvSpPr/>
          <p:nvPr/>
        </p:nvSpPr>
        <p:spPr>
          <a:xfrm>
            <a:off x="4395960" y="3151080"/>
            <a:ext cx="336240" cy="352440"/>
          </a:xfrm>
          <a:custGeom>
            <a:avLst/>
            <a:gdLst>
              <a:gd name="textAreaLeft" fmla="*/ 0 w 336240"/>
              <a:gd name="textAreaRight" fmla="*/ 336600 w 33624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336453" h="352724">
                <a:moveTo>
                  <a:pt x="22850" y="0"/>
                </a:moveTo>
                <a:lnTo>
                  <a:pt x="336453" y="0"/>
                </a:lnTo>
                <a:lnTo>
                  <a:pt x="334967" y="29425"/>
                </a:lnTo>
                <a:cubicBezTo>
                  <a:pt x="327037" y="107509"/>
                  <a:pt x="311856" y="183449"/>
                  <a:pt x="290106" y="256561"/>
                </a:cubicBezTo>
                <a:lnTo>
                  <a:pt x="256581" y="352724"/>
                </a:lnTo>
                <a:lnTo>
                  <a:pt x="0" y="132980"/>
                </a:lnTo>
                <a:lnTo>
                  <a:pt x="13930" y="86912"/>
                </a:lnTo>
                <a:lnTo>
                  <a:pt x="22850" y="0"/>
                </a:lnTo>
                <a:close/>
              </a:path>
            </a:pathLst>
          </a:cu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99"/>
          <p:cNvSpPr/>
          <p:nvPr/>
        </p:nvSpPr>
        <p:spPr>
          <a:xfrm>
            <a:off x="6389640" y="28494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9.4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100"/>
          <p:cNvSpPr/>
          <p:nvPr/>
        </p:nvSpPr>
        <p:spPr>
          <a:xfrm>
            <a:off x="5740560" y="2847960"/>
            <a:ext cx="88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9.1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文本框 101"/>
          <p:cNvSpPr/>
          <p:nvPr/>
        </p:nvSpPr>
        <p:spPr>
          <a:xfrm>
            <a:off x="523224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文本框 102"/>
          <p:cNvSpPr/>
          <p:nvPr/>
        </p:nvSpPr>
        <p:spPr>
          <a:xfrm>
            <a:off x="4743360" y="28782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2.7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文本框 103"/>
          <p:cNvSpPr/>
          <p:nvPr/>
        </p:nvSpPr>
        <p:spPr>
          <a:xfrm>
            <a:off x="4262400" y="2863800"/>
            <a:ext cx="88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.8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圆角矩形 104"/>
          <p:cNvSpPr/>
          <p:nvPr/>
        </p:nvSpPr>
        <p:spPr>
          <a:xfrm>
            <a:off x="1093680" y="3290760"/>
            <a:ext cx="3360960" cy="1482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文本框 105"/>
          <p:cNvSpPr/>
          <p:nvPr/>
        </p:nvSpPr>
        <p:spPr>
          <a:xfrm>
            <a:off x="1093680" y="3381480"/>
            <a:ext cx="3405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一半的公司年终奖都是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。没有年终奖和看老板发年终奖的比例却是高度一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椭圆 106"/>
          <p:cNvSpPr/>
          <p:nvPr/>
        </p:nvSpPr>
        <p:spPr>
          <a:xfrm>
            <a:off x="7236000" y="3162240"/>
            <a:ext cx="393480" cy="39384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椭圆 107"/>
          <p:cNvSpPr/>
          <p:nvPr/>
        </p:nvSpPr>
        <p:spPr>
          <a:xfrm>
            <a:off x="7236000" y="3679920"/>
            <a:ext cx="393480" cy="393480"/>
          </a:xfrm>
          <a:prstGeom prst="ellipse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椭圆 108"/>
          <p:cNvSpPr/>
          <p:nvPr/>
        </p:nvSpPr>
        <p:spPr>
          <a:xfrm>
            <a:off x="7236000" y="4195800"/>
            <a:ext cx="393480" cy="393840"/>
          </a:xfrm>
          <a:prstGeom prst="ellips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椭圆 109"/>
          <p:cNvSpPr/>
          <p:nvPr/>
        </p:nvSpPr>
        <p:spPr>
          <a:xfrm>
            <a:off x="7236000" y="4713120"/>
            <a:ext cx="393480" cy="3938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椭圆 110"/>
          <p:cNvSpPr/>
          <p:nvPr/>
        </p:nvSpPr>
        <p:spPr>
          <a:xfrm>
            <a:off x="7236000" y="5230800"/>
            <a:ext cx="393480" cy="393840"/>
          </a:xfrm>
          <a:prstGeom prst="ellipse">
            <a:avLst/>
          </a:prstGeom>
          <a:solidFill>
            <a:srgbClr val="7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文本框 111"/>
          <p:cNvSpPr/>
          <p:nvPr/>
        </p:nvSpPr>
        <p:spPr>
          <a:xfrm>
            <a:off x="7629480" y="3105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薪制，多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月工资而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文本框 112"/>
          <p:cNvSpPr/>
          <p:nvPr/>
        </p:nvSpPr>
        <p:spPr>
          <a:xfrm>
            <a:off x="7629480" y="362592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额外发的，看公司效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文本框 113"/>
          <p:cNvSpPr/>
          <p:nvPr/>
        </p:nvSpPr>
        <p:spPr>
          <a:xfrm>
            <a:off x="7629480" y="414324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全看老板心情发的，不能当回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文本框 114"/>
          <p:cNvSpPr/>
          <p:nvPr/>
        </p:nvSpPr>
        <p:spPr>
          <a:xfrm>
            <a:off x="7629480" y="4680000"/>
            <a:ext cx="4486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毫无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文本框 115"/>
          <p:cNvSpPr/>
          <p:nvPr/>
        </p:nvSpPr>
        <p:spPr>
          <a:xfrm>
            <a:off x="7629480" y="5261040"/>
            <a:ext cx="44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时拿基础工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底按项目提成算总账，当年终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圆角矩形 1"/>
          <p:cNvSpPr/>
          <p:nvPr/>
        </p:nvSpPr>
        <p:spPr>
          <a:xfrm>
            <a:off x="628560" y="428760"/>
            <a:ext cx="586764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椭圆 2"/>
          <p:cNvSpPr/>
          <p:nvPr/>
        </p:nvSpPr>
        <p:spPr>
          <a:xfrm>
            <a:off x="14616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文本框 3"/>
          <p:cNvSpPr/>
          <p:nvPr/>
        </p:nvSpPr>
        <p:spPr>
          <a:xfrm>
            <a:off x="1298520" y="55404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获得的年终奖最多一次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任意多边形 17"/>
          <p:cNvSpPr/>
          <p:nvPr/>
        </p:nvSpPr>
        <p:spPr>
          <a:xfrm>
            <a:off x="5848200" y="673200"/>
            <a:ext cx="5727960" cy="5727600"/>
          </a:xfrm>
          <a:custGeom>
            <a:avLst/>
            <a:gdLst>
              <a:gd name="textAreaLeft" fmla="*/ 0 w 5727960"/>
              <a:gd name="textAreaRight" fmla="*/ 5728320 w 5727960"/>
              <a:gd name="textAreaTop" fmla="*/ 0 h 5727600"/>
              <a:gd name="textAreaBottom" fmla="*/ 5727960 h 5727600"/>
            </a:gdLst>
            <a:ahLst/>
            <a:rect l="textAreaLeft" t="textAreaTop" r="textAreaRight" b="textAreaBottom"/>
            <a:pathLst>
              <a:path w="5727700" h="5727700">
                <a:moveTo>
                  <a:pt x="2863851" y="469782"/>
                </a:moveTo>
                <a:cubicBezTo>
                  <a:pt x="1541643" y="469782"/>
                  <a:pt x="469782" y="1541643"/>
                  <a:pt x="469782" y="2863851"/>
                </a:cubicBezTo>
                <a:cubicBezTo>
                  <a:pt x="469782" y="4186059"/>
                  <a:pt x="1541643" y="5257920"/>
                  <a:pt x="2863851" y="5257920"/>
                </a:cubicBezTo>
                <a:cubicBezTo>
                  <a:pt x="4186059" y="5257920"/>
                  <a:pt x="5257920" y="4186059"/>
                  <a:pt x="5257920" y="2863851"/>
                </a:cubicBezTo>
                <a:cubicBezTo>
                  <a:pt x="5257920" y="1541643"/>
                  <a:pt x="4186059" y="469782"/>
                  <a:pt x="2863851" y="469782"/>
                </a:cubicBezTo>
                <a:close/>
                <a:moveTo>
                  <a:pt x="2863850" y="0"/>
                </a:moveTo>
                <a:cubicBezTo>
                  <a:pt x="4445511" y="0"/>
                  <a:pt x="5727700" y="1282189"/>
                  <a:pt x="5727700" y="2863850"/>
                </a:cubicBezTo>
                <a:cubicBezTo>
                  <a:pt x="5727700" y="4445511"/>
                  <a:pt x="4445511" y="5727700"/>
                  <a:pt x="2863850" y="5727700"/>
                </a:cubicBezTo>
                <a:cubicBezTo>
                  <a:pt x="1282189" y="5727700"/>
                  <a:pt x="0" y="4445511"/>
                  <a:pt x="0" y="2863850"/>
                </a:cubicBezTo>
                <a:cubicBezTo>
                  <a:pt x="0" y="1282189"/>
                  <a:pt x="1282189" y="0"/>
                  <a:pt x="2863850" y="0"/>
                </a:cubicBezTo>
                <a:close/>
              </a:path>
            </a:pathLst>
          </a:custGeom>
          <a:solidFill>
            <a:srgbClr val="d8d8d8"/>
          </a:solidFill>
          <a:ln w="1260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8" descr=""/>
          <p:cNvPicPr/>
          <p:nvPr/>
        </p:nvPicPr>
        <p:blipFill>
          <a:blip r:embed="rId1"/>
          <a:srcRect l="71570" t="-526" r="0" b="4806"/>
          <a:stretch/>
        </p:blipFill>
        <p:spPr>
          <a:xfrm>
            <a:off x="800280" y="3463920"/>
            <a:ext cx="669600" cy="1649520"/>
          </a:xfrm>
          <a:prstGeom prst="rect">
            <a:avLst/>
          </a:prstGeom>
          <a:ln w="0">
            <a:noFill/>
          </a:ln>
        </p:spPr>
      </p:pic>
      <p:sp>
        <p:nvSpPr>
          <p:cNvPr id="918" name="圆角矩形 19"/>
          <p:cNvSpPr/>
          <p:nvPr/>
        </p:nvSpPr>
        <p:spPr>
          <a:xfrm>
            <a:off x="1666800" y="3736800"/>
            <a:ext cx="3686400" cy="1428840"/>
          </a:xfrm>
          <a:prstGeom prst="roundRect">
            <a:avLst>
              <a:gd name="adj" fmla="val 16667"/>
            </a:avLst>
          </a:prstGeom>
          <a:solidFill>
            <a:srgbClr val="ffb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文本框 20"/>
          <p:cNvSpPr/>
          <p:nvPr/>
        </p:nvSpPr>
        <p:spPr>
          <a:xfrm>
            <a:off x="1666800" y="382752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近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网友最多的年终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K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下，而年终奖在以上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W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上占有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5"/>
          <p:cNvGrpSpPr/>
          <p:nvPr/>
        </p:nvGrpSpPr>
        <p:grpSpPr>
          <a:xfrm>
            <a:off x="6318360" y="1127160"/>
            <a:ext cx="4787640" cy="4788000"/>
            <a:chOff x="6318360" y="1127160"/>
            <a:chExt cx="4787640" cy="4788000"/>
          </a:xfrm>
        </p:grpSpPr>
        <p:sp>
          <p:nvSpPr>
            <p:cNvPr id="921" name="直接连接符 22"/>
            <p:cNvSpPr/>
            <p:nvPr/>
          </p:nvSpPr>
          <p:spPr>
            <a:xfrm>
              <a:off x="6318360" y="3521160"/>
              <a:ext cx="4787640" cy="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直接连接符 24"/>
            <p:cNvSpPr/>
            <p:nvPr/>
          </p:nvSpPr>
          <p:spPr>
            <a:xfrm>
              <a:off x="8712000" y="1127160"/>
              <a:ext cx="0" cy="478800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组合 26"/>
          <p:cNvGrpSpPr/>
          <p:nvPr/>
        </p:nvGrpSpPr>
        <p:grpSpPr>
          <a:xfrm>
            <a:off x="7024320" y="1834560"/>
            <a:ext cx="3385440" cy="3385440"/>
            <a:chOff x="7024320" y="1834560"/>
            <a:chExt cx="3385440" cy="3385440"/>
          </a:xfrm>
        </p:grpSpPr>
        <p:sp>
          <p:nvSpPr>
            <p:cNvPr id="924" name="直接连接符 27"/>
            <p:cNvSpPr/>
            <p:nvPr/>
          </p:nvSpPr>
          <p:spPr>
            <a:xfrm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直接连接符 28"/>
            <p:cNvSpPr/>
            <p:nvPr/>
          </p:nvSpPr>
          <p:spPr>
            <a:xfrm flipH="1">
              <a:off x="7024320" y="1834560"/>
              <a:ext cx="3385440" cy="3385440"/>
            </a:xfrm>
            <a:prstGeom prst="line">
              <a:avLst/>
            </a:prstGeom>
            <a:ln w="648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38"/>
          <p:cNvSpPr/>
          <p:nvPr/>
        </p:nvSpPr>
        <p:spPr>
          <a:xfrm rot="20168400">
            <a:off x="7200000" y="803160"/>
            <a:ext cx="110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文本框 39"/>
          <p:cNvSpPr/>
          <p:nvPr/>
        </p:nvSpPr>
        <p:spPr>
          <a:xfrm rot="20281800">
            <a:off x="9127440" y="560880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.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文本框 40"/>
          <p:cNvSpPr/>
          <p:nvPr/>
        </p:nvSpPr>
        <p:spPr>
          <a:xfrm rot="17493000">
            <a:off x="10486440" y="418572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文本框 41"/>
          <p:cNvSpPr/>
          <p:nvPr/>
        </p:nvSpPr>
        <p:spPr>
          <a:xfrm rot="17397600">
            <a:off x="5669280" y="218844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文本框 42"/>
          <p:cNvSpPr/>
          <p:nvPr/>
        </p:nvSpPr>
        <p:spPr>
          <a:xfrm rot="3653400">
            <a:off x="5745240" y="440460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文本框 43"/>
          <p:cNvSpPr/>
          <p:nvPr/>
        </p:nvSpPr>
        <p:spPr>
          <a:xfrm rot="3870600">
            <a:off x="10514160" y="226368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.7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文本框 44"/>
          <p:cNvSpPr/>
          <p:nvPr/>
        </p:nvSpPr>
        <p:spPr>
          <a:xfrm rot="1566000">
            <a:off x="9183960" y="878040"/>
            <a:ext cx="12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5.0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文本框 45"/>
          <p:cNvSpPr/>
          <p:nvPr/>
        </p:nvSpPr>
        <p:spPr>
          <a:xfrm rot="1566000">
            <a:off x="7188840" y="5734080"/>
            <a:ext cx="127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文本框 46"/>
          <p:cNvSpPr/>
          <p:nvPr/>
        </p:nvSpPr>
        <p:spPr>
          <a:xfrm>
            <a:off x="8105760" y="3459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（</a:t>
            </a: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&gt;20W</a:t>
            </a:r>
            <a:r>
              <a:rPr b="1" lang="zh-CN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文本框 47"/>
          <p:cNvSpPr/>
          <p:nvPr/>
        </p:nvSpPr>
        <p:spPr>
          <a:xfrm>
            <a:off x="10572840" y="11523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文本框 48"/>
          <p:cNvSpPr/>
          <p:nvPr/>
        </p:nvSpPr>
        <p:spPr>
          <a:xfrm>
            <a:off x="11531520" y="33814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文本框 49"/>
          <p:cNvSpPr/>
          <p:nvPr/>
        </p:nvSpPr>
        <p:spPr>
          <a:xfrm>
            <a:off x="10748880" y="552276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文本框 50"/>
          <p:cNvSpPr/>
          <p:nvPr/>
        </p:nvSpPr>
        <p:spPr>
          <a:xfrm>
            <a:off x="8461440" y="6338880"/>
            <a:ext cx="53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文本框 51"/>
          <p:cNvSpPr/>
          <p:nvPr/>
        </p:nvSpPr>
        <p:spPr>
          <a:xfrm>
            <a:off x="6191280" y="55134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5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文本框 52"/>
          <p:cNvSpPr/>
          <p:nvPr/>
        </p:nvSpPr>
        <p:spPr>
          <a:xfrm>
            <a:off x="5278320" y="334332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1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文本框 53"/>
          <p:cNvSpPr/>
          <p:nvPr/>
        </p:nvSpPr>
        <p:spPr>
          <a:xfrm>
            <a:off x="6048360" y="1295280"/>
            <a:ext cx="69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20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文本框 54"/>
          <p:cNvSpPr/>
          <p:nvPr/>
        </p:nvSpPr>
        <p:spPr>
          <a:xfrm>
            <a:off x="8542440" y="5400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a3838"/>
                </a:solidFill>
                <a:latin typeface="微软雅黑"/>
                <a:ea typeface="微软雅黑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组合 60"/>
          <p:cNvGrpSpPr/>
          <p:nvPr/>
        </p:nvGrpSpPr>
        <p:grpSpPr>
          <a:xfrm>
            <a:off x="444600" y="441360"/>
            <a:ext cx="569880" cy="847080"/>
            <a:chOff x="444600" y="441360"/>
            <a:chExt cx="569880" cy="847080"/>
          </a:xfrm>
        </p:grpSpPr>
        <p:sp>
          <p:nvSpPr>
            <p:cNvPr id="944" name="任意多边形 56"/>
            <p:cNvSpPr/>
            <p:nvPr/>
          </p:nvSpPr>
          <p:spPr>
            <a:xfrm rot="10800000">
              <a:off x="525240" y="441360"/>
              <a:ext cx="384840" cy="215280"/>
            </a:xfrm>
            <a:custGeom>
              <a:avLst/>
              <a:gdLst>
                <a:gd name="textAreaLeft" fmla="*/ 0 w 384840"/>
                <a:gd name="textAreaRight" fmla="*/ 385200 w 38484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1610916" h="900112">
                  <a:moveTo>
                    <a:pt x="1610916" y="900112"/>
                  </a:moveTo>
                  <a:lnTo>
                    <a:pt x="1340637" y="900112"/>
                  </a:lnTo>
                  <a:lnTo>
                    <a:pt x="1246694" y="414345"/>
                  </a:lnTo>
                  <a:lnTo>
                    <a:pt x="1152750" y="900112"/>
                  </a:lnTo>
                  <a:lnTo>
                    <a:pt x="879759" y="900112"/>
                  </a:lnTo>
                  <a:lnTo>
                    <a:pt x="785816" y="414345"/>
                  </a:lnTo>
                  <a:lnTo>
                    <a:pt x="691872" y="900112"/>
                  </a:lnTo>
                  <a:lnTo>
                    <a:pt x="426027" y="900112"/>
                  </a:lnTo>
                  <a:lnTo>
                    <a:pt x="332084" y="414345"/>
                  </a:lnTo>
                  <a:lnTo>
                    <a:pt x="238140" y="900112"/>
                  </a:lnTo>
                  <a:lnTo>
                    <a:pt x="0" y="900112"/>
                  </a:lnTo>
                  <a:lnTo>
                    <a:pt x="225028" y="0"/>
                  </a:lnTo>
                  <a:lnTo>
                    <a:pt x="1385888" y="0"/>
                  </a:lnTo>
                  <a:lnTo>
                    <a:pt x="1610916" y="90011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圆角矩形 6"/>
            <p:cNvSpPr/>
            <p:nvPr/>
          </p:nvSpPr>
          <p:spPr>
            <a:xfrm>
              <a:off x="444600" y="707760"/>
              <a:ext cx="569880" cy="50940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2386012" h="3514541">
                  <a:moveTo>
                    <a:pt x="0" y="3202594"/>
                  </a:moveTo>
                  <a:lnTo>
                    <a:pt x="454159" y="14103"/>
                  </a:lnTo>
                  <a:lnTo>
                    <a:pt x="1884448" y="0"/>
                  </a:lnTo>
                  <a:cubicBezTo>
                    <a:pt x="1944376" y="588565"/>
                    <a:pt x="2300287" y="2133413"/>
                    <a:pt x="2386012" y="3202594"/>
                  </a:cubicBezTo>
                  <a:cubicBezTo>
                    <a:pt x="2386012" y="3374878"/>
                    <a:pt x="2246349" y="3514541"/>
                    <a:pt x="2074065" y="3514541"/>
                  </a:cubicBezTo>
                  <a:lnTo>
                    <a:pt x="311947" y="3514541"/>
                  </a:lnTo>
                  <a:cubicBezTo>
                    <a:pt x="139663" y="3514541"/>
                    <a:pt x="0" y="3374878"/>
                    <a:pt x="0" y="3202594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圆角矩形 58"/>
            <p:cNvSpPr/>
            <p:nvPr/>
          </p:nvSpPr>
          <p:spPr>
            <a:xfrm>
              <a:off x="505080" y="659880"/>
              <a:ext cx="42840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文本框 59"/>
            <p:cNvSpPr/>
            <p:nvPr/>
          </p:nvSpPr>
          <p:spPr>
            <a:xfrm>
              <a:off x="510120" y="645840"/>
              <a:ext cx="34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b1b5e"/>
                  </a:solidFill>
                  <a:latin typeface="Calibri"/>
                </a:rPr>
                <a:t>$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圆角矩形 1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椭圆 1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文本框 1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为年终奖达不到预期次年选择离职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2" name="组合 79"/>
          <p:cNvGrpSpPr/>
          <p:nvPr/>
        </p:nvGrpSpPr>
        <p:grpSpPr>
          <a:xfrm>
            <a:off x="1214280" y="3029040"/>
            <a:ext cx="2325960" cy="1639800"/>
            <a:chOff x="1214280" y="3029040"/>
            <a:chExt cx="2325960" cy="1639800"/>
          </a:xfrm>
        </p:grpSpPr>
        <p:sp>
          <p:nvSpPr>
            <p:cNvPr id="953" name="矩形 25"/>
            <p:cNvSpPr/>
            <p:nvPr/>
          </p:nvSpPr>
          <p:spPr>
            <a:xfrm>
              <a:off x="1214280" y="3029040"/>
              <a:ext cx="2325960" cy="2610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矩形 26"/>
            <p:cNvSpPr/>
            <p:nvPr/>
          </p:nvSpPr>
          <p:spPr>
            <a:xfrm>
              <a:off x="12762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矩形 27"/>
            <p:cNvSpPr/>
            <p:nvPr/>
          </p:nvSpPr>
          <p:spPr>
            <a:xfrm>
              <a:off x="173664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矩形 28"/>
            <p:cNvSpPr/>
            <p:nvPr/>
          </p:nvSpPr>
          <p:spPr>
            <a:xfrm>
              <a:off x="219672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矩形 29"/>
            <p:cNvSpPr/>
            <p:nvPr/>
          </p:nvSpPr>
          <p:spPr>
            <a:xfrm>
              <a:off x="265716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矩形 30"/>
            <p:cNvSpPr/>
            <p:nvPr/>
          </p:nvSpPr>
          <p:spPr>
            <a:xfrm>
              <a:off x="3117600" y="34146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31"/>
            <p:cNvSpPr/>
            <p:nvPr/>
          </p:nvSpPr>
          <p:spPr>
            <a:xfrm>
              <a:off x="12762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矩形 32"/>
            <p:cNvSpPr/>
            <p:nvPr/>
          </p:nvSpPr>
          <p:spPr>
            <a:xfrm>
              <a:off x="173664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矩形 33"/>
            <p:cNvSpPr/>
            <p:nvPr/>
          </p:nvSpPr>
          <p:spPr>
            <a:xfrm>
              <a:off x="219672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矩形 34"/>
            <p:cNvSpPr/>
            <p:nvPr/>
          </p:nvSpPr>
          <p:spPr>
            <a:xfrm>
              <a:off x="265716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矩形 35"/>
            <p:cNvSpPr/>
            <p:nvPr/>
          </p:nvSpPr>
          <p:spPr>
            <a:xfrm>
              <a:off x="3117600" y="386280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矩形 36"/>
            <p:cNvSpPr/>
            <p:nvPr/>
          </p:nvSpPr>
          <p:spPr>
            <a:xfrm>
              <a:off x="12762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矩形 37"/>
            <p:cNvSpPr/>
            <p:nvPr/>
          </p:nvSpPr>
          <p:spPr>
            <a:xfrm>
              <a:off x="173664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矩形 38"/>
            <p:cNvSpPr/>
            <p:nvPr/>
          </p:nvSpPr>
          <p:spPr>
            <a:xfrm>
              <a:off x="2196720" y="4310640"/>
              <a:ext cx="372960" cy="35820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矩形 39"/>
            <p:cNvSpPr/>
            <p:nvPr/>
          </p:nvSpPr>
          <p:spPr>
            <a:xfrm>
              <a:off x="265716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矩形 40"/>
            <p:cNvSpPr/>
            <p:nvPr/>
          </p:nvSpPr>
          <p:spPr>
            <a:xfrm>
              <a:off x="3117600" y="4310640"/>
              <a:ext cx="372960" cy="199080"/>
            </a:xfrm>
            <a:prstGeom prst="rect">
              <a:avLst/>
            </a:prstGeom>
            <a:solidFill>
              <a:srgbClr val="ed7d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矩形 41"/>
            <p:cNvSpPr/>
            <p:nvPr/>
          </p:nvSpPr>
          <p:spPr>
            <a:xfrm>
              <a:off x="1214280" y="3029040"/>
              <a:ext cx="2325960" cy="163980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0" name="组合 81"/>
          <p:cNvGrpSpPr/>
          <p:nvPr/>
        </p:nvGrpSpPr>
        <p:grpSpPr>
          <a:xfrm>
            <a:off x="8443800" y="3029040"/>
            <a:ext cx="2325960" cy="1614240"/>
            <a:chOff x="8443800" y="3029040"/>
            <a:chExt cx="2325960" cy="1614240"/>
          </a:xfrm>
        </p:grpSpPr>
        <p:sp>
          <p:nvSpPr>
            <p:cNvPr id="971" name="矩形 42"/>
            <p:cNvSpPr/>
            <p:nvPr/>
          </p:nvSpPr>
          <p:spPr>
            <a:xfrm>
              <a:off x="8443800" y="3029040"/>
              <a:ext cx="2325960" cy="261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矩形 43"/>
            <p:cNvSpPr/>
            <p:nvPr/>
          </p:nvSpPr>
          <p:spPr>
            <a:xfrm>
              <a:off x="85057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矩形 44"/>
            <p:cNvSpPr/>
            <p:nvPr/>
          </p:nvSpPr>
          <p:spPr>
            <a:xfrm>
              <a:off x="896616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矩形 45"/>
            <p:cNvSpPr/>
            <p:nvPr/>
          </p:nvSpPr>
          <p:spPr>
            <a:xfrm>
              <a:off x="942624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矩形 46"/>
            <p:cNvSpPr/>
            <p:nvPr/>
          </p:nvSpPr>
          <p:spPr>
            <a:xfrm>
              <a:off x="988668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矩形 47"/>
            <p:cNvSpPr/>
            <p:nvPr/>
          </p:nvSpPr>
          <p:spPr>
            <a:xfrm>
              <a:off x="10347120" y="341460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矩形 48"/>
            <p:cNvSpPr/>
            <p:nvPr/>
          </p:nvSpPr>
          <p:spPr>
            <a:xfrm>
              <a:off x="85057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矩形 49"/>
            <p:cNvSpPr/>
            <p:nvPr/>
          </p:nvSpPr>
          <p:spPr>
            <a:xfrm>
              <a:off x="896616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矩形 50"/>
            <p:cNvSpPr/>
            <p:nvPr/>
          </p:nvSpPr>
          <p:spPr>
            <a:xfrm>
              <a:off x="942624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矩形 51"/>
            <p:cNvSpPr/>
            <p:nvPr/>
          </p:nvSpPr>
          <p:spPr>
            <a:xfrm>
              <a:off x="988668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矩形 52"/>
            <p:cNvSpPr/>
            <p:nvPr/>
          </p:nvSpPr>
          <p:spPr>
            <a:xfrm>
              <a:off x="10347120" y="386244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矩形 53"/>
            <p:cNvSpPr/>
            <p:nvPr/>
          </p:nvSpPr>
          <p:spPr>
            <a:xfrm>
              <a:off x="85057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矩形 54"/>
            <p:cNvSpPr/>
            <p:nvPr/>
          </p:nvSpPr>
          <p:spPr>
            <a:xfrm>
              <a:off x="896616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矩形 55"/>
            <p:cNvSpPr/>
            <p:nvPr/>
          </p:nvSpPr>
          <p:spPr>
            <a:xfrm>
              <a:off x="9426240" y="4310280"/>
              <a:ext cx="372960" cy="33300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矩形 56"/>
            <p:cNvSpPr/>
            <p:nvPr/>
          </p:nvSpPr>
          <p:spPr>
            <a:xfrm>
              <a:off x="988668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矩形 57"/>
            <p:cNvSpPr/>
            <p:nvPr/>
          </p:nvSpPr>
          <p:spPr>
            <a:xfrm>
              <a:off x="10347120" y="4310280"/>
              <a:ext cx="372960" cy="198720"/>
            </a:xfrm>
            <a:prstGeom prst="rect">
              <a:avLst/>
            </a:prstGeom>
            <a:solidFill>
              <a:srgbClr val="5d00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矩形 58"/>
            <p:cNvSpPr/>
            <p:nvPr/>
          </p:nvSpPr>
          <p:spPr>
            <a:xfrm>
              <a:off x="8443800" y="3029040"/>
              <a:ext cx="232596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组合 80"/>
          <p:cNvGrpSpPr/>
          <p:nvPr/>
        </p:nvGrpSpPr>
        <p:grpSpPr>
          <a:xfrm>
            <a:off x="4829040" y="3029040"/>
            <a:ext cx="2327400" cy="1614240"/>
            <a:chOff x="4829040" y="3029040"/>
            <a:chExt cx="2327400" cy="1614240"/>
          </a:xfrm>
        </p:grpSpPr>
        <p:sp>
          <p:nvSpPr>
            <p:cNvPr id="989" name="矩形 59"/>
            <p:cNvSpPr/>
            <p:nvPr/>
          </p:nvSpPr>
          <p:spPr>
            <a:xfrm>
              <a:off x="4829040" y="3029040"/>
              <a:ext cx="2327400" cy="261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矩形 60"/>
            <p:cNvSpPr/>
            <p:nvPr/>
          </p:nvSpPr>
          <p:spPr>
            <a:xfrm>
              <a:off x="48909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矩形 61"/>
            <p:cNvSpPr/>
            <p:nvPr/>
          </p:nvSpPr>
          <p:spPr>
            <a:xfrm>
              <a:off x="535176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矩形 62"/>
            <p:cNvSpPr/>
            <p:nvPr/>
          </p:nvSpPr>
          <p:spPr>
            <a:xfrm>
              <a:off x="58122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矩形 63"/>
            <p:cNvSpPr/>
            <p:nvPr/>
          </p:nvSpPr>
          <p:spPr>
            <a:xfrm>
              <a:off x="627300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矩形 64"/>
            <p:cNvSpPr/>
            <p:nvPr/>
          </p:nvSpPr>
          <p:spPr>
            <a:xfrm>
              <a:off x="6733440" y="341460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矩形 65"/>
            <p:cNvSpPr/>
            <p:nvPr/>
          </p:nvSpPr>
          <p:spPr>
            <a:xfrm>
              <a:off x="48909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矩形 66"/>
            <p:cNvSpPr/>
            <p:nvPr/>
          </p:nvSpPr>
          <p:spPr>
            <a:xfrm>
              <a:off x="535176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矩形 67"/>
            <p:cNvSpPr/>
            <p:nvPr/>
          </p:nvSpPr>
          <p:spPr>
            <a:xfrm>
              <a:off x="58122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矩形 68"/>
            <p:cNvSpPr/>
            <p:nvPr/>
          </p:nvSpPr>
          <p:spPr>
            <a:xfrm>
              <a:off x="627300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矩形 69"/>
            <p:cNvSpPr/>
            <p:nvPr/>
          </p:nvSpPr>
          <p:spPr>
            <a:xfrm>
              <a:off x="6733440" y="386244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矩形 70"/>
            <p:cNvSpPr/>
            <p:nvPr/>
          </p:nvSpPr>
          <p:spPr>
            <a:xfrm>
              <a:off x="48909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矩形 71"/>
            <p:cNvSpPr/>
            <p:nvPr/>
          </p:nvSpPr>
          <p:spPr>
            <a:xfrm>
              <a:off x="535176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矩形 72"/>
            <p:cNvSpPr/>
            <p:nvPr/>
          </p:nvSpPr>
          <p:spPr>
            <a:xfrm>
              <a:off x="5812200" y="4310280"/>
              <a:ext cx="373320" cy="33300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矩形 73"/>
            <p:cNvSpPr/>
            <p:nvPr/>
          </p:nvSpPr>
          <p:spPr>
            <a:xfrm>
              <a:off x="627300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矩形 74"/>
            <p:cNvSpPr/>
            <p:nvPr/>
          </p:nvSpPr>
          <p:spPr>
            <a:xfrm>
              <a:off x="6733440" y="4310280"/>
              <a:ext cx="373320" cy="198720"/>
            </a:xfrm>
            <a:prstGeom prst="rect">
              <a:avLst/>
            </a:prstGeom>
            <a:solidFill>
              <a:srgbClr val="e5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矩形 75"/>
            <p:cNvSpPr/>
            <p:nvPr/>
          </p:nvSpPr>
          <p:spPr>
            <a:xfrm>
              <a:off x="4829040" y="3029040"/>
              <a:ext cx="2327400" cy="1614240"/>
            </a:xfrm>
            <a:prstGeom prst="rect">
              <a:avLst/>
            </a:prstGeom>
            <a:noFill/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圆角矩形标注 82"/>
          <p:cNvSpPr/>
          <p:nvPr/>
        </p:nvSpPr>
        <p:spPr>
          <a:xfrm rot="10800000">
            <a:off x="1356840" y="4978440"/>
            <a:ext cx="209412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83"/>
          <p:cNvSpPr/>
          <p:nvPr/>
        </p:nvSpPr>
        <p:spPr>
          <a:xfrm>
            <a:off x="1295280" y="5013360"/>
            <a:ext cx="20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啊，辛苦一年就看年终奖多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圆角矩形标注 84"/>
          <p:cNvSpPr/>
          <p:nvPr/>
        </p:nvSpPr>
        <p:spPr>
          <a:xfrm rot="10800000">
            <a:off x="4995360" y="4916520"/>
            <a:ext cx="2055960" cy="68112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e53f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85"/>
          <p:cNvSpPr/>
          <p:nvPr/>
        </p:nvSpPr>
        <p:spPr>
          <a:xfrm>
            <a:off x="4932360" y="495144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会综合考虑一下值不值得留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圆角矩形标注 86"/>
          <p:cNvSpPr/>
          <p:nvPr/>
        </p:nvSpPr>
        <p:spPr>
          <a:xfrm rot="10800000">
            <a:off x="8656200" y="4882680"/>
            <a:ext cx="1932120" cy="723960"/>
          </a:xfrm>
          <a:prstGeom prst="wedgeRoundRectCallout">
            <a:avLst>
              <a:gd name="adj1" fmla="val 20791"/>
              <a:gd name="adj2" fmla="val 70310"/>
              <a:gd name="adj3" fmla="val 16667"/>
            </a:avLst>
          </a:prstGeom>
          <a:solidFill>
            <a:srgbClr val="5d00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87"/>
          <p:cNvSpPr/>
          <p:nvPr/>
        </p:nvSpPr>
        <p:spPr>
          <a:xfrm>
            <a:off x="8593200" y="4917960"/>
            <a:ext cx="19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，不要在意一时的得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文本框 88"/>
          <p:cNvSpPr/>
          <p:nvPr/>
        </p:nvSpPr>
        <p:spPr>
          <a:xfrm>
            <a:off x="1417680" y="220824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9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89"/>
          <p:cNvSpPr/>
          <p:nvPr/>
        </p:nvSpPr>
        <p:spPr>
          <a:xfrm>
            <a:off x="5018040" y="2219400"/>
            <a:ext cx="20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5.7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文本框 90"/>
          <p:cNvSpPr/>
          <p:nvPr/>
        </p:nvSpPr>
        <p:spPr>
          <a:xfrm>
            <a:off x="8642520" y="2208240"/>
            <a:ext cx="20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4.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94"/>
          <p:cNvGrpSpPr/>
          <p:nvPr/>
        </p:nvGrpSpPr>
        <p:grpSpPr>
          <a:xfrm>
            <a:off x="766800" y="3800520"/>
            <a:ext cx="360360" cy="868320"/>
            <a:chOff x="766800" y="3800520"/>
            <a:chExt cx="360360" cy="868320"/>
          </a:xfrm>
        </p:grpSpPr>
        <p:sp>
          <p:nvSpPr>
            <p:cNvPr id="1016" name="矩形 91"/>
            <p:cNvSpPr/>
            <p:nvPr/>
          </p:nvSpPr>
          <p:spPr>
            <a:xfrm>
              <a:off x="882000" y="4184640"/>
              <a:ext cx="12348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等腰三角形 92"/>
            <p:cNvSpPr/>
            <p:nvPr/>
          </p:nvSpPr>
          <p:spPr>
            <a:xfrm>
              <a:off x="766800" y="396648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等腰三角形 93"/>
            <p:cNvSpPr/>
            <p:nvPr/>
          </p:nvSpPr>
          <p:spPr>
            <a:xfrm>
              <a:off x="772920" y="3800520"/>
              <a:ext cx="35424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组合 95"/>
          <p:cNvGrpSpPr/>
          <p:nvPr/>
        </p:nvGrpSpPr>
        <p:grpSpPr>
          <a:xfrm>
            <a:off x="3537000" y="3959280"/>
            <a:ext cx="284040" cy="684000"/>
            <a:chOff x="3537000" y="3959280"/>
            <a:chExt cx="284040" cy="684000"/>
          </a:xfrm>
        </p:grpSpPr>
        <p:sp>
          <p:nvSpPr>
            <p:cNvPr id="1020" name="矩形 96"/>
            <p:cNvSpPr/>
            <p:nvPr/>
          </p:nvSpPr>
          <p:spPr>
            <a:xfrm>
              <a:off x="362772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等腰三角形 97"/>
            <p:cNvSpPr/>
            <p:nvPr/>
          </p:nvSpPr>
          <p:spPr>
            <a:xfrm>
              <a:off x="353700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等腰三角形 98"/>
            <p:cNvSpPr/>
            <p:nvPr/>
          </p:nvSpPr>
          <p:spPr>
            <a:xfrm>
              <a:off x="354204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组合 99"/>
          <p:cNvGrpSpPr/>
          <p:nvPr/>
        </p:nvGrpSpPr>
        <p:grpSpPr>
          <a:xfrm>
            <a:off x="4479840" y="3762360"/>
            <a:ext cx="362160" cy="868320"/>
            <a:chOff x="4479840" y="3762360"/>
            <a:chExt cx="362160" cy="868320"/>
          </a:xfrm>
        </p:grpSpPr>
        <p:sp>
          <p:nvSpPr>
            <p:cNvPr id="1024" name="矩形 100"/>
            <p:cNvSpPr/>
            <p:nvPr/>
          </p:nvSpPr>
          <p:spPr>
            <a:xfrm>
              <a:off x="4595400" y="41464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等腰三角形 101"/>
            <p:cNvSpPr/>
            <p:nvPr/>
          </p:nvSpPr>
          <p:spPr>
            <a:xfrm>
              <a:off x="4479840" y="39283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等腰三角形 102"/>
            <p:cNvSpPr/>
            <p:nvPr/>
          </p:nvSpPr>
          <p:spPr>
            <a:xfrm>
              <a:off x="4486320" y="37623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7" name="组合 103"/>
          <p:cNvGrpSpPr/>
          <p:nvPr/>
        </p:nvGrpSpPr>
        <p:grpSpPr>
          <a:xfrm>
            <a:off x="7182000" y="3933720"/>
            <a:ext cx="282600" cy="684360"/>
            <a:chOff x="7182000" y="3933720"/>
            <a:chExt cx="282600" cy="684360"/>
          </a:xfrm>
        </p:grpSpPr>
        <p:sp>
          <p:nvSpPr>
            <p:cNvPr id="1028" name="矩形 104"/>
            <p:cNvSpPr/>
            <p:nvPr/>
          </p:nvSpPr>
          <p:spPr>
            <a:xfrm>
              <a:off x="7272360" y="4236480"/>
              <a:ext cx="9684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等腰三角形 105"/>
            <p:cNvSpPr/>
            <p:nvPr/>
          </p:nvSpPr>
          <p:spPr>
            <a:xfrm>
              <a:off x="7182000" y="406440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等腰三角形 106"/>
            <p:cNvSpPr/>
            <p:nvPr/>
          </p:nvSpPr>
          <p:spPr>
            <a:xfrm>
              <a:off x="7187040" y="3933720"/>
              <a:ext cx="277560" cy="1814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1" name="组合 107"/>
          <p:cNvGrpSpPr/>
          <p:nvPr/>
        </p:nvGrpSpPr>
        <p:grpSpPr>
          <a:xfrm>
            <a:off x="8080200" y="3749760"/>
            <a:ext cx="362160" cy="868320"/>
            <a:chOff x="8080200" y="3749760"/>
            <a:chExt cx="362160" cy="868320"/>
          </a:xfrm>
        </p:grpSpPr>
        <p:sp>
          <p:nvSpPr>
            <p:cNvPr id="1032" name="矩形 108"/>
            <p:cNvSpPr/>
            <p:nvPr/>
          </p:nvSpPr>
          <p:spPr>
            <a:xfrm>
              <a:off x="8195760" y="4133880"/>
              <a:ext cx="123840" cy="4842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等腰三角形 109"/>
            <p:cNvSpPr/>
            <p:nvPr/>
          </p:nvSpPr>
          <p:spPr>
            <a:xfrm>
              <a:off x="8080200" y="391572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等腰三角形 110"/>
            <p:cNvSpPr/>
            <p:nvPr/>
          </p:nvSpPr>
          <p:spPr>
            <a:xfrm>
              <a:off x="8086680" y="3749760"/>
              <a:ext cx="355680" cy="23004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组合 111"/>
          <p:cNvGrpSpPr/>
          <p:nvPr/>
        </p:nvGrpSpPr>
        <p:grpSpPr>
          <a:xfrm>
            <a:off x="10817280" y="3959280"/>
            <a:ext cx="284040" cy="684000"/>
            <a:chOff x="10817280" y="3959280"/>
            <a:chExt cx="284040" cy="684000"/>
          </a:xfrm>
        </p:grpSpPr>
        <p:sp>
          <p:nvSpPr>
            <p:cNvPr id="1036" name="矩形 112"/>
            <p:cNvSpPr/>
            <p:nvPr/>
          </p:nvSpPr>
          <p:spPr>
            <a:xfrm>
              <a:off x="10908000" y="4261680"/>
              <a:ext cx="97200" cy="3816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等腰三角形 113"/>
            <p:cNvSpPr/>
            <p:nvPr/>
          </p:nvSpPr>
          <p:spPr>
            <a:xfrm>
              <a:off x="10817280" y="408996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等腰三角形 114"/>
            <p:cNvSpPr/>
            <p:nvPr/>
          </p:nvSpPr>
          <p:spPr>
            <a:xfrm>
              <a:off x="10822320" y="3959280"/>
              <a:ext cx="279000" cy="181080"/>
            </a:xfrm>
            <a:prstGeom prst="triangle">
              <a:avLst>
                <a:gd name="adj" fmla="val 50000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任意多边形 116"/>
          <p:cNvSpPr/>
          <p:nvPr/>
        </p:nvSpPr>
        <p:spPr>
          <a:xfrm>
            <a:off x="2867040" y="2921040"/>
            <a:ext cx="1112760" cy="1012680"/>
          </a:xfrm>
          <a:custGeom>
            <a:avLst/>
            <a:gdLst>
              <a:gd name="textAreaLeft" fmla="*/ 0 w 1112760"/>
              <a:gd name="textAreaRight" fmla="*/ 1113120 w 11127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1771650" h="1614487">
                <a:moveTo>
                  <a:pt x="0" y="1614487"/>
                </a:moveTo>
                <a:lnTo>
                  <a:pt x="0" y="1614487"/>
                </a:lnTo>
                <a:lnTo>
                  <a:pt x="171450" y="1457325"/>
                </a:lnTo>
                <a:lnTo>
                  <a:pt x="1457325" y="485775"/>
                </a:lnTo>
                <a:lnTo>
                  <a:pt x="1528762" y="471487"/>
                </a:lnTo>
                <a:lnTo>
                  <a:pt x="1571625" y="500062"/>
                </a:lnTo>
                <a:lnTo>
                  <a:pt x="1614487" y="642937"/>
                </a:lnTo>
                <a:lnTo>
                  <a:pt x="1614487" y="785812"/>
                </a:lnTo>
                <a:lnTo>
                  <a:pt x="1771650" y="0"/>
                </a:lnTo>
                <a:lnTo>
                  <a:pt x="600075" y="128587"/>
                </a:lnTo>
                <a:lnTo>
                  <a:pt x="1000125" y="142875"/>
                </a:lnTo>
                <a:lnTo>
                  <a:pt x="1100137" y="171450"/>
                </a:lnTo>
                <a:lnTo>
                  <a:pt x="1028700" y="285750"/>
                </a:lnTo>
                <a:lnTo>
                  <a:pt x="0" y="1614487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文本框 117"/>
          <p:cNvSpPr/>
          <p:nvPr/>
        </p:nvSpPr>
        <p:spPr>
          <a:xfrm rot="19798800">
            <a:off x="4563360" y="261288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文本框 118"/>
          <p:cNvSpPr/>
          <p:nvPr/>
        </p:nvSpPr>
        <p:spPr>
          <a:xfrm rot="645600">
            <a:off x="7053120" y="2904840"/>
            <a:ext cx="39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心形 119"/>
          <p:cNvSpPr/>
          <p:nvPr/>
        </p:nvSpPr>
        <p:spPr>
          <a:xfrm rot="1508400">
            <a:off x="10509120" y="2785680"/>
            <a:ext cx="330480" cy="541440"/>
          </a:xfrm>
          <a:custGeom>
            <a:avLst/>
            <a:gdLst>
              <a:gd name="textAreaLeft" fmla="*/ 77040 w 330480"/>
              <a:gd name="textAreaRight" fmla="*/ 253440 w 330480"/>
              <a:gd name="textAreaTop" fmla="*/ 56880 h 541440"/>
              <a:gd name="textAreaBottom" fmla="*/ 342720 h 54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心形 120"/>
          <p:cNvSpPr/>
          <p:nvPr/>
        </p:nvSpPr>
        <p:spPr>
          <a:xfrm>
            <a:off x="10277640" y="3533760"/>
            <a:ext cx="183960" cy="304920"/>
          </a:xfrm>
          <a:custGeom>
            <a:avLst/>
            <a:gdLst>
              <a:gd name="textAreaLeft" fmla="*/ 42840 w 183960"/>
              <a:gd name="textAreaRight" fmla="*/ 141120 w 183960"/>
              <a:gd name="textAreaTop" fmla="*/ 32040 h 304920"/>
              <a:gd name="textAreaBottom" fmla="*/ 192960 h 3049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组合 121"/>
          <p:cNvGrpSpPr/>
          <p:nvPr/>
        </p:nvGrpSpPr>
        <p:grpSpPr>
          <a:xfrm>
            <a:off x="469800" y="339840"/>
            <a:ext cx="622440" cy="863640"/>
            <a:chOff x="469800" y="339840"/>
            <a:chExt cx="622440" cy="863640"/>
          </a:xfrm>
        </p:grpSpPr>
        <p:sp>
          <p:nvSpPr>
            <p:cNvPr id="1045" name="任意多边形 122"/>
            <p:cNvSpPr/>
            <p:nvPr/>
          </p:nvSpPr>
          <p:spPr>
            <a:xfrm>
              <a:off x="469800" y="920160"/>
              <a:ext cx="622440" cy="283320"/>
            </a:xfrm>
            <a:custGeom>
              <a:avLst/>
              <a:gdLst>
                <a:gd name="textAreaLeft" fmla="*/ 0 w 622440"/>
                <a:gd name="textAreaRight" fmla="*/ 622800 w 62244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2293257" h="1045028">
                  <a:moveTo>
                    <a:pt x="1582057" y="493485"/>
                  </a:moveTo>
                  <a:lnTo>
                    <a:pt x="1973943" y="261257"/>
                  </a:lnTo>
                  <a:lnTo>
                    <a:pt x="2191657" y="319314"/>
                  </a:lnTo>
                  <a:lnTo>
                    <a:pt x="2293257" y="0"/>
                  </a:lnTo>
                  <a:lnTo>
                    <a:pt x="1669143" y="14514"/>
                  </a:lnTo>
                  <a:lnTo>
                    <a:pt x="1785257" y="130628"/>
                  </a:lnTo>
                  <a:lnTo>
                    <a:pt x="1451428" y="275771"/>
                  </a:lnTo>
                  <a:lnTo>
                    <a:pt x="1349828" y="406400"/>
                  </a:lnTo>
                  <a:lnTo>
                    <a:pt x="986971" y="362857"/>
                  </a:lnTo>
                  <a:lnTo>
                    <a:pt x="595086" y="130628"/>
                  </a:lnTo>
                  <a:lnTo>
                    <a:pt x="682171" y="58057"/>
                  </a:lnTo>
                  <a:lnTo>
                    <a:pt x="58057" y="0"/>
                  </a:lnTo>
                  <a:lnTo>
                    <a:pt x="116114" y="275771"/>
                  </a:lnTo>
                  <a:lnTo>
                    <a:pt x="333828" y="217714"/>
                  </a:lnTo>
                  <a:lnTo>
                    <a:pt x="725714" y="420914"/>
                  </a:lnTo>
                  <a:lnTo>
                    <a:pt x="798286" y="493485"/>
                  </a:lnTo>
                  <a:lnTo>
                    <a:pt x="333828" y="754743"/>
                  </a:lnTo>
                  <a:lnTo>
                    <a:pt x="130628" y="725714"/>
                  </a:lnTo>
                  <a:lnTo>
                    <a:pt x="0" y="1045028"/>
                  </a:lnTo>
                  <a:lnTo>
                    <a:pt x="682171" y="986971"/>
                  </a:lnTo>
                  <a:lnTo>
                    <a:pt x="551543" y="914400"/>
                  </a:lnTo>
                  <a:lnTo>
                    <a:pt x="885371" y="725714"/>
                  </a:lnTo>
                  <a:lnTo>
                    <a:pt x="1364343" y="711200"/>
                  </a:lnTo>
                  <a:lnTo>
                    <a:pt x="1727200" y="870857"/>
                  </a:lnTo>
                  <a:lnTo>
                    <a:pt x="1582057" y="986971"/>
                  </a:lnTo>
                  <a:lnTo>
                    <a:pt x="2278743" y="1001485"/>
                  </a:lnTo>
                  <a:lnTo>
                    <a:pt x="2191657" y="696685"/>
                  </a:lnTo>
                  <a:lnTo>
                    <a:pt x="2046514" y="783771"/>
                  </a:lnTo>
                  <a:lnTo>
                    <a:pt x="1582057" y="49348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椭圆 123"/>
            <p:cNvSpPr/>
            <p:nvPr/>
          </p:nvSpPr>
          <p:spPr>
            <a:xfrm>
              <a:off x="660600" y="981000"/>
              <a:ext cx="248040" cy="161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组合 124"/>
            <p:cNvGrpSpPr/>
            <p:nvPr/>
          </p:nvGrpSpPr>
          <p:grpSpPr>
            <a:xfrm>
              <a:off x="609120" y="339840"/>
              <a:ext cx="350640" cy="702360"/>
              <a:chOff x="609120" y="339840"/>
              <a:chExt cx="350640" cy="702360"/>
            </a:xfrm>
          </p:grpSpPr>
          <p:sp>
            <p:nvSpPr>
              <p:cNvPr id="1048" name="任意多边形 125"/>
              <p:cNvSpPr/>
              <p:nvPr/>
            </p:nvSpPr>
            <p:spPr>
              <a:xfrm>
                <a:off x="687240" y="528840"/>
                <a:ext cx="194040" cy="513360"/>
              </a:xfrm>
              <a:custGeom>
                <a:avLst/>
                <a:gdLst>
                  <a:gd name="textAreaLeft" fmla="*/ 0 w 194040"/>
                  <a:gd name="textAreaRight" fmla="*/ 194400 w 194040"/>
                  <a:gd name="textAreaTop" fmla="*/ 0 h 513360"/>
                  <a:gd name="textAreaBottom" fmla="*/ 513720 h 5133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圆角矩形 126"/>
              <p:cNvSpPr/>
              <p:nvPr/>
            </p:nvSpPr>
            <p:spPr>
              <a:xfrm>
                <a:off x="609120" y="5364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椭圆 127"/>
              <p:cNvSpPr/>
              <p:nvPr/>
            </p:nvSpPr>
            <p:spPr>
              <a:xfrm>
                <a:off x="702000" y="339840"/>
                <a:ext cx="164880" cy="164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圆角矩形 128"/>
              <p:cNvSpPr/>
              <p:nvPr/>
            </p:nvSpPr>
            <p:spPr>
              <a:xfrm>
                <a:off x="898200" y="529200"/>
                <a:ext cx="61560" cy="256320"/>
              </a:xfrm>
              <a:custGeom>
                <a:avLst/>
                <a:gdLst>
                  <a:gd name="textAreaLeft" fmla="*/ 9000 w 61560"/>
                  <a:gd name="textAreaRight" fmla="*/ 52560 w 61560"/>
                  <a:gd name="textAreaTop" fmla="*/ 9000 h 256320"/>
                  <a:gd name="textAreaBottom" fmla="*/ 247320 h 256320"/>
                </a:gdLst>
                <a:ahLst/>
                <a:rect l="textAreaLeft" t="textAreaTop" r="textAreaRight" b="textAreaBottom"/>
                <a:pathLst>
                  <a:path w="21600" h="89540">
                    <a:moveTo>
                      <a:pt x="10800" y="0"/>
                    </a:moveTo>
                    <a:arcTo wR="10800" hR="10800" stAng="16200000" swAng="-5400000"/>
                    <a:lnTo>
                      <a:pt x="0" y="78740"/>
                    </a:lnTo>
                    <a:arcTo wR="10800" hR="10800" stAng="10800000" swAng="-5400000"/>
                    <a:lnTo>
                      <a:pt x="10800" y="8954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2" name="矩形 1"/>
          <p:cNvSpPr/>
          <p:nvPr/>
        </p:nvSpPr>
        <p:spPr>
          <a:xfrm>
            <a:off x="209520" y="6111720"/>
            <a:ext cx="6095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哎呀小小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800sucai.taobao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微信号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yaxxc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（关注后资料永久免费更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rcRect l="11793" t="26255" r="9118" b="0"/>
          <a:stretch/>
        </p:blipFill>
        <p:spPr>
          <a:xfrm>
            <a:off x="9194760" y="4021200"/>
            <a:ext cx="2629080" cy="2247840"/>
          </a:xfrm>
          <a:prstGeom prst="rect">
            <a:avLst/>
          </a:prstGeom>
          <a:ln w="0">
            <a:noFill/>
          </a:ln>
        </p:spPr>
      </p:pic>
      <p:grpSp>
        <p:nvGrpSpPr>
          <p:cNvPr id="1054" name="组合 21"/>
          <p:cNvGrpSpPr/>
          <p:nvPr/>
        </p:nvGrpSpPr>
        <p:grpSpPr>
          <a:xfrm>
            <a:off x="4186080" y="1441440"/>
            <a:ext cx="868680" cy="868320"/>
            <a:chOff x="4186080" y="1441440"/>
            <a:chExt cx="868680" cy="868320"/>
          </a:xfrm>
        </p:grpSpPr>
        <p:sp>
          <p:nvSpPr>
            <p:cNvPr id="1055" name="椭圆 19"/>
            <p:cNvSpPr/>
            <p:nvPr/>
          </p:nvSpPr>
          <p:spPr>
            <a:xfrm>
              <a:off x="4186080" y="14414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6" name="图片 2" descr=""/>
            <p:cNvPicPr/>
            <p:nvPr/>
          </p:nvPicPr>
          <p:blipFill>
            <a:blip r:embed="rId2"/>
            <a:srcRect l="28062" t="62413" r="42534" b="22777"/>
            <a:stretch/>
          </p:blipFill>
          <p:spPr>
            <a:xfrm>
              <a:off x="4290480" y="1661760"/>
              <a:ext cx="646200" cy="43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7" name="组合 29"/>
          <p:cNvGrpSpPr/>
          <p:nvPr/>
        </p:nvGrpSpPr>
        <p:grpSpPr>
          <a:xfrm>
            <a:off x="4186080" y="5388120"/>
            <a:ext cx="868680" cy="869760"/>
            <a:chOff x="4186080" y="5388120"/>
            <a:chExt cx="868680" cy="869760"/>
          </a:xfrm>
        </p:grpSpPr>
        <p:sp>
          <p:nvSpPr>
            <p:cNvPr id="1058" name="椭圆 20"/>
            <p:cNvSpPr/>
            <p:nvPr/>
          </p:nvSpPr>
          <p:spPr>
            <a:xfrm>
              <a:off x="4186080" y="5388120"/>
              <a:ext cx="868680" cy="86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图片 3" descr=""/>
            <p:cNvPicPr/>
            <p:nvPr/>
          </p:nvPicPr>
          <p:blipFill>
            <a:blip r:embed="rId3"/>
            <a:srcRect l="46137" t="29071" r="37008" b="44822"/>
            <a:stretch/>
          </p:blipFill>
          <p:spPr>
            <a:xfrm>
              <a:off x="4370400" y="5475600"/>
              <a:ext cx="468000" cy="68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组合 26"/>
          <p:cNvGrpSpPr/>
          <p:nvPr/>
        </p:nvGrpSpPr>
        <p:grpSpPr>
          <a:xfrm>
            <a:off x="4186080" y="2463840"/>
            <a:ext cx="868680" cy="868320"/>
            <a:chOff x="4186080" y="2463840"/>
            <a:chExt cx="868680" cy="868320"/>
          </a:xfrm>
        </p:grpSpPr>
        <p:sp>
          <p:nvSpPr>
            <p:cNvPr id="1061" name="椭圆 22"/>
            <p:cNvSpPr/>
            <p:nvPr/>
          </p:nvSpPr>
          <p:spPr>
            <a:xfrm>
              <a:off x="4186080" y="246384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2" name="图片 4" descr=""/>
            <p:cNvPicPr/>
            <p:nvPr/>
          </p:nvPicPr>
          <p:blipFill>
            <a:blip r:embed="rId4"/>
            <a:srcRect l="28867" t="56" r="0" b="0"/>
            <a:stretch/>
          </p:blipFill>
          <p:spPr>
            <a:xfrm>
              <a:off x="4395600" y="2554560"/>
              <a:ext cx="470520" cy="64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3" name="组合 28"/>
          <p:cNvGrpSpPr/>
          <p:nvPr/>
        </p:nvGrpSpPr>
        <p:grpSpPr>
          <a:xfrm>
            <a:off x="4186080" y="4411800"/>
            <a:ext cx="868680" cy="868320"/>
            <a:chOff x="4186080" y="4411800"/>
            <a:chExt cx="868680" cy="868320"/>
          </a:xfrm>
        </p:grpSpPr>
        <p:sp>
          <p:nvSpPr>
            <p:cNvPr id="1064" name="椭圆 25"/>
            <p:cNvSpPr/>
            <p:nvPr/>
          </p:nvSpPr>
          <p:spPr>
            <a:xfrm>
              <a:off x="4186080" y="441180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5" name="图片 5" descr=""/>
            <p:cNvPicPr/>
            <p:nvPr/>
          </p:nvPicPr>
          <p:blipFill>
            <a:blip r:embed="rId5"/>
            <a:stretch/>
          </p:blipFill>
          <p:spPr>
            <a:xfrm>
              <a:off x="4367160" y="4609080"/>
              <a:ext cx="537480" cy="53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6" name="圆角矩形 6"/>
          <p:cNvSpPr/>
          <p:nvPr/>
        </p:nvSpPr>
        <p:spPr>
          <a:xfrm>
            <a:off x="700200" y="428760"/>
            <a:ext cx="74008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椭圆 7"/>
          <p:cNvSpPr/>
          <p:nvPr/>
        </p:nvSpPr>
        <p:spPr>
          <a:xfrm>
            <a:off x="217440" y="254160"/>
            <a:ext cx="115560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8"/>
          <p:cNvSpPr/>
          <p:nvPr/>
        </p:nvSpPr>
        <p:spPr>
          <a:xfrm>
            <a:off x="1368360" y="55404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你会和同事、朋友等披露年终奖数字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27"/>
          <p:cNvGrpSpPr/>
          <p:nvPr/>
        </p:nvGrpSpPr>
        <p:grpSpPr>
          <a:xfrm>
            <a:off x="4186080" y="3435480"/>
            <a:ext cx="868680" cy="868320"/>
            <a:chOff x="4186080" y="3435480"/>
            <a:chExt cx="868680" cy="868320"/>
          </a:xfrm>
        </p:grpSpPr>
        <p:sp>
          <p:nvSpPr>
            <p:cNvPr id="1070" name="椭圆 24"/>
            <p:cNvSpPr/>
            <p:nvPr/>
          </p:nvSpPr>
          <p:spPr>
            <a:xfrm>
              <a:off x="4186080" y="3435480"/>
              <a:ext cx="868680" cy="868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1" name="图片 18" descr=""/>
            <p:cNvPicPr/>
            <p:nvPr/>
          </p:nvPicPr>
          <p:blipFill>
            <a:blip r:embed="rId6"/>
            <a:srcRect l="8341" t="552" r="76394" b="73158"/>
            <a:stretch/>
          </p:blipFill>
          <p:spPr>
            <a:xfrm>
              <a:off x="4420440" y="3543480"/>
              <a:ext cx="399600" cy="6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2" name="矩形 30"/>
          <p:cNvSpPr/>
          <p:nvPr/>
        </p:nvSpPr>
        <p:spPr>
          <a:xfrm>
            <a:off x="5295960" y="1623960"/>
            <a:ext cx="4432320" cy="547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矩形 31"/>
          <p:cNvSpPr/>
          <p:nvPr/>
        </p:nvSpPr>
        <p:spPr>
          <a:xfrm>
            <a:off x="5295960" y="2622600"/>
            <a:ext cx="3898800" cy="547560"/>
          </a:xfrm>
          <a:prstGeom prst="rect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矩形 32"/>
          <p:cNvSpPr/>
          <p:nvPr/>
        </p:nvSpPr>
        <p:spPr>
          <a:xfrm>
            <a:off x="5289480" y="3595680"/>
            <a:ext cx="946080" cy="547560"/>
          </a:xfrm>
          <a:prstGeom prst="rect">
            <a:avLst/>
          </a:prstGeom>
          <a:solidFill>
            <a:srgbClr val="b8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33"/>
          <p:cNvSpPr/>
          <p:nvPr/>
        </p:nvSpPr>
        <p:spPr>
          <a:xfrm>
            <a:off x="5289480" y="4568760"/>
            <a:ext cx="1695600" cy="547920"/>
          </a:xfrm>
          <a:prstGeom prst="rect">
            <a:avLst/>
          </a:prstGeom>
          <a:solidFill>
            <a:srgbClr val="e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矩形 34"/>
          <p:cNvSpPr/>
          <p:nvPr/>
        </p:nvSpPr>
        <p:spPr>
          <a:xfrm>
            <a:off x="5289480" y="5546880"/>
            <a:ext cx="2076480" cy="546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35"/>
          <p:cNvSpPr/>
          <p:nvPr/>
        </p:nvSpPr>
        <p:spPr>
          <a:xfrm>
            <a:off x="8477280" y="16128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36"/>
          <p:cNvSpPr/>
          <p:nvPr/>
        </p:nvSpPr>
        <p:spPr>
          <a:xfrm>
            <a:off x="7943760" y="26384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.7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37"/>
          <p:cNvSpPr/>
          <p:nvPr/>
        </p:nvSpPr>
        <p:spPr>
          <a:xfrm>
            <a:off x="5369040" y="3578400"/>
            <a:ext cx="95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38"/>
          <p:cNvSpPr/>
          <p:nvPr/>
        </p:nvSpPr>
        <p:spPr>
          <a:xfrm>
            <a:off x="5848200" y="458640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.2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39"/>
          <p:cNvSpPr/>
          <p:nvPr/>
        </p:nvSpPr>
        <p:spPr>
          <a:xfrm>
            <a:off x="6213600" y="554364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.3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40"/>
          <p:cNvSpPr/>
          <p:nvPr/>
        </p:nvSpPr>
        <p:spPr>
          <a:xfrm>
            <a:off x="581040" y="16239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会，这是个人隐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41"/>
          <p:cNvSpPr/>
          <p:nvPr/>
        </p:nvSpPr>
        <p:spPr>
          <a:xfrm>
            <a:off x="581040" y="262728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心的人可以披露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42"/>
          <p:cNvSpPr/>
          <p:nvPr/>
        </p:nvSpPr>
        <p:spPr>
          <a:xfrm>
            <a:off x="596880" y="3435480"/>
            <a:ext cx="357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别人先跟我说的话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也会说一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43"/>
          <p:cNvSpPr/>
          <p:nvPr/>
        </p:nvSpPr>
        <p:spPr>
          <a:xfrm>
            <a:off x="581040" y="465444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都是私下大方讨论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44"/>
          <p:cNvSpPr/>
          <p:nvPr/>
        </p:nvSpPr>
        <p:spPr>
          <a:xfrm>
            <a:off x="581040" y="5591160"/>
            <a:ext cx="3576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很透明，拿多少都是公开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7" name="组合 56"/>
          <p:cNvGrpSpPr/>
          <p:nvPr/>
        </p:nvGrpSpPr>
        <p:grpSpPr>
          <a:xfrm>
            <a:off x="304920" y="495360"/>
            <a:ext cx="981000" cy="638280"/>
            <a:chOff x="304920" y="495360"/>
            <a:chExt cx="981000" cy="638280"/>
          </a:xfrm>
        </p:grpSpPr>
        <p:grpSp>
          <p:nvGrpSpPr>
            <p:cNvPr id="1088" name="组合 57"/>
            <p:cNvGrpSpPr/>
            <p:nvPr/>
          </p:nvGrpSpPr>
          <p:grpSpPr>
            <a:xfrm>
              <a:off x="1109880" y="640800"/>
              <a:ext cx="176040" cy="353520"/>
              <a:chOff x="1109880" y="640800"/>
              <a:chExt cx="176040" cy="353520"/>
            </a:xfrm>
          </p:grpSpPr>
          <p:sp>
            <p:nvSpPr>
              <p:cNvPr id="1089" name="任意多边形 78"/>
              <p:cNvSpPr/>
              <p:nvPr/>
            </p:nvSpPr>
            <p:spPr>
              <a:xfrm>
                <a:off x="1149120" y="735840"/>
                <a:ext cx="97560" cy="25848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圆角矩形 79"/>
              <p:cNvSpPr/>
              <p:nvPr/>
            </p:nvSpPr>
            <p:spPr>
              <a:xfrm>
                <a:off x="110988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椭圆 80"/>
              <p:cNvSpPr/>
              <p:nvPr/>
            </p:nvSpPr>
            <p:spPr>
              <a:xfrm>
                <a:off x="115632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圆角矩形 81"/>
              <p:cNvSpPr/>
              <p:nvPr/>
            </p:nvSpPr>
            <p:spPr>
              <a:xfrm>
                <a:off x="125496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组合 58"/>
            <p:cNvGrpSpPr/>
            <p:nvPr/>
          </p:nvGrpSpPr>
          <p:grpSpPr>
            <a:xfrm>
              <a:off x="304920" y="640800"/>
              <a:ext cx="176040" cy="353520"/>
              <a:chOff x="304920" y="640800"/>
              <a:chExt cx="176040" cy="353520"/>
            </a:xfrm>
          </p:grpSpPr>
          <p:sp>
            <p:nvSpPr>
              <p:cNvPr id="1094" name="任意多边形 74"/>
              <p:cNvSpPr/>
              <p:nvPr/>
            </p:nvSpPr>
            <p:spPr>
              <a:xfrm>
                <a:off x="344160" y="735840"/>
                <a:ext cx="97560" cy="258480"/>
              </a:xfrm>
              <a:custGeom>
                <a:avLst/>
                <a:gdLst>
                  <a:gd name="textAreaLeft" fmla="*/ 0 w 97560"/>
                  <a:gd name="textAreaRight" fmla="*/ 97920 w 97560"/>
                  <a:gd name="textAreaTop" fmla="*/ 0 h 258480"/>
                  <a:gd name="textAreaBottom" fmla="*/ 258840 h 25848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圆角矩形 75"/>
              <p:cNvSpPr/>
              <p:nvPr/>
            </p:nvSpPr>
            <p:spPr>
              <a:xfrm>
                <a:off x="304920" y="73980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椭圆 76"/>
              <p:cNvSpPr/>
              <p:nvPr/>
            </p:nvSpPr>
            <p:spPr>
              <a:xfrm>
                <a:off x="351360" y="640800"/>
                <a:ext cx="82800" cy="828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圆角矩形 77"/>
              <p:cNvSpPr/>
              <p:nvPr/>
            </p:nvSpPr>
            <p:spPr>
              <a:xfrm>
                <a:off x="450000" y="735840"/>
                <a:ext cx="30960" cy="128880"/>
              </a:xfrm>
              <a:custGeom>
                <a:avLst/>
                <a:gdLst>
                  <a:gd name="textAreaLeft" fmla="*/ 4320 w 30960"/>
                  <a:gd name="textAreaRight" fmla="*/ 26640 w 30960"/>
                  <a:gd name="textAreaTop" fmla="*/ 4320 h 128880"/>
                  <a:gd name="textAreaBottom" fmla="*/ 124560 h 128880"/>
                </a:gdLst>
                <a:ahLst/>
                <a:rect l="textAreaLeft" t="textAreaTop" r="textAreaRight" b="textAreaBottom"/>
                <a:pathLst>
                  <a:path w="21600" h="89131">
                    <a:moveTo>
                      <a:pt x="10800" y="0"/>
                    </a:moveTo>
                    <a:arcTo wR="10800" hR="10800" stAng="16200000" swAng="-5400000"/>
                    <a:lnTo>
                      <a:pt x="0" y="78331"/>
                    </a:lnTo>
                    <a:arcTo wR="10800" hR="10800" stAng="10800000" swAng="-5400000"/>
                    <a:lnTo>
                      <a:pt x="10800" y="89131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8" name="组合 59"/>
            <p:cNvGrpSpPr/>
            <p:nvPr/>
          </p:nvGrpSpPr>
          <p:grpSpPr>
            <a:xfrm>
              <a:off x="454320" y="597240"/>
              <a:ext cx="222840" cy="446400"/>
              <a:chOff x="454320" y="597240"/>
              <a:chExt cx="222840" cy="446400"/>
            </a:xfrm>
          </p:grpSpPr>
          <p:sp>
            <p:nvSpPr>
              <p:cNvPr id="1099" name="任意多边形 70"/>
              <p:cNvSpPr/>
              <p:nvPr/>
            </p:nvSpPr>
            <p:spPr>
              <a:xfrm>
                <a:off x="504000" y="717480"/>
                <a:ext cx="123120" cy="32616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圆角矩形 71"/>
              <p:cNvSpPr/>
              <p:nvPr/>
            </p:nvSpPr>
            <p:spPr>
              <a:xfrm>
                <a:off x="45432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椭圆 72"/>
              <p:cNvSpPr/>
              <p:nvPr/>
            </p:nvSpPr>
            <p:spPr>
              <a:xfrm>
                <a:off x="51336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圆角矩形 73"/>
              <p:cNvSpPr/>
              <p:nvPr/>
            </p:nvSpPr>
            <p:spPr>
              <a:xfrm>
                <a:off x="63828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组合 60"/>
            <p:cNvGrpSpPr/>
            <p:nvPr/>
          </p:nvGrpSpPr>
          <p:grpSpPr>
            <a:xfrm>
              <a:off x="911880" y="597240"/>
              <a:ext cx="222840" cy="446400"/>
              <a:chOff x="911880" y="597240"/>
              <a:chExt cx="222840" cy="446400"/>
            </a:xfrm>
          </p:grpSpPr>
          <p:sp>
            <p:nvSpPr>
              <p:cNvPr id="1104" name="任意多边形 66"/>
              <p:cNvSpPr/>
              <p:nvPr/>
            </p:nvSpPr>
            <p:spPr>
              <a:xfrm>
                <a:off x="961560" y="717480"/>
                <a:ext cx="123120" cy="32616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圆角矩形 67"/>
              <p:cNvSpPr/>
              <p:nvPr/>
            </p:nvSpPr>
            <p:spPr>
              <a:xfrm>
                <a:off x="911880" y="72216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椭圆 68"/>
              <p:cNvSpPr/>
              <p:nvPr/>
            </p:nvSpPr>
            <p:spPr>
              <a:xfrm>
                <a:off x="970920" y="597240"/>
                <a:ext cx="104760" cy="104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圆角矩形 69"/>
              <p:cNvSpPr/>
              <p:nvPr/>
            </p:nvSpPr>
            <p:spPr>
              <a:xfrm>
                <a:off x="1095840" y="717480"/>
                <a:ext cx="38880" cy="163080"/>
              </a:xfrm>
              <a:custGeom>
                <a:avLst/>
                <a:gdLst>
                  <a:gd name="textAreaLeft" fmla="*/ 5400 w 38880"/>
                  <a:gd name="textAreaRight" fmla="*/ 33480 w 38880"/>
                  <a:gd name="textAreaTop" fmla="*/ 5400 h 163080"/>
                  <a:gd name="textAreaBottom" fmla="*/ 157680 h 163080"/>
                </a:gdLst>
                <a:ahLst/>
                <a:rect l="textAreaLeft" t="textAreaTop" r="textAreaRight" b="textAreaBottom"/>
                <a:pathLst>
                  <a:path w="21600" h="89967">
                    <a:moveTo>
                      <a:pt x="10800" y="0"/>
                    </a:moveTo>
                    <a:arcTo wR="10800" hR="10800" stAng="16200000" swAng="-5400000"/>
                    <a:lnTo>
                      <a:pt x="0" y="79167"/>
                    </a:lnTo>
                    <a:arcTo wR="10800" hR="10800" stAng="10800000" swAng="-5400000"/>
                    <a:lnTo>
                      <a:pt x="10800" y="89967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8" name="组合 61"/>
            <p:cNvGrpSpPr/>
            <p:nvPr/>
          </p:nvGrpSpPr>
          <p:grpSpPr>
            <a:xfrm>
              <a:off x="633960" y="495360"/>
              <a:ext cx="318600" cy="638280"/>
              <a:chOff x="633960" y="495360"/>
              <a:chExt cx="318600" cy="638280"/>
            </a:xfrm>
          </p:grpSpPr>
          <p:sp>
            <p:nvSpPr>
              <p:cNvPr id="1109" name="任意多边形 62"/>
              <p:cNvSpPr/>
              <p:nvPr/>
            </p:nvSpPr>
            <p:spPr>
              <a:xfrm>
                <a:off x="704880" y="667080"/>
                <a:ext cx="176400" cy="466560"/>
              </a:xfrm>
              <a:custGeom>
                <a:avLst/>
                <a:gdLst>
                  <a:gd name="textAreaLeft" fmla="*/ 0 w 176400"/>
                  <a:gd name="textAreaRight" fmla="*/ 176760 w 17640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圆角矩形 63"/>
              <p:cNvSpPr/>
              <p:nvPr/>
            </p:nvSpPr>
            <p:spPr>
              <a:xfrm>
                <a:off x="633960" y="67392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椭圆 64"/>
              <p:cNvSpPr/>
              <p:nvPr/>
            </p:nvSpPr>
            <p:spPr>
              <a:xfrm>
                <a:off x="718200" y="495360"/>
                <a:ext cx="149760" cy="1497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圆角矩形 65"/>
              <p:cNvSpPr/>
              <p:nvPr/>
            </p:nvSpPr>
            <p:spPr>
              <a:xfrm>
                <a:off x="896760" y="667440"/>
                <a:ext cx="55800" cy="232920"/>
              </a:xfrm>
              <a:custGeom>
                <a:avLst/>
                <a:gdLst>
                  <a:gd name="textAreaLeft" fmla="*/ 7920 w 55800"/>
                  <a:gd name="textAreaRight" fmla="*/ 47880 w 55800"/>
                  <a:gd name="textAreaTop" fmla="*/ 7920 h 232920"/>
                  <a:gd name="textAreaBottom" fmla="*/ 225000 h 232920"/>
                </a:gdLst>
                <a:ahLst/>
                <a:rect l="textAreaLeft" t="textAreaTop" r="textAreaRight" b="textAreaBottom"/>
                <a:pathLst>
                  <a:path w="21600" h="89723">
                    <a:moveTo>
                      <a:pt x="10800" y="0"/>
                    </a:moveTo>
                    <a:arcTo wR="10800" hR="10800" stAng="16200000" swAng="-5400000"/>
                    <a:lnTo>
                      <a:pt x="0" y="78923"/>
                    </a:lnTo>
                    <a:arcTo wR="10800" hR="10800" stAng="10800000" swAng="-5400000"/>
                    <a:lnTo>
                      <a:pt x="10800" y="8972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组合 372"/>
          <p:cNvGrpSpPr/>
          <p:nvPr/>
        </p:nvGrpSpPr>
        <p:grpSpPr>
          <a:xfrm>
            <a:off x="923760" y="1292400"/>
            <a:ext cx="10474560" cy="5422680"/>
            <a:chOff x="923760" y="1292400"/>
            <a:chExt cx="10474560" cy="5422680"/>
          </a:xfrm>
        </p:grpSpPr>
        <p:sp>
          <p:nvSpPr>
            <p:cNvPr id="1114" name="矩形 363"/>
            <p:cNvSpPr/>
            <p:nvPr/>
          </p:nvSpPr>
          <p:spPr>
            <a:xfrm>
              <a:off x="923760" y="12942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矩形 364"/>
            <p:cNvSpPr/>
            <p:nvPr/>
          </p:nvSpPr>
          <p:spPr>
            <a:xfrm>
              <a:off x="4420440" y="129240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矩形 365"/>
            <p:cNvSpPr/>
            <p:nvPr/>
          </p:nvSpPr>
          <p:spPr>
            <a:xfrm>
              <a:off x="7913520" y="129420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矩形 366"/>
            <p:cNvSpPr/>
            <p:nvPr/>
          </p:nvSpPr>
          <p:spPr>
            <a:xfrm>
              <a:off x="923760" y="310860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矩形 367"/>
            <p:cNvSpPr/>
            <p:nvPr/>
          </p:nvSpPr>
          <p:spPr>
            <a:xfrm>
              <a:off x="4420440" y="3106800"/>
              <a:ext cx="3484800" cy="180396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bfbfb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矩形 368"/>
            <p:cNvSpPr/>
            <p:nvPr/>
          </p:nvSpPr>
          <p:spPr>
            <a:xfrm>
              <a:off x="7913520" y="3108600"/>
              <a:ext cx="3484800" cy="180396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矩形 369"/>
            <p:cNvSpPr/>
            <p:nvPr/>
          </p:nvSpPr>
          <p:spPr>
            <a:xfrm>
              <a:off x="923760" y="4911120"/>
              <a:ext cx="3484800" cy="180396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矩形 370"/>
            <p:cNvSpPr/>
            <p:nvPr/>
          </p:nvSpPr>
          <p:spPr>
            <a:xfrm>
              <a:off x="4420440" y="4909320"/>
              <a:ext cx="3484800" cy="1803960"/>
            </a:xfrm>
            <a:prstGeom prst="rect">
              <a:avLst/>
            </a:prstGeom>
            <a:solidFill>
              <a:srgbClr val="4d0068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矩形 371"/>
            <p:cNvSpPr/>
            <p:nvPr/>
          </p:nvSpPr>
          <p:spPr>
            <a:xfrm>
              <a:off x="7913520" y="4911120"/>
              <a:ext cx="3484800" cy="180396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圆角矩形 28"/>
          <p:cNvSpPr/>
          <p:nvPr/>
        </p:nvSpPr>
        <p:spPr>
          <a:xfrm>
            <a:off x="584280" y="341280"/>
            <a:ext cx="6297480" cy="863640"/>
          </a:xfrm>
          <a:prstGeom prst="roundRect">
            <a:avLst>
              <a:gd name="adj" fmla="val 16667"/>
            </a:avLst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椭圆 29"/>
          <p:cNvSpPr/>
          <p:nvPr/>
        </p:nvSpPr>
        <p:spPr>
          <a:xfrm>
            <a:off x="101520" y="166680"/>
            <a:ext cx="1155960" cy="1155600"/>
          </a:xfrm>
          <a:prstGeom prst="ellipse">
            <a:avLst/>
          </a:prstGeom>
          <a:solidFill>
            <a:srgbClr val="cb1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30"/>
          <p:cNvSpPr/>
          <p:nvPr/>
        </p:nvSpPr>
        <p:spPr>
          <a:xfrm>
            <a:off x="1317600" y="46656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福州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楼土豪预期的年终奖有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组合 81"/>
          <p:cNvGrpSpPr/>
          <p:nvPr/>
        </p:nvGrpSpPr>
        <p:grpSpPr>
          <a:xfrm>
            <a:off x="1182600" y="1514520"/>
            <a:ext cx="1067040" cy="1150920"/>
            <a:chOff x="1182600" y="1514520"/>
            <a:chExt cx="1067040" cy="1150920"/>
          </a:xfrm>
        </p:grpSpPr>
        <p:sp>
          <p:nvSpPr>
            <p:cNvPr id="1127" name="矩形 58"/>
            <p:cNvSpPr/>
            <p:nvPr/>
          </p:nvSpPr>
          <p:spPr>
            <a:xfrm>
              <a:off x="1182600" y="1971360"/>
              <a:ext cx="716040" cy="676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组合 80"/>
            <p:cNvGrpSpPr/>
            <p:nvPr/>
          </p:nvGrpSpPr>
          <p:grpSpPr>
            <a:xfrm>
              <a:off x="1540080" y="1514520"/>
              <a:ext cx="626040" cy="825840"/>
              <a:chOff x="1540080" y="1514520"/>
              <a:chExt cx="626040" cy="825840"/>
            </a:xfrm>
          </p:grpSpPr>
          <p:sp>
            <p:nvSpPr>
              <p:cNvPr id="1129" name="圆角矩形 59"/>
              <p:cNvSpPr/>
              <p:nvPr/>
            </p:nvSpPr>
            <p:spPr>
              <a:xfrm>
                <a:off x="1928160" y="1754640"/>
                <a:ext cx="237960" cy="585720"/>
              </a:xfrm>
              <a:custGeom>
                <a:avLst/>
                <a:gdLst>
                  <a:gd name="textAreaLeft" fmla="*/ 27720 w 237960"/>
                  <a:gd name="textAreaRight" fmla="*/ 210240 w 237960"/>
                  <a:gd name="textAreaTop" fmla="*/ 27720 h 585720"/>
                  <a:gd name="textAreaBottom" fmla="*/ 558000 h 585720"/>
                </a:gdLst>
                <a:ahLst/>
                <a:rect l="textAreaLeft" t="textAreaTop" r="textAreaRight" b="textAreaBottom"/>
                <a:pathLst>
                  <a:path w="21600" h="53119">
                    <a:moveTo>
                      <a:pt x="8603" y="0"/>
                    </a:moveTo>
                    <a:arcTo wR="8603" hR="8603" stAng="16200000" swAng="-5400000"/>
                    <a:lnTo>
                      <a:pt x="0" y="44516"/>
                    </a:lnTo>
                    <a:arcTo wR="8603" hR="8603" stAng="10800000" swAng="-5400000"/>
                    <a:lnTo>
                      <a:pt x="12997" y="53119"/>
                    </a:lnTo>
                    <a:arcTo wR="8603" hR="8603" stAng="5400000" swAng="-5400000"/>
                    <a:lnTo>
                      <a:pt x="21600" y="8603"/>
                    </a:lnTo>
                    <a:arcTo wR="8603" hR="8603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圆角矩形 60"/>
              <p:cNvSpPr/>
              <p:nvPr/>
            </p:nvSpPr>
            <p:spPr>
              <a:xfrm>
                <a:off x="1681920" y="2194200"/>
                <a:ext cx="439200" cy="1461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圆角矩形 61"/>
              <p:cNvSpPr/>
              <p:nvPr/>
            </p:nvSpPr>
            <p:spPr>
              <a:xfrm rot="19995600">
                <a:off x="1757880" y="181152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圆角矩形 62"/>
              <p:cNvSpPr/>
              <p:nvPr/>
            </p:nvSpPr>
            <p:spPr>
              <a:xfrm>
                <a:off x="1540080" y="1862640"/>
                <a:ext cx="298080" cy="8604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矩形 63"/>
              <p:cNvSpPr/>
              <p:nvPr/>
            </p:nvSpPr>
            <p:spPr>
              <a:xfrm rot="660000">
                <a:off x="1626840" y="1719000"/>
                <a:ext cx="208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椭圆 64"/>
              <p:cNvSpPr/>
              <p:nvPr/>
            </p:nvSpPr>
            <p:spPr>
              <a:xfrm>
                <a:off x="1898640" y="1514520"/>
                <a:ext cx="216720" cy="216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5" name="矩形 66"/>
            <p:cNvSpPr/>
            <p:nvPr/>
          </p:nvSpPr>
          <p:spPr>
            <a:xfrm>
              <a:off x="2205000" y="1862640"/>
              <a:ext cx="44640" cy="80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6" name="组合 79"/>
            <p:cNvGrpSpPr/>
            <p:nvPr/>
          </p:nvGrpSpPr>
          <p:grpSpPr>
            <a:xfrm>
              <a:off x="1202040" y="1558800"/>
              <a:ext cx="256680" cy="389520"/>
              <a:chOff x="1202040" y="1558800"/>
              <a:chExt cx="256680" cy="389520"/>
            </a:xfrm>
          </p:grpSpPr>
          <p:sp>
            <p:nvSpPr>
              <p:cNvPr id="1137" name="矩形 67"/>
              <p:cNvSpPr/>
              <p:nvPr/>
            </p:nvSpPr>
            <p:spPr>
              <a:xfrm>
                <a:off x="1229400" y="1905480"/>
                <a:ext cx="229320" cy="42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圆角矩形 68"/>
              <p:cNvSpPr/>
              <p:nvPr/>
            </p:nvSpPr>
            <p:spPr>
              <a:xfrm>
                <a:off x="1225080" y="18640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圆角矩形 69"/>
              <p:cNvSpPr/>
              <p:nvPr/>
            </p:nvSpPr>
            <p:spPr>
              <a:xfrm>
                <a:off x="1247760" y="182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圆角矩形 70"/>
              <p:cNvSpPr/>
              <p:nvPr/>
            </p:nvSpPr>
            <p:spPr>
              <a:xfrm>
                <a:off x="1202040" y="18054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圆角矩形 71"/>
              <p:cNvSpPr/>
              <p:nvPr/>
            </p:nvSpPr>
            <p:spPr>
              <a:xfrm>
                <a:off x="1250640" y="17701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圆角矩形 72"/>
              <p:cNvSpPr/>
              <p:nvPr/>
            </p:nvSpPr>
            <p:spPr>
              <a:xfrm>
                <a:off x="1233720" y="173484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圆角矩形 73"/>
              <p:cNvSpPr/>
              <p:nvPr/>
            </p:nvSpPr>
            <p:spPr>
              <a:xfrm>
                <a:off x="1229400" y="169956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圆角矩形 74"/>
              <p:cNvSpPr/>
              <p:nvPr/>
            </p:nvSpPr>
            <p:spPr>
              <a:xfrm>
                <a:off x="1247760" y="166428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圆角矩形 75"/>
              <p:cNvSpPr/>
              <p:nvPr/>
            </p:nvSpPr>
            <p:spPr>
              <a:xfrm>
                <a:off x="1225080" y="16290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圆角矩形 76"/>
              <p:cNvSpPr/>
              <p:nvPr/>
            </p:nvSpPr>
            <p:spPr>
              <a:xfrm>
                <a:off x="1225080" y="159372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圆角矩形 77"/>
              <p:cNvSpPr/>
              <p:nvPr/>
            </p:nvSpPr>
            <p:spPr>
              <a:xfrm>
                <a:off x="1247760" y="1558800"/>
                <a:ext cx="192240" cy="208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8" name="组合 92"/>
          <p:cNvGrpSpPr/>
          <p:nvPr/>
        </p:nvGrpSpPr>
        <p:grpSpPr>
          <a:xfrm>
            <a:off x="4624560" y="1581120"/>
            <a:ext cx="1147680" cy="1133640"/>
            <a:chOff x="4624560" y="1581120"/>
            <a:chExt cx="1147680" cy="1133640"/>
          </a:xfrm>
        </p:grpSpPr>
        <p:sp>
          <p:nvSpPr>
            <p:cNvPr id="1149" name="矩形 82"/>
            <p:cNvSpPr/>
            <p:nvPr/>
          </p:nvSpPr>
          <p:spPr>
            <a:xfrm>
              <a:off x="4624560" y="2204280"/>
              <a:ext cx="795960" cy="510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0" name="组合 88"/>
            <p:cNvGrpSpPr/>
            <p:nvPr/>
          </p:nvGrpSpPr>
          <p:grpSpPr>
            <a:xfrm>
              <a:off x="5018400" y="1581120"/>
              <a:ext cx="726120" cy="864360"/>
              <a:chOff x="5018400" y="1581120"/>
              <a:chExt cx="726120" cy="864360"/>
            </a:xfrm>
          </p:grpSpPr>
          <p:sp>
            <p:nvSpPr>
              <p:cNvPr id="1151" name="空心弧 83"/>
              <p:cNvSpPr/>
              <p:nvPr/>
            </p:nvSpPr>
            <p:spPr>
              <a:xfrm rot="4241400">
                <a:off x="5214240" y="1989720"/>
                <a:ext cx="626400" cy="24048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240480"/>
                  <a:gd name="textAreaBottom" fmla="*/ 85680 h 240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矩形 84"/>
              <p:cNvSpPr/>
              <p:nvPr/>
            </p:nvSpPr>
            <p:spPr>
              <a:xfrm>
                <a:off x="5018400" y="2085120"/>
                <a:ext cx="616680" cy="32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等腰三角形 85"/>
              <p:cNvSpPr/>
              <p:nvPr/>
            </p:nvSpPr>
            <p:spPr>
              <a:xfrm>
                <a:off x="5176800" y="1814760"/>
                <a:ext cx="458280" cy="287640"/>
              </a:xfrm>
              <a:prstGeom prst="triangle">
                <a:avLst>
                  <a:gd name="adj" fmla="val 54134"/>
                </a:avLst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椭圆 86"/>
              <p:cNvSpPr/>
              <p:nvPr/>
            </p:nvSpPr>
            <p:spPr>
              <a:xfrm>
                <a:off x="5154120" y="1581120"/>
                <a:ext cx="264600" cy="264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矩形 89"/>
            <p:cNvSpPr/>
            <p:nvPr/>
          </p:nvSpPr>
          <p:spPr>
            <a:xfrm>
              <a:off x="5477400" y="2443320"/>
              <a:ext cx="64080" cy="27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矩形 90"/>
            <p:cNvSpPr/>
            <p:nvPr/>
          </p:nvSpPr>
          <p:spPr>
            <a:xfrm rot="16200000">
              <a:off x="5574600" y="2347200"/>
              <a:ext cx="64080" cy="258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矩形 91"/>
            <p:cNvSpPr/>
            <p:nvPr/>
          </p:nvSpPr>
          <p:spPr>
            <a:xfrm>
              <a:off x="5708160" y="1837080"/>
              <a:ext cx="64080" cy="671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任意多边形 362"/>
          <p:cNvSpPr/>
          <p:nvPr/>
        </p:nvSpPr>
        <p:spPr>
          <a:xfrm rot="877200">
            <a:off x="8091360" y="1528920"/>
            <a:ext cx="986040" cy="1250640"/>
          </a:xfrm>
          <a:custGeom>
            <a:avLst/>
            <a:gdLst>
              <a:gd name="textAreaLeft" fmla="*/ 0 w 986040"/>
              <a:gd name="textAreaRight" fmla="*/ 986400 w 986040"/>
              <a:gd name="textAreaTop" fmla="*/ 0 h 1250640"/>
              <a:gd name="textAreaBottom" fmla="*/ 1251000 h 1250640"/>
            </a:gdLst>
            <a:ahLst/>
            <a:rect l="textAreaLeft" t="textAreaTop" r="textAreaRight" b="textAreaBottom"/>
            <a:pathLst>
              <a:path w="1479681" h="1880129">
                <a:moveTo>
                  <a:pt x="867509" y="1195779"/>
                </a:moveTo>
                <a:cubicBezTo>
                  <a:pt x="798247" y="1204744"/>
                  <a:pt x="749368" y="1268159"/>
                  <a:pt x="758332" y="1337420"/>
                </a:cubicBezTo>
                <a:cubicBezTo>
                  <a:pt x="767297" y="1406682"/>
                  <a:pt x="830713" y="1455561"/>
                  <a:pt x="899973" y="1446597"/>
                </a:cubicBezTo>
                <a:cubicBezTo>
                  <a:pt x="917289" y="1444355"/>
                  <a:pt x="933331" y="1438710"/>
                  <a:pt x="947513" y="1430422"/>
                </a:cubicBezTo>
                <a:lnTo>
                  <a:pt x="957724" y="1421432"/>
                </a:lnTo>
                <a:lnTo>
                  <a:pt x="1113467" y="1553072"/>
                </a:lnTo>
                <a:lnTo>
                  <a:pt x="1158421" y="1499887"/>
                </a:lnTo>
                <a:lnTo>
                  <a:pt x="1000093" y="1366063"/>
                </a:lnTo>
                <a:lnTo>
                  <a:pt x="1005613" y="1355046"/>
                </a:lnTo>
                <a:cubicBezTo>
                  <a:pt x="1010017" y="1339220"/>
                  <a:pt x="1011391" y="1322270"/>
                  <a:pt x="1009150" y="1304955"/>
                </a:cubicBezTo>
                <a:cubicBezTo>
                  <a:pt x="1000185" y="1235693"/>
                  <a:pt x="936769" y="1186814"/>
                  <a:pt x="867509" y="1195779"/>
                </a:cubicBezTo>
                <a:close/>
                <a:moveTo>
                  <a:pt x="1066467" y="792150"/>
                </a:moveTo>
                <a:lnTo>
                  <a:pt x="1052741" y="917310"/>
                </a:lnTo>
                <a:lnTo>
                  <a:pt x="1074153" y="926063"/>
                </a:lnTo>
                <a:lnTo>
                  <a:pt x="1044908" y="1037874"/>
                </a:lnTo>
                <a:lnTo>
                  <a:pt x="1067066" y="1049491"/>
                </a:lnTo>
                <a:lnTo>
                  <a:pt x="1042055" y="1230447"/>
                </a:lnTo>
                <a:lnTo>
                  <a:pt x="1124071" y="1075375"/>
                </a:lnTo>
                <a:lnTo>
                  <a:pt x="1097671" y="1063704"/>
                </a:lnTo>
                <a:lnTo>
                  <a:pt x="1148004" y="964949"/>
                </a:lnTo>
                <a:lnTo>
                  <a:pt x="1116013" y="946838"/>
                </a:lnTo>
                <a:lnTo>
                  <a:pt x="1169297" y="843113"/>
                </a:lnTo>
                <a:lnTo>
                  <a:pt x="1066467" y="792150"/>
                </a:lnTo>
                <a:close/>
                <a:moveTo>
                  <a:pt x="276747" y="632412"/>
                </a:moveTo>
                <a:lnTo>
                  <a:pt x="231987" y="701438"/>
                </a:lnTo>
                <a:lnTo>
                  <a:pt x="670086" y="985519"/>
                </a:lnTo>
                <a:lnTo>
                  <a:pt x="714845" y="916493"/>
                </a:lnTo>
                <a:lnTo>
                  <a:pt x="276747" y="632412"/>
                </a:lnTo>
                <a:close/>
                <a:moveTo>
                  <a:pt x="1083396" y="419609"/>
                </a:moveTo>
                <a:lnTo>
                  <a:pt x="1097854" y="591613"/>
                </a:lnTo>
                <a:lnTo>
                  <a:pt x="974476" y="661542"/>
                </a:lnTo>
                <a:lnTo>
                  <a:pt x="1116291" y="662294"/>
                </a:lnTo>
                <a:lnTo>
                  <a:pt x="1187695" y="819444"/>
                </a:lnTo>
                <a:lnTo>
                  <a:pt x="1173236" y="647440"/>
                </a:lnTo>
                <a:lnTo>
                  <a:pt x="1296614" y="577511"/>
                </a:lnTo>
                <a:lnTo>
                  <a:pt x="1154799" y="576759"/>
                </a:lnTo>
                <a:lnTo>
                  <a:pt x="1083396" y="419609"/>
                </a:lnTo>
                <a:close/>
                <a:moveTo>
                  <a:pt x="533141" y="368666"/>
                </a:moveTo>
                <a:lnTo>
                  <a:pt x="694750" y="463406"/>
                </a:lnTo>
                <a:cubicBezTo>
                  <a:pt x="663126" y="492814"/>
                  <a:pt x="615956" y="497997"/>
                  <a:pt x="578701" y="476157"/>
                </a:cubicBezTo>
                <a:cubicBezTo>
                  <a:pt x="541446" y="454317"/>
                  <a:pt x="522927" y="410626"/>
                  <a:pt x="533141" y="368666"/>
                </a:cubicBezTo>
                <a:close/>
                <a:moveTo>
                  <a:pt x="617476" y="294590"/>
                </a:moveTo>
                <a:cubicBezTo>
                  <a:pt x="637878" y="292348"/>
                  <a:pt x="658985" y="296512"/>
                  <a:pt x="677612" y="307432"/>
                </a:cubicBezTo>
                <a:cubicBezTo>
                  <a:pt x="714867" y="329272"/>
                  <a:pt x="733385" y="372963"/>
                  <a:pt x="723172" y="414923"/>
                </a:cubicBezTo>
                <a:lnTo>
                  <a:pt x="561563" y="320183"/>
                </a:lnTo>
                <a:cubicBezTo>
                  <a:pt x="577375" y="305479"/>
                  <a:pt x="597074" y="296831"/>
                  <a:pt x="617476" y="294590"/>
                </a:cubicBezTo>
                <a:close/>
                <a:moveTo>
                  <a:pt x="588664" y="240397"/>
                </a:moveTo>
                <a:cubicBezTo>
                  <a:pt x="505049" y="262208"/>
                  <a:pt x="454947" y="347672"/>
                  <a:pt x="476759" y="431287"/>
                </a:cubicBezTo>
                <a:cubicBezTo>
                  <a:pt x="498570" y="514902"/>
                  <a:pt x="584034" y="565004"/>
                  <a:pt x="667649" y="543192"/>
                </a:cubicBezTo>
                <a:cubicBezTo>
                  <a:pt x="751264" y="521381"/>
                  <a:pt x="801366" y="435917"/>
                  <a:pt x="779554" y="352302"/>
                </a:cubicBezTo>
                <a:cubicBezTo>
                  <a:pt x="757743" y="268687"/>
                  <a:pt x="672279" y="218585"/>
                  <a:pt x="588664" y="240397"/>
                </a:cubicBezTo>
                <a:close/>
                <a:moveTo>
                  <a:pt x="592078" y="17634"/>
                </a:moveTo>
                <a:cubicBezTo>
                  <a:pt x="948391" y="-75311"/>
                  <a:pt x="1330898" y="208386"/>
                  <a:pt x="1446431" y="651291"/>
                </a:cubicBezTo>
                <a:cubicBezTo>
                  <a:pt x="1518639" y="928106"/>
                  <a:pt x="1469471" y="1201596"/>
                  <a:pt x="1335450" y="1390478"/>
                </a:cubicBezTo>
                <a:lnTo>
                  <a:pt x="1317419" y="1410950"/>
                </a:lnTo>
                <a:lnTo>
                  <a:pt x="1395607" y="1710688"/>
                </a:lnTo>
                <a:lnTo>
                  <a:pt x="1400275" y="1740617"/>
                </a:lnTo>
                <a:lnTo>
                  <a:pt x="865447" y="1880129"/>
                </a:lnTo>
                <a:lnTo>
                  <a:pt x="854901" y="1851733"/>
                </a:lnTo>
                <a:lnTo>
                  <a:pt x="804029" y="1656715"/>
                </a:lnTo>
                <a:lnTo>
                  <a:pt x="772772" y="1676144"/>
                </a:lnTo>
                <a:cubicBezTo>
                  <a:pt x="751782" y="1686466"/>
                  <a:pt x="729445" y="1694837"/>
                  <a:pt x="705929" y="1700971"/>
                </a:cubicBezTo>
                <a:lnTo>
                  <a:pt x="705929" y="1700970"/>
                </a:lnTo>
                <a:cubicBezTo>
                  <a:pt x="635383" y="1719372"/>
                  <a:pt x="564251" y="1715022"/>
                  <a:pt x="500304" y="1692475"/>
                </a:cubicBezTo>
                <a:lnTo>
                  <a:pt x="452384" y="1670227"/>
                </a:lnTo>
                <a:lnTo>
                  <a:pt x="510778" y="1627691"/>
                </a:lnTo>
                <a:cubicBezTo>
                  <a:pt x="575076" y="1567556"/>
                  <a:pt x="610824" y="1501237"/>
                  <a:pt x="611232" y="1431405"/>
                </a:cubicBezTo>
                <a:lnTo>
                  <a:pt x="611232" y="1431404"/>
                </a:lnTo>
                <a:cubicBezTo>
                  <a:pt x="536424" y="1470767"/>
                  <a:pt x="451024" y="1505972"/>
                  <a:pt x="357234" y="1536595"/>
                </a:cubicBezTo>
                <a:lnTo>
                  <a:pt x="323854" y="1546252"/>
                </a:lnTo>
                <a:lnTo>
                  <a:pt x="276444" y="1449194"/>
                </a:lnTo>
                <a:lnTo>
                  <a:pt x="237349" y="1299322"/>
                </a:lnTo>
                <a:lnTo>
                  <a:pt x="0" y="1299322"/>
                </a:lnTo>
                <a:lnTo>
                  <a:pt x="175516" y="1062280"/>
                </a:lnTo>
                <a:lnTo>
                  <a:pt x="143213" y="938443"/>
                </a:lnTo>
                <a:cubicBezTo>
                  <a:pt x="137079" y="914928"/>
                  <a:pt x="133473" y="891347"/>
                  <a:pt x="132226" y="867989"/>
                </a:cubicBezTo>
                <a:lnTo>
                  <a:pt x="132800" y="855465"/>
                </a:lnTo>
                <a:lnTo>
                  <a:pt x="127056" y="822836"/>
                </a:lnTo>
                <a:cubicBezTo>
                  <a:pt x="91890" y="441709"/>
                  <a:pt x="280305" y="98961"/>
                  <a:pt x="592078" y="17634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组合 152"/>
          <p:cNvGrpSpPr/>
          <p:nvPr/>
        </p:nvGrpSpPr>
        <p:grpSpPr>
          <a:xfrm>
            <a:off x="1044720" y="3633840"/>
            <a:ext cx="1309680" cy="887400"/>
            <a:chOff x="1044720" y="3633840"/>
            <a:chExt cx="1309680" cy="887400"/>
          </a:xfrm>
        </p:grpSpPr>
        <p:sp>
          <p:nvSpPr>
            <p:cNvPr id="1160" name="任意多边形 146"/>
            <p:cNvSpPr/>
            <p:nvPr/>
          </p:nvSpPr>
          <p:spPr>
            <a:xfrm>
              <a:off x="1044720" y="3647160"/>
              <a:ext cx="559440" cy="874080"/>
            </a:xfrm>
            <a:custGeom>
              <a:avLst/>
              <a:gdLst>
                <a:gd name="textAreaLeft" fmla="*/ 0 w 559440"/>
                <a:gd name="textAreaRight" fmla="*/ 559800 w 559440"/>
                <a:gd name="textAreaTop" fmla="*/ 0 h 874080"/>
                <a:gd name="textAreaBottom" fmla="*/ 874440 h 874080"/>
              </a:gdLst>
              <a:ahLst/>
              <a:rect l="textAreaLeft" t="textAreaTop" r="textAreaRight" b="textAreaBottom"/>
              <a:pathLst>
                <a:path w="1041400" h="1627786">
                  <a:moveTo>
                    <a:pt x="704985" y="1440749"/>
                  </a:moveTo>
                  <a:lnTo>
                    <a:pt x="704985" y="1536688"/>
                  </a:lnTo>
                  <a:lnTo>
                    <a:pt x="920885" y="1536688"/>
                  </a:lnTo>
                  <a:lnTo>
                    <a:pt x="920885" y="1440749"/>
                  </a:lnTo>
                  <a:lnTo>
                    <a:pt x="704985" y="1440749"/>
                  </a:lnTo>
                  <a:close/>
                  <a:moveTo>
                    <a:pt x="413658" y="1440749"/>
                  </a:moveTo>
                  <a:lnTo>
                    <a:pt x="413658" y="1536688"/>
                  </a:lnTo>
                  <a:lnTo>
                    <a:pt x="629558" y="1536688"/>
                  </a:lnTo>
                  <a:lnTo>
                    <a:pt x="629558" y="1440749"/>
                  </a:lnTo>
                  <a:lnTo>
                    <a:pt x="413658" y="1440749"/>
                  </a:lnTo>
                  <a:close/>
                  <a:moveTo>
                    <a:pt x="122330" y="1440749"/>
                  </a:moveTo>
                  <a:lnTo>
                    <a:pt x="122330" y="1536688"/>
                  </a:lnTo>
                  <a:lnTo>
                    <a:pt x="338230" y="1536688"/>
                  </a:lnTo>
                  <a:lnTo>
                    <a:pt x="338230" y="1440749"/>
                  </a:lnTo>
                  <a:lnTo>
                    <a:pt x="122330" y="1440749"/>
                  </a:lnTo>
                  <a:close/>
                  <a:moveTo>
                    <a:pt x="719912" y="1236155"/>
                  </a:moveTo>
                  <a:lnTo>
                    <a:pt x="719912" y="1332094"/>
                  </a:lnTo>
                  <a:lnTo>
                    <a:pt x="935812" y="1332094"/>
                  </a:lnTo>
                  <a:lnTo>
                    <a:pt x="935812" y="1236155"/>
                  </a:lnTo>
                  <a:lnTo>
                    <a:pt x="719912" y="1236155"/>
                  </a:lnTo>
                  <a:close/>
                  <a:moveTo>
                    <a:pt x="428585" y="1236155"/>
                  </a:moveTo>
                  <a:lnTo>
                    <a:pt x="428585" y="1332094"/>
                  </a:lnTo>
                  <a:lnTo>
                    <a:pt x="644485" y="1332094"/>
                  </a:lnTo>
                  <a:lnTo>
                    <a:pt x="644485" y="1236155"/>
                  </a:lnTo>
                  <a:lnTo>
                    <a:pt x="428585" y="1236155"/>
                  </a:lnTo>
                  <a:close/>
                  <a:moveTo>
                    <a:pt x="137257" y="1236155"/>
                  </a:moveTo>
                  <a:lnTo>
                    <a:pt x="137257" y="1332094"/>
                  </a:lnTo>
                  <a:lnTo>
                    <a:pt x="353157" y="1332094"/>
                  </a:lnTo>
                  <a:lnTo>
                    <a:pt x="353157" y="1236155"/>
                  </a:lnTo>
                  <a:lnTo>
                    <a:pt x="137257" y="1236155"/>
                  </a:lnTo>
                  <a:close/>
                  <a:moveTo>
                    <a:pt x="719912" y="1005633"/>
                  </a:moveTo>
                  <a:lnTo>
                    <a:pt x="719912" y="1101572"/>
                  </a:lnTo>
                  <a:lnTo>
                    <a:pt x="935812" y="1101572"/>
                  </a:lnTo>
                  <a:lnTo>
                    <a:pt x="935812" y="1005633"/>
                  </a:lnTo>
                  <a:lnTo>
                    <a:pt x="719912" y="1005633"/>
                  </a:lnTo>
                  <a:close/>
                  <a:moveTo>
                    <a:pt x="428585" y="1005633"/>
                  </a:moveTo>
                  <a:lnTo>
                    <a:pt x="428585" y="1101572"/>
                  </a:lnTo>
                  <a:lnTo>
                    <a:pt x="644485" y="1101572"/>
                  </a:lnTo>
                  <a:lnTo>
                    <a:pt x="644485" y="1005633"/>
                  </a:lnTo>
                  <a:lnTo>
                    <a:pt x="428585" y="1005633"/>
                  </a:lnTo>
                  <a:close/>
                  <a:moveTo>
                    <a:pt x="137257" y="1005633"/>
                  </a:moveTo>
                  <a:lnTo>
                    <a:pt x="137257" y="1101572"/>
                  </a:lnTo>
                  <a:lnTo>
                    <a:pt x="353157" y="1101572"/>
                  </a:lnTo>
                  <a:lnTo>
                    <a:pt x="353157" y="1005633"/>
                  </a:lnTo>
                  <a:lnTo>
                    <a:pt x="137257" y="1005633"/>
                  </a:lnTo>
                  <a:close/>
                  <a:moveTo>
                    <a:pt x="719912" y="801534"/>
                  </a:moveTo>
                  <a:lnTo>
                    <a:pt x="719912" y="897473"/>
                  </a:lnTo>
                  <a:lnTo>
                    <a:pt x="935812" y="897473"/>
                  </a:lnTo>
                  <a:lnTo>
                    <a:pt x="935812" y="801534"/>
                  </a:lnTo>
                  <a:lnTo>
                    <a:pt x="719912" y="801534"/>
                  </a:lnTo>
                  <a:close/>
                  <a:moveTo>
                    <a:pt x="428585" y="801534"/>
                  </a:moveTo>
                  <a:lnTo>
                    <a:pt x="428585" y="897473"/>
                  </a:lnTo>
                  <a:lnTo>
                    <a:pt x="644485" y="897473"/>
                  </a:lnTo>
                  <a:lnTo>
                    <a:pt x="644485" y="801534"/>
                  </a:lnTo>
                  <a:lnTo>
                    <a:pt x="428585" y="801534"/>
                  </a:lnTo>
                  <a:close/>
                  <a:moveTo>
                    <a:pt x="137257" y="801534"/>
                  </a:moveTo>
                  <a:lnTo>
                    <a:pt x="137257" y="897473"/>
                  </a:lnTo>
                  <a:lnTo>
                    <a:pt x="353157" y="897473"/>
                  </a:lnTo>
                  <a:lnTo>
                    <a:pt x="353157" y="801534"/>
                  </a:lnTo>
                  <a:lnTo>
                    <a:pt x="137257" y="801534"/>
                  </a:lnTo>
                  <a:close/>
                  <a:moveTo>
                    <a:pt x="719912" y="596279"/>
                  </a:moveTo>
                  <a:lnTo>
                    <a:pt x="719912" y="692218"/>
                  </a:lnTo>
                  <a:lnTo>
                    <a:pt x="935812" y="692218"/>
                  </a:lnTo>
                  <a:lnTo>
                    <a:pt x="935812" y="596279"/>
                  </a:lnTo>
                  <a:lnTo>
                    <a:pt x="719912" y="596279"/>
                  </a:lnTo>
                  <a:close/>
                  <a:moveTo>
                    <a:pt x="428585" y="596279"/>
                  </a:moveTo>
                  <a:lnTo>
                    <a:pt x="428585" y="692218"/>
                  </a:lnTo>
                  <a:lnTo>
                    <a:pt x="644485" y="692218"/>
                  </a:lnTo>
                  <a:lnTo>
                    <a:pt x="644485" y="596279"/>
                  </a:lnTo>
                  <a:lnTo>
                    <a:pt x="428585" y="596279"/>
                  </a:lnTo>
                  <a:close/>
                  <a:moveTo>
                    <a:pt x="137257" y="596279"/>
                  </a:moveTo>
                  <a:lnTo>
                    <a:pt x="137257" y="692218"/>
                  </a:lnTo>
                  <a:lnTo>
                    <a:pt x="353157" y="692218"/>
                  </a:lnTo>
                  <a:lnTo>
                    <a:pt x="353157" y="596279"/>
                  </a:lnTo>
                  <a:lnTo>
                    <a:pt x="137257" y="596279"/>
                  </a:lnTo>
                  <a:close/>
                  <a:moveTo>
                    <a:pt x="719912" y="343054"/>
                  </a:moveTo>
                  <a:lnTo>
                    <a:pt x="719912" y="438993"/>
                  </a:lnTo>
                  <a:lnTo>
                    <a:pt x="935812" y="438993"/>
                  </a:lnTo>
                  <a:lnTo>
                    <a:pt x="935812" y="343054"/>
                  </a:lnTo>
                  <a:lnTo>
                    <a:pt x="719912" y="343054"/>
                  </a:lnTo>
                  <a:close/>
                  <a:moveTo>
                    <a:pt x="428585" y="343054"/>
                  </a:moveTo>
                  <a:lnTo>
                    <a:pt x="428585" y="438993"/>
                  </a:lnTo>
                  <a:lnTo>
                    <a:pt x="644485" y="438993"/>
                  </a:lnTo>
                  <a:lnTo>
                    <a:pt x="644485" y="343054"/>
                  </a:lnTo>
                  <a:lnTo>
                    <a:pt x="428585" y="343054"/>
                  </a:lnTo>
                  <a:close/>
                  <a:moveTo>
                    <a:pt x="137257" y="343054"/>
                  </a:moveTo>
                  <a:lnTo>
                    <a:pt x="137257" y="438993"/>
                  </a:lnTo>
                  <a:lnTo>
                    <a:pt x="353157" y="438993"/>
                  </a:lnTo>
                  <a:lnTo>
                    <a:pt x="353157" y="343054"/>
                  </a:lnTo>
                  <a:lnTo>
                    <a:pt x="137257" y="343054"/>
                  </a:lnTo>
                  <a:close/>
                  <a:moveTo>
                    <a:pt x="719912" y="137520"/>
                  </a:moveTo>
                  <a:lnTo>
                    <a:pt x="719912" y="233459"/>
                  </a:lnTo>
                  <a:lnTo>
                    <a:pt x="935812" y="233459"/>
                  </a:lnTo>
                  <a:lnTo>
                    <a:pt x="935812" y="137520"/>
                  </a:lnTo>
                  <a:lnTo>
                    <a:pt x="719912" y="137520"/>
                  </a:lnTo>
                  <a:close/>
                  <a:moveTo>
                    <a:pt x="428585" y="137520"/>
                  </a:moveTo>
                  <a:lnTo>
                    <a:pt x="428585" y="233459"/>
                  </a:lnTo>
                  <a:lnTo>
                    <a:pt x="644485" y="233459"/>
                  </a:lnTo>
                  <a:lnTo>
                    <a:pt x="644485" y="137520"/>
                  </a:lnTo>
                  <a:lnTo>
                    <a:pt x="428585" y="137520"/>
                  </a:lnTo>
                  <a:close/>
                  <a:moveTo>
                    <a:pt x="137257" y="137520"/>
                  </a:moveTo>
                  <a:lnTo>
                    <a:pt x="137257" y="233459"/>
                  </a:lnTo>
                  <a:lnTo>
                    <a:pt x="353157" y="233459"/>
                  </a:lnTo>
                  <a:lnTo>
                    <a:pt x="353157" y="137520"/>
                  </a:lnTo>
                  <a:lnTo>
                    <a:pt x="137257" y="137520"/>
                  </a:lnTo>
                  <a:close/>
                  <a:moveTo>
                    <a:pt x="0" y="0"/>
                  </a:moveTo>
                  <a:lnTo>
                    <a:pt x="1041400" y="0"/>
                  </a:lnTo>
                  <a:lnTo>
                    <a:pt x="1041400" y="1627786"/>
                  </a:lnTo>
                  <a:lnTo>
                    <a:pt x="0" y="16277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组合 151"/>
            <p:cNvGrpSpPr/>
            <p:nvPr/>
          </p:nvGrpSpPr>
          <p:grpSpPr>
            <a:xfrm>
              <a:off x="1779480" y="3633840"/>
              <a:ext cx="574920" cy="778680"/>
              <a:chOff x="1779480" y="3633840"/>
              <a:chExt cx="574920" cy="778680"/>
            </a:xfrm>
          </p:grpSpPr>
          <p:sp>
            <p:nvSpPr>
              <p:cNvPr id="1162" name="任意多边形 147"/>
              <p:cNvSpPr/>
              <p:nvPr/>
            </p:nvSpPr>
            <p:spPr>
              <a:xfrm>
                <a:off x="1779480" y="3633840"/>
                <a:ext cx="574920" cy="778680"/>
              </a:xfrm>
              <a:custGeom>
                <a:avLst/>
                <a:gdLst>
                  <a:gd name="textAreaLeft" fmla="*/ 0 w 574920"/>
                  <a:gd name="textAreaRight" fmla="*/ 575280 w 574920"/>
                  <a:gd name="textAreaTop" fmla="*/ 0 h 778680"/>
                  <a:gd name="textAreaBottom" fmla="*/ 779040 h 778680"/>
                </a:gdLst>
                <a:ahLst/>
                <a:rect l="textAreaLeft" t="textAreaTop" r="textAreaRight" b="textAreaBottom"/>
                <a:pathLst>
                  <a:path w="1563165" h="1871189">
                    <a:moveTo>
                      <a:pt x="896415" y="0"/>
                    </a:moveTo>
                    <a:cubicBezTo>
                      <a:pt x="1264651" y="0"/>
                      <a:pt x="1563165" y="371059"/>
                      <a:pt x="1563165" y="828784"/>
                    </a:cubicBezTo>
                    <a:cubicBezTo>
                      <a:pt x="1563165" y="1114862"/>
                      <a:pt x="1446558" y="1367086"/>
                      <a:pt x="1269202" y="1516025"/>
                    </a:cubicBezTo>
                    <a:lnTo>
                      <a:pt x="1246587" y="1531283"/>
                    </a:lnTo>
                    <a:lnTo>
                      <a:pt x="1246587" y="1841051"/>
                    </a:lnTo>
                    <a:lnTo>
                      <a:pt x="1243549" y="1871189"/>
                    </a:lnTo>
                    <a:lnTo>
                      <a:pt x="690825" y="1871189"/>
                    </a:lnTo>
                    <a:lnTo>
                      <a:pt x="687787" y="1841051"/>
                    </a:lnTo>
                    <a:lnTo>
                      <a:pt x="687787" y="1639507"/>
                    </a:lnTo>
                    <a:lnTo>
                      <a:pt x="652638" y="1650418"/>
                    </a:lnTo>
                    <a:cubicBezTo>
                      <a:pt x="629722" y="1655107"/>
                      <a:pt x="605995" y="1657569"/>
                      <a:pt x="581692" y="1657569"/>
                    </a:cubicBezTo>
                    <a:lnTo>
                      <a:pt x="581693" y="1657568"/>
                    </a:lnTo>
                    <a:cubicBezTo>
                      <a:pt x="508786" y="1657568"/>
                      <a:pt x="441055" y="1635404"/>
                      <a:pt x="384870" y="1597447"/>
                    </a:cubicBezTo>
                    <a:lnTo>
                      <a:pt x="344117" y="1563823"/>
                    </a:lnTo>
                    <a:lnTo>
                      <a:pt x="411357" y="1537404"/>
                    </a:lnTo>
                    <a:cubicBezTo>
                      <a:pt x="488751" y="1495445"/>
                      <a:pt x="540081" y="1440297"/>
                      <a:pt x="558102" y="1372829"/>
                    </a:cubicBezTo>
                    <a:lnTo>
                      <a:pt x="558102" y="1372828"/>
                    </a:lnTo>
                    <a:cubicBezTo>
                      <a:pt x="475781" y="1392034"/>
                      <a:pt x="384260" y="1404544"/>
                      <a:pt x="285778" y="1410502"/>
                    </a:cubicBezTo>
                    <a:lnTo>
                      <a:pt x="251041" y="1411421"/>
                    </a:lnTo>
                    <a:lnTo>
                      <a:pt x="229664" y="1305539"/>
                    </a:lnTo>
                    <a:lnTo>
                      <a:pt x="229664" y="1150652"/>
                    </a:lnTo>
                    <a:lnTo>
                      <a:pt x="0" y="1090743"/>
                    </a:lnTo>
                    <a:lnTo>
                      <a:pt x="229664" y="905678"/>
                    </a:lnTo>
                    <a:lnTo>
                      <a:pt x="229664" y="777697"/>
                    </a:lnTo>
                    <a:cubicBezTo>
                      <a:pt x="229664" y="753395"/>
                      <a:pt x="232127" y="729667"/>
                      <a:pt x="236816" y="706751"/>
                    </a:cubicBezTo>
                    <a:lnTo>
                      <a:pt x="240533" y="694777"/>
                    </a:lnTo>
                    <a:lnTo>
                      <a:pt x="243211" y="661755"/>
                    </a:lnTo>
                    <a:cubicBezTo>
                      <a:pt x="305383" y="284092"/>
                      <a:pt x="574209" y="0"/>
                      <a:pt x="896415" y="0"/>
                    </a:cubicBezTo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椭圆 148"/>
              <p:cNvSpPr/>
              <p:nvPr/>
            </p:nvSpPr>
            <p:spPr>
              <a:xfrm>
                <a:off x="1949040" y="3888000"/>
                <a:ext cx="69480" cy="78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4" name="直接连接符 150"/>
            <p:cNvSpPr/>
            <p:nvPr/>
          </p:nvSpPr>
          <p:spPr>
            <a:xfrm>
              <a:off x="1298520" y="3926520"/>
              <a:ext cx="619200" cy="0"/>
            </a:xfrm>
            <a:prstGeom prst="line">
              <a:avLst/>
            </a:prstGeom>
            <a:ln w="19080">
              <a:solidFill>
                <a:srgbClr val="ffffff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5" name="任意多边形 230"/>
          <p:cNvSpPr/>
          <p:nvPr/>
        </p:nvSpPr>
        <p:spPr>
          <a:xfrm>
            <a:off x="7974000" y="3476520"/>
            <a:ext cx="1130400" cy="110484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1104840"/>
              <a:gd name="textAreaBottom" fmla="*/ 1105200 h 1104840"/>
            </a:gdLst>
            <a:ahLst/>
            <a:rect l="textAreaLeft" t="textAreaTop" r="textAreaRight" b="textAreaBottom"/>
            <a:pathLst>
              <a:path w="2133600" h="2082891">
                <a:moveTo>
                  <a:pt x="1592351" y="966456"/>
                </a:moveTo>
                <a:lnTo>
                  <a:pt x="1592351" y="1017132"/>
                </a:lnTo>
                <a:lnTo>
                  <a:pt x="1706651" y="1017132"/>
                </a:lnTo>
                <a:lnTo>
                  <a:pt x="1706651" y="966456"/>
                </a:lnTo>
                <a:lnTo>
                  <a:pt x="1592351" y="966456"/>
                </a:lnTo>
                <a:close/>
                <a:moveTo>
                  <a:pt x="957945" y="966456"/>
                </a:moveTo>
                <a:lnTo>
                  <a:pt x="957945" y="1017132"/>
                </a:lnTo>
                <a:lnTo>
                  <a:pt x="1072245" y="1017132"/>
                </a:lnTo>
                <a:lnTo>
                  <a:pt x="1072245" y="966456"/>
                </a:lnTo>
                <a:lnTo>
                  <a:pt x="957945" y="966456"/>
                </a:lnTo>
                <a:close/>
                <a:moveTo>
                  <a:pt x="293571" y="966456"/>
                </a:moveTo>
                <a:lnTo>
                  <a:pt x="293571" y="1017132"/>
                </a:lnTo>
                <a:lnTo>
                  <a:pt x="407871" y="1017132"/>
                </a:lnTo>
                <a:lnTo>
                  <a:pt x="407871" y="966456"/>
                </a:lnTo>
                <a:lnTo>
                  <a:pt x="293571" y="966456"/>
                </a:lnTo>
                <a:close/>
                <a:moveTo>
                  <a:pt x="1253322" y="849219"/>
                </a:moveTo>
                <a:lnTo>
                  <a:pt x="1253322" y="899895"/>
                </a:lnTo>
                <a:lnTo>
                  <a:pt x="1367622" y="899895"/>
                </a:lnTo>
                <a:lnTo>
                  <a:pt x="1367622" y="849219"/>
                </a:lnTo>
                <a:lnTo>
                  <a:pt x="1253322" y="849219"/>
                </a:lnTo>
                <a:close/>
                <a:moveTo>
                  <a:pt x="920474" y="849219"/>
                </a:moveTo>
                <a:lnTo>
                  <a:pt x="920474" y="899895"/>
                </a:lnTo>
                <a:lnTo>
                  <a:pt x="1034774" y="899895"/>
                </a:lnTo>
                <a:lnTo>
                  <a:pt x="1034774" y="849219"/>
                </a:lnTo>
                <a:lnTo>
                  <a:pt x="920474" y="849219"/>
                </a:lnTo>
                <a:close/>
                <a:moveTo>
                  <a:pt x="753171" y="849219"/>
                </a:moveTo>
                <a:lnTo>
                  <a:pt x="753171" y="899895"/>
                </a:lnTo>
                <a:lnTo>
                  <a:pt x="867471" y="899895"/>
                </a:lnTo>
                <a:lnTo>
                  <a:pt x="867471" y="849219"/>
                </a:lnTo>
                <a:lnTo>
                  <a:pt x="753171" y="849219"/>
                </a:lnTo>
                <a:close/>
                <a:moveTo>
                  <a:pt x="588948" y="849219"/>
                </a:moveTo>
                <a:lnTo>
                  <a:pt x="588948" y="899895"/>
                </a:lnTo>
                <a:lnTo>
                  <a:pt x="703248" y="899895"/>
                </a:lnTo>
                <a:lnTo>
                  <a:pt x="703248" y="849219"/>
                </a:lnTo>
                <a:lnTo>
                  <a:pt x="588948" y="849219"/>
                </a:lnTo>
                <a:close/>
                <a:moveTo>
                  <a:pt x="421645" y="849219"/>
                </a:moveTo>
                <a:lnTo>
                  <a:pt x="421645" y="899895"/>
                </a:lnTo>
                <a:lnTo>
                  <a:pt x="535945" y="899895"/>
                </a:lnTo>
                <a:lnTo>
                  <a:pt x="535945" y="849219"/>
                </a:lnTo>
                <a:lnTo>
                  <a:pt x="421645" y="849219"/>
                </a:lnTo>
                <a:close/>
                <a:moveTo>
                  <a:pt x="1606125" y="741186"/>
                </a:moveTo>
                <a:lnTo>
                  <a:pt x="1606125" y="791862"/>
                </a:lnTo>
                <a:lnTo>
                  <a:pt x="1720425" y="791862"/>
                </a:lnTo>
                <a:lnTo>
                  <a:pt x="1720425" y="741186"/>
                </a:lnTo>
                <a:lnTo>
                  <a:pt x="1606125" y="741186"/>
                </a:lnTo>
                <a:close/>
                <a:moveTo>
                  <a:pt x="1470548" y="741186"/>
                </a:moveTo>
                <a:lnTo>
                  <a:pt x="1470548" y="791862"/>
                </a:lnTo>
                <a:lnTo>
                  <a:pt x="1584848" y="791862"/>
                </a:lnTo>
                <a:lnTo>
                  <a:pt x="1584848" y="741186"/>
                </a:lnTo>
                <a:lnTo>
                  <a:pt x="1470548" y="741186"/>
                </a:lnTo>
                <a:close/>
                <a:moveTo>
                  <a:pt x="1303245" y="741186"/>
                </a:moveTo>
                <a:lnTo>
                  <a:pt x="1303245" y="791862"/>
                </a:lnTo>
                <a:lnTo>
                  <a:pt x="1417545" y="791862"/>
                </a:lnTo>
                <a:lnTo>
                  <a:pt x="1417545" y="741186"/>
                </a:lnTo>
                <a:lnTo>
                  <a:pt x="1303245" y="741186"/>
                </a:lnTo>
                <a:close/>
                <a:moveTo>
                  <a:pt x="971719" y="741186"/>
                </a:moveTo>
                <a:lnTo>
                  <a:pt x="971719" y="791862"/>
                </a:lnTo>
                <a:lnTo>
                  <a:pt x="1086019" y="791862"/>
                </a:lnTo>
                <a:lnTo>
                  <a:pt x="1086019" y="741186"/>
                </a:lnTo>
                <a:lnTo>
                  <a:pt x="971719" y="741186"/>
                </a:lnTo>
                <a:close/>
                <a:moveTo>
                  <a:pt x="806174" y="741186"/>
                </a:moveTo>
                <a:lnTo>
                  <a:pt x="806174" y="791862"/>
                </a:lnTo>
                <a:lnTo>
                  <a:pt x="920474" y="791862"/>
                </a:lnTo>
                <a:lnTo>
                  <a:pt x="920474" y="741186"/>
                </a:lnTo>
                <a:lnTo>
                  <a:pt x="806174" y="741186"/>
                </a:lnTo>
                <a:close/>
                <a:moveTo>
                  <a:pt x="474648" y="741186"/>
                </a:moveTo>
                <a:lnTo>
                  <a:pt x="474648" y="791862"/>
                </a:lnTo>
                <a:lnTo>
                  <a:pt x="588948" y="791862"/>
                </a:lnTo>
                <a:lnTo>
                  <a:pt x="588948" y="741186"/>
                </a:lnTo>
                <a:lnTo>
                  <a:pt x="474648" y="741186"/>
                </a:lnTo>
                <a:close/>
                <a:moveTo>
                  <a:pt x="307345" y="741186"/>
                </a:moveTo>
                <a:lnTo>
                  <a:pt x="307345" y="791862"/>
                </a:lnTo>
                <a:lnTo>
                  <a:pt x="421645" y="791862"/>
                </a:lnTo>
                <a:lnTo>
                  <a:pt x="421645" y="741186"/>
                </a:lnTo>
                <a:lnTo>
                  <a:pt x="307345" y="741186"/>
                </a:lnTo>
                <a:close/>
                <a:moveTo>
                  <a:pt x="1663275" y="633151"/>
                </a:moveTo>
                <a:lnTo>
                  <a:pt x="1663275" y="683827"/>
                </a:lnTo>
                <a:lnTo>
                  <a:pt x="1777575" y="683827"/>
                </a:lnTo>
                <a:lnTo>
                  <a:pt x="1777575" y="633151"/>
                </a:lnTo>
                <a:lnTo>
                  <a:pt x="1663275" y="633151"/>
                </a:lnTo>
                <a:close/>
                <a:moveTo>
                  <a:pt x="1527698" y="633151"/>
                </a:moveTo>
                <a:lnTo>
                  <a:pt x="1527698" y="683827"/>
                </a:lnTo>
                <a:lnTo>
                  <a:pt x="1641998" y="683827"/>
                </a:lnTo>
                <a:lnTo>
                  <a:pt x="1641998" y="633151"/>
                </a:lnTo>
                <a:lnTo>
                  <a:pt x="1527698" y="633151"/>
                </a:lnTo>
                <a:close/>
                <a:moveTo>
                  <a:pt x="1360395" y="633151"/>
                </a:moveTo>
                <a:lnTo>
                  <a:pt x="1360395" y="683827"/>
                </a:lnTo>
                <a:lnTo>
                  <a:pt x="1474695" y="683827"/>
                </a:lnTo>
                <a:lnTo>
                  <a:pt x="1474695" y="633151"/>
                </a:lnTo>
                <a:lnTo>
                  <a:pt x="1360395" y="633151"/>
                </a:lnTo>
                <a:close/>
                <a:moveTo>
                  <a:pt x="1196172" y="633151"/>
                </a:moveTo>
                <a:lnTo>
                  <a:pt x="1196172" y="683827"/>
                </a:lnTo>
                <a:lnTo>
                  <a:pt x="1310472" y="683827"/>
                </a:lnTo>
                <a:lnTo>
                  <a:pt x="1310472" y="633151"/>
                </a:lnTo>
                <a:lnTo>
                  <a:pt x="1196172" y="633151"/>
                </a:lnTo>
                <a:close/>
                <a:moveTo>
                  <a:pt x="1028869" y="633151"/>
                </a:moveTo>
                <a:lnTo>
                  <a:pt x="1028869" y="683827"/>
                </a:lnTo>
                <a:lnTo>
                  <a:pt x="1143169" y="683827"/>
                </a:lnTo>
                <a:lnTo>
                  <a:pt x="1143169" y="633151"/>
                </a:lnTo>
                <a:lnTo>
                  <a:pt x="1028869" y="633151"/>
                </a:lnTo>
                <a:close/>
                <a:moveTo>
                  <a:pt x="696021" y="633151"/>
                </a:moveTo>
                <a:lnTo>
                  <a:pt x="696021" y="683827"/>
                </a:lnTo>
                <a:lnTo>
                  <a:pt x="810321" y="683827"/>
                </a:lnTo>
                <a:lnTo>
                  <a:pt x="810321" y="633151"/>
                </a:lnTo>
                <a:lnTo>
                  <a:pt x="696021" y="633151"/>
                </a:lnTo>
                <a:close/>
                <a:moveTo>
                  <a:pt x="531798" y="633151"/>
                </a:moveTo>
                <a:lnTo>
                  <a:pt x="531798" y="683827"/>
                </a:lnTo>
                <a:lnTo>
                  <a:pt x="646098" y="683827"/>
                </a:lnTo>
                <a:lnTo>
                  <a:pt x="646098" y="633151"/>
                </a:lnTo>
                <a:lnTo>
                  <a:pt x="531798" y="633151"/>
                </a:lnTo>
                <a:close/>
                <a:moveTo>
                  <a:pt x="364495" y="633151"/>
                </a:moveTo>
                <a:lnTo>
                  <a:pt x="364495" y="683827"/>
                </a:lnTo>
                <a:lnTo>
                  <a:pt x="478795" y="683827"/>
                </a:lnTo>
                <a:lnTo>
                  <a:pt x="478795" y="633151"/>
                </a:lnTo>
                <a:lnTo>
                  <a:pt x="364495" y="633151"/>
                </a:lnTo>
                <a:close/>
                <a:moveTo>
                  <a:pt x="1654380" y="519742"/>
                </a:moveTo>
                <a:lnTo>
                  <a:pt x="1654380" y="570418"/>
                </a:lnTo>
                <a:lnTo>
                  <a:pt x="1768680" y="570418"/>
                </a:lnTo>
                <a:lnTo>
                  <a:pt x="1768680" y="519742"/>
                </a:lnTo>
                <a:lnTo>
                  <a:pt x="1654380" y="519742"/>
                </a:lnTo>
                <a:close/>
                <a:moveTo>
                  <a:pt x="1518803" y="519742"/>
                </a:moveTo>
                <a:lnTo>
                  <a:pt x="1518803" y="570418"/>
                </a:lnTo>
                <a:lnTo>
                  <a:pt x="1633103" y="570418"/>
                </a:lnTo>
                <a:lnTo>
                  <a:pt x="1633103" y="519742"/>
                </a:lnTo>
                <a:lnTo>
                  <a:pt x="1518803" y="519742"/>
                </a:lnTo>
                <a:close/>
                <a:moveTo>
                  <a:pt x="1187277" y="519742"/>
                </a:moveTo>
                <a:lnTo>
                  <a:pt x="1187277" y="570418"/>
                </a:lnTo>
                <a:lnTo>
                  <a:pt x="1301577" y="570418"/>
                </a:lnTo>
                <a:lnTo>
                  <a:pt x="1301577" y="519742"/>
                </a:lnTo>
                <a:lnTo>
                  <a:pt x="1187277" y="519742"/>
                </a:lnTo>
                <a:close/>
                <a:moveTo>
                  <a:pt x="1019974" y="519742"/>
                </a:moveTo>
                <a:lnTo>
                  <a:pt x="1019974" y="570418"/>
                </a:lnTo>
                <a:lnTo>
                  <a:pt x="1134274" y="570418"/>
                </a:lnTo>
                <a:lnTo>
                  <a:pt x="1134274" y="519742"/>
                </a:lnTo>
                <a:lnTo>
                  <a:pt x="1019974" y="519742"/>
                </a:lnTo>
                <a:close/>
                <a:moveTo>
                  <a:pt x="854429" y="519742"/>
                </a:moveTo>
                <a:lnTo>
                  <a:pt x="854429" y="570418"/>
                </a:lnTo>
                <a:lnTo>
                  <a:pt x="968729" y="570418"/>
                </a:lnTo>
                <a:lnTo>
                  <a:pt x="968729" y="519742"/>
                </a:lnTo>
                <a:lnTo>
                  <a:pt x="854429" y="519742"/>
                </a:lnTo>
                <a:close/>
                <a:moveTo>
                  <a:pt x="687126" y="519742"/>
                </a:moveTo>
                <a:lnTo>
                  <a:pt x="687126" y="570418"/>
                </a:lnTo>
                <a:lnTo>
                  <a:pt x="801426" y="570418"/>
                </a:lnTo>
                <a:lnTo>
                  <a:pt x="801426" y="519742"/>
                </a:lnTo>
                <a:lnTo>
                  <a:pt x="687126" y="519742"/>
                </a:lnTo>
                <a:close/>
                <a:moveTo>
                  <a:pt x="355600" y="519742"/>
                </a:moveTo>
                <a:lnTo>
                  <a:pt x="355600" y="570418"/>
                </a:lnTo>
                <a:lnTo>
                  <a:pt x="469900" y="570418"/>
                </a:lnTo>
                <a:lnTo>
                  <a:pt x="469900" y="519742"/>
                </a:lnTo>
                <a:lnTo>
                  <a:pt x="355600" y="519742"/>
                </a:lnTo>
                <a:close/>
                <a:moveTo>
                  <a:pt x="1254479" y="392809"/>
                </a:moveTo>
                <a:lnTo>
                  <a:pt x="1254479" y="443485"/>
                </a:lnTo>
                <a:lnTo>
                  <a:pt x="1368779" y="443485"/>
                </a:lnTo>
                <a:lnTo>
                  <a:pt x="1368779" y="392809"/>
                </a:lnTo>
                <a:lnTo>
                  <a:pt x="1254479" y="392809"/>
                </a:lnTo>
                <a:close/>
                <a:moveTo>
                  <a:pt x="1087176" y="392809"/>
                </a:moveTo>
                <a:lnTo>
                  <a:pt x="1087176" y="443485"/>
                </a:lnTo>
                <a:lnTo>
                  <a:pt x="1201476" y="443485"/>
                </a:lnTo>
                <a:lnTo>
                  <a:pt x="1201476" y="392809"/>
                </a:lnTo>
                <a:lnTo>
                  <a:pt x="1087176" y="392809"/>
                </a:lnTo>
                <a:close/>
                <a:moveTo>
                  <a:pt x="922953" y="392809"/>
                </a:moveTo>
                <a:lnTo>
                  <a:pt x="922953" y="443485"/>
                </a:lnTo>
                <a:lnTo>
                  <a:pt x="1037253" y="443485"/>
                </a:lnTo>
                <a:lnTo>
                  <a:pt x="1037253" y="392809"/>
                </a:lnTo>
                <a:lnTo>
                  <a:pt x="922953" y="392809"/>
                </a:lnTo>
                <a:close/>
                <a:moveTo>
                  <a:pt x="755650" y="392809"/>
                </a:moveTo>
                <a:lnTo>
                  <a:pt x="755650" y="443485"/>
                </a:lnTo>
                <a:lnTo>
                  <a:pt x="869950" y="443485"/>
                </a:lnTo>
                <a:lnTo>
                  <a:pt x="869950" y="392809"/>
                </a:lnTo>
                <a:lnTo>
                  <a:pt x="755650" y="392809"/>
                </a:lnTo>
                <a:close/>
                <a:moveTo>
                  <a:pt x="1254479" y="279400"/>
                </a:moveTo>
                <a:lnTo>
                  <a:pt x="1254479" y="330076"/>
                </a:lnTo>
                <a:lnTo>
                  <a:pt x="1368779" y="330076"/>
                </a:lnTo>
                <a:lnTo>
                  <a:pt x="1368779" y="279400"/>
                </a:lnTo>
                <a:lnTo>
                  <a:pt x="1254479" y="279400"/>
                </a:lnTo>
                <a:close/>
                <a:moveTo>
                  <a:pt x="1087176" y="279400"/>
                </a:moveTo>
                <a:lnTo>
                  <a:pt x="1087176" y="330076"/>
                </a:lnTo>
                <a:lnTo>
                  <a:pt x="1201476" y="330076"/>
                </a:lnTo>
                <a:lnTo>
                  <a:pt x="1201476" y="279400"/>
                </a:lnTo>
                <a:lnTo>
                  <a:pt x="1087176" y="279400"/>
                </a:lnTo>
                <a:close/>
                <a:moveTo>
                  <a:pt x="755650" y="279400"/>
                </a:moveTo>
                <a:lnTo>
                  <a:pt x="755650" y="330076"/>
                </a:lnTo>
                <a:lnTo>
                  <a:pt x="869950" y="330076"/>
                </a:lnTo>
                <a:lnTo>
                  <a:pt x="869950" y="279400"/>
                </a:lnTo>
                <a:lnTo>
                  <a:pt x="755650" y="279400"/>
                </a:lnTo>
                <a:close/>
                <a:moveTo>
                  <a:pt x="1254479" y="177800"/>
                </a:moveTo>
                <a:lnTo>
                  <a:pt x="1254479" y="228476"/>
                </a:lnTo>
                <a:lnTo>
                  <a:pt x="1368779" y="228476"/>
                </a:lnTo>
                <a:lnTo>
                  <a:pt x="1368779" y="177800"/>
                </a:lnTo>
                <a:lnTo>
                  <a:pt x="1254479" y="177800"/>
                </a:lnTo>
                <a:close/>
                <a:moveTo>
                  <a:pt x="922953" y="177800"/>
                </a:moveTo>
                <a:lnTo>
                  <a:pt x="922953" y="228476"/>
                </a:lnTo>
                <a:lnTo>
                  <a:pt x="1037253" y="228476"/>
                </a:lnTo>
                <a:lnTo>
                  <a:pt x="1037253" y="177800"/>
                </a:lnTo>
                <a:lnTo>
                  <a:pt x="922953" y="177800"/>
                </a:lnTo>
                <a:close/>
                <a:moveTo>
                  <a:pt x="755650" y="177800"/>
                </a:moveTo>
                <a:lnTo>
                  <a:pt x="755650" y="228476"/>
                </a:lnTo>
                <a:lnTo>
                  <a:pt x="869950" y="228476"/>
                </a:lnTo>
                <a:lnTo>
                  <a:pt x="869950" y="177800"/>
                </a:lnTo>
                <a:lnTo>
                  <a:pt x="755650" y="177800"/>
                </a:lnTo>
                <a:close/>
                <a:moveTo>
                  <a:pt x="1254479" y="76200"/>
                </a:moveTo>
                <a:lnTo>
                  <a:pt x="1254479" y="126876"/>
                </a:lnTo>
                <a:lnTo>
                  <a:pt x="1368779" y="126876"/>
                </a:lnTo>
                <a:lnTo>
                  <a:pt x="1368779" y="76200"/>
                </a:lnTo>
                <a:lnTo>
                  <a:pt x="1254479" y="76200"/>
                </a:lnTo>
                <a:close/>
                <a:moveTo>
                  <a:pt x="1087176" y="76200"/>
                </a:moveTo>
                <a:lnTo>
                  <a:pt x="1087176" y="126876"/>
                </a:lnTo>
                <a:lnTo>
                  <a:pt x="1201476" y="126876"/>
                </a:lnTo>
                <a:lnTo>
                  <a:pt x="1201476" y="76200"/>
                </a:lnTo>
                <a:lnTo>
                  <a:pt x="1087176" y="76200"/>
                </a:lnTo>
                <a:close/>
                <a:moveTo>
                  <a:pt x="922953" y="76200"/>
                </a:moveTo>
                <a:lnTo>
                  <a:pt x="922953" y="126876"/>
                </a:lnTo>
                <a:lnTo>
                  <a:pt x="1037253" y="126876"/>
                </a:lnTo>
                <a:lnTo>
                  <a:pt x="1037253" y="76200"/>
                </a:lnTo>
                <a:lnTo>
                  <a:pt x="922953" y="76200"/>
                </a:lnTo>
                <a:close/>
                <a:moveTo>
                  <a:pt x="755650" y="76200"/>
                </a:moveTo>
                <a:lnTo>
                  <a:pt x="755650" y="126876"/>
                </a:lnTo>
                <a:lnTo>
                  <a:pt x="869950" y="126876"/>
                </a:lnTo>
                <a:lnTo>
                  <a:pt x="869950" y="76200"/>
                </a:lnTo>
                <a:lnTo>
                  <a:pt x="755650" y="76200"/>
                </a:lnTo>
                <a:close/>
                <a:moveTo>
                  <a:pt x="685800" y="0"/>
                </a:moveTo>
                <a:lnTo>
                  <a:pt x="1447800" y="0"/>
                </a:lnTo>
                <a:lnTo>
                  <a:pt x="1447800" y="453859"/>
                </a:lnTo>
                <a:lnTo>
                  <a:pt x="1815238" y="453859"/>
                </a:lnTo>
                <a:lnTo>
                  <a:pt x="2133600" y="2082891"/>
                </a:lnTo>
                <a:lnTo>
                  <a:pt x="1861699" y="2082891"/>
                </a:lnTo>
                <a:lnTo>
                  <a:pt x="1853108" y="2061678"/>
                </a:lnTo>
                <a:cubicBezTo>
                  <a:pt x="1754524" y="1882098"/>
                  <a:pt x="1521596" y="1745710"/>
                  <a:pt x="1235506" y="1706663"/>
                </a:cubicBezTo>
                <a:lnTo>
                  <a:pt x="1200064" y="1704280"/>
                </a:lnTo>
                <a:lnTo>
                  <a:pt x="1238992" y="1683151"/>
                </a:lnTo>
                <a:cubicBezTo>
                  <a:pt x="1320914" y="1627805"/>
                  <a:pt x="1374775" y="1534079"/>
                  <a:pt x="1374775" y="1427773"/>
                </a:cubicBezTo>
                <a:cubicBezTo>
                  <a:pt x="1374775" y="1257683"/>
                  <a:pt x="1236890" y="1119798"/>
                  <a:pt x="1066800" y="1119798"/>
                </a:cubicBezTo>
                <a:cubicBezTo>
                  <a:pt x="896710" y="1119798"/>
                  <a:pt x="758825" y="1257683"/>
                  <a:pt x="758825" y="1427773"/>
                </a:cubicBezTo>
                <a:cubicBezTo>
                  <a:pt x="758825" y="1534079"/>
                  <a:pt x="812686" y="1627805"/>
                  <a:pt x="894608" y="1683151"/>
                </a:cubicBezTo>
                <a:lnTo>
                  <a:pt x="933537" y="1704280"/>
                </a:lnTo>
                <a:lnTo>
                  <a:pt x="898095" y="1706663"/>
                </a:lnTo>
                <a:cubicBezTo>
                  <a:pt x="612005" y="1745710"/>
                  <a:pt x="379076" y="1882098"/>
                  <a:pt x="280492" y="2061678"/>
                </a:cubicBezTo>
                <a:lnTo>
                  <a:pt x="271901" y="2082891"/>
                </a:lnTo>
                <a:lnTo>
                  <a:pt x="0" y="2082891"/>
                </a:lnTo>
                <a:lnTo>
                  <a:pt x="318362" y="453859"/>
                </a:lnTo>
                <a:lnTo>
                  <a:pt x="685800" y="453859"/>
                </a:lnTo>
                <a:lnTo>
                  <a:pt x="685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任意多边形 266"/>
          <p:cNvSpPr/>
          <p:nvPr/>
        </p:nvSpPr>
        <p:spPr>
          <a:xfrm>
            <a:off x="3122640" y="2824200"/>
            <a:ext cx="46080" cy="68400"/>
          </a:xfrm>
          <a:custGeom>
            <a:avLst/>
            <a:gdLst>
              <a:gd name="textAreaLeft" fmla="*/ 0 w 46080"/>
              <a:gd name="textAreaRight" fmla="*/ 46440 w 460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47131" h="68520">
                <a:moveTo>
                  <a:pt x="47131" y="0"/>
                </a:moveTo>
                <a:lnTo>
                  <a:pt x="0" y="68520"/>
                </a:lnTo>
                <a:lnTo>
                  <a:pt x="849" y="64906"/>
                </a:lnTo>
                <a:cubicBezTo>
                  <a:pt x="6979" y="49590"/>
                  <a:pt x="18681" y="31617"/>
                  <a:pt x="34990" y="12141"/>
                </a:cubicBezTo>
                <a:lnTo>
                  <a:pt x="47131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任意多边形 265"/>
          <p:cNvSpPr/>
          <p:nvPr/>
        </p:nvSpPr>
        <p:spPr>
          <a:xfrm>
            <a:off x="4456080" y="2828880"/>
            <a:ext cx="38160" cy="55440"/>
          </a:xfrm>
          <a:custGeom>
            <a:avLst/>
            <a:gdLst>
              <a:gd name="textAreaLeft" fmla="*/ 0 w 38160"/>
              <a:gd name="textAreaRight" fmla="*/ 38520 w 38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38200" h="55536">
                <a:moveTo>
                  <a:pt x="0" y="0"/>
                </a:moveTo>
                <a:lnTo>
                  <a:pt x="5534" y="5534"/>
                </a:lnTo>
                <a:cubicBezTo>
                  <a:pt x="13688" y="15272"/>
                  <a:pt x="20691" y="24634"/>
                  <a:pt x="26422" y="-32060"/>
                </a:cubicBezTo>
                <a:lnTo>
                  <a:pt x="-27336" y="-1000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任意多边形 262"/>
          <p:cNvSpPr/>
          <p:nvPr/>
        </p:nvSpPr>
        <p:spPr>
          <a:xfrm>
            <a:off x="3133800" y="2933640"/>
            <a:ext cx="44280" cy="4680"/>
          </a:xfrm>
          <a:custGeom>
            <a:avLst/>
            <a:gdLst>
              <a:gd name="textAreaLeft" fmla="*/ 0 w 44280"/>
              <a:gd name="textAreaRight" fmla="*/ 44280 w 442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4455" h="4266">
                <a:moveTo>
                  <a:pt x="0" y="0"/>
                </a:moveTo>
                <a:lnTo>
                  <a:pt x="-21081" y="0"/>
                </a:lnTo>
                <a:lnTo>
                  <a:pt x="22566" y="4266"/>
                </a:lnTo>
                <a:cubicBezTo>
                  <a:pt x="14318" y="4257"/>
                  <a:pt x="7204" y="3202"/>
                  <a:pt x="1406" y="1043"/>
                </a:cubicBez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任意多边形 261"/>
          <p:cNvSpPr/>
          <p:nvPr/>
        </p:nvSpPr>
        <p:spPr>
          <a:xfrm>
            <a:off x="4448160" y="2933640"/>
            <a:ext cx="31680" cy="3240"/>
          </a:xfrm>
          <a:custGeom>
            <a:avLst/>
            <a:gdLst>
              <a:gd name="textAreaLeft" fmla="*/ 0 w 31680"/>
              <a:gd name="textAreaRight" fmla="*/ 32040 w 31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1336" h="2679">
                <a:moveTo>
                  <a:pt x="0" y="0"/>
                </a:moveTo>
                <a:lnTo>
                  <a:pt x="31336" y="0"/>
                </a:lnTo>
                <a:lnTo>
                  <a:pt x="13746" y="2679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0" name="组合 289"/>
          <p:cNvGrpSpPr/>
          <p:nvPr/>
        </p:nvGrpSpPr>
        <p:grpSpPr>
          <a:xfrm>
            <a:off x="1044720" y="5056200"/>
            <a:ext cx="1001520" cy="1442880"/>
            <a:chOff x="1044720" y="5056200"/>
            <a:chExt cx="1001520" cy="1442880"/>
          </a:xfrm>
        </p:grpSpPr>
        <p:sp>
          <p:nvSpPr>
            <p:cNvPr id="1171" name="圆角矩形 279"/>
            <p:cNvSpPr/>
            <p:nvPr/>
          </p:nvSpPr>
          <p:spPr>
            <a:xfrm>
              <a:off x="1702440" y="5966280"/>
              <a:ext cx="191880" cy="528120"/>
            </a:xfrm>
            <a:custGeom>
              <a:avLst/>
              <a:gdLst>
                <a:gd name="textAreaLeft" fmla="*/ 28080 w 191880"/>
                <a:gd name="textAreaRight" fmla="*/ 163800 w 191880"/>
                <a:gd name="textAreaTop" fmla="*/ 28080 h 528120"/>
                <a:gd name="textAreaBottom" fmla="*/ 500040 h 528120"/>
              </a:gdLst>
              <a:ahLst/>
              <a:rect l="textAreaLeft" t="textAreaTop" r="textAreaRight" b="textAreaBottom"/>
              <a:pathLst>
                <a:path w="21600" h="59380">
                  <a:moveTo>
                    <a:pt x="10800" y="0"/>
                  </a:moveTo>
                  <a:arcTo wR="10800" hR="10800" stAng="16200000" swAng="-5400000"/>
                  <a:lnTo>
                    <a:pt x="0" y="48580"/>
                  </a:lnTo>
                  <a:arcTo wR="10800" hR="10800" stAng="10800000" swAng="-5400000"/>
                  <a:lnTo>
                    <a:pt x="10800" y="59380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2" name="组合 288"/>
            <p:cNvGrpSpPr/>
            <p:nvPr/>
          </p:nvGrpSpPr>
          <p:grpSpPr>
            <a:xfrm>
              <a:off x="1044720" y="5056200"/>
              <a:ext cx="1001520" cy="1442880"/>
              <a:chOff x="1044720" y="5056200"/>
              <a:chExt cx="1001520" cy="1442880"/>
            </a:xfrm>
          </p:grpSpPr>
          <p:sp>
            <p:nvSpPr>
              <p:cNvPr id="1173" name="任意多边形 275"/>
              <p:cNvSpPr/>
              <p:nvPr/>
            </p:nvSpPr>
            <p:spPr>
              <a:xfrm>
                <a:off x="1084680" y="5442120"/>
                <a:ext cx="921240" cy="524160"/>
              </a:xfrm>
              <a:custGeom>
                <a:avLst/>
                <a:gdLst>
                  <a:gd name="textAreaLeft" fmla="*/ 0 w 921240"/>
                  <a:gd name="textAreaRight" fmla="*/ 921240 w 921240"/>
                  <a:gd name="textAreaTop" fmla="*/ 0 h 524160"/>
                  <a:gd name="textAreaBottom" fmla="*/ 524520 h 524160"/>
                </a:gdLst>
                <a:ahLst/>
                <a:rect l="textAreaLeft" t="textAreaTop" r="textAreaRight" b="textAreaBottom"/>
                <a:pathLst>
                  <a:path w="2618293" h="1266417">
                    <a:moveTo>
                      <a:pt x="2539226" y="1237942"/>
                    </a:moveTo>
                    <a:lnTo>
                      <a:pt x="2539225" y="1237943"/>
                    </a:lnTo>
                    <a:lnTo>
                      <a:pt x="2539225" y="1237942"/>
                    </a:lnTo>
                    <a:lnTo>
                      <a:pt x="2539226" y="1237942"/>
                    </a:lnTo>
                    <a:close/>
                    <a:moveTo>
                      <a:pt x="73664" y="1230975"/>
                    </a:moveTo>
                    <a:lnTo>
                      <a:pt x="73664" y="1230976"/>
                    </a:lnTo>
                    <a:lnTo>
                      <a:pt x="73664" y="1230975"/>
                    </a:lnTo>
                    <a:close/>
                    <a:moveTo>
                      <a:pt x="661662" y="0"/>
                    </a:moveTo>
                    <a:lnTo>
                      <a:pt x="1969734" y="0"/>
                    </a:lnTo>
                    <a:lnTo>
                      <a:pt x="2477315" y="824209"/>
                    </a:lnTo>
                    <a:lnTo>
                      <a:pt x="2589818" y="996294"/>
                    </a:lnTo>
                    <a:lnTo>
                      <a:pt x="2601842" y="1026415"/>
                    </a:lnTo>
                    <a:lnTo>
                      <a:pt x="2611098" y="1041446"/>
                    </a:lnTo>
                    <a:lnTo>
                      <a:pt x="2607842" y="1041446"/>
                    </a:lnTo>
                    <a:lnTo>
                      <a:pt x="2615519" y="1060678"/>
                    </a:lnTo>
                    <a:cubicBezTo>
                      <a:pt x="2623588" y="1105309"/>
                      <a:pt x="2613890" y="1151630"/>
                      <a:pt x="2588595" y="1189276"/>
                    </a:cubicBezTo>
                    <a:lnTo>
                      <a:pt x="2539225" y="1237942"/>
                    </a:lnTo>
                    <a:lnTo>
                      <a:pt x="2474842" y="1263643"/>
                    </a:lnTo>
                    <a:cubicBezTo>
                      <a:pt x="2407896" y="1275748"/>
                      <a:pt x="2337147" y="1247875"/>
                      <a:pt x="2297578" y="1187350"/>
                    </a:cubicBezTo>
                    <a:lnTo>
                      <a:pt x="2202191" y="1041446"/>
                    </a:lnTo>
                    <a:lnTo>
                      <a:pt x="421902" y="1041446"/>
                    </a:lnTo>
                    <a:lnTo>
                      <a:pt x="317035" y="1189455"/>
                    </a:lnTo>
                    <a:cubicBezTo>
                      <a:pt x="275230" y="1248458"/>
                      <a:pt x="203488" y="1273666"/>
                      <a:pt x="137041" y="1259066"/>
                    </a:cubicBezTo>
                    <a:lnTo>
                      <a:pt x="73664" y="1230976"/>
                    </a:lnTo>
                    <a:lnTo>
                      <a:pt x="26149" y="1180497"/>
                    </a:lnTo>
                    <a:cubicBezTo>
                      <a:pt x="-9656" y="1122649"/>
                      <a:pt x="-9661" y="1046608"/>
                      <a:pt x="32144" y="987605"/>
                    </a:cubicBezTo>
                    <a:lnTo>
                      <a:pt x="195069" y="757654"/>
                    </a:lnTo>
                    <a:lnTo>
                      <a:pt x="661662" y="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矩形 276"/>
              <p:cNvSpPr/>
              <p:nvPr/>
            </p:nvSpPr>
            <p:spPr>
              <a:xfrm>
                <a:off x="1264680" y="5836680"/>
                <a:ext cx="56808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矩形 277"/>
              <p:cNvSpPr/>
              <p:nvPr/>
            </p:nvSpPr>
            <p:spPr>
              <a:xfrm>
                <a:off x="1196640" y="5941080"/>
                <a:ext cx="699120" cy="12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圆角矩形 278"/>
              <p:cNvSpPr/>
              <p:nvPr/>
            </p:nvSpPr>
            <p:spPr>
              <a:xfrm>
                <a:off x="1196640" y="5969520"/>
                <a:ext cx="191880" cy="528120"/>
              </a:xfrm>
              <a:custGeom>
                <a:avLst/>
                <a:gdLst>
                  <a:gd name="textAreaLeft" fmla="*/ 28080 w 191880"/>
                  <a:gd name="textAreaRight" fmla="*/ 163800 w 191880"/>
                  <a:gd name="textAreaTop" fmla="*/ 28080 h 528120"/>
                  <a:gd name="textAreaBottom" fmla="*/ 500040 h 528120"/>
                </a:gdLst>
                <a:ahLst/>
                <a:rect l="textAreaLeft" t="textAreaTop" r="textAreaRight" b="textAreaBottom"/>
                <a:pathLst>
                  <a:path w="21600" h="59380">
                    <a:moveTo>
                      <a:pt x="10800" y="0"/>
                    </a:moveTo>
                    <a:arcTo wR="10800" hR="10800" stAng="16200000" swAng="-5400000"/>
                    <a:lnTo>
                      <a:pt x="0" y="48580"/>
                    </a:lnTo>
                    <a:arcTo wR="10800" hR="10800" stAng="10800000" swAng="-5400000"/>
                    <a:lnTo>
                      <a:pt x="10800" y="59380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椭圆 280"/>
              <p:cNvSpPr/>
              <p:nvPr/>
            </p:nvSpPr>
            <p:spPr>
              <a:xfrm>
                <a:off x="1355040" y="5056200"/>
                <a:ext cx="361800" cy="3614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圆角矩形 281"/>
              <p:cNvSpPr/>
              <p:nvPr/>
            </p:nvSpPr>
            <p:spPr>
              <a:xfrm>
                <a:off x="1044720" y="5902200"/>
                <a:ext cx="146160" cy="595440"/>
              </a:xfrm>
              <a:custGeom>
                <a:avLst/>
                <a:gdLst>
                  <a:gd name="textAreaLeft" fmla="*/ 21240 w 146160"/>
                  <a:gd name="textAreaRight" fmla="*/ 124920 w 146160"/>
                  <a:gd name="textAreaTop" fmla="*/ 21240 h 595440"/>
                  <a:gd name="textAreaBottom" fmla="*/ 574200 h 595440"/>
                </a:gdLst>
                <a:ahLst/>
                <a:rect l="textAreaLeft" t="textAreaTop" r="textAreaRight" b="textAreaBottom"/>
                <a:pathLst>
                  <a:path w="21600" h="87833">
                    <a:moveTo>
                      <a:pt x="10800" y="0"/>
                    </a:moveTo>
                    <a:arcTo wR="10800" hR="10800" stAng="16200000" swAng="-5400000"/>
                    <a:lnTo>
                      <a:pt x="0" y="77033"/>
                    </a:lnTo>
                    <a:arcTo wR="10800" hR="10800" stAng="10800000" swAng="-5400000"/>
                    <a:lnTo>
                      <a:pt x="10800" y="878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圆角矩形 284"/>
              <p:cNvSpPr/>
              <p:nvPr/>
            </p:nvSpPr>
            <p:spPr>
              <a:xfrm>
                <a:off x="1896840" y="5903640"/>
                <a:ext cx="149400" cy="595440"/>
              </a:xfrm>
              <a:custGeom>
                <a:avLst/>
                <a:gdLst>
                  <a:gd name="textAreaLeft" fmla="*/ 21600 w 149400"/>
                  <a:gd name="textAreaRight" fmla="*/ 127800 w 149400"/>
                  <a:gd name="textAreaTop" fmla="*/ 21600 h 595440"/>
                  <a:gd name="textAreaBottom" fmla="*/ 573840 h 595440"/>
                </a:gdLst>
                <a:ahLst/>
                <a:rect l="textAreaLeft" t="textAreaTop" r="textAreaRight" b="textAreaBottom"/>
                <a:pathLst>
                  <a:path w="21600" h="85933">
                    <a:moveTo>
                      <a:pt x="10800" y="0"/>
                    </a:moveTo>
                    <a:arcTo wR="10800" hR="10800" stAng="16200000" swAng="-5400000"/>
                    <a:lnTo>
                      <a:pt x="0" y="75133"/>
                    </a:lnTo>
                    <a:arcTo wR="10800" hR="10800" stAng="10800000" swAng="-5400000"/>
                    <a:lnTo>
                      <a:pt x="10800" y="85933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圆角矩形 285"/>
              <p:cNvSpPr/>
              <p:nvPr/>
            </p:nvSpPr>
            <p:spPr>
              <a:xfrm>
                <a:off x="1127880" y="5193720"/>
                <a:ext cx="844200" cy="676440"/>
              </a:xfrm>
              <a:prstGeom prst="roundRect">
                <a:avLst>
                  <a:gd name="adj" fmla="val 11602"/>
                </a:avLst>
              </a:prstGeom>
              <a:noFill/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直接连接符 287"/>
              <p:cNvSpPr/>
              <p:nvPr/>
            </p:nvSpPr>
            <p:spPr>
              <a:xfrm>
                <a:off x="1388880" y="6372000"/>
                <a:ext cx="327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组合 335"/>
          <p:cNvGrpSpPr/>
          <p:nvPr/>
        </p:nvGrpSpPr>
        <p:grpSpPr>
          <a:xfrm>
            <a:off x="4494240" y="5178600"/>
            <a:ext cx="1182600" cy="1247760"/>
            <a:chOff x="4494240" y="5178600"/>
            <a:chExt cx="1182600" cy="1247760"/>
          </a:xfrm>
        </p:grpSpPr>
        <p:grpSp>
          <p:nvGrpSpPr>
            <p:cNvPr id="1183" name="组合 298"/>
            <p:cNvGrpSpPr/>
            <p:nvPr/>
          </p:nvGrpSpPr>
          <p:grpSpPr>
            <a:xfrm>
              <a:off x="4494240" y="5729400"/>
              <a:ext cx="1182600" cy="696960"/>
              <a:chOff x="4494240" y="5729400"/>
              <a:chExt cx="1182600" cy="696960"/>
            </a:xfrm>
          </p:grpSpPr>
          <p:sp>
            <p:nvSpPr>
              <p:cNvPr id="1184" name="圆角矩形 291"/>
              <p:cNvSpPr/>
              <p:nvPr/>
            </p:nvSpPr>
            <p:spPr>
              <a:xfrm rot="19838400">
                <a:off x="4735800" y="5715360"/>
                <a:ext cx="110880" cy="71856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560"/>
                  <a:gd name="textAreaBottom" fmla="*/ 713160 h 718560"/>
                </a:gdLst>
                <a:ahLst/>
                <a:rect l="textAreaLeft" t="textAreaTop" r="textAreaRight" b="textAreaBottom"/>
                <a:pathLst>
                  <a:path w="21600" h="139596">
                    <a:moveTo>
                      <a:pt x="3600" y="0"/>
                    </a:moveTo>
                    <a:arcTo wR="3600" hR="3600" stAng="16200000" swAng="-5400000"/>
                    <a:lnTo>
                      <a:pt x="0" y="135996"/>
                    </a:lnTo>
                    <a:arcTo wR="3600" hR="3600" stAng="10800000" swAng="-5400000"/>
                    <a:lnTo>
                      <a:pt x="18000" y="1395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矩形 292"/>
              <p:cNvSpPr/>
              <p:nvPr/>
            </p:nvSpPr>
            <p:spPr>
              <a:xfrm>
                <a:off x="4494240" y="5729400"/>
                <a:ext cx="22176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矩形 294"/>
              <p:cNvSpPr/>
              <p:nvPr/>
            </p:nvSpPr>
            <p:spPr>
              <a:xfrm>
                <a:off x="5465160" y="5740920"/>
                <a:ext cx="211680" cy="86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椭圆 295"/>
              <p:cNvSpPr/>
              <p:nvPr/>
            </p:nvSpPr>
            <p:spPr>
              <a:xfrm>
                <a:off x="4944600" y="5778360"/>
                <a:ext cx="276120" cy="4132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圆角矩形 296"/>
              <p:cNvSpPr/>
              <p:nvPr/>
            </p:nvSpPr>
            <p:spPr>
              <a:xfrm flipH="1" rot="1761600">
                <a:off x="5329800" y="5726160"/>
                <a:ext cx="110880" cy="718920"/>
              </a:xfrm>
              <a:custGeom>
                <a:avLst/>
                <a:gdLst>
                  <a:gd name="textAreaLeft" fmla="*/ 5400 w 110880"/>
                  <a:gd name="textAreaRight" fmla="*/ 105480 w 110880"/>
                  <a:gd name="textAreaTop" fmla="*/ 5400 h 718920"/>
                  <a:gd name="textAreaBottom" fmla="*/ 713520 h 718920"/>
                </a:gdLst>
                <a:ahLst/>
                <a:rect l="textAreaLeft" t="textAreaTop" r="textAreaRight" b="textAreaBottom"/>
                <a:pathLst>
                  <a:path w="21600" h="139666">
                    <a:moveTo>
                      <a:pt x="3600" y="0"/>
                    </a:moveTo>
                    <a:arcTo wR="3600" hR="3600" stAng="16200000" swAng="-5400000"/>
                    <a:lnTo>
                      <a:pt x="0" y="136066"/>
                    </a:lnTo>
                    <a:arcTo wR="3600" hR="3600" stAng="10800000" swAng="-5400000"/>
                    <a:lnTo>
                      <a:pt x="18000" y="13966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9" name="任意多边形 334"/>
            <p:cNvSpPr/>
            <p:nvPr/>
          </p:nvSpPr>
          <p:spPr>
            <a:xfrm>
              <a:off x="4494240" y="5178600"/>
              <a:ext cx="1180080" cy="513720"/>
            </a:xfrm>
            <a:custGeom>
              <a:avLst/>
              <a:gdLst>
                <a:gd name="textAreaLeft" fmla="*/ 0 w 1180080"/>
                <a:gd name="textAreaRight" fmla="*/ 1180440 w 118008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3574748" h="1556557">
                  <a:moveTo>
                    <a:pt x="670236" y="1152533"/>
                  </a:moveTo>
                  <a:lnTo>
                    <a:pt x="670236" y="1237851"/>
                  </a:lnTo>
                  <a:lnTo>
                    <a:pt x="871423" y="1237851"/>
                  </a:lnTo>
                  <a:lnTo>
                    <a:pt x="871423" y="1152533"/>
                  </a:lnTo>
                  <a:lnTo>
                    <a:pt x="670236" y="1152533"/>
                  </a:lnTo>
                  <a:close/>
                  <a:moveTo>
                    <a:pt x="938823" y="1144757"/>
                  </a:moveTo>
                  <a:lnTo>
                    <a:pt x="938823" y="1230075"/>
                  </a:lnTo>
                  <a:lnTo>
                    <a:pt x="1140010" y="1230075"/>
                  </a:lnTo>
                  <a:lnTo>
                    <a:pt x="1140010" y="1144757"/>
                  </a:lnTo>
                  <a:lnTo>
                    <a:pt x="938823" y="1144757"/>
                  </a:lnTo>
                  <a:close/>
                  <a:moveTo>
                    <a:pt x="3008929" y="1039466"/>
                  </a:moveTo>
                  <a:lnTo>
                    <a:pt x="3008929" y="1124784"/>
                  </a:lnTo>
                  <a:lnTo>
                    <a:pt x="3210116" y="1124784"/>
                  </a:lnTo>
                  <a:lnTo>
                    <a:pt x="3210116" y="1039466"/>
                  </a:lnTo>
                  <a:lnTo>
                    <a:pt x="3008929" y="1039466"/>
                  </a:lnTo>
                  <a:close/>
                  <a:moveTo>
                    <a:pt x="2198449" y="1039466"/>
                  </a:moveTo>
                  <a:lnTo>
                    <a:pt x="2198449" y="1124784"/>
                  </a:lnTo>
                  <a:lnTo>
                    <a:pt x="2399636" y="1124784"/>
                  </a:lnTo>
                  <a:lnTo>
                    <a:pt x="2399636" y="1039466"/>
                  </a:lnTo>
                  <a:lnTo>
                    <a:pt x="2198449" y="1039466"/>
                  </a:lnTo>
                  <a:close/>
                  <a:moveTo>
                    <a:pt x="2467036" y="1031690"/>
                  </a:moveTo>
                  <a:lnTo>
                    <a:pt x="2467036" y="1117008"/>
                  </a:lnTo>
                  <a:lnTo>
                    <a:pt x="2668223" y="1117008"/>
                  </a:lnTo>
                  <a:lnTo>
                    <a:pt x="2668223" y="1031690"/>
                  </a:lnTo>
                  <a:lnTo>
                    <a:pt x="2467036" y="1031690"/>
                  </a:lnTo>
                  <a:close/>
                  <a:moveTo>
                    <a:pt x="130301" y="978739"/>
                  </a:moveTo>
                  <a:lnTo>
                    <a:pt x="130301" y="1064057"/>
                  </a:lnTo>
                  <a:lnTo>
                    <a:pt x="331488" y="1064057"/>
                  </a:lnTo>
                  <a:lnTo>
                    <a:pt x="331488" y="978739"/>
                  </a:lnTo>
                  <a:lnTo>
                    <a:pt x="130301" y="978739"/>
                  </a:lnTo>
                  <a:close/>
                  <a:moveTo>
                    <a:pt x="2789397" y="865559"/>
                  </a:moveTo>
                  <a:lnTo>
                    <a:pt x="2789397" y="950877"/>
                  </a:lnTo>
                  <a:lnTo>
                    <a:pt x="2990584" y="950877"/>
                  </a:lnTo>
                  <a:lnTo>
                    <a:pt x="2990584" y="865559"/>
                  </a:lnTo>
                  <a:lnTo>
                    <a:pt x="2789397" y="865559"/>
                  </a:lnTo>
                  <a:close/>
                  <a:moveTo>
                    <a:pt x="2198449" y="865559"/>
                  </a:moveTo>
                  <a:lnTo>
                    <a:pt x="2198449" y="950877"/>
                  </a:lnTo>
                  <a:lnTo>
                    <a:pt x="2399636" y="950877"/>
                  </a:lnTo>
                  <a:lnTo>
                    <a:pt x="2399636" y="865559"/>
                  </a:lnTo>
                  <a:lnTo>
                    <a:pt x="2198449" y="865559"/>
                  </a:lnTo>
                  <a:close/>
                  <a:moveTo>
                    <a:pt x="2467036" y="857783"/>
                  </a:moveTo>
                  <a:lnTo>
                    <a:pt x="2467036" y="943101"/>
                  </a:lnTo>
                  <a:lnTo>
                    <a:pt x="2668223" y="943101"/>
                  </a:lnTo>
                  <a:lnTo>
                    <a:pt x="2668223" y="857783"/>
                  </a:lnTo>
                  <a:lnTo>
                    <a:pt x="2467036" y="857783"/>
                  </a:lnTo>
                  <a:close/>
                  <a:moveTo>
                    <a:pt x="130301" y="836840"/>
                  </a:moveTo>
                  <a:lnTo>
                    <a:pt x="130301" y="922158"/>
                  </a:lnTo>
                  <a:lnTo>
                    <a:pt x="331488" y="922158"/>
                  </a:lnTo>
                  <a:lnTo>
                    <a:pt x="331488" y="836840"/>
                  </a:lnTo>
                  <a:lnTo>
                    <a:pt x="130301" y="836840"/>
                  </a:lnTo>
                  <a:close/>
                  <a:moveTo>
                    <a:pt x="899320" y="740650"/>
                  </a:moveTo>
                  <a:lnTo>
                    <a:pt x="899320" y="825968"/>
                  </a:lnTo>
                  <a:lnTo>
                    <a:pt x="1100507" y="825968"/>
                  </a:lnTo>
                  <a:lnTo>
                    <a:pt x="1100507" y="740650"/>
                  </a:lnTo>
                  <a:lnTo>
                    <a:pt x="899320" y="740650"/>
                  </a:lnTo>
                  <a:close/>
                  <a:moveTo>
                    <a:pt x="1167907" y="732874"/>
                  </a:moveTo>
                  <a:lnTo>
                    <a:pt x="1167907" y="818192"/>
                  </a:lnTo>
                  <a:lnTo>
                    <a:pt x="1369094" y="818192"/>
                  </a:lnTo>
                  <a:lnTo>
                    <a:pt x="1369094" y="732874"/>
                  </a:lnTo>
                  <a:lnTo>
                    <a:pt x="1167907" y="732874"/>
                  </a:lnTo>
                  <a:close/>
                  <a:moveTo>
                    <a:pt x="2198449" y="720634"/>
                  </a:moveTo>
                  <a:lnTo>
                    <a:pt x="2198449" y="805952"/>
                  </a:lnTo>
                  <a:lnTo>
                    <a:pt x="2399636" y="805952"/>
                  </a:lnTo>
                  <a:lnTo>
                    <a:pt x="2399636" y="720634"/>
                  </a:lnTo>
                  <a:lnTo>
                    <a:pt x="2198449" y="720634"/>
                  </a:lnTo>
                  <a:close/>
                  <a:moveTo>
                    <a:pt x="2467036" y="712858"/>
                  </a:moveTo>
                  <a:lnTo>
                    <a:pt x="2467036" y="798176"/>
                  </a:lnTo>
                  <a:lnTo>
                    <a:pt x="2668223" y="798176"/>
                  </a:lnTo>
                  <a:lnTo>
                    <a:pt x="2668223" y="712858"/>
                  </a:lnTo>
                  <a:lnTo>
                    <a:pt x="2467036" y="712858"/>
                  </a:lnTo>
                  <a:close/>
                  <a:moveTo>
                    <a:pt x="130301" y="675249"/>
                  </a:moveTo>
                  <a:lnTo>
                    <a:pt x="130301" y="760567"/>
                  </a:lnTo>
                  <a:lnTo>
                    <a:pt x="331488" y="760567"/>
                  </a:lnTo>
                  <a:lnTo>
                    <a:pt x="331488" y="675249"/>
                  </a:lnTo>
                  <a:lnTo>
                    <a:pt x="130301" y="675249"/>
                  </a:lnTo>
                  <a:close/>
                  <a:moveTo>
                    <a:pt x="2198449" y="583674"/>
                  </a:moveTo>
                  <a:lnTo>
                    <a:pt x="2198449" y="668992"/>
                  </a:lnTo>
                  <a:lnTo>
                    <a:pt x="2399636" y="668992"/>
                  </a:lnTo>
                  <a:lnTo>
                    <a:pt x="2399636" y="583674"/>
                  </a:lnTo>
                  <a:lnTo>
                    <a:pt x="2198449" y="583674"/>
                  </a:lnTo>
                  <a:close/>
                  <a:moveTo>
                    <a:pt x="2467036" y="575898"/>
                  </a:moveTo>
                  <a:lnTo>
                    <a:pt x="2467036" y="661216"/>
                  </a:lnTo>
                  <a:lnTo>
                    <a:pt x="2668223" y="661216"/>
                  </a:lnTo>
                  <a:lnTo>
                    <a:pt x="2668223" y="575898"/>
                  </a:lnTo>
                  <a:lnTo>
                    <a:pt x="2467036" y="575898"/>
                  </a:lnTo>
                  <a:close/>
                  <a:moveTo>
                    <a:pt x="3023843" y="559365"/>
                  </a:moveTo>
                  <a:lnTo>
                    <a:pt x="3023843" y="644683"/>
                  </a:lnTo>
                  <a:lnTo>
                    <a:pt x="3225030" y="644683"/>
                  </a:lnTo>
                  <a:lnTo>
                    <a:pt x="3225030" y="559365"/>
                  </a:lnTo>
                  <a:lnTo>
                    <a:pt x="3023843" y="559365"/>
                  </a:lnTo>
                  <a:close/>
                  <a:moveTo>
                    <a:pt x="134855" y="513658"/>
                  </a:moveTo>
                  <a:lnTo>
                    <a:pt x="134855" y="598976"/>
                  </a:lnTo>
                  <a:lnTo>
                    <a:pt x="336042" y="598976"/>
                  </a:lnTo>
                  <a:lnTo>
                    <a:pt x="336042" y="513658"/>
                  </a:lnTo>
                  <a:lnTo>
                    <a:pt x="134855" y="513658"/>
                  </a:lnTo>
                  <a:close/>
                  <a:moveTo>
                    <a:pt x="134855" y="347963"/>
                  </a:moveTo>
                  <a:lnTo>
                    <a:pt x="134855" y="433281"/>
                  </a:lnTo>
                  <a:lnTo>
                    <a:pt x="336042" y="433281"/>
                  </a:lnTo>
                  <a:lnTo>
                    <a:pt x="336042" y="347963"/>
                  </a:lnTo>
                  <a:lnTo>
                    <a:pt x="134855" y="347963"/>
                  </a:lnTo>
                  <a:close/>
                  <a:moveTo>
                    <a:pt x="1104379" y="318396"/>
                  </a:moveTo>
                  <a:lnTo>
                    <a:pt x="1104379" y="403714"/>
                  </a:lnTo>
                  <a:lnTo>
                    <a:pt x="1305566" y="403714"/>
                  </a:lnTo>
                  <a:lnTo>
                    <a:pt x="1305566" y="318396"/>
                  </a:lnTo>
                  <a:lnTo>
                    <a:pt x="1104379" y="318396"/>
                  </a:lnTo>
                  <a:close/>
                  <a:moveTo>
                    <a:pt x="1104380" y="142738"/>
                  </a:moveTo>
                  <a:lnTo>
                    <a:pt x="1104380" y="228056"/>
                  </a:lnTo>
                  <a:lnTo>
                    <a:pt x="1305567" y="228056"/>
                  </a:lnTo>
                  <a:lnTo>
                    <a:pt x="1305567" y="142738"/>
                  </a:lnTo>
                  <a:lnTo>
                    <a:pt x="1104380" y="142738"/>
                  </a:lnTo>
                  <a:close/>
                  <a:moveTo>
                    <a:pt x="942223" y="0"/>
                  </a:moveTo>
                  <a:lnTo>
                    <a:pt x="1435141" y="0"/>
                  </a:lnTo>
                  <a:lnTo>
                    <a:pt x="1435141" y="616233"/>
                  </a:lnTo>
                  <a:lnTo>
                    <a:pt x="1853445" y="616233"/>
                  </a:lnTo>
                  <a:lnTo>
                    <a:pt x="1853445" y="908218"/>
                  </a:lnTo>
                  <a:lnTo>
                    <a:pt x="2036161" y="908218"/>
                  </a:lnTo>
                  <a:lnTo>
                    <a:pt x="2036161" y="433281"/>
                  </a:lnTo>
                  <a:lnTo>
                    <a:pt x="2453882" y="433281"/>
                  </a:lnTo>
                  <a:lnTo>
                    <a:pt x="2453882" y="103152"/>
                  </a:lnTo>
                  <a:lnTo>
                    <a:pt x="2946800" y="103152"/>
                  </a:lnTo>
                  <a:lnTo>
                    <a:pt x="2946800" y="316662"/>
                  </a:lnTo>
                  <a:lnTo>
                    <a:pt x="3347033" y="316662"/>
                  </a:lnTo>
                  <a:lnTo>
                    <a:pt x="3347033" y="908218"/>
                  </a:lnTo>
                  <a:lnTo>
                    <a:pt x="3574748" y="908218"/>
                  </a:lnTo>
                  <a:lnTo>
                    <a:pt x="3574748" y="1556557"/>
                  </a:lnTo>
                  <a:lnTo>
                    <a:pt x="0" y="1556557"/>
                  </a:lnTo>
                  <a:lnTo>
                    <a:pt x="0" y="908218"/>
                  </a:lnTo>
                  <a:lnTo>
                    <a:pt x="866" y="908218"/>
                  </a:lnTo>
                  <a:lnTo>
                    <a:pt x="866" y="235301"/>
                  </a:lnTo>
                  <a:lnTo>
                    <a:pt x="493784" y="235301"/>
                  </a:lnTo>
                  <a:lnTo>
                    <a:pt x="493784" y="908218"/>
                  </a:lnTo>
                  <a:lnTo>
                    <a:pt x="719899" y="908218"/>
                  </a:lnTo>
                  <a:lnTo>
                    <a:pt x="719899" y="616233"/>
                  </a:lnTo>
                  <a:lnTo>
                    <a:pt x="942223" y="616233"/>
                  </a:lnTo>
                  <a:lnTo>
                    <a:pt x="9422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任意多边形 359"/>
          <p:cNvSpPr/>
          <p:nvPr/>
        </p:nvSpPr>
        <p:spPr>
          <a:xfrm>
            <a:off x="7985160" y="5243400"/>
            <a:ext cx="1177920" cy="115596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1155960"/>
              <a:gd name="textAreaBottom" fmla="*/ 1156320 h 1155960"/>
            </a:gdLst>
            <a:ahLst/>
            <a:rect l="textAreaLeft" t="textAreaTop" r="textAreaRight" b="textAreaBottom"/>
            <a:pathLst>
              <a:path w="2276552" h="2231118">
                <a:moveTo>
                  <a:pt x="750891" y="0"/>
                </a:moveTo>
                <a:lnTo>
                  <a:pt x="1323477" y="0"/>
                </a:lnTo>
                <a:lnTo>
                  <a:pt x="1323477" y="398569"/>
                </a:lnTo>
                <a:lnTo>
                  <a:pt x="1519405" y="398569"/>
                </a:lnTo>
                <a:lnTo>
                  <a:pt x="1519405" y="285592"/>
                </a:lnTo>
                <a:lnTo>
                  <a:pt x="2091991" y="285592"/>
                </a:lnTo>
                <a:lnTo>
                  <a:pt x="2091991" y="1288501"/>
                </a:lnTo>
                <a:lnTo>
                  <a:pt x="2276552" y="1288501"/>
                </a:lnTo>
                <a:lnTo>
                  <a:pt x="2276552" y="2231118"/>
                </a:lnTo>
                <a:lnTo>
                  <a:pt x="1369866" y="2231118"/>
                </a:lnTo>
                <a:lnTo>
                  <a:pt x="1369866" y="1883954"/>
                </a:lnTo>
                <a:lnTo>
                  <a:pt x="1152311" y="1680897"/>
                </a:lnTo>
                <a:lnTo>
                  <a:pt x="1128022" y="1680897"/>
                </a:lnTo>
                <a:lnTo>
                  <a:pt x="1128022" y="1460733"/>
                </a:lnTo>
                <a:lnTo>
                  <a:pt x="904978" y="1100731"/>
                </a:lnTo>
                <a:lnTo>
                  <a:pt x="850619" y="1137381"/>
                </a:lnTo>
                <a:cubicBezTo>
                  <a:pt x="805157" y="1182843"/>
                  <a:pt x="777036" y="1245651"/>
                  <a:pt x="777036" y="1315025"/>
                </a:cubicBezTo>
                <a:lnTo>
                  <a:pt x="777036" y="1485300"/>
                </a:lnTo>
                <a:lnTo>
                  <a:pt x="693872" y="1540367"/>
                </a:lnTo>
                <a:lnTo>
                  <a:pt x="777036" y="1540367"/>
                </a:lnTo>
                <a:lnTo>
                  <a:pt x="777036" y="1676074"/>
                </a:lnTo>
                <a:cubicBezTo>
                  <a:pt x="777036" y="1814823"/>
                  <a:pt x="889515" y="1927302"/>
                  <a:pt x="1028264" y="1927302"/>
                </a:cubicBezTo>
                <a:lnTo>
                  <a:pt x="1085466" y="1927302"/>
                </a:lnTo>
                <a:lnTo>
                  <a:pt x="1085466" y="2231118"/>
                </a:lnTo>
                <a:lnTo>
                  <a:pt x="5796" y="2231118"/>
                </a:lnTo>
                <a:lnTo>
                  <a:pt x="5796" y="1888286"/>
                </a:lnTo>
                <a:lnTo>
                  <a:pt x="0" y="1888286"/>
                </a:lnTo>
                <a:lnTo>
                  <a:pt x="0" y="945669"/>
                </a:lnTo>
                <a:lnTo>
                  <a:pt x="126240" y="945669"/>
                </a:lnTo>
                <a:lnTo>
                  <a:pt x="126240" y="471258"/>
                </a:lnTo>
                <a:lnTo>
                  <a:pt x="698826" y="471258"/>
                </a:lnTo>
                <a:lnTo>
                  <a:pt x="698826" y="602837"/>
                </a:lnTo>
                <a:lnTo>
                  <a:pt x="750891" y="602837"/>
                </a:lnTo>
                <a:lnTo>
                  <a:pt x="75089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373"/>
          <p:cNvSpPr/>
          <p:nvPr/>
        </p:nvSpPr>
        <p:spPr>
          <a:xfrm>
            <a:off x="2440080" y="1523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会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374"/>
          <p:cNvSpPr/>
          <p:nvPr/>
        </p:nvSpPr>
        <p:spPr>
          <a:xfrm>
            <a:off x="9112320" y="32259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建一级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00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375"/>
          <p:cNvSpPr/>
          <p:nvPr/>
        </p:nvSpPr>
        <p:spPr>
          <a:xfrm>
            <a:off x="2340000" y="3397320"/>
            <a:ext cx="232236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规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公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私活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76"/>
          <p:cNvSpPr/>
          <p:nvPr/>
        </p:nvSpPr>
        <p:spPr>
          <a:xfrm>
            <a:off x="2206800" y="5342040"/>
            <a:ext cx="2323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个老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W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377"/>
          <p:cNvSpPr/>
          <p:nvPr/>
        </p:nvSpPr>
        <p:spPr>
          <a:xfrm>
            <a:off x="5661000" y="530712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工程造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378"/>
          <p:cNvSpPr/>
          <p:nvPr/>
        </p:nvSpPr>
        <p:spPr>
          <a:xfrm>
            <a:off x="5992920" y="160956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I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文本框 379"/>
          <p:cNvSpPr/>
          <p:nvPr/>
        </p:nvSpPr>
        <p:spPr>
          <a:xfrm>
            <a:off x="9218520" y="165564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文本框 380"/>
          <p:cNvSpPr/>
          <p:nvPr/>
        </p:nvSpPr>
        <p:spPr>
          <a:xfrm>
            <a:off x="9236160" y="540072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土建造价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文本框 381"/>
          <p:cNvSpPr/>
          <p:nvPr/>
        </p:nvSpPr>
        <p:spPr>
          <a:xfrm>
            <a:off x="4346640" y="35751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a3838"/>
                </a:solidFill>
                <a:latin typeface="微软雅黑"/>
                <a:ea typeface="微软雅黑"/>
              </a:rPr>
              <a:t>土豪年终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组合 386"/>
          <p:cNvGrpSpPr/>
          <p:nvPr/>
        </p:nvGrpSpPr>
        <p:grpSpPr>
          <a:xfrm>
            <a:off x="290520" y="393840"/>
            <a:ext cx="812880" cy="701640"/>
            <a:chOff x="290520" y="393840"/>
            <a:chExt cx="812880" cy="701640"/>
          </a:xfrm>
        </p:grpSpPr>
        <p:sp>
          <p:nvSpPr>
            <p:cNvPr id="1201" name="任意多边形 382"/>
            <p:cNvSpPr/>
            <p:nvPr/>
          </p:nvSpPr>
          <p:spPr>
            <a:xfrm>
              <a:off x="290520" y="551880"/>
              <a:ext cx="784440" cy="54360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543600"/>
                <a:gd name="textAreaBottom" fmla="*/ 543960 h 543600"/>
              </a:gdLst>
              <a:ahLst/>
              <a:rect l="textAreaLeft" t="textAreaTop" r="textAreaRight" b="textAreaBottom"/>
              <a:pathLst>
                <a:path w="2133600" h="1480457">
                  <a:moveTo>
                    <a:pt x="1005114" y="914401"/>
                  </a:moveTo>
                  <a:lnTo>
                    <a:pt x="943428" y="1262744"/>
                  </a:lnTo>
                  <a:lnTo>
                    <a:pt x="1190171" y="1262744"/>
                  </a:lnTo>
                  <a:lnTo>
                    <a:pt x="1128485" y="914401"/>
                  </a:lnTo>
                  <a:lnTo>
                    <a:pt x="1005114" y="914401"/>
                  </a:lnTo>
                  <a:close/>
                  <a:moveTo>
                    <a:pt x="1689758" y="865885"/>
                  </a:moveTo>
                  <a:lnTo>
                    <a:pt x="1568583" y="889058"/>
                  </a:lnTo>
                  <a:lnTo>
                    <a:pt x="1573425" y="1242787"/>
                  </a:lnTo>
                  <a:lnTo>
                    <a:pt x="1815776" y="1196441"/>
                  </a:lnTo>
                  <a:lnTo>
                    <a:pt x="1689758" y="865885"/>
                  </a:lnTo>
                  <a:close/>
                  <a:moveTo>
                    <a:pt x="419060" y="853141"/>
                  </a:moveTo>
                  <a:lnTo>
                    <a:pt x="295123" y="1184482"/>
                  </a:lnTo>
                  <a:lnTo>
                    <a:pt x="537760" y="1229304"/>
                  </a:lnTo>
                  <a:lnTo>
                    <a:pt x="540379" y="875552"/>
                  </a:lnTo>
                  <a:lnTo>
                    <a:pt x="419060" y="853141"/>
                  </a:lnTo>
                  <a:close/>
                  <a:moveTo>
                    <a:pt x="1066800" y="0"/>
                  </a:moveTo>
                  <a:cubicBezTo>
                    <a:pt x="1655977" y="0"/>
                    <a:pt x="2133600" y="157178"/>
                    <a:pt x="2133600" y="351068"/>
                  </a:cubicBezTo>
                  <a:lnTo>
                    <a:pt x="2133600" y="1129389"/>
                  </a:lnTo>
                  <a:cubicBezTo>
                    <a:pt x="2133600" y="1323279"/>
                    <a:pt x="1655977" y="1480457"/>
                    <a:pt x="1066800" y="1480457"/>
                  </a:cubicBezTo>
                  <a:cubicBezTo>
                    <a:pt x="477623" y="1480457"/>
                    <a:pt x="0" y="1323279"/>
                    <a:pt x="0" y="1129389"/>
                  </a:cubicBezTo>
                  <a:lnTo>
                    <a:pt x="0" y="351068"/>
                  </a:lnTo>
                  <a:cubicBezTo>
                    <a:pt x="0" y="157178"/>
                    <a:pt x="477623" y="0"/>
                    <a:pt x="1066800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椭圆 384"/>
            <p:cNvSpPr/>
            <p:nvPr/>
          </p:nvSpPr>
          <p:spPr>
            <a:xfrm>
              <a:off x="290520" y="551880"/>
              <a:ext cx="784440" cy="255600"/>
            </a:xfrm>
            <a:prstGeom prst="ellipse">
              <a:avLst/>
            </a:prstGeom>
            <a:solidFill>
              <a:srgbClr val="cb1b5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3" name="图片 385" descr=""/>
            <p:cNvPicPr/>
            <p:nvPr/>
          </p:nvPicPr>
          <p:blipFill>
            <a:blip r:embed="rId1"/>
            <a:srcRect l="0" t="0" r="0" b="38388"/>
            <a:stretch/>
          </p:blipFill>
          <p:spPr>
            <a:xfrm>
              <a:off x="291960" y="393840"/>
              <a:ext cx="811440" cy="3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组合 176"/>
          <p:cNvGrpSpPr/>
          <p:nvPr/>
        </p:nvGrpSpPr>
        <p:grpSpPr>
          <a:xfrm>
            <a:off x="46080" y="1206360"/>
            <a:ext cx="12106080" cy="4424400"/>
            <a:chOff x="46080" y="1206360"/>
            <a:chExt cx="12106080" cy="4424400"/>
          </a:xfrm>
        </p:grpSpPr>
        <p:sp>
          <p:nvSpPr>
            <p:cNvPr id="1206" name="矩形 168"/>
            <p:cNvSpPr/>
            <p:nvPr/>
          </p:nvSpPr>
          <p:spPr>
            <a:xfrm>
              <a:off x="47160" y="342828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矩形 169"/>
            <p:cNvSpPr/>
            <p:nvPr/>
          </p:nvSpPr>
          <p:spPr>
            <a:xfrm>
              <a:off x="3068640" y="342828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矩形 170"/>
            <p:cNvSpPr/>
            <p:nvPr/>
          </p:nvSpPr>
          <p:spPr>
            <a:xfrm>
              <a:off x="6099480" y="342864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矩形 171"/>
            <p:cNvSpPr/>
            <p:nvPr/>
          </p:nvSpPr>
          <p:spPr>
            <a:xfrm>
              <a:off x="9122760" y="342828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矩形 172"/>
            <p:cNvSpPr/>
            <p:nvPr/>
          </p:nvSpPr>
          <p:spPr>
            <a:xfrm>
              <a:off x="46080" y="1206360"/>
              <a:ext cx="3016080" cy="2202120"/>
            </a:xfrm>
            <a:prstGeom prst="rect">
              <a:avLst/>
            </a:prstGeom>
            <a:solidFill>
              <a:srgbClr val="c00000"/>
            </a:solidFill>
            <a:ln w="12600">
              <a:solidFill>
                <a:srgbClr val="c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矩形 173"/>
            <p:cNvSpPr/>
            <p:nvPr/>
          </p:nvSpPr>
          <p:spPr>
            <a:xfrm>
              <a:off x="3067560" y="1206360"/>
              <a:ext cx="3016080" cy="2202120"/>
            </a:xfrm>
            <a:prstGeom prst="rect">
              <a:avLst/>
            </a:prstGeom>
            <a:solidFill>
              <a:srgbClr val="ffc000"/>
            </a:solidFill>
            <a:ln w="1260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174"/>
            <p:cNvSpPr/>
            <p:nvPr/>
          </p:nvSpPr>
          <p:spPr>
            <a:xfrm>
              <a:off x="6098040" y="1206360"/>
              <a:ext cx="3016080" cy="2202120"/>
            </a:xfrm>
            <a:prstGeom prst="rect">
              <a:avLst/>
            </a:prstGeom>
            <a:solidFill>
              <a:srgbClr val="5d007e"/>
            </a:solidFill>
            <a:ln w="12600">
              <a:solidFill>
                <a:srgbClr val="4d006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矩形 175"/>
            <p:cNvSpPr/>
            <p:nvPr/>
          </p:nvSpPr>
          <p:spPr>
            <a:xfrm>
              <a:off x="9136080" y="1206360"/>
              <a:ext cx="3016080" cy="2202120"/>
            </a:xfrm>
            <a:prstGeom prst="rect">
              <a:avLst/>
            </a:prstGeom>
            <a:solidFill>
              <a:srgbClr val="e2266e"/>
            </a:solidFill>
            <a:ln w="12600">
              <a:solidFill>
                <a:srgbClr val="e2266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组合 46"/>
          <p:cNvGrpSpPr/>
          <p:nvPr/>
        </p:nvGrpSpPr>
        <p:grpSpPr>
          <a:xfrm>
            <a:off x="145800" y="1851120"/>
            <a:ext cx="939960" cy="741240"/>
            <a:chOff x="145800" y="1851120"/>
            <a:chExt cx="939960" cy="741240"/>
          </a:xfrm>
        </p:grpSpPr>
        <p:grpSp>
          <p:nvGrpSpPr>
            <p:cNvPr id="1215" name="组合 33"/>
            <p:cNvGrpSpPr/>
            <p:nvPr/>
          </p:nvGrpSpPr>
          <p:grpSpPr>
            <a:xfrm>
              <a:off x="664920" y="1905840"/>
              <a:ext cx="420840" cy="686520"/>
              <a:chOff x="664920" y="1905840"/>
              <a:chExt cx="420840" cy="686520"/>
            </a:xfrm>
          </p:grpSpPr>
          <p:grpSp>
            <p:nvGrpSpPr>
              <p:cNvPr id="1216" name="组合 13"/>
              <p:cNvGrpSpPr/>
              <p:nvPr/>
            </p:nvGrpSpPr>
            <p:grpSpPr>
              <a:xfrm>
                <a:off x="664920" y="1905840"/>
                <a:ext cx="371160" cy="492480"/>
                <a:chOff x="664920" y="1905840"/>
                <a:chExt cx="371160" cy="492480"/>
              </a:xfrm>
            </p:grpSpPr>
            <p:sp>
              <p:nvSpPr>
                <p:cNvPr id="1217" name="圆角矩形 27"/>
                <p:cNvSpPr/>
                <p:nvPr/>
              </p:nvSpPr>
              <p:spPr>
                <a:xfrm>
                  <a:off x="894960" y="204912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圆角矩形 28"/>
                <p:cNvSpPr/>
                <p:nvPr/>
              </p:nvSpPr>
              <p:spPr>
                <a:xfrm>
                  <a:off x="749160" y="231120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圆角矩形 29"/>
                <p:cNvSpPr/>
                <p:nvPr/>
              </p:nvSpPr>
              <p:spPr>
                <a:xfrm rot="19995600">
                  <a:off x="793800" y="20829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圆角矩形 30"/>
                <p:cNvSpPr/>
                <p:nvPr/>
              </p:nvSpPr>
              <p:spPr>
                <a:xfrm>
                  <a:off x="664920" y="211356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矩形 31"/>
                <p:cNvSpPr/>
                <p:nvPr/>
              </p:nvSpPr>
              <p:spPr>
                <a:xfrm rot="660000">
                  <a:off x="716040" y="2027520"/>
                  <a:ext cx="12240" cy="7452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椭圆 32"/>
                <p:cNvSpPr/>
                <p:nvPr/>
              </p:nvSpPr>
              <p:spPr>
                <a:xfrm>
                  <a:off x="877680" y="190584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3" name="矩形 14"/>
              <p:cNvSpPr/>
              <p:nvPr/>
            </p:nvSpPr>
            <p:spPr>
              <a:xfrm>
                <a:off x="1059480" y="211356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组合 34"/>
            <p:cNvGrpSpPr/>
            <p:nvPr/>
          </p:nvGrpSpPr>
          <p:grpSpPr>
            <a:xfrm>
              <a:off x="145800" y="1904400"/>
              <a:ext cx="420840" cy="686520"/>
              <a:chOff x="145800" y="1904400"/>
              <a:chExt cx="420840" cy="686520"/>
            </a:xfrm>
          </p:grpSpPr>
          <p:grpSp>
            <p:nvGrpSpPr>
              <p:cNvPr id="1225" name="组合 35"/>
              <p:cNvGrpSpPr/>
              <p:nvPr/>
            </p:nvGrpSpPr>
            <p:grpSpPr>
              <a:xfrm>
                <a:off x="195480" y="1904400"/>
                <a:ext cx="371160" cy="492480"/>
                <a:chOff x="195480" y="1904400"/>
                <a:chExt cx="371160" cy="492480"/>
              </a:xfrm>
            </p:grpSpPr>
            <p:sp>
              <p:nvSpPr>
                <p:cNvPr id="1226" name="圆角矩形 37"/>
                <p:cNvSpPr/>
                <p:nvPr/>
              </p:nvSpPr>
              <p:spPr>
                <a:xfrm flipH="1">
                  <a:off x="195480" y="2047680"/>
                  <a:ext cx="141120" cy="349200"/>
                </a:xfrm>
                <a:custGeom>
                  <a:avLst/>
                  <a:gdLst>
                    <a:gd name="textAreaLeft" fmla="*/ 16200 w 141120"/>
                    <a:gd name="textAreaRight" fmla="*/ 124920 w 141120"/>
                    <a:gd name="textAreaTop" fmla="*/ 16200 h 349200"/>
                    <a:gd name="textAreaBottom" fmla="*/ 333000 h 349200"/>
                  </a:gdLst>
                  <a:ahLst/>
                  <a:rect l="textAreaLeft" t="textAreaTop" r="textAreaRight" b="textAreaBottom"/>
                  <a:pathLst>
                    <a:path w="21600" h="53368">
                      <a:moveTo>
                        <a:pt x="8603" y="0"/>
                      </a:moveTo>
                      <a:arcTo wR="8603" hR="8603" stAng="16200000" swAng="-5400000"/>
                      <a:lnTo>
                        <a:pt x="0" y="44765"/>
                      </a:lnTo>
                      <a:arcTo wR="8603" hR="8603" stAng="10800000" swAng="-5400000"/>
                      <a:lnTo>
                        <a:pt x="12997" y="53368"/>
                      </a:lnTo>
                      <a:arcTo wR="8603" hR="8603" stAng="5400000" swAng="-5400000"/>
                      <a:lnTo>
                        <a:pt x="21600" y="8603"/>
                      </a:lnTo>
                      <a:arcTo wR="8603" hR="8603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圆角矩形 38"/>
                <p:cNvSpPr/>
                <p:nvPr/>
              </p:nvSpPr>
              <p:spPr>
                <a:xfrm flipH="1">
                  <a:off x="221760" y="2309760"/>
                  <a:ext cx="260280" cy="871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圆角矩形 39"/>
                <p:cNvSpPr/>
                <p:nvPr/>
              </p:nvSpPr>
              <p:spPr>
                <a:xfrm flipH="1" rot="1604400">
                  <a:off x="260640" y="20815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圆角矩形 40"/>
                <p:cNvSpPr/>
                <p:nvPr/>
              </p:nvSpPr>
              <p:spPr>
                <a:xfrm flipH="1">
                  <a:off x="389520" y="2112120"/>
                  <a:ext cx="176760" cy="51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0" name="矩形 41"/>
                <p:cNvSpPr/>
                <p:nvPr/>
              </p:nvSpPr>
              <p:spPr>
                <a:xfrm flipH="1" rot="20940000">
                  <a:off x="502560" y="2026080"/>
                  <a:ext cx="12240" cy="74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1" name="椭圆 42"/>
                <p:cNvSpPr/>
                <p:nvPr/>
              </p:nvSpPr>
              <p:spPr>
                <a:xfrm flipH="1">
                  <a:off x="225000" y="1904400"/>
                  <a:ext cx="128520" cy="12924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2" name="矩形 36"/>
              <p:cNvSpPr/>
              <p:nvPr/>
            </p:nvSpPr>
            <p:spPr>
              <a:xfrm flipH="1">
                <a:off x="145440" y="2112120"/>
                <a:ext cx="26280" cy="47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圆角矩形 43"/>
            <p:cNvSpPr/>
            <p:nvPr/>
          </p:nvSpPr>
          <p:spPr>
            <a:xfrm>
              <a:off x="482760" y="2025720"/>
              <a:ext cx="265320" cy="301680"/>
            </a:xfrm>
            <a:custGeom>
              <a:avLst/>
              <a:gdLst>
                <a:gd name="textAreaLeft" fmla="*/ 12960 w 265320"/>
                <a:gd name="textAreaRight" fmla="*/ 252360 w 265320"/>
                <a:gd name="textAreaTop" fmla="*/ 12960 h 301680"/>
                <a:gd name="textAreaBottom" fmla="*/ 288720 h 301680"/>
              </a:gdLst>
              <a:ahLst/>
              <a:rect l="textAreaLeft" t="textAreaTop" r="textAreaRight" b="textAreaBottom"/>
              <a:pathLst>
                <a:path w="21600" h="24556">
                  <a:moveTo>
                    <a:pt x="3600" y="0"/>
                  </a:moveTo>
                  <a:arcTo wR="3600" hR="3600" stAng="16200000" swAng="-5400000"/>
                  <a:lnTo>
                    <a:pt x="0" y="20956"/>
                  </a:lnTo>
                  <a:arcTo wR="3600" hR="3600" stAng="10800000" swAng="-5400000"/>
                  <a:lnTo>
                    <a:pt x="18000" y="245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椭圆 44"/>
            <p:cNvSpPr/>
            <p:nvPr/>
          </p:nvSpPr>
          <p:spPr>
            <a:xfrm>
              <a:off x="528840" y="1851120"/>
              <a:ext cx="141480" cy="142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矩形 45"/>
            <p:cNvSpPr/>
            <p:nvPr/>
          </p:nvSpPr>
          <p:spPr>
            <a:xfrm>
              <a:off x="412560" y="2202120"/>
              <a:ext cx="40536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组合 58"/>
          <p:cNvGrpSpPr/>
          <p:nvPr/>
        </p:nvGrpSpPr>
        <p:grpSpPr>
          <a:xfrm>
            <a:off x="3187800" y="1542960"/>
            <a:ext cx="1015920" cy="1136520"/>
            <a:chOff x="3187800" y="1542960"/>
            <a:chExt cx="1015920" cy="1136520"/>
          </a:xfrm>
        </p:grpSpPr>
        <p:sp>
          <p:nvSpPr>
            <p:cNvPr id="1237" name="任意多边形 49"/>
            <p:cNvSpPr/>
            <p:nvPr/>
          </p:nvSpPr>
          <p:spPr>
            <a:xfrm>
              <a:off x="3299040" y="166428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任意多边形 50"/>
            <p:cNvSpPr/>
            <p:nvPr/>
          </p:nvSpPr>
          <p:spPr>
            <a:xfrm>
              <a:off x="3594240" y="154296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任意多边形 51"/>
            <p:cNvSpPr/>
            <p:nvPr/>
          </p:nvSpPr>
          <p:spPr>
            <a:xfrm>
              <a:off x="3243240" y="192204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任意多边形 52"/>
            <p:cNvSpPr/>
            <p:nvPr/>
          </p:nvSpPr>
          <p:spPr>
            <a:xfrm>
              <a:off x="3187800" y="222552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任意多边形 53"/>
            <p:cNvSpPr/>
            <p:nvPr/>
          </p:nvSpPr>
          <p:spPr>
            <a:xfrm>
              <a:off x="3889080" y="166428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任意多边形 54"/>
            <p:cNvSpPr/>
            <p:nvPr/>
          </p:nvSpPr>
          <p:spPr>
            <a:xfrm>
              <a:off x="3958200" y="191844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任意多边形 55"/>
            <p:cNvSpPr/>
            <p:nvPr/>
          </p:nvSpPr>
          <p:spPr>
            <a:xfrm>
              <a:off x="4007160" y="2225520"/>
              <a:ext cx="196560" cy="43956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435429" h="972457">
                  <a:moveTo>
                    <a:pt x="72573" y="319314"/>
                  </a:moveTo>
                  <a:lnTo>
                    <a:pt x="217714" y="319314"/>
                  </a:lnTo>
                  <a:lnTo>
                    <a:pt x="362856" y="319314"/>
                  </a:lnTo>
                  <a:cubicBezTo>
                    <a:pt x="402937" y="319314"/>
                    <a:pt x="435429" y="351806"/>
                    <a:pt x="435429" y="391887"/>
                  </a:cubicBezTo>
                  <a:lnTo>
                    <a:pt x="435429" y="899884"/>
                  </a:lnTo>
                  <a:cubicBezTo>
                    <a:pt x="435429" y="939965"/>
                    <a:pt x="402937" y="972457"/>
                    <a:pt x="362856" y="972457"/>
                  </a:cubicBezTo>
                  <a:lnTo>
                    <a:pt x="72573" y="972457"/>
                  </a:lnTo>
                  <a:cubicBezTo>
                    <a:pt x="32492" y="972457"/>
                    <a:pt x="0" y="939965"/>
                    <a:pt x="0" y="899884"/>
                  </a:cubicBezTo>
                  <a:lnTo>
                    <a:pt x="0" y="391887"/>
                  </a:lnTo>
                  <a:cubicBezTo>
                    <a:pt x="0" y="351806"/>
                    <a:pt x="32492" y="319314"/>
                    <a:pt x="72573" y="319314"/>
                  </a:cubicBezTo>
                  <a:close/>
                  <a:moveTo>
                    <a:pt x="217714" y="0"/>
                  </a:moveTo>
                  <a:cubicBezTo>
                    <a:pt x="305890" y="0"/>
                    <a:pt x="377371" y="71481"/>
                    <a:pt x="377371" y="159657"/>
                  </a:cubicBezTo>
                  <a:cubicBezTo>
                    <a:pt x="377371" y="247833"/>
                    <a:pt x="305890" y="319314"/>
                    <a:pt x="217714" y="319314"/>
                  </a:cubicBezTo>
                  <a:cubicBezTo>
                    <a:pt x="129538" y="319314"/>
                    <a:pt x="58057" y="247833"/>
                    <a:pt x="58057" y="159657"/>
                  </a:cubicBezTo>
                  <a:cubicBezTo>
                    <a:pt x="58057" y="71481"/>
                    <a:pt x="129538" y="0"/>
                    <a:pt x="217714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梯形 57"/>
            <p:cNvSpPr/>
            <p:nvPr/>
          </p:nvSpPr>
          <p:spPr>
            <a:xfrm flipV="1">
              <a:off x="3305520" y="1876680"/>
              <a:ext cx="786600" cy="802440"/>
            </a:xfrm>
            <a:custGeom>
              <a:avLst/>
              <a:gdLst>
                <a:gd name="textAreaLeft" fmla="*/ 163800 w 786600"/>
                <a:gd name="textAreaRight" fmla="*/ 622800 w 786600"/>
                <a:gd name="textAreaTop" fmla="*/ 167040 h 802440"/>
                <a:gd name="textAreaBottom" fmla="*/ 635400 h 80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5" name="组合 105"/>
          <p:cNvGrpSpPr/>
          <p:nvPr/>
        </p:nvGrpSpPr>
        <p:grpSpPr>
          <a:xfrm>
            <a:off x="6184800" y="4157640"/>
            <a:ext cx="906480" cy="835200"/>
            <a:chOff x="6184800" y="4157640"/>
            <a:chExt cx="906480" cy="835200"/>
          </a:xfrm>
        </p:grpSpPr>
        <p:sp>
          <p:nvSpPr>
            <p:cNvPr id="1246" name="直接连接符 104"/>
            <p:cNvSpPr/>
            <p:nvPr/>
          </p:nvSpPr>
          <p:spPr>
            <a:xfrm flipV="1">
              <a:off x="6618240" y="4255560"/>
              <a:ext cx="236520" cy="216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7" name="组合 64"/>
            <p:cNvGrpSpPr/>
            <p:nvPr/>
          </p:nvGrpSpPr>
          <p:grpSpPr>
            <a:xfrm>
              <a:off x="6769800" y="4157640"/>
              <a:ext cx="321480" cy="835200"/>
              <a:chOff x="6769800" y="4157640"/>
              <a:chExt cx="321480" cy="835200"/>
            </a:xfrm>
          </p:grpSpPr>
          <p:sp>
            <p:nvSpPr>
              <p:cNvPr id="1248" name="任意多边形 65"/>
              <p:cNvSpPr/>
              <p:nvPr/>
            </p:nvSpPr>
            <p:spPr>
              <a:xfrm>
                <a:off x="6841440" y="4382280"/>
                <a:ext cx="177840" cy="61056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610560"/>
                  <a:gd name="textAreaBottom" fmla="*/ 610920 h 6105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圆角矩形 66"/>
              <p:cNvSpPr/>
              <p:nvPr/>
            </p:nvSpPr>
            <p:spPr>
              <a:xfrm>
                <a:off x="6769800" y="4391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椭圆 67"/>
              <p:cNvSpPr/>
              <p:nvPr/>
            </p:nvSpPr>
            <p:spPr>
              <a:xfrm>
                <a:off x="6854760" y="4157640"/>
                <a:ext cx="151200" cy="1958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圆角矩形 68"/>
              <p:cNvSpPr/>
              <p:nvPr/>
            </p:nvSpPr>
            <p:spPr>
              <a:xfrm>
                <a:off x="7034760" y="4382640"/>
                <a:ext cx="56520" cy="304920"/>
              </a:xfrm>
              <a:custGeom>
                <a:avLst/>
                <a:gdLst>
                  <a:gd name="textAreaLeft" fmla="*/ 8280 w 56520"/>
                  <a:gd name="textAreaRight" fmla="*/ 48240 w 56520"/>
                  <a:gd name="textAreaTop" fmla="*/ 8280 h 304920"/>
                  <a:gd name="textAreaBottom" fmla="*/ 296640 h 304920"/>
                </a:gdLst>
                <a:ahLst/>
                <a:rect l="textAreaLeft" t="textAreaTop" r="textAreaRight" b="textAreaBottom"/>
                <a:pathLst>
                  <a:path w="21600" h="115929">
                    <a:moveTo>
                      <a:pt x="10800" y="0"/>
                    </a:moveTo>
                    <a:arcTo wR="10800" hR="10800" stAng="16200000" swAng="-5400000"/>
                    <a:lnTo>
                      <a:pt x="0" y="105129"/>
                    </a:lnTo>
                    <a:arcTo wR="10800" hR="10800" stAng="10800000" swAng="-5400000"/>
                    <a:lnTo>
                      <a:pt x="10800" y="11592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组合 102"/>
            <p:cNvGrpSpPr/>
            <p:nvPr/>
          </p:nvGrpSpPr>
          <p:grpSpPr>
            <a:xfrm>
              <a:off x="6184800" y="4204080"/>
              <a:ext cx="459720" cy="781920"/>
              <a:chOff x="6184800" y="4204080"/>
              <a:chExt cx="459720" cy="781920"/>
            </a:xfrm>
          </p:grpSpPr>
          <p:sp>
            <p:nvSpPr>
              <p:cNvPr id="1253" name="矩形 85"/>
              <p:cNvSpPr/>
              <p:nvPr/>
            </p:nvSpPr>
            <p:spPr>
              <a:xfrm>
                <a:off x="6184800" y="4204080"/>
                <a:ext cx="189720" cy="22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矩形 86"/>
              <p:cNvSpPr/>
              <p:nvPr/>
            </p:nvSpPr>
            <p:spPr>
              <a:xfrm>
                <a:off x="618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矩形 88"/>
              <p:cNvSpPr/>
              <p:nvPr/>
            </p:nvSpPr>
            <p:spPr>
              <a:xfrm>
                <a:off x="6184800" y="46918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矩形 89"/>
              <p:cNvSpPr/>
              <p:nvPr/>
            </p:nvSpPr>
            <p:spPr>
              <a:xfrm>
                <a:off x="6454800" y="447768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矩形 90"/>
              <p:cNvSpPr/>
              <p:nvPr/>
            </p:nvSpPr>
            <p:spPr>
              <a:xfrm>
                <a:off x="6454800" y="4692240"/>
                <a:ext cx="189720" cy="130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矩形 91"/>
              <p:cNvSpPr/>
              <p:nvPr/>
            </p:nvSpPr>
            <p:spPr>
              <a:xfrm>
                <a:off x="6185880" y="4887720"/>
                <a:ext cx="458640" cy="9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矩形 92"/>
              <p:cNvSpPr/>
              <p:nvPr/>
            </p:nvSpPr>
            <p:spPr>
              <a:xfrm>
                <a:off x="6461280" y="4209120"/>
                <a:ext cx="156960" cy="9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直接连接符 94"/>
              <p:cNvSpPr/>
              <p:nvPr/>
            </p:nvSpPr>
            <p:spPr>
              <a:xfrm>
                <a:off x="6279480" y="4358880"/>
                <a:ext cx="0" cy="5284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直接连接符 96"/>
              <p:cNvSpPr/>
              <p:nvPr/>
            </p:nvSpPr>
            <p:spPr>
              <a:xfrm>
                <a:off x="6539760" y="4306320"/>
                <a:ext cx="6480" cy="665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直接连接符 98"/>
              <p:cNvSpPr/>
              <p:nvPr/>
            </p:nvSpPr>
            <p:spPr>
              <a:xfrm>
                <a:off x="6374520" y="475740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直接连接符 99"/>
              <p:cNvSpPr/>
              <p:nvPr/>
            </p:nvSpPr>
            <p:spPr>
              <a:xfrm>
                <a:off x="6380280" y="4542840"/>
                <a:ext cx="802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直接连接符 100"/>
              <p:cNvSpPr/>
              <p:nvPr/>
            </p:nvSpPr>
            <p:spPr>
              <a:xfrm>
                <a:off x="6368400" y="4257360"/>
                <a:ext cx="925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5" name="组合 163"/>
          <p:cNvGrpSpPr/>
          <p:nvPr/>
        </p:nvGrpSpPr>
        <p:grpSpPr>
          <a:xfrm>
            <a:off x="9223200" y="4051440"/>
            <a:ext cx="1128960" cy="811080"/>
            <a:chOff x="9223200" y="4051440"/>
            <a:chExt cx="1128960" cy="811080"/>
          </a:xfrm>
        </p:grpSpPr>
        <p:sp>
          <p:nvSpPr>
            <p:cNvPr id="1266" name="任意多边形 118"/>
            <p:cNvSpPr/>
            <p:nvPr/>
          </p:nvSpPr>
          <p:spPr>
            <a:xfrm>
              <a:off x="9223200" y="4162320"/>
              <a:ext cx="852840" cy="700200"/>
            </a:xfrm>
            <a:custGeom>
              <a:avLst/>
              <a:gdLst>
                <a:gd name="textAreaLeft" fmla="*/ 0 w 852840"/>
                <a:gd name="textAreaRight" fmla="*/ 853200 w 852840"/>
                <a:gd name="textAreaTop" fmla="*/ 0 h 700200"/>
                <a:gd name="textAreaBottom" fmla="*/ 700560 h 700200"/>
              </a:gdLst>
              <a:ahLst/>
              <a:rect l="textAreaLeft" t="textAreaTop" r="textAreaRight" b="textAreaBottom"/>
              <a:pathLst>
                <a:path w="2452914" h="1466019">
                  <a:moveTo>
                    <a:pt x="2039258" y="722161"/>
                  </a:moveTo>
                  <a:cubicBezTo>
                    <a:pt x="1955090" y="722161"/>
                    <a:pt x="1886858" y="790393"/>
                    <a:pt x="1886858" y="874561"/>
                  </a:cubicBezTo>
                  <a:cubicBezTo>
                    <a:pt x="1886858" y="958729"/>
                    <a:pt x="1955090" y="1026961"/>
                    <a:pt x="2039258" y="1026961"/>
                  </a:cubicBezTo>
                  <a:cubicBezTo>
                    <a:pt x="2123426" y="1026961"/>
                    <a:pt x="2191658" y="958729"/>
                    <a:pt x="2191658" y="874561"/>
                  </a:cubicBezTo>
                  <a:cubicBezTo>
                    <a:pt x="2191658" y="790393"/>
                    <a:pt x="2123426" y="722161"/>
                    <a:pt x="2039258" y="722161"/>
                  </a:cubicBezTo>
                  <a:close/>
                  <a:moveTo>
                    <a:pt x="471714" y="722161"/>
                  </a:moveTo>
                  <a:cubicBezTo>
                    <a:pt x="387546" y="722161"/>
                    <a:pt x="319314" y="790393"/>
                    <a:pt x="319314" y="874561"/>
                  </a:cubicBezTo>
                  <a:cubicBezTo>
                    <a:pt x="319314" y="958729"/>
                    <a:pt x="387546" y="1026961"/>
                    <a:pt x="471714" y="1026961"/>
                  </a:cubicBezTo>
                  <a:cubicBezTo>
                    <a:pt x="555882" y="1026961"/>
                    <a:pt x="624114" y="958729"/>
                    <a:pt x="624114" y="874561"/>
                  </a:cubicBezTo>
                  <a:cubicBezTo>
                    <a:pt x="624114" y="790393"/>
                    <a:pt x="555882" y="722161"/>
                    <a:pt x="471714" y="722161"/>
                  </a:cubicBezTo>
                  <a:close/>
                  <a:moveTo>
                    <a:pt x="684626" y="58728"/>
                  </a:moveTo>
                  <a:lnTo>
                    <a:pt x="565032" y="537103"/>
                  </a:lnTo>
                  <a:lnTo>
                    <a:pt x="1931424" y="537103"/>
                  </a:lnTo>
                  <a:lnTo>
                    <a:pt x="1811830" y="58728"/>
                  </a:lnTo>
                  <a:lnTo>
                    <a:pt x="684626" y="58728"/>
                  </a:lnTo>
                  <a:close/>
                  <a:moveTo>
                    <a:pt x="574101" y="0"/>
                  </a:moveTo>
                  <a:lnTo>
                    <a:pt x="1922356" y="0"/>
                  </a:lnTo>
                  <a:lnTo>
                    <a:pt x="2056632" y="537103"/>
                  </a:lnTo>
                  <a:lnTo>
                    <a:pt x="2089542" y="537103"/>
                  </a:lnTo>
                  <a:cubicBezTo>
                    <a:pt x="2290227" y="537103"/>
                    <a:pt x="2452914" y="699790"/>
                    <a:pt x="2452914" y="900475"/>
                  </a:cubicBezTo>
                  <a:lnTo>
                    <a:pt x="2452914" y="960574"/>
                  </a:lnTo>
                  <a:cubicBezTo>
                    <a:pt x="2452914" y="1010745"/>
                    <a:pt x="2442746" y="1058542"/>
                    <a:pt x="2424359" y="1102015"/>
                  </a:cubicBezTo>
                  <a:lnTo>
                    <a:pt x="2396466" y="1153404"/>
                  </a:lnTo>
                  <a:lnTo>
                    <a:pt x="2152367" y="1153404"/>
                  </a:lnTo>
                  <a:lnTo>
                    <a:pt x="2155373" y="1160662"/>
                  </a:lnTo>
                  <a:lnTo>
                    <a:pt x="2155373" y="1415217"/>
                  </a:lnTo>
                  <a:cubicBezTo>
                    <a:pt x="2155373" y="1443274"/>
                    <a:pt x="2132629" y="1466018"/>
                    <a:pt x="2104572" y="1466018"/>
                  </a:cubicBezTo>
                  <a:lnTo>
                    <a:pt x="1901374" y="1466018"/>
                  </a:lnTo>
                  <a:cubicBezTo>
                    <a:pt x="1873317" y="1466018"/>
                    <a:pt x="1850573" y="1443274"/>
                    <a:pt x="1850573" y="1415217"/>
                  </a:cubicBezTo>
                  <a:lnTo>
                    <a:pt x="1850573" y="1160662"/>
                  </a:lnTo>
                  <a:lnTo>
                    <a:pt x="1853580" y="1153404"/>
                  </a:lnTo>
                  <a:lnTo>
                    <a:pt x="621107" y="1153404"/>
                  </a:lnTo>
                  <a:lnTo>
                    <a:pt x="624114" y="1160663"/>
                  </a:lnTo>
                  <a:lnTo>
                    <a:pt x="624114" y="1415218"/>
                  </a:lnTo>
                  <a:cubicBezTo>
                    <a:pt x="624114" y="1443275"/>
                    <a:pt x="601370" y="1466019"/>
                    <a:pt x="573313" y="1466019"/>
                  </a:cubicBezTo>
                  <a:lnTo>
                    <a:pt x="370115" y="1466019"/>
                  </a:lnTo>
                  <a:cubicBezTo>
                    <a:pt x="342058" y="1466019"/>
                    <a:pt x="319314" y="1443275"/>
                    <a:pt x="319314" y="1415218"/>
                  </a:cubicBezTo>
                  <a:lnTo>
                    <a:pt x="319314" y="1160663"/>
                  </a:lnTo>
                  <a:lnTo>
                    <a:pt x="322321" y="1153404"/>
                  </a:lnTo>
                  <a:lnTo>
                    <a:pt x="56449" y="1153404"/>
                  </a:lnTo>
                  <a:lnTo>
                    <a:pt x="28556" y="1102015"/>
                  </a:lnTo>
                  <a:cubicBezTo>
                    <a:pt x="10168" y="1058542"/>
                    <a:pt x="0" y="1010745"/>
                    <a:pt x="0" y="960574"/>
                  </a:cubicBezTo>
                  <a:lnTo>
                    <a:pt x="0" y="900475"/>
                  </a:lnTo>
                  <a:cubicBezTo>
                    <a:pt x="0" y="699790"/>
                    <a:pt x="162687" y="537103"/>
                    <a:pt x="363372" y="537103"/>
                  </a:cubicBezTo>
                  <a:lnTo>
                    <a:pt x="439825" y="537103"/>
                  </a:lnTo>
                  <a:lnTo>
                    <a:pt x="574101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7" name="组合 124"/>
            <p:cNvGrpSpPr/>
            <p:nvPr/>
          </p:nvGrpSpPr>
          <p:grpSpPr>
            <a:xfrm>
              <a:off x="10076040" y="4051440"/>
              <a:ext cx="276120" cy="808200"/>
              <a:chOff x="10076040" y="4051440"/>
              <a:chExt cx="276120" cy="808200"/>
            </a:xfrm>
          </p:grpSpPr>
          <p:sp>
            <p:nvSpPr>
              <p:cNvPr id="1268" name="任意多边形 125"/>
              <p:cNvSpPr/>
              <p:nvPr/>
            </p:nvSpPr>
            <p:spPr>
              <a:xfrm>
                <a:off x="10137600" y="4268880"/>
                <a:ext cx="152640" cy="590760"/>
              </a:xfrm>
              <a:custGeom>
                <a:avLst/>
                <a:gdLst>
                  <a:gd name="textAreaLeft" fmla="*/ 0 w 152640"/>
                  <a:gd name="textAreaRight" fmla="*/ 153000 w 152640"/>
                  <a:gd name="textAreaTop" fmla="*/ 0 h 590760"/>
                  <a:gd name="textAreaBottom" fmla="*/ 591120 h 590760"/>
                </a:gdLst>
                <a:ahLst/>
                <a:rect l="textAreaLeft" t="textAreaTop" r="textAreaRight" b="textAreaBottom"/>
                <a:pathLst>
                  <a:path w="1404185" h="3717757">
                    <a:moveTo>
                      <a:pt x="703514" y="184150"/>
                    </a:moveTo>
                    <a:cubicBezTo>
                      <a:pt x="634160" y="184150"/>
                      <a:pt x="577938" y="223864"/>
                      <a:pt x="577938" y="272852"/>
                    </a:cubicBezTo>
                    <a:cubicBezTo>
                      <a:pt x="577938" y="297346"/>
                      <a:pt x="591994" y="319522"/>
                      <a:pt x="614719" y="335573"/>
                    </a:cubicBezTo>
                    <a:lnTo>
                      <a:pt x="639676" y="347459"/>
                    </a:lnTo>
                    <a:lnTo>
                      <a:pt x="577939" y="1222436"/>
                    </a:lnTo>
                    <a:lnTo>
                      <a:pt x="703514" y="1439778"/>
                    </a:lnTo>
                    <a:lnTo>
                      <a:pt x="829090" y="1222436"/>
                    </a:lnTo>
                    <a:lnTo>
                      <a:pt x="767353" y="347459"/>
                    </a:lnTo>
                    <a:lnTo>
                      <a:pt x="792310" y="335573"/>
                    </a:lnTo>
                    <a:cubicBezTo>
                      <a:pt x="815036" y="319522"/>
                      <a:pt x="829091" y="297346"/>
                      <a:pt x="829091" y="272852"/>
                    </a:cubicBezTo>
                    <a:cubicBezTo>
                      <a:pt x="829091" y="223864"/>
                      <a:pt x="772869" y="184150"/>
                      <a:pt x="703514" y="184150"/>
                    </a:cubicBezTo>
                    <a:close/>
                    <a:moveTo>
                      <a:pt x="234035" y="0"/>
                    </a:moveTo>
                    <a:lnTo>
                      <a:pt x="1170149" y="0"/>
                    </a:lnTo>
                    <a:cubicBezTo>
                      <a:pt x="1299403" y="0"/>
                      <a:pt x="1404184" y="104781"/>
                      <a:pt x="1404184" y="234035"/>
                    </a:cubicBezTo>
                    <a:lnTo>
                      <a:pt x="1404184" y="1774647"/>
                    </a:lnTo>
                    <a:lnTo>
                      <a:pt x="1404185" y="1774657"/>
                    </a:lnTo>
                    <a:lnTo>
                      <a:pt x="1404185" y="3489157"/>
                    </a:lnTo>
                    <a:cubicBezTo>
                      <a:pt x="1404185" y="3615409"/>
                      <a:pt x="1301837" y="3717757"/>
                      <a:pt x="1175585" y="3717757"/>
                    </a:cubicBezTo>
                    <a:cubicBezTo>
                      <a:pt x="1049333" y="3717757"/>
                      <a:pt x="946985" y="3615409"/>
                      <a:pt x="946985" y="3489157"/>
                    </a:cubicBezTo>
                    <a:lnTo>
                      <a:pt x="946985" y="2071687"/>
                    </a:lnTo>
                    <a:lnTo>
                      <a:pt x="468126" y="2071687"/>
                    </a:lnTo>
                    <a:lnTo>
                      <a:pt x="468126" y="3480687"/>
                    </a:lnTo>
                    <a:cubicBezTo>
                      <a:pt x="468126" y="3609956"/>
                      <a:pt x="363332" y="3714750"/>
                      <a:pt x="234063" y="3714750"/>
                    </a:cubicBezTo>
                    <a:cubicBezTo>
                      <a:pt x="104794" y="3714750"/>
                      <a:pt x="0" y="3609956"/>
                      <a:pt x="0" y="3480687"/>
                    </a:cubicBezTo>
                    <a:lnTo>
                      <a:pt x="0" y="1837652"/>
                    </a:lnTo>
                    <a:lnTo>
                      <a:pt x="0" y="1777113"/>
                    </a:lnTo>
                    <a:lnTo>
                      <a:pt x="0" y="234035"/>
                    </a:lnTo>
                    <a:cubicBezTo>
                      <a:pt x="0" y="104781"/>
                      <a:pt x="104781" y="0"/>
                      <a:pt x="23403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圆角矩形 126"/>
              <p:cNvSpPr/>
              <p:nvPr/>
            </p:nvSpPr>
            <p:spPr>
              <a:xfrm>
                <a:off x="10076040" y="427788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椭圆 127"/>
              <p:cNvSpPr/>
              <p:nvPr/>
            </p:nvSpPr>
            <p:spPr>
              <a:xfrm>
                <a:off x="10149120" y="4051440"/>
                <a:ext cx="129600" cy="1893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圆角矩形 128"/>
              <p:cNvSpPr/>
              <p:nvPr/>
            </p:nvSpPr>
            <p:spPr>
              <a:xfrm>
                <a:off x="10303560" y="4269240"/>
                <a:ext cx="48600" cy="295200"/>
              </a:xfrm>
              <a:custGeom>
                <a:avLst/>
                <a:gdLst>
                  <a:gd name="textAreaLeft" fmla="*/ 6840 w 48600"/>
                  <a:gd name="textAreaRight" fmla="*/ 41760 w 48600"/>
                  <a:gd name="textAreaTop" fmla="*/ 6840 h 295200"/>
                  <a:gd name="textAreaBottom" fmla="*/ 288360 h 295200"/>
                </a:gdLst>
                <a:ahLst/>
                <a:rect l="textAreaLeft" t="textAreaTop" r="textAreaRight" b="textAreaBottom"/>
                <a:pathLst>
                  <a:path w="21600" h="130394">
                    <a:moveTo>
                      <a:pt x="10800" y="0"/>
                    </a:moveTo>
                    <a:arcTo wR="10800" hR="10800" stAng="16200000" swAng="-5400000"/>
                    <a:lnTo>
                      <a:pt x="0" y="119594"/>
                    </a:lnTo>
                    <a:arcTo wR="10800" hR="10800" stAng="10800000" swAng="-5400000"/>
                    <a:lnTo>
                      <a:pt x="10800" y="130394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2" name="组合 158"/>
          <p:cNvGrpSpPr/>
          <p:nvPr/>
        </p:nvGrpSpPr>
        <p:grpSpPr>
          <a:xfrm>
            <a:off x="3249720" y="3940200"/>
            <a:ext cx="565200" cy="1271520"/>
            <a:chOff x="3249720" y="3940200"/>
            <a:chExt cx="565200" cy="1271520"/>
          </a:xfrm>
        </p:grpSpPr>
        <p:sp>
          <p:nvSpPr>
            <p:cNvPr id="1273" name="任意多边形 159"/>
            <p:cNvSpPr/>
            <p:nvPr/>
          </p:nvSpPr>
          <p:spPr>
            <a:xfrm>
              <a:off x="3375720" y="4282560"/>
              <a:ext cx="312840" cy="929160"/>
            </a:xfrm>
            <a:custGeom>
              <a:avLst/>
              <a:gdLst>
                <a:gd name="textAreaLeft" fmla="*/ 0 w 312840"/>
                <a:gd name="textAreaRight" fmla="*/ 313200 w 312840"/>
                <a:gd name="textAreaTop" fmla="*/ 0 h 929160"/>
                <a:gd name="textAreaBottom" fmla="*/ 929520 h 929160"/>
              </a:gdLst>
              <a:ahLst/>
              <a:rect l="textAreaLeft" t="textAreaTop" r="textAreaRight" b="textAreaBottom"/>
              <a:pathLst>
                <a:path w="1404185" h="3717757">
                  <a:moveTo>
                    <a:pt x="703514" y="184150"/>
                  </a:moveTo>
                  <a:cubicBezTo>
                    <a:pt x="634160" y="184150"/>
                    <a:pt x="577938" y="223864"/>
                    <a:pt x="577938" y="272852"/>
                  </a:cubicBezTo>
                  <a:cubicBezTo>
                    <a:pt x="577938" y="297346"/>
                    <a:pt x="591994" y="319522"/>
                    <a:pt x="614719" y="335573"/>
                  </a:cubicBezTo>
                  <a:lnTo>
                    <a:pt x="639676" y="347459"/>
                  </a:lnTo>
                  <a:lnTo>
                    <a:pt x="577939" y="1222436"/>
                  </a:lnTo>
                  <a:lnTo>
                    <a:pt x="703514" y="1439778"/>
                  </a:lnTo>
                  <a:lnTo>
                    <a:pt x="829090" y="1222436"/>
                  </a:lnTo>
                  <a:lnTo>
                    <a:pt x="767353" y="347459"/>
                  </a:lnTo>
                  <a:lnTo>
                    <a:pt x="792310" y="335573"/>
                  </a:lnTo>
                  <a:cubicBezTo>
                    <a:pt x="815036" y="319522"/>
                    <a:pt x="829091" y="297346"/>
                    <a:pt x="829091" y="272852"/>
                  </a:cubicBezTo>
                  <a:cubicBezTo>
                    <a:pt x="829091" y="223864"/>
                    <a:pt x="772869" y="184150"/>
                    <a:pt x="703514" y="184150"/>
                  </a:cubicBezTo>
                  <a:close/>
                  <a:moveTo>
                    <a:pt x="234035" y="0"/>
                  </a:moveTo>
                  <a:lnTo>
                    <a:pt x="1170149" y="0"/>
                  </a:lnTo>
                  <a:cubicBezTo>
                    <a:pt x="1299403" y="0"/>
                    <a:pt x="1404184" y="104781"/>
                    <a:pt x="1404184" y="234035"/>
                  </a:cubicBezTo>
                  <a:lnTo>
                    <a:pt x="1404184" y="1774647"/>
                  </a:lnTo>
                  <a:lnTo>
                    <a:pt x="1404185" y="1774657"/>
                  </a:lnTo>
                  <a:lnTo>
                    <a:pt x="1404185" y="3489157"/>
                  </a:lnTo>
                  <a:cubicBezTo>
                    <a:pt x="1404185" y="3615409"/>
                    <a:pt x="1301837" y="3717757"/>
                    <a:pt x="1175585" y="3717757"/>
                  </a:cubicBezTo>
                  <a:cubicBezTo>
                    <a:pt x="1049333" y="3717757"/>
                    <a:pt x="946985" y="3615409"/>
                    <a:pt x="946985" y="3489157"/>
                  </a:cubicBezTo>
                  <a:lnTo>
                    <a:pt x="946985" y="2071687"/>
                  </a:lnTo>
                  <a:lnTo>
                    <a:pt x="468126" y="2071687"/>
                  </a:lnTo>
                  <a:lnTo>
                    <a:pt x="468126" y="3480687"/>
                  </a:lnTo>
                  <a:cubicBezTo>
                    <a:pt x="468126" y="3609956"/>
                    <a:pt x="363332" y="3714750"/>
                    <a:pt x="234063" y="3714750"/>
                  </a:cubicBezTo>
                  <a:cubicBezTo>
                    <a:pt x="104794" y="3714750"/>
                    <a:pt x="0" y="3609956"/>
                    <a:pt x="0" y="3480687"/>
                  </a:cubicBezTo>
                  <a:lnTo>
                    <a:pt x="0" y="1837652"/>
                  </a:lnTo>
                  <a:lnTo>
                    <a:pt x="0" y="1777113"/>
                  </a:lnTo>
                  <a:lnTo>
                    <a:pt x="0" y="234035"/>
                  </a:lnTo>
                  <a:cubicBezTo>
                    <a:pt x="0" y="104781"/>
                    <a:pt x="104781" y="0"/>
                    <a:pt x="234035" y="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圆角矩形 160"/>
            <p:cNvSpPr/>
            <p:nvPr/>
          </p:nvSpPr>
          <p:spPr>
            <a:xfrm>
              <a:off x="3249720" y="429624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椭圆 161"/>
            <p:cNvSpPr/>
            <p:nvPr/>
          </p:nvSpPr>
          <p:spPr>
            <a:xfrm>
              <a:off x="3399480" y="3940200"/>
              <a:ext cx="265680" cy="2980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</a:rPr>
                <a:t>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圆角矩形 162"/>
            <p:cNvSpPr/>
            <p:nvPr/>
          </p:nvSpPr>
          <p:spPr>
            <a:xfrm>
              <a:off x="3715560" y="4282920"/>
              <a:ext cx="99360" cy="464040"/>
            </a:xfrm>
            <a:custGeom>
              <a:avLst/>
              <a:gdLst>
                <a:gd name="textAreaLeft" fmla="*/ 14400 w 99360"/>
                <a:gd name="textAreaRight" fmla="*/ 84960 w 99360"/>
                <a:gd name="textAreaTop" fmla="*/ 14400 h 464040"/>
                <a:gd name="textAreaBottom" fmla="*/ 449640 h 464040"/>
              </a:gdLst>
              <a:ahLst/>
              <a:rect l="textAreaLeft" t="textAreaTop" r="textAreaRight" b="textAreaBottom"/>
              <a:pathLst>
                <a:path w="21600" h="100592">
                  <a:moveTo>
                    <a:pt x="10800" y="0"/>
                  </a:moveTo>
                  <a:arcTo wR="10800" hR="10800" stAng="16200000" swAng="-5400000"/>
                  <a:lnTo>
                    <a:pt x="0" y="89792"/>
                  </a:lnTo>
                  <a:arcTo wR="10800" hR="10800" stAng="10800000" swAng="-5400000"/>
                  <a:lnTo>
                    <a:pt x="10800" y="100592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7" name="组合 177"/>
          <p:cNvGrpSpPr/>
          <p:nvPr/>
        </p:nvGrpSpPr>
        <p:grpSpPr>
          <a:xfrm>
            <a:off x="6213600" y="1739880"/>
            <a:ext cx="1152360" cy="736560"/>
            <a:chOff x="6213600" y="1739880"/>
            <a:chExt cx="1152360" cy="736560"/>
          </a:xfrm>
        </p:grpSpPr>
        <p:sp>
          <p:nvSpPr>
            <p:cNvPr id="1278" name="任意多边形 150"/>
            <p:cNvSpPr/>
            <p:nvPr/>
          </p:nvSpPr>
          <p:spPr>
            <a:xfrm>
              <a:off x="6213600" y="1970640"/>
              <a:ext cx="1152360" cy="50580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直接连接符 152"/>
            <p:cNvSpPr/>
            <p:nvPr/>
          </p:nvSpPr>
          <p:spPr>
            <a:xfrm flipH="1" flipV="1">
              <a:off x="6481800" y="227412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直接连接符 154"/>
            <p:cNvSpPr/>
            <p:nvPr/>
          </p:nvSpPr>
          <p:spPr>
            <a:xfrm flipV="1">
              <a:off x="6876360" y="227412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椭圆 156"/>
            <p:cNvSpPr/>
            <p:nvPr/>
          </p:nvSpPr>
          <p:spPr>
            <a:xfrm>
              <a:off x="6604560" y="173988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2" name="组合 200"/>
          <p:cNvGrpSpPr/>
          <p:nvPr/>
        </p:nvGrpSpPr>
        <p:grpSpPr>
          <a:xfrm>
            <a:off x="9255240" y="1757520"/>
            <a:ext cx="772920" cy="833400"/>
            <a:chOff x="9255240" y="1757520"/>
            <a:chExt cx="772920" cy="833400"/>
          </a:xfrm>
        </p:grpSpPr>
        <p:sp>
          <p:nvSpPr>
            <p:cNvPr id="1283" name="爆炸形 1 199"/>
            <p:cNvSpPr/>
            <p:nvPr/>
          </p:nvSpPr>
          <p:spPr>
            <a:xfrm>
              <a:off x="9398520" y="1757520"/>
              <a:ext cx="501120" cy="427320"/>
            </a:xfrm>
            <a:prstGeom prst="irregularSeal1">
              <a:avLst/>
            </a:prstGeom>
            <a:solidFill>
              <a:srgbClr val="d8d8d8"/>
            </a:solidFill>
            <a:ln w="12600">
              <a:solidFill>
                <a:srgbClr val="d8d8d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4" name="组合 198"/>
            <p:cNvGrpSpPr/>
            <p:nvPr/>
          </p:nvGrpSpPr>
          <p:grpSpPr>
            <a:xfrm>
              <a:off x="9255240" y="1945080"/>
              <a:ext cx="772920" cy="645840"/>
              <a:chOff x="9255240" y="1945080"/>
              <a:chExt cx="772920" cy="645840"/>
            </a:xfrm>
          </p:grpSpPr>
          <p:sp>
            <p:nvSpPr>
              <p:cNvPr id="1285" name="矩形 191"/>
              <p:cNvSpPr/>
              <p:nvPr/>
            </p:nvSpPr>
            <p:spPr>
              <a:xfrm>
                <a:off x="9255240" y="2121480"/>
                <a:ext cx="772920" cy="469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矩形 192"/>
              <p:cNvSpPr/>
              <p:nvPr/>
            </p:nvSpPr>
            <p:spPr>
              <a:xfrm>
                <a:off x="9295200" y="2148480"/>
                <a:ext cx="695160" cy="422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椭圆 193"/>
              <p:cNvSpPr/>
              <p:nvPr/>
            </p:nvSpPr>
            <p:spPr>
              <a:xfrm>
                <a:off x="9468000" y="2188800"/>
                <a:ext cx="349200" cy="349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椭圆 194"/>
              <p:cNvSpPr/>
              <p:nvPr/>
            </p:nvSpPr>
            <p:spPr>
              <a:xfrm>
                <a:off x="9504000" y="2228400"/>
                <a:ext cx="277200" cy="277560"/>
              </a:xfrm>
              <a:prstGeom prst="ellipse">
                <a:avLst/>
              </a:prstGeom>
              <a:solidFill>
                <a:srgbClr val="e2266e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矩形 195"/>
              <p:cNvSpPr/>
              <p:nvPr/>
            </p:nvSpPr>
            <p:spPr>
              <a:xfrm>
                <a:off x="9576720" y="2080080"/>
                <a:ext cx="137520" cy="7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矩形 196"/>
              <p:cNvSpPr/>
              <p:nvPr/>
            </p:nvSpPr>
            <p:spPr>
              <a:xfrm>
                <a:off x="9546840" y="1945080"/>
                <a:ext cx="204480" cy="133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矩形 197"/>
              <p:cNvSpPr/>
              <p:nvPr/>
            </p:nvSpPr>
            <p:spPr>
              <a:xfrm>
                <a:off x="9568080" y="1956960"/>
                <a:ext cx="162000" cy="105840"/>
              </a:xfrm>
              <a:prstGeom prst="rect">
                <a:avLst/>
              </a:prstGeom>
              <a:solidFill>
                <a:srgbClr val="bfbfbf"/>
              </a:solidFill>
              <a:ln w="12600">
                <a:solidFill>
                  <a:srgbClr val="e2266e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2" name="组合 201"/>
          <p:cNvGrpSpPr/>
          <p:nvPr/>
        </p:nvGrpSpPr>
        <p:grpSpPr>
          <a:xfrm>
            <a:off x="130320" y="4191120"/>
            <a:ext cx="1152360" cy="736560"/>
            <a:chOff x="130320" y="4191120"/>
            <a:chExt cx="1152360" cy="736560"/>
          </a:xfrm>
        </p:grpSpPr>
        <p:sp>
          <p:nvSpPr>
            <p:cNvPr id="1293" name="任意多边形 202"/>
            <p:cNvSpPr/>
            <p:nvPr/>
          </p:nvSpPr>
          <p:spPr>
            <a:xfrm>
              <a:off x="130320" y="4421880"/>
              <a:ext cx="1152360" cy="505800"/>
            </a:xfrm>
            <a:custGeom>
              <a:avLst/>
              <a:gdLst>
                <a:gd name="textAreaLeft" fmla="*/ 0 w 1152360"/>
                <a:gd name="textAreaRight" fmla="*/ 1152720 w 11523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1930400" h="846186">
                  <a:moveTo>
                    <a:pt x="965200" y="0"/>
                  </a:moveTo>
                  <a:cubicBezTo>
                    <a:pt x="1498265" y="0"/>
                    <a:pt x="1930400" y="289860"/>
                    <a:pt x="1930400" y="647421"/>
                  </a:cubicBezTo>
                  <a:cubicBezTo>
                    <a:pt x="1930400" y="692116"/>
                    <a:pt x="1923648" y="735754"/>
                    <a:pt x="1910791" y="777899"/>
                  </a:cubicBezTo>
                  <a:lnTo>
                    <a:pt x="1879189" y="846186"/>
                  </a:lnTo>
                  <a:lnTo>
                    <a:pt x="1110343" y="846186"/>
                  </a:lnTo>
                  <a:lnTo>
                    <a:pt x="1110343" y="662037"/>
                  </a:lnTo>
                  <a:lnTo>
                    <a:pt x="820057" y="662037"/>
                  </a:lnTo>
                  <a:lnTo>
                    <a:pt x="820057" y="846186"/>
                  </a:lnTo>
                  <a:lnTo>
                    <a:pt x="51212" y="846186"/>
                  </a:lnTo>
                  <a:lnTo>
                    <a:pt x="19610" y="777899"/>
                  </a:lnTo>
                  <a:cubicBezTo>
                    <a:pt x="6752" y="735754"/>
                    <a:pt x="0" y="692116"/>
                    <a:pt x="0" y="647421"/>
                  </a:cubicBezTo>
                  <a:cubicBezTo>
                    <a:pt x="0" y="289860"/>
                    <a:pt x="432135" y="0"/>
                    <a:pt x="965200" y="0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直接连接符 203"/>
            <p:cNvSpPr/>
            <p:nvPr/>
          </p:nvSpPr>
          <p:spPr>
            <a:xfrm flipH="1" flipV="1">
              <a:off x="398520" y="4725360"/>
              <a:ext cx="22068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直接连接符 204"/>
            <p:cNvSpPr/>
            <p:nvPr/>
          </p:nvSpPr>
          <p:spPr>
            <a:xfrm flipV="1">
              <a:off x="793080" y="4725360"/>
              <a:ext cx="172440" cy="92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椭圆 205"/>
            <p:cNvSpPr/>
            <p:nvPr/>
          </p:nvSpPr>
          <p:spPr>
            <a:xfrm>
              <a:off x="521280" y="4191120"/>
              <a:ext cx="370080" cy="370440"/>
            </a:xfrm>
            <a:prstGeom prst="ellipse">
              <a:avLst/>
            </a:prstGeom>
            <a:solidFill>
              <a:srgbClr val="5d007e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文本框 206"/>
          <p:cNvSpPr/>
          <p:nvPr/>
        </p:nvSpPr>
        <p:spPr>
          <a:xfrm>
            <a:off x="1206360" y="1600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文本框 207"/>
          <p:cNvSpPr/>
          <p:nvPr/>
        </p:nvSpPr>
        <p:spPr>
          <a:xfrm>
            <a:off x="4322880" y="162720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经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-2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208"/>
          <p:cNvSpPr/>
          <p:nvPr/>
        </p:nvSpPr>
        <p:spPr>
          <a:xfrm>
            <a:off x="7343640" y="165420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209"/>
          <p:cNvSpPr/>
          <p:nvPr/>
        </p:nvSpPr>
        <p:spPr>
          <a:xfrm>
            <a:off x="10252080" y="173664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摄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10"/>
          <p:cNvSpPr/>
          <p:nvPr/>
        </p:nvSpPr>
        <p:spPr>
          <a:xfrm>
            <a:off x="1351080" y="4052880"/>
            <a:ext cx="23223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码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211"/>
          <p:cNvSpPr/>
          <p:nvPr/>
        </p:nvSpPr>
        <p:spPr>
          <a:xfrm>
            <a:off x="4006800" y="4071960"/>
            <a:ext cx="2324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财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文本框 212"/>
          <p:cNvSpPr/>
          <p:nvPr/>
        </p:nvSpPr>
        <p:spPr>
          <a:xfrm>
            <a:off x="7199280" y="407196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运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半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213"/>
          <p:cNvSpPr/>
          <p:nvPr/>
        </p:nvSpPr>
        <p:spPr>
          <a:xfrm>
            <a:off x="10302840" y="3971880"/>
            <a:ext cx="232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司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估：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9T12:55:00Z</dcterms:created>
  <dc:creator>李付</dc:creator>
  <dc:description/>
  <cp:keywords/>
  <dc:language>en-US</dc:language>
  <cp:lastModifiedBy>王玉清</cp:lastModifiedBy>
  <dcterms:modified xsi:type="dcterms:W3CDTF">2016-02-19T03:23:35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