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A88-07EB-4EE9-BE18-ACFA7EA0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4E4-8B6B-479C-A8A9-B039CECF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B22-5508-4072-BE5B-E2F7DA6C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82D-11D1-414C-8212-CCEBF6B1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F9F-13D1-4DE8-BD38-B9BEBB6F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8E1-4552-4730-A05C-0591F095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17A-1296-46AD-B074-F4C9CBA5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480-FD44-426C-9254-AC461502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38C-D55F-40CD-9F42-ECBB62DF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BCB-9DFD-441C-8FEB-028891A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805-1EB2-43D8-983F-6B57445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2D0-4F0C-48A6-A420-BE46A6F0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3A7F-AEBB-493E-8852-EE8ACC8185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1369440" y="62064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偏倒倒出水的水杯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85776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783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784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2854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497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92652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38772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64304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4212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37346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143000" y="2428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49978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67838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3140640" y="2416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352008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5695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5426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426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663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59266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2926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4140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7152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1T07:18:03Z</dcterms:modified>
  <cp:revision>53</cp:revision>
  <dc:subject/>
  <dc:title>幻灯片 1</dc:title>
</cp:coreProperties>
</file>