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0A7-FD6D-4F06-8E15-D8852B49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F63-AA3D-42FD-9B89-3018B9D1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334-772B-4775-BECB-FA28C09E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640-C485-406F-BAB3-90E705EE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090C-2598-47C0-9E56-044F6802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CEE-9556-4F62-83F6-CD84F2DC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513D-A0B4-4BE8-9D85-F59A106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386C-1313-4FF2-866D-22C7E86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5FBF-D650-4201-B2DE-3B22A4F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DEF-F8DD-4408-98E8-37EB46CF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76B5-D41F-4B52-9FB5-80FC55F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61D-F41A-47D2-9595-209B18F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22ED-6858-4FB9-8235-9B1443A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1CF0-8003-442A-BB34-E72FBBA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6BEF-C612-43FA-A642-55EEAED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67BC-9E20-4779-8D14-0EA30CFE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0A37-ECE1-4B1E-800B-FF7763F4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B7E9-AC4A-4EE2-9F59-67179062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EB45-D4B7-4614-836C-BB0AE47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0910-4D1A-4A69-874F-15B6BADA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C92C-823B-4B67-8441-1018EFD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DE03-9184-4F15-BE43-2728372A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E75-7DDB-43A8-8769-195BEE73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FEAB-8B0F-4404-BD43-E5B8A5AA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F4D5-D32C-4A91-A502-8A12F4E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0D80-C84F-4E4A-8A04-C37DE74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597D-E80A-461B-8F44-670654DB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A934-BDE2-4753-B8DE-5B81334E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9D33-1F84-4E67-872A-EE2EC675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5EE9-27BE-40CF-8830-E150E748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4C9-3B1D-4AE3-A393-3765D5E9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F88-8044-4FB2-93C5-CFD6B1D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6AF-372B-4716-8F4E-4478B49A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E65-FD06-4CB2-A7B5-CE98ACB2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2F2-58DB-47D8-8218-E8EF856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E17-75B3-4307-ACB8-4ED6A7F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6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B6F0-CF5A-4958-A85D-4D19BBA2192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6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CEC3-D5D2-42C1-85EB-A23D4A152FE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6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05AD-5D52-42FA-9D8C-F333C497C9C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11280" y="631044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3521520" y="260280"/>
            <a:ext cx="19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素材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extBox 3" descr=""/>
          <p:cNvPicPr/>
          <p:nvPr/>
        </p:nvPicPr>
        <p:blipFill>
          <a:blip r:embed="rId1"/>
          <a:stretch/>
        </p:blipFill>
        <p:spPr>
          <a:xfrm>
            <a:off x="1176480" y="1262160"/>
            <a:ext cx="376056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图示 4" descr=""/>
          <p:cNvPicPr/>
          <p:nvPr/>
        </p:nvPicPr>
        <p:blipFill>
          <a:blip r:embed="rId2"/>
          <a:stretch/>
        </p:blipFill>
        <p:spPr>
          <a:xfrm>
            <a:off x="1523880" y="2494080"/>
            <a:ext cx="6126120" cy="3498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2093400" y="364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349880" y="364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6510240" y="364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AAD4-FF40-46A4-AAD0-EF8E41D84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TextBox 4" descr=""/>
          <p:cNvPicPr/>
          <p:nvPr/>
        </p:nvPicPr>
        <p:blipFill>
          <a:blip r:embed="rId2"/>
          <a:stretch/>
        </p:blipFill>
        <p:spPr>
          <a:xfrm>
            <a:off x="3090960" y="2182680"/>
            <a:ext cx="2944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21:19Z</dcterms:created>
  <dc:creator>PPT STORE</dc:creator>
  <dc:description>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时尚 光束 商务 PPT 模板</cp:keywords>
  <dc:language>en-US</dc:language>
  <cp:lastModifiedBy>news</cp:lastModifiedBy>
  <dcterms:modified xsi:type="dcterms:W3CDTF">2015-07-20T11:17:00Z</dcterms:modified>
  <cp:revision>9</cp:revision>
  <dc:subject>时尚光束</dc:subject>
  <dc:title>时尚光束文本框背景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