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0D0-19CE-4BED-A8C9-9FCE820E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83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7F4-C57C-4121-A9A8-18FCDA19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E0C-5CD5-4C83-BF06-DE0252C9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CD2-F3E7-41B9-8435-A5CA7C61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C254-4F77-4B2F-992D-EB25FAC9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49A-66FD-45FD-8170-7AF890B4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32B3-83C5-4870-8579-CD544693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1603-8B41-497D-8BAA-E0FD996C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7E93-2902-4C00-8296-DE258851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A9FA-5E89-4D2E-8672-B70A1297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6541-B682-4B54-9882-E26EE24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BDB-D838-46A4-BF57-E9B42DD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7621-11E3-4489-AB70-872C72F7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EEAE-227D-4861-95A4-C844857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283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0697-DE44-4492-B18A-2282077A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0393-06A5-4629-BC9C-C49CA11C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4764-3A90-44EE-9811-82A066AA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BA5-0F4C-4B6A-9FC4-31AFB7E9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E02-C02E-4B9C-80D3-6FB24B7F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5CE-FC53-4E1A-A5E2-43B7B93F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A04-0D9B-4D0C-8691-AD33320A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15E-F029-4A03-ACE0-D5CA5F1A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601-3DF0-48D3-AA27-CCFD9E9E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2FC-BDF2-4634-9C52-B48808E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14C3-1322-400B-832D-81B0C6412F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1785960" y="2286000"/>
            <a:ext cx="735804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9F0C-CEC4-4EB4-A111-74AD7E06B4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942920" y="3071520"/>
            <a:ext cx="6414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华文细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38000" y="4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汽车行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模板使用说明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内容占位符 3"/>
          <p:cNvSpPr/>
          <p:nvPr/>
        </p:nvSpPr>
        <p:spPr>
          <a:xfrm>
            <a:off x="468360" y="1125360"/>
            <a:ext cx="82296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他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此模板为免费模板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为网络搜索，版权归原作者所有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勿用于任何形式的付费下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标题 3"/>
          <p:cNvSpPr/>
          <p:nvPr/>
        </p:nvSpPr>
        <p:spPr>
          <a:xfrm>
            <a:off x="714240" y="4518000"/>
            <a:ext cx="778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感谢您的关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8720" y="5373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508-1B96-45AA-BD73-9D872F5EA8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5:08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00:0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