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2B4-45D1-4F22-83CC-CB5B814C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955-218B-4E65-9280-B39222EA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1B7-5151-47C9-BA88-66FC461E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567-A7C0-425D-B117-F98D9560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A70-2267-4C8E-A9AC-65E634E1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D3A-A8EA-4D0D-9CFA-B617AA0F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E5C-B503-4603-A794-28DBC0AB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52D-5065-492B-B446-CEF37113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671-1A8B-4D0B-8F90-A607FBBC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953-75E7-4D89-B733-CDD821F8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1CE-018A-43E1-81E3-52BA3019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7DB-C904-46C3-B887-F02487EA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D177-5442-41EB-A594-1B298DD50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201480" y="1844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五千年的风雨筑就了我们的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3346200" y="1989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五千年的沧桑塑造了我们的风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059280" y="1989000"/>
            <a:ext cx="41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奥运是百年世纪奥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2473560" y="12812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旗袍展示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" nodeType="after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3" nodeType="after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35" nodeType="after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0" y="0"/>
            <a:ext cx="9433080" cy="6858000"/>
            <a:chOff x="0" y="0"/>
            <a:chExt cx="9433080" cy="6858000"/>
          </a:xfrm>
        </p:grpSpPr>
        <p:sp>
          <p:nvSpPr>
            <p:cNvPr id="48" name="Rectangle 4"/>
            <p:cNvSpPr/>
            <p:nvPr/>
          </p:nvSpPr>
          <p:spPr>
            <a:xfrm>
              <a:off x="0" y="0"/>
              <a:ext cx="4716360" cy="685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 flipH="1">
              <a:off x="4716360" y="0"/>
              <a:ext cx="4716720" cy="685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716360" y="0"/>
            <a:ext cx="475164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716360" y="0"/>
            <a:ext cx="475164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716360" y="0"/>
            <a:ext cx="475164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0" y="0"/>
            <a:ext cx="9468000" cy="6858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12:23Z</dcterms:created>
  <dc:creator>微软用户</dc:creator>
  <dc:description/>
  <dc:language>en-US</dc:language>
  <cp:lastModifiedBy>王玉清</cp:lastModifiedBy>
  <dcterms:modified xsi:type="dcterms:W3CDTF">2016-02-21T05:01:54Z</dcterms:modified>
  <cp:revision>5</cp:revision>
  <dc:subject/>
  <dc:title>幻灯片 1</dc:title>
</cp:coreProperties>
</file>