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089-A33F-4368-9A7A-00618097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C53-B28B-4D2A-B9C1-7AAF4F2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6F9-B8CE-4381-8CED-0456285A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A4E-437D-4C4B-99CE-D76D2697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A19-DACD-4C24-B9AF-354752A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2F4-9A6C-4F90-83EA-D9472D9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273-D00F-4468-B073-FE01AE8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45A-ECD5-489F-8E56-0C3384C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62C-486A-4796-B82E-18DF3E51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3EB-0222-4677-A39B-2850EC0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0B5-CCAE-472D-AD3A-CE4F9274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50D-6DBF-448C-BD9F-4A2DFEA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00F7D5-F092-4D05-8C47-5B41A2B010F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6810840" y="2307600"/>
            <a:ext cx="5288400" cy="4550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551320" y="2621160"/>
            <a:ext cx="4390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d9d9d9"/>
                </a:solidFill>
                <a:latin typeface="Impact"/>
                <a:ea typeface="宋体"/>
              </a:rPr>
              <a:t>How to Be a produ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15080" y="3123720"/>
            <a:ext cx="11776680" cy="9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成为优秀的产品经理通用</a:t>
            </a:r>
            <a:r>
              <a:rPr b="1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612880" y="3052440"/>
            <a:ext cx="4307400" cy="360"/>
          </a:xfrm>
          <a:prstGeom prst="line">
            <a:avLst/>
          </a:prstGeom>
          <a:ln w="9525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564000" y="3848040"/>
            <a:ext cx="3537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周鸿祎谈“微创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连接符 14"/>
          <p:cNvCxnSpPr/>
          <p:nvPr/>
        </p:nvCxnSpPr>
        <p:spPr>
          <a:xfrm>
            <a:off x="720" y="498960"/>
            <a:ext cx="12192120" cy="36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sp>
        <p:nvSpPr>
          <p:cNvPr id="47" name="文本框 15"/>
          <p:cNvSpPr/>
          <p:nvPr/>
        </p:nvSpPr>
        <p:spPr>
          <a:xfrm>
            <a:off x="702360" y="345240"/>
            <a:ext cx="19047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方正正中黑简体"/>
                <a:ea typeface="方正正中黑简体"/>
              </a:rPr>
              <a:t>PPT </a:t>
            </a:r>
            <a:r>
              <a:rPr b="0" lang="zh-CN" sz="1800" spc="-1" strike="noStrike">
                <a:solidFill>
                  <a:srgbClr val="808080"/>
                </a:solidFill>
                <a:latin typeface="方正正中黑简体"/>
                <a:ea typeface="方正正中黑简体"/>
              </a:rPr>
              <a:t>笔记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5689440" y="2339640"/>
            <a:ext cx="31071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打侧翼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要随大流，不要正面的进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261036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6306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2208240" y="1099080"/>
            <a:ext cx="8430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乔布斯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97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年回到苹果，打了几仗反响不大。直到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2001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年的时候发布了其他同行业公司看不上的音乐播放器，几年后在其基础上增加若干功能出了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iphone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ipad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，那些同行业公司傻眼了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1"/>
          <a:stretch/>
        </p:blipFill>
        <p:spPr>
          <a:xfrm>
            <a:off x="1036440" y="2498040"/>
            <a:ext cx="1198440" cy="117720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235240" y="2649600"/>
            <a:ext cx="8403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360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刚开始做的是杀毒软件厂商看不上的杀流氓软件工具，但凭此项目拿到了几千万用户，后来转向杀毒软件的时候，那些厂商就傻眼了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235240" y="3096720"/>
            <a:ext cx="66034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6600" spc="-1" strike="noStrike">
                <a:solidFill>
                  <a:srgbClr val="f17a21"/>
                </a:solidFill>
                <a:latin typeface="微软雅黑"/>
                <a:ea typeface="微软雅黑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7" descr=""/>
          <p:cNvPicPr/>
          <p:nvPr/>
        </p:nvPicPr>
        <p:blipFill>
          <a:blip r:embed="rId2"/>
          <a:stretch/>
        </p:blipFill>
        <p:spPr>
          <a:xfrm>
            <a:off x="1036440" y="1252440"/>
            <a:ext cx="1004760" cy="10047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91" name="矩形 8"/>
          <p:cNvSpPr/>
          <p:nvPr/>
        </p:nvSpPr>
        <p:spPr>
          <a:xfrm>
            <a:off x="2235240" y="4703760"/>
            <a:ext cx="84034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旦在登陆场上建立一个滩头阵地，一旦在敌人防线里撕开一个口子，后续部队就可以源源不断输送上去，战线就可以拉伸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5691240" y="2339640"/>
            <a:ext cx="31071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大道至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做减法是战略，做加法是战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261252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5673600" y="1422360"/>
            <a:ext cx="6518160" cy="473796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1271160" y="2545200"/>
            <a:ext cx="76611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苹果手机上就一个按键，但是秒杀了多少手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61360" y="1472760"/>
            <a:ext cx="5447160" cy="391176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5152680" y="2951640"/>
            <a:ext cx="6110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微博只有</a:t>
            </a:r>
            <a:r>
              <a:rPr b="1" lang="en-US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140</a:t>
            </a: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个字，但改变了世界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6306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7798320" y="1538640"/>
            <a:ext cx="4393440" cy="472392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753920" y="2459520"/>
            <a:ext cx="69418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持续不断地去做用户体验，每次哪怕是一点点微小的创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只要你坚持下来十年八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最后微创新叠加起来就可能是一个颠覆式的创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就可能改变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960840" y="2379240"/>
            <a:ext cx="5134680" cy="3428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50" name="矩形 3"/>
          <p:cNvSpPr/>
          <p:nvPr/>
        </p:nvSpPr>
        <p:spPr>
          <a:xfrm>
            <a:off x="6952320" y="2547360"/>
            <a:ext cx="4365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6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不！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你关心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菜是不是可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米饭有没有夹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是否用了地沟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952320" y="2173320"/>
            <a:ext cx="4365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你会宏论一下中国连锁餐饮的规律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0" y="510120"/>
            <a:ext cx="1219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吃一份盒饭的时候会想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rcRect l="0" t="9211" r="0" b="5900"/>
          <a:stretch/>
        </p:blipFill>
        <p:spPr>
          <a:xfrm>
            <a:off x="4151160" y="248040"/>
            <a:ext cx="8040600" cy="38448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0" y="315900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所以，打动用户的，绝不是什么高屋建瓴的宏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而是回答用户一个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0" y="4359240"/>
            <a:ext cx="12191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6000" spc="-1" strike="noStrike">
                <a:solidFill>
                  <a:srgbClr val="ff9900"/>
                </a:solidFill>
                <a:latin typeface="方正正中黑简体"/>
                <a:ea typeface="方正正中黑简体"/>
              </a:rPr>
              <a:t>我给你解决了什么问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0" y="1954080"/>
            <a:ext cx="121917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1500" spc="-1" strike="noStrike">
                <a:solidFill>
                  <a:srgbClr val="00b0f0"/>
                </a:solidFill>
                <a:latin typeface="文鼎习字体"/>
                <a:ea typeface="文鼎习字体"/>
              </a:rPr>
              <a:t>微 创 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3454560" y="4435200"/>
            <a:ext cx="5283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释义：从用户体验的角度出发，看一看你还能够去给用户的体验做什么样的改进、解决什么样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1446480"/>
            <a:ext cx="1219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一个产品经理的核心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rcRect l="0" t="0" r="16049" b="3280"/>
          <a:stretch/>
        </p:blipFill>
        <p:spPr>
          <a:xfrm>
            <a:off x="8105040" y="225000"/>
            <a:ext cx="3839760" cy="663264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0" y="2172240"/>
            <a:ext cx="99129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19900" spc="-1" strike="noStrike">
                <a:solidFill>
                  <a:srgbClr val="f2f2f2"/>
                </a:solidFill>
                <a:latin typeface="微软雅黑"/>
                <a:ea typeface="微软雅黑"/>
              </a:rPr>
              <a:t>HOW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0" y="1929960"/>
            <a:ext cx="10420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怎么做微创新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5784840" y="2339640"/>
            <a:ext cx="33814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户至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没有积累用户空谈什么商业模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261252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306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1793880"/>
            <a:ext cx="6632640" cy="50637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3"/>
          <p:cNvSpPr/>
          <p:nvPr/>
        </p:nvSpPr>
        <p:spPr>
          <a:xfrm>
            <a:off x="6604200" y="1132200"/>
            <a:ext cx="45424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地在人失，人地皆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地失人在，人地皆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3"/>
          <p:cNvGrpSpPr/>
          <p:nvPr/>
        </p:nvGrpSpPr>
        <p:grpSpPr>
          <a:xfrm>
            <a:off x="6193800" y="285840"/>
            <a:ext cx="877680" cy="1905120"/>
            <a:chOff x="6193800" y="285840"/>
            <a:chExt cx="877680" cy="1905120"/>
          </a:xfrm>
        </p:grpSpPr>
        <p:sp>
          <p:nvSpPr>
            <p:cNvPr id="68" name="矩形 5"/>
            <p:cNvSpPr/>
            <p:nvPr/>
          </p:nvSpPr>
          <p:spPr>
            <a:xfrm>
              <a:off x="6193800" y="285840"/>
              <a:ext cx="5893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d9d9d9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6"/>
            <p:cNvSpPr/>
            <p:nvPr/>
          </p:nvSpPr>
          <p:spPr>
            <a:xfrm>
              <a:off x="6482160" y="347400"/>
              <a:ext cx="5893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4"/>
          <p:cNvGrpSpPr/>
          <p:nvPr/>
        </p:nvGrpSpPr>
        <p:grpSpPr>
          <a:xfrm>
            <a:off x="11042280" y="2228040"/>
            <a:ext cx="885960" cy="1857600"/>
            <a:chOff x="11042280" y="2228040"/>
            <a:chExt cx="885960" cy="1857600"/>
          </a:xfrm>
        </p:grpSpPr>
        <p:sp>
          <p:nvSpPr>
            <p:cNvPr id="71" name="矩形 8"/>
            <p:cNvSpPr/>
            <p:nvPr/>
          </p:nvSpPr>
          <p:spPr>
            <a:xfrm rot="10800000">
              <a:off x="11042280" y="2228040"/>
              <a:ext cx="5886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9"/>
            <p:cNvSpPr/>
            <p:nvPr/>
          </p:nvSpPr>
          <p:spPr>
            <a:xfrm rot="10800000">
              <a:off x="11339640" y="2242080"/>
              <a:ext cx="5886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d9d9d9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0"/>
          <p:cNvSpPr/>
          <p:nvPr/>
        </p:nvSpPr>
        <p:spPr>
          <a:xfrm>
            <a:off x="7352640" y="4099680"/>
            <a:ext cx="4280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新解：“地”就是你的“技术、业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  “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人”就是产品“用户群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8223480" y="5148720"/>
            <a:ext cx="324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想不通？想想腾讯你就明白了</a:t>
            </a: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920200" y="2339640"/>
            <a:ext cx="31071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单点突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一开始不要去做平台，要找突破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261036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2090160" y="1240920"/>
            <a:ext cx="928440" cy="928440"/>
          </a:xfrm>
          <a:prstGeom prst="rect">
            <a:avLst/>
          </a:prstGeom>
          <a:ln w="0">
            <a:noFill/>
          </a:ln>
        </p:spPr>
      </p:pic>
      <p:sp>
        <p:nvSpPr>
          <p:cNvPr id="78" name="矩形 4"/>
          <p:cNvSpPr/>
          <p:nvPr/>
        </p:nvSpPr>
        <p:spPr>
          <a:xfrm>
            <a:off x="3556080" y="1414800"/>
            <a:ext cx="66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QQ</a:t>
            </a:r>
            <a:r>
              <a:rPr b="1" lang="zh-CN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刚推出来的时候，就是一个纯聊天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"/>
          <p:cNvPicPr/>
          <p:nvPr/>
        </p:nvPicPr>
        <p:blipFill>
          <a:blip r:embed="rId2"/>
          <a:stretch/>
        </p:blipFill>
        <p:spPr>
          <a:xfrm>
            <a:off x="2090160" y="2260800"/>
            <a:ext cx="1198440" cy="1177200"/>
          </a:xfrm>
          <a:prstGeom prst="rect">
            <a:avLst/>
          </a:prstGeom>
          <a:ln w="0">
            <a:noFill/>
          </a:ln>
        </p:spPr>
      </p:pic>
      <p:sp>
        <p:nvSpPr>
          <p:cNvPr id="80" name="矩形 6"/>
          <p:cNvSpPr/>
          <p:nvPr/>
        </p:nvSpPr>
        <p:spPr>
          <a:xfrm>
            <a:off x="3556080" y="2591280"/>
            <a:ext cx="66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360</a:t>
            </a:r>
            <a:r>
              <a:rPr b="1" lang="zh-CN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刚开始做的时候就是一个杀流氓软件的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3556080" y="2875680"/>
            <a:ext cx="66034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6600" spc="-1" strike="noStrike">
                <a:solidFill>
                  <a:srgbClr val="f17a21"/>
                </a:solidFill>
                <a:latin typeface="微软雅黑"/>
                <a:ea typeface="微软雅黑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3018960" y="4596480"/>
            <a:ext cx="6700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它们的技术都不是很复杂，但是就是能帮助用户解决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点一滴做起，渐渐做大了，用户积累多了，就成了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  <Words>543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5:55:22Z</dcterms:created>
  <dc:creator>admin</dc:creator>
  <dc:description/>
  <dc:language>en-US</dc:language>
  <cp:lastModifiedBy>王玉清</cp:lastModifiedBy>
  <dcterms:modified xsi:type="dcterms:W3CDTF">2016-03-01T07:18:43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5</vt:r8>
  </property>
</Properties>
</file>