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81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88.png" ContentType="image/png"/>
  <Override PartName="/ppt/media/image112.png" ContentType="image/png"/>
  <Override PartName="/ppt/media/image98.png" ContentType="image/png"/>
  <Override PartName="/ppt/media/image105.png" ContentType="image/png"/>
  <Override PartName="/ppt/media/image61.png" ContentType="image/png"/>
  <Override PartName="/ppt/media/image89.png" ContentType="image/png"/>
  <Override PartName="/ppt/media/image111.png" ContentType="image/png"/>
  <Override PartName="/ppt/media/image97.png" ContentType="image/png"/>
  <Override PartName="/ppt/media/image104.png" ContentType="image/png"/>
  <Override PartName="/ppt/media/image60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3.png" ContentType="image/png"/>
  <Override PartName="/ppt/media/image96.png" ContentType="image/png"/>
  <Override PartName="/ppt/media/image102.png" ContentType="image/png"/>
  <Override PartName="/ppt/media/image95.png" ContentType="image/png"/>
  <Override PartName="/ppt/media/image79.png" ContentType="image/png"/>
  <Override PartName="/ppt/media/image101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110.png" ContentType="image/png"/>
  <Override PartName="/ppt/media/image24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5.png" ContentType="image/png"/>
  <Override PartName="/ppt/media/image90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91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0E22-2632-4B9A-9AA0-35130D48A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7689-969A-4E49-9F64-9E54E9BA7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3E4A-3FE9-4267-B946-1074F08C1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2868-AD39-4260-A78C-3380BCA01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D2A7-8899-4D87-90D0-382A9269F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2169-490B-44CC-93A8-9C87F4F42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6E14-5F1E-4079-AD69-2650063D9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1CFA-D77E-464A-8CAF-D9378CC1D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26E6-E8DA-4791-A3E7-E153BCD7B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E745-9BE9-45DF-991E-AF653B91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E766-398F-4253-BDE6-60B9D07C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B7E2-127E-4F84-ACF2-051BD722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CEB4C-3805-4B77-8F2C-6DE0D158BF7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32.png"/><Relationship Id="rId16" Type="http://schemas.openxmlformats.org/officeDocument/2006/relationships/image" Target="../media/image33.png"/><Relationship Id="rId17" Type="http://schemas.openxmlformats.org/officeDocument/2006/relationships/image" Target="../media/image34.png"/><Relationship Id="rId18" Type="http://schemas.openxmlformats.org/officeDocument/2006/relationships/image" Target="../media/image35.png"/><Relationship Id="rId19" Type="http://schemas.openxmlformats.org/officeDocument/2006/relationships/image" Target="../media/image36.png"/><Relationship Id="rId20" Type="http://schemas.openxmlformats.org/officeDocument/2006/relationships/image" Target="../media/image37.png"/><Relationship Id="rId21" Type="http://schemas.openxmlformats.org/officeDocument/2006/relationships/image" Target="../media/image38.png"/><Relationship Id="rId22" Type="http://schemas.openxmlformats.org/officeDocument/2006/relationships/image" Target="../media/image39.png"/><Relationship Id="rId23" Type="http://schemas.openxmlformats.org/officeDocument/2006/relationships/image" Target="../media/image40.png"/><Relationship Id="rId24" Type="http://schemas.openxmlformats.org/officeDocument/2006/relationships/image" Target="../media/image41.png"/><Relationship Id="rId25" Type="http://schemas.openxmlformats.org/officeDocument/2006/relationships/image" Target="../media/image42.png"/><Relationship Id="rId26" Type="http://schemas.openxmlformats.org/officeDocument/2006/relationships/image" Target="../media/image43.png"/><Relationship Id="rId27" Type="http://schemas.openxmlformats.org/officeDocument/2006/relationships/image" Target="../media/image44.png"/><Relationship Id="rId28" Type="http://schemas.openxmlformats.org/officeDocument/2006/relationships/image" Target="../media/image45.png"/><Relationship Id="rId29" Type="http://schemas.openxmlformats.org/officeDocument/2006/relationships/image" Target="../media/image46.png"/><Relationship Id="rId30" Type="http://schemas.openxmlformats.org/officeDocument/2006/relationships/image" Target="../media/image47.png"/><Relationship Id="rId31" Type="http://schemas.openxmlformats.org/officeDocument/2006/relationships/image" Target="../media/image48.png"/><Relationship Id="rId32" Type="http://schemas.openxmlformats.org/officeDocument/2006/relationships/image" Target="../media/image49.png"/><Relationship Id="rId33" Type="http://schemas.openxmlformats.org/officeDocument/2006/relationships/image" Target="../media/image50.png"/><Relationship Id="rId34" Type="http://schemas.openxmlformats.org/officeDocument/2006/relationships/image" Target="../media/image51.png"/><Relationship Id="rId35" Type="http://schemas.openxmlformats.org/officeDocument/2006/relationships/image" Target="../media/image52.png"/><Relationship Id="rId36" Type="http://schemas.openxmlformats.org/officeDocument/2006/relationships/image" Target="../media/image53.png"/><Relationship Id="rId37" Type="http://schemas.openxmlformats.org/officeDocument/2006/relationships/image" Target="../media/image54.png"/><Relationship Id="rId38" Type="http://schemas.openxmlformats.org/officeDocument/2006/relationships/image" Target="../media/image55.png"/><Relationship Id="rId39" Type="http://schemas.openxmlformats.org/officeDocument/2006/relationships/image" Target="../media/image56.png"/><Relationship Id="rId40" Type="http://schemas.openxmlformats.org/officeDocument/2006/relationships/image" Target="../media/image57.png"/><Relationship Id="rId41" Type="http://schemas.openxmlformats.org/officeDocument/2006/relationships/image" Target="../media/image58.png"/><Relationship Id="rId42" Type="http://schemas.openxmlformats.org/officeDocument/2006/relationships/image" Target="../media/image59.png"/><Relationship Id="rId43" Type="http://schemas.openxmlformats.org/officeDocument/2006/relationships/image" Target="../media/image60.png"/><Relationship Id="rId44" Type="http://schemas.openxmlformats.org/officeDocument/2006/relationships/image" Target="../media/image61.png"/><Relationship Id="rId45" Type="http://schemas.openxmlformats.org/officeDocument/2006/relationships/image" Target="../media/image62.png"/><Relationship Id="rId46" Type="http://schemas.openxmlformats.org/officeDocument/2006/relationships/image" Target="../media/image63.png"/><Relationship Id="rId47" Type="http://schemas.openxmlformats.org/officeDocument/2006/relationships/image" Target="../media/image64.png"/><Relationship Id="rId48" Type="http://schemas.openxmlformats.org/officeDocument/2006/relationships/image" Target="../media/image65.png"/><Relationship Id="rId49" Type="http://schemas.openxmlformats.org/officeDocument/2006/relationships/image" Target="../media/image66.png"/><Relationship Id="rId50" Type="http://schemas.openxmlformats.org/officeDocument/2006/relationships/image" Target="../media/image67.png"/><Relationship Id="rId51" Type="http://schemas.openxmlformats.org/officeDocument/2006/relationships/image" Target="../media/image68.png"/><Relationship Id="rId52" Type="http://schemas.openxmlformats.org/officeDocument/2006/relationships/image" Target="../media/image69.png"/><Relationship Id="rId53" Type="http://schemas.openxmlformats.org/officeDocument/2006/relationships/image" Target="../media/image70.png"/><Relationship Id="rId54" Type="http://schemas.openxmlformats.org/officeDocument/2006/relationships/image" Target="../media/image71.png"/><Relationship Id="rId55" Type="http://schemas.openxmlformats.org/officeDocument/2006/relationships/image" Target="../media/image72.png"/><Relationship Id="rId56" Type="http://schemas.openxmlformats.org/officeDocument/2006/relationships/image" Target="../media/image73.png"/><Relationship Id="rId57" Type="http://schemas.openxmlformats.org/officeDocument/2006/relationships/image" Target="../media/image74.png"/><Relationship Id="rId58" Type="http://schemas.openxmlformats.org/officeDocument/2006/relationships/image" Target="../media/image75.png"/><Relationship Id="rId59" Type="http://schemas.openxmlformats.org/officeDocument/2006/relationships/image" Target="../media/image76.png"/><Relationship Id="rId60" Type="http://schemas.openxmlformats.org/officeDocument/2006/relationships/image" Target="../media/image77.png"/><Relationship Id="rId61" Type="http://schemas.openxmlformats.org/officeDocument/2006/relationships/image" Target="../media/image78.png"/><Relationship Id="rId62" Type="http://schemas.openxmlformats.org/officeDocument/2006/relationships/image" Target="../media/image79.png"/><Relationship Id="rId63" Type="http://schemas.openxmlformats.org/officeDocument/2006/relationships/image" Target="../media/image80.png"/><Relationship Id="rId64" Type="http://schemas.openxmlformats.org/officeDocument/2006/relationships/image" Target="../media/image81.png"/><Relationship Id="rId65" Type="http://schemas.openxmlformats.org/officeDocument/2006/relationships/image" Target="../media/image82.png"/><Relationship Id="rId66" Type="http://schemas.openxmlformats.org/officeDocument/2006/relationships/image" Target="../media/image83.png"/><Relationship Id="rId67" Type="http://schemas.openxmlformats.org/officeDocument/2006/relationships/image" Target="../media/image84.png"/><Relationship Id="rId68" Type="http://schemas.openxmlformats.org/officeDocument/2006/relationships/image" Target="../media/image85.png"/><Relationship Id="rId69" Type="http://schemas.openxmlformats.org/officeDocument/2006/relationships/image" Target="../media/image86.png"/><Relationship Id="rId70" Type="http://schemas.openxmlformats.org/officeDocument/2006/relationships/image" Target="../media/image87.png"/><Relationship Id="rId71" Type="http://schemas.openxmlformats.org/officeDocument/2006/relationships/image" Target="../media/image88.png"/><Relationship Id="rId72" Type="http://schemas.openxmlformats.org/officeDocument/2006/relationships/image" Target="../media/image89.png"/><Relationship Id="rId73" Type="http://schemas.openxmlformats.org/officeDocument/2006/relationships/image" Target="../media/image90.png"/><Relationship Id="rId74" Type="http://schemas.openxmlformats.org/officeDocument/2006/relationships/image" Target="../media/image91.png"/><Relationship Id="rId75" Type="http://schemas.openxmlformats.org/officeDocument/2006/relationships/image" Target="../media/image92.png"/><Relationship Id="rId76" Type="http://schemas.openxmlformats.org/officeDocument/2006/relationships/image" Target="../media/image93.png"/><Relationship Id="rId77" Type="http://schemas.openxmlformats.org/officeDocument/2006/relationships/image" Target="../media/image94.png"/><Relationship Id="rId78" Type="http://schemas.openxmlformats.org/officeDocument/2006/relationships/image" Target="../media/image95.png"/><Relationship Id="rId79" Type="http://schemas.openxmlformats.org/officeDocument/2006/relationships/image" Target="../media/image96.png"/><Relationship Id="rId80" Type="http://schemas.openxmlformats.org/officeDocument/2006/relationships/image" Target="../media/image97.png"/><Relationship Id="rId81" Type="http://schemas.openxmlformats.org/officeDocument/2006/relationships/image" Target="../media/image98.png"/><Relationship Id="rId82" Type="http://schemas.openxmlformats.org/officeDocument/2006/relationships/image" Target="../media/image99.png"/><Relationship Id="rId83" Type="http://schemas.openxmlformats.org/officeDocument/2006/relationships/image" Target="../media/image100.png"/><Relationship Id="rId84" Type="http://schemas.openxmlformats.org/officeDocument/2006/relationships/image" Target="../media/image101.png"/><Relationship Id="rId85" Type="http://schemas.openxmlformats.org/officeDocument/2006/relationships/image" Target="../media/image102.png"/><Relationship Id="rId86" Type="http://schemas.openxmlformats.org/officeDocument/2006/relationships/image" Target="../media/image103.png"/><Relationship Id="rId87" Type="http://schemas.openxmlformats.org/officeDocument/2006/relationships/image" Target="../media/image104.png"/><Relationship Id="rId88" Type="http://schemas.openxmlformats.org/officeDocument/2006/relationships/image" Target="../media/image105.png"/><Relationship Id="rId89" Type="http://schemas.openxmlformats.org/officeDocument/2006/relationships/image" Target="../media/image106.png"/><Relationship Id="rId90" Type="http://schemas.openxmlformats.org/officeDocument/2006/relationships/image" Target="../media/image107.png"/><Relationship Id="rId91" Type="http://schemas.openxmlformats.org/officeDocument/2006/relationships/image" Target="../media/image108.png"/><Relationship Id="rId92" Type="http://schemas.openxmlformats.org/officeDocument/2006/relationships/image" Target="../media/image109.png"/><Relationship Id="rId93" Type="http://schemas.openxmlformats.org/officeDocument/2006/relationships/image" Target="../media/image110.png"/><Relationship Id="rId94" Type="http://schemas.openxmlformats.org/officeDocument/2006/relationships/image" Target="../media/image111.png"/><Relationship Id="rId95" Type="http://schemas.openxmlformats.org/officeDocument/2006/relationships/image" Target="../media/image112.png"/><Relationship Id="rId9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4" descr="1.png"/>
          <p:cNvPicPr/>
          <p:nvPr/>
        </p:nvPicPr>
        <p:blipFill>
          <a:blip r:embed="rId1"/>
          <a:stretch/>
        </p:blipFill>
        <p:spPr>
          <a:xfrm>
            <a:off x="6791400" y="6165720"/>
            <a:ext cx="561960" cy="549360"/>
          </a:xfrm>
          <a:prstGeom prst="rect">
            <a:avLst/>
          </a:prstGeom>
          <a:ln w="0">
            <a:noFill/>
          </a:ln>
        </p:spPr>
      </p:pic>
      <p:pic>
        <p:nvPicPr>
          <p:cNvPr id="42" name="图片 5" descr="2.png"/>
          <p:cNvPicPr/>
          <p:nvPr/>
        </p:nvPicPr>
        <p:blipFill>
          <a:blip r:embed="rId2"/>
          <a:stretch/>
        </p:blipFill>
        <p:spPr>
          <a:xfrm>
            <a:off x="6800760" y="6041880"/>
            <a:ext cx="890640" cy="268560"/>
          </a:xfrm>
          <a:prstGeom prst="rect">
            <a:avLst/>
          </a:prstGeom>
          <a:ln w="0">
            <a:noFill/>
          </a:ln>
        </p:spPr>
      </p:pic>
      <p:pic>
        <p:nvPicPr>
          <p:cNvPr id="43" name="图片 6" descr="3.png"/>
          <p:cNvPicPr/>
          <p:nvPr/>
        </p:nvPicPr>
        <p:blipFill>
          <a:blip r:embed="rId3"/>
          <a:stretch/>
        </p:blipFill>
        <p:spPr>
          <a:xfrm>
            <a:off x="6858000" y="5854680"/>
            <a:ext cx="835200" cy="347760"/>
          </a:xfrm>
          <a:prstGeom prst="rect">
            <a:avLst/>
          </a:prstGeom>
          <a:ln w="0">
            <a:noFill/>
          </a:ln>
        </p:spPr>
      </p:pic>
      <p:pic>
        <p:nvPicPr>
          <p:cNvPr id="44" name="图片 7" descr="4.png"/>
          <p:cNvPicPr/>
          <p:nvPr/>
        </p:nvPicPr>
        <p:blipFill>
          <a:blip r:embed="rId4"/>
          <a:stretch/>
        </p:blipFill>
        <p:spPr>
          <a:xfrm>
            <a:off x="6842160" y="5773680"/>
            <a:ext cx="909720" cy="309600"/>
          </a:xfrm>
          <a:prstGeom prst="rect">
            <a:avLst/>
          </a:prstGeom>
          <a:ln w="0">
            <a:noFill/>
          </a:ln>
        </p:spPr>
      </p:pic>
      <p:pic>
        <p:nvPicPr>
          <p:cNvPr id="45" name="图片 8" descr="5.png"/>
          <p:cNvPicPr/>
          <p:nvPr/>
        </p:nvPicPr>
        <p:blipFill>
          <a:blip r:embed="rId5"/>
          <a:stretch/>
        </p:blipFill>
        <p:spPr>
          <a:xfrm>
            <a:off x="7635960" y="3676680"/>
            <a:ext cx="1365120" cy="2359080"/>
          </a:xfrm>
          <a:prstGeom prst="rect">
            <a:avLst/>
          </a:prstGeom>
          <a:ln w="0">
            <a:noFill/>
          </a:ln>
        </p:spPr>
      </p:pic>
      <p:pic>
        <p:nvPicPr>
          <p:cNvPr id="46" name="图片 9" descr="6.png"/>
          <p:cNvPicPr/>
          <p:nvPr/>
        </p:nvPicPr>
        <p:blipFill>
          <a:blip r:embed="rId6"/>
          <a:stretch/>
        </p:blipFill>
        <p:spPr>
          <a:xfrm>
            <a:off x="6783480" y="3665520"/>
            <a:ext cx="1146240" cy="2084400"/>
          </a:xfrm>
          <a:prstGeom prst="rect">
            <a:avLst/>
          </a:prstGeom>
          <a:ln w="0">
            <a:noFill/>
          </a:ln>
        </p:spPr>
      </p:pic>
      <p:pic>
        <p:nvPicPr>
          <p:cNvPr id="47" name="图片 10" descr="7.png"/>
          <p:cNvPicPr/>
          <p:nvPr/>
        </p:nvPicPr>
        <p:blipFill>
          <a:blip r:embed="rId7"/>
          <a:stretch/>
        </p:blipFill>
        <p:spPr>
          <a:xfrm>
            <a:off x="7059600" y="4786200"/>
            <a:ext cx="798480" cy="133560"/>
          </a:xfrm>
          <a:prstGeom prst="rect">
            <a:avLst/>
          </a:prstGeom>
          <a:ln w="0">
            <a:noFill/>
          </a:ln>
        </p:spPr>
      </p:pic>
      <p:pic>
        <p:nvPicPr>
          <p:cNvPr id="48" name="图片 11" descr="8.png"/>
          <p:cNvPicPr/>
          <p:nvPr/>
        </p:nvPicPr>
        <p:blipFill>
          <a:blip r:embed="rId8"/>
          <a:stretch/>
        </p:blipFill>
        <p:spPr>
          <a:xfrm>
            <a:off x="7232760" y="4068720"/>
            <a:ext cx="268200" cy="13500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3" descr="10.png"/>
          <p:cNvPicPr/>
          <p:nvPr/>
        </p:nvPicPr>
        <p:blipFill>
          <a:blip r:embed="rId9"/>
          <a:stretch/>
        </p:blipFill>
        <p:spPr>
          <a:xfrm>
            <a:off x="5572080" y="2857680"/>
            <a:ext cx="1468440" cy="1272960"/>
          </a:xfrm>
          <a:prstGeom prst="rect">
            <a:avLst/>
          </a:prstGeom>
          <a:ln w="0">
            <a:noFill/>
          </a:ln>
        </p:spPr>
      </p:pic>
      <p:sp>
        <p:nvSpPr>
          <p:cNvPr id="50" name="直接连接符 21"/>
          <p:cNvSpPr/>
          <p:nvPr/>
        </p:nvSpPr>
        <p:spPr>
          <a:xfrm>
            <a:off x="874800" y="3497400"/>
            <a:ext cx="37083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IdeaPPT宣传片.mp3" descr=""/>
          <p:cNvPicPr/>
          <p:nvPr/>
        </p:nvPicPr>
        <p:blipFill>
          <a:blip r:embed="rId10"/>
          <a:stretch/>
        </p:blipFill>
        <p:spPr>
          <a:xfrm>
            <a:off x="964404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2" name="矩形 2"/>
          <p:cNvSpPr/>
          <p:nvPr/>
        </p:nvSpPr>
        <p:spPr>
          <a:xfrm>
            <a:off x="1821600" y="692280"/>
            <a:ext cx="56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如何制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动态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" dur="3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2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" dur="3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3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4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3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任意多边形 3"/>
          <p:cNvSpPr/>
          <p:nvPr/>
        </p:nvSpPr>
        <p:spPr>
          <a:xfrm>
            <a:off x="6775560" y="2814480"/>
            <a:ext cx="407880" cy="3768840"/>
          </a:xfrm>
          <a:custGeom>
            <a:avLst/>
            <a:gdLst/>
            <a:ahLst/>
            <a:rect l="l" t="t" r="r" b="b"/>
            <a:pathLst>
              <a:path w="408167" h="3768918">
                <a:moveTo>
                  <a:pt x="401541" y="3768918"/>
                </a:moveTo>
                <a:cubicBezTo>
                  <a:pt x="369736" y="3766930"/>
                  <a:pt x="337931" y="3764942"/>
                  <a:pt x="322028" y="3753015"/>
                </a:cubicBezTo>
                <a:cubicBezTo>
                  <a:pt x="306125" y="3741088"/>
                  <a:pt x="307450" y="3718559"/>
                  <a:pt x="306125" y="3697356"/>
                </a:cubicBezTo>
                <a:cubicBezTo>
                  <a:pt x="304800" y="3676153"/>
                  <a:pt x="298174" y="3650974"/>
                  <a:pt x="314077" y="3625795"/>
                </a:cubicBezTo>
                <a:cubicBezTo>
                  <a:pt x="329980" y="3600616"/>
                  <a:pt x="408167" y="3559533"/>
                  <a:pt x="401541" y="3546281"/>
                </a:cubicBezTo>
                <a:cubicBezTo>
                  <a:pt x="394915" y="3533029"/>
                  <a:pt x="295523" y="3555557"/>
                  <a:pt x="274320" y="3546281"/>
                </a:cubicBezTo>
                <a:cubicBezTo>
                  <a:pt x="253117" y="3537005"/>
                  <a:pt x="274320" y="3490622"/>
                  <a:pt x="274320" y="3490622"/>
                </a:cubicBezTo>
                <a:cubicBezTo>
                  <a:pt x="274320" y="3434963"/>
                  <a:pt x="276970" y="3331596"/>
                  <a:pt x="274320" y="3212327"/>
                </a:cubicBezTo>
                <a:cubicBezTo>
                  <a:pt x="271670" y="3093058"/>
                  <a:pt x="265043" y="2898250"/>
                  <a:pt x="258417" y="2775005"/>
                </a:cubicBezTo>
                <a:cubicBezTo>
                  <a:pt x="251791" y="2651760"/>
                  <a:pt x="241190" y="2584173"/>
                  <a:pt x="234564" y="2472855"/>
                </a:cubicBezTo>
                <a:cubicBezTo>
                  <a:pt x="227938" y="2361537"/>
                  <a:pt x="227938" y="2223714"/>
                  <a:pt x="218661" y="2107095"/>
                </a:cubicBezTo>
                <a:cubicBezTo>
                  <a:pt x="209384" y="1990476"/>
                  <a:pt x="190831" y="1880483"/>
                  <a:pt x="178904" y="1773141"/>
                </a:cubicBezTo>
                <a:cubicBezTo>
                  <a:pt x="166977" y="1665799"/>
                  <a:pt x="165652" y="1569057"/>
                  <a:pt x="147099" y="1463040"/>
                </a:cubicBezTo>
                <a:cubicBezTo>
                  <a:pt x="128546" y="1357023"/>
                  <a:pt x="86139" y="1227151"/>
                  <a:pt x="67586" y="1137036"/>
                </a:cubicBezTo>
                <a:cubicBezTo>
                  <a:pt x="49033" y="1046921"/>
                  <a:pt x="41082" y="989937"/>
                  <a:pt x="35781" y="922351"/>
                </a:cubicBezTo>
                <a:cubicBezTo>
                  <a:pt x="30480" y="854765"/>
                  <a:pt x="31805" y="783204"/>
                  <a:pt x="35781" y="731520"/>
                </a:cubicBezTo>
                <a:cubicBezTo>
                  <a:pt x="39757" y="679836"/>
                  <a:pt x="64936" y="637429"/>
                  <a:pt x="59635" y="612250"/>
                </a:cubicBezTo>
                <a:cubicBezTo>
                  <a:pt x="54334" y="587071"/>
                  <a:pt x="7952" y="591047"/>
                  <a:pt x="3976" y="580445"/>
                </a:cubicBezTo>
                <a:cubicBezTo>
                  <a:pt x="0" y="569843"/>
                  <a:pt x="22529" y="572494"/>
                  <a:pt x="35781" y="548640"/>
                </a:cubicBezTo>
                <a:cubicBezTo>
                  <a:pt x="49033" y="524786"/>
                  <a:pt x="54334" y="500931"/>
                  <a:pt x="83489" y="437321"/>
                </a:cubicBezTo>
                <a:cubicBezTo>
                  <a:pt x="112644" y="373711"/>
                  <a:pt x="182881" y="218660"/>
                  <a:pt x="210710" y="166977"/>
                </a:cubicBezTo>
                <a:cubicBezTo>
                  <a:pt x="238539" y="115294"/>
                  <a:pt x="242515" y="137823"/>
                  <a:pt x="250466" y="127221"/>
                </a:cubicBezTo>
                <a:cubicBezTo>
                  <a:pt x="258417" y="116619"/>
                  <a:pt x="265043" y="107343"/>
                  <a:pt x="258417" y="103367"/>
                </a:cubicBezTo>
                <a:cubicBezTo>
                  <a:pt x="251791" y="99391"/>
                  <a:pt x="230588" y="120595"/>
                  <a:pt x="210710" y="103367"/>
                </a:cubicBezTo>
                <a:cubicBezTo>
                  <a:pt x="190832" y="86139"/>
                  <a:pt x="139148" y="0"/>
                  <a:pt x="139148" y="0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任意多边形 4"/>
          <p:cNvSpPr/>
          <p:nvPr/>
        </p:nvSpPr>
        <p:spPr>
          <a:xfrm>
            <a:off x="6240600" y="1701720"/>
            <a:ext cx="674640" cy="1120680"/>
          </a:xfrm>
          <a:custGeom>
            <a:avLst/>
            <a:gdLst/>
            <a:ahLst/>
            <a:rect l="l" t="t" r="r" b="b"/>
            <a:pathLst>
              <a:path w="674536" h="1121134">
                <a:moveTo>
                  <a:pt x="674536" y="1121134"/>
                </a:moveTo>
                <a:cubicBezTo>
                  <a:pt x="661283" y="1096617"/>
                  <a:pt x="648031" y="1072101"/>
                  <a:pt x="626828" y="1041621"/>
                </a:cubicBezTo>
                <a:cubicBezTo>
                  <a:pt x="605625" y="1011141"/>
                  <a:pt x="572494" y="996564"/>
                  <a:pt x="547315" y="938254"/>
                </a:cubicBezTo>
                <a:cubicBezTo>
                  <a:pt x="522136" y="879944"/>
                  <a:pt x="496956" y="746098"/>
                  <a:pt x="475753" y="691764"/>
                </a:cubicBezTo>
                <a:cubicBezTo>
                  <a:pt x="454550" y="637430"/>
                  <a:pt x="424070" y="648032"/>
                  <a:pt x="420094" y="612251"/>
                </a:cubicBezTo>
                <a:cubicBezTo>
                  <a:pt x="416118" y="576470"/>
                  <a:pt x="453224" y="519485"/>
                  <a:pt x="451899" y="477078"/>
                </a:cubicBezTo>
                <a:cubicBezTo>
                  <a:pt x="450574" y="434671"/>
                  <a:pt x="430696" y="388289"/>
                  <a:pt x="412143" y="357809"/>
                </a:cubicBezTo>
                <a:cubicBezTo>
                  <a:pt x="393590" y="327329"/>
                  <a:pt x="373712" y="316727"/>
                  <a:pt x="340581" y="294198"/>
                </a:cubicBezTo>
                <a:cubicBezTo>
                  <a:pt x="307451" y="271669"/>
                  <a:pt x="261068" y="258418"/>
                  <a:pt x="213360" y="222637"/>
                </a:cubicBezTo>
                <a:cubicBezTo>
                  <a:pt x="165652" y="186856"/>
                  <a:pt x="88790" y="111318"/>
                  <a:pt x="54334" y="79513"/>
                </a:cubicBezTo>
                <a:cubicBezTo>
                  <a:pt x="19878" y="47708"/>
                  <a:pt x="13252" y="45057"/>
                  <a:pt x="6626" y="31805"/>
                </a:cubicBezTo>
                <a:cubicBezTo>
                  <a:pt x="0" y="18553"/>
                  <a:pt x="14578" y="0"/>
                  <a:pt x="14578" y="0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任意多边形 5"/>
          <p:cNvSpPr/>
          <p:nvPr/>
        </p:nvSpPr>
        <p:spPr>
          <a:xfrm>
            <a:off x="6246720" y="1701720"/>
            <a:ext cx="684360" cy="596880"/>
          </a:xfrm>
          <a:custGeom>
            <a:avLst/>
            <a:gdLst/>
            <a:ahLst/>
            <a:rect l="l" t="t" r="r" b="b"/>
            <a:pathLst>
              <a:path w="683812" h="596348">
                <a:moveTo>
                  <a:pt x="0" y="0"/>
                </a:moveTo>
                <a:cubicBezTo>
                  <a:pt x="28492" y="9939"/>
                  <a:pt x="56985" y="19878"/>
                  <a:pt x="71562" y="23854"/>
                </a:cubicBezTo>
                <a:cubicBezTo>
                  <a:pt x="86140" y="27830"/>
                  <a:pt x="74213" y="21204"/>
                  <a:pt x="87465" y="23854"/>
                </a:cubicBezTo>
                <a:cubicBezTo>
                  <a:pt x="100717" y="26504"/>
                  <a:pt x="128546" y="26505"/>
                  <a:pt x="151075" y="39757"/>
                </a:cubicBezTo>
                <a:cubicBezTo>
                  <a:pt x="173604" y="53009"/>
                  <a:pt x="202759" y="88790"/>
                  <a:pt x="222637" y="103367"/>
                </a:cubicBezTo>
                <a:cubicBezTo>
                  <a:pt x="242515" y="117944"/>
                  <a:pt x="253117" y="117945"/>
                  <a:pt x="270345" y="127221"/>
                </a:cubicBezTo>
                <a:cubicBezTo>
                  <a:pt x="287573" y="136498"/>
                  <a:pt x="319378" y="157701"/>
                  <a:pt x="326004" y="159026"/>
                </a:cubicBezTo>
                <a:cubicBezTo>
                  <a:pt x="332630" y="160351"/>
                  <a:pt x="324678" y="148424"/>
                  <a:pt x="310101" y="135172"/>
                </a:cubicBezTo>
                <a:cubicBezTo>
                  <a:pt x="295524" y="121920"/>
                  <a:pt x="254441" y="96741"/>
                  <a:pt x="238539" y="79513"/>
                </a:cubicBezTo>
                <a:cubicBezTo>
                  <a:pt x="222637" y="62285"/>
                  <a:pt x="217336" y="41081"/>
                  <a:pt x="214686" y="31805"/>
                </a:cubicBezTo>
                <a:cubicBezTo>
                  <a:pt x="212036" y="22529"/>
                  <a:pt x="217336" y="25179"/>
                  <a:pt x="222637" y="23854"/>
                </a:cubicBezTo>
                <a:cubicBezTo>
                  <a:pt x="227938" y="22529"/>
                  <a:pt x="233239" y="18553"/>
                  <a:pt x="246491" y="23854"/>
                </a:cubicBezTo>
                <a:cubicBezTo>
                  <a:pt x="259743" y="29155"/>
                  <a:pt x="279621" y="42407"/>
                  <a:pt x="302150" y="55659"/>
                </a:cubicBezTo>
                <a:cubicBezTo>
                  <a:pt x="324679" y="68911"/>
                  <a:pt x="359135" y="91440"/>
                  <a:pt x="381663" y="103367"/>
                </a:cubicBezTo>
                <a:cubicBezTo>
                  <a:pt x="404191" y="115294"/>
                  <a:pt x="416118" y="112644"/>
                  <a:pt x="437322" y="127221"/>
                </a:cubicBezTo>
                <a:cubicBezTo>
                  <a:pt x="458526" y="141798"/>
                  <a:pt x="482380" y="139148"/>
                  <a:pt x="508884" y="190831"/>
                </a:cubicBezTo>
                <a:cubicBezTo>
                  <a:pt x="535388" y="242515"/>
                  <a:pt x="579120" y="396240"/>
                  <a:pt x="596348" y="437322"/>
                </a:cubicBezTo>
                <a:cubicBezTo>
                  <a:pt x="613576" y="478404"/>
                  <a:pt x="597674" y="410818"/>
                  <a:pt x="612251" y="437322"/>
                </a:cubicBezTo>
                <a:cubicBezTo>
                  <a:pt x="626828" y="463826"/>
                  <a:pt x="683812" y="596348"/>
                  <a:pt x="683812" y="596348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任意多边形 6"/>
          <p:cNvSpPr/>
          <p:nvPr/>
        </p:nvSpPr>
        <p:spPr>
          <a:xfrm>
            <a:off x="7058160" y="1733400"/>
            <a:ext cx="436320" cy="532080"/>
          </a:xfrm>
          <a:custGeom>
            <a:avLst/>
            <a:gdLst/>
            <a:ahLst/>
            <a:rect l="l" t="t" r="r" b="b"/>
            <a:pathLst>
              <a:path w="435996" h="532738">
                <a:moveTo>
                  <a:pt x="0" y="532738"/>
                </a:moveTo>
                <a:cubicBezTo>
                  <a:pt x="23854" y="510872"/>
                  <a:pt x="47708" y="489006"/>
                  <a:pt x="55659" y="461176"/>
                </a:cubicBezTo>
                <a:cubicBezTo>
                  <a:pt x="63610" y="433346"/>
                  <a:pt x="49033" y="384313"/>
                  <a:pt x="47708" y="365760"/>
                </a:cubicBezTo>
                <a:cubicBezTo>
                  <a:pt x="46383" y="347207"/>
                  <a:pt x="45058" y="352508"/>
                  <a:pt x="47708" y="349858"/>
                </a:cubicBezTo>
                <a:cubicBezTo>
                  <a:pt x="50359" y="347208"/>
                  <a:pt x="60961" y="357809"/>
                  <a:pt x="63611" y="349858"/>
                </a:cubicBezTo>
                <a:cubicBezTo>
                  <a:pt x="66261" y="341907"/>
                  <a:pt x="56985" y="314077"/>
                  <a:pt x="63611" y="302150"/>
                </a:cubicBezTo>
                <a:cubicBezTo>
                  <a:pt x="70237" y="290223"/>
                  <a:pt x="88790" y="292873"/>
                  <a:pt x="103367" y="278296"/>
                </a:cubicBezTo>
                <a:cubicBezTo>
                  <a:pt x="117944" y="263719"/>
                  <a:pt x="124571" y="230589"/>
                  <a:pt x="151075" y="214686"/>
                </a:cubicBezTo>
                <a:cubicBezTo>
                  <a:pt x="177579" y="198783"/>
                  <a:pt x="233238" y="197458"/>
                  <a:pt x="262393" y="182880"/>
                </a:cubicBezTo>
                <a:cubicBezTo>
                  <a:pt x="291548" y="168303"/>
                  <a:pt x="299500" y="151075"/>
                  <a:pt x="326004" y="127221"/>
                </a:cubicBezTo>
                <a:cubicBezTo>
                  <a:pt x="352508" y="103367"/>
                  <a:pt x="406842" y="60961"/>
                  <a:pt x="421419" y="39757"/>
                </a:cubicBezTo>
                <a:cubicBezTo>
                  <a:pt x="435996" y="18553"/>
                  <a:pt x="424732" y="9276"/>
                  <a:pt x="413468" y="0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任意多边形 10"/>
          <p:cNvSpPr/>
          <p:nvPr/>
        </p:nvSpPr>
        <p:spPr>
          <a:xfrm>
            <a:off x="7151760" y="898560"/>
            <a:ext cx="328680" cy="869760"/>
          </a:xfrm>
          <a:custGeom>
            <a:avLst/>
            <a:gdLst/>
            <a:ahLst/>
            <a:rect l="l" t="t" r="r" b="b"/>
            <a:pathLst>
              <a:path w="327328" h="870668">
                <a:moveTo>
                  <a:pt x="303475" y="0"/>
                </a:moveTo>
                <a:cubicBezTo>
                  <a:pt x="261068" y="663"/>
                  <a:pt x="218661" y="1326"/>
                  <a:pt x="176254" y="39757"/>
                </a:cubicBezTo>
                <a:cubicBezTo>
                  <a:pt x="133847" y="78188"/>
                  <a:pt x="76863" y="165652"/>
                  <a:pt x="49033" y="230588"/>
                </a:cubicBezTo>
                <a:cubicBezTo>
                  <a:pt x="21203" y="295524"/>
                  <a:pt x="0" y="353834"/>
                  <a:pt x="9276" y="429371"/>
                </a:cubicBezTo>
                <a:cubicBezTo>
                  <a:pt x="18552" y="504908"/>
                  <a:pt x="88789" y="630804"/>
                  <a:pt x="104692" y="683813"/>
                </a:cubicBezTo>
                <a:cubicBezTo>
                  <a:pt x="120595" y="736822"/>
                  <a:pt x="100716" y="744773"/>
                  <a:pt x="104692" y="747423"/>
                </a:cubicBezTo>
                <a:cubicBezTo>
                  <a:pt x="108668" y="750073"/>
                  <a:pt x="125896" y="689113"/>
                  <a:pt x="128546" y="699715"/>
                </a:cubicBezTo>
                <a:cubicBezTo>
                  <a:pt x="131196" y="710317"/>
                  <a:pt x="128546" y="787179"/>
                  <a:pt x="120595" y="811033"/>
                </a:cubicBezTo>
                <a:cubicBezTo>
                  <a:pt x="112644" y="834887"/>
                  <a:pt x="72887" y="842839"/>
                  <a:pt x="80838" y="842839"/>
                </a:cubicBezTo>
                <a:cubicBezTo>
                  <a:pt x="88789" y="842839"/>
                  <a:pt x="145773" y="821635"/>
                  <a:pt x="168302" y="811033"/>
                </a:cubicBezTo>
                <a:cubicBezTo>
                  <a:pt x="190831" y="800431"/>
                  <a:pt x="216010" y="769951"/>
                  <a:pt x="216010" y="779228"/>
                </a:cubicBezTo>
                <a:cubicBezTo>
                  <a:pt x="216010" y="788505"/>
                  <a:pt x="165652" y="865368"/>
                  <a:pt x="168302" y="866693"/>
                </a:cubicBezTo>
                <a:cubicBezTo>
                  <a:pt x="170952" y="868018"/>
                  <a:pt x="223962" y="787180"/>
                  <a:pt x="231913" y="787180"/>
                </a:cubicBezTo>
                <a:cubicBezTo>
                  <a:pt x="239864" y="787180"/>
                  <a:pt x="213360" y="862718"/>
                  <a:pt x="216010" y="866693"/>
                </a:cubicBezTo>
                <a:cubicBezTo>
                  <a:pt x="218660" y="870668"/>
                  <a:pt x="229262" y="815009"/>
                  <a:pt x="247815" y="811033"/>
                </a:cubicBezTo>
                <a:cubicBezTo>
                  <a:pt x="266368" y="807057"/>
                  <a:pt x="296848" y="824948"/>
                  <a:pt x="327328" y="842839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任意多边形 12"/>
          <p:cNvSpPr/>
          <p:nvPr/>
        </p:nvSpPr>
        <p:spPr>
          <a:xfrm>
            <a:off x="7440480" y="896760"/>
            <a:ext cx="846360" cy="3038760"/>
          </a:xfrm>
          <a:custGeom>
            <a:avLst/>
            <a:gdLst/>
            <a:ahLst/>
            <a:rect l="l" t="t" r="r" b="b"/>
            <a:pathLst>
              <a:path w="846814" h="3038724">
                <a:moveTo>
                  <a:pt x="0" y="1325"/>
                </a:moveTo>
                <a:cubicBezTo>
                  <a:pt x="31142" y="1325"/>
                  <a:pt x="60960" y="0"/>
                  <a:pt x="87464" y="1325"/>
                </a:cubicBezTo>
                <a:cubicBezTo>
                  <a:pt x="113968" y="2650"/>
                  <a:pt x="135172" y="5301"/>
                  <a:pt x="159026" y="9277"/>
                </a:cubicBezTo>
                <a:cubicBezTo>
                  <a:pt x="182880" y="13253"/>
                  <a:pt x="198783" y="3976"/>
                  <a:pt x="230588" y="25179"/>
                </a:cubicBezTo>
                <a:cubicBezTo>
                  <a:pt x="262393" y="46382"/>
                  <a:pt x="315401" y="75538"/>
                  <a:pt x="349857" y="136498"/>
                </a:cubicBezTo>
                <a:cubicBezTo>
                  <a:pt x="384313" y="197458"/>
                  <a:pt x="422744" y="316727"/>
                  <a:pt x="437322" y="390939"/>
                </a:cubicBezTo>
                <a:cubicBezTo>
                  <a:pt x="451900" y="465151"/>
                  <a:pt x="445273" y="526112"/>
                  <a:pt x="437322" y="581771"/>
                </a:cubicBezTo>
                <a:cubicBezTo>
                  <a:pt x="429371" y="637430"/>
                  <a:pt x="386964" y="694414"/>
                  <a:pt x="389614" y="724894"/>
                </a:cubicBezTo>
                <a:cubicBezTo>
                  <a:pt x="392264" y="755374"/>
                  <a:pt x="437321" y="754049"/>
                  <a:pt x="453224" y="764651"/>
                </a:cubicBezTo>
                <a:cubicBezTo>
                  <a:pt x="469127" y="775253"/>
                  <a:pt x="454550" y="781879"/>
                  <a:pt x="485030" y="788505"/>
                </a:cubicBezTo>
                <a:cubicBezTo>
                  <a:pt x="515510" y="795131"/>
                  <a:pt x="589722" y="796456"/>
                  <a:pt x="636104" y="804407"/>
                </a:cubicBezTo>
                <a:cubicBezTo>
                  <a:pt x="682486" y="812358"/>
                  <a:pt x="735495" y="820309"/>
                  <a:pt x="763325" y="836212"/>
                </a:cubicBezTo>
                <a:cubicBezTo>
                  <a:pt x="791155" y="852115"/>
                  <a:pt x="792480" y="868018"/>
                  <a:pt x="803082" y="899823"/>
                </a:cubicBezTo>
                <a:cubicBezTo>
                  <a:pt x="813684" y="931628"/>
                  <a:pt x="820310" y="989938"/>
                  <a:pt x="826936" y="1027044"/>
                </a:cubicBezTo>
                <a:cubicBezTo>
                  <a:pt x="833562" y="1064150"/>
                  <a:pt x="846814" y="1041621"/>
                  <a:pt x="842838" y="1122459"/>
                </a:cubicBezTo>
                <a:cubicBezTo>
                  <a:pt x="838862" y="1203297"/>
                  <a:pt x="824286" y="1390153"/>
                  <a:pt x="803082" y="1512073"/>
                </a:cubicBezTo>
                <a:cubicBezTo>
                  <a:pt x="781879" y="1633993"/>
                  <a:pt x="743447" y="1770490"/>
                  <a:pt x="715617" y="1853979"/>
                </a:cubicBezTo>
                <a:cubicBezTo>
                  <a:pt x="687787" y="1937468"/>
                  <a:pt x="673210" y="1983850"/>
                  <a:pt x="636104" y="2013005"/>
                </a:cubicBezTo>
                <a:cubicBezTo>
                  <a:pt x="598998" y="2042160"/>
                  <a:pt x="518160" y="2016981"/>
                  <a:pt x="492981" y="2028908"/>
                </a:cubicBezTo>
                <a:cubicBezTo>
                  <a:pt x="467802" y="2040835"/>
                  <a:pt x="482380" y="2042160"/>
                  <a:pt x="485030" y="2084567"/>
                </a:cubicBezTo>
                <a:cubicBezTo>
                  <a:pt x="487680" y="2126974"/>
                  <a:pt x="504908" y="2205162"/>
                  <a:pt x="508883" y="2283350"/>
                </a:cubicBezTo>
                <a:cubicBezTo>
                  <a:pt x="512858" y="2361538"/>
                  <a:pt x="503582" y="2498035"/>
                  <a:pt x="508883" y="2553694"/>
                </a:cubicBezTo>
                <a:cubicBezTo>
                  <a:pt x="514184" y="2609353"/>
                  <a:pt x="543339" y="2605378"/>
                  <a:pt x="540689" y="2617305"/>
                </a:cubicBezTo>
                <a:cubicBezTo>
                  <a:pt x="538039" y="2629232"/>
                  <a:pt x="508884" y="2621281"/>
                  <a:pt x="492981" y="2625256"/>
                </a:cubicBezTo>
                <a:cubicBezTo>
                  <a:pt x="477078" y="2629231"/>
                  <a:pt x="450574" y="2629231"/>
                  <a:pt x="445273" y="2641158"/>
                </a:cubicBezTo>
                <a:cubicBezTo>
                  <a:pt x="439972" y="2653085"/>
                  <a:pt x="461176" y="2679590"/>
                  <a:pt x="461176" y="2696818"/>
                </a:cubicBezTo>
                <a:cubicBezTo>
                  <a:pt x="461176" y="2714046"/>
                  <a:pt x="447924" y="2729948"/>
                  <a:pt x="445273" y="2744525"/>
                </a:cubicBezTo>
                <a:cubicBezTo>
                  <a:pt x="442622" y="2759102"/>
                  <a:pt x="445273" y="2784282"/>
                  <a:pt x="445273" y="2784282"/>
                </a:cubicBezTo>
                <a:cubicBezTo>
                  <a:pt x="445273" y="2808136"/>
                  <a:pt x="446598" y="2845242"/>
                  <a:pt x="445273" y="2887649"/>
                </a:cubicBezTo>
                <a:cubicBezTo>
                  <a:pt x="443948" y="2930056"/>
                  <a:pt x="440635" y="2984390"/>
                  <a:pt x="437322" y="3038724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任意多边形 13"/>
          <p:cNvSpPr/>
          <p:nvPr/>
        </p:nvSpPr>
        <p:spPr>
          <a:xfrm>
            <a:off x="7740720" y="3903840"/>
            <a:ext cx="358560" cy="2647800"/>
          </a:xfrm>
          <a:custGeom>
            <a:avLst/>
            <a:gdLst/>
            <a:ahLst/>
            <a:rect l="l" t="t" r="r" b="b"/>
            <a:pathLst>
              <a:path w="359133" h="2647785">
                <a:moveTo>
                  <a:pt x="144448" y="0"/>
                </a:moveTo>
                <a:cubicBezTo>
                  <a:pt x="145110" y="25842"/>
                  <a:pt x="145773" y="51684"/>
                  <a:pt x="128545" y="135173"/>
                </a:cubicBezTo>
                <a:cubicBezTo>
                  <a:pt x="111317" y="218662"/>
                  <a:pt x="55658" y="426721"/>
                  <a:pt x="41081" y="500933"/>
                </a:cubicBezTo>
                <a:cubicBezTo>
                  <a:pt x="26504" y="575145"/>
                  <a:pt x="42406" y="559243"/>
                  <a:pt x="41081" y="580446"/>
                </a:cubicBezTo>
                <a:cubicBezTo>
                  <a:pt x="39756" y="601649"/>
                  <a:pt x="39756" y="606950"/>
                  <a:pt x="33130" y="628153"/>
                </a:cubicBezTo>
                <a:cubicBezTo>
                  <a:pt x="26504" y="649356"/>
                  <a:pt x="2650" y="685138"/>
                  <a:pt x="1325" y="707667"/>
                </a:cubicBezTo>
                <a:cubicBezTo>
                  <a:pt x="0" y="730196"/>
                  <a:pt x="25178" y="750074"/>
                  <a:pt x="25178" y="763326"/>
                </a:cubicBezTo>
                <a:cubicBezTo>
                  <a:pt x="25178" y="776578"/>
                  <a:pt x="1325" y="762001"/>
                  <a:pt x="1325" y="787180"/>
                </a:cubicBezTo>
                <a:cubicBezTo>
                  <a:pt x="1325" y="812359"/>
                  <a:pt x="18552" y="885245"/>
                  <a:pt x="25178" y="914400"/>
                </a:cubicBezTo>
                <a:cubicBezTo>
                  <a:pt x="31804" y="943555"/>
                  <a:pt x="43731" y="946205"/>
                  <a:pt x="41081" y="962108"/>
                </a:cubicBezTo>
                <a:cubicBezTo>
                  <a:pt x="38431" y="978011"/>
                  <a:pt x="9276" y="981986"/>
                  <a:pt x="9276" y="1009816"/>
                </a:cubicBezTo>
                <a:cubicBezTo>
                  <a:pt x="9276" y="1037646"/>
                  <a:pt x="34455" y="1097281"/>
                  <a:pt x="41081" y="1129086"/>
                </a:cubicBezTo>
                <a:cubicBezTo>
                  <a:pt x="47707" y="1160891"/>
                  <a:pt x="50357" y="1182094"/>
                  <a:pt x="49032" y="1200647"/>
                </a:cubicBezTo>
                <a:cubicBezTo>
                  <a:pt x="47707" y="1219200"/>
                  <a:pt x="33130" y="1220526"/>
                  <a:pt x="33130" y="1240404"/>
                </a:cubicBezTo>
                <a:cubicBezTo>
                  <a:pt x="33130" y="1260282"/>
                  <a:pt x="43731" y="1235103"/>
                  <a:pt x="49032" y="1319917"/>
                </a:cubicBezTo>
                <a:cubicBezTo>
                  <a:pt x="54333" y="1404731"/>
                  <a:pt x="66260" y="1645920"/>
                  <a:pt x="64935" y="1749287"/>
                </a:cubicBezTo>
                <a:cubicBezTo>
                  <a:pt x="63610" y="1852654"/>
                  <a:pt x="33130" y="1867232"/>
                  <a:pt x="41081" y="1940119"/>
                </a:cubicBezTo>
                <a:cubicBezTo>
                  <a:pt x="49032" y="2013006"/>
                  <a:pt x="88789" y="2105771"/>
                  <a:pt x="112643" y="2186609"/>
                </a:cubicBezTo>
                <a:cubicBezTo>
                  <a:pt x="136497" y="2267447"/>
                  <a:pt x="172278" y="2370814"/>
                  <a:pt x="184205" y="2425148"/>
                </a:cubicBezTo>
                <a:cubicBezTo>
                  <a:pt x="196132" y="2479482"/>
                  <a:pt x="174929" y="2491410"/>
                  <a:pt x="184205" y="2512613"/>
                </a:cubicBezTo>
                <a:cubicBezTo>
                  <a:pt x="193481" y="2533816"/>
                  <a:pt x="210709" y="2529840"/>
                  <a:pt x="239864" y="2552369"/>
                </a:cubicBezTo>
                <a:cubicBezTo>
                  <a:pt x="269019" y="2574898"/>
                  <a:pt x="314076" y="2611341"/>
                  <a:pt x="359133" y="2647785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任意多边形 15"/>
          <p:cNvSpPr/>
          <p:nvPr/>
        </p:nvSpPr>
        <p:spPr>
          <a:xfrm>
            <a:off x="7440480" y="5764320"/>
            <a:ext cx="658800" cy="838080"/>
          </a:xfrm>
          <a:custGeom>
            <a:avLst/>
            <a:gdLst/>
            <a:ahLst/>
            <a:rect l="l" t="t" r="r" b="b"/>
            <a:pathLst>
              <a:path w="659958" h="837537">
                <a:moveTo>
                  <a:pt x="0" y="0"/>
                </a:moveTo>
                <a:cubicBezTo>
                  <a:pt x="13252" y="27166"/>
                  <a:pt x="26504" y="54333"/>
                  <a:pt x="31805" y="119269"/>
                </a:cubicBezTo>
                <a:cubicBezTo>
                  <a:pt x="37106" y="184205"/>
                  <a:pt x="29155" y="312751"/>
                  <a:pt x="31805" y="389614"/>
                </a:cubicBezTo>
                <a:cubicBezTo>
                  <a:pt x="34456" y="466477"/>
                  <a:pt x="29155" y="532737"/>
                  <a:pt x="47708" y="580445"/>
                </a:cubicBezTo>
                <a:cubicBezTo>
                  <a:pt x="66261" y="628153"/>
                  <a:pt x="127221" y="652007"/>
                  <a:pt x="143123" y="675861"/>
                </a:cubicBezTo>
                <a:cubicBezTo>
                  <a:pt x="159025" y="699715"/>
                  <a:pt x="137822" y="715617"/>
                  <a:pt x="143123" y="723568"/>
                </a:cubicBezTo>
                <a:cubicBezTo>
                  <a:pt x="148424" y="731519"/>
                  <a:pt x="168303" y="726218"/>
                  <a:pt x="174929" y="723568"/>
                </a:cubicBezTo>
                <a:cubicBezTo>
                  <a:pt x="181555" y="720918"/>
                  <a:pt x="172278" y="707666"/>
                  <a:pt x="182880" y="707666"/>
                </a:cubicBezTo>
                <a:cubicBezTo>
                  <a:pt x="193482" y="707666"/>
                  <a:pt x="221311" y="720918"/>
                  <a:pt x="238539" y="723568"/>
                </a:cubicBezTo>
                <a:cubicBezTo>
                  <a:pt x="255767" y="726218"/>
                  <a:pt x="266369" y="708991"/>
                  <a:pt x="286247" y="723568"/>
                </a:cubicBezTo>
                <a:cubicBezTo>
                  <a:pt x="306125" y="738146"/>
                  <a:pt x="311426" y="792480"/>
                  <a:pt x="357809" y="811033"/>
                </a:cubicBezTo>
                <a:cubicBezTo>
                  <a:pt x="404192" y="829586"/>
                  <a:pt x="518161" y="832237"/>
                  <a:pt x="564543" y="834887"/>
                </a:cubicBezTo>
                <a:cubicBezTo>
                  <a:pt x="610925" y="837537"/>
                  <a:pt x="620202" y="833561"/>
                  <a:pt x="636104" y="826935"/>
                </a:cubicBezTo>
                <a:cubicBezTo>
                  <a:pt x="652006" y="820309"/>
                  <a:pt x="655982" y="807719"/>
                  <a:pt x="659958" y="795130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任意多边形 16"/>
          <p:cNvSpPr/>
          <p:nvPr/>
        </p:nvSpPr>
        <p:spPr>
          <a:xfrm>
            <a:off x="7169040" y="5756400"/>
            <a:ext cx="290520" cy="834840"/>
          </a:xfrm>
          <a:custGeom>
            <a:avLst/>
            <a:gdLst/>
            <a:ahLst/>
            <a:rect l="l" t="t" r="r" b="b"/>
            <a:pathLst>
              <a:path w="290223" h="834887">
                <a:moveTo>
                  <a:pt x="278295" y="0"/>
                </a:moveTo>
                <a:cubicBezTo>
                  <a:pt x="272332" y="70899"/>
                  <a:pt x="266369" y="141799"/>
                  <a:pt x="262393" y="198783"/>
                </a:cubicBezTo>
                <a:cubicBezTo>
                  <a:pt x="258417" y="255767"/>
                  <a:pt x="251791" y="288897"/>
                  <a:pt x="254441" y="341906"/>
                </a:cubicBezTo>
                <a:cubicBezTo>
                  <a:pt x="257091" y="394915"/>
                  <a:pt x="272994" y="475753"/>
                  <a:pt x="278295" y="516835"/>
                </a:cubicBezTo>
                <a:cubicBezTo>
                  <a:pt x="283596" y="557917"/>
                  <a:pt x="290223" y="575145"/>
                  <a:pt x="286247" y="588397"/>
                </a:cubicBezTo>
                <a:cubicBezTo>
                  <a:pt x="282271" y="601649"/>
                  <a:pt x="263718" y="584421"/>
                  <a:pt x="254441" y="596348"/>
                </a:cubicBezTo>
                <a:cubicBezTo>
                  <a:pt x="245164" y="608275"/>
                  <a:pt x="234563" y="645382"/>
                  <a:pt x="230587" y="659959"/>
                </a:cubicBezTo>
                <a:cubicBezTo>
                  <a:pt x="226611" y="674537"/>
                  <a:pt x="233237" y="679837"/>
                  <a:pt x="230587" y="683813"/>
                </a:cubicBezTo>
                <a:cubicBezTo>
                  <a:pt x="227937" y="687789"/>
                  <a:pt x="219986" y="685138"/>
                  <a:pt x="214685" y="683813"/>
                </a:cubicBezTo>
                <a:cubicBezTo>
                  <a:pt x="209384" y="682488"/>
                  <a:pt x="202758" y="659959"/>
                  <a:pt x="198782" y="675861"/>
                </a:cubicBezTo>
                <a:cubicBezTo>
                  <a:pt x="194806" y="691763"/>
                  <a:pt x="210709" y="754049"/>
                  <a:pt x="190831" y="779228"/>
                </a:cubicBezTo>
                <a:cubicBezTo>
                  <a:pt x="170953" y="804407"/>
                  <a:pt x="111318" y="818985"/>
                  <a:pt x="79513" y="826936"/>
                </a:cubicBezTo>
                <a:cubicBezTo>
                  <a:pt x="47708" y="834887"/>
                  <a:pt x="23854" y="830911"/>
                  <a:pt x="0" y="826936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任意多边形 30"/>
          <p:cNvSpPr/>
          <p:nvPr/>
        </p:nvSpPr>
        <p:spPr>
          <a:xfrm>
            <a:off x="6927840" y="2257560"/>
            <a:ext cx="139680" cy="210960"/>
          </a:xfrm>
          <a:custGeom>
            <a:avLst/>
            <a:gdLst/>
            <a:ahLst/>
            <a:rect l="l" t="t" r="r" b="b"/>
            <a:pathLst>
              <a:path w="138676" h="210182">
                <a:moveTo>
                  <a:pt x="0" y="30336"/>
                </a:moveTo>
                <a:cubicBezTo>
                  <a:pt x="13362" y="59227"/>
                  <a:pt x="26724" y="88118"/>
                  <a:pt x="43336" y="117009"/>
                </a:cubicBezTo>
                <a:cubicBezTo>
                  <a:pt x="59948" y="145900"/>
                  <a:pt x="87395" y="210182"/>
                  <a:pt x="99674" y="203682"/>
                </a:cubicBezTo>
                <a:cubicBezTo>
                  <a:pt x="111953" y="197182"/>
                  <a:pt x="110508" y="111953"/>
                  <a:pt x="117008" y="78006"/>
                </a:cubicBezTo>
                <a:cubicBezTo>
                  <a:pt x="123508" y="44059"/>
                  <a:pt x="131092" y="22029"/>
                  <a:pt x="138676" y="0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18"/>
          <p:cNvSpPr/>
          <p:nvPr/>
        </p:nvSpPr>
        <p:spPr>
          <a:xfrm>
            <a:off x="357120" y="91764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是</a:t>
            </a: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表现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想要传达的信息的手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19"/>
          <p:cNvSpPr/>
          <p:nvPr/>
        </p:nvSpPr>
        <p:spPr>
          <a:xfrm>
            <a:off x="357120" y="200016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无论内容的选择还是动作的设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20"/>
          <p:cNvSpPr/>
          <p:nvPr/>
        </p:nvSpPr>
        <p:spPr>
          <a:xfrm>
            <a:off x="1071720" y="261936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都应以强化表达的效果为出发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23"/>
          <p:cNvSpPr/>
          <p:nvPr/>
        </p:nvSpPr>
        <p:spPr>
          <a:xfrm>
            <a:off x="357120" y="3714840"/>
            <a:ext cx="4286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所以</a:t>
            </a:r>
            <a:r>
              <a:rPr b="0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">
    <p:fade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nodeType="clickEffect" fill="hold">
                      <p:stCondLst>
                        <p:cond delay="0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0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3" dur="3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9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5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2" presetSubtype="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8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22" presetSubtype="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1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9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5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8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970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2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976" nodeType="afterEffect" fill="hold" presetClass="entr" presetID="1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8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2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nodeType="afterEffect" fill="hold">
                            <p:stCondLst>
                              <p:cond delay="12300"/>
                            </p:stCondLst>
                            <p:childTnLst>
                              <p:par>
                                <p:cTn id="984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nodeType="withEffect" fill="hold" presetClass="exit" presetID="10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8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0" nodeType="withEffect" fill="hold" presetClass="exit" presetID="10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9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nodeType="afterEffect" fill="hold">
                            <p:stCondLst>
                              <p:cond delay="14300"/>
                            </p:stCondLst>
                            <p:childTnLst>
                              <p:par>
                                <p:cTn id="9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任意多边形 2"/>
          <p:cNvSpPr/>
          <p:nvPr/>
        </p:nvSpPr>
        <p:spPr>
          <a:xfrm>
            <a:off x="500040" y="1324080"/>
            <a:ext cx="814320" cy="5213160"/>
          </a:xfrm>
          <a:custGeom>
            <a:avLst/>
            <a:gdLst/>
            <a:ahLst/>
            <a:rect l="l" t="t" r="r" b="b"/>
            <a:pathLst>
              <a:path w="814316" h="5213445">
                <a:moveTo>
                  <a:pt x="814316" y="0"/>
                </a:moveTo>
                <a:cubicBezTo>
                  <a:pt x="742665" y="15922"/>
                  <a:pt x="671015" y="31845"/>
                  <a:pt x="609600" y="68239"/>
                </a:cubicBezTo>
                <a:cubicBezTo>
                  <a:pt x="548185" y="104633"/>
                  <a:pt x="484496" y="161498"/>
                  <a:pt x="445827" y="218364"/>
                </a:cubicBezTo>
                <a:cubicBezTo>
                  <a:pt x="407158" y="275230"/>
                  <a:pt x="388961" y="338920"/>
                  <a:pt x="377588" y="409433"/>
                </a:cubicBezTo>
                <a:cubicBezTo>
                  <a:pt x="366215" y="479946"/>
                  <a:pt x="375313" y="550460"/>
                  <a:pt x="377588" y="641445"/>
                </a:cubicBezTo>
                <a:cubicBezTo>
                  <a:pt x="379863" y="732430"/>
                  <a:pt x="379863" y="859809"/>
                  <a:pt x="391236" y="955343"/>
                </a:cubicBezTo>
                <a:cubicBezTo>
                  <a:pt x="402609" y="1050877"/>
                  <a:pt x="429905" y="1150962"/>
                  <a:pt x="445827" y="1214651"/>
                </a:cubicBezTo>
                <a:cubicBezTo>
                  <a:pt x="461749" y="1278341"/>
                  <a:pt x="511791" y="1312459"/>
                  <a:pt x="486770" y="1337480"/>
                </a:cubicBezTo>
                <a:cubicBezTo>
                  <a:pt x="461749" y="1362501"/>
                  <a:pt x="354841" y="1339755"/>
                  <a:pt x="295701" y="1364776"/>
                </a:cubicBezTo>
                <a:cubicBezTo>
                  <a:pt x="236561" y="1389797"/>
                  <a:pt x="177421" y="1428466"/>
                  <a:pt x="131928" y="1487606"/>
                </a:cubicBezTo>
                <a:cubicBezTo>
                  <a:pt x="86436" y="1546746"/>
                  <a:pt x="43218" y="1635457"/>
                  <a:pt x="22746" y="1719618"/>
                </a:cubicBezTo>
                <a:cubicBezTo>
                  <a:pt x="2274" y="1803779"/>
                  <a:pt x="0" y="1906137"/>
                  <a:pt x="9098" y="1992573"/>
                </a:cubicBezTo>
                <a:cubicBezTo>
                  <a:pt x="18196" y="2079009"/>
                  <a:pt x="63689" y="2165445"/>
                  <a:pt x="77337" y="2238233"/>
                </a:cubicBezTo>
                <a:cubicBezTo>
                  <a:pt x="90985" y="2311021"/>
                  <a:pt x="84161" y="2379259"/>
                  <a:pt x="90985" y="2429301"/>
                </a:cubicBezTo>
                <a:cubicBezTo>
                  <a:pt x="97809" y="2479343"/>
                  <a:pt x="106907" y="2461146"/>
                  <a:pt x="118280" y="2538483"/>
                </a:cubicBezTo>
                <a:cubicBezTo>
                  <a:pt x="129653" y="2615820"/>
                  <a:pt x="145576" y="2811438"/>
                  <a:pt x="159224" y="2893325"/>
                </a:cubicBezTo>
                <a:cubicBezTo>
                  <a:pt x="172872" y="2975212"/>
                  <a:pt x="186519" y="2975212"/>
                  <a:pt x="200167" y="3029803"/>
                </a:cubicBezTo>
                <a:cubicBezTo>
                  <a:pt x="213815" y="3084394"/>
                  <a:pt x="229737" y="3170829"/>
                  <a:pt x="241110" y="3220871"/>
                </a:cubicBezTo>
                <a:cubicBezTo>
                  <a:pt x="252483" y="3270913"/>
                  <a:pt x="257033" y="3282287"/>
                  <a:pt x="268406" y="3330054"/>
                </a:cubicBezTo>
                <a:cubicBezTo>
                  <a:pt x="279779" y="3377821"/>
                  <a:pt x="293427" y="3466531"/>
                  <a:pt x="309349" y="3507474"/>
                </a:cubicBezTo>
                <a:cubicBezTo>
                  <a:pt x="325271" y="3548417"/>
                  <a:pt x="348018" y="3500650"/>
                  <a:pt x="363940" y="3575713"/>
                </a:cubicBezTo>
                <a:cubicBezTo>
                  <a:pt x="379862" y="3650776"/>
                  <a:pt x="386686" y="3832747"/>
                  <a:pt x="404883" y="3957851"/>
                </a:cubicBezTo>
                <a:cubicBezTo>
                  <a:pt x="423080" y="4082955"/>
                  <a:pt x="427629" y="4217158"/>
                  <a:pt x="473122" y="4326340"/>
                </a:cubicBezTo>
                <a:cubicBezTo>
                  <a:pt x="518615" y="4435522"/>
                  <a:pt x="650544" y="4553803"/>
                  <a:pt x="677839" y="4612943"/>
                </a:cubicBezTo>
                <a:cubicBezTo>
                  <a:pt x="705135" y="4672083"/>
                  <a:pt x="643719" y="4644788"/>
                  <a:pt x="636895" y="4681182"/>
                </a:cubicBezTo>
                <a:cubicBezTo>
                  <a:pt x="630071" y="4717576"/>
                  <a:pt x="652817" y="4794913"/>
                  <a:pt x="636895" y="4831307"/>
                </a:cubicBezTo>
                <a:cubicBezTo>
                  <a:pt x="620973" y="4867701"/>
                  <a:pt x="573206" y="4835856"/>
                  <a:pt x="541361" y="4899546"/>
                </a:cubicBezTo>
                <a:cubicBezTo>
                  <a:pt x="509516" y="4963236"/>
                  <a:pt x="355131" y="5135045"/>
                  <a:pt x="445827" y="5213445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任意多边形 3"/>
          <p:cNvSpPr/>
          <p:nvPr/>
        </p:nvSpPr>
        <p:spPr>
          <a:xfrm>
            <a:off x="905040" y="5527800"/>
            <a:ext cx="728640" cy="1079280"/>
          </a:xfrm>
          <a:custGeom>
            <a:avLst/>
            <a:gdLst/>
            <a:ahLst/>
            <a:rect l="l" t="t" r="r" b="b"/>
            <a:pathLst>
              <a:path w="727881" h="1080448">
                <a:moveTo>
                  <a:pt x="0" y="996287"/>
                </a:moveTo>
                <a:cubicBezTo>
                  <a:pt x="50042" y="1038367"/>
                  <a:pt x="100084" y="1080448"/>
                  <a:pt x="177421" y="1037230"/>
                </a:cubicBezTo>
                <a:cubicBezTo>
                  <a:pt x="254758" y="994012"/>
                  <a:pt x="386687" y="805218"/>
                  <a:pt x="464024" y="736979"/>
                </a:cubicBezTo>
                <a:cubicBezTo>
                  <a:pt x="541361" y="668740"/>
                  <a:pt x="598227" y="684663"/>
                  <a:pt x="641445" y="627797"/>
                </a:cubicBezTo>
                <a:cubicBezTo>
                  <a:pt x="684663" y="570931"/>
                  <a:pt x="718783" y="459474"/>
                  <a:pt x="723332" y="395785"/>
                </a:cubicBezTo>
                <a:cubicBezTo>
                  <a:pt x="727881" y="332096"/>
                  <a:pt x="677839" y="311624"/>
                  <a:pt x="668741" y="245660"/>
                </a:cubicBezTo>
                <a:cubicBezTo>
                  <a:pt x="659643" y="179696"/>
                  <a:pt x="664192" y="89848"/>
                  <a:pt x="668741" y="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任意多边形 4"/>
          <p:cNvSpPr/>
          <p:nvPr/>
        </p:nvSpPr>
        <p:spPr>
          <a:xfrm>
            <a:off x="1546200" y="5513400"/>
            <a:ext cx="519120" cy="1023840"/>
          </a:xfrm>
          <a:custGeom>
            <a:avLst/>
            <a:gdLst/>
            <a:ahLst/>
            <a:rect l="l" t="t" r="r" b="b"/>
            <a:pathLst>
              <a:path w="518615" h="1023582">
                <a:moveTo>
                  <a:pt x="0" y="0"/>
                </a:moveTo>
                <a:cubicBezTo>
                  <a:pt x="80749" y="59140"/>
                  <a:pt x="161499" y="118280"/>
                  <a:pt x="191069" y="191068"/>
                </a:cubicBezTo>
                <a:cubicBezTo>
                  <a:pt x="220639" y="263856"/>
                  <a:pt x="168323" y="379862"/>
                  <a:pt x="177421" y="436728"/>
                </a:cubicBezTo>
                <a:cubicBezTo>
                  <a:pt x="186519" y="493594"/>
                  <a:pt x="220639" y="500417"/>
                  <a:pt x="245660" y="532262"/>
                </a:cubicBezTo>
                <a:cubicBezTo>
                  <a:pt x="270681" y="564107"/>
                  <a:pt x="309350" y="561833"/>
                  <a:pt x="327547" y="627797"/>
                </a:cubicBezTo>
                <a:cubicBezTo>
                  <a:pt x="345744" y="693761"/>
                  <a:pt x="322997" y="862083"/>
                  <a:pt x="354842" y="928047"/>
                </a:cubicBezTo>
                <a:cubicBezTo>
                  <a:pt x="386687" y="994011"/>
                  <a:pt x="518615" y="1023582"/>
                  <a:pt x="518615" y="102358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任意多边形 5"/>
          <p:cNvSpPr/>
          <p:nvPr/>
        </p:nvSpPr>
        <p:spPr>
          <a:xfrm>
            <a:off x="2065320" y="873000"/>
            <a:ext cx="1835280" cy="5650200"/>
          </a:xfrm>
          <a:custGeom>
            <a:avLst/>
            <a:gdLst/>
            <a:ahLst/>
            <a:rect l="l" t="t" r="r" b="b"/>
            <a:pathLst>
              <a:path w="1835623" h="5650174">
                <a:moveTo>
                  <a:pt x="0" y="5650174"/>
                </a:moveTo>
                <a:cubicBezTo>
                  <a:pt x="32982" y="5625153"/>
                  <a:pt x="65964" y="5600132"/>
                  <a:pt x="68239" y="5527344"/>
                </a:cubicBezTo>
                <a:cubicBezTo>
                  <a:pt x="70514" y="5454556"/>
                  <a:pt x="9099" y="5304430"/>
                  <a:pt x="13648" y="5213445"/>
                </a:cubicBezTo>
                <a:cubicBezTo>
                  <a:pt x="18197" y="5122460"/>
                  <a:pt x="88711" y="5049673"/>
                  <a:pt x="95535" y="4981434"/>
                </a:cubicBezTo>
                <a:cubicBezTo>
                  <a:pt x="102359" y="4913195"/>
                  <a:pt x="59140" y="4854055"/>
                  <a:pt x="54591" y="4804013"/>
                </a:cubicBezTo>
                <a:cubicBezTo>
                  <a:pt x="50042" y="4753971"/>
                  <a:pt x="50042" y="4722126"/>
                  <a:pt x="68239" y="4681183"/>
                </a:cubicBezTo>
                <a:cubicBezTo>
                  <a:pt x="86436" y="4640240"/>
                  <a:pt x="152400" y="4601571"/>
                  <a:pt x="163773" y="4558353"/>
                </a:cubicBezTo>
                <a:cubicBezTo>
                  <a:pt x="175146" y="4515135"/>
                  <a:pt x="129654" y="4487839"/>
                  <a:pt x="136478" y="4421875"/>
                </a:cubicBezTo>
                <a:cubicBezTo>
                  <a:pt x="143302" y="4355911"/>
                  <a:pt x="211541" y="4289947"/>
                  <a:pt x="204717" y="4162568"/>
                </a:cubicBezTo>
                <a:cubicBezTo>
                  <a:pt x="197893" y="4035189"/>
                  <a:pt x="102359" y="3794079"/>
                  <a:pt x="95535" y="3657601"/>
                </a:cubicBezTo>
                <a:cubicBezTo>
                  <a:pt x="88711" y="3521123"/>
                  <a:pt x="141027" y="3423314"/>
                  <a:pt x="163773" y="3343702"/>
                </a:cubicBezTo>
                <a:cubicBezTo>
                  <a:pt x="186519" y="3264090"/>
                  <a:pt x="213815" y="3239069"/>
                  <a:pt x="232012" y="3179929"/>
                </a:cubicBezTo>
                <a:cubicBezTo>
                  <a:pt x="250209" y="3120789"/>
                  <a:pt x="247934" y="3020705"/>
                  <a:pt x="272955" y="2988860"/>
                </a:cubicBezTo>
                <a:cubicBezTo>
                  <a:pt x="297976" y="2957015"/>
                  <a:pt x="332095" y="2979762"/>
                  <a:pt x="382137" y="2988860"/>
                </a:cubicBezTo>
                <a:cubicBezTo>
                  <a:pt x="432179" y="2997959"/>
                  <a:pt x="504967" y="3043451"/>
                  <a:pt x="573206" y="3043451"/>
                </a:cubicBezTo>
                <a:cubicBezTo>
                  <a:pt x="641445" y="3043451"/>
                  <a:pt x="716507" y="2997959"/>
                  <a:pt x="791570" y="2988860"/>
                </a:cubicBezTo>
                <a:cubicBezTo>
                  <a:pt x="866633" y="2979762"/>
                  <a:pt x="946245" y="3013881"/>
                  <a:pt x="1023582" y="2988860"/>
                </a:cubicBezTo>
                <a:cubicBezTo>
                  <a:pt x="1100919" y="2963839"/>
                  <a:pt x="1189630" y="2872854"/>
                  <a:pt x="1255594" y="2838735"/>
                </a:cubicBezTo>
                <a:cubicBezTo>
                  <a:pt x="1321558" y="2804616"/>
                  <a:pt x="1364776" y="2836460"/>
                  <a:pt x="1419367" y="2784144"/>
                </a:cubicBezTo>
                <a:cubicBezTo>
                  <a:pt x="1473958" y="2731828"/>
                  <a:pt x="1537647" y="2590801"/>
                  <a:pt x="1583140" y="2524837"/>
                </a:cubicBezTo>
                <a:cubicBezTo>
                  <a:pt x="1628633" y="2458873"/>
                  <a:pt x="1653654" y="2431577"/>
                  <a:pt x="1692323" y="2388359"/>
                </a:cubicBezTo>
                <a:cubicBezTo>
                  <a:pt x="1730992" y="2345141"/>
                  <a:pt x="1794681" y="2306472"/>
                  <a:pt x="1815152" y="2265529"/>
                </a:cubicBezTo>
                <a:cubicBezTo>
                  <a:pt x="1835623" y="2224586"/>
                  <a:pt x="1821976" y="2183642"/>
                  <a:pt x="1815152" y="2142699"/>
                </a:cubicBezTo>
                <a:cubicBezTo>
                  <a:pt x="1808328" y="2101756"/>
                  <a:pt x="1778758" y="2079009"/>
                  <a:pt x="1774209" y="2019869"/>
                </a:cubicBezTo>
                <a:cubicBezTo>
                  <a:pt x="1769660" y="1960729"/>
                  <a:pt x="1792406" y="1851546"/>
                  <a:pt x="1787857" y="1787857"/>
                </a:cubicBezTo>
                <a:cubicBezTo>
                  <a:pt x="1783308" y="1724168"/>
                  <a:pt x="1765111" y="1696872"/>
                  <a:pt x="1746914" y="1637732"/>
                </a:cubicBezTo>
                <a:cubicBezTo>
                  <a:pt x="1728717" y="1578592"/>
                  <a:pt x="1692323" y="1496706"/>
                  <a:pt x="1678675" y="1433016"/>
                </a:cubicBezTo>
                <a:cubicBezTo>
                  <a:pt x="1665027" y="1369326"/>
                  <a:pt x="1696872" y="1323834"/>
                  <a:pt x="1665027" y="1255595"/>
                </a:cubicBezTo>
                <a:cubicBezTo>
                  <a:pt x="1633182" y="1187356"/>
                  <a:pt x="1530824" y="1069076"/>
                  <a:pt x="1487606" y="1023583"/>
                </a:cubicBezTo>
                <a:cubicBezTo>
                  <a:pt x="1444388" y="978091"/>
                  <a:pt x="1433015" y="1012210"/>
                  <a:pt x="1405720" y="982640"/>
                </a:cubicBezTo>
                <a:cubicBezTo>
                  <a:pt x="1378425" y="953070"/>
                  <a:pt x="1355678" y="907577"/>
                  <a:pt x="1323833" y="846162"/>
                </a:cubicBezTo>
                <a:cubicBezTo>
                  <a:pt x="1291988" y="784747"/>
                  <a:pt x="1235123" y="725607"/>
                  <a:pt x="1214651" y="614150"/>
                </a:cubicBezTo>
                <a:cubicBezTo>
                  <a:pt x="1194179" y="502693"/>
                  <a:pt x="1214651" y="275231"/>
                  <a:pt x="1201003" y="177422"/>
                </a:cubicBezTo>
                <a:cubicBezTo>
                  <a:pt x="1187355" y="79613"/>
                  <a:pt x="1153236" y="54592"/>
                  <a:pt x="1132764" y="27296"/>
                </a:cubicBezTo>
                <a:cubicBezTo>
                  <a:pt x="1112292" y="0"/>
                  <a:pt x="1095232" y="6824"/>
                  <a:pt x="1078173" y="13648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任意多边形 8"/>
          <p:cNvSpPr/>
          <p:nvPr/>
        </p:nvSpPr>
        <p:spPr>
          <a:xfrm>
            <a:off x="2543040" y="878040"/>
            <a:ext cx="627120" cy="2154240"/>
          </a:xfrm>
          <a:custGeom>
            <a:avLst/>
            <a:gdLst/>
            <a:ahLst/>
            <a:rect l="l" t="t" r="r" b="b"/>
            <a:pathLst>
              <a:path w="627797" h="2154071">
                <a:moveTo>
                  <a:pt x="627797" y="9098"/>
                </a:moveTo>
                <a:cubicBezTo>
                  <a:pt x="580029" y="4549"/>
                  <a:pt x="532262" y="0"/>
                  <a:pt x="491319" y="63690"/>
                </a:cubicBezTo>
                <a:cubicBezTo>
                  <a:pt x="450376" y="127380"/>
                  <a:pt x="386686" y="284329"/>
                  <a:pt x="382137" y="391236"/>
                </a:cubicBezTo>
                <a:cubicBezTo>
                  <a:pt x="377588" y="498143"/>
                  <a:pt x="441278" y="602776"/>
                  <a:pt x="464024" y="705134"/>
                </a:cubicBezTo>
                <a:cubicBezTo>
                  <a:pt x="486770" y="807492"/>
                  <a:pt x="520890" y="948520"/>
                  <a:pt x="518615" y="1005385"/>
                </a:cubicBezTo>
                <a:cubicBezTo>
                  <a:pt x="516340" y="1062250"/>
                  <a:pt x="516340" y="1023582"/>
                  <a:pt x="450376" y="1046328"/>
                </a:cubicBezTo>
                <a:cubicBezTo>
                  <a:pt x="384412" y="1069074"/>
                  <a:pt x="195618" y="1094096"/>
                  <a:pt x="122830" y="1141863"/>
                </a:cubicBezTo>
                <a:cubicBezTo>
                  <a:pt x="50042" y="1189630"/>
                  <a:pt x="18197" y="1276065"/>
                  <a:pt x="13648" y="1332931"/>
                </a:cubicBezTo>
                <a:cubicBezTo>
                  <a:pt x="9099" y="1389797"/>
                  <a:pt x="95534" y="1433015"/>
                  <a:pt x="95534" y="1483057"/>
                </a:cubicBezTo>
                <a:cubicBezTo>
                  <a:pt x="95534" y="1533099"/>
                  <a:pt x="27296" y="1585415"/>
                  <a:pt x="13648" y="1633182"/>
                </a:cubicBezTo>
                <a:cubicBezTo>
                  <a:pt x="0" y="1680949"/>
                  <a:pt x="0" y="1730991"/>
                  <a:pt x="13648" y="1769660"/>
                </a:cubicBezTo>
                <a:cubicBezTo>
                  <a:pt x="27296" y="1808329"/>
                  <a:pt x="93260" y="1837899"/>
                  <a:pt x="95534" y="1865194"/>
                </a:cubicBezTo>
                <a:cubicBezTo>
                  <a:pt x="97809" y="1892490"/>
                  <a:pt x="34119" y="1890215"/>
                  <a:pt x="27295" y="1933433"/>
                </a:cubicBezTo>
                <a:cubicBezTo>
                  <a:pt x="20471" y="1976651"/>
                  <a:pt x="50042" y="2094931"/>
                  <a:pt x="54591" y="2124501"/>
                </a:cubicBezTo>
                <a:cubicBezTo>
                  <a:pt x="59140" y="2154071"/>
                  <a:pt x="56865" y="2132462"/>
                  <a:pt x="54591" y="211085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任意多边形 9"/>
          <p:cNvSpPr/>
          <p:nvPr/>
        </p:nvSpPr>
        <p:spPr>
          <a:xfrm>
            <a:off x="1287360" y="1324080"/>
            <a:ext cx="1309680" cy="1712880"/>
          </a:xfrm>
          <a:custGeom>
            <a:avLst/>
            <a:gdLst/>
            <a:ahLst/>
            <a:rect l="l" t="t" r="r" b="b"/>
            <a:pathLst>
              <a:path w="1310185" h="1712794">
                <a:moveTo>
                  <a:pt x="1310185" y="1678674"/>
                </a:moveTo>
                <a:cubicBezTo>
                  <a:pt x="1293125" y="1695734"/>
                  <a:pt x="1276066" y="1712794"/>
                  <a:pt x="1255594" y="1705970"/>
                </a:cubicBezTo>
                <a:cubicBezTo>
                  <a:pt x="1235122" y="1699146"/>
                  <a:pt x="1216925" y="1669576"/>
                  <a:pt x="1187355" y="1637731"/>
                </a:cubicBezTo>
                <a:cubicBezTo>
                  <a:pt x="1157785" y="1605886"/>
                  <a:pt x="1116842" y="1546746"/>
                  <a:pt x="1078173" y="1514901"/>
                </a:cubicBezTo>
                <a:cubicBezTo>
                  <a:pt x="1039504" y="1483056"/>
                  <a:pt x="991737" y="1462585"/>
                  <a:pt x="955343" y="1446663"/>
                </a:cubicBezTo>
                <a:cubicBezTo>
                  <a:pt x="918949" y="1430741"/>
                  <a:pt x="889379" y="1437564"/>
                  <a:pt x="859809" y="1419367"/>
                </a:cubicBezTo>
                <a:cubicBezTo>
                  <a:pt x="830239" y="1401170"/>
                  <a:pt x="834788" y="1355677"/>
                  <a:pt x="777922" y="1337480"/>
                </a:cubicBezTo>
                <a:cubicBezTo>
                  <a:pt x="721056" y="1319283"/>
                  <a:pt x="580030" y="1321558"/>
                  <a:pt x="518615" y="1310185"/>
                </a:cubicBezTo>
                <a:cubicBezTo>
                  <a:pt x="457200" y="1298812"/>
                  <a:pt x="429905" y="1280615"/>
                  <a:pt x="409433" y="1269242"/>
                </a:cubicBezTo>
                <a:cubicBezTo>
                  <a:pt x="388961" y="1257869"/>
                  <a:pt x="391236" y="1280615"/>
                  <a:pt x="395785" y="1241946"/>
                </a:cubicBezTo>
                <a:cubicBezTo>
                  <a:pt x="400334" y="1203277"/>
                  <a:pt x="416256" y="1075899"/>
                  <a:pt x="436728" y="1037230"/>
                </a:cubicBezTo>
                <a:cubicBezTo>
                  <a:pt x="457200" y="998561"/>
                  <a:pt x="498143" y="1032680"/>
                  <a:pt x="518615" y="1009934"/>
                </a:cubicBezTo>
                <a:cubicBezTo>
                  <a:pt x="539087" y="987188"/>
                  <a:pt x="545910" y="941695"/>
                  <a:pt x="559558" y="900752"/>
                </a:cubicBezTo>
                <a:cubicBezTo>
                  <a:pt x="573206" y="859809"/>
                  <a:pt x="600501" y="805217"/>
                  <a:pt x="600501" y="764274"/>
                </a:cubicBezTo>
                <a:cubicBezTo>
                  <a:pt x="600501" y="723331"/>
                  <a:pt x="568657" y="673289"/>
                  <a:pt x="559558" y="655092"/>
                </a:cubicBezTo>
                <a:cubicBezTo>
                  <a:pt x="550460" y="636895"/>
                  <a:pt x="548185" y="693761"/>
                  <a:pt x="545910" y="655092"/>
                </a:cubicBezTo>
                <a:cubicBezTo>
                  <a:pt x="543635" y="616423"/>
                  <a:pt x="573206" y="509516"/>
                  <a:pt x="545910" y="423080"/>
                </a:cubicBezTo>
                <a:cubicBezTo>
                  <a:pt x="518615" y="336644"/>
                  <a:pt x="473122" y="206990"/>
                  <a:pt x="382137" y="136477"/>
                </a:cubicBezTo>
                <a:cubicBezTo>
                  <a:pt x="291152" y="65964"/>
                  <a:pt x="145576" y="32982"/>
                  <a:pt x="0" y="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7"/>
          <p:cNvSpPr/>
          <p:nvPr/>
        </p:nvSpPr>
        <p:spPr>
          <a:xfrm>
            <a:off x="7215120" y="1913040"/>
            <a:ext cx="1785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创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矩形 10"/>
          <p:cNvSpPr/>
          <p:nvPr/>
        </p:nvSpPr>
        <p:spPr>
          <a:xfrm>
            <a:off x="4316400" y="24051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精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矩形 11"/>
          <p:cNvSpPr/>
          <p:nvPr/>
        </p:nvSpPr>
        <p:spPr>
          <a:xfrm>
            <a:off x="6878160" y="23716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12"/>
          <p:cNvSpPr/>
          <p:nvPr/>
        </p:nvSpPr>
        <p:spPr>
          <a:xfrm>
            <a:off x="5259240" y="1941480"/>
            <a:ext cx="1785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13"/>
          <p:cNvSpPr/>
          <p:nvPr/>
        </p:nvSpPr>
        <p:spPr>
          <a:xfrm>
            <a:off x="4143240" y="3270240"/>
            <a:ext cx="492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打造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最出色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幻灯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nodeType="clickEffect" fill="hold">
                      <p:stCondLst>
                        <p:cond delay="0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3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3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3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2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3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6" dur="3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3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9" name="组合 104"/>
          <p:cNvGrpSpPr/>
          <p:nvPr/>
        </p:nvGrpSpPr>
        <p:grpSpPr>
          <a:xfrm>
            <a:off x="500040" y="-1300320"/>
            <a:ext cx="3286080" cy="9528480"/>
            <a:chOff x="500040" y="-1300320"/>
            <a:chExt cx="3286080" cy="9528480"/>
          </a:xfrm>
        </p:grpSpPr>
        <p:sp>
          <p:nvSpPr>
            <p:cNvPr id="530" name="矩形 2"/>
            <p:cNvSpPr/>
            <p:nvPr/>
          </p:nvSpPr>
          <p:spPr>
            <a:xfrm>
              <a:off x="500040" y="-142920"/>
              <a:ext cx="3286080" cy="71442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1" name="组合 37"/>
            <p:cNvGrpSpPr/>
            <p:nvPr/>
          </p:nvGrpSpPr>
          <p:grpSpPr>
            <a:xfrm>
              <a:off x="635400" y="-348120"/>
              <a:ext cx="198000" cy="7540920"/>
              <a:chOff x="635400" y="-348120"/>
              <a:chExt cx="198000" cy="7540920"/>
            </a:xfrm>
          </p:grpSpPr>
          <p:grpSp>
            <p:nvGrpSpPr>
              <p:cNvPr id="532" name="组合 18"/>
              <p:cNvGrpSpPr/>
              <p:nvPr/>
            </p:nvGrpSpPr>
            <p:grpSpPr>
              <a:xfrm>
                <a:off x="635400" y="-348120"/>
                <a:ext cx="198000" cy="2396160"/>
                <a:chOff x="635400" y="-348120"/>
                <a:chExt cx="198000" cy="2396160"/>
              </a:xfrm>
            </p:grpSpPr>
            <p:sp>
              <p:nvSpPr>
                <p:cNvPr id="533" name="圆角矩形 4"/>
                <p:cNvSpPr/>
                <p:nvPr/>
              </p:nvSpPr>
              <p:spPr>
                <a:xfrm>
                  <a:off x="635400" y="938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圆角矩形 5"/>
                <p:cNvSpPr/>
                <p:nvPr/>
              </p:nvSpPr>
              <p:spPr>
                <a:xfrm>
                  <a:off x="635400" y="126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圆角矩形 8"/>
                <p:cNvSpPr/>
                <p:nvPr/>
              </p:nvSpPr>
              <p:spPr>
                <a:xfrm>
                  <a:off x="635400" y="1581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圆角矩形 9"/>
                <p:cNvSpPr/>
                <p:nvPr/>
              </p:nvSpPr>
              <p:spPr>
                <a:xfrm>
                  <a:off x="635400" y="1903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圆角矩形 16"/>
                <p:cNvSpPr/>
                <p:nvPr/>
              </p:nvSpPr>
              <p:spPr>
                <a:xfrm>
                  <a:off x="635400" y="-34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圆角矩形 17"/>
                <p:cNvSpPr/>
                <p:nvPr/>
              </p:nvSpPr>
              <p:spPr>
                <a:xfrm>
                  <a:off x="635400" y="-2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圆角矩形 14"/>
                <p:cNvSpPr/>
                <p:nvPr/>
              </p:nvSpPr>
              <p:spPr>
                <a:xfrm>
                  <a:off x="635400" y="294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圆角矩形 15"/>
                <p:cNvSpPr/>
                <p:nvPr/>
              </p:nvSpPr>
              <p:spPr>
                <a:xfrm>
                  <a:off x="635400" y="617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1" name="组合 19"/>
              <p:cNvGrpSpPr/>
              <p:nvPr/>
            </p:nvGrpSpPr>
            <p:grpSpPr>
              <a:xfrm>
                <a:off x="635400" y="2224080"/>
                <a:ext cx="198000" cy="2396160"/>
                <a:chOff x="635400" y="2224080"/>
                <a:chExt cx="198000" cy="2396160"/>
              </a:xfrm>
            </p:grpSpPr>
            <p:sp>
              <p:nvSpPr>
                <p:cNvPr id="542" name="圆角矩形 20"/>
                <p:cNvSpPr/>
                <p:nvPr/>
              </p:nvSpPr>
              <p:spPr>
                <a:xfrm>
                  <a:off x="635400" y="351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圆角矩形 21"/>
                <p:cNvSpPr/>
                <p:nvPr/>
              </p:nvSpPr>
              <p:spPr>
                <a:xfrm>
                  <a:off x="635400" y="383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圆角矩形 22"/>
                <p:cNvSpPr/>
                <p:nvPr/>
              </p:nvSpPr>
              <p:spPr>
                <a:xfrm>
                  <a:off x="635400" y="4153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圆角矩形 23"/>
                <p:cNvSpPr/>
                <p:nvPr/>
              </p:nvSpPr>
              <p:spPr>
                <a:xfrm>
                  <a:off x="635400" y="4475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圆角矩形 24"/>
                <p:cNvSpPr/>
                <p:nvPr/>
              </p:nvSpPr>
              <p:spPr>
                <a:xfrm>
                  <a:off x="635400" y="22240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圆角矩形 25"/>
                <p:cNvSpPr/>
                <p:nvPr/>
              </p:nvSpPr>
              <p:spPr>
                <a:xfrm>
                  <a:off x="635400" y="25462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圆角矩形 26"/>
                <p:cNvSpPr/>
                <p:nvPr/>
              </p:nvSpPr>
              <p:spPr>
                <a:xfrm>
                  <a:off x="635400" y="2867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圆角矩形 27"/>
                <p:cNvSpPr/>
                <p:nvPr/>
              </p:nvSpPr>
              <p:spPr>
                <a:xfrm>
                  <a:off x="635400" y="3189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0" name="组合 28"/>
              <p:cNvGrpSpPr/>
              <p:nvPr/>
            </p:nvGrpSpPr>
            <p:grpSpPr>
              <a:xfrm>
                <a:off x="635400" y="4796640"/>
                <a:ext cx="198000" cy="2396160"/>
                <a:chOff x="635400" y="4796640"/>
                <a:chExt cx="198000" cy="2396160"/>
              </a:xfrm>
            </p:grpSpPr>
            <p:sp>
              <p:nvSpPr>
                <p:cNvPr id="551" name="圆角矩形 29"/>
                <p:cNvSpPr/>
                <p:nvPr/>
              </p:nvSpPr>
              <p:spPr>
                <a:xfrm>
                  <a:off x="635400" y="6082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圆角矩形 30"/>
                <p:cNvSpPr/>
                <p:nvPr/>
              </p:nvSpPr>
              <p:spPr>
                <a:xfrm>
                  <a:off x="635400" y="6405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圆角矩形 31"/>
                <p:cNvSpPr/>
                <p:nvPr/>
              </p:nvSpPr>
              <p:spPr>
                <a:xfrm>
                  <a:off x="635400" y="6726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圆角矩形 32"/>
                <p:cNvSpPr/>
                <p:nvPr/>
              </p:nvSpPr>
              <p:spPr>
                <a:xfrm>
                  <a:off x="635400" y="7048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圆角矩形 33"/>
                <p:cNvSpPr/>
                <p:nvPr/>
              </p:nvSpPr>
              <p:spPr>
                <a:xfrm>
                  <a:off x="635400" y="47966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圆角矩形 34"/>
                <p:cNvSpPr/>
                <p:nvPr/>
              </p:nvSpPr>
              <p:spPr>
                <a:xfrm>
                  <a:off x="635400" y="5118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圆角矩形 35"/>
                <p:cNvSpPr/>
                <p:nvPr/>
              </p:nvSpPr>
              <p:spPr>
                <a:xfrm>
                  <a:off x="635400" y="5439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圆角矩形 36"/>
                <p:cNvSpPr/>
                <p:nvPr/>
              </p:nvSpPr>
              <p:spPr>
                <a:xfrm>
                  <a:off x="635400" y="5762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9" name="组合 66"/>
            <p:cNvGrpSpPr/>
            <p:nvPr/>
          </p:nvGrpSpPr>
          <p:grpSpPr>
            <a:xfrm>
              <a:off x="3445560" y="-349560"/>
              <a:ext cx="198000" cy="7540920"/>
              <a:chOff x="3445560" y="-349560"/>
              <a:chExt cx="198000" cy="7540920"/>
            </a:xfrm>
          </p:grpSpPr>
          <p:grpSp>
            <p:nvGrpSpPr>
              <p:cNvPr id="560" name="组合 18"/>
              <p:cNvGrpSpPr/>
              <p:nvPr/>
            </p:nvGrpSpPr>
            <p:grpSpPr>
              <a:xfrm>
                <a:off x="3445560" y="-349560"/>
                <a:ext cx="198000" cy="2396160"/>
                <a:chOff x="3445560" y="-349560"/>
                <a:chExt cx="198000" cy="2396160"/>
              </a:xfrm>
            </p:grpSpPr>
            <p:sp>
              <p:nvSpPr>
                <p:cNvPr id="561" name="圆角矩形 4"/>
                <p:cNvSpPr/>
                <p:nvPr/>
              </p:nvSpPr>
              <p:spPr>
                <a:xfrm>
                  <a:off x="3445560" y="9367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圆角矩形 87"/>
                <p:cNvSpPr/>
                <p:nvPr/>
              </p:nvSpPr>
              <p:spPr>
                <a:xfrm>
                  <a:off x="3445560" y="1258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圆角矩形 88"/>
                <p:cNvSpPr/>
                <p:nvPr/>
              </p:nvSpPr>
              <p:spPr>
                <a:xfrm>
                  <a:off x="3445560" y="1580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圆角矩形 89"/>
                <p:cNvSpPr/>
                <p:nvPr/>
              </p:nvSpPr>
              <p:spPr>
                <a:xfrm>
                  <a:off x="3445560" y="1902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圆角矩形 90"/>
                <p:cNvSpPr/>
                <p:nvPr/>
              </p:nvSpPr>
              <p:spPr>
                <a:xfrm>
                  <a:off x="3445560" y="-349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圆角矩形 91"/>
                <p:cNvSpPr/>
                <p:nvPr/>
              </p:nvSpPr>
              <p:spPr>
                <a:xfrm>
                  <a:off x="3445560" y="-270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圆角矩形 92"/>
                <p:cNvSpPr/>
                <p:nvPr/>
              </p:nvSpPr>
              <p:spPr>
                <a:xfrm>
                  <a:off x="3445560" y="293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圆角矩形 93"/>
                <p:cNvSpPr/>
                <p:nvPr/>
              </p:nvSpPr>
              <p:spPr>
                <a:xfrm>
                  <a:off x="3445560" y="6159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9" name="组合 19"/>
              <p:cNvGrpSpPr/>
              <p:nvPr/>
            </p:nvGrpSpPr>
            <p:grpSpPr>
              <a:xfrm>
                <a:off x="3445560" y="2222640"/>
                <a:ext cx="198000" cy="2396160"/>
                <a:chOff x="3445560" y="2222640"/>
                <a:chExt cx="198000" cy="2396160"/>
              </a:xfrm>
            </p:grpSpPr>
            <p:sp>
              <p:nvSpPr>
                <p:cNvPr id="570" name="圆角矩形 78"/>
                <p:cNvSpPr/>
                <p:nvPr/>
              </p:nvSpPr>
              <p:spPr>
                <a:xfrm>
                  <a:off x="3445560" y="3507120"/>
                  <a:ext cx="198000" cy="1422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圆角矩形 79"/>
                <p:cNvSpPr/>
                <p:nvPr/>
              </p:nvSpPr>
              <p:spPr>
                <a:xfrm>
                  <a:off x="3445560" y="383328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圆角矩形 80"/>
                <p:cNvSpPr/>
                <p:nvPr/>
              </p:nvSpPr>
              <p:spPr>
                <a:xfrm>
                  <a:off x="3445560" y="41533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圆角矩形 81"/>
                <p:cNvSpPr/>
                <p:nvPr/>
              </p:nvSpPr>
              <p:spPr>
                <a:xfrm>
                  <a:off x="3445560" y="447480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圆角矩形 82"/>
                <p:cNvSpPr/>
                <p:nvPr/>
              </p:nvSpPr>
              <p:spPr>
                <a:xfrm>
                  <a:off x="3445560" y="222264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圆角矩形 83"/>
                <p:cNvSpPr/>
                <p:nvPr/>
              </p:nvSpPr>
              <p:spPr>
                <a:xfrm>
                  <a:off x="3445560" y="25441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圆角矩形 84"/>
                <p:cNvSpPr/>
                <p:nvPr/>
              </p:nvSpPr>
              <p:spPr>
                <a:xfrm>
                  <a:off x="3445560" y="286380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圆角矩形 85"/>
                <p:cNvSpPr/>
                <p:nvPr/>
              </p:nvSpPr>
              <p:spPr>
                <a:xfrm>
                  <a:off x="3445560" y="3187080"/>
                  <a:ext cx="198000" cy="1422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8" name="组合 28"/>
              <p:cNvGrpSpPr/>
              <p:nvPr/>
            </p:nvGrpSpPr>
            <p:grpSpPr>
              <a:xfrm>
                <a:off x="3445560" y="4795200"/>
                <a:ext cx="198000" cy="2396160"/>
                <a:chOff x="3445560" y="4795200"/>
                <a:chExt cx="198000" cy="2396160"/>
              </a:xfrm>
            </p:grpSpPr>
            <p:sp>
              <p:nvSpPr>
                <p:cNvPr id="579" name="圆角矩形 70"/>
                <p:cNvSpPr/>
                <p:nvPr/>
              </p:nvSpPr>
              <p:spPr>
                <a:xfrm>
                  <a:off x="3445560" y="6084000"/>
                  <a:ext cx="198000" cy="1447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圆角矩形 71"/>
                <p:cNvSpPr/>
                <p:nvPr/>
              </p:nvSpPr>
              <p:spPr>
                <a:xfrm>
                  <a:off x="3445560" y="6406920"/>
                  <a:ext cx="198000" cy="1447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圆角矩形 72"/>
                <p:cNvSpPr/>
                <p:nvPr/>
              </p:nvSpPr>
              <p:spPr>
                <a:xfrm>
                  <a:off x="3445560" y="6728400"/>
                  <a:ext cx="198000" cy="1447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圆角矩形 73"/>
                <p:cNvSpPr/>
                <p:nvPr/>
              </p:nvSpPr>
              <p:spPr>
                <a:xfrm>
                  <a:off x="3445560" y="7051680"/>
                  <a:ext cx="198000" cy="13968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圆角矩形 74"/>
                <p:cNvSpPr/>
                <p:nvPr/>
              </p:nvSpPr>
              <p:spPr>
                <a:xfrm>
                  <a:off x="3445560" y="4795200"/>
                  <a:ext cx="198000" cy="1447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圆角矩形 75"/>
                <p:cNvSpPr/>
                <p:nvPr/>
              </p:nvSpPr>
              <p:spPr>
                <a:xfrm>
                  <a:off x="3445560" y="5118120"/>
                  <a:ext cx="198000" cy="1447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圆角矩形 76"/>
                <p:cNvSpPr/>
                <p:nvPr/>
              </p:nvSpPr>
              <p:spPr>
                <a:xfrm>
                  <a:off x="3445560" y="5439600"/>
                  <a:ext cx="198000" cy="1447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圆角矩形 77"/>
                <p:cNvSpPr/>
                <p:nvPr/>
              </p:nvSpPr>
              <p:spPr>
                <a:xfrm>
                  <a:off x="3445560" y="5762520"/>
                  <a:ext cx="198000" cy="1447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87" name="圆角矩形 94"/>
            <p:cNvSpPr/>
            <p:nvPr/>
          </p:nvSpPr>
          <p:spPr>
            <a:xfrm>
              <a:off x="928440" y="658440"/>
              <a:ext cx="2428920" cy="172872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圆角矩形 95"/>
            <p:cNvSpPr/>
            <p:nvPr/>
          </p:nvSpPr>
          <p:spPr>
            <a:xfrm>
              <a:off x="928440" y="2593800"/>
              <a:ext cx="2428920" cy="172872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圆角矩形 96"/>
            <p:cNvSpPr/>
            <p:nvPr/>
          </p:nvSpPr>
          <p:spPr>
            <a:xfrm>
              <a:off x="928440" y="4546800"/>
              <a:ext cx="2428920" cy="172872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圆角矩形 97"/>
            <p:cNvSpPr/>
            <p:nvPr/>
          </p:nvSpPr>
          <p:spPr>
            <a:xfrm>
              <a:off x="928440" y="6499440"/>
              <a:ext cx="2428920" cy="172872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圆角矩形 98"/>
            <p:cNvSpPr/>
            <p:nvPr/>
          </p:nvSpPr>
          <p:spPr>
            <a:xfrm>
              <a:off x="928440" y="-1300320"/>
              <a:ext cx="2428920" cy="172872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TextBox 99"/>
          <p:cNvSpPr/>
          <p:nvPr/>
        </p:nvSpPr>
        <p:spPr>
          <a:xfrm rot="21051000">
            <a:off x="797400" y="93996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Box 101"/>
          <p:cNvSpPr/>
          <p:nvPr/>
        </p:nvSpPr>
        <p:spPr>
          <a:xfrm rot="614400">
            <a:off x="767520" y="496404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直接连接符 105"/>
          <p:cNvSpPr/>
          <p:nvPr/>
        </p:nvSpPr>
        <p:spPr>
          <a:xfrm>
            <a:off x="928800" y="3451320"/>
            <a:ext cx="2519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直接连接符 109"/>
          <p:cNvSpPr/>
          <p:nvPr/>
        </p:nvSpPr>
        <p:spPr>
          <a:xfrm>
            <a:off x="2142360" y="2595600"/>
            <a:ext cx="1800" cy="172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组合 114"/>
          <p:cNvGrpSpPr/>
          <p:nvPr/>
        </p:nvGrpSpPr>
        <p:grpSpPr>
          <a:xfrm>
            <a:off x="1397160" y="2714760"/>
            <a:ext cx="1500120" cy="1500120"/>
            <a:chOff x="1397160" y="2714760"/>
            <a:chExt cx="1500120" cy="1500120"/>
          </a:xfrm>
        </p:grpSpPr>
        <p:sp>
          <p:nvSpPr>
            <p:cNvPr id="597" name="同心圆 112"/>
            <p:cNvSpPr/>
            <p:nvPr/>
          </p:nvSpPr>
          <p:spPr>
            <a:xfrm>
              <a:off x="1397160" y="2714760"/>
              <a:ext cx="1500120" cy="1500120"/>
            </a:xfrm>
            <a:custGeom>
              <a:avLst/>
              <a:gdLst/>
              <a:ahLst/>
              <a:rect l="l" t="t" r="r" b="b"/>
              <a:pathLst>
                <a:path w="1500198" h="1500198">
                  <a:moveTo>
                    <a:pt x="0" y="750099"/>
                  </a:moveTo>
                  <a:cubicBezTo>
                    <a:pt x="0" y="335831"/>
                    <a:pt x="335831" y="0"/>
                    <a:pt x="750099" y="0"/>
                  </a:cubicBezTo>
                  <a:cubicBezTo>
                    <a:pt x="1164367" y="0"/>
                    <a:pt x="1500198" y="335831"/>
                    <a:pt x="1500198" y="750099"/>
                  </a:cubicBezTo>
                  <a:cubicBezTo>
                    <a:pt x="1500198" y="1164367"/>
                    <a:pt x="1164367" y="1500198"/>
                    <a:pt x="750099" y="1500198"/>
                  </a:cubicBezTo>
                  <a:cubicBezTo>
                    <a:pt x="335831" y="1500198"/>
                    <a:pt x="0" y="1164367"/>
                    <a:pt x="0" y="750099"/>
                  </a:cubicBezTo>
                  <a:close/>
                  <a:moveTo>
                    <a:pt x="103994" y="750099"/>
                  </a:moveTo>
                  <a:cubicBezTo>
                    <a:pt x="103994" y="1106933"/>
                    <a:pt x="393265" y="1396204"/>
                    <a:pt x="750099" y="1396204"/>
                  </a:cubicBezTo>
                  <a:cubicBezTo>
                    <a:pt x="1106933" y="1396204"/>
                    <a:pt x="1396204" y="1106933"/>
                    <a:pt x="1396204" y="750099"/>
                  </a:cubicBezTo>
                  <a:cubicBezTo>
                    <a:pt x="1396204" y="393265"/>
                    <a:pt x="1106933" y="103994"/>
                    <a:pt x="750099" y="103994"/>
                  </a:cubicBezTo>
                  <a:cubicBezTo>
                    <a:pt x="393265" y="103994"/>
                    <a:pt x="103994" y="393265"/>
                    <a:pt x="103994" y="750099"/>
                  </a:cubicBezTo>
                  <a:close/>
                </a:path>
              </a:pathLst>
            </a:custGeom>
            <a:solidFill>
              <a:srgbClr val="0079c5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8" name="椭圆 113"/>
            <p:cNvGrpSpPr/>
            <p:nvPr/>
          </p:nvGrpSpPr>
          <p:grpSpPr>
            <a:xfrm>
              <a:off x="1505880" y="2816280"/>
              <a:ext cx="1286280" cy="1286280"/>
              <a:chOff x="1505880" y="2816280"/>
              <a:chExt cx="1286280" cy="1286280"/>
            </a:xfrm>
          </p:grpSpPr>
          <p:pic>
            <p:nvPicPr>
              <p:cNvPr id="599" name="椭圆 1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505880" y="2816280"/>
                <a:ext cx="1286280" cy="128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0" name="Text Box 73"/>
              <p:cNvSpPr/>
              <p:nvPr/>
            </p:nvSpPr>
            <p:spPr>
              <a:xfrm>
                <a:off x="1696680" y="3005640"/>
                <a:ext cx="909360" cy="9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1" name="圆角矩形 115"/>
          <p:cNvSpPr/>
          <p:nvPr/>
        </p:nvSpPr>
        <p:spPr>
          <a:xfrm>
            <a:off x="944640" y="2603520"/>
            <a:ext cx="2428920" cy="1727280"/>
          </a:xfrm>
          <a:prstGeom prst="roundRect">
            <a:avLst>
              <a:gd name="adj" fmla="val 6477"/>
            </a:avLst>
          </a:prstGeom>
          <a:solidFill>
            <a:srgbClr val="0079c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Box 116"/>
          <p:cNvSpPr/>
          <p:nvPr/>
        </p:nvSpPr>
        <p:spPr>
          <a:xfrm>
            <a:off x="1706400" y="2643120"/>
            <a:ext cx="17859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任意多边形 108"/>
          <p:cNvSpPr/>
          <p:nvPr/>
        </p:nvSpPr>
        <p:spPr>
          <a:xfrm>
            <a:off x="6624720" y="3786120"/>
            <a:ext cx="2519280" cy="4680"/>
          </a:xfrm>
          <a:custGeom>
            <a:avLst/>
            <a:gdLst/>
            <a:ahLst/>
            <a:rect l="l" t="t" r="r" b="b"/>
            <a:pathLst>
              <a:path w="2585545" h="4762">
                <a:moveTo>
                  <a:pt x="0" y="0"/>
                </a:moveTo>
                <a:lnTo>
                  <a:pt x="2585545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Box 110"/>
          <p:cNvSpPr/>
          <p:nvPr/>
        </p:nvSpPr>
        <p:spPr>
          <a:xfrm>
            <a:off x="6564240" y="31035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选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nodeType="clickEffect" fill="hold">
                      <p:stCondLst>
                        <p:cond delay="0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052" nodeType="afterEffect" fill="hold" presetClass="entr" presetID="16" presetSubtype="2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54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7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10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3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065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2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2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2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2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074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8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3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5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1087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9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1093" nodeType="afterEffect" fill="hold" presetClass="exit" presetID="21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094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任意多边形 32"/>
          <p:cNvSpPr/>
          <p:nvPr/>
        </p:nvSpPr>
        <p:spPr>
          <a:xfrm>
            <a:off x="468360" y="5297400"/>
            <a:ext cx="146160" cy="123840"/>
          </a:xfrm>
          <a:custGeom>
            <a:avLst/>
            <a:gdLst/>
            <a:ahLst/>
            <a:rect l="l" t="t" r="r" b="b"/>
            <a:pathLst>
              <a:path w="146304" h="124358">
                <a:moveTo>
                  <a:pt x="0" y="0"/>
                </a:moveTo>
                <a:lnTo>
                  <a:pt x="146304" y="124358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任意多边形 33"/>
          <p:cNvSpPr/>
          <p:nvPr/>
        </p:nvSpPr>
        <p:spPr>
          <a:xfrm>
            <a:off x="511200" y="5692680"/>
            <a:ext cx="204840" cy="131760"/>
          </a:xfrm>
          <a:custGeom>
            <a:avLst/>
            <a:gdLst/>
            <a:ahLst/>
            <a:rect l="l" t="t" r="r" b="b"/>
            <a:pathLst>
              <a:path w="204826" h="131674">
                <a:moveTo>
                  <a:pt x="0" y="0"/>
                </a:moveTo>
                <a:lnTo>
                  <a:pt x="204826" y="131674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任意多边形 35"/>
          <p:cNvSpPr/>
          <p:nvPr/>
        </p:nvSpPr>
        <p:spPr>
          <a:xfrm>
            <a:off x="798480" y="6021360"/>
            <a:ext cx="241200" cy="120600"/>
          </a:xfrm>
          <a:custGeom>
            <a:avLst/>
            <a:gdLst/>
            <a:ahLst/>
            <a:rect l="l" t="t" r="r" b="b"/>
            <a:pathLst>
              <a:path w="241300" h="120650">
                <a:moveTo>
                  <a:pt x="0" y="0"/>
                </a:moveTo>
                <a:lnTo>
                  <a:pt x="203200" y="120650"/>
                </a:lnTo>
                <a:lnTo>
                  <a:pt x="241300" y="8255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任意多边形 36"/>
          <p:cNvSpPr/>
          <p:nvPr/>
        </p:nvSpPr>
        <p:spPr>
          <a:xfrm>
            <a:off x="1147680" y="6173640"/>
            <a:ext cx="355680" cy="146160"/>
          </a:xfrm>
          <a:custGeom>
            <a:avLst/>
            <a:gdLst/>
            <a:ahLst/>
            <a:rect l="l" t="t" r="r" b="b"/>
            <a:pathLst>
              <a:path w="355600" h="146050">
                <a:moveTo>
                  <a:pt x="0" y="31750"/>
                </a:moveTo>
                <a:lnTo>
                  <a:pt x="234950" y="146050"/>
                </a:lnTo>
                <a:lnTo>
                  <a:pt x="35560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任意多边形 38"/>
          <p:cNvSpPr/>
          <p:nvPr/>
        </p:nvSpPr>
        <p:spPr>
          <a:xfrm>
            <a:off x="1535040" y="6230880"/>
            <a:ext cx="343080" cy="120600"/>
          </a:xfrm>
          <a:custGeom>
            <a:avLst/>
            <a:gdLst/>
            <a:ahLst/>
            <a:rect l="l" t="t" r="r" b="b"/>
            <a:pathLst>
              <a:path w="342900" h="120650">
                <a:moveTo>
                  <a:pt x="0" y="0"/>
                </a:moveTo>
                <a:lnTo>
                  <a:pt x="171450" y="120650"/>
                </a:lnTo>
                <a:lnTo>
                  <a:pt x="342900" y="9525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任意多边形 39"/>
          <p:cNvSpPr/>
          <p:nvPr/>
        </p:nvSpPr>
        <p:spPr>
          <a:xfrm>
            <a:off x="1712880" y="6192720"/>
            <a:ext cx="177840" cy="127080"/>
          </a:xfrm>
          <a:custGeom>
            <a:avLst/>
            <a:gdLst/>
            <a:ahLst/>
            <a:rect l="l" t="t" r="r" b="b"/>
            <a:pathLst>
              <a:path w="177800" h="127000">
                <a:moveTo>
                  <a:pt x="0" y="0"/>
                </a:moveTo>
                <a:lnTo>
                  <a:pt x="0" y="0"/>
                </a:lnTo>
                <a:lnTo>
                  <a:pt x="177800" y="12700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任意多边形 41"/>
          <p:cNvSpPr/>
          <p:nvPr/>
        </p:nvSpPr>
        <p:spPr>
          <a:xfrm>
            <a:off x="1890720" y="6122880"/>
            <a:ext cx="120600" cy="196920"/>
          </a:xfrm>
          <a:custGeom>
            <a:avLst/>
            <a:gdLst/>
            <a:ahLst/>
            <a:rect l="l" t="t" r="r" b="b"/>
            <a:pathLst>
              <a:path w="120650" h="196850">
                <a:moveTo>
                  <a:pt x="0" y="196850"/>
                </a:moveTo>
                <a:lnTo>
                  <a:pt x="50800" y="25400"/>
                </a:lnTo>
                <a:lnTo>
                  <a:pt x="120650" y="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任意多边形 42"/>
          <p:cNvSpPr/>
          <p:nvPr/>
        </p:nvSpPr>
        <p:spPr>
          <a:xfrm>
            <a:off x="1776240" y="6014880"/>
            <a:ext cx="171720" cy="139680"/>
          </a:xfrm>
          <a:custGeom>
            <a:avLst/>
            <a:gdLst/>
            <a:ahLst/>
            <a:rect l="l" t="t" r="r" b="b"/>
            <a:pathLst>
              <a:path w="171450" h="139700">
                <a:moveTo>
                  <a:pt x="0" y="0"/>
                </a:moveTo>
                <a:lnTo>
                  <a:pt x="171450" y="13970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任意多边形 43"/>
          <p:cNvSpPr/>
          <p:nvPr/>
        </p:nvSpPr>
        <p:spPr>
          <a:xfrm>
            <a:off x="1992240" y="6103800"/>
            <a:ext cx="317520" cy="127080"/>
          </a:xfrm>
          <a:custGeom>
            <a:avLst/>
            <a:gdLst/>
            <a:ahLst/>
            <a:rect l="l" t="t" r="r" b="b"/>
            <a:pathLst>
              <a:path w="317500" h="127000">
                <a:moveTo>
                  <a:pt x="0" y="0"/>
                </a:moveTo>
                <a:lnTo>
                  <a:pt x="184150" y="127000"/>
                </a:lnTo>
                <a:lnTo>
                  <a:pt x="317500" y="8255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任意多边形 45"/>
          <p:cNvSpPr/>
          <p:nvPr/>
        </p:nvSpPr>
        <p:spPr>
          <a:xfrm>
            <a:off x="2106720" y="6046920"/>
            <a:ext cx="190440" cy="139680"/>
          </a:xfrm>
          <a:custGeom>
            <a:avLst/>
            <a:gdLst/>
            <a:ahLst/>
            <a:rect l="l" t="t" r="r" b="b"/>
            <a:pathLst>
              <a:path w="190500" h="139700">
                <a:moveTo>
                  <a:pt x="0" y="0"/>
                </a:moveTo>
                <a:lnTo>
                  <a:pt x="190500" y="13970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任意多边形 46"/>
          <p:cNvSpPr/>
          <p:nvPr/>
        </p:nvSpPr>
        <p:spPr>
          <a:xfrm>
            <a:off x="2297160" y="4687920"/>
            <a:ext cx="711000" cy="1511280"/>
          </a:xfrm>
          <a:custGeom>
            <a:avLst/>
            <a:gdLst/>
            <a:ahLst/>
            <a:rect l="l" t="t" r="r" b="b"/>
            <a:pathLst>
              <a:path w="711200" h="1511300">
                <a:moveTo>
                  <a:pt x="0" y="1511300"/>
                </a:moveTo>
                <a:lnTo>
                  <a:pt x="31750" y="1282700"/>
                </a:lnTo>
                <a:lnTo>
                  <a:pt x="152400" y="1168400"/>
                </a:lnTo>
                <a:lnTo>
                  <a:pt x="342900" y="1206500"/>
                </a:lnTo>
                <a:lnTo>
                  <a:pt x="457200" y="1098550"/>
                </a:lnTo>
                <a:lnTo>
                  <a:pt x="469900" y="1079500"/>
                </a:lnTo>
                <a:lnTo>
                  <a:pt x="374650" y="933450"/>
                </a:lnTo>
                <a:lnTo>
                  <a:pt x="368300" y="927100"/>
                </a:lnTo>
                <a:lnTo>
                  <a:pt x="431800" y="819150"/>
                </a:lnTo>
                <a:lnTo>
                  <a:pt x="609600" y="768350"/>
                </a:lnTo>
                <a:lnTo>
                  <a:pt x="673100" y="635000"/>
                </a:lnTo>
                <a:lnTo>
                  <a:pt x="520700" y="457200"/>
                </a:lnTo>
                <a:lnTo>
                  <a:pt x="698500" y="323850"/>
                </a:lnTo>
                <a:lnTo>
                  <a:pt x="711200" y="203200"/>
                </a:lnTo>
                <a:lnTo>
                  <a:pt x="55245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任意多边形 47"/>
          <p:cNvSpPr/>
          <p:nvPr/>
        </p:nvSpPr>
        <p:spPr>
          <a:xfrm>
            <a:off x="2157480" y="5843520"/>
            <a:ext cx="177840" cy="133560"/>
          </a:xfrm>
          <a:custGeom>
            <a:avLst/>
            <a:gdLst/>
            <a:ahLst/>
            <a:rect l="l" t="t" r="r" b="b"/>
            <a:pathLst>
              <a:path w="177800" h="133350">
                <a:moveTo>
                  <a:pt x="0" y="0"/>
                </a:moveTo>
                <a:lnTo>
                  <a:pt x="177800" y="13335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任意多边形 49"/>
          <p:cNvSpPr/>
          <p:nvPr/>
        </p:nvSpPr>
        <p:spPr>
          <a:xfrm>
            <a:off x="2303640" y="5722920"/>
            <a:ext cx="145800" cy="133200"/>
          </a:xfrm>
          <a:custGeom>
            <a:avLst/>
            <a:gdLst/>
            <a:ahLst/>
            <a:rect l="l" t="t" r="r" b="b"/>
            <a:pathLst>
              <a:path w="146050" h="133350">
                <a:moveTo>
                  <a:pt x="0" y="0"/>
                </a:moveTo>
                <a:lnTo>
                  <a:pt x="146050" y="13335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任意多边形 50"/>
          <p:cNvSpPr/>
          <p:nvPr/>
        </p:nvSpPr>
        <p:spPr>
          <a:xfrm>
            <a:off x="2462040" y="5748480"/>
            <a:ext cx="184320" cy="152280"/>
          </a:xfrm>
          <a:custGeom>
            <a:avLst/>
            <a:gdLst/>
            <a:ahLst/>
            <a:rect l="l" t="t" r="r" b="b"/>
            <a:pathLst>
              <a:path w="184150" h="152400">
                <a:moveTo>
                  <a:pt x="0" y="0"/>
                </a:moveTo>
                <a:lnTo>
                  <a:pt x="184150" y="15240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任意多边形 51"/>
          <p:cNvSpPr/>
          <p:nvPr/>
        </p:nvSpPr>
        <p:spPr>
          <a:xfrm>
            <a:off x="2595600" y="5614920"/>
            <a:ext cx="177840" cy="171360"/>
          </a:xfrm>
          <a:custGeom>
            <a:avLst/>
            <a:gdLst/>
            <a:ahLst/>
            <a:rect l="l" t="t" r="r" b="b"/>
            <a:pathLst>
              <a:path w="177800" h="171450">
                <a:moveTo>
                  <a:pt x="0" y="0"/>
                </a:moveTo>
                <a:lnTo>
                  <a:pt x="177800" y="17145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任意多边形 52"/>
          <p:cNvSpPr/>
          <p:nvPr/>
        </p:nvSpPr>
        <p:spPr>
          <a:xfrm>
            <a:off x="2513160" y="5475240"/>
            <a:ext cx="171360" cy="165240"/>
          </a:xfrm>
          <a:custGeom>
            <a:avLst/>
            <a:gdLst/>
            <a:ahLst/>
            <a:rect l="l" t="t" r="r" b="b"/>
            <a:pathLst>
              <a:path w="171450" h="165100">
                <a:moveTo>
                  <a:pt x="0" y="0"/>
                </a:moveTo>
                <a:lnTo>
                  <a:pt x="171450" y="16510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任意多边形 53"/>
          <p:cNvSpPr/>
          <p:nvPr/>
        </p:nvSpPr>
        <p:spPr>
          <a:xfrm>
            <a:off x="2583000" y="5348160"/>
            <a:ext cx="145800" cy="171720"/>
          </a:xfrm>
          <a:custGeom>
            <a:avLst/>
            <a:gdLst/>
            <a:ahLst/>
            <a:rect l="l" t="t" r="r" b="b"/>
            <a:pathLst>
              <a:path w="146050" h="171450">
                <a:moveTo>
                  <a:pt x="0" y="0"/>
                </a:moveTo>
                <a:lnTo>
                  <a:pt x="146050" y="17145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任意多边形 54"/>
          <p:cNvSpPr/>
          <p:nvPr/>
        </p:nvSpPr>
        <p:spPr>
          <a:xfrm>
            <a:off x="2747880" y="5291280"/>
            <a:ext cx="171360" cy="164880"/>
          </a:xfrm>
          <a:custGeom>
            <a:avLst/>
            <a:gdLst/>
            <a:ahLst/>
            <a:rect l="l" t="t" r="r" b="b"/>
            <a:pathLst>
              <a:path w="171450" h="165100">
                <a:moveTo>
                  <a:pt x="0" y="0"/>
                </a:moveTo>
                <a:lnTo>
                  <a:pt x="171450" y="16510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任意多边形 55"/>
          <p:cNvSpPr/>
          <p:nvPr/>
        </p:nvSpPr>
        <p:spPr>
          <a:xfrm>
            <a:off x="2690640" y="4935600"/>
            <a:ext cx="165240" cy="203040"/>
          </a:xfrm>
          <a:custGeom>
            <a:avLst/>
            <a:gdLst/>
            <a:ahLst/>
            <a:rect l="l" t="t" r="r" b="b"/>
            <a:pathLst>
              <a:path w="165100" h="203200">
                <a:moveTo>
                  <a:pt x="0" y="0"/>
                </a:moveTo>
                <a:lnTo>
                  <a:pt x="165100" y="20320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任意多边形 56"/>
          <p:cNvSpPr/>
          <p:nvPr/>
        </p:nvSpPr>
        <p:spPr>
          <a:xfrm>
            <a:off x="2830680" y="4834080"/>
            <a:ext cx="164880" cy="177480"/>
          </a:xfrm>
          <a:custGeom>
            <a:avLst/>
            <a:gdLst/>
            <a:ahLst/>
            <a:rect l="l" t="t" r="r" b="b"/>
            <a:pathLst>
              <a:path w="165100" h="177800">
                <a:moveTo>
                  <a:pt x="0" y="0"/>
                </a:moveTo>
                <a:lnTo>
                  <a:pt x="165100" y="17780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任意多边形 57"/>
          <p:cNvSpPr/>
          <p:nvPr/>
        </p:nvSpPr>
        <p:spPr>
          <a:xfrm>
            <a:off x="2087640" y="3894120"/>
            <a:ext cx="164880" cy="177840"/>
          </a:xfrm>
          <a:custGeom>
            <a:avLst/>
            <a:gdLst/>
            <a:ahLst/>
            <a:rect l="l" t="t" r="r" b="b"/>
            <a:pathLst>
              <a:path w="165100" h="177800">
                <a:moveTo>
                  <a:pt x="0" y="0"/>
                </a:moveTo>
                <a:lnTo>
                  <a:pt x="165100" y="17780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任意多边形 58"/>
          <p:cNvSpPr/>
          <p:nvPr/>
        </p:nvSpPr>
        <p:spPr>
          <a:xfrm>
            <a:off x="2475000" y="4071960"/>
            <a:ext cx="95040" cy="108000"/>
          </a:xfrm>
          <a:custGeom>
            <a:avLst/>
            <a:gdLst/>
            <a:ahLst/>
            <a:rect l="l" t="t" r="r" b="b"/>
            <a:pathLst>
              <a:path w="95250" h="107950">
                <a:moveTo>
                  <a:pt x="0" y="0"/>
                </a:moveTo>
                <a:lnTo>
                  <a:pt x="95250" y="10795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任意多边形 59"/>
          <p:cNvSpPr/>
          <p:nvPr/>
        </p:nvSpPr>
        <p:spPr>
          <a:xfrm>
            <a:off x="2792520" y="4605480"/>
            <a:ext cx="69840" cy="75960"/>
          </a:xfrm>
          <a:custGeom>
            <a:avLst/>
            <a:gdLst/>
            <a:ahLst/>
            <a:rect l="l" t="t" r="r" b="b"/>
            <a:pathLst>
              <a:path w="69850" h="76200">
                <a:moveTo>
                  <a:pt x="0" y="76200"/>
                </a:moveTo>
                <a:lnTo>
                  <a:pt x="69850" y="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任意多边形 60"/>
          <p:cNvSpPr/>
          <p:nvPr/>
        </p:nvSpPr>
        <p:spPr>
          <a:xfrm>
            <a:off x="1198440" y="4616280"/>
            <a:ext cx="808200" cy="765360"/>
          </a:xfrm>
          <a:custGeom>
            <a:avLst/>
            <a:gdLst/>
            <a:ahLst/>
            <a:rect l="l" t="t" r="r" b="b"/>
            <a:pathLst>
              <a:path w="807508" h="765175">
                <a:moveTo>
                  <a:pt x="50800" y="268817"/>
                </a:moveTo>
                <a:cubicBezTo>
                  <a:pt x="66675" y="242359"/>
                  <a:pt x="88900" y="201084"/>
                  <a:pt x="120650" y="167217"/>
                </a:cubicBezTo>
                <a:cubicBezTo>
                  <a:pt x="152400" y="133350"/>
                  <a:pt x="197909" y="91017"/>
                  <a:pt x="241300" y="65617"/>
                </a:cubicBezTo>
                <a:cubicBezTo>
                  <a:pt x="284691" y="40217"/>
                  <a:pt x="334433" y="25400"/>
                  <a:pt x="381000" y="14817"/>
                </a:cubicBezTo>
                <a:cubicBezTo>
                  <a:pt x="427567" y="4234"/>
                  <a:pt x="480483" y="0"/>
                  <a:pt x="520700" y="2117"/>
                </a:cubicBezTo>
                <a:cubicBezTo>
                  <a:pt x="560917" y="4234"/>
                  <a:pt x="594783" y="17992"/>
                  <a:pt x="622300" y="27517"/>
                </a:cubicBezTo>
                <a:cubicBezTo>
                  <a:pt x="649817" y="37042"/>
                  <a:pt x="663575" y="43392"/>
                  <a:pt x="685800" y="59267"/>
                </a:cubicBezTo>
                <a:cubicBezTo>
                  <a:pt x="708025" y="75142"/>
                  <a:pt x="736600" y="96309"/>
                  <a:pt x="755650" y="122767"/>
                </a:cubicBezTo>
                <a:cubicBezTo>
                  <a:pt x="774700" y="149225"/>
                  <a:pt x="793750" y="176742"/>
                  <a:pt x="800100" y="218017"/>
                </a:cubicBezTo>
                <a:cubicBezTo>
                  <a:pt x="806450" y="259292"/>
                  <a:pt x="807508" y="317500"/>
                  <a:pt x="793750" y="370417"/>
                </a:cubicBezTo>
                <a:cubicBezTo>
                  <a:pt x="779992" y="423334"/>
                  <a:pt x="748242" y="488950"/>
                  <a:pt x="717550" y="535517"/>
                </a:cubicBezTo>
                <a:cubicBezTo>
                  <a:pt x="686858" y="582084"/>
                  <a:pt x="643467" y="620184"/>
                  <a:pt x="609600" y="649817"/>
                </a:cubicBezTo>
                <a:cubicBezTo>
                  <a:pt x="575733" y="679450"/>
                  <a:pt x="550333" y="695325"/>
                  <a:pt x="514350" y="713317"/>
                </a:cubicBezTo>
                <a:cubicBezTo>
                  <a:pt x="478367" y="731309"/>
                  <a:pt x="441325" y="750359"/>
                  <a:pt x="393700" y="757767"/>
                </a:cubicBezTo>
                <a:cubicBezTo>
                  <a:pt x="346075" y="765175"/>
                  <a:pt x="276225" y="764117"/>
                  <a:pt x="228600" y="757767"/>
                </a:cubicBezTo>
                <a:cubicBezTo>
                  <a:pt x="180975" y="751417"/>
                  <a:pt x="141817" y="742950"/>
                  <a:pt x="107950" y="719667"/>
                </a:cubicBezTo>
                <a:cubicBezTo>
                  <a:pt x="74083" y="696384"/>
                  <a:pt x="43392" y="663575"/>
                  <a:pt x="25400" y="618067"/>
                </a:cubicBezTo>
                <a:cubicBezTo>
                  <a:pt x="7408" y="572559"/>
                  <a:pt x="0" y="495300"/>
                  <a:pt x="0" y="446617"/>
                </a:cubicBezTo>
                <a:cubicBezTo>
                  <a:pt x="0" y="397934"/>
                  <a:pt x="15875" y="358775"/>
                  <a:pt x="25400" y="325967"/>
                </a:cubicBezTo>
                <a:cubicBezTo>
                  <a:pt x="34925" y="293159"/>
                  <a:pt x="34925" y="295275"/>
                  <a:pt x="50800" y="268817"/>
                </a:cubicBezTo>
                <a:close/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任意多边形 62"/>
          <p:cNvSpPr/>
          <p:nvPr/>
        </p:nvSpPr>
        <p:spPr>
          <a:xfrm>
            <a:off x="1363680" y="4788000"/>
            <a:ext cx="622440" cy="573120"/>
          </a:xfrm>
          <a:custGeom>
            <a:avLst/>
            <a:gdLst/>
            <a:ahLst/>
            <a:rect l="l" t="t" r="r" b="b"/>
            <a:pathLst>
              <a:path w="622300" h="572558">
                <a:moveTo>
                  <a:pt x="19050" y="572558"/>
                </a:moveTo>
                <a:cubicBezTo>
                  <a:pt x="9525" y="545041"/>
                  <a:pt x="0" y="517525"/>
                  <a:pt x="0" y="477308"/>
                </a:cubicBezTo>
                <a:cubicBezTo>
                  <a:pt x="0" y="437091"/>
                  <a:pt x="2117" y="382058"/>
                  <a:pt x="19050" y="331258"/>
                </a:cubicBezTo>
                <a:cubicBezTo>
                  <a:pt x="35983" y="280458"/>
                  <a:pt x="64558" y="219075"/>
                  <a:pt x="101600" y="172508"/>
                </a:cubicBezTo>
                <a:cubicBezTo>
                  <a:pt x="138642" y="125941"/>
                  <a:pt x="189442" y="79375"/>
                  <a:pt x="241300" y="51858"/>
                </a:cubicBezTo>
                <a:cubicBezTo>
                  <a:pt x="293158" y="24341"/>
                  <a:pt x="364067" y="14816"/>
                  <a:pt x="412750" y="7408"/>
                </a:cubicBezTo>
                <a:cubicBezTo>
                  <a:pt x="461433" y="0"/>
                  <a:pt x="498475" y="4233"/>
                  <a:pt x="533400" y="7408"/>
                </a:cubicBezTo>
                <a:cubicBezTo>
                  <a:pt x="568325" y="10583"/>
                  <a:pt x="595312" y="18520"/>
                  <a:pt x="622300" y="26458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组合 150"/>
          <p:cNvGrpSpPr/>
          <p:nvPr/>
        </p:nvGrpSpPr>
        <p:grpSpPr>
          <a:xfrm>
            <a:off x="2529000" y="2827440"/>
            <a:ext cx="1911240" cy="1873080"/>
            <a:chOff x="2529000" y="2827440"/>
            <a:chExt cx="1911240" cy="1873080"/>
          </a:xfrm>
        </p:grpSpPr>
        <p:sp>
          <p:nvSpPr>
            <p:cNvPr id="631" name="任意多边形 64"/>
            <p:cNvSpPr/>
            <p:nvPr/>
          </p:nvSpPr>
          <p:spPr>
            <a:xfrm>
              <a:off x="2529000" y="3195720"/>
              <a:ext cx="323640" cy="1155600"/>
            </a:xfrm>
            <a:custGeom>
              <a:avLst/>
              <a:gdLst/>
              <a:ahLst/>
              <a:rect l="l" t="t" r="r" b="b"/>
              <a:pathLst>
                <a:path w="323850" h="1155700">
                  <a:moveTo>
                    <a:pt x="323850" y="0"/>
                  </a:moveTo>
                  <a:cubicBezTo>
                    <a:pt x="246024" y="64855"/>
                    <a:pt x="247650" y="96563"/>
                    <a:pt x="247650" y="57150"/>
                  </a:cubicBezTo>
                  <a:lnTo>
                    <a:pt x="304800" y="209550"/>
                  </a:lnTo>
                  <a:lnTo>
                    <a:pt x="247650" y="279400"/>
                  </a:lnTo>
                  <a:lnTo>
                    <a:pt x="114300" y="292100"/>
                  </a:lnTo>
                  <a:lnTo>
                    <a:pt x="69850" y="406400"/>
                  </a:lnTo>
                  <a:lnTo>
                    <a:pt x="165100" y="482600"/>
                  </a:lnTo>
                  <a:lnTo>
                    <a:pt x="165100" y="546100"/>
                  </a:lnTo>
                  <a:lnTo>
                    <a:pt x="0" y="635000"/>
                  </a:lnTo>
                  <a:lnTo>
                    <a:pt x="6350" y="755650"/>
                  </a:lnTo>
                  <a:lnTo>
                    <a:pt x="139700" y="787400"/>
                  </a:lnTo>
                  <a:lnTo>
                    <a:pt x="139700" y="844550"/>
                  </a:lnTo>
                  <a:lnTo>
                    <a:pt x="19050" y="990600"/>
                  </a:lnTo>
                  <a:lnTo>
                    <a:pt x="69850" y="1079500"/>
                  </a:lnTo>
                  <a:lnTo>
                    <a:pt x="190500" y="1041400"/>
                  </a:lnTo>
                  <a:lnTo>
                    <a:pt x="228600" y="1066800"/>
                  </a:lnTo>
                  <a:lnTo>
                    <a:pt x="247650" y="1085850"/>
                  </a:lnTo>
                  <a:lnTo>
                    <a:pt x="222250" y="115570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任意多边形 65"/>
            <p:cNvSpPr/>
            <p:nvPr/>
          </p:nvSpPr>
          <p:spPr>
            <a:xfrm>
              <a:off x="2687760" y="4224240"/>
              <a:ext cx="1549440" cy="476280"/>
            </a:xfrm>
            <a:custGeom>
              <a:avLst/>
              <a:gdLst/>
              <a:ahLst/>
              <a:rect l="l" t="t" r="r" b="b"/>
              <a:pathLst>
                <a:path w="1549400" h="476250">
                  <a:moveTo>
                    <a:pt x="0" y="234950"/>
                  </a:moveTo>
                  <a:lnTo>
                    <a:pt x="88900" y="323850"/>
                  </a:lnTo>
                  <a:lnTo>
                    <a:pt x="234950" y="228600"/>
                  </a:lnTo>
                  <a:lnTo>
                    <a:pt x="298450" y="260350"/>
                  </a:lnTo>
                  <a:lnTo>
                    <a:pt x="285750" y="425450"/>
                  </a:lnTo>
                  <a:lnTo>
                    <a:pt x="387350" y="463550"/>
                  </a:lnTo>
                  <a:lnTo>
                    <a:pt x="501650" y="323850"/>
                  </a:lnTo>
                  <a:lnTo>
                    <a:pt x="577850" y="336550"/>
                  </a:lnTo>
                  <a:lnTo>
                    <a:pt x="622300" y="330200"/>
                  </a:lnTo>
                  <a:lnTo>
                    <a:pt x="673100" y="476250"/>
                  </a:lnTo>
                  <a:lnTo>
                    <a:pt x="825500" y="469900"/>
                  </a:lnTo>
                  <a:lnTo>
                    <a:pt x="863600" y="323850"/>
                  </a:lnTo>
                  <a:lnTo>
                    <a:pt x="946150" y="273050"/>
                  </a:lnTo>
                  <a:lnTo>
                    <a:pt x="1060450" y="387350"/>
                  </a:lnTo>
                  <a:lnTo>
                    <a:pt x="1168400" y="342900"/>
                  </a:lnTo>
                  <a:lnTo>
                    <a:pt x="1174750" y="171450"/>
                  </a:lnTo>
                  <a:lnTo>
                    <a:pt x="1257300" y="120650"/>
                  </a:lnTo>
                  <a:lnTo>
                    <a:pt x="1308100" y="69850"/>
                  </a:lnTo>
                  <a:lnTo>
                    <a:pt x="1447800" y="95250"/>
                  </a:lnTo>
                  <a:lnTo>
                    <a:pt x="154940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任意多边形 66"/>
            <p:cNvSpPr/>
            <p:nvPr/>
          </p:nvSpPr>
          <p:spPr>
            <a:xfrm>
              <a:off x="2840040" y="2827440"/>
              <a:ext cx="1504800" cy="399960"/>
            </a:xfrm>
            <a:custGeom>
              <a:avLst/>
              <a:gdLst/>
              <a:ahLst/>
              <a:rect l="l" t="t" r="r" b="b"/>
              <a:pathLst>
                <a:path w="1504950" h="400050">
                  <a:moveTo>
                    <a:pt x="0" y="374650"/>
                  </a:moveTo>
                  <a:lnTo>
                    <a:pt x="133350" y="400050"/>
                  </a:lnTo>
                  <a:lnTo>
                    <a:pt x="190500" y="361950"/>
                  </a:lnTo>
                  <a:lnTo>
                    <a:pt x="190500" y="222250"/>
                  </a:lnTo>
                  <a:lnTo>
                    <a:pt x="285750" y="152400"/>
                  </a:lnTo>
                  <a:lnTo>
                    <a:pt x="387350" y="222250"/>
                  </a:lnTo>
                  <a:lnTo>
                    <a:pt x="438150" y="203200"/>
                  </a:lnTo>
                  <a:lnTo>
                    <a:pt x="482600" y="184150"/>
                  </a:lnTo>
                  <a:lnTo>
                    <a:pt x="533400" y="38100"/>
                  </a:lnTo>
                  <a:lnTo>
                    <a:pt x="641350" y="19050"/>
                  </a:lnTo>
                  <a:lnTo>
                    <a:pt x="711200" y="139700"/>
                  </a:lnTo>
                  <a:lnTo>
                    <a:pt x="762000" y="139700"/>
                  </a:lnTo>
                  <a:lnTo>
                    <a:pt x="863600" y="0"/>
                  </a:lnTo>
                  <a:lnTo>
                    <a:pt x="990600" y="19050"/>
                  </a:lnTo>
                  <a:lnTo>
                    <a:pt x="990600" y="158750"/>
                  </a:lnTo>
                  <a:lnTo>
                    <a:pt x="1073150" y="190500"/>
                  </a:lnTo>
                  <a:lnTo>
                    <a:pt x="1212850" y="88900"/>
                  </a:lnTo>
                  <a:lnTo>
                    <a:pt x="1308100" y="133350"/>
                  </a:lnTo>
                  <a:lnTo>
                    <a:pt x="1244600" y="279400"/>
                  </a:lnTo>
                  <a:lnTo>
                    <a:pt x="1295400" y="336550"/>
                  </a:lnTo>
                  <a:lnTo>
                    <a:pt x="1441450" y="298450"/>
                  </a:lnTo>
                  <a:lnTo>
                    <a:pt x="1504950" y="38100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任意多边形 67"/>
            <p:cNvSpPr/>
            <p:nvPr/>
          </p:nvSpPr>
          <p:spPr>
            <a:xfrm>
              <a:off x="4148280" y="3195720"/>
              <a:ext cx="291960" cy="1047600"/>
            </a:xfrm>
            <a:custGeom>
              <a:avLst/>
              <a:gdLst/>
              <a:ahLst/>
              <a:rect l="l" t="t" r="r" b="b"/>
              <a:pathLst>
                <a:path w="292100" h="1047750">
                  <a:moveTo>
                    <a:pt x="203200" y="0"/>
                  </a:moveTo>
                  <a:lnTo>
                    <a:pt x="95250" y="120650"/>
                  </a:lnTo>
                  <a:lnTo>
                    <a:pt x="127000" y="241300"/>
                  </a:lnTo>
                  <a:lnTo>
                    <a:pt x="285750" y="279400"/>
                  </a:lnTo>
                  <a:lnTo>
                    <a:pt x="292100" y="381000"/>
                  </a:lnTo>
                  <a:lnTo>
                    <a:pt x="152400" y="482600"/>
                  </a:lnTo>
                  <a:lnTo>
                    <a:pt x="152400" y="571500"/>
                  </a:lnTo>
                  <a:lnTo>
                    <a:pt x="247650" y="635000"/>
                  </a:lnTo>
                  <a:lnTo>
                    <a:pt x="222250" y="742950"/>
                  </a:lnTo>
                  <a:lnTo>
                    <a:pt x="76200" y="781050"/>
                  </a:lnTo>
                  <a:lnTo>
                    <a:pt x="0" y="901700"/>
                  </a:lnTo>
                  <a:lnTo>
                    <a:pt x="88900" y="104775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组合 156"/>
          <p:cNvGrpSpPr/>
          <p:nvPr/>
        </p:nvGrpSpPr>
        <p:grpSpPr>
          <a:xfrm>
            <a:off x="3033720" y="4417920"/>
            <a:ext cx="1911240" cy="1841760"/>
            <a:chOff x="3033720" y="4417920"/>
            <a:chExt cx="1911240" cy="1841760"/>
          </a:xfrm>
        </p:grpSpPr>
        <p:sp>
          <p:nvSpPr>
            <p:cNvPr id="636" name="任意多边形 68"/>
            <p:cNvSpPr/>
            <p:nvPr/>
          </p:nvSpPr>
          <p:spPr>
            <a:xfrm>
              <a:off x="3357360" y="4570200"/>
              <a:ext cx="304560" cy="228600"/>
            </a:xfrm>
            <a:custGeom>
              <a:avLst/>
              <a:gdLst/>
              <a:ahLst/>
              <a:rect l="l" t="t" r="r" b="b"/>
              <a:pathLst>
                <a:path w="304800" h="228600">
                  <a:moveTo>
                    <a:pt x="304800" y="0"/>
                  </a:moveTo>
                  <a:lnTo>
                    <a:pt x="209550" y="57150"/>
                  </a:lnTo>
                  <a:lnTo>
                    <a:pt x="209550" y="184150"/>
                  </a:lnTo>
                  <a:lnTo>
                    <a:pt x="146050" y="228600"/>
                  </a:lnTo>
                  <a:lnTo>
                    <a:pt x="0" y="13970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任意多边形 69"/>
            <p:cNvSpPr/>
            <p:nvPr/>
          </p:nvSpPr>
          <p:spPr>
            <a:xfrm>
              <a:off x="3033720" y="4773600"/>
              <a:ext cx="583920" cy="1454400"/>
            </a:xfrm>
            <a:custGeom>
              <a:avLst/>
              <a:gdLst/>
              <a:ahLst/>
              <a:rect l="l" t="t" r="r" b="b"/>
              <a:pathLst>
                <a:path w="584200" h="1454150">
                  <a:moveTo>
                    <a:pt x="393700" y="0"/>
                  </a:moveTo>
                  <a:lnTo>
                    <a:pt x="336550" y="0"/>
                  </a:lnTo>
                  <a:lnTo>
                    <a:pt x="266700" y="88900"/>
                  </a:lnTo>
                  <a:lnTo>
                    <a:pt x="330200" y="196850"/>
                  </a:lnTo>
                  <a:lnTo>
                    <a:pt x="273050" y="273050"/>
                  </a:lnTo>
                  <a:lnTo>
                    <a:pt x="127000" y="292100"/>
                  </a:lnTo>
                  <a:lnTo>
                    <a:pt x="88900" y="400050"/>
                  </a:lnTo>
                  <a:lnTo>
                    <a:pt x="184150" y="476250"/>
                  </a:lnTo>
                  <a:lnTo>
                    <a:pt x="184150" y="539750"/>
                  </a:lnTo>
                  <a:lnTo>
                    <a:pt x="12700" y="641350"/>
                  </a:lnTo>
                  <a:lnTo>
                    <a:pt x="0" y="730250"/>
                  </a:lnTo>
                  <a:lnTo>
                    <a:pt x="152400" y="768350"/>
                  </a:lnTo>
                  <a:lnTo>
                    <a:pt x="165100" y="812800"/>
                  </a:lnTo>
                  <a:lnTo>
                    <a:pt x="44450" y="958850"/>
                  </a:lnTo>
                  <a:lnTo>
                    <a:pt x="76200" y="1060450"/>
                  </a:lnTo>
                  <a:lnTo>
                    <a:pt x="222250" y="1035050"/>
                  </a:lnTo>
                  <a:lnTo>
                    <a:pt x="266700" y="1085850"/>
                  </a:lnTo>
                  <a:lnTo>
                    <a:pt x="190500" y="1219200"/>
                  </a:lnTo>
                  <a:lnTo>
                    <a:pt x="266700" y="1314450"/>
                  </a:lnTo>
                  <a:lnTo>
                    <a:pt x="412750" y="1231900"/>
                  </a:lnTo>
                  <a:lnTo>
                    <a:pt x="476250" y="1270000"/>
                  </a:lnTo>
                  <a:lnTo>
                    <a:pt x="457200" y="1409700"/>
                  </a:lnTo>
                  <a:lnTo>
                    <a:pt x="577850" y="1454150"/>
                  </a:lnTo>
                  <a:lnTo>
                    <a:pt x="584200" y="144780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任意多边形 70"/>
            <p:cNvSpPr/>
            <p:nvPr/>
          </p:nvSpPr>
          <p:spPr>
            <a:xfrm>
              <a:off x="3605040" y="5402160"/>
              <a:ext cx="1320840" cy="857520"/>
            </a:xfrm>
            <a:custGeom>
              <a:avLst/>
              <a:gdLst/>
              <a:ahLst/>
              <a:rect l="l" t="t" r="r" b="b"/>
              <a:pathLst>
                <a:path w="1320800" h="857250">
                  <a:moveTo>
                    <a:pt x="0" y="838200"/>
                  </a:moveTo>
                  <a:lnTo>
                    <a:pt x="114300" y="704850"/>
                  </a:lnTo>
                  <a:lnTo>
                    <a:pt x="241300" y="717550"/>
                  </a:lnTo>
                  <a:lnTo>
                    <a:pt x="298450" y="857250"/>
                  </a:lnTo>
                  <a:lnTo>
                    <a:pt x="419100" y="838200"/>
                  </a:lnTo>
                  <a:lnTo>
                    <a:pt x="463550" y="685800"/>
                  </a:lnTo>
                  <a:lnTo>
                    <a:pt x="558800" y="654050"/>
                  </a:lnTo>
                  <a:lnTo>
                    <a:pt x="660400" y="755650"/>
                  </a:lnTo>
                  <a:lnTo>
                    <a:pt x="774700" y="704850"/>
                  </a:lnTo>
                  <a:lnTo>
                    <a:pt x="774700" y="533400"/>
                  </a:lnTo>
                  <a:lnTo>
                    <a:pt x="901700" y="438150"/>
                  </a:lnTo>
                  <a:lnTo>
                    <a:pt x="1022350" y="469900"/>
                  </a:lnTo>
                  <a:lnTo>
                    <a:pt x="1117600" y="368300"/>
                  </a:lnTo>
                  <a:lnTo>
                    <a:pt x="1054100" y="260350"/>
                  </a:lnTo>
                  <a:lnTo>
                    <a:pt x="1111250" y="165100"/>
                  </a:lnTo>
                  <a:lnTo>
                    <a:pt x="1263650" y="120650"/>
                  </a:lnTo>
                  <a:lnTo>
                    <a:pt x="132080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任意多边形 71"/>
            <p:cNvSpPr/>
            <p:nvPr/>
          </p:nvSpPr>
          <p:spPr>
            <a:xfrm>
              <a:off x="3649680" y="4417920"/>
              <a:ext cx="869760" cy="228600"/>
            </a:xfrm>
            <a:custGeom>
              <a:avLst/>
              <a:gdLst/>
              <a:ahLst/>
              <a:rect l="l" t="t" r="r" b="b"/>
              <a:pathLst>
                <a:path w="869950" h="228600">
                  <a:moveTo>
                    <a:pt x="0" y="158750"/>
                  </a:moveTo>
                  <a:lnTo>
                    <a:pt x="107950" y="228600"/>
                  </a:lnTo>
                  <a:lnTo>
                    <a:pt x="222250" y="171450"/>
                  </a:lnTo>
                  <a:lnTo>
                    <a:pt x="254000" y="31750"/>
                  </a:lnTo>
                  <a:lnTo>
                    <a:pt x="355600" y="6350"/>
                  </a:lnTo>
                  <a:lnTo>
                    <a:pt x="431800" y="127000"/>
                  </a:lnTo>
                  <a:lnTo>
                    <a:pt x="476250" y="114300"/>
                  </a:lnTo>
                  <a:lnTo>
                    <a:pt x="571500" y="0"/>
                  </a:lnTo>
                  <a:lnTo>
                    <a:pt x="698500" y="12700"/>
                  </a:lnTo>
                  <a:lnTo>
                    <a:pt x="711200" y="158750"/>
                  </a:lnTo>
                  <a:lnTo>
                    <a:pt x="787400" y="184150"/>
                  </a:lnTo>
                  <a:lnTo>
                    <a:pt x="869950" y="8255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任意多边形 72"/>
            <p:cNvSpPr/>
            <p:nvPr/>
          </p:nvSpPr>
          <p:spPr>
            <a:xfrm>
              <a:off x="4513320" y="4506840"/>
              <a:ext cx="431640" cy="908280"/>
            </a:xfrm>
            <a:custGeom>
              <a:avLst/>
              <a:gdLst/>
              <a:ahLst/>
              <a:rect l="l" t="t" r="r" b="b"/>
              <a:pathLst>
                <a:path w="431800" h="908050">
                  <a:moveTo>
                    <a:pt x="0" y="0"/>
                  </a:moveTo>
                  <a:lnTo>
                    <a:pt x="139700" y="57150"/>
                  </a:lnTo>
                  <a:lnTo>
                    <a:pt x="82550" y="177800"/>
                  </a:lnTo>
                  <a:lnTo>
                    <a:pt x="152400" y="247650"/>
                  </a:lnTo>
                  <a:lnTo>
                    <a:pt x="266700" y="203200"/>
                  </a:lnTo>
                  <a:lnTo>
                    <a:pt x="342900" y="285750"/>
                  </a:lnTo>
                  <a:lnTo>
                    <a:pt x="241300" y="400050"/>
                  </a:lnTo>
                  <a:lnTo>
                    <a:pt x="304800" y="533400"/>
                  </a:lnTo>
                  <a:lnTo>
                    <a:pt x="425450" y="552450"/>
                  </a:lnTo>
                  <a:lnTo>
                    <a:pt x="431800" y="660400"/>
                  </a:lnTo>
                  <a:lnTo>
                    <a:pt x="298450" y="730250"/>
                  </a:lnTo>
                  <a:lnTo>
                    <a:pt x="279400" y="819150"/>
                  </a:lnTo>
                  <a:lnTo>
                    <a:pt x="406400" y="90805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任意多边形 101"/>
          <p:cNvSpPr/>
          <p:nvPr/>
        </p:nvSpPr>
        <p:spPr>
          <a:xfrm>
            <a:off x="3105000" y="3406680"/>
            <a:ext cx="654120" cy="635040"/>
          </a:xfrm>
          <a:custGeom>
            <a:avLst/>
            <a:gdLst/>
            <a:ahLst/>
            <a:rect l="l" t="t" r="r" b="b"/>
            <a:pathLst>
              <a:path w="654050" h="636059">
                <a:moveTo>
                  <a:pt x="378883" y="614892"/>
                </a:moveTo>
                <a:cubicBezTo>
                  <a:pt x="340783" y="624417"/>
                  <a:pt x="275166" y="631825"/>
                  <a:pt x="239183" y="633942"/>
                </a:cubicBezTo>
                <a:cubicBezTo>
                  <a:pt x="203200" y="636059"/>
                  <a:pt x="187325" y="635000"/>
                  <a:pt x="162983" y="627592"/>
                </a:cubicBezTo>
                <a:cubicBezTo>
                  <a:pt x="138641" y="620184"/>
                  <a:pt x="116416" y="610659"/>
                  <a:pt x="93133" y="589492"/>
                </a:cubicBezTo>
                <a:cubicBezTo>
                  <a:pt x="69850" y="568325"/>
                  <a:pt x="37041" y="543984"/>
                  <a:pt x="23283" y="500592"/>
                </a:cubicBezTo>
                <a:cubicBezTo>
                  <a:pt x="9525" y="457200"/>
                  <a:pt x="0" y="385234"/>
                  <a:pt x="10583" y="329142"/>
                </a:cubicBezTo>
                <a:cubicBezTo>
                  <a:pt x="21166" y="273050"/>
                  <a:pt x="52916" y="208492"/>
                  <a:pt x="86783" y="164042"/>
                </a:cubicBezTo>
                <a:cubicBezTo>
                  <a:pt x="120650" y="119592"/>
                  <a:pt x="166158" y="88900"/>
                  <a:pt x="213783" y="62442"/>
                </a:cubicBezTo>
                <a:cubicBezTo>
                  <a:pt x="261408" y="35984"/>
                  <a:pt x="321733" y="10584"/>
                  <a:pt x="372533" y="5292"/>
                </a:cubicBezTo>
                <a:cubicBezTo>
                  <a:pt x="423333" y="0"/>
                  <a:pt x="475191" y="8467"/>
                  <a:pt x="518583" y="30692"/>
                </a:cubicBezTo>
                <a:cubicBezTo>
                  <a:pt x="561975" y="52917"/>
                  <a:pt x="611716" y="95250"/>
                  <a:pt x="632883" y="138642"/>
                </a:cubicBezTo>
                <a:cubicBezTo>
                  <a:pt x="654050" y="182034"/>
                  <a:pt x="652991" y="238125"/>
                  <a:pt x="645583" y="291042"/>
                </a:cubicBezTo>
                <a:cubicBezTo>
                  <a:pt x="638175" y="343959"/>
                  <a:pt x="618066" y="408517"/>
                  <a:pt x="588433" y="456142"/>
                </a:cubicBezTo>
                <a:cubicBezTo>
                  <a:pt x="558800" y="503767"/>
                  <a:pt x="506941" y="549275"/>
                  <a:pt x="467783" y="576792"/>
                </a:cubicBezTo>
                <a:cubicBezTo>
                  <a:pt x="428625" y="604309"/>
                  <a:pt x="416983" y="605367"/>
                  <a:pt x="378883" y="614892"/>
                </a:cubicBezTo>
                <a:close/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任意多边形 102"/>
          <p:cNvSpPr/>
          <p:nvPr/>
        </p:nvSpPr>
        <p:spPr>
          <a:xfrm>
            <a:off x="3247920" y="3559320"/>
            <a:ext cx="490680" cy="468000"/>
          </a:xfrm>
          <a:custGeom>
            <a:avLst/>
            <a:gdLst/>
            <a:ahLst/>
            <a:rect l="l" t="t" r="r" b="b"/>
            <a:pathLst>
              <a:path w="490008" h="467783">
                <a:moveTo>
                  <a:pt x="20108" y="467783"/>
                </a:moveTo>
                <a:cubicBezTo>
                  <a:pt x="11112" y="457199"/>
                  <a:pt x="2116" y="446616"/>
                  <a:pt x="1058" y="416983"/>
                </a:cubicBezTo>
                <a:cubicBezTo>
                  <a:pt x="0" y="387350"/>
                  <a:pt x="1058" y="333375"/>
                  <a:pt x="13758" y="289983"/>
                </a:cubicBezTo>
                <a:cubicBezTo>
                  <a:pt x="26458" y="246591"/>
                  <a:pt x="45508" y="197908"/>
                  <a:pt x="77258" y="156633"/>
                </a:cubicBezTo>
                <a:cubicBezTo>
                  <a:pt x="109008" y="115358"/>
                  <a:pt x="155575" y="67733"/>
                  <a:pt x="204258" y="42333"/>
                </a:cubicBezTo>
                <a:cubicBezTo>
                  <a:pt x="252941" y="16933"/>
                  <a:pt x="321733" y="8466"/>
                  <a:pt x="369358" y="4233"/>
                </a:cubicBezTo>
                <a:cubicBezTo>
                  <a:pt x="416983" y="0"/>
                  <a:pt x="453495" y="8466"/>
                  <a:pt x="490008" y="16933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组合 159"/>
          <p:cNvGrpSpPr/>
          <p:nvPr/>
        </p:nvGrpSpPr>
        <p:grpSpPr>
          <a:xfrm>
            <a:off x="3059280" y="4433760"/>
            <a:ext cx="2012760" cy="1924200"/>
            <a:chOff x="3059280" y="4433760"/>
            <a:chExt cx="2012760" cy="1924200"/>
          </a:xfrm>
        </p:grpSpPr>
        <p:grpSp>
          <p:nvGrpSpPr>
            <p:cNvPr id="644" name="组合 158"/>
            <p:cNvGrpSpPr/>
            <p:nvPr/>
          </p:nvGrpSpPr>
          <p:grpSpPr>
            <a:xfrm>
              <a:off x="4354560" y="4433760"/>
              <a:ext cx="717480" cy="1111320"/>
              <a:chOff x="4354560" y="4433760"/>
              <a:chExt cx="717480" cy="1111320"/>
            </a:xfrm>
          </p:grpSpPr>
          <p:sp>
            <p:nvSpPr>
              <p:cNvPr id="645" name="任意多边形 117"/>
              <p:cNvSpPr/>
              <p:nvPr/>
            </p:nvSpPr>
            <p:spPr>
              <a:xfrm>
                <a:off x="4354560" y="4433760"/>
                <a:ext cx="101520" cy="120600"/>
              </a:xfrm>
              <a:custGeom>
                <a:avLst/>
                <a:gdLst/>
                <a:ahLst/>
                <a:rect l="l" t="t" r="r" b="b"/>
                <a:pathLst>
                  <a:path w="101600" h="120650">
                    <a:moveTo>
                      <a:pt x="0" y="0"/>
                    </a:moveTo>
                    <a:lnTo>
                      <a:pt x="101600" y="120650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 118"/>
              <p:cNvSpPr/>
              <p:nvPr/>
            </p:nvSpPr>
            <p:spPr>
              <a:xfrm>
                <a:off x="4646520" y="4566960"/>
                <a:ext cx="120600" cy="152280"/>
              </a:xfrm>
              <a:custGeom>
                <a:avLst/>
                <a:gdLst/>
                <a:ahLst/>
                <a:rect l="l" t="t" r="r" b="b"/>
                <a:pathLst>
                  <a:path w="120650" h="152400">
                    <a:moveTo>
                      <a:pt x="0" y="0"/>
                    </a:moveTo>
                    <a:lnTo>
                      <a:pt x="120650" y="152400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任意多边形 119"/>
              <p:cNvSpPr/>
              <p:nvPr/>
            </p:nvSpPr>
            <p:spPr>
              <a:xfrm>
                <a:off x="4856400" y="4802040"/>
                <a:ext cx="120600" cy="241200"/>
              </a:xfrm>
              <a:custGeom>
                <a:avLst/>
                <a:gdLst/>
                <a:ahLst/>
                <a:rect l="l" t="t" r="r" b="b"/>
                <a:pathLst>
                  <a:path w="120650" h="241300">
                    <a:moveTo>
                      <a:pt x="0" y="0"/>
                    </a:moveTo>
                    <a:lnTo>
                      <a:pt x="120650" y="158750"/>
                    </a:lnTo>
                    <a:lnTo>
                      <a:pt x="44450" y="209550"/>
                    </a:lnTo>
                    <a:lnTo>
                      <a:pt x="69850" y="241300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任意多边形 120"/>
              <p:cNvSpPr/>
              <p:nvPr/>
            </p:nvSpPr>
            <p:spPr>
              <a:xfrm>
                <a:off x="4754520" y="4910040"/>
                <a:ext cx="152280" cy="114120"/>
              </a:xfrm>
              <a:custGeom>
                <a:avLst/>
                <a:gdLst/>
                <a:ahLst/>
                <a:rect l="l" t="t" r="r" b="b"/>
                <a:pathLst>
                  <a:path w="152400" h="114300">
                    <a:moveTo>
                      <a:pt x="0" y="0"/>
                    </a:moveTo>
                    <a:lnTo>
                      <a:pt x="152400" y="114300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任意多边形 121"/>
              <p:cNvSpPr/>
              <p:nvPr/>
            </p:nvSpPr>
            <p:spPr>
              <a:xfrm>
                <a:off x="4932360" y="5056200"/>
                <a:ext cx="133200" cy="336600"/>
              </a:xfrm>
              <a:custGeom>
                <a:avLst/>
                <a:gdLst/>
                <a:ahLst/>
                <a:rect l="l" t="t" r="r" b="b"/>
                <a:pathLst>
                  <a:path w="133350" h="336550">
                    <a:moveTo>
                      <a:pt x="0" y="0"/>
                    </a:moveTo>
                    <a:lnTo>
                      <a:pt x="120650" y="133350"/>
                    </a:lnTo>
                    <a:lnTo>
                      <a:pt x="133350" y="260350"/>
                    </a:lnTo>
                    <a:lnTo>
                      <a:pt x="19050" y="304800"/>
                    </a:lnTo>
                    <a:lnTo>
                      <a:pt x="0" y="336550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任意多边形 122"/>
              <p:cNvSpPr/>
              <p:nvPr/>
            </p:nvSpPr>
            <p:spPr>
              <a:xfrm>
                <a:off x="4945320" y="5176800"/>
                <a:ext cx="126720" cy="139680"/>
              </a:xfrm>
              <a:custGeom>
                <a:avLst/>
                <a:gdLst/>
                <a:ahLst/>
                <a:rect l="l" t="t" r="r" b="b"/>
                <a:pathLst>
                  <a:path w="127000" h="139700">
                    <a:moveTo>
                      <a:pt x="0" y="0"/>
                    </a:moveTo>
                    <a:lnTo>
                      <a:pt x="127000" y="139700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任意多边形 123"/>
              <p:cNvSpPr/>
              <p:nvPr/>
            </p:nvSpPr>
            <p:spPr>
              <a:xfrm>
                <a:off x="4824360" y="5240520"/>
                <a:ext cx="120600" cy="133200"/>
              </a:xfrm>
              <a:custGeom>
                <a:avLst/>
                <a:gdLst/>
                <a:ahLst/>
                <a:rect l="l" t="t" r="r" b="b"/>
                <a:pathLst>
                  <a:path w="120650" h="133350">
                    <a:moveTo>
                      <a:pt x="0" y="0"/>
                    </a:moveTo>
                    <a:lnTo>
                      <a:pt x="120650" y="133350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任意多边形 130"/>
              <p:cNvSpPr/>
              <p:nvPr/>
            </p:nvSpPr>
            <p:spPr>
              <a:xfrm>
                <a:off x="4913280" y="5405400"/>
                <a:ext cx="120600" cy="139680"/>
              </a:xfrm>
              <a:custGeom>
                <a:avLst/>
                <a:gdLst/>
                <a:ahLst/>
                <a:rect l="l" t="t" r="r" b="b"/>
                <a:pathLst>
                  <a:path w="120650" h="139700">
                    <a:moveTo>
                      <a:pt x="120650" y="139700"/>
                    </a:move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3" name="组合 157"/>
            <p:cNvGrpSpPr/>
            <p:nvPr/>
          </p:nvGrpSpPr>
          <p:grpSpPr>
            <a:xfrm>
              <a:off x="3059280" y="5513400"/>
              <a:ext cx="1974960" cy="844560"/>
              <a:chOff x="3059280" y="5513400"/>
              <a:chExt cx="1974960" cy="844560"/>
            </a:xfrm>
          </p:grpSpPr>
          <p:sp>
            <p:nvSpPr>
              <p:cNvPr id="654" name="任意多边形 104"/>
              <p:cNvSpPr/>
              <p:nvPr/>
            </p:nvSpPr>
            <p:spPr>
              <a:xfrm>
                <a:off x="3059280" y="5513400"/>
                <a:ext cx="145800" cy="88920"/>
              </a:xfrm>
              <a:custGeom>
                <a:avLst/>
                <a:gdLst/>
                <a:ahLst/>
                <a:rect l="l" t="t" r="r" b="b"/>
                <a:pathLst>
                  <a:path w="146050" h="88900">
                    <a:moveTo>
                      <a:pt x="0" y="0"/>
                    </a:moveTo>
                    <a:lnTo>
                      <a:pt x="82550" y="88900"/>
                    </a:lnTo>
                    <a:lnTo>
                      <a:pt x="146050" y="63500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任意多边形 105"/>
              <p:cNvSpPr/>
              <p:nvPr/>
            </p:nvSpPr>
            <p:spPr>
              <a:xfrm>
                <a:off x="3122640" y="5837040"/>
                <a:ext cx="133200" cy="95040"/>
              </a:xfrm>
              <a:custGeom>
                <a:avLst/>
                <a:gdLst/>
                <a:ahLst/>
                <a:rect l="l" t="t" r="r" b="b"/>
                <a:pathLst>
                  <a:path w="133350" h="95250">
                    <a:moveTo>
                      <a:pt x="0" y="0"/>
                    </a:moveTo>
                    <a:lnTo>
                      <a:pt x="107950" y="95250"/>
                    </a:lnTo>
                    <a:lnTo>
                      <a:pt x="133350" y="88900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任意多边形 106"/>
              <p:cNvSpPr/>
              <p:nvPr/>
            </p:nvSpPr>
            <p:spPr>
              <a:xfrm>
                <a:off x="3319560" y="6085080"/>
                <a:ext cx="164880" cy="101520"/>
              </a:xfrm>
              <a:custGeom>
                <a:avLst/>
                <a:gdLst/>
                <a:ahLst/>
                <a:rect l="l" t="t" r="r" b="b"/>
                <a:pathLst>
                  <a:path w="165100" h="101600">
                    <a:moveTo>
                      <a:pt x="0" y="0"/>
                    </a:moveTo>
                    <a:lnTo>
                      <a:pt x="146050" y="101600"/>
                    </a:lnTo>
                    <a:lnTo>
                      <a:pt x="165100" y="88900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任意多边形 107"/>
              <p:cNvSpPr/>
              <p:nvPr/>
            </p:nvSpPr>
            <p:spPr>
              <a:xfrm>
                <a:off x="3490920" y="6186600"/>
                <a:ext cx="387360" cy="145800"/>
              </a:xfrm>
              <a:custGeom>
                <a:avLst/>
                <a:gdLst/>
                <a:ahLst/>
                <a:rect l="l" t="t" r="r" b="b"/>
                <a:pathLst>
                  <a:path w="387350" h="146050">
                    <a:moveTo>
                      <a:pt x="0" y="0"/>
                    </a:moveTo>
                    <a:lnTo>
                      <a:pt x="158750" y="107950"/>
                    </a:lnTo>
                    <a:lnTo>
                      <a:pt x="285750" y="146050"/>
                    </a:lnTo>
                    <a:lnTo>
                      <a:pt x="387350" y="31750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任意多边形 109"/>
              <p:cNvSpPr/>
              <p:nvPr/>
            </p:nvSpPr>
            <p:spPr>
              <a:xfrm>
                <a:off x="3598920" y="6224760"/>
                <a:ext cx="177840" cy="107640"/>
              </a:xfrm>
              <a:custGeom>
                <a:avLst/>
                <a:gdLst/>
                <a:ahLst/>
                <a:rect l="l" t="t" r="r" b="b"/>
                <a:pathLst>
                  <a:path w="177800" h="107950">
                    <a:moveTo>
                      <a:pt x="0" y="0"/>
                    </a:moveTo>
                    <a:lnTo>
                      <a:pt x="177800" y="107950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任意多边形 110"/>
              <p:cNvSpPr/>
              <p:nvPr/>
            </p:nvSpPr>
            <p:spPr>
              <a:xfrm>
                <a:off x="3713400" y="6110280"/>
                <a:ext cx="164880" cy="101520"/>
              </a:xfrm>
              <a:custGeom>
                <a:avLst/>
                <a:gdLst/>
                <a:ahLst/>
                <a:rect l="l" t="t" r="r" b="b"/>
                <a:pathLst>
                  <a:path w="165100" h="101600">
                    <a:moveTo>
                      <a:pt x="0" y="0"/>
                    </a:moveTo>
                    <a:lnTo>
                      <a:pt x="165100" y="101600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任意多边形 112"/>
              <p:cNvSpPr/>
              <p:nvPr/>
            </p:nvSpPr>
            <p:spPr>
              <a:xfrm>
                <a:off x="3903840" y="6174000"/>
                <a:ext cx="609480" cy="183960"/>
              </a:xfrm>
              <a:custGeom>
                <a:avLst/>
                <a:gdLst/>
                <a:ahLst/>
                <a:rect l="l" t="t" r="r" b="b"/>
                <a:pathLst>
                  <a:path w="609600" h="184150">
                    <a:moveTo>
                      <a:pt x="0" y="82550"/>
                    </a:moveTo>
                    <a:lnTo>
                      <a:pt x="158750" y="184150"/>
                    </a:lnTo>
                    <a:lnTo>
                      <a:pt x="298450" y="165100"/>
                    </a:lnTo>
                    <a:lnTo>
                      <a:pt x="330200" y="25400"/>
                    </a:lnTo>
                    <a:lnTo>
                      <a:pt x="374650" y="0"/>
                    </a:lnTo>
                    <a:lnTo>
                      <a:pt x="514350" y="95250"/>
                    </a:lnTo>
                    <a:lnTo>
                      <a:pt x="609600" y="38100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任意多边形 113"/>
              <p:cNvSpPr/>
              <p:nvPr/>
            </p:nvSpPr>
            <p:spPr>
              <a:xfrm>
                <a:off x="4005360" y="6231240"/>
                <a:ext cx="196560" cy="114120"/>
              </a:xfrm>
              <a:custGeom>
                <a:avLst/>
                <a:gdLst/>
                <a:ahLst/>
                <a:rect l="l" t="t" r="r" b="b"/>
                <a:pathLst>
                  <a:path w="196850" h="114300">
                    <a:moveTo>
                      <a:pt x="0" y="0"/>
                    </a:moveTo>
                    <a:lnTo>
                      <a:pt x="196850" y="114300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任意多边形 114"/>
              <p:cNvSpPr/>
              <p:nvPr/>
            </p:nvSpPr>
            <p:spPr>
              <a:xfrm>
                <a:off x="4075200" y="6085080"/>
                <a:ext cx="171360" cy="120600"/>
              </a:xfrm>
              <a:custGeom>
                <a:avLst/>
                <a:gdLst/>
                <a:ahLst/>
                <a:rect l="l" t="t" r="r" b="b"/>
                <a:pathLst>
                  <a:path w="171450" h="120650">
                    <a:moveTo>
                      <a:pt x="0" y="0"/>
                    </a:moveTo>
                    <a:lnTo>
                      <a:pt x="171450" y="120650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任意多边形 115"/>
              <p:cNvSpPr/>
              <p:nvPr/>
            </p:nvSpPr>
            <p:spPr>
              <a:xfrm>
                <a:off x="4374000" y="6116760"/>
                <a:ext cx="139680" cy="101520"/>
              </a:xfrm>
              <a:custGeom>
                <a:avLst/>
                <a:gdLst/>
                <a:ahLst/>
                <a:rect l="l" t="t" r="r" b="b"/>
                <a:pathLst>
                  <a:path w="139700" h="101600">
                    <a:moveTo>
                      <a:pt x="0" y="0"/>
                    </a:moveTo>
                    <a:lnTo>
                      <a:pt x="139700" y="101600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任意多边形 124"/>
              <p:cNvSpPr/>
              <p:nvPr/>
            </p:nvSpPr>
            <p:spPr>
              <a:xfrm>
                <a:off x="4513680" y="5913360"/>
                <a:ext cx="336600" cy="304920"/>
              </a:xfrm>
              <a:custGeom>
                <a:avLst/>
                <a:gdLst/>
                <a:ahLst/>
                <a:rect l="l" t="t" r="r" b="b"/>
                <a:pathLst>
                  <a:path w="336550" h="304800">
                    <a:moveTo>
                      <a:pt x="0" y="304800"/>
                    </a:moveTo>
                    <a:lnTo>
                      <a:pt x="12700" y="133350"/>
                    </a:lnTo>
                    <a:lnTo>
                      <a:pt x="107950" y="57150"/>
                    </a:lnTo>
                    <a:lnTo>
                      <a:pt x="241300" y="82550"/>
                    </a:lnTo>
                    <a:lnTo>
                      <a:pt x="336550" y="0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任意多边形 125"/>
              <p:cNvSpPr/>
              <p:nvPr/>
            </p:nvSpPr>
            <p:spPr>
              <a:xfrm>
                <a:off x="4386600" y="5932440"/>
                <a:ext cx="152280" cy="126720"/>
              </a:xfrm>
              <a:custGeom>
                <a:avLst/>
                <a:gdLst/>
                <a:ahLst/>
                <a:rect l="l" t="t" r="r" b="b"/>
                <a:pathLst>
                  <a:path w="152400" h="127000">
                    <a:moveTo>
                      <a:pt x="0" y="0"/>
                    </a:moveTo>
                    <a:lnTo>
                      <a:pt x="152400" y="127000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任意多边形 126"/>
              <p:cNvSpPr/>
              <p:nvPr/>
            </p:nvSpPr>
            <p:spPr>
              <a:xfrm>
                <a:off x="4507200" y="5850000"/>
                <a:ext cx="126720" cy="126720"/>
              </a:xfrm>
              <a:custGeom>
                <a:avLst/>
                <a:gdLst/>
                <a:ahLst/>
                <a:rect l="l" t="t" r="r" b="b"/>
                <a:pathLst>
                  <a:path w="127000" h="127000">
                    <a:moveTo>
                      <a:pt x="0" y="0"/>
                    </a:moveTo>
                    <a:lnTo>
                      <a:pt x="127000" y="127000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任意多边形 127"/>
              <p:cNvSpPr/>
              <p:nvPr/>
            </p:nvSpPr>
            <p:spPr>
              <a:xfrm>
                <a:off x="4634280" y="5875200"/>
                <a:ext cx="120600" cy="120600"/>
              </a:xfrm>
              <a:custGeom>
                <a:avLst/>
                <a:gdLst/>
                <a:ahLst/>
                <a:rect l="l" t="t" r="r" b="b"/>
                <a:pathLst>
                  <a:path w="120650" h="120650">
                    <a:moveTo>
                      <a:pt x="0" y="0"/>
                    </a:moveTo>
                    <a:lnTo>
                      <a:pt x="120650" y="120650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任意多边形 128"/>
              <p:cNvSpPr/>
              <p:nvPr/>
            </p:nvSpPr>
            <p:spPr>
              <a:xfrm>
                <a:off x="4723200" y="5767200"/>
                <a:ext cx="126720" cy="152280"/>
              </a:xfrm>
              <a:custGeom>
                <a:avLst/>
                <a:gdLst/>
                <a:ahLst/>
                <a:rect l="l" t="t" r="r" b="b"/>
                <a:pathLst>
                  <a:path w="127000" h="152400">
                    <a:moveTo>
                      <a:pt x="0" y="0"/>
                    </a:moveTo>
                    <a:lnTo>
                      <a:pt x="127000" y="152400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任意多边形 129"/>
              <p:cNvSpPr/>
              <p:nvPr/>
            </p:nvSpPr>
            <p:spPr>
              <a:xfrm>
                <a:off x="4786560" y="5538600"/>
                <a:ext cx="247680" cy="355680"/>
              </a:xfrm>
              <a:custGeom>
                <a:avLst/>
                <a:gdLst/>
                <a:ahLst/>
                <a:rect l="l" t="t" r="r" b="b"/>
                <a:pathLst>
                  <a:path w="247650" h="355600">
                    <a:moveTo>
                      <a:pt x="63500" y="355600"/>
                    </a:moveTo>
                    <a:lnTo>
                      <a:pt x="6350" y="254000"/>
                    </a:lnTo>
                    <a:lnTo>
                      <a:pt x="0" y="228600"/>
                    </a:lnTo>
                    <a:lnTo>
                      <a:pt x="50800" y="165100"/>
                    </a:lnTo>
                    <a:lnTo>
                      <a:pt x="76200" y="152400"/>
                    </a:lnTo>
                    <a:lnTo>
                      <a:pt x="190500" y="120650"/>
                    </a:lnTo>
                    <a:lnTo>
                      <a:pt x="247650" y="0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任意多边形 131"/>
              <p:cNvSpPr/>
              <p:nvPr/>
            </p:nvSpPr>
            <p:spPr>
              <a:xfrm>
                <a:off x="4710600" y="5576760"/>
                <a:ext cx="133200" cy="114120"/>
              </a:xfrm>
              <a:custGeom>
                <a:avLst/>
                <a:gdLst/>
                <a:ahLst/>
                <a:rect l="l" t="t" r="r" b="b"/>
                <a:pathLst>
                  <a:path w="133350" h="114300">
                    <a:moveTo>
                      <a:pt x="133350" y="114300"/>
                    </a:move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任意多边形 132"/>
              <p:cNvSpPr/>
              <p:nvPr/>
            </p:nvSpPr>
            <p:spPr>
              <a:xfrm>
                <a:off x="4881960" y="5526000"/>
                <a:ext cx="95040" cy="120600"/>
              </a:xfrm>
              <a:custGeom>
                <a:avLst/>
                <a:gdLst/>
                <a:ahLst/>
                <a:rect l="l" t="t" r="r" b="b"/>
                <a:pathLst>
                  <a:path w="95250" h="120650">
                    <a:moveTo>
                      <a:pt x="95250" y="120650"/>
                    </a:move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 133"/>
              <p:cNvSpPr/>
              <p:nvPr/>
            </p:nvSpPr>
            <p:spPr>
              <a:xfrm>
                <a:off x="4665960" y="5665680"/>
                <a:ext cx="126720" cy="107640"/>
              </a:xfrm>
              <a:custGeom>
                <a:avLst/>
                <a:gdLst/>
                <a:ahLst/>
                <a:rect l="l" t="t" r="r" b="b"/>
                <a:pathLst>
                  <a:path w="127000" h="107950">
                    <a:moveTo>
                      <a:pt x="127000" y="107950"/>
                    </a:move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3" name="任意多边形 134"/>
          <p:cNvSpPr/>
          <p:nvPr/>
        </p:nvSpPr>
        <p:spPr>
          <a:xfrm>
            <a:off x="3645000" y="4991040"/>
            <a:ext cx="622080" cy="615960"/>
          </a:xfrm>
          <a:custGeom>
            <a:avLst/>
            <a:gdLst/>
            <a:ahLst/>
            <a:rect l="l" t="t" r="r" b="b"/>
            <a:pathLst>
              <a:path w="622300" h="615950">
                <a:moveTo>
                  <a:pt x="284692" y="604308"/>
                </a:moveTo>
                <a:cubicBezTo>
                  <a:pt x="261409" y="606425"/>
                  <a:pt x="227542" y="615950"/>
                  <a:pt x="195792" y="610658"/>
                </a:cubicBezTo>
                <a:cubicBezTo>
                  <a:pt x="164042" y="605366"/>
                  <a:pt x="123825" y="595841"/>
                  <a:pt x="94192" y="572558"/>
                </a:cubicBezTo>
                <a:cubicBezTo>
                  <a:pt x="64559" y="549275"/>
                  <a:pt x="32809" y="511175"/>
                  <a:pt x="17992" y="470958"/>
                </a:cubicBezTo>
                <a:cubicBezTo>
                  <a:pt x="3175" y="430741"/>
                  <a:pt x="0" y="376766"/>
                  <a:pt x="5292" y="331258"/>
                </a:cubicBezTo>
                <a:cubicBezTo>
                  <a:pt x="10584" y="285750"/>
                  <a:pt x="26459" y="239183"/>
                  <a:pt x="49742" y="197908"/>
                </a:cubicBezTo>
                <a:cubicBezTo>
                  <a:pt x="73025" y="156633"/>
                  <a:pt x="109009" y="112183"/>
                  <a:pt x="144992" y="83608"/>
                </a:cubicBezTo>
                <a:cubicBezTo>
                  <a:pt x="180975" y="55033"/>
                  <a:pt x="222250" y="40216"/>
                  <a:pt x="265642" y="26458"/>
                </a:cubicBezTo>
                <a:cubicBezTo>
                  <a:pt x="309034" y="12700"/>
                  <a:pt x="365125" y="0"/>
                  <a:pt x="405342" y="1058"/>
                </a:cubicBezTo>
                <a:cubicBezTo>
                  <a:pt x="445559" y="2116"/>
                  <a:pt x="476250" y="15875"/>
                  <a:pt x="506942" y="32808"/>
                </a:cubicBezTo>
                <a:cubicBezTo>
                  <a:pt x="537634" y="49741"/>
                  <a:pt x="570442" y="70908"/>
                  <a:pt x="589492" y="102658"/>
                </a:cubicBezTo>
                <a:cubicBezTo>
                  <a:pt x="608542" y="134408"/>
                  <a:pt x="622300" y="176741"/>
                  <a:pt x="621242" y="223308"/>
                </a:cubicBezTo>
                <a:cubicBezTo>
                  <a:pt x="620184" y="269875"/>
                  <a:pt x="609600" y="331258"/>
                  <a:pt x="583142" y="382058"/>
                </a:cubicBezTo>
                <a:cubicBezTo>
                  <a:pt x="556684" y="432858"/>
                  <a:pt x="503767" y="492125"/>
                  <a:pt x="462492" y="528108"/>
                </a:cubicBezTo>
                <a:cubicBezTo>
                  <a:pt x="421217" y="564091"/>
                  <a:pt x="368300" y="584200"/>
                  <a:pt x="335492" y="597958"/>
                </a:cubicBezTo>
                <a:cubicBezTo>
                  <a:pt x="302684" y="611716"/>
                  <a:pt x="307975" y="602191"/>
                  <a:pt x="284692" y="604308"/>
                </a:cubicBezTo>
                <a:close/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任意多边形 135"/>
          <p:cNvSpPr/>
          <p:nvPr/>
        </p:nvSpPr>
        <p:spPr>
          <a:xfrm>
            <a:off x="3762360" y="5137200"/>
            <a:ext cx="490680" cy="439560"/>
          </a:xfrm>
          <a:custGeom>
            <a:avLst/>
            <a:gdLst/>
            <a:ahLst/>
            <a:rect l="l" t="t" r="r" b="b"/>
            <a:pathLst>
              <a:path w="490008" h="440267">
                <a:moveTo>
                  <a:pt x="13758" y="440267"/>
                </a:moveTo>
                <a:cubicBezTo>
                  <a:pt x="6879" y="429683"/>
                  <a:pt x="0" y="419100"/>
                  <a:pt x="1058" y="389467"/>
                </a:cubicBezTo>
                <a:cubicBezTo>
                  <a:pt x="2116" y="359834"/>
                  <a:pt x="5291" y="304800"/>
                  <a:pt x="20108" y="262467"/>
                </a:cubicBezTo>
                <a:cubicBezTo>
                  <a:pt x="34925" y="220134"/>
                  <a:pt x="62441" y="170392"/>
                  <a:pt x="89958" y="135467"/>
                </a:cubicBezTo>
                <a:cubicBezTo>
                  <a:pt x="117475" y="100542"/>
                  <a:pt x="150283" y="74084"/>
                  <a:pt x="185208" y="52917"/>
                </a:cubicBezTo>
                <a:cubicBezTo>
                  <a:pt x="220133" y="31750"/>
                  <a:pt x="266700" y="16934"/>
                  <a:pt x="299508" y="8467"/>
                </a:cubicBezTo>
                <a:cubicBezTo>
                  <a:pt x="332316" y="0"/>
                  <a:pt x="355600" y="1059"/>
                  <a:pt x="382058" y="2117"/>
                </a:cubicBezTo>
                <a:cubicBezTo>
                  <a:pt x="408516" y="3175"/>
                  <a:pt x="440266" y="10584"/>
                  <a:pt x="458258" y="14817"/>
                </a:cubicBezTo>
                <a:cubicBezTo>
                  <a:pt x="476250" y="19050"/>
                  <a:pt x="483129" y="23283"/>
                  <a:pt x="490008" y="27517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5" name="组合 160"/>
          <p:cNvGrpSpPr/>
          <p:nvPr/>
        </p:nvGrpSpPr>
        <p:grpSpPr>
          <a:xfrm>
            <a:off x="2544840" y="2833560"/>
            <a:ext cx="2019240" cy="1955880"/>
            <a:chOff x="2544840" y="2833560"/>
            <a:chExt cx="2019240" cy="1955880"/>
          </a:xfrm>
        </p:grpSpPr>
        <p:sp>
          <p:nvSpPr>
            <p:cNvPr id="676" name="任意多边形 81"/>
            <p:cNvSpPr/>
            <p:nvPr/>
          </p:nvSpPr>
          <p:spPr>
            <a:xfrm>
              <a:off x="4037040" y="4427640"/>
              <a:ext cx="158760" cy="50760"/>
            </a:xfrm>
            <a:custGeom>
              <a:avLst/>
              <a:gdLst/>
              <a:ahLst/>
              <a:rect l="l" t="t" r="r" b="b"/>
              <a:pathLst>
                <a:path w="158750" h="50800">
                  <a:moveTo>
                    <a:pt x="0" y="50800"/>
                  </a:moveTo>
                  <a:lnTo>
                    <a:pt x="76200" y="0"/>
                  </a:lnTo>
                  <a:lnTo>
                    <a:pt x="158750" y="635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7" name="组合 155"/>
            <p:cNvGrpSpPr/>
            <p:nvPr/>
          </p:nvGrpSpPr>
          <p:grpSpPr>
            <a:xfrm>
              <a:off x="2544840" y="2833560"/>
              <a:ext cx="2019240" cy="1955880"/>
              <a:chOff x="2544840" y="2833560"/>
              <a:chExt cx="2019240" cy="1955880"/>
            </a:xfrm>
          </p:grpSpPr>
          <p:grpSp>
            <p:nvGrpSpPr>
              <p:cNvPr id="678" name="组合 154"/>
              <p:cNvGrpSpPr/>
              <p:nvPr/>
            </p:nvGrpSpPr>
            <p:grpSpPr>
              <a:xfrm>
                <a:off x="2773440" y="4230720"/>
                <a:ext cx="1587600" cy="558720"/>
                <a:chOff x="2773440" y="4230720"/>
                <a:chExt cx="1587600" cy="558720"/>
              </a:xfrm>
            </p:grpSpPr>
            <p:sp>
              <p:nvSpPr>
                <p:cNvPr id="679" name="任意多边形 74"/>
                <p:cNvSpPr/>
                <p:nvPr/>
              </p:nvSpPr>
              <p:spPr>
                <a:xfrm>
                  <a:off x="3033720" y="4681440"/>
                  <a:ext cx="323640" cy="101520"/>
                </a:xfrm>
                <a:custGeom>
                  <a:avLst/>
                  <a:gdLst/>
                  <a:ahLst/>
                  <a:rect l="l" t="t" r="r" b="b"/>
                  <a:pathLst>
                    <a:path w="323850" h="101600">
                      <a:moveTo>
                        <a:pt x="0" y="0"/>
                      </a:moveTo>
                      <a:lnTo>
                        <a:pt x="146050" y="95250"/>
                      </a:lnTo>
                      <a:lnTo>
                        <a:pt x="228600" y="101600"/>
                      </a:lnTo>
                      <a:lnTo>
                        <a:pt x="323850" y="6350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0" name="组合 153"/>
                <p:cNvGrpSpPr/>
                <p:nvPr/>
              </p:nvGrpSpPr>
              <p:grpSpPr>
                <a:xfrm>
                  <a:off x="2773440" y="4230720"/>
                  <a:ext cx="1587600" cy="558720"/>
                  <a:chOff x="2773440" y="4230720"/>
                  <a:chExt cx="1587600" cy="558720"/>
                </a:xfrm>
              </p:grpSpPr>
              <p:sp>
                <p:nvSpPr>
                  <p:cNvPr id="681" name="任意多边形 73"/>
                  <p:cNvSpPr/>
                  <p:nvPr/>
                </p:nvSpPr>
                <p:spPr>
                  <a:xfrm>
                    <a:off x="2773440" y="4548240"/>
                    <a:ext cx="1965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196850" h="95250">
                        <a:moveTo>
                          <a:pt x="0" y="0"/>
                        </a:moveTo>
                        <a:lnTo>
                          <a:pt x="177800" y="95250"/>
                        </a:lnTo>
                        <a:lnTo>
                          <a:pt x="196850" y="69850"/>
                        </a:lnTo>
                      </a:path>
                    </a:pathLst>
                  </a:custGeom>
                  <a:noFill/>
                  <a:ln w="1908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" name="任意多边形 75"/>
                  <p:cNvSpPr/>
                  <p:nvPr/>
                </p:nvSpPr>
                <p:spPr>
                  <a:xfrm>
                    <a:off x="3084480" y="4675320"/>
                    <a:ext cx="17136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1450" h="114300">
                        <a:moveTo>
                          <a:pt x="0" y="0"/>
                        </a:moveTo>
                        <a:lnTo>
                          <a:pt x="171450" y="114300"/>
                        </a:lnTo>
                      </a:path>
                    </a:pathLst>
                  </a:custGeom>
                  <a:noFill/>
                  <a:ln w="1908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" name="任意多边形 76"/>
                  <p:cNvSpPr/>
                  <p:nvPr/>
                </p:nvSpPr>
                <p:spPr>
                  <a:xfrm>
                    <a:off x="3510000" y="4687920"/>
                    <a:ext cx="5076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50800" h="76200">
                        <a:moveTo>
                          <a:pt x="0" y="0"/>
                        </a:moveTo>
                        <a:lnTo>
                          <a:pt x="50800" y="76200"/>
                        </a:lnTo>
                      </a:path>
                    </a:pathLst>
                  </a:custGeom>
                  <a:noFill/>
                  <a:ln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" name="任意多边形 77"/>
                  <p:cNvSpPr/>
                  <p:nvPr/>
                </p:nvSpPr>
                <p:spPr>
                  <a:xfrm>
                    <a:off x="3192480" y="4560840"/>
                    <a:ext cx="15228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52400" h="101600">
                        <a:moveTo>
                          <a:pt x="0" y="0"/>
                        </a:moveTo>
                        <a:lnTo>
                          <a:pt x="152400" y="101600"/>
                        </a:lnTo>
                      </a:path>
                    </a:pathLst>
                  </a:custGeom>
                  <a:noFill/>
                  <a:ln w="1908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" name="任意多边形 78"/>
                  <p:cNvSpPr/>
                  <p:nvPr/>
                </p:nvSpPr>
                <p:spPr>
                  <a:xfrm>
                    <a:off x="3548160" y="4560840"/>
                    <a:ext cx="4428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450" h="44450">
                        <a:moveTo>
                          <a:pt x="0" y="0"/>
                        </a:moveTo>
                        <a:lnTo>
                          <a:pt x="-21086" y="-21086"/>
                        </a:lnTo>
                      </a:path>
                    </a:pathLst>
                  </a:custGeom>
                  <a:noFill/>
                  <a:ln w="1908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任意多边形 79"/>
                  <p:cNvSpPr/>
                  <p:nvPr/>
                </p:nvSpPr>
                <p:spPr>
                  <a:xfrm>
                    <a:off x="3859560" y="4408560"/>
                    <a:ext cx="5076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50800" h="50800">
                        <a:moveTo>
                          <a:pt x="0" y="0"/>
                        </a:moveTo>
                        <a:lnTo>
                          <a:pt x="-14736" y="-14736"/>
                        </a:lnTo>
                      </a:path>
                    </a:pathLst>
                  </a:custGeom>
                  <a:noFill/>
                  <a:ln w="1908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" name="任意多边形 80"/>
                  <p:cNvSpPr/>
                  <p:nvPr/>
                </p:nvSpPr>
                <p:spPr>
                  <a:xfrm>
                    <a:off x="3999240" y="4300560"/>
                    <a:ext cx="12060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650" h="133350">
                        <a:moveTo>
                          <a:pt x="0" y="0"/>
                        </a:moveTo>
                        <a:lnTo>
                          <a:pt x="120650" y="133350"/>
                        </a:lnTo>
                      </a:path>
                    </a:pathLst>
                  </a:custGeom>
                  <a:noFill/>
                  <a:ln w="1908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" name="任意多边形 82"/>
                  <p:cNvSpPr/>
                  <p:nvPr/>
                </p:nvSpPr>
                <p:spPr>
                  <a:xfrm>
                    <a:off x="4132440" y="4332240"/>
                    <a:ext cx="8892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88900" h="101600">
                        <a:moveTo>
                          <a:pt x="0" y="0"/>
                        </a:moveTo>
                        <a:lnTo>
                          <a:pt x="88900" y="101600"/>
                        </a:lnTo>
                      </a:path>
                    </a:pathLst>
                  </a:custGeom>
                  <a:noFill/>
                  <a:ln w="1908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" name="任意多边形 83"/>
                  <p:cNvSpPr/>
                  <p:nvPr/>
                </p:nvSpPr>
                <p:spPr>
                  <a:xfrm>
                    <a:off x="4240440" y="4230720"/>
                    <a:ext cx="120600" cy="18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20650" h="184150">
                        <a:moveTo>
                          <a:pt x="38100" y="184150"/>
                        </a:moveTo>
                        <a:lnTo>
                          <a:pt x="120650" y="11430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90" name="组合 152"/>
              <p:cNvGrpSpPr/>
              <p:nvPr/>
            </p:nvGrpSpPr>
            <p:grpSpPr>
              <a:xfrm>
                <a:off x="2544840" y="2833560"/>
                <a:ext cx="2019240" cy="1504800"/>
                <a:chOff x="2544840" y="2833560"/>
                <a:chExt cx="2019240" cy="1504800"/>
              </a:xfrm>
            </p:grpSpPr>
            <p:sp>
              <p:nvSpPr>
                <p:cNvPr id="691" name="任意多边形 97"/>
                <p:cNvSpPr/>
                <p:nvPr/>
              </p:nvSpPr>
              <p:spPr>
                <a:xfrm>
                  <a:off x="4361040" y="3938760"/>
                  <a:ext cx="133200" cy="152280"/>
                </a:xfrm>
                <a:custGeom>
                  <a:avLst/>
                  <a:gdLst/>
                  <a:ahLst/>
                  <a:rect l="l" t="t" r="r" b="b"/>
                  <a:pathLst>
                    <a:path w="133350" h="152400">
                      <a:moveTo>
                        <a:pt x="0" y="0"/>
                      </a:moveTo>
                      <a:lnTo>
                        <a:pt x="133350" y="152400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2" name="组合 151"/>
                <p:cNvGrpSpPr/>
                <p:nvPr/>
              </p:nvGrpSpPr>
              <p:grpSpPr>
                <a:xfrm>
                  <a:off x="2544840" y="2833560"/>
                  <a:ext cx="2019240" cy="1504800"/>
                  <a:chOff x="2544840" y="2833560"/>
                  <a:chExt cx="2019240" cy="1504800"/>
                </a:xfrm>
              </p:grpSpPr>
              <p:sp>
                <p:nvSpPr>
                  <p:cNvPr id="693" name="任意多边形 86"/>
                  <p:cNvSpPr/>
                  <p:nvPr/>
                </p:nvSpPr>
                <p:spPr>
                  <a:xfrm>
                    <a:off x="4157640" y="4103640"/>
                    <a:ext cx="133200" cy="120600"/>
                  </a:xfrm>
                  <a:custGeom>
                    <a:avLst/>
                    <a:gdLst/>
                    <a:ahLst/>
                    <a:rect l="l" t="t" r="r" b="b"/>
                    <a:pathLst>
                      <a:path w="133350" h="120650">
                        <a:moveTo>
                          <a:pt x="0" y="0"/>
                        </a:moveTo>
                        <a:lnTo>
                          <a:pt x="133350" y="120650"/>
                        </a:lnTo>
                      </a:path>
                    </a:pathLst>
                  </a:custGeom>
                  <a:noFill/>
                  <a:ln w="1908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" name="任意多边形 87"/>
                  <p:cNvSpPr/>
                  <p:nvPr/>
                </p:nvSpPr>
                <p:spPr>
                  <a:xfrm>
                    <a:off x="3484440" y="2833560"/>
                    <a:ext cx="12060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650" h="11430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20650" y="114300"/>
                        </a:lnTo>
                      </a:path>
                    </a:pathLst>
                  </a:custGeom>
                  <a:noFill/>
                  <a:ln w="1908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" name="任意多边形 88"/>
                  <p:cNvSpPr/>
                  <p:nvPr/>
                </p:nvSpPr>
                <p:spPr>
                  <a:xfrm>
                    <a:off x="3846600" y="2871360"/>
                    <a:ext cx="12060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650" h="114300">
                        <a:moveTo>
                          <a:pt x="0" y="0"/>
                        </a:moveTo>
                        <a:lnTo>
                          <a:pt x="120650" y="114300"/>
                        </a:lnTo>
                      </a:path>
                    </a:pathLst>
                  </a:custGeom>
                  <a:noFill/>
                  <a:ln w="1908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" name="任意多边形 89"/>
                  <p:cNvSpPr/>
                  <p:nvPr/>
                </p:nvSpPr>
                <p:spPr>
                  <a:xfrm>
                    <a:off x="4145040" y="2979360"/>
                    <a:ext cx="120600" cy="139680"/>
                  </a:xfrm>
                  <a:custGeom>
                    <a:avLst/>
                    <a:gdLst/>
                    <a:ahLst/>
                    <a:rect l="l" t="t" r="r" b="b"/>
                    <a:pathLst>
                      <a:path w="120650" h="139700">
                        <a:moveTo>
                          <a:pt x="0" y="0"/>
                        </a:moveTo>
                        <a:lnTo>
                          <a:pt x="120650" y="139700"/>
                        </a:lnTo>
                      </a:path>
                    </a:pathLst>
                  </a:custGeom>
                  <a:noFill/>
                  <a:ln w="1908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" name="任意多边形 90"/>
                  <p:cNvSpPr/>
                  <p:nvPr/>
                </p:nvSpPr>
                <p:spPr>
                  <a:xfrm>
                    <a:off x="4348440" y="3214440"/>
                    <a:ext cx="114120" cy="234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4300" h="234950">
                        <a:moveTo>
                          <a:pt x="0" y="0"/>
                        </a:moveTo>
                        <a:lnTo>
                          <a:pt x="114300" y="171450"/>
                        </a:lnTo>
                        <a:lnTo>
                          <a:pt x="57150" y="234950"/>
                        </a:lnTo>
                      </a:path>
                    </a:pathLst>
                  </a:custGeom>
                  <a:noFill/>
                  <a:ln w="1908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任意多边形 91"/>
                  <p:cNvSpPr/>
                  <p:nvPr/>
                </p:nvSpPr>
                <p:spPr>
                  <a:xfrm>
                    <a:off x="4253040" y="3322440"/>
                    <a:ext cx="15228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52400" h="152400">
                        <a:moveTo>
                          <a:pt x="0" y="0"/>
                        </a:moveTo>
                        <a:lnTo>
                          <a:pt x="152400" y="152400"/>
                        </a:lnTo>
                      </a:path>
                    </a:pathLst>
                  </a:custGeom>
                  <a:noFill/>
                  <a:ln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" name="任意多边形 94"/>
                  <p:cNvSpPr/>
                  <p:nvPr/>
                </p:nvSpPr>
                <p:spPr>
                  <a:xfrm>
                    <a:off x="4418280" y="3468600"/>
                    <a:ext cx="145800" cy="46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46050" h="469900">
                        <a:moveTo>
                          <a:pt x="19050" y="0"/>
                        </a:moveTo>
                        <a:lnTo>
                          <a:pt x="146050" y="158750"/>
                        </a:lnTo>
                        <a:lnTo>
                          <a:pt x="146050" y="285750"/>
                        </a:lnTo>
                        <a:lnTo>
                          <a:pt x="0" y="336550"/>
                        </a:lnTo>
                        <a:lnTo>
                          <a:pt x="0" y="368300"/>
                        </a:lnTo>
                        <a:lnTo>
                          <a:pt x="76200" y="463550"/>
                        </a:lnTo>
                        <a:lnTo>
                          <a:pt x="88900" y="469900"/>
                        </a:lnTo>
                      </a:path>
                    </a:pathLst>
                  </a:custGeom>
                  <a:noFill/>
                  <a:ln w="1908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0" name="任意多边形 95"/>
                  <p:cNvSpPr/>
                  <p:nvPr/>
                </p:nvSpPr>
                <p:spPr>
                  <a:xfrm>
                    <a:off x="4297680" y="3684240"/>
                    <a:ext cx="139680" cy="12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39700" h="127000">
                        <a:moveTo>
                          <a:pt x="0" y="0"/>
                        </a:moveTo>
                        <a:lnTo>
                          <a:pt x="139700" y="127000"/>
                        </a:lnTo>
                      </a:path>
                    </a:pathLst>
                  </a:custGeom>
                  <a:noFill/>
                  <a:ln w="1908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" name="任意多边形 96"/>
                  <p:cNvSpPr/>
                  <p:nvPr/>
                </p:nvSpPr>
                <p:spPr>
                  <a:xfrm>
                    <a:off x="4443480" y="3595320"/>
                    <a:ext cx="12060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0650" h="152400">
                        <a:moveTo>
                          <a:pt x="0" y="0"/>
                        </a:moveTo>
                        <a:lnTo>
                          <a:pt x="120650" y="152400"/>
                        </a:lnTo>
                      </a:path>
                    </a:pathLst>
                  </a:custGeom>
                  <a:noFill/>
                  <a:ln w="1908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" name="任意多边形 98"/>
                  <p:cNvSpPr/>
                  <p:nvPr/>
                </p:nvSpPr>
                <p:spPr>
                  <a:xfrm>
                    <a:off x="2544840" y="3963960"/>
                    <a:ext cx="9504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95250" h="107950">
                        <a:moveTo>
                          <a:pt x="0" y="0"/>
                        </a:moveTo>
                        <a:lnTo>
                          <a:pt x="95250" y="107950"/>
                        </a:lnTo>
                      </a:path>
                    </a:pathLst>
                  </a:custGeom>
                  <a:noFill/>
                  <a:ln w="1908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3" name="任意多边形 100"/>
                  <p:cNvSpPr/>
                  <p:nvPr/>
                </p:nvSpPr>
                <p:spPr>
                  <a:xfrm>
                    <a:off x="4297680" y="3943080"/>
                    <a:ext cx="204480" cy="39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04825" h="395021">
                        <a:moveTo>
                          <a:pt x="58521" y="395021"/>
                        </a:moveTo>
                        <a:lnTo>
                          <a:pt x="0" y="270662"/>
                        </a:lnTo>
                        <a:lnTo>
                          <a:pt x="58521" y="168249"/>
                        </a:lnTo>
                        <a:lnTo>
                          <a:pt x="182880" y="138989"/>
                        </a:lnTo>
                        <a:lnTo>
                          <a:pt x="204825" y="0"/>
                        </a:lnTo>
                      </a:path>
                    </a:pathLst>
                  </a:custGeom>
                  <a:noFill/>
                  <a:ln w="1908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" name="任意多边形 108"/>
                  <p:cNvSpPr/>
                  <p:nvPr/>
                </p:nvSpPr>
                <p:spPr>
                  <a:xfrm>
                    <a:off x="4227480" y="3981240"/>
                    <a:ext cx="139680" cy="145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8989" h="146304">
                        <a:moveTo>
                          <a:pt x="0" y="0"/>
                        </a:moveTo>
                        <a:lnTo>
                          <a:pt x="138989" y="146304"/>
                        </a:lnTo>
                      </a:path>
                    </a:pathLst>
                  </a:custGeom>
                  <a:noFill/>
                  <a:ln w="1908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705" name="任意多边形 37"/>
          <p:cNvSpPr/>
          <p:nvPr/>
        </p:nvSpPr>
        <p:spPr>
          <a:xfrm>
            <a:off x="1284120" y="6046920"/>
            <a:ext cx="203400" cy="133200"/>
          </a:xfrm>
          <a:custGeom>
            <a:avLst/>
            <a:gdLst/>
            <a:ahLst/>
            <a:rect l="l" t="t" r="r" b="b"/>
            <a:pathLst>
              <a:path w="203200" h="133350">
                <a:moveTo>
                  <a:pt x="0" y="0"/>
                </a:moveTo>
                <a:lnTo>
                  <a:pt x="0" y="0"/>
                </a:lnTo>
                <a:lnTo>
                  <a:pt x="203200" y="13335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6" name="组合 142"/>
          <p:cNvGrpSpPr/>
          <p:nvPr/>
        </p:nvGrpSpPr>
        <p:grpSpPr>
          <a:xfrm>
            <a:off x="458640" y="4005360"/>
            <a:ext cx="2071800" cy="2232000"/>
            <a:chOff x="458640" y="4005360"/>
            <a:chExt cx="2071800" cy="2232000"/>
          </a:xfrm>
        </p:grpSpPr>
        <p:sp>
          <p:nvSpPr>
            <p:cNvPr id="707" name="任意多边形 63"/>
            <p:cNvSpPr/>
            <p:nvPr/>
          </p:nvSpPr>
          <p:spPr>
            <a:xfrm>
              <a:off x="458640" y="4482360"/>
              <a:ext cx="915120" cy="1755000"/>
            </a:xfrm>
            <a:custGeom>
              <a:avLst/>
              <a:gdLst/>
              <a:ahLst/>
              <a:rect l="l" t="t" r="r" b="b"/>
              <a:pathLst>
                <a:path w="1130300" h="1879600">
                  <a:moveTo>
                    <a:pt x="869950" y="412750"/>
                  </a:moveTo>
                  <a:lnTo>
                    <a:pt x="825500" y="476250"/>
                  </a:lnTo>
                  <a:lnTo>
                    <a:pt x="787400" y="546100"/>
                  </a:lnTo>
                  <a:lnTo>
                    <a:pt x="755650" y="622300"/>
                  </a:lnTo>
                  <a:lnTo>
                    <a:pt x="742950" y="698500"/>
                  </a:lnTo>
                  <a:lnTo>
                    <a:pt x="749300" y="793750"/>
                  </a:lnTo>
                  <a:lnTo>
                    <a:pt x="768350" y="876300"/>
                  </a:lnTo>
                  <a:lnTo>
                    <a:pt x="819150" y="952500"/>
                  </a:lnTo>
                  <a:lnTo>
                    <a:pt x="895350" y="1003300"/>
                  </a:lnTo>
                  <a:lnTo>
                    <a:pt x="1016000" y="1022350"/>
                  </a:lnTo>
                  <a:lnTo>
                    <a:pt x="1111250" y="1022350"/>
                  </a:lnTo>
                  <a:lnTo>
                    <a:pt x="1130300" y="1016000"/>
                  </a:lnTo>
                  <a:lnTo>
                    <a:pt x="1079500" y="1879600"/>
                  </a:lnTo>
                  <a:lnTo>
                    <a:pt x="1009650" y="1695450"/>
                  </a:lnTo>
                  <a:lnTo>
                    <a:pt x="831850" y="1695450"/>
                  </a:lnTo>
                  <a:lnTo>
                    <a:pt x="692150" y="1847850"/>
                  </a:lnTo>
                  <a:lnTo>
                    <a:pt x="577850" y="1790700"/>
                  </a:lnTo>
                  <a:lnTo>
                    <a:pt x="584200" y="1606550"/>
                  </a:lnTo>
                  <a:lnTo>
                    <a:pt x="488950" y="1555750"/>
                  </a:lnTo>
                  <a:lnTo>
                    <a:pt x="355600" y="1657350"/>
                  </a:lnTo>
                  <a:lnTo>
                    <a:pt x="323850" y="1663700"/>
                  </a:lnTo>
                  <a:lnTo>
                    <a:pt x="228600" y="1562100"/>
                  </a:lnTo>
                  <a:lnTo>
                    <a:pt x="323850" y="1403350"/>
                  </a:lnTo>
                  <a:lnTo>
                    <a:pt x="279400" y="1308100"/>
                  </a:lnTo>
                  <a:lnTo>
                    <a:pt x="254000" y="1295400"/>
                  </a:lnTo>
                  <a:cubicBezTo>
                    <a:pt x="78452" y="1340912"/>
                    <a:pt x="141589" y="1339850"/>
                    <a:pt x="69850" y="1339850"/>
                  </a:cubicBezTo>
                  <a:cubicBezTo>
                    <a:pt x="37004" y="1201896"/>
                    <a:pt x="17666" y="1247369"/>
                    <a:pt x="44450" y="1193800"/>
                  </a:cubicBezTo>
                  <a:lnTo>
                    <a:pt x="177800" y="1060450"/>
                  </a:lnTo>
                  <a:lnTo>
                    <a:pt x="184150" y="971550"/>
                  </a:lnTo>
                  <a:lnTo>
                    <a:pt x="0" y="927100"/>
                  </a:lnTo>
                  <a:lnTo>
                    <a:pt x="19050" y="793750"/>
                  </a:lnTo>
                  <a:lnTo>
                    <a:pt x="209550" y="679450"/>
                  </a:lnTo>
                  <a:cubicBezTo>
                    <a:pt x="222572" y="594808"/>
                    <a:pt x="250090" y="596900"/>
                    <a:pt x="215900" y="596900"/>
                  </a:cubicBezTo>
                  <a:lnTo>
                    <a:pt x="107950" y="501650"/>
                  </a:lnTo>
                  <a:lnTo>
                    <a:pt x="165100" y="342900"/>
                  </a:lnTo>
                  <a:lnTo>
                    <a:pt x="342900" y="336550"/>
                  </a:lnTo>
                  <a:lnTo>
                    <a:pt x="400050" y="228600"/>
                  </a:lnTo>
                  <a:lnTo>
                    <a:pt x="342900" y="101600"/>
                  </a:lnTo>
                  <a:lnTo>
                    <a:pt x="406400" y="0"/>
                  </a:lnTo>
                  <a:lnTo>
                    <a:pt x="457200" y="12700"/>
                  </a:lnTo>
                  <a:lnTo>
                    <a:pt x="869950" y="412750"/>
                  </a:lnTo>
                  <a:close/>
                </a:path>
              </a:pathLst>
            </a:custGeom>
            <a:solidFill>
              <a:srgbClr val="ffffff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8" name="任意多边形 138" descr=""/>
            <p:cNvPicPr/>
            <p:nvPr/>
          </p:nvPicPr>
          <p:blipFill>
            <a:blip r:embed="rId1"/>
            <a:stretch/>
          </p:blipFill>
          <p:spPr>
            <a:xfrm>
              <a:off x="827280" y="4005360"/>
              <a:ext cx="1703160" cy="204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9" name="组合 149"/>
          <p:cNvGrpSpPr/>
          <p:nvPr/>
        </p:nvGrpSpPr>
        <p:grpSpPr>
          <a:xfrm>
            <a:off x="455760" y="3886200"/>
            <a:ext cx="2390760" cy="2347920"/>
            <a:chOff x="455760" y="3886200"/>
            <a:chExt cx="2390760" cy="2347920"/>
          </a:xfrm>
        </p:grpSpPr>
        <p:sp>
          <p:nvSpPr>
            <p:cNvPr id="710" name="任意多边形 30"/>
            <p:cNvSpPr/>
            <p:nvPr/>
          </p:nvSpPr>
          <p:spPr>
            <a:xfrm>
              <a:off x="865080" y="3886200"/>
              <a:ext cx="1608120" cy="490320"/>
            </a:xfrm>
            <a:custGeom>
              <a:avLst/>
              <a:gdLst/>
              <a:ahLst/>
              <a:rect l="l" t="t" r="r" b="b"/>
              <a:pathLst>
                <a:path w="1609344" h="490118">
                  <a:moveTo>
                    <a:pt x="0" y="475488"/>
                  </a:moveTo>
                  <a:lnTo>
                    <a:pt x="168249" y="490118"/>
                  </a:lnTo>
                  <a:lnTo>
                    <a:pt x="234086" y="438912"/>
                  </a:lnTo>
                  <a:lnTo>
                    <a:pt x="248717" y="263347"/>
                  </a:lnTo>
                  <a:lnTo>
                    <a:pt x="358445" y="197510"/>
                  </a:lnTo>
                  <a:lnTo>
                    <a:pt x="482803" y="277978"/>
                  </a:lnTo>
                  <a:lnTo>
                    <a:pt x="599846" y="234086"/>
                  </a:lnTo>
                  <a:lnTo>
                    <a:pt x="680313" y="58522"/>
                  </a:lnTo>
                  <a:lnTo>
                    <a:pt x="811987" y="14630"/>
                  </a:lnTo>
                  <a:lnTo>
                    <a:pt x="907085" y="168250"/>
                  </a:lnTo>
                  <a:lnTo>
                    <a:pt x="980237" y="153619"/>
                  </a:lnTo>
                  <a:lnTo>
                    <a:pt x="1097280" y="0"/>
                  </a:lnTo>
                  <a:lnTo>
                    <a:pt x="1221638" y="7315"/>
                  </a:lnTo>
                  <a:lnTo>
                    <a:pt x="1243584" y="168250"/>
                  </a:lnTo>
                  <a:lnTo>
                    <a:pt x="1331366" y="212141"/>
                  </a:lnTo>
                  <a:lnTo>
                    <a:pt x="1499616" y="117043"/>
                  </a:lnTo>
                  <a:lnTo>
                    <a:pt x="1609344" y="182880"/>
                  </a:lnTo>
                  <a:lnTo>
                    <a:pt x="1609344" y="19751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任意多边形 31"/>
            <p:cNvSpPr/>
            <p:nvPr/>
          </p:nvSpPr>
          <p:spPr>
            <a:xfrm>
              <a:off x="2429280" y="4090680"/>
              <a:ext cx="417240" cy="1052640"/>
            </a:xfrm>
            <a:custGeom>
              <a:avLst/>
              <a:gdLst/>
              <a:ahLst/>
              <a:rect l="l" t="t" r="r" b="b"/>
              <a:pathLst>
                <a:path w="416966" h="1053388">
                  <a:moveTo>
                    <a:pt x="43891" y="0"/>
                  </a:moveTo>
                  <a:lnTo>
                    <a:pt x="0" y="138988"/>
                  </a:lnTo>
                  <a:cubicBezTo>
                    <a:pt x="74792" y="221260"/>
                    <a:pt x="36902" y="219456"/>
                    <a:pt x="80467" y="219456"/>
                  </a:cubicBezTo>
                  <a:lnTo>
                    <a:pt x="226771" y="160934"/>
                  </a:lnTo>
                  <a:lnTo>
                    <a:pt x="314553" y="277977"/>
                  </a:lnTo>
                  <a:lnTo>
                    <a:pt x="182880" y="424281"/>
                  </a:lnTo>
                  <a:lnTo>
                    <a:pt x="212140" y="482803"/>
                  </a:lnTo>
                  <a:cubicBezTo>
                    <a:pt x="234677" y="572951"/>
                    <a:pt x="203925" y="570585"/>
                    <a:pt x="241401" y="570585"/>
                  </a:cubicBezTo>
                  <a:lnTo>
                    <a:pt x="416966" y="599846"/>
                  </a:lnTo>
                  <a:lnTo>
                    <a:pt x="409651" y="746150"/>
                  </a:lnTo>
                  <a:lnTo>
                    <a:pt x="256032" y="841248"/>
                  </a:lnTo>
                  <a:lnTo>
                    <a:pt x="248716" y="943660"/>
                  </a:lnTo>
                  <a:lnTo>
                    <a:pt x="380390" y="1053388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2" name="组合 145"/>
            <p:cNvGrpSpPr/>
            <p:nvPr/>
          </p:nvGrpSpPr>
          <p:grpSpPr>
            <a:xfrm>
              <a:off x="455760" y="4354200"/>
              <a:ext cx="2361600" cy="1879920"/>
              <a:chOff x="455760" y="4354200"/>
              <a:chExt cx="2361600" cy="1879920"/>
            </a:xfrm>
          </p:grpSpPr>
          <p:sp>
            <p:nvSpPr>
              <p:cNvPr id="713" name="任意多边形 29"/>
              <p:cNvSpPr/>
              <p:nvPr/>
            </p:nvSpPr>
            <p:spPr>
              <a:xfrm>
                <a:off x="1282680" y="5128920"/>
                <a:ext cx="1534680" cy="1105200"/>
              </a:xfrm>
              <a:custGeom>
                <a:avLst/>
                <a:gdLst/>
                <a:ahLst/>
                <a:rect l="l" t="t" r="r" b="b"/>
                <a:pathLst>
                  <a:path w="1536192" h="1104595">
                    <a:moveTo>
                      <a:pt x="0" y="921715"/>
                    </a:moveTo>
                    <a:lnTo>
                      <a:pt x="175565" y="929030"/>
                    </a:lnTo>
                    <a:lnTo>
                      <a:pt x="248717" y="1104595"/>
                    </a:lnTo>
                    <a:lnTo>
                      <a:pt x="431597" y="1068019"/>
                    </a:lnTo>
                    <a:lnTo>
                      <a:pt x="482803" y="885139"/>
                    </a:lnTo>
                    <a:lnTo>
                      <a:pt x="570586" y="848563"/>
                    </a:lnTo>
                    <a:lnTo>
                      <a:pt x="702259" y="972922"/>
                    </a:lnTo>
                    <a:lnTo>
                      <a:pt x="833933" y="921715"/>
                    </a:lnTo>
                    <a:lnTo>
                      <a:pt x="863194" y="709574"/>
                    </a:lnTo>
                    <a:lnTo>
                      <a:pt x="1016813" y="592531"/>
                    </a:lnTo>
                    <a:cubicBezTo>
                      <a:pt x="1172846" y="614822"/>
                      <a:pt x="1118706" y="614477"/>
                      <a:pt x="1177747" y="614477"/>
                    </a:cubicBezTo>
                    <a:lnTo>
                      <a:pt x="1316736" y="490118"/>
                    </a:lnTo>
                    <a:lnTo>
                      <a:pt x="1221639" y="336499"/>
                    </a:lnTo>
                    <a:lnTo>
                      <a:pt x="1287475" y="204826"/>
                    </a:lnTo>
                    <a:lnTo>
                      <a:pt x="1470355" y="153619"/>
                    </a:lnTo>
                    <a:lnTo>
                      <a:pt x="1536192" y="0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任意多边形 28"/>
              <p:cNvSpPr/>
              <p:nvPr/>
            </p:nvSpPr>
            <p:spPr>
              <a:xfrm>
                <a:off x="455760" y="4354200"/>
                <a:ext cx="840960" cy="1843560"/>
              </a:xfrm>
              <a:custGeom>
                <a:avLst/>
                <a:gdLst/>
                <a:ahLst/>
                <a:rect l="l" t="t" r="r" b="b"/>
                <a:pathLst>
                  <a:path w="841248" h="1843430">
                    <a:moveTo>
                      <a:pt x="409651" y="0"/>
                    </a:moveTo>
                    <a:lnTo>
                      <a:pt x="336499" y="102413"/>
                    </a:lnTo>
                    <a:lnTo>
                      <a:pt x="402336" y="226771"/>
                    </a:lnTo>
                    <a:lnTo>
                      <a:pt x="343814" y="329184"/>
                    </a:lnTo>
                    <a:lnTo>
                      <a:pt x="160934" y="343814"/>
                    </a:lnTo>
                    <a:lnTo>
                      <a:pt x="146304" y="365760"/>
                    </a:lnTo>
                    <a:lnTo>
                      <a:pt x="87782" y="504749"/>
                    </a:lnTo>
                    <a:lnTo>
                      <a:pt x="219456" y="607161"/>
                    </a:lnTo>
                    <a:lnTo>
                      <a:pt x="212140" y="672998"/>
                    </a:lnTo>
                    <a:lnTo>
                      <a:pt x="14630" y="782726"/>
                    </a:lnTo>
                    <a:lnTo>
                      <a:pt x="0" y="936345"/>
                    </a:lnTo>
                    <a:lnTo>
                      <a:pt x="175564" y="972921"/>
                    </a:lnTo>
                    <a:lnTo>
                      <a:pt x="182880" y="1053389"/>
                    </a:lnTo>
                    <a:lnTo>
                      <a:pt x="43891" y="1185062"/>
                    </a:lnTo>
                    <a:lnTo>
                      <a:pt x="36576" y="1207008"/>
                    </a:lnTo>
                    <a:lnTo>
                      <a:pt x="65836" y="1338681"/>
                    </a:lnTo>
                    <a:lnTo>
                      <a:pt x="270662" y="1294790"/>
                    </a:lnTo>
                    <a:lnTo>
                      <a:pt x="321868" y="1389888"/>
                    </a:lnTo>
                    <a:cubicBezTo>
                      <a:pt x="290169" y="1443533"/>
                      <a:pt x="251866" y="1493788"/>
                      <a:pt x="226771" y="1550822"/>
                    </a:cubicBezTo>
                    <a:cubicBezTo>
                      <a:pt x="223230" y="1558869"/>
                      <a:pt x="198729" y="1570330"/>
                      <a:pt x="241401" y="1572768"/>
                    </a:cubicBezTo>
                    <a:lnTo>
                      <a:pt x="336499" y="1667865"/>
                    </a:lnTo>
                    <a:lnTo>
                      <a:pt x="490118" y="1558137"/>
                    </a:lnTo>
                    <a:lnTo>
                      <a:pt x="577900" y="1609344"/>
                    </a:lnTo>
                    <a:lnTo>
                      <a:pt x="577900" y="1792224"/>
                    </a:lnTo>
                    <a:lnTo>
                      <a:pt x="694944" y="1843430"/>
                    </a:lnTo>
                    <a:lnTo>
                      <a:pt x="841248" y="1689811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5" name="组合 166"/>
          <p:cNvGrpSpPr/>
          <p:nvPr/>
        </p:nvGrpSpPr>
        <p:grpSpPr>
          <a:xfrm>
            <a:off x="2654280" y="2827440"/>
            <a:ext cx="1785960" cy="1724040"/>
            <a:chOff x="2654280" y="2827440"/>
            <a:chExt cx="1785960" cy="1724040"/>
          </a:xfrm>
        </p:grpSpPr>
        <p:sp>
          <p:nvSpPr>
            <p:cNvPr id="716" name="任意多边形 103"/>
            <p:cNvSpPr/>
            <p:nvPr/>
          </p:nvSpPr>
          <p:spPr>
            <a:xfrm>
              <a:off x="3564000" y="2827440"/>
              <a:ext cx="876240" cy="863640"/>
            </a:xfrm>
            <a:custGeom>
              <a:avLst/>
              <a:gdLst/>
              <a:ahLst/>
              <a:rect l="l" t="t" r="r" b="b"/>
              <a:pathLst>
                <a:path w="876300" h="863600">
                  <a:moveTo>
                    <a:pt x="165100" y="0"/>
                  </a:moveTo>
                  <a:lnTo>
                    <a:pt x="273050" y="19050"/>
                  </a:lnTo>
                  <a:lnTo>
                    <a:pt x="279400" y="146050"/>
                  </a:lnTo>
                  <a:lnTo>
                    <a:pt x="304800" y="171450"/>
                  </a:lnTo>
                  <a:lnTo>
                    <a:pt x="355600" y="177800"/>
                  </a:lnTo>
                  <a:lnTo>
                    <a:pt x="488950" y="95250"/>
                  </a:lnTo>
                  <a:lnTo>
                    <a:pt x="577850" y="139700"/>
                  </a:lnTo>
                  <a:lnTo>
                    <a:pt x="533400" y="273050"/>
                  </a:lnTo>
                  <a:lnTo>
                    <a:pt x="584200" y="330200"/>
                  </a:lnTo>
                  <a:lnTo>
                    <a:pt x="730250" y="304800"/>
                  </a:lnTo>
                  <a:lnTo>
                    <a:pt x="787400" y="368300"/>
                  </a:lnTo>
                  <a:lnTo>
                    <a:pt x="692150" y="482600"/>
                  </a:lnTo>
                  <a:lnTo>
                    <a:pt x="685800" y="495300"/>
                  </a:lnTo>
                  <a:lnTo>
                    <a:pt x="711200" y="609600"/>
                  </a:lnTo>
                  <a:lnTo>
                    <a:pt x="850900" y="654050"/>
                  </a:lnTo>
                  <a:lnTo>
                    <a:pt x="876300" y="666750"/>
                  </a:lnTo>
                  <a:lnTo>
                    <a:pt x="203200" y="863600"/>
                  </a:lnTo>
                  <a:lnTo>
                    <a:pt x="184150" y="730250"/>
                  </a:lnTo>
                  <a:lnTo>
                    <a:pt x="127000" y="647700"/>
                  </a:lnTo>
                  <a:lnTo>
                    <a:pt x="0" y="584200"/>
                  </a:lnTo>
                  <a:lnTo>
                    <a:pt x="165100" y="0"/>
                  </a:lnTo>
                  <a:close/>
                </a:path>
              </a:pathLst>
            </a:custGeom>
            <a:solidFill>
              <a:srgbClr val="ffff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任意多边形 165"/>
            <p:cNvSpPr/>
            <p:nvPr/>
          </p:nvSpPr>
          <p:spPr>
            <a:xfrm>
              <a:off x="2654280" y="3687840"/>
              <a:ext cx="876240" cy="863640"/>
            </a:xfrm>
            <a:custGeom>
              <a:avLst/>
              <a:gdLst/>
              <a:ahLst/>
              <a:rect l="l" t="t" r="r" b="b"/>
              <a:pathLst>
                <a:path w="876300" h="863600">
                  <a:moveTo>
                    <a:pt x="165100" y="0"/>
                  </a:moveTo>
                  <a:lnTo>
                    <a:pt x="273050" y="19050"/>
                  </a:lnTo>
                  <a:lnTo>
                    <a:pt x="279400" y="146050"/>
                  </a:lnTo>
                  <a:lnTo>
                    <a:pt x="304800" y="171450"/>
                  </a:lnTo>
                  <a:lnTo>
                    <a:pt x="355600" y="177800"/>
                  </a:lnTo>
                  <a:lnTo>
                    <a:pt x="488950" y="95250"/>
                  </a:lnTo>
                  <a:lnTo>
                    <a:pt x="577850" y="139700"/>
                  </a:lnTo>
                  <a:lnTo>
                    <a:pt x="533400" y="273050"/>
                  </a:lnTo>
                  <a:lnTo>
                    <a:pt x="584200" y="330200"/>
                  </a:lnTo>
                  <a:lnTo>
                    <a:pt x="730250" y="304800"/>
                  </a:lnTo>
                  <a:lnTo>
                    <a:pt x="787400" y="368300"/>
                  </a:lnTo>
                  <a:lnTo>
                    <a:pt x="692150" y="482600"/>
                  </a:lnTo>
                  <a:lnTo>
                    <a:pt x="685800" y="495300"/>
                  </a:lnTo>
                  <a:lnTo>
                    <a:pt x="711200" y="609600"/>
                  </a:lnTo>
                  <a:lnTo>
                    <a:pt x="850900" y="654050"/>
                  </a:lnTo>
                  <a:lnTo>
                    <a:pt x="876300" y="666750"/>
                  </a:lnTo>
                  <a:lnTo>
                    <a:pt x="203200" y="863600"/>
                  </a:lnTo>
                  <a:lnTo>
                    <a:pt x="184150" y="730250"/>
                  </a:lnTo>
                  <a:lnTo>
                    <a:pt x="127000" y="647700"/>
                  </a:lnTo>
                  <a:lnTo>
                    <a:pt x="0" y="584200"/>
                  </a:lnTo>
                  <a:lnTo>
                    <a:pt x="16510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组合 168"/>
          <p:cNvGrpSpPr/>
          <p:nvPr/>
        </p:nvGrpSpPr>
        <p:grpSpPr>
          <a:xfrm>
            <a:off x="3011400" y="4473720"/>
            <a:ext cx="1928880" cy="1680840"/>
            <a:chOff x="3011400" y="4473720"/>
            <a:chExt cx="1928880" cy="1680840"/>
          </a:xfrm>
        </p:grpSpPr>
        <p:sp>
          <p:nvSpPr>
            <p:cNvPr id="719" name="任意多边形 136"/>
            <p:cNvSpPr/>
            <p:nvPr/>
          </p:nvSpPr>
          <p:spPr>
            <a:xfrm>
              <a:off x="4032360" y="5018040"/>
              <a:ext cx="907920" cy="1136520"/>
            </a:xfrm>
            <a:custGeom>
              <a:avLst/>
              <a:gdLst/>
              <a:ahLst/>
              <a:rect l="l" t="t" r="r" b="b"/>
              <a:pathLst>
                <a:path w="908050" h="1136650">
                  <a:moveTo>
                    <a:pt x="0" y="552450"/>
                  </a:moveTo>
                  <a:lnTo>
                    <a:pt x="114300" y="463550"/>
                  </a:lnTo>
                  <a:lnTo>
                    <a:pt x="184150" y="368300"/>
                  </a:lnTo>
                  <a:lnTo>
                    <a:pt x="215900" y="273050"/>
                  </a:lnTo>
                  <a:lnTo>
                    <a:pt x="222250" y="215900"/>
                  </a:lnTo>
                  <a:lnTo>
                    <a:pt x="762000" y="0"/>
                  </a:lnTo>
                  <a:lnTo>
                    <a:pt x="793750" y="25400"/>
                  </a:lnTo>
                  <a:lnTo>
                    <a:pt x="889000" y="38100"/>
                  </a:lnTo>
                  <a:lnTo>
                    <a:pt x="908050" y="88900"/>
                  </a:lnTo>
                  <a:lnTo>
                    <a:pt x="895350" y="165100"/>
                  </a:lnTo>
                  <a:lnTo>
                    <a:pt x="781050" y="215900"/>
                  </a:lnTo>
                  <a:lnTo>
                    <a:pt x="762000" y="311150"/>
                  </a:lnTo>
                  <a:lnTo>
                    <a:pt x="876300" y="393700"/>
                  </a:lnTo>
                  <a:lnTo>
                    <a:pt x="850900" y="476250"/>
                  </a:lnTo>
                  <a:cubicBezTo>
                    <a:pt x="830903" y="516243"/>
                    <a:pt x="846049" y="514350"/>
                    <a:pt x="825500" y="514350"/>
                  </a:cubicBezTo>
                  <a:lnTo>
                    <a:pt x="723900" y="533400"/>
                  </a:lnTo>
                  <a:lnTo>
                    <a:pt x="673100" y="558800"/>
                  </a:lnTo>
                  <a:lnTo>
                    <a:pt x="628650" y="641350"/>
                  </a:lnTo>
                  <a:lnTo>
                    <a:pt x="679450" y="736600"/>
                  </a:lnTo>
                  <a:lnTo>
                    <a:pt x="679450" y="755650"/>
                  </a:lnTo>
                  <a:lnTo>
                    <a:pt x="603250" y="838200"/>
                  </a:lnTo>
                  <a:lnTo>
                    <a:pt x="584200" y="857250"/>
                  </a:lnTo>
                  <a:lnTo>
                    <a:pt x="469900" y="825500"/>
                  </a:lnTo>
                  <a:lnTo>
                    <a:pt x="361950" y="908050"/>
                  </a:lnTo>
                  <a:lnTo>
                    <a:pt x="342900" y="927100"/>
                  </a:lnTo>
                  <a:lnTo>
                    <a:pt x="342900" y="1085850"/>
                  </a:lnTo>
                  <a:lnTo>
                    <a:pt x="234950" y="1136650"/>
                  </a:lnTo>
                  <a:lnTo>
                    <a:pt x="0" y="552450"/>
                  </a:ln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任意多边形 167"/>
            <p:cNvSpPr/>
            <p:nvPr/>
          </p:nvSpPr>
          <p:spPr>
            <a:xfrm>
              <a:off x="3011400" y="4473720"/>
              <a:ext cx="907920" cy="1136520"/>
            </a:xfrm>
            <a:custGeom>
              <a:avLst/>
              <a:gdLst/>
              <a:ahLst/>
              <a:rect l="l" t="t" r="r" b="b"/>
              <a:pathLst>
                <a:path w="908050" h="1136650">
                  <a:moveTo>
                    <a:pt x="0" y="552450"/>
                  </a:moveTo>
                  <a:lnTo>
                    <a:pt x="114300" y="463550"/>
                  </a:lnTo>
                  <a:lnTo>
                    <a:pt x="184150" y="368300"/>
                  </a:lnTo>
                  <a:lnTo>
                    <a:pt x="215900" y="273050"/>
                  </a:lnTo>
                  <a:lnTo>
                    <a:pt x="222250" y="215900"/>
                  </a:lnTo>
                  <a:lnTo>
                    <a:pt x="762000" y="0"/>
                  </a:lnTo>
                  <a:lnTo>
                    <a:pt x="793750" y="25400"/>
                  </a:lnTo>
                  <a:lnTo>
                    <a:pt x="889000" y="38100"/>
                  </a:lnTo>
                  <a:lnTo>
                    <a:pt x="908050" y="88900"/>
                  </a:lnTo>
                  <a:lnTo>
                    <a:pt x="895350" y="165100"/>
                  </a:lnTo>
                  <a:lnTo>
                    <a:pt x="781050" y="215900"/>
                  </a:lnTo>
                  <a:lnTo>
                    <a:pt x="762000" y="311150"/>
                  </a:lnTo>
                  <a:lnTo>
                    <a:pt x="876300" y="393700"/>
                  </a:lnTo>
                  <a:lnTo>
                    <a:pt x="850900" y="476250"/>
                  </a:lnTo>
                  <a:cubicBezTo>
                    <a:pt x="830903" y="516243"/>
                    <a:pt x="846049" y="514350"/>
                    <a:pt x="825500" y="514350"/>
                  </a:cubicBezTo>
                  <a:lnTo>
                    <a:pt x="723900" y="533400"/>
                  </a:lnTo>
                  <a:lnTo>
                    <a:pt x="673100" y="558800"/>
                  </a:lnTo>
                  <a:lnTo>
                    <a:pt x="628650" y="641350"/>
                  </a:lnTo>
                  <a:lnTo>
                    <a:pt x="679450" y="736600"/>
                  </a:lnTo>
                  <a:lnTo>
                    <a:pt x="679450" y="755650"/>
                  </a:lnTo>
                  <a:lnTo>
                    <a:pt x="603250" y="838200"/>
                  </a:lnTo>
                  <a:lnTo>
                    <a:pt x="584200" y="857250"/>
                  </a:lnTo>
                  <a:lnTo>
                    <a:pt x="469900" y="825500"/>
                  </a:lnTo>
                  <a:lnTo>
                    <a:pt x="361950" y="908050"/>
                  </a:lnTo>
                  <a:lnTo>
                    <a:pt x="342900" y="927100"/>
                  </a:lnTo>
                  <a:lnTo>
                    <a:pt x="342900" y="1085850"/>
                  </a:lnTo>
                  <a:lnTo>
                    <a:pt x="234950" y="1136650"/>
                  </a:lnTo>
                  <a:lnTo>
                    <a:pt x="0" y="55245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TextBox 169"/>
          <p:cNvSpPr/>
          <p:nvPr/>
        </p:nvSpPr>
        <p:spPr>
          <a:xfrm rot="19751400">
            <a:off x="1895040" y="45054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Box 170"/>
          <p:cNvSpPr/>
          <p:nvPr/>
        </p:nvSpPr>
        <p:spPr>
          <a:xfrm rot="19939200">
            <a:off x="634320" y="52164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79c5"/>
                </a:solidFill>
                <a:latin typeface="微软雅黑"/>
                <a:ea typeface="微软雅黑"/>
              </a:rPr>
              <a:t>2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Box 171"/>
          <p:cNvSpPr/>
          <p:nvPr/>
        </p:nvSpPr>
        <p:spPr>
          <a:xfrm>
            <a:off x="2786040" y="4071960"/>
            <a:ext cx="85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82.1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Box 172"/>
          <p:cNvSpPr/>
          <p:nvPr/>
        </p:nvSpPr>
        <p:spPr>
          <a:xfrm>
            <a:off x="3500280" y="314316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17.9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Box 173"/>
          <p:cNvSpPr/>
          <p:nvPr/>
        </p:nvSpPr>
        <p:spPr>
          <a:xfrm rot="20368800">
            <a:off x="3571920" y="4686120"/>
            <a:ext cx="85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78.4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Box 174"/>
          <p:cNvSpPr/>
          <p:nvPr/>
        </p:nvSpPr>
        <p:spPr>
          <a:xfrm rot="20223600">
            <a:off x="4120920" y="5347800"/>
            <a:ext cx="85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79c5"/>
                </a:solidFill>
                <a:latin typeface="微软雅黑"/>
                <a:ea typeface="微软雅黑"/>
              </a:rPr>
              <a:t>21.5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Box 175"/>
          <p:cNvSpPr/>
          <p:nvPr/>
        </p:nvSpPr>
        <p:spPr>
          <a:xfrm>
            <a:off x="938160" y="741240"/>
            <a:ext cx="2062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数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Box 176"/>
          <p:cNvSpPr/>
          <p:nvPr/>
        </p:nvSpPr>
        <p:spPr>
          <a:xfrm>
            <a:off x="2938320" y="1905120"/>
            <a:ext cx="68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站长站素材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.chinaz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Box 177"/>
          <p:cNvSpPr/>
          <p:nvPr/>
        </p:nvSpPr>
        <p:spPr>
          <a:xfrm>
            <a:off x="2571840" y="1127160"/>
            <a:ext cx="70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往往比语言更有说服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fade/>
  </p:transition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nodeType="clickEffect" fill="hold">
                      <p:stCondLst>
                        <p:cond delay="0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02" dur="4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5" dur="1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2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8" dur="1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2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1" dur="1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22" presetSubtype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4" dur="11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22" presetSubtype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7" dur="1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22" presetSubtype="8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0" dur="1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3" dur="1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22" presetSubtype="8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6" dur="1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22" presetSubtype="8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9" dur="1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2" dur="1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22" presetSubtype="8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5" dur="1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6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8" dur="1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22" presetSubtype="8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1" dur="1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22" presetSubtype="8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4" dur="1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22" presetSubtype="8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7" dur="1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22" presetSubtype="8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0" dur="1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16" presetSubtype="37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53" dur="1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22" presetSubtype="8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6" dur="1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22" presetSubtype="8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9" dur="1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22" presetSubtype="8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2" dur="1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22" presetSubtype="8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5" dur="1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8" dur="1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22" presetSubtype="8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1" dur="1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22" presetSubtype="8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4" dur="1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21" presetSubtype="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77" dur="4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21" presetSubtype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80" dur="3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21" presetSubtype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83" dur="3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4" nodeType="withEffect" fill="hold" presetClass="entr" presetID="21" presetSubtype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86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188" nodeType="after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90" dur="3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93" dur="3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nodeType="afterEffect" fill="hold">
                            <p:stCondLst>
                              <p:cond delay="9300"/>
                            </p:stCondLst>
                            <p:childTnLst>
                              <p:par>
                                <p:cTn id="119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97" dur="3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00" dur="3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03" dur="3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06" dur="3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nodeType="afterEffect" fill="hold">
                            <p:stCondLst>
                              <p:cond delay="9600"/>
                            </p:stCondLst>
                            <p:childTnLst>
                              <p:par>
                                <p:cTn id="1208" nodeType="afterEffect" fill="hold" presetClass="entr" presetID="21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210" dur="7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1" nodeType="afterEffect" fill="hold">
                            <p:stCondLst>
                              <p:cond delay="10800"/>
                            </p:stCondLst>
                            <p:childTnLst>
                              <p:par>
                                <p:cTn id="1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4" dur="3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nodeType="afterEffect" fill="hold">
                            <p:stCondLst>
                              <p:cond delay="11100"/>
                            </p:stCondLst>
                            <p:childTnLst>
                              <p:par>
                                <p:cTn id="1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8" dur="3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nodeType="afterEffect" fill="hold">
                            <p:stCondLst>
                              <p:cond delay="11400"/>
                            </p:stCondLst>
                            <p:childTnLst>
                              <p:par>
                                <p:cTn id="122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2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nodeType="afterEffect" fill="hold">
                            <p:stCondLst>
                              <p:cond delay="11900"/>
                            </p:stCondLst>
                            <p:childTnLst>
                              <p:par>
                                <p:cTn id="1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6" dur="3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nodeType="afterEffect" fill="hold">
                            <p:stCondLst>
                              <p:cond delay="12200"/>
                            </p:stCondLst>
                            <p:childTnLst>
                              <p:par>
                                <p:cTn id="1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0" dur="3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32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234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2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8" dur="3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nodeType="afterEffect" fill="hold">
                            <p:stCondLst>
                              <p:cond delay="13800"/>
                            </p:stCondLst>
                            <p:childTnLst>
                              <p:par>
                                <p:cTn id="1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2" dur="3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nodeType="afterEffect" fill="hold">
                            <p:stCondLst>
                              <p:cond delay="14100"/>
                            </p:stCondLst>
                            <p:childTnLst>
                              <p:par>
                                <p:cTn id="124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6" dur="500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nodeType="afterEffect" fill="hold">
                            <p:stCondLst>
                              <p:cond delay="15100"/>
                            </p:stCondLst>
                            <p:childTnLst>
                              <p:par>
                                <p:cTn id="12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0" dur="1000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nodeType="afterEffect" fill="hold">
                            <p:stCondLst>
                              <p:cond delay="16100"/>
                            </p:stCondLst>
                            <p:childTnLst>
                              <p:par>
                                <p:cTn id="1252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4" dur="100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1" name="组合 104"/>
          <p:cNvGrpSpPr/>
          <p:nvPr/>
        </p:nvGrpSpPr>
        <p:grpSpPr>
          <a:xfrm>
            <a:off x="500040" y="-1300320"/>
            <a:ext cx="3286080" cy="9528480"/>
            <a:chOff x="500040" y="-1300320"/>
            <a:chExt cx="3286080" cy="9528480"/>
          </a:xfrm>
        </p:grpSpPr>
        <p:sp>
          <p:nvSpPr>
            <p:cNvPr id="732" name="矩形 2"/>
            <p:cNvSpPr/>
            <p:nvPr/>
          </p:nvSpPr>
          <p:spPr>
            <a:xfrm>
              <a:off x="500040" y="-142920"/>
              <a:ext cx="3286080" cy="71442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3" name="组合 37"/>
            <p:cNvGrpSpPr/>
            <p:nvPr/>
          </p:nvGrpSpPr>
          <p:grpSpPr>
            <a:xfrm>
              <a:off x="635400" y="-348120"/>
              <a:ext cx="198000" cy="7540920"/>
              <a:chOff x="635400" y="-348120"/>
              <a:chExt cx="198000" cy="7540920"/>
            </a:xfrm>
          </p:grpSpPr>
          <p:grpSp>
            <p:nvGrpSpPr>
              <p:cNvPr id="734" name="组合 18"/>
              <p:cNvGrpSpPr/>
              <p:nvPr/>
            </p:nvGrpSpPr>
            <p:grpSpPr>
              <a:xfrm>
                <a:off x="635400" y="-348120"/>
                <a:ext cx="198000" cy="2396160"/>
                <a:chOff x="635400" y="-348120"/>
                <a:chExt cx="198000" cy="2396160"/>
              </a:xfrm>
            </p:grpSpPr>
            <p:sp>
              <p:nvSpPr>
                <p:cNvPr id="735" name="圆角矩形 4"/>
                <p:cNvSpPr/>
                <p:nvPr/>
              </p:nvSpPr>
              <p:spPr>
                <a:xfrm>
                  <a:off x="635400" y="938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圆角矩形 5"/>
                <p:cNvSpPr/>
                <p:nvPr/>
              </p:nvSpPr>
              <p:spPr>
                <a:xfrm>
                  <a:off x="635400" y="126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圆角矩形 8"/>
                <p:cNvSpPr/>
                <p:nvPr/>
              </p:nvSpPr>
              <p:spPr>
                <a:xfrm>
                  <a:off x="635400" y="1581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圆角矩形 9"/>
                <p:cNvSpPr/>
                <p:nvPr/>
              </p:nvSpPr>
              <p:spPr>
                <a:xfrm>
                  <a:off x="635400" y="1903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圆角矩形 16"/>
                <p:cNvSpPr/>
                <p:nvPr/>
              </p:nvSpPr>
              <p:spPr>
                <a:xfrm>
                  <a:off x="635400" y="-34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圆角矩形 17"/>
                <p:cNvSpPr/>
                <p:nvPr/>
              </p:nvSpPr>
              <p:spPr>
                <a:xfrm>
                  <a:off x="635400" y="-2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圆角矩形 14"/>
                <p:cNvSpPr/>
                <p:nvPr/>
              </p:nvSpPr>
              <p:spPr>
                <a:xfrm>
                  <a:off x="635400" y="294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圆角矩形 15"/>
                <p:cNvSpPr/>
                <p:nvPr/>
              </p:nvSpPr>
              <p:spPr>
                <a:xfrm>
                  <a:off x="635400" y="617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3" name="组合 19"/>
              <p:cNvGrpSpPr/>
              <p:nvPr/>
            </p:nvGrpSpPr>
            <p:grpSpPr>
              <a:xfrm>
                <a:off x="635400" y="2224080"/>
                <a:ext cx="198000" cy="2396160"/>
                <a:chOff x="635400" y="2224080"/>
                <a:chExt cx="198000" cy="2396160"/>
              </a:xfrm>
            </p:grpSpPr>
            <p:sp>
              <p:nvSpPr>
                <p:cNvPr id="744" name="圆角矩形 20"/>
                <p:cNvSpPr/>
                <p:nvPr/>
              </p:nvSpPr>
              <p:spPr>
                <a:xfrm>
                  <a:off x="635400" y="351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圆角矩形 21"/>
                <p:cNvSpPr/>
                <p:nvPr/>
              </p:nvSpPr>
              <p:spPr>
                <a:xfrm>
                  <a:off x="635400" y="383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圆角矩形 22"/>
                <p:cNvSpPr/>
                <p:nvPr/>
              </p:nvSpPr>
              <p:spPr>
                <a:xfrm>
                  <a:off x="635400" y="4153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圆角矩形 23"/>
                <p:cNvSpPr/>
                <p:nvPr/>
              </p:nvSpPr>
              <p:spPr>
                <a:xfrm>
                  <a:off x="635400" y="4475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圆角矩形 24"/>
                <p:cNvSpPr/>
                <p:nvPr/>
              </p:nvSpPr>
              <p:spPr>
                <a:xfrm>
                  <a:off x="635400" y="22240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圆角矩形 25"/>
                <p:cNvSpPr/>
                <p:nvPr/>
              </p:nvSpPr>
              <p:spPr>
                <a:xfrm>
                  <a:off x="635400" y="25462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圆角矩形 26"/>
                <p:cNvSpPr/>
                <p:nvPr/>
              </p:nvSpPr>
              <p:spPr>
                <a:xfrm>
                  <a:off x="635400" y="2867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圆角矩形 27"/>
                <p:cNvSpPr/>
                <p:nvPr/>
              </p:nvSpPr>
              <p:spPr>
                <a:xfrm>
                  <a:off x="635400" y="3189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2" name="组合 28"/>
              <p:cNvGrpSpPr/>
              <p:nvPr/>
            </p:nvGrpSpPr>
            <p:grpSpPr>
              <a:xfrm>
                <a:off x="635400" y="4796640"/>
                <a:ext cx="198000" cy="2396160"/>
                <a:chOff x="635400" y="4796640"/>
                <a:chExt cx="198000" cy="2396160"/>
              </a:xfrm>
            </p:grpSpPr>
            <p:sp>
              <p:nvSpPr>
                <p:cNvPr id="753" name="圆角矩形 29"/>
                <p:cNvSpPr/>
                <p:nvPr/>
              </p:nvSpPr>
              <p:spPr>
                <a:xfrm>
                  <a:off x="635400" y="6082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圆角矩形 30"/>
                <p:cNvSpPr/>
                <p:nvPr/>
              </p:nvSpPr>
              <p:spPr>
                <a:xfrm>
                  <a:off x="635400" y="6405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圆角矩形 31"/>
                <p:cNvSpPr/>
                <p:nvPr/>
              </p:nvSpPr>
              <p:spPr>
                <a:xfrm>
                  <a:off x="635400" y="6726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圆角矩形 32"/>
                <p:cNvSpPr/>
                <p:nvPr/>
              </p:nvSpPr>
              <p:spPr>
                <a:xfrm>
                  <a:off x="635400" y="7048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圆角矩形 33"/>
                <p:cNvSpPr/>
                <p:nvPr/>
              </p:nvSpPr>
              <p:spPr>
                <a:xfrm>
                  <a:off x="635400" y="47966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圆角矩形 34"/>
                <p:cNvSpPr/>
                <p:nvPr/>
              </p:nvSpPr>
              <p:spPr>
                <a:xfrm>
                  <a:off x="635400" y="5118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圆角矩形 35"/>
                <p:cNvSpPr/>
                <p:nvPr/>
              </p:nvSpPr>
              <p:spPr>
                <a:xfrm>
                  <a:off x="635400" y="5439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圆角矩形 36"/>
                <p:cNvSpPr/>
                <p:nvPr/>
              </p:nvSpPr>
              <p:spPr>
                <a:xfrm>
                  <a:off x="635400" y="5762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61" name="组合 66"/>
            <p:cNvGrpSpPr/>
            <p:nvPr/>
          </p:nvGrpSpPr>
          <p:grpSpPr>
            <a:xfrm>
              <a:off x="3445560" y="-349560"/>
              <a:ext cx="198000" cy="7540920"/>
              <a:chOff x="3445560" y="-349560"/>
              <a:chExt cx="198000" cy="7540920"/>
            </a:xfrm>
          </p:grpSpPr>
          <p:grpSp>
            <p:nvGrpSpPr>
              <p:cNvPr id="762" name="组合 18"/>
              <p:cNvGrpSpPr/>
              <p:nvPr/>
            </p:nvGrpSpPr>
            <p:grpSpPr>
              <a:xfrm>
                <a:off x="3445560" y="-349560"/>
                <a:ext cx="198000" cy="2396160"/>
                <a:chOff x="3445560" y="-349560"/>
                <a:chExt cx="198000" cy="2396160"/>
              </a:xfrm>
            </p:grpSpPr>
            <p:sp>
              <p:nvSpPr>
                <p:cNvPr id="763" name="圆角矩形 4"/>
                <p:cNvSpPr/>
                <p:nvPr/>
              </p:nvSpPr>
              <p:spPr>
                <a:xfrm>
                  <a:off x="3445560" y="9367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圆角矩形 87"/>
                <p:cNvSpPr/>
                <p:nvPr/>
              </p:nvSpPr>
              <p:spPr>
                <a:xfrm>
                  <a:off x="3445560" y="1258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圆角矩形 88"/>
                <p:cNvSpPr/>
                <p:nvPr/>
              </p:nvSpPr>
              <p:spPr>
                <a:xfrm>
                  <a:off x="3445560" y="1580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圆角矩形 89"/>
                <p:cNvSpPr/>
                <p:nvPr/>
              </p:nvSpPr>
              <p:spPr>
                <a:xfrm>
                  <a:off x="3445560" y="1902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圆角矩形 90"/>
                <p:cNvSpPr/>
                <p:nvPr/>
              </p:nvSpPr>
              <p:spPr>
                <a:xfrm>
                  <a:off x="3445560" y="-349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圆角矩形 91"/>
                <p:cNvSpPr/>
                <p:nvPr/>
              </p:nvSpPr>
              <p:spPr>
                <a:xfrm>
                  <a:off x="3445560" y="-270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圆角矩形 92"/>
                <p:cNvSpPr/>
                <p:nvPr/>
              </p:nvSpPr>
              <p:spPr>
                <a:xfrm>
                  <a:off x="3445560" y="293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圆角矩形 93"/>
                <p:cNvSpPr/>
                <p:nvPr/>
              </p:nvSpPr>
              <p:spPr>
                <a:xfrm>
                  <a:off x="3445560" y="6159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1" name="组合 19"/>
              <p:cNvGrpSpPr/>
              <p:nvPr/>
            </p:nvGrpSpPr>
            <p:grpSpPr>
              <a:xfrm>
                <a:off x="3445560" y="2222640"/>
                <a:ext cx="198000" cy="2396160"/>
                <a:chOff x="3445560" y="2222640"/>
                <a:chExt cx="198000" cy="2396160"/>
              </a:xfrm>
            </p:grpSpPr>
            <p:sp>
              <p:nvSpPr>
                <p:cNvPr id="772" name="圆角矩形 78"/>
                <p:cNvSpPr/>
                <p:nvPr/>
              </p:nvSpPr>
              <p:spPr>
                <a:xfrm>
                  <a:off x="3445560" y="3507120"/>
                  <a:ext cx="198000" cy="1422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圆角矩形 79"/>
                <p:cNvSpPr/>
                <p:nvPr/>
              </p:nvSpPr>
              <p:spPr>
                <a:xfrm>
                  <a:off x="3445560" y="383328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圆角矩形 80"/>
                <p:cNvSpPr/>
                <p:nvPr/>
              </p:nvSpPr>
              <p:spPr>
                <a:xfrm>
                  <a:off x="3445560" y="41533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圆角矩形 81"/>
                <p:cNvSpPr/>
                <p:nvPr/>
              </p:nvSpPr>
              <p:spPr>
                <a:xfrm>
                  <a:off x="3445560" y="447480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圆角矩形 82"/>
                <p:cNvSpPr/>
                <p:nvPr/>
              </p:nvSpPr>
              <p:spPr>
                <a:xfrm>
                  <a:off x="3445560" y="222264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圆角矩形 83"/>
                <p:cNvSpPr/>
                <p:nvPr/>
              </p:nvSpPr>
              <p:spPr>
                <a:xfrm>
                  <a:off x="3445560" y="25441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圆角矩形 84"/>
                <p:cNvSpPr/>
                <p:nvPr/>
              </p:nvSpPr>
              <p:spPr>
                <a:xfrm>
                  <a:off x="3445560" y="286380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圆角矩形 85"/>
                <p:cNvSpPr/>
                <p:nvPr/>
              </p:nvSpPr>
              <p:spPr>
                <a:xfrm>
                  <a:off x="3445560" y="3187080"/>
                  <a:ext cx="198000" cy="1422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0" name="组合 28"/>
              <p:cNvGrpSpPr/>
              <p:nvPr/>
            </p:nvGrpSpPr>
            <p:grpSpPr>
              <a:xfrm>
                <a:off x="3445560" y="4795200"/>
                <a:ext cx="198000" cy="2396160"/>
                <a:chOff x="3445560" y="4795200"/>
                <a:chExt cx="198000" cy="2396160"/>
              </a:xfrm>
            </p:grpSpPr>
            <p:sp>
              <p:nvSpPr>
                <p:cNvPr id="781" name="圆角矩形 70"/>
                <p:cNvSpPr/>
                <p:nvPr/>
              </p:nvSpPr>
              <p:spPr>
                <a:xfrm>
                  <a:off x="3445560" y="6084000"/>
                  <a:ext cx="198000" cy="1447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圆角矩形 71"/>
                <p:cNvSpPr/>
                <p:nvPr/>
              </p:nvSpPr>
              <p:spPr>
                <a:xfrm>
                  <a:off x="3445560" y="6406920"/>
                  <a:ext cx="198000" cy="1447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圆角矩形 72"/>
                <p:cNvSpPr/>
                <p:nvPr/>
              </p:nvSpPr>
              <p:spPr>
                <a:xfrm>
                  <a:off x="3445560" y="6728400"/>
                  <a:ext cx="198000" cy="1447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圆角矩形 73"/>
                <p:cNvSpPr/>
                <p:nvPr/>
              </p:nvSpPr>
              <p:spPr>
                <a:xfrm>
                  <a:off x="3445560" y="7051680"/>
                  <a:ext cx="198000" cy="13968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圆角矩形 74"/>
                <p:cNvSpPr/>
                <p:nvPr/>
              </p:nvSpPr>
              <p:spPr>
                <a:xfrm>
                  <a:off x="3445560" y="4795200"/>
                  <a:ext cx="198000" cy="1447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圆角矩形 75"/>
                <p:cNvSpPr/>
                <p:nvPr/>
              </p:nvSpPr>
              <p:spPr>
                <a:xfrm>
                  <a:off x="3445560" y="5118120"/>
                  <a:ext cx="198000" cy="1447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圆角矩形 76"/>
                <p:cNvSpPr/>
                <p:nvPr/>
              </p:nvSpPr>
              <p:spPr>
                <a:xfrm>
                  <a:off x="3445560" y="5439600"/>
                  <a:ext cx="198000" cy="1447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圆角矩形 77"/>
                <p:cNvSpPr/>
                <p:nvPr/>
              </p:nvSpPr>
              <p:spPr>
                <a:xfrm>
                  <a:off x="3445560" y="5762520"/>
                  <a:ext cx="198000" cy="1447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89" name="圆角矩形 94"/>
            <p:cNvSpPr/>
            <p:nvPr/>
          </p:nvSpPr>
          <p:spPr>
            <a:xfrm>
              <a:off x="928440" y="658440"/>
              <a:ext cx="2428920" cy="172872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圆角矩形 95"/>
            <p:cNvSpPr/>
            <p:nvPr/>
          </p:nvSpPr>
          <p:spPr>
            <a:xfrm>
              <a:off x="928440" y="2593800"/>
              <a:ext cx="2428920" cy="172872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圆角矩形 96"/>
            <p:cNvSpPr/>
            <p:nvPr/>
          </p:nvSpPr>
          <p:spPr>
            <a:xfrm>
              <a:off x="928440" y="4546800"/>
              <a:ext cx="2428920" cy="172872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圆角矩形 97"/>
            <p:cNvSpPr/>
            <p:nvPr/>
          </p:nvSpPr>
          <p:spPr>
            <a:xfrm>
              <a:off x="928440" y="6499440"/>
              <a:ext cx="2428920" cy="172872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圆角矩形 98"/>
            <p:cNvSpPr/>
            <p:nvPr/>
          </p:nvSpPr>
          <p:spPr>
            <a:xfrm>
              <a:off x="928440" y="-1300320"/>
              <a:ext cx="2428920" cy="172872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4" name="TextBox 99"/>
          <p:cNvSpPr/>
          <p:nvPr/>
        </p:nvSpPr>
        <p:spPr>
          <a:xfrm rot="21051000">
            <a:off x="797400" y="93996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101"/>
          <p:cNvSpPr/>
          <p:nvPr/>
        </p:nvSpPr>
        <p:spPr>
          <a:xfrm rot="614400">
            <a:off x="767520" y="496404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直接连接符 105"/>
          <p:cNvSpPr/>
          <p:nvPr/>
        </p:nvSpPr>
        <p:spPr>
          <a:xfrm>
            <a:off x="928800" y="3451320"/>
            <a:ext cx="2519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直接连接符 109"/>
          <p:cNvSpPr/>
          <p:nvPr/>
        </p:nvSpPr>
        <p:spPr>
          <a:xfrm>
            <a:off x="2142360" y="2595600"/>
            <a:ext cx="1800" cy="172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8" name="组合 114"/>
          <p:cNvGrpSpPr/>
          <p:nvPr/>
        </p:nvGrpSpPr>
        <p:grpSpPr>
          <a:xfrm>
            <a:off x="1397160" y="2714760"/>
            <a:ext cx="1500120" cy="1500120"/>
            <a:chOff x="1397160" y="2714760"/>
            <a:chExt cx="1500120" cy="1500120"/>
          </a:xfrm>
        </p:grpSpPr>
        <p:sp>
          <p:nvSpPr>
            <p:cNvPr id="799" name="同心圆 112"/>
            <p:cNvSpPr/>
            <p:nvPr/>
          </p:nvSpPr>
          <p:spPr>
            <a:xfrm>
              <a:off x="1397160" y="2714760"/>
              <a:ext cx="1500120" cy="1500120"/>
            </a:xfrm>
            <a:custGeom>
              <a:avLst/>
              <a:gdLst/>
              <a:ahLst/>
              <a:rect l="l" t="t" r="r" b="b"/>
              <a:pathLst>
                <a:path w="1500198" h="1500198">
                  <a:moveTo>
                    <a:pt x="0" y="750099"/>
                  </a:moveTo>
                  <a:cubicBezTo>
                    <a:pt x="0" y="335831"/>
                    <a:pt x="335831" y="0"/>
                    <a:pt x="750099" y="0"/>
                  </a:cubicBezTo>
                  <a:cubicBezTo>
                    <a:pt x="1164367" y="0"/>
                    <a:pt x="1500198" y="335831"/>
                    <a:pt x="1500198" y="750099"/>
                  </a:cubicBezTo>
                  <a:cubicBezTo>
                    <a:pt x="1500198" y="1164367"/>
                    <a:pt x="1164367" y="1500198"/>
                    <a:pt x="750099" y="1500198"/>
                  </a:cubicBezTo>
                  <a:cubicBezTo>
                    <a:pt x="335831" y="1500198"/>
                    <a:pt x="0" y="1164367"/>
                    <a:pt x="0" y="750099"/>
                  </a:cubicBezTo>
                  <a:close/>
                  <a:moveTo>
                    <a:pt x="103994" y="750099"/>
                  </a:moveTo>
                  <a:cubicBezTo>
                    <a:pt x="103994" y="1106933"/>
                    <a:pt x="393265" y="1396204"/>
                    <a:pt x="750099" y="1396204"/>
                  </a:cubicBezTo>
                  <a:cubicBezTo>
                    <a:pt x="1106933" y="1396204"/>
                    <a:pt x="1396204" y="1106933"/>
                    <a:pt x="1396204" y="750099"/>
                  </a:cubicBezTo>
                  <a:cubicBezTo>
                    <a:pt x="1396204" y="393265"/>
                    <a:pt x="1106933" y="103994"/>
                    <a:pt x="750099" y="103994"/>
                  </a:cubicBezTo>
                  <a:cubicBezTo>
                    <a:pt x="393265" y="103994"/>
                    <a:pt x="103994" y="393265"/>
                    <a:pt x="103994" y="750099"/>
                  </a:cubicBezTo>
                  <a:close/>
                </a:path>
              </a:pathLst>
            </a:custGeom>
            <a:solidFill>
              <a:srgbClr val="0079c5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0" name="椭圆 113"/>
            <p:cNvGrpSpPr/>
            <p:nvPr/>
          </p:nvGrpSpPr>
          <p:grpSpPr>
            <a:xfrm>
              <a:off x="1505880" y="2816280"/>
              <a:ext cx="1286280" cy="1286280"/>
              <a:chOff x="1505880" y="2816280"/>
              <a:chExt cx="1286280" cy="1286280"/>
            </a:xfrm>
          </p:grpSpPr>
          <p:pic>
            <p:nvPicPr>
              <p:cNvPr id="801" name="椭圆 1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505880" y="2816280"/>
                <a:ext cx="1286280" cy="128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2" name="Text Box 73"/>
              <p:cNvSpPr/>
              <p:nvPr/>
            </p:nvSpPr>
            <p:spPr>
              <a:xfrm>
                <a:off x="1696680" y="3005640"/>
                <a:ext cx="909360" cy="9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03" name="圆角矩形 115"/>
          <p:cNvSpPr/>
          <p:nvPr/>
        </p:nvSpPr>
        <p:spPr>
          <a:xfrm>
            <a:off x="944640" y="2603520"/>
            <a:ext cx="2428920" cy="1727280"/>
          </a:xfrm>
          <a:prstGeom prst="roundRect">
            <a:avLst>
              <a:gd name="adj" fmla="val 6477"/>
            </a:avLst>
          </a:prstGeom>
          <a:solidFill>
            <a:srgbClr val="0079c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Box 116"/>
          <p:cNvSpPr/>
          <p:nvPr/>
        </p:nvSpPr>
        <p:spPr>
          <a:xfrm>
            <a:off x="1714680" y="2643120"/>
            <a:ext cx="1785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任意多边形 108"/>
          <p:cNvSpPr/>
          <p:nvPr/>
        </p:nvSpPr>
        <p:spPr>
          <a:xfrm>
            <a:off x="6624720" y="3786120"/>
            <a:ext cx="2519280" cy="4680"/>
          </a:xfrm>
          <a:custGeom>
            <a:avLst/>
            <a:gdLst/>
            <a:ahLst/>
            <a:rect l="l" t="t" r="r" b="b"/>
            <a:pathLst>
              <a:path w="2585545" h="4762">
                <a:moveTo>
                  <a:pt x="0" y="0"/>
                </a:moveTo>
                <a:lnTo>
                  <a:pt x="2585545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Box 110"/>
          <p:cNvSpPr/>
          <p:nvPr/>
        </p:nvSpPr>
        <p:spPr>
          <a:xfrm>
            <a:off x="6564240" y="31035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动作设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1255" dur="indefinite" restart="never" nodeType="tmRoot">
          <p:childTnLst>
            <p:seq>
              <p:cTn id="1256" dur="indefinite" nodeType="mainSeq">
                <p:childTnLst>
                  <p:par>
                    <p:cTn id="1257" nodeType="clickEffect" fill="hold">
                      <p:stCondLst>
                        <p:cond delay="0"/>
                      </p:stCondLst>
                      <p:childTnLst>
                        <p:par>
                          <p:cTn id="1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1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263" nodeType="afterEffect" fill="hold" presetClass="entr" presetID="16" presetSubtype="2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65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12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4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276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8" dur="2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2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0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2" dur="2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2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285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9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2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4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96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1298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0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1304" nodeType="afterEffect" fill="hold" presetClass="exit" presetID="21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305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任意多边形 2"/>
          <p:cNvSpPr/>
          <p:nvPr/>
        </p:nvSpPr>
        <p:spPr>
          <a:xfrm>
            <a:off x="147600" y="5076720"/>
            <a:ext cx="765360" cy="532080"/>
          </a:xfrm>
          <a:custGeom>
            <a:avLst/>
            <a:gdLst/>
            <a:ahLst/>
            <a:rect l="l" t="t" r="r" b="b"/>
            <a:pathLst>
              <a:path w="764274" h="532263">
                <a:moveTo>
                  <a:pt x="163773" y="532263"/>
                </a:moveTo>
                <a:lnTo>
                  <a:pt x="0" y="163773"/>
                </a:lnTo>
                <a:lnTo>
                  <a:pt x="764274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任意多边形 4"/>
          <p:cNvSpPr/>
          <p:nvPr/>
        </p:nvSpPr>
        <p:spPr>
          <a:xfrm>
            <a:off x="295200" y="5073480"/>
            <a:ext cx="843120" cy="532080"/>
          </a:xfrm>
          <a:custGeom>
            <a:avLst/>
            <a:gdLst/>
            <a:ahLst/>
            <a:rect l="l" t="t" r="r" b="b"/>
            <a:pathLst>
              <a:path w="842838" h="532738">
                <a:moveTo>
                  <a:pt x="0" y="532738"/>
                </a:moveTo>
                <a:lnTo>
                  <a:pt x="842838" y="333955"/>
                </a:lnTo>
                <a:lnTo>
                  <a:pt x="61225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任意多边形 5"/>
          <p:cNvSpPr/>
          <p:nvPr/>
        </p:nvSpPr>
        <p:spPr>
          <a:xfrm>
            <a:off x="138240" y="5232240"/>
            <a:ext cx="366480" cy="1494000"/>
          </a:xfrm>
          <a:custGeom>
            <a:avLst/>
            <a:gdLst/>
            <a:ahLst/>
            <a:rect l="l" t="t" r="r" b="b"/>
            <a:pathLst>
              <a:path w="365760" h="1494845">
                <a:moveTo>
                  <a:pt x="0" y="0"/>
                </a:moveTo>
                <a:lnTo>
                  <a:pt x="182880" y="1097280"/>
                </a:lnTo>
                <a:lnTo>
                  <a:pt x="365760" y="1494845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任意多边形 6"/>
          <p:cNvSpPr/>
          <p:nvPr/>
        </p:nvSpPr>
        <p:spPr>
          <a:xfrm>
            <a:off x="311040" y="5613480"/>
            <a:ext cx="192240" cy="1104840"/>
          </a:xfrm>
          <a:custGeom>
            <a:avLst/>
            <a:gdLst/>
            <a:ahLst/>
            <a:rect l="l" t="t" r="r" b="b"/>
            <a:pathLst>
              <a:path w="190831" h="1105231">
                <a:moveTo>
                  <a:pt x="0" y="0"/>
                </a:moveTo>
                <a:lnTo>
                  <a:pt x="190831" y="1105231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任意多边形 7"/>
          <p:cNvSpPr/>
          <p:nvPr/>
        </p:nvSpPr>
        <p:spPr>
          <a:xfrm>
            <a:off x="487440" y="5398920"/>
            <a:ext cx="777960" cy="1327320"/>
          </a:xfrm>
          <a:custGeom>
            <a:avLst/>
            <a:gdLst/>
            <a:ahLst/>
            <a:rect l="l" t="t" r="r" b="b"/>
            <a:pathLst>
              <a:path w="779228" h="1327867">
                <a:moveTo>
                  <a:pt x="0" y="1327867"/>
                </a:moveTo>
                <a:lnTo>
                  <a:pt x="779228" y="1105231"/>
                </a:lnTo>
                <a:lnTo>
                  <a:pt x="652007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任意多边形 8"/>
          <p:cNvSpPr/>
          <p:nvPr/>
        </p:nvSpPr>
        <p:spPr>
          <a:xfrm>
            <a:off x="1311120" y="4619520"/>
            <a:ext cx="708120" cy="1868760"/>
          </a:xfrm>
          <a:custGeom>
            <a:avLst/>
            <a:gdLst/>
            <a:ahLst/>
            <a:rect l="l" t="t" r="r" b="b"/>
            <a:pathLst>
              <a:path w="707666" h="1868556">
                <a:moveTo>
                  <a:pt x="0" y="1868556"/>
                </a:moveTo>
                <a:lnTo>
                  <a:pt x="707666" y="1661822"/>
                </a:lnTo>
                <a:lnTo>
                  <a:pt x="612251" y="302149"/>
                </a:lnTo>
                <a:lnTo>
                  <a:pt x="341906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任意多边形 10"/>
          <p:cNvSpPr/>
          <p:nvPr/>
        </p:nvSpPr>
        <p:spPr>
          <a:xfrm>
            <a:off x="1247760" y="6400800"/>
            <a:ext cx="71280" cy="87480"/>
          </a:xfrm>
          <a:custGeom>
            <a:avLst/>
            <a:gdLst/>
            <a:ahLst/>
            <a:rect l="l" t="t" r="r" b="b"/>
            <a:pathLst>
              <a:path w="71562" h="87464">
                <a:moveTo>
                  <a:pt x="71562" y="874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任意多边形 11"/>
          <p:cNvSpPr/>
          <p:nvPr/>
        </p:nvSpPr>
        <p:spPr>
          <a:xfrm>
            <a:off x="1144440" y="4929120"/>
            <a:ext cx="771840" cy="1559160"/>
          </a:xfrm>
          <a:custGeom>
            <a:avLst/>
            <a:gdLst/>
            <a:ahLst/>
            <a:rect l="l" t="t" r="r" b="b"/>
            <a:pathLst>
              <a:path w="771276" h="1558455">
                <a:moveTo>
                  <a:pt x="182880" y="1558455"/>
                </a:moveTo>
                <a:lnTo>
                  <a:pt x="0" y="166977"/>
                </a:lnTo>
                <a:lnTo>
                  <a:pt x="771276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任意多边形 12"/>
          <p:cNvSpPr/>
          <p:nvPr/>
        </p:nvSpPr>
        <p:spPr>
          <a:xfrm>
            <a:off x="901800" y="4619520"/>
            <a:ext cx="768240" cy="493920"/>
          </a:xfrm>
          <a:custGeom>
            <a:avLst/>
            <a:gdLst/>
            <a:ahLst/>
            <a:rect l="l" t="t" r="r" b="b"/>
            <a:pathLst>
              <a:path w="767662" h="492981">
                <a:moveTo>
                  <a:pt x="234925" y="492981"/>
                </a:moveTo>
                <a:cubicBezTo>
                  <a:pt x="158062" y="381663"/>
                  <a:pt x="74332" y="274786"/>
                  <a:pt x="4337" y="159026"/>
                </a:cubicBezTo>
                <a:cubicBezTo>
                  <a:pt x="0" y="151854"/>
                  <a:pt x="28191" y="151075"/>
                  <a:pt x="28191" y="151075"/>
                </a:cubicBezTo>
                <a:lnTo>
                  <a:pt x="767662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任意多边形 13"/>
          <p:cNvSpPr/>
          <p:nvPr/>
        </p:nvSpPr>
        <p:spPr>
          <a:xfrm>
            <a:off x="898560" y="4778280"/>
            <a:ext cx="47520" cy="343080"/>
          </a:xfrm>
          <a:custGeom>
            <a:avLst/>
            <a:gdLst/>
            <a:ahLst/>
            <a:rect l="l" t="t" r="r" b="b"/>
            <a:pathLst>
              <a:path w="47708" h="341906">
                <a:moveTo>
                  <a:pt x="0" y="0"/>
                </a:moveTo>
                <a:lnTo>
                  <a:pt x="47708" y="341906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任意多边形 16"/>
          <p:cNvSpPr/>
          <p:nvPr/>
        </p:nvSpPr>
        <p:spPr>
          <a:xfrm>
            <a:off x="2066760" y="4611600"/>
            <a:ext cx="684360" cy="1654200"/>
          </a:xfrm>
          <a:custGeom>
            <a:avLst/>
            <a:gdLst/>
            <a:ahLst/>
            <a:rect l="l" t="t" r="r" b="b"/>
            <a:pathLst>
              <a:path w="683812" h="1653871">
                <a:moveTo>
                  <a:pt x="0" y="1653871"/>
                </a:moveTo>
                <a:lnTo>
                  <a:pt x="683812" y="1463040"/>
                </a:lnTo>
                <a:lnTo>
                  <a:pt x="636104" y="294198"/>
                </a:lnTo>
                <a:lnTo>
                  <a:pt x="341906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任意多边形 15"/>
          <p:cNvSpPr/>
          <p:nvPr/>
        </p:nvSpPr>
        <p:spPr>
          <a:xfrm>
            <a:off x="1924200" y="5008680"/>
            <a:ext cx="142560" cy="1265040"/>
          </a:xfrm>
          <a:custGeom>
            <a:avLst/>
            <a:gdLst/>
            <a:ahLst/>
            <a:rect l="l" t="t" r="r" b="b"/>
            <a:pathLst>
              <a:path w="143123" h="1264257">
                <a:moveTo>
                  <a:pt x="0" y="0"/>
                </a:moveTo>
                <a:lnTo>
                  <a:pt x="47707" y="39756"/>
                </a:lnTo>
                <a:lnTo>
                  <a:pt x="143123" y="1264257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任意多边形 17"/>
          <p:cNvSpPr/>
          <p:nvPr/>
        </p:nvSpPr>
        <p:spPr>
          <a:xfrm>
            <a:off x="1971720" y="4905360"/>
            <a:ext cx="723960" cy="160200"/>
          </a:xfrm>
          <a:custGeom>
            <a:avLst/>
            <a:gdLst/>
            <a:ahLst/>
            <a:rect l="l" t="t" r="r" b="b"/>
            <a:pathLst>
              <a:path w="723569" h="159026">
                <a:moveTo>
                  <a:pt x="0" y="159026"/>
                </a:moveTo>
                <a:lnTo>
                  <a:pt x="7235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任意多边形 18"/>
          <p:cNvSpPr/>
          <p:nvPr/>
        </p:nvSpPr>
        <p:spPr>
          <a:xfrm rot="21540000">
            <a:off x="1782720" y="4633560"/>
            <a:ext cx="636480" cy="136440"/>
          </a:xfrm>
          <a:custGeom>
            <a:avLst/>
            <a:gdLst/>
            <a:ahLst/>
            <a:rect l="l" t="t" r="r" b="b"/>
            <a:pathLst>
              <a:path w="612250" h="127221">
                <a:moveTo>
                  <a:pt x="0" y="127221"/>
                </a:moveTo>
                <a:lnTo>
                  <a:pt x="61225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任意多边形 19"/>
          <p:cNvSpPr/>
          <p:nvPr/>
        </p:nvSpPr>
        <p:spPr>
          <a:xfrm>
            <a:off x="2019240" y="6226200"/>
            <a:ext cx="47520" cy="39600"/>
          </a:xfrm>
          <a:custGeom>
            <a:avLst/>
            <a:gdLst/>
            <a:ahLst/>
            <a:rect l="l" t="t" r="r" b="b"/>
            <a:pathLst>
              <a:path w="47708" h="39757">
                <a:moveTo>
                  <a:pt x="-17828" y="-25779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2" name="组合 69"/>
          <p:cNvGrpSpPr/>
          <p:nvPr/>
        </p:nvGrpSpPr>
        <p:grpSpPr>
          <a:xfrm>
            <a:off x="2409840" y="4135320"/>
            <a:ext cx="1001520" cy="1916280"/>
            <a:chOff x="2409840" y="4135320"/>
            <a:chExt cx="1001520" cy="1916280"/>
          </a:xfrm>
        </p:grpSpPr>
        <p:sp>
          <p:nvSpPr>
            <p:cNvPr id="823" name="任意多边形 24"/>
            <p:cNvSpPr/>
            <p:nvPr/>
          </p:nvSpPr>
          <p:spPr>
            <a:xfrm>
              <a:off x="2409840" y="4277880"/>
              <a:ext cx="15840" cy="366480"/>
            </a:xfrm>
            <a:custGeom>
              <a:avLst/>
              <a:gdLst/>
              <a:ahLst/>
              <a:rect l="l" t="t" r="r" b="b"/>
              <a:pathLst>
                <a:path w="15902" h="365760">
                  <a:moveTo>
                    <a:pt x="0" y="0"/>
                  </a:moveTo>
                  <a:lnTo>
                    <a:pt x="15902" y="36576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4" name="组合 62"/>
            <p:cNvGrpSpPr/>
            <p:nvPr/>
          </p:nvGrpSpPr>
          <p:grpSpPr>
            <a:xfrm>
              <a:off x="2416320" y="4135320"/>
              <a:ext cx="995040" cy="1916280"/>
              <a:chOff x="2416320" y="4135320"/>
              <a:chExt cx="995040" cy="1916280"/>
            </a:xfrm>
          </p:grpSpPr>
          <p:sp>
            <p:nvSpPr>
              <p:cNvPr id="825" name="任意多边形 20"/>
              <p:cNvSpPr/>
              <p:nvPr/>
            </p:nvSpPr>
            <p:spPr>
              <a:xfrm>
                <a:off x="2798640" y="4135320"/>
                <a:ext cx="612720" cy="1916280"/>
              </a:xfrm>
              <a:custGeom>
                <a:avLst/>
                <a:gdLst/>
                <a:ahLst/>
                <a:rect l="l" t="t" r="r" b="b"/>
                <a:pathLst>
                  <a:path w="612251" h="1916265">
                    <a:moveTo>
                      <a:pt x="0" y="1916265"/>
                    </a:moveTo>
                    <a:lnTo>
                      <a:pt x="612251" y="1741336"/>
                    </a:lnTo>
                    <a:cubicBezTo>
                      <a:pt x="609600" y="1243054"/>
                      <a:pt x="606950" y="744773"/>
                      <a:pt x="604299" y="246491"/>
                    </a:cubicBezTo>
                    <a:lnTo>
                      <a:pt x="270344" y="0"/>
                    </a:ln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任意多边形 22"/>
              <p:cNvSpPr/>
              <p:nvPr/>
            </p:nvSpPr>
            <p:spPr>
              <a:xfrm>
                <a:off x="2416320" y="4269960"/>
                <a:ext cx="390240" cy="1781640"/>
              </a:xfrm>
              <a:custGeom>
                <a:avLst/>
                <a:gdLst/>
                <a:ahLst/>
                <a:rect l="l" t="t" r="r" b="b"/>
                <a:pathLst>
                  <a:path w="389613" h="1781093">
                    <a:moveTo>
                      <a:pt x="389613" y="1781093"/>
                    </a:moveTo>
                    <a:lnTo>
                      <a:pt x="318052" y="278296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任意多边形 23"/>
              <p:cNvSpPr/>
              <p:nvPr/>
            </p:nvSpPr>
            <p:spPr>
              <a:xfrm>
                <a:off x="2424240" y="4143240"/>
                <a:ext cx="652320" cy="126720"/>
              </a:xfrm>
              <a:custGeom>
                <a:avLst/>
                <a:gdLst/>
                <a:ahLst/>
                <a:rect l="l" t="t" r="r" b="b"/>
                <a:pathLst>
                  <a:path w="652007" h="127221">
                    <a:moveTo>
                      <a:pt x="0" y="127221"/>
                    </a:moveTo>
                    <a:lnTo>
                      <a:pt x="652007" y="0"/>
                    </a:ln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任意多边形 25"/>
              <p:cNvSpPr/>
              <p:nvPr/>
            </p:nvSpPr>
            <p:spPr>
              <a:xfrm>
                <a:off x="2735280" y="4389120"/>
                <a:ext cx="668160" cy="150840"/>
              </a:xfrm>
              <a:custGeom>
                <a:avLst/>
                <a:gdLst/>
                <a:ahLst/>
                <a:rect l="l" t="t" r="r" b="b"/>
                <a:pathLst>
                  <a:path w="667909" h="151074">
                    <a:moveTo>
                      <a:pt x="0" y="151074"/>
                    </a:moveTo>
                    <a:lnTo>
                      <a:pt x="667909" y="0"/>
                    </a:ln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任意多边形 26"/>
              <p:cNvSpPr/>
              <p:nvPr/>
            </p:nvSpPr>
            <p:spPr>
              <a:xfrm>
                <a:off x="2743200" y="6019920"/>
                <a:ext cx="79200" cy="31680"/>
              </a:xfrm>
              <a:custGeom>
                <a:avLst/>
                <a:gdLst/>
                <a:ahLst/>
                <a:rect l="l" t="t" r="r" b="b"/>
                <a:pathLst>
                  <a:path w="79513" h="31806">
                    <a:moveTo>
                      <a:pt x="79513" y="31806"/>
                    </a:move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0" name="组合 63"/>
          <p:cNvGrpSpPr/>
          <p:nvPr/>
        </p:nvGrpSpPr>
        <p:grpSpPr>
          <a:xfrm>
            <a:off x="3316320" y="4230720"/>
            <a:ext cx="762120" cy="1628640"/>
            <a:chOff x="3316320" y="4230720"/>
            <a:chExt cx="762120" cy="1628640"/>
          </a:xfrm>
        </p:grpSpPr>
        <p:sp>
          <p:nvSpPr>
            <p:cNvPr id="831" name="任意多边形 27"/>
            <p:cNvSpPr/>
            <p:nvPr/>
          </p:nvSpPr>
          <p:spPr>
            <a:xfrm>
              <a:off x="3475080" y="4230720"/>
              <a:ext cx="603360" cy="1628640"/>
            </a:xfrm>
            <a:custGeom>
              <a:avLst/>
              <a:gdLst/>
              <a:ahLst/>
              <a:rect l="l" t="t" r="r" b="b"/>
              <a:pathLst>
                <a:path w="604299" h="1630017">
                  <a:moveTo>
                    <a:pt x="0" y="1630017"/>
                  </a:moveTo>
                  <a:lnTo>
                    <a:pt x="564543" y="1470991"/>
                  </a:lnTo>
                  <a:lnTo>
                    <a:pt x="604299" y="254442"/>
                  </a:lnTo>
                  <a:lnTo>
                    <a:pt x="246490" y="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任意多边形 28"/>
            <p:cNvSpPr/>
            <p:nvPr/>
          </p:nvSpPr>
          <p:spPr>
            <a:xfrm>
              <a:off x="3475080" y="4484520"/>
              <a:ext cx="603360" cy="1374840"/>
            </a:xfrm>
            <a:custGeom>
              <a:avLst/>
              <a:gdLst/>
              <a:ahLst/>
              <a:rect l="l" t="t" r="r" b="b"/>
              <a:pathLst>
                <a:path w="604299" h="1375575">
                  <a:moveTo>
                    <a:pt x="7951" y="1375575"/>
                  </a:moveTo>
                  <a:cubicBezTo>
                    <a:pt x="5301" y="959457"/>
                    <a:pt x="2650" y="543339"/>
                    <a:pt x="0" y="127221"/>
                  </a:cubicBezTo>
                  <a:lnTo>
                    <a:pt x="604299" y="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任意多边形 29"/>
            <p:cNvSpPr/>
            <p:nvPr/>
          </p:nvSpPr>
          <p:spPr>
            <a:xfrm>
              <a:off x="3411360" y="5811840"/>
              <a:ext cx="71280" cy="47520"/>
            </a:xfrm>
            <a:custGeom>
              <a:avLst/>
              <a:gdLst/>
              <a:ahLst/>
              <a:rect l="l" t="t" r="r" b="b"/>
              <a:pathLst>
                <a:path w="71561" h="47708">
                  <a:moveTo>
                    <a:pt x="71561" y="47708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任意多边形 30"/>
            <p:cNvSpPr/>
            <p:nvPr/>
          </p:nvSpPr>
          <p:spPr>
            <a:xfrm>
              <a:off x="3403440" y="4548240"/>
              <a:ext cx="71280" cy="63360"/>
            </a:xfrm>
            <a:custGeom>
              <a:avLst/>
              <a:gdLst/>
              <a:ahLst/>
              <a:rect l="l" t="t" r="r" b="b"/>
              <a:pathLst>
                <a:path w="71562" h="63611">
                  <a:moveTo>
                    <a:pt x="71562" y="63611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任意多边形 32"/>
            <p:cNvSpPr/>
            <p:nvPr/>
          </p:nvSpPr>
          <p:spPr>
            <a:xfrm>
              <a:off x="3316320" y="4238640"/>
              <a:ext cx="405000" cy="79200"/>
            </a:xfrm>
            <a:custGeom>
              <a:avLst/>
              <a:gdLst/>
              <a:ahLst/>
              <a:rect l="l" t="t" r="r" b="b"/>
              <a:pathLst>
                <a:path w="405516" h="79513">
                  <a:moveTo>
                    <a:pt x="0" y="79513"/>
                  </a:moveTo>
                  <a:lnTo>
                    <a:pt x="405516" y="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组合 65"/>
          <p:cNvGrpSpPr/>
          <p:nvPr/>
        </p:nvGrpSpPr>
        <p:grpSpPr>
          <a:xfrm>
            <a:off x="3745080" y="3705120"/>
            <a:ext cx="985680" cy="1979640"/>
            <a:chOff x="3745080" y="3705120"/>
            <a:chExt cx="985680" cy="1979640"/>
          </a:xfrm>
        </p:grpSpPr>
        <p:sp>
          <p:nvSpPr>
            <p:cNvPr id="837" name="任意多边形 35"/>
            <p:cNvSpPr/>
            <p:nvPr/>
          </p:nvSpPr>
          <p:spPr>
            <a:xfrm>
              <a:off x="4110120" y="3935160"/>
              <a:ext cx="612720" cy="110880"/>
            </a:xfrm>
            <a:custGeom>
              <a:avLst/>
              <a:gdLst/>
              <a:ahLst/>
              <a:rect l="l" t="t" r="r" b="b"/>
              <a:pathLst>
                <a:path w="612251" h="111318">
                  <a:moveTo>
                    <a:pt x="0" y="111318"/>
                  </a:moveTo>
                  <a:lnTo>
                    <a:pt x="612251" y="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8" name="组合 64"/>
            <p:cNvGrpSpPr/>
            <p:nvPr/>
          </p:nvGrpSpPr>
          <p:grpSpPr>
            <a:xfrm>
              <a:off x="3745080" y="3705120"/>
              <a:ext cx="985680" cy="1979640"/>
              <a:chOff x="3745080" y="3705120"/>
              <a:chExt cx="985680" cy="1979640"/>
            </a:xfrm>
          </p:grpSpPr>
          <p:sp>
            <p:nvSpPr>
              <p:cNvPr id="839" name="任意多边形 33"/>
              <p:cNvSpPr/>
              <p:nvPr/>
            </p:nvSpPr>
            <p:spPr>
              <a:xfrm>
                <a:off x="4094280" y="3705120"/>
                <a:ext cx="636480" cy="1979640"/>
              </a:xfrm>
              <a:custGeom>
                <a:avLst/>
                <a:gdLst/>
                <a:ahLst/>
                <a:rect l="l" t="t" r="r" b="b"/>
                <a:pathLst>
                  <a:path w="636104" h="1979875">
                    <a:moveTo>
                      <a:pt x="0" y="1979875"/>
                    </a:moveTo>
                    <a:lnTo>
                      <a:pt x="548640" y="1828800"/>
                    </a:lnTo>
                    <a:lnTo>
                      <a:pt x="636104" y="222636"/>
                    </a:lnTo>
                    <a:lnTo>
                      <a:pt x="262393" y="0"/>
                    </a:ln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任意多边形 34"/>
              <p:cNvSpPr/>
              <p:nvPr/>
            </p:nvSpPr>
            <p:spPr>
              <a:xfrm>
                <a:off x="3753000" y="3713040"/>
                <a:ext cx="604800" cy="1971720"/>
              </a:xfrm>
              <a:custGeom>
                <a:avLst/>
                <a:gdLst/>
                <a:ahLst/>
                <a:rect l="l" t="t" r="r" b="b"/>
                <a:pathLst>
                  <a:path w="604299" h="1971924">
                    <a:moveTo>
                      <a:pt x="349857" y="1971924"/>
                    </a:moveTo>
                    <a:lnTo>
                      <a:pt x="373711" y="333955"/>
                    </a:lnTo>
                    <a:lnTo>
                      <a:pt x="0" y="111318"/>
                    </a:lnTo>
                    <a:lnTo>
                      <a:pt x="604299" y="0"/>
                    </a:ln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任意多边形 36"/>
              <p:cNvSpPr/>
              <p:nvPr/>
            </p:nvSpPr>
            <p:spPr>
              <a:xfrm>
                <a:off x="3745080" y="3816000"/>
                <a:ext cx="7920" cy="422280"/>
              </a:xfrm>
              <a:custGeom>
                <a:avLst/>
                <a:gdLst/>
                <a:ahLst/>
                <a:rect l="l" t="t" r="r" b="b"/>
                <a:pathLst>
                  <a:path w="7952" h="421419">
                    <a:moveTo>
                      <a:pt x="0" y="421419"/>
                    </a:moveTo>
                    <a:lnTo>
                      <a:pt x="7952" y="0"/>
                    </a:ln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任意多边形 37"/>
              <p:cNvSpPr/>
              <p:nvPr/>
            </p:nvSpPr>
            <p:spPr>
              <a:xfrm>
                <a:off x="4030560" y="5635800"/>
                <a:ext cx="71280" cy="48960"/>
              </a:xfrm>
              <a:custGeom>
                <a:avLst/>
                <a:gdLst/>
                <a:ahLst/>
                <a:rect l="l" t="t" r="r" b="b"/>
                <a:pathLst>
                  <a:path w="71562" h="49298">
                    <a:moveTo>
                      <a:pt x="71562" y="49298"/>
                    </a:moveTo>
                    <a:cubicBezTo>
                      <a:pt x="5831" y="0"/>
                      <a:pt x="34456" y="1590"/>
                      <a:pt x="0" y="1590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3" name="组合 67"/>
          <p:cNvGrpSpPr/>
          <p:nvPr/>
        </p:nvGrpSpPr>
        <p:grpSpPr>
          <a:xfrm>
            <a:off x="4357800" y="3260880"/>
            <a:ext cx="1001520" cy="2257200"/>
            <a:chOff x="4357800" y="3260880"/>
            <a:chExt cx="1001520" cy="2257200"/>
          </a:xfrm>
        </p:grpSpPr>
        <p:sp>
          <p:nvSpPr>
            <p:cNvPr id="844" name="任意多边形 42"/>
            <p:cNvSpPr/>
            <p:nvPr/>
          </p:nvSpPr>
          <p:spPr>
            <a:xfrm>
              <a:off x="4357800" y="3379680"/>
              <a:ext cx="15840" cy="341280"/>
            </a:xfrm>
            <a:custGeom>
              <a:avLst/>
              <a:gdLst/>
              <a:ahLst/>
              <a:rect l="l" t="t" r="r" b="b"/>
              <a:pathLst>
                <a:path w="15902" h="341906">
                  <a:moveTo>
                    <a:pt x="0" y="0"/>
                  </a:moveTo>
                  <a:lnTo>
                    <a:pt x="15902" y="341906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5" name="组合 66"/>
            <p:cNvGrpSpPr/>
            <p:nvPr/>
          </p:nvGrpSpPr>
          <p:grpSpPr>
            <a:xfrm>
              <a:off x="4365720" y="3260880"/>
              <a:ext cx="993600" cy="2257200"/>
              <a:chOff x="4365720" y="3260880"/>
              <a:chExt cx="993600" cy="2257200"/>
            </a:xfrm>
          </p:grpSpPr>
          <p:sp>
            <p:nvSpPr>
              <p:cNvPr id="846" name="任意多边形 38"/>
              <p:cNvSpPr/>
              <p:nvPr/>
            </p:nvSpPr>
            <p:spPr>
              <a:xfrm>
                <a:off x="4699080" y="3260880"/>
                <a:ext cx="660240" cy="2257200"/>
              </a:xfrm>
              <a:custGeom>
                <a:avLst/>
                <a:gdLst/>
                <a:ahLst/>
                <a:rect l="l" t="t" r="r" b="b"/>
                <a:pathLst>
                  <a:path w="659958" h="2258170">
                    <a:moveTo>
                      <a:pt x="0" y="2258170"/>
                    </a:moveTo>
                    <a:lnTo>
                      <a:pt x="500932" y="2107095"/>
                    </a:lnTo>
                    <a:lnTo>
                      <a:pt x="659958" y="190831"/>
                    </a:lnTo>
                    <a:lnTo>
                      <a:pt x="254442" y="0"/>
                    </a:ln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任意多边形 39"/>
              <p:cNvSpPr/>
              <p:nvPr/>
            </p:nvSpPr>
            <p:spPr>
              <a:xfrm>
                <a:off x="4365720" y="3260880"/>
                <a:ext cx="588960" cy="2257200"/>
              </a:xfrm>
              <a:custGeom>
                <a:avLst/>
                <a:gdLst/>
                <a:ahLst/>
                <a:rect l="l" t="t" r="r" b="b"/>
                <a:pathLst>
                  <a:path w="588397" h="2258170">
                    <a:moveTo>
                      <a:pt x="349857" y="2258170"/>
                    </a:moveTo>
                    <a:lnTo>
                      <a:pt x="421419" y="302149"/>
                    </a:lnTo>
                    <a:lnTo>
                      <a:pt x="0" y="111318"/>
                    </a:lnTo>
                    <a:lnTo>
                      <a:pt x="588397" y="0"/>
                    </a:ln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任意多边形 40"/>
              <p:cNvSpPr/>
              <p:nvPr/>
            </p:nvSpPr>
            <p:spPr>
              <a:xfrm>
                <a:off x="4778280" y="3451320"/>
                <a:ext cx="573120" cy="110880"/>
              </a:xfrm>
              <a:custGeom>
                <a:avLst/>
                <a:gdLst/>
                <a:ahLst/>
                <a:rect l="l" t="t" r="r" b="b"/>
                <a:pathLst>
                  <a:path w="572494" h="111318">
                    <a:moveTo>
                      <a:pt x="0" y="111318"/>
                    </a:moveTo>
                    <a:lnTo>
                      <a:pt x="572494" y="0"/>
                    </a:ln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任意多边形 43"/>
              <p:cNvSpPr/>
              <p:nvPr/>
            </p:nvSpPr>
            <p:spPr>
              <a:xfrm>
                <a:off x="4659120" y="5486400"/>
                <a:ext cx="55440" cy="23760"/>
              </a:xfrm>
              <a:custGeom>
                <a:avLst/>
                <a:gdLst/>
                <a:ahLst/>
                <a:rect l="l" t="t" r="r" b="b"/>
                <a:pathLst>
                  <a:path w="55659" h="23854">
                    <a:moveTo>
                      <a:pt x="-9877" y="23854"/>
                    </a:move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0" name="组合 68"/>
          <p:cNvGrpSpPr/>
          <p:nvPr/>
        </p:nvGrpSpPr>
        <p:grpSpPr>
          <a:xfrm>
            <a:off x="4960800" y="2679840"/>
            <a:ext cx="1003320" cy="2679480"/>
            <a:chOff x="4960800" y="2679840"/>
            <a:chExt cx="1003320" cy="2679480"/>
          </a:xfrm>
        </p:grpSpPr>
        <p:sp>
          <p:nvSpPr>
            <p:cNvPr id="851" name="任意多边形 44"/>
            <p:cNvSpPr/>
            <p:nvPr/>
          </p:nvSpPr>
          <p:spPr>
            <a:xfrm>
              <a:off x="5240160" y="2679840"/>
              <a:ext cx="723960" cy="2679480"/>
            </a:xfrm>
            <a:custGeom>
              <a:avLst/>
              <a:gdLst/>
              <a:ahLst/>
              <a:rect l="l" t="t" r="r" b="b"/>
              <a:pathLst>
                <a:path w="723568" h="2679589">
                  <a:moveTo>
                    <a:pt x="0" y="2679589"/>
                  </a:moveTo>
                  <a:lnTo>
                    <a:pt x="492980" y="2536466"/>
                  </a:lnTo>
                  <a:lnTo>
                    <a:pt x="723568" y="166977"/>
                  </a:lnTo>
                  <a:lnTo>
                    <a:pt x="286247" y="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任意多边形 45"/>
            <p:cNvSpPr/>
            <p:nvPr/>
          </p:nvSpPr>
          <p:spPr>
            <a:xfrm>
              <a:off x="4984560" y="2679840"/>
              <a:ext cx="549360" cy="2679480"/>
            </a:xfrm>
            <a:custGeom>
              <a:avLst/>
              <a:gdLst/>
              <a:ahLst/>
              <a:rect l="l" t="t" r="r" b="b"/>
              <a:pathLst>
                <a:path w="548640" h="2679589">
                  <a:moveTo>
                    <a:pt x="262393" y="2679589"/>
                  </a:moveTo>
                  <a:lnTo>
                    <a:pt x="445273" y="246490"/>
                  </a:lnTo>
                  <a:lnTo>
                    <a:pt x="0" y="79513"/>
                  </a:lnTo>
                  <a:lnTo>
                    <a:pt x="548640" y="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任意多边形 46"/>
            <p:cNvSpPr/>
            <p:nvPr/>
          </p:nvSpPr>
          <p:spPr>
            <a:xfrm>
              <a:off x="4960800" y="2759040"/>
              <a:ext cx="23760" cy="493560"/>
            </a:xfrm>
            <a:custGeom>
              <a:avLst/>
              <a:gdLst/>
              <a:ahLst/>
              <a:rect l="l" t="t" r="r" b="b"/>
              <a:pathLst>
                <a:path w="23854" h="492980">
                  <a:moveTo>
                    <a:pt x="0" y="492980"/>
                  </a:moveTo>
                  <a:lnTo>
                    <a:pt x="23854" y="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任意多边形 47"/>
            <p:cNvSpPr/>
            <p:nvPr/>
          </p:nvSpPr>
          <p:spPr>
            <a:xfrm>
              <a:off x="5198760" y="5319720"/>
              <a:ext cx="48960" cy="39600"/>
            </a:xfrm>
            <a:custGeom>
              <a:avLst/>
              <a:gdLst/>
              <a:ahLst/>
              <a:rect l="l" t="t" r="r" b="b"/>
              <a:pathLst>
                <a:path w="47708" h="39756">
                  <a:moveTo>
                    <a:pt x="-17828" y="-25780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任意多边形 48"/>
            <p:cNvSpPr/>
            <p:nvPr/>
          </p:nvSpPr>
          <p:spPr>
            <a:xfrm>
              <a:off x="5422680" y="2846520"/>
              <a:ext cx="525600" cy="71280"/>
            </a:xfrm>
            <a:custGeom>
              <a:avLst/>
              <a:gdLst/>
              <a:ahLst/>
              <a:rect l="l" t="t" r="r" b="b"/>
              <a:pathLst>
                <a:path w="524786" h="71562">
                  <a:moveTo>
                    <a:pt x="0" y="71562"/>
                  </a:moveTo>
                  <a:lnTo>
                    <a:pt x="524786" y="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6" name="组合 70"/>
          <p:cNvGrpSpPr/>
          <p:nvPr/>
        </p:nvGrpSpPr>
        <p:grpSpPr>
          <a:xfrm>
            <a:off x="5740560" y="2878200"/>
            <a:ext cx="739440" cy="2330280"/>
            <a:chOff x="5740560" y="2878200"/>
            <a:chExt cx="739440" cy="2330280"/>
          </a:xfrm>
        </p:grpSpPr>
        <p:sp>
          <p:nvSpPr>
            <p:cNvPr id="857" name="任意多边形 49"/>
            <p:cNvSpPr/>
            <p:nvPr/>
          </p:nvSpPr>
          <p:spPr>
            <a:xfrm>
              <a:off x="5780160" y="2878200"/>
              <a:ext cx="699840" cy="2322360"/>
            </a:xfrm>
            <a:custGeom>
              <a:avLst/>
              <a:gdLst/>
              <a:ahLst/>
              <a:rect l="l" t="t" r="r" b="b"/>
              <a:pathLst>
                <a:path w="699715" h="2321781">
                  <a:moveTo>
                    <a:pt x="0" y="2321781"/>
                  </a:moveTo>
                  <a:lnTo>
                    <a:pt x="461176" y="2178658"/>
                  </a:lnTo>
                  <a:lnTo>
                    <a:pt x="699715" y="174929"/>
                  </a:lnTo>
                  <a:lnTo>
                    <a:pt x="262393" y="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任意多边形 50"/>
            <p:cNvSpPr/>
            <p:nvPr/>
          </p:nvSpPr>
          <p:spPr>
            <a:xfrm>
              <a:off x="5780160" y="3052800"/>
              <a:ext cx="691920" cy="2147760"/>
            </a:xfrm>
            <a:custGeom>
              <a:avLst/>
              <a:gdLst/>
              <a:ahLst/>
              <a:rect l="l" t="t" r="r" b="b"/>
              <a:pathLst>
                <a:path w="691764" h="2146852">
                  <a:moveTo>
                    <a:pt x="0" y="2146852"/>
                  </a:moveTo>
                  <a:lnTo>
                    <a:pt x="214685" y="79513"/>
                  </a:lnTo>
                  <a:lnTo>
                    <a:pt x="691764" y="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任意多边形 51"/>
            <p:cNvSpPr/>
            <p:nvPr/>
          </p:nvSpPr>
          <p:spPr>
            <a:xfrm>
              <a:off x="5740560" y="5160960"/>
              <a:ext cx="47520" cy="47520"/>
            </a:xfrm>
            <a:custGeom>
              <a:avLst/>
              <a:gdLst/>
              <a:ahLst/>
              <a:rect l="l" t="t" r="r" b="b"/>
              <a:pathLst>
                <a:path w="47708" h="47707">
                  <a:moveTo>
                    <a:pt x="-17828" y="-17829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任意多边形 52"/>
            <p:cNvSpPr/>
            <p:nvPr/>
          </p:nvSpPr>
          <p:spPr>
            <a:xfrm>
              <a:off x="5938920" y="3108240"/>
              <a:ext cx="55440" cy="31680"/>
            </a:xfrm>
            <a:custGeom>
              <a:avLst/>
              <a:gdLst/>
              <a:ahLst/>
              <a:rect l="l" t="t" r="r" b="b"/>
              <a:pathLst>
                <a:path w="55659" h="31805">
                  <a:moveTo>
                    <a:pt x="-9877" y="31805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任意多边形 53"/>
            <p:cNvSpPr/>
            <p:nvPr/>
          </p:nvSpPr>
          <p:spPr>
            <a:xfrm>
              <a:off x="5954760" y="2878200"/>
              <a:ext cx="110880" cy="23760"/>
            </a:xfrm>
            <a:custGeom>
              <a:avLst/>
              <a:gdLst/>
              <a:ahLst/>
              <a:rect l="l" t="t" r="r" b="b"/>
              <a:pathLst>
                <a:path w="111318" h="23854">
                  <a:moveTo>
                    <a:pt x="0" y="23854"/>
                  </a:moveTo>
                  <a:lnTo>
                    <a:pt x="111318" y="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2" name="组合 71"/>
          <p:cNvGrpSpPr/>
          <p:nvPr/>
        </p:nvGrpSpPr>
        <p:grpSpPr>
          <a:xfrm>
            <a:off x="6059520" y="2043000"/>
            <a:ext cx="1049400" cy="3006720"/>
            <a:chOff x="6059520" y="2043000"/>
            <a:chExt cx="1049400" cy="3006720"/>
          </a:xfrm>
        </p:grpSpPr>
        <p:sp>
          <p:nvSpPr>
            <p:cNvPr id="863" name="任意多边形 54"/>
            <p:cNvSpPr/>
            <p:nvPr/>
          </p:nvSpPr>
          <p:spPr>
            <a:xfrm>
              <a:off x="6289560" y="2043000"/>
              <a:ext cx="819360" cy="2998800"/>
            </a:xfrm>
            <a:custGeom>
              <a:avLst/>
              <a:gdLst/>
              <a:ahLst/>
              <a:rect l="l" t="t" r="r" b="b"/>
              <a:pathLst>
                <a:path w="818984" h="2997642">
                  <a:moveTo>
                    <a:pt x="0" y="2997642"/>
                  </a:moveTo>
                  <a:lnTo>
                    <a:pt x="397565" y="2894275"/>
                  </a:lnTo>
                  <a:lnTo>
                    <a:pt x="818984" y="119270"/>
                  </a:lnTo>
                  <a:lnTo>
                    <a:pt x="333955" y="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任意多边形 55"/>
            <p:cNvSpPr/>
            <p:nvPr/>
          </p:nvSpPr>
          <p:spPr>
            <a:xfrm>
              <a:off x="6138720" y="2050920"/>
              <a:ext cx="501840" cy="2998800"/>
            </a:xfrm>
            <a:custGeom>
              <a:avLst/>
              <a:gdLst/>
              <a:ahLst/>
              <a:rect l="l" t="t" r="r" b="b"/>
              <a:pathLst>
                <a:path w="500932" h="2997641">
                  <a:moveTo>
                    <a:pt x="151074" y="2997641"/>
                  </a:moveTo>
                  <a:lnTo>
                    <a:pt x="477078" y="174928"/>
                  </a:lnTo>
                  <a:lnTo>
                    <a:pt x="0" y="63610"/>
                  </a:lnTo>
                  <a:lnTo>
                    <a:pt x="500932" y="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任意多边形 56"/>
            <p:cNvSpPr/>
            <p:nvPr/>
          </p:nvSpPr>
          <p:spPr>
            <a:xfrm>
              <a:off x="6249960" y="5010120"/>
              <a:ext cx="39600" cy="31680"/>
            </a:xfrm>
            <a:custGeom>
              <a:avLst/>
              <a:gdLst/>
              <a:ahLst/>
              <a:rect l="l" t="t" r="r" b="b"/>
              <a:pathLst>
                <a:path w="39756" h="31805">
                  <a:moveTo>
                    <a:pt x="-25780" y="31805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任意多边形 57"/>
            <p:cNvSpPr/>
            <p:nvPr/>
          </p:nvSpPr>
          <p:spPr>
            <a:xfrm>
              <a:off x="6059520" y="2114280"/>
              <a:ext cx="71280" cy="763560"/>
            </a:xfrm>
            <a:custGeom>
              <a:avLst/>
              <a:gdLst/>
              <a:ahLst/>
              <a:rect l="l" t="t" r="r" b="b"/>
              <a:pathLst>
                <a:path w="71562" h="763325">
                  <a:moveTo>
                    <a:pt x="0" y="763325"/>
                  </a:moveTo>
                  <a:lnTo>
                    <a:pt x="71562" y="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任意多边形 58"/>
            <p:cNvSpPr/>
            <p:nvPr/>
          </p:nvSpPr>
          <p:spPr>
            <a:xfrm>
              <a:off x="6600960" y="2177640"/>
              <a:ext cx="492120" cy="47520"/>
            </a:xfrm>
            <a:custGeom>
              <a:avLst/>
              <a:gdLst/>
              <a:ahLst/>
              <a:rect l="l" t="t" r="r" b="b"/>
              <a:pathLst>
                <a:path w="492980" h="47708">
                  <a:moveTo>
                    <a:pt x="0" y="47708"/>
                  </a:moveTo>
                  <a:lnTo>
                    <a:pt x="492980" y="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任意多边形 59"/>
          <p:cNvSpPr/>
          <p:nvPr/>
        </p:nvSpPr>
        <p:spPr>
          <a:xfrm>
            <a:off x="560520" y="2928960"/>
            <a:ext cx="6797520" cy="3946680"/>
          </a:xfrm>
          <a:custGeom>
            <a:avLst/>
            <a:gdLst/>
            <a:ahLst/>
            <a:rect l="l" t="t" r="r" b="b"/>
            <a:pathLst>
              <a:path w="6021238" h="3286664">
                <a:moveTo>
                  <a:pt x="0" y="3286664"/>
                </a:moveTo>
                <a:lnTo>
                  <a:pt x="871268" y="2337758"/>
                </a:lnTo>
                <a:lnTo>
                  <a:pt x="1613140" y="2656936"/>
                </a:lnTo>
                <a:lnTo>
                  <a:pt x="2432649" y="1777041"/>
                </a:lnTo>
                <a:lnTo>
                  <a:pt x="3062377" y="2139351"/>
                </a:lnTo>
                <a:lnTo>
                  <a:pt x="4183811" y="897147"/>
                </a:lnTo>
                <a:lnTo>
                  <a:pt x="4554747" y="1155939"/>
                </a:lnTo>
                <a:lnTo>
                  <a:pt x="5072332" y="552090"/>
                </a:lnTo>
                <a:lnTo>
                  <a:pt x="5322498" y="750498"/>
                </a:lnTo>
                <a:lnTo>
                  <a:pt x="6021238" y="0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Box 72"/>
          <p:cNvSpPr/>
          <p:nvPr/>
        </p:nvSpPr>
        <p:spPr>
          <a:xfrm>
            <a:off x="500040" y="777960"/>
            <a:ext cx="721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精心设计的动作可以给观看者以足够的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视觉冲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fade/>
  </p:transition>
  <p:timing>
    <p:tnLst>
      <p:par>
        <p:cTn id="1307" dur="indefinite" restart="never" nodeType="tmRoot">
          <p:childTnLst>
            <p:seq>
              <p:cTn id="1308" dur="indefinite" nodeType="mainSeq">
                <p:childTnLst>
                  <p:par>
                    <p:cTn id="1309" nodeType="clickEffect" fill="hold">
                      <p:stCondLst>
                        <p:cond delay="0"/>
                      </p:stCondLst>
                      <p:childTnLst>
                        <p:par>
                          <p:cTn id="1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3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7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4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1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5" dur="1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8" dur="1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1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2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4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7" dur="3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3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1" dur="1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4" dur="2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5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7" dur="8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8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0" dur="6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1" nodeType="withEffect" fill="hold" presetClass="entr" presetID="2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3" dur="6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65" nodeType="after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7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8" nodeType="withEffect" fill="hold" presetClass="entr" presetID="22" presetSubtype="4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0" dur="9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22" presetSubtype="4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3" dur="8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4" nodeType="withEffect" fill="hold" presetClass="entr" presetID="22" presetSubtype="4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6" dur="7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22" presetSubtype="4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9" dur="6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0" nodeType="withEffect" fill="hold" presetClass="entr" presetID="22" presetSubtype="4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22" presetSubtype="4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5" dur="4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nodeType="afterEffect" fill="hold">
                            <p:stCondLst>
                              <p:cond delay="9300"/>
                            </p:stCondLst>
                            <p:childTnLst>
                              <p:par>
                                <p:cTn id="138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9" dur="1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组合 104"/>
          <p:cNvGrpSpPr/>
          <p:nvPr/>
        </p:nvGrpSpPr>
        <p:grpSpPr>
          <a:xfrm>
            <a:off x="500040" y="-1300320"/>
            <a:ext cx="3286080" cy="9528480"/>
            <a:chOff x="500040" y="-1300320"/>
            <a:chExt cx="3286080" cy="9528480"/>
          </a:xfrm>
        </p:grpSpPr>
        <p:sp>
          <p:nvSpPr>
            <p:cNvPr id="871" name="矩形 2"/>
            <p:cNvSpPr/>
            <p:nvPr/>
          </p:nvSpPr>
          <p:spPr>
            <a:xfrm>
              <a:off x="500040" y="-142920"/>
              <a:ext cx="3286080" cy="71442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2" name="组合 37"/>
            <p:cNvGrpSpPr/>
            <p:nvPr/>
          </p:nvGrpSpPr>
          <p:grpSpPr>
            <a:xfrm>
              <a:off x="635400" y="-348120"/>
              <a:ext cx="198000" cy="7540920"/>
              <a:chOff x="635400" y="-348120"/>
              <a:chExt cx="198000" cy="7540920"/>
            </a:xfrm>
          </p:grpSpPr>
          <p:grpSp>
            <p:nvGrpSpPr>
              <p:cNvPr id="873" name="组合 18"/>
              <p:cNvGrpSpPr/>
              <p:nvPr/>
            </p:nvGrpSpPr>
            <p:grpSpPr>
              <a:xfrm>
                <a:off x="635400" y="-348120"/>
                <a:ext cx="198000" cy="2396160"/>
                <a:chOff x="635400" y="-348120"/>
                <a:chExt cx="198000" cy="2396160"/>
              </a:xfrm>
            </p:grpSpPr>
            <p:sp>
              <p:nvSpPr>
                <p:cNvPr id="874" name="圆角矩形 4"/>
                <p:cNvSpPr/>
                <p:nvPr/>
              </p:nvSpPr>
              <p:spPr>
                <a:xfrm>
                  <a:off x="635400" y="938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5" name="圆角矩形 5"/>
                <p:cNvSpPr/>
                <p:nvPr/>
              </p:nvSpPr>
              <p:spPr>
                <a:xfrm>
                  <a:off x="635400" y="126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6" name="圆角矩形 8"/>
                <p:cNvSpPr/>
                <p:nvPr/>
              </p:nvSpPr>
              <p:spPr>
                <a:xfrm>
                  <a:off x="635400" y="1581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7" name="圆角矩形 9"/>
                <p:cNvSpPr/>
                <p:nvPr/>
              </p:nvSpPr>
              <p:spPr>
                <a:xfrm>
                  <a:off x="635400" y="1903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圆角矩形 16"/>
                <p:cNvSpPr/>
                <p:nvPr/>
              </p:nvSpPr>
              <p:spPr>
                <a:xfrm>
                  <a:off x="635400" y="-34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圆角矩形 17"/>
                <p:cNvSpPr/>
                <p:nvPr/>
              </p:nvSpPr>
              <p:spPr>
                <a:xfrm>
                  <a:off x="635400" y="-2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圆角矩形 14"/>
                <p:cNvSpPr/>
                <p:nvPr/>
              </p:nvSpPr>
              <p:spPr>
                <a:xfrm>
                  <a:off x="635400" y="294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圆角矩形 15"/>
                <p:cNvSpPr/>
                <p:nvPr/>
              </p:nvSpPr>
              <p:spPr>
                <a:xfrm>
                  <a:off x="635400" y="617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2" name="组合 19"/>
              <p:cNvGrpSpPr/>
              <p:nvPr/>
            </p:nvGrpSpPr>
            <p:grpSpPr>
              <a:xfrm>
                <a:off x="635400" y="2224080"/>
                <a:ext cx="198000" cy="2396160"/>
                <a:chOff x="635400" y="2224080"/>
                <a:chExt cx="198000" cy="2396160"/>
              </a:xfrm>
            </p:grpSpPr>
            <p:sp>
              <p:nvSpPr>
                <p:cNvPr id="883" name="圆角矩形 20"/>
                <p:cNvSpPr/>
                <p:nvPr/>
              </p:nvSpPr>
              <p:spPr>
                <a:xfrm>
                  <a:off x="635400" y="351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圆角矩形 21"/>
                <p:cNvSpPr/>
                <p:nvPr/>
              </p:nvSpPr>
              <p:spPr>
                <a:xfrm>
                  <a:off x="635400" y="383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5" name="圆角矩形 22"/>
                <p:cNvSpPr/>
                <p:nvPr/>
              </p:nvSpPr>
              <p:spPr>
                <a:xfrm>
                  <a:off x="635400" y="4153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6" name="圆角矩形 23"/>
                <p:cNvSpPr/>
                <p:nvPr/>
              </p:nvSpPr>
              <p:spPr>
                <a:xfrm>
                  <a:off x="635400" y="4475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7" name="圆角矩形 24"/>
                <p:cNvSpPr/>
                <p:nvPr/>
              </p:nvSpPr>
              <p:spPr>
                <a:xfrm>
                  <a:off x="635400" y="22240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8" name="圆角矩形 25"/>
                <p:cNvSpPr/>
                <p:nvPr/>
              </p:nvSpPr>
              <p:spPr>
                <a:xfrm>
                  <a:off x="635400" y="25462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9" name="圆角矩形 26"/>
                <p:cNvSpPr/>
                <p:nvPr/>
              </p:nvSpPr>
              <p:spPr>
                <a:xfrm>
                  <a:off x="635400" y="2867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圆角矩形 27"/>
                <p:cNvSpPr/>
                <p:nvPr/>
              </p:nvSpPr>
              <p:spPr>
                <a:xfrm>
                  <a:off x="635400" y="3189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组合 28"/>
              <p:cNvGrpSpPr/>
              <p:nvPr/>
            </p:nvGrpSpPr>
            <p:grpSpPr>
              <a:xfrm>
                <a:off x="635400" y="4796640"/>
                <a:ext cx="198000" cy="2396160"/>
                <a:chOff x="635400" y="4796640"/>
                <a:chExt cx="198000" cy="2396160"/>
              </a:xfrm>
            </p:grpSpPr>
            <p:sp>
              <p:nvSpPr>
                <p:cNvPr id="892" name="圆角矩形 29"/>
                <p:cNvSpPr/>
                <p:nvPr/>
              </p:nvSpPr>
              <p:spPr>
                <a:xfrm>
                  <a:off x="635400" y="6082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圆角矩形 30"/>
                <p:cNvSpPr/>
                <p:nvPr/>
              </p:nvSpPr>
              <p:spPr>
                <a:xfrm>
                  <a:off x="635400" y="6405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圆角矩形 31"/>
                <p:cNvSpPr/>
                <p:nvPr/>
              </p:nvSpPr>
              <p:spPr>
                <a:xfrm>
                  <a:off x="635400" y="6726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5" name="圆角矩形 32"/>
                <p:cNvSpPr/>
                <p:nvPr/>
              </p:nvSpPr>
              <p:spPr>
                <a:xfrm>
                  <a:off x="635400" y="7048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6" name="圆角矩形 33"/>
                <p:cNvSpPr/>
                <p:nvPr/>
              </p:nvSpPr>
              <p:spPr>
                <a:xfrm>
                  <a:off x="635400" y="47966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7" name="圆角矩形 34"/>
                <p:cNvSpPr/>
                <p:nvPr/>
              </p:nvSpPr>
              <p:spPr>
                <a:xfrm>
                  <a:off x="635400" y="5118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8" name="圆角矩形 35"/>
                <p:cNvSpPr/>
                <p:nvPr/>
              </p:nvSpPr>
              <p:spPr>
                <a:xfrm>
                  <a:off x="635400" y="5439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9" name="圆角矩形 36"/>
                <p:cNvSpPr/>
                <p:nvPr/>
              </p:nvSpPr>
              <p:spPr>
                <a:xfrm>
                  <a:off x="635400" y="5762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00" name="组合 66"/>
            <p:cNvGrpSpPr/>
            <p:nvPr/>
          </p:nvGrpSpPr>
          <p:grpSpPr>
            <a:xfrm>
              <a:off x="3445560" y="-349560"/>
              <a:ext cx="198000" cy="7540920"/>
              <a:chOff x="3445560" y="-349560"/>
              <a:chExt cx="198000" cy="7540920"/>
            </a:xfrm>
          </p:grpSpPr>
          <p:grpSp>
            <p:nvGrpSpPr>
              <p:cNvPr id="901" name="组合 18"/>
              <p:cNvGrpSpPr/>
              <p:nvPr/>
            </p:nvGrpSpPr>
            <p:grpSpPr>
              <a:xfrm>
                <a:off x="3445560" y="-349560"/>
                <a:ext cx="198000" cy="2396160"/>
                <a:chOff x="3445560" y="-349560"/>
                <a:chExt cx="198000" cy="2396160"/>
              </a:xfrm>
            </p:grpSpPr>
            <p:sp>
              <p:nvSpPr>
                <p:cNvPr id="902" name="圆角矩形 4"/>
                <p:cNvSpPr/>
                <p:nvPr/>
              </p:nvSpPr>
              <p:spPr>
                <a:xfrm>
                  <a:off x="3445560" y="9367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3" name="圆角矩形 87"/>
                <p:cNvSpPr/>
                <p:nvPr/>
              </p:nvSpPr>
              <p:spPr>
                <a:xfrm>
                  <a:off x="3445560" y="1258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4" name="圆角矩形 88"/>
                <p:cNvSpPr/>
                <p:nvPr/>
              </p:nvSpPr>
              <p:spPr>
                <a:xfrm>
                  <a:off x="3445560" y="1580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圆角矩形 89"/>
                <p:cNvSpPr/>
                <p:nvPr/>
              </p:nvSpPr>
              <p:spPr>
                <a:xfrm>
                  <a:off x="3445560" y="1902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圆角矩形 90"/>
                <p:cNvSpPr/>
                <p:nvPr/>
              </p:nvSpPr>
              <p:spPr>
                <a:xfrm>
                  <a:off x="3445560" y="-349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7" name="圆角矩形 91"/>
                <p:cNvSpPr/>
                <p:nvPr/>
              </p:nvSpPr>
              <p:spPr>
                <a:xfrm>
                  <a:off x="3445560" y="-270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圆角矩形 92"/>
                <p:cNvSpPr/>
                <p:nvPr/>
              </p:nvSpPr>
              <p:spPr>
                <a:xfrm>
                  <a:off x="3445560" y="293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9" name="圆角矩形 93"/>
                <p:cNvSpPr/>
                <p:nvPr/>
              </p:nvSpPr>
              <p:spPr>
                <a:xfrm>
                  <a:off x="3445560" y="6159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0" name="组合 19"/>
              <p:cNvGrpSpPr/>
              <p:nvPr/>
            </p:nvGrpSpPr>
            <p:grpSpPr>
              <a:xfrm>
                <a:off x="3445560" y="2222640"/>
                <a:ext cx="198000" cy="2396160"/>
                <a:chOff x="3445560" y="2222640"/>
                <a:chExt cx="198000" cy="2396160"/>
              </a:xfrm>
            </p:grpSpPr>
            <p:sp>
              <p:nvSpPr>
                <p:cNvPr id="911" name="圆角矩形 78"/>
                <p:cNvSpPr/>
                <p:nvPr/>
              </p:nvSpPr>
              <p:spPr>
                <a:xfrm>
                  <a:off x="3445560" y="3507120"/>
                  <a:ext cx="198000" cy="1422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2" name="圆角矩形 79"/>
                <p:cNvSpPr/>
                <p:nvPr/>
              </p:nvSpPr>
              <p:spPr>
                <a:xfrm>
                  <a:off x="3445560" y="383328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3" name="圆角矩形 80"/>
                <p:cNvSpPr/>
                <p:nvPr/>
              </p:nvSpPr>
              <p:spPr>
                <a:xfrm>
                  <a:off x="3445560" y="41533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4" name="圆角矩形 81"/>
                <p:cNvSpPr/>
                <p:nvPr/>
              </p:nvSpPr>
              <p:spPr>
                <a:xfrm>
                  <a:off x="3445560" y="447480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圆角矩形 82"/>
                <p:cNvSpPr/>
                <p:nvPr/>
              </p:nvSpPr>
              <p:spPr>
                <a:xfrm>
                  <a:off x="3445560" y="222264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6" name="圆角矩形 83"/>
                <p:cNvSpPr/>
                <p:nvPr/>
              </p:nvSpPr>
              <p:spPr>
                <a:xfrm>
                  <a:off x="3445560" y="25441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7" name="圆角矩形 84"/>
                <p:cNvSpPr/>
                <p:nvPr/>
              </p:nvSpPr>
              <p:spPr>
                <a:xfrm>
                  <a:off x="3445560" y="286380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圆角矩形 85"/>
                <p:cNvSpPr/>
                <p:nvPr/>
              </p:nvSpPr>
              <p:spPr>
                <a:xfrm>
                  <a:off x="3445560" y="3187080"/>
                  <a:ext cx="198000" cy="1422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9" name="组合 28"/>
              <p:cNvGrpSpPr/>
              <p:nvPr/>
            </p:nvGrpSpPr>
            <p:grpSpPr>
              <a:xfrm>
                <a:off x="3445560" y="4795200"/>
                <a:ext cx="198000" cy="2396160"/>
                <a:chOff x="3445560" y="4795200"/>
                <a:chExt cx="198000" cy="2396160"/>
              </a:xfrm>
            </p:grpSpPr>
            <p:sp>
              <p:nvSpPr>
                <p:cNvPr id="920" name="圆角矩形 70"/>
                <p:cNvSpPr/>
                <p:nvPr/>
              </p:nvSpPr>
              <p:spPr>
                <a:xfrm>
                  <a:off x="3445560" y="6084000"/>
                  <a:ext cx="198000" cy="1447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圆角矩形 71"/>
                <p:cNvSpPr/>
                <p:nvPr/>
              </p:nvSpPr>
              <p:spPr>
                <a:xfrm>
                  <a:off x="3445560" y="6406920"/>
                  <a:ext cx="198000" cy="1447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圆角矩形 72"/>
                <p:cNvSpPr/>
                <p:nvPr/>
              </p:nvSpPr>
              <p:spPr>
                <a:xfrm>
                  <a:off x="3445560" y="6728400"/>
                  <a:ext cx="198000" cy="1447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圆角矩形 73"/>
                <p:cNvSpPr/>
                <p:nvPr/>
              </p:nvSpPr>
              <p:spPr>
                <a:xfrm>
                  <a:off x="3445560" y="7051680"/>
                  <a:ext cx="198000" cy="13968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圆角矩形 74"/>
                <p:cNvSpPr/>
                <p:nvPr/>
              </p:nvSpPr>
              <p:spPr>
                <a:xfrm>
                  <a:off x="3445560" y="4795200"/>
                  <a:ext cx="198000" cy="1447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圆角矩形 75"/>
                <p:cNvSpPr/>
                <p:nvPr/>
              </p:nvSpPr>
              <p:spPr>
                <a:xfrm>
                  <a:off x="3445560" y="5118120"/>
                  <a:ext cx="198000" cy="1447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圆角矩形 76"/>
                <p:cNvSpPr/>
                <p:nvPr/>
              </p:nvSpPr>
              <p:spPr>
                <a:xfrm>
                  <a:off x="3445560" y="5439600"/>
                  <a:ext cx="198000" cy="1447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圆角矩形 77"/>
                <p:cNvSpPr/>
                <p:nvPr/>
              </p:nvSpPr>
              <p:spPr>
                <a:xfrm>
                  <a:off x="3445560" y="5762520"/>
                  <a:ext cx="198000" cy="1447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28" name="圆角矩形 94"/>
            <p:cNvSpPr/>
            <p:nvPr/>
          </p:nvSpPr>
          <p:spPr>
            <a:xfrm>
              <a:off x="928440" y="658440"/>
              <a:ext cx="2428920" cy="172872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圆角矩形 95"/>
            <p:cNvSpPr/>
            <p:nvPr/>
          </p:nvSpPr>
          <p:spPr>
            <a:xfrm>
              <a:off x="928440" y="2593800"/>
              <a:ext cx="2428920" cy="172872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圆角矩形 96"/>
            <p:cNvSpPr/>
            <p:nvPr/>
          </p:nvSpPr>
          <p:spPr>
            <a:xfrm>
              <a:off x="928440" y="4546800"/>
              <a:ext cx="2428920" cy="172872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圆角矩形 97"/>
            <p:cNvSpPr/>
            <p:nvPr/>
          </p:nvSpPr>
          <p:spPr>
            <a:xfrm>
              <a:off x="928440" y="6499440"/>
              <a:ext cx="2428920" cy="172872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圆角矩形 98"/>
            <p:cNvSpPr/>
            <p:nvPr/>
          </p:nvSpPr>
          <p:spPr>
            <a:xfrm>
              <a:off x="928440" y="-1300320"/>
              <a:ext cx="2428920" cy="172872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3" name="TextBox 99"/>
          <p:cNvSpPr/>
          <p:nvPr/>
        </p:nvSpPr>
        <p:spPr>
          <a:xfrm rot="21051000">
            <a:off x="797400" y="93996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Box 101"/>
          <p:cNvSpPr/>
          <p:nvPr/>
        </p:nvSpPr>
        <p:spPr>
          <a:xfrm rot="614400">
            <a:off x="767520" y="496404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直接连接符 105"/>
          <p:cNvSpPr/>
          <p:nvPr/>
        </p:nvSpPr>
        <p:spPr>
          <a:xfrm>
            <a:off x="928800" y="3451320"/>
            <a:ext cx="2519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直接连接符 109"/>
          <p:cNvSpPr/>
          <p:nvPr/>
        </p:nvSpPr>
        <p:spPr>
          <a:xfrm>
            <a:off x="2142360" y="2595600"/>
            <a:ext cx="1800" cy="172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7" name="组合 114"/>
          <p:cNvGrpSpPr/>
          <p:nvPr/>
        </p:nvGrpSpPr>
        <p:grpSpPr>
          <a:xfrm>
            <a:off x="1397160" y="2714760"/>
            <a:ext cx="1500120" cy="1500120"/>
            <a:chOff x="1397160" y="2714760"/>
            <a:chExt cx="1500120" cy="1500120"/>
          </a:xfrm>
        </p:grpSpPr>
        <p:sp>
          <p:nvSpPr>
            <p:cNvPr id="938" name="同心圆 112"/>
            <p:cNvSpPr/>
            <p:nvPr/>
          </p:nvSpPr>
          <p:spPr>
            <a:xfrm>
              <a:off x="1397160" y="2714760"/>
              <a:ext cx="1500120" cy="1500120"/>
            </a:xfrm>
            <a:custGeom>
              <a:avLst/>
              <a:gdLst/>
              <a:ahLst/>
              <a:rect l="l" t="t" r="r" b="b"/>
              <a:pathLst>
                <a:path w="1500198" h="1500198">
                  <a:moveTo>
                    <a:pt x="0" y="750099"/>
                  </a:moveTo>
                  <a:cubicBezTo>
                    <a:pt x="0" y="335831"/>
                    <a:pt x="335831" y="0"/>
                    <a:pt x="750099" y="0"/>
                  </a:cubicBezTo>
                  <a:cubicBezTo>
                    <a:pt x="1164367" y="0"/>
                    <a:pt x="1500198" y="335831"/>
                    <a:pt x="1500198" y="750099"/>
                  </a:cubicBezTo>
                  <a:cubicBezTo>
                    <a:pt x="1500198" y="1164367"/>
                    <a:pt x="1164367" y="1500198"/>
                    <a:pt x="750099" y="1500198"/>
                  </a:cubicBezTo>
                  <a:cubicBezTo>
                    <a:pt x="335831" y="1500198"/>
                    <a:pt x="0" y="1164367"/>
                    <a:pt x="0" y="750099"/>
                  </a:cubicBezTo>
                  <a:close/>
                  <a:moveTo>
                    <a:pt x="103994" y="750099"/>
                  </a:moveTo>
                  <a:cubicBezTo>
                    <a:pt x="103994" y="1106933"/>
                    <a:pt x="393265" y="1396204"/>
                    <a:pt x="750099" y="1396204"/>
                  </a:cubicBezTo>
                  <a:cubicBezTo>
                    <a:pt x="1106933" y="1396204"/>
                    <a:pt x="1396204" y="1106933"/>
                    <a:pt x="1396204" y="750099"/>
                  </a:cubicBezTo>
                  <a:cubicBezTo>
                    <a:pt x="1396204" y="393265"/>
                    <a:pt x="1106933" y="103994"/>
                    <a:pt x="750099" y="103994"/>
                  </a:cubicBezTo>
                  <a:cubicBezTo>
                    <a:pt x="393265" y="103994"/>
                    <a:pt x="103994" y="393265"/>
                    <a:pt x="103994" y="750099"/>
                  </a:cubicBezTo>
                  <a:close/>
                </a:path>
              </a:pathLst>
            </a:custGeom>
            <a:solidFill>
              <a:srgbClr val="0079c5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9" name="椭圆 113"/>
            <p:cNvGrpSpPr/>
            <p:nvPr/>
          </p:nvGrpSpPr>
          <p:grpSpPr>
            <a:xfrm>
              <a:off x="1505880" y="2816280"/>
              <a:ext cx="1286280" cy="1286280"/>
              <a:chOff x="1505880" y="2816280"/>
              <a:chExt cx="1286280" cy="1286280"/>
            </a:xfrm>
          </p:grpSpPr>
          <p:pic>
            <p:nvPicPr>
              <p:cNvPr id="940" name="椭圆 1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505880" y="2816280"/>
                <a:ext cx="1286280" cy="128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1" name="Text Box 73"/>
              <p:cNvSpPr/>
              <p:nvPr/>
            </p:nvSpPr>
            <p:spPr>
              <a:xfrm>
                <a:off x="1696680" y="3005640"/>
                <a:ext cx="909360" cy="9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42" name="圆角矩形 115"/>
          <p:cNvSpPr/>
          <p:nvPr/>
        </p:nvSpPr>
        <p:spPr>
          <a:xfrm>
            <a:off x="944640" y="2603520"/>
            <a:ext cx="2428920" cy="1727280"/>
          </a:xfrm>
          <a:prstGeom prst="roundRect">
            <a:avLst>
              <a:gd name="adj" fmla="val 6477"/>
            </a:avLst>
          </a:prstGeom>
          <a:solidFill>
            <a:srgbClr val="0079c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Box 116"/>
          <p:cNvSpPr/>
          <p:nvPr/>
        </p:nvSpPr>
        <p:spPr>
          <a:xfrm>
            <a:off x="1674720" y="2643120"/>
            <a:ext cx="17859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任意多边形 108"/>
          <p:cNvSpPr/>
          <p:nvPr/>
        </p:nvSpPr>
        <p:spPr>
          <a:xfrm>
            <a:off x="6624720" y="3786120"/>
            <a:ext cx="2519280" cy="4680"/>
          </a:xfrm>
          <a:custGeom>
            <a:avLst/>
            <a:gdLst/>
            <a:ahLst/>
            <a:rect l="l" t="t" r="r" b="b"/>
            <a:pathLst>
              <a:path w="2585545" h="4762">
                <a:moveTo>
                  <a:pt x="0" y="0"/>
                </a:moveTo>
                <a:lnTo>
                  <a:pt x="2585545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Box 110"/>
          <p:cNvSpPr/>
          <p:nvPr/>
        </p:nvSpPr>
        <p:spPr>
          <a:xfrm>
            <a:off x="6564240" y="31035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媒体选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1390" dur="indefinite" restart="never" nodeType="tmRoot">
          <p:childTnLst>
            <p:seq>
              <p:cTn id="1391" dur="indefinite" nodeType="mainSeq">
                <p:childTnLst>
                  <p:par>
                    <p:cTn id="1392" nodeType="clickEffect" fill="hold">
                      <p:stCondLst>
                        <p:cond delay="0"/>
                      </p:stCondLst>
                      <p:childTnLst>
                        <p:par>
                          <p:cTn id="1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6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398" nodeType="afterEffect" fill="hold" presetClass="entr" presetID="16" presetSubtype="2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00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1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3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4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14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7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9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411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3" dur="2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2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7" dur="2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2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420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4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5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7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9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1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1433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5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1439" nodeType="afterEffect" fill="hold" presetClass="exit" presetID="21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440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6" name="组合 66"/>
          <p:cNvGrpSpPr/>
          <p:nvPr/>
        </p:nvGrpSpPr>
        <p:grpSpPr>
          <a:xfrm>
            <a:off x="1357200" y="3786120"/>
            <a:ext cx="420840" cy="1071720"/>
            <a:chOff x="1357200" y="3786120"/>
            <a:chExt cx="420840" cy="1071720"/>
          </a:xfrm>
        </p:grpSpPr>
        <p:sp>
          <p:nvSpPr>
            <p:cNvPr id="947" name="任意多边形 41"/>
            <p:cNvSpPr/>
            <p:nvPr/>
          </p:nvSpPr>
          <p:spPr>
            <a:xfrm>
              <a:off x="1357200" y="3786120"/>
              <a:ext cx="420840" cy="1071720"/>
            </a:xfrm>
            <a:custGeom>
              <a:avLst/>
              <a:gdLst/>
              <a:ahLst/>
              <a:rect l="l" t="t" r="r" b="b"/>
              <a:pathLst>
                <a:path w="421458" h="1072260">
                  <a:moveTo>
                    <a:pt x="93326" y="346498"/>
                  </a:moveTo>
                  <a:cubicBezTo>
                    <a:pt x="97297" y="312742"/>
                    <a:pt x="62052" y="301821"/>
                    <a:pt x="51627" y="266079"/>
                  </a:cubicBezTo>
                  <a:cubicBezTo>
                    <a:pt x="41202" y="230337"/>
                    <a:pt x="32267" y="170270"/>
                    <a:pt x="30778" y="132046"/>
                  </a:cubicBezTo>
                  <a:cubicBezTo>
                    <a:pt x="29289" y="93822"/>
                    <a:pt x="36239" y="58080"/>
                    <a:pt x="42692" y="36734"/>
                  </a:cubicBezTo>
                  <a:cubicBezTo>
                    <a:pt x="49145" y="15388"/>
                    <a:pt x="59073" y="7942"/>
                    <a:pt x="69498" y="3971"/>
                  </a:cubicBezTo>
                  <a:cubicBezTo>
                    <a:pt x="79923" y="0"/>
                    <a:pt x="92333" y="3971"/>
                    <a:pt x="105240" y="12906"/>
                  </a:cubicBezTo>
                  <a:cubicBezTo>
                    <a:pt x="118147" y="21842"/>
                    <a:pt x="130557" y="33756"/>
                    <a:pt x="146939" y="57584"/>
                  </a:cubicBezTo>
                  <a:cubicBezTo>
                    <a:pt x="163321" y="81412"/>
                    <a:pt x="194099" y="111693"/>
                    <a:pt x="203531" y="155874"/>
                  </a:cubicBezTo>
                  <a:cubicBezTo>
                    <a:pt x="212963" y="200055"/>
                    <a:pt x="208992" y="281964"/>
                    <a:pt x="203531" y="322670"/>
                  </a:cubicBezTo>
                  <a:cubicBezTo>
                    <a:pt x="198070" y="363376"/>
                    <a:pt x="177717" y="385715"/>
                    <a:pt x="170767" y="400111"/>
                  </a:cubicBezTo>
                  <a:cubicBezTo>
                    <a:pt x="163817" y="414507"/>
                    <a:pt x="162328" y="405076"/>
                    <a:pt x="161832" y="409047"/>
                  </a:cubicBezTo>
                  <a:cubicBezTo>
                    <a:pt x="161336" y="413018"/>
                    <a:pt x="166300" y="419968"/>
                    <a:pt x="167789" y="423939"/>
                  </a:cubicBezTo>
                  <a:cubicBezTo>
                    <a:pt x="169278" y="427910"/>
                    <a:pt x="165307" y="421954"/>
                    <a:pt x="170767" y="432875"/>
                  </a:cubicBezTo>
                  <a:cubicBezTo>
                    <a:pt x="176228" y="443796"/>
                    <a:pt x="194595" y="478545"/>
                    <a:pt x="200552" y="489466"/>
                  </a:cubicBezTo>
                  <a:cubicBezTo>
                    <a:pt x="206509" y="500387"/>
                    <a:pt x="193106" y="497906"/>
                    <a:pt x="206509" y="498402"/>
                  </a:cubicBezTo>
                  <a:cubicBezTo>
                    <a:pt x="219912" y="498898"/>
                    <a:pt x="259626" y="490459"/>
                    <a:pt x="280972" y="492445"/>
                  </a:cubicBezTo>
                  <a:cubicBezTo>
                    <a:pt x="302318" y="494431"/>
                    <a:pt x="317210" y="497409"/>
                    <a:pt x="334585" y="510316"/>
                  </a:cubicBezTo>
                  <a:cubicBezTo>
                    <a:pt x="351960" y="523223"/>
                    <a:pt x="373306" y="550029"/>
                    <a:pt x="385220" y="569886"/>
                  </a:cubicBezTo>
                  <a:cubicBezTo>
                    <a:pt x="397134" y="589743"/>
                    <a:pt x="404083" y="607614"/>
                    <a:pt x="406069" y="629456"/>
                  </a:cubicBezTo>
                  <a:cubicBezTo>
                    <a:pt x="408055" y="651298"/>
                    <a:pt x="403587" y="678601"/>
                    <a:pt x="397134" y="700940"/>
                  </a:cubicBezTo>
                  <a:cubicBezTo>
                    <a:pt x="390681" y="723279"/>
                    <a:pt x="375292" y="749589"/>
                    <a:pt x="367349" y="763489"/>
                  </a:cubicBezTo>
                  <a:cubicBezTo>
                    <a:pt x="359406" y="777389"/>
                    <a:pt x="347989" y="773913"/>
                    <a:pt x="349478" y="784338"/>
                  </a:cubicBezTo>
                  <a:cubicBezTo>
                    <a:pt x="350967" y="794763"/>
                    <a:pt x="365363" y="804691"/>
                    <a:pt x="376284" y="826037"/>
                  </a:cubicBezTo>
                  <a:cubicBezTo>
                    <a:pt x="387205" y="847383"/>
                    <a:pt x="409544" y="881140"/>
                    <a:pt x="415005" y="912414"/>
                  </a:cubicBezTo>
                  <a:cubicBezTo>
                    <a:pt x="420466" y="943688"/>
                    <a:pt x="421458" y="988862"/>
                    <a:pt x="409048" y="1013683"/>
                  </a:cubicBezTo>
                  <a:cubicBezTo>
                    <a:pt x="396638" y="1038504"/>
                    <a:pt x="366852" y="1052900"/>
                    <a:pt x="340542" y="1061339"/>
                  </a:cubicBezTo>
                  <a:cubicBezTo>
                    <a:pt x="314232" y="1069778"/>
                    <a:pt x="275015" y="1072260"/>
                    <a:pt x="251187" y="1064317"/>
                  </a:cubicBezTo>
                  <a:cubicBezTo>
                    <a:pt x="227359" y="1056374"/>
                    <a:pt x="206013" y="1034036"/>
                    <a:pt x="197574" y="1013683"/>
                  </a:cubicBezTo>
                  <a:cubicBezTo>
                    <a:pt x="189135" y="993330"/>
                    <a:pt x="194099" y="959574"/>
                    <a:pt x="200552" y="942199"/>
                  </a:cubicBezTo>
                  <a:cubicBezTo>
                    <a:pt x="207005" y="924824"/>
                    <a:pt x="218919" y="912910"/>
                    <a:pt x="236294" y="909435"/>
                  </a:cubicBezTo>
                  <a:cubicBezTo>
                    <a:pt x="253669" y="905960"/>
                    <a:pt x="290900" y="906953"/>
                    <a:pt x="304800" y="921349"/>
                  </a:cubicBezTo>
                  <a:cubicBezTo>
                    <a:pt x="318700" y="935745"/>
                    <a:pt x="321679" y="978438"/>
                    <a:pt x="319693" y="995812"/>
                  </a:cubicBezTo>
                  <a:cubicBezTo>
                    <a:pt x="317707" y="1013186"/>
                    <a:pt x="301325" y="1020137"/>
                    <a:pt x="292886" y="1025597"/>
                  </a:cubicBezTo>
                  <a:cubicBezTo>
                    <a:pt x="284447" y="1031057"/>
                    <a:pt x="270547" y="1026589"/>
                    <a:pt x="269058" y="1028575"/>
                  </a:cubicBezTo>
                  <a:cubicBezTo>
                    <a:pt x="267569" y="1030561"/>
                    <a:pt x="273526" y="1036518"/>
                    <a:pt x="283951" y="1037511"/>
                  </a:cubicBezTo>
                  <a:cubicBezTo>
                    <a:pt x="294376" y="1038504"/>
                    <a:pt x="314729" y="1042971"/>
                    <a:pt x="331607" y="1034532"/>
                  </a:cubicBezTo>
                  <a:cubicBezTo>
                    <a:pt x="348485" y="1026093"/>
                    <a:pt x="376781" y="1003754"/>
                    <a:pt x="385220" y="986876"/>
                  </a:cubicBezTo>
                  <a:cubicBezTo>
                    <a:pt x="393659" y="969998"/>
                    <a:pt x="390680" y="960566"/>
                    <a:pt x="382241" y="933263"/>
                  </a:cubicBezTo>
                  <a:cubicBezTo>
                    <a:pt x="373802" y="905960"/>
                    <a:pt x="344017" y="845398"/>
                    <a:pt x="334585" y="823059"/>
                  </a:cubicBezTo>
                  <a:cubicBezTo>
                    <a:pt x="325153" y="800720"/>
                    <a:pt x="331607" y="801217"/>
                    <a:pt x="325650" y="799231"/>
                  </a:cubicBezTo>
                  <a:cubicBezTo>
                    <a:pt x="319693" y="797245"/>
                    <a:pt x="312743" y="807174"/>
                    <a:pt x="298843" y="811145"/>
                  </a:cubicBezTo>
                  <a:cubicBezTo>
                    <a:pt x="284943" y="815116"/>
                    <a:pt x="263101" y="821073"/>
                    <a:pt x="242251" y="823059"/>
                  </a:cubicBezTo>
                  <a:cubicBezTo>
                    <a:pt x="221401" y="825045"/>
                    <a:pt x="197078" y="829016"/>
                    <a:pt x="173746" y="823059"/>
                  </a:cubicBezTo>
                  <a:cubicBezTo>
                    <a:pt x="150415" y="817102"/>
                    <a:pt x="125594" y="806181"/>
                    <a:pt x="102262" y="787317"/>
                  </a:cubicBezTo>
                  <a:cubicBezTo>
                    <a:pt x="78930" y="768453"/>
                    <a:pt x="50634" y="740158"/>
                    <a:pt x="33756" y="709876"/>
                  </a:cubicBezTo>
                  <a:cubicBezTo>
                    <a:pt x="16878" y="679595"/>
                    <a:pt x="1986" y="645838"/>
                    <a:pt x="993" y="605628"/>
                  </a:cubicBezTo>
                  <a:cubicBezTo>
                    <a:pt x="0" y="565418"/>
                    <a:pt x="13403" y="508827"/>
                    <a:pt x="27799" y="468617"/>
                  </a:cubicBezTo>
                  <a:cubicBezTo>
                    <a:pt x="42195" y="428407"/>
                    <a:pt x="89355" y="380254"/>
                    <a:pt x="93326" y="346498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任意多边形 42"/>
            <p:cNvSpPr/>
            <p:nvPr/>
          </p:nvSpPr>
          <p:spPr>
            <a:xfrm>
              <a:off x="1428480" y="3876480"/>
              <a:ext cx="92160" cy="236520"/>
            </a:xfrm>
            <a:custGeom>
              <a:avLst/>
              <a:gdLst/>
              <a:ahLst/>
              <a:rect l="l" t="t" r="r" b="b"/>
              <a:pathLst>
                <a:path w="91341" h="235301">
                  <a:moveTo>
                    <a:pt x="33260" y="225373"/>
                  </a:moveTo>
                  <a:cubicBezTo>
                    <a:pt x="46167" y="235301"/>
                    <a:pt x="71484" y="167293"/>
                    <a:pt x="80916" y="138997"/>
                  </a:cubicBezTo>
                  <a:cubicBezTo>
                    <a:pt x="90348" y="110701"/>
                    <a:pt x="91341" y="76945"/>
                    <a:pt x="89852" y="55599"/>
                  </a:cubicBezTo>
                  <a:cubicBezTo>
                    <a:pt x="88363" y="34253"/>
                    <a:pt x="78931" y="19856"/>
                    <a:pt x="71981" y="10921"/>
                  </a:cubicBezTo>
                  <a:cubicBezTo>
                    <a:pt x="65031" y="1986"/>
                    <a:pt x="57089" y="0"/>
                    <a:pt x="48153" y="1986"/>
                  </a:cubicBezTo>
                  <a:cubicBezTo>
                    <a:pt x="39217" y="3972"/>
                    <a:pt x="25814" y="9928"/>
                    <a:pt x="18368" y="22835"/>
                  </a:cubicBezTo>
                  <a:cubicBezTo>
                    <a:pt x="10922" y="35742"/>
                    <a:pt x="0" y="46664"/>
                    <a:pt x="3475" y="79427"/>
                  </a:cubicBezTo>
                  <a:cubicBezTo>
                    <a:pt x="6950" y="112190"/>
                    <a:pt x="20353" y="215445"/>
                    <a:pt x="33260" y="225373"/>
                  </a:cubicBezTo>
                  <a:close/>
                </a:path>
              </a:pathLst>
            </a:cu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任意多边形 43"/>
            <p:cNvSpPr/>
            <p:nvPr/>
          </p:nvSpPr>
          <p:spPr>
            <a:xfrm>
              <a:off x="1425240" y="4226040"/>
              <a:ext cx="241560" cy="365040"/>
            </a:xfrm>
            <a:custGeom>
              <a:avLst/>
              <a:gdLst/>
              <a:ahLst/>
              <a:rect l="l" t="t" r="r" b="b"/>
              <a:pathLst>
                <a:path w="242748" h="363874">
                  <a:moveTo>
                    <a:pt x="69995" y="993"/>
                  </a:moveTo>
                  <a:cubicBezTo>
                    <a:pt x="55103" y="1986"/>
                    <a:pt x="36735" y="52620"/>
                    <a:pt x="25317" y="84391"/>
                  </a:cubicBezTo>
                  <a:cubicBezTo>
                    <a:pt x="13899" y="116162"/>
                    <a:pt x="0" y="153890"/>
                    <a:pt x="1489" y="191618"/>
                  </a:cubicBezTo>
                  <a:cubicBezTo>
                    <a:pt x="2978" y="229346"/>
                    <a:pt x="11418" y="282959"/>
                    <a:pt x="34253" y="310758"/>
                  </a:cubicBezTo>
                  <a:cubicBezTo>
                    <a:pt x="57088" y="338557"/>
                    <a:pt x="106729" y="352954"/>
                    <a:pt x="138500" y="358414"/>
                  </a:cubicBezTo>
                  <a:cubicBezTo>
                    <a:pt x="170271" y="363874"/>
                    <a:pt x="207502" y="348485"/>
                    <a:pt x="224877" y="343521"/>
                  </a:cubicBezTo>
                  <a:cubicBezTo>
                    <a:pt x="242252" y="338557"/>
                    <a:pt x="242748" y="337068"/>
                    <a:pt x="242748" y="328629"/>
                  </a:cubicBezTo>
                  <a:cubicBezTo>
                    <a:pt x="242748" y="320190"/>
                    <a:pt x="238777" y="319197"/>
                    <a:pt x="224877" y="292887"/>
                  </a:cubicBezTo>
                  <a:cubicBezTo>
                    <a:pt x="210977" y="266577"/>
                    <a:pt x="172257" y="193603"/>
                    <a:pt x="159350" y="170768"/>
                  </a:cubicBezTo>
                  <a:cubicBezTo>
                    <a:pt x="146443" y="147933"/>
                    <a:pt x="153393" y="154882"/>
                    <a:pt x="147436" y="155875"/>
                  </a:cubicBezTo>
                  <a:cubicBezTo>
                    <a:pt x="141479" y="156868"/>
                    <a:pt x="129069" y="167789"/>
                    <a:pt x="123608" y="176725"/>
                  </a:cubicBezTo>
                  <a:cubicBezTo>
                    <a:pt x="118147" y="185661"/>
                    <a:pt x="115168" y="197079"/>
                    <a:pt x="114672" y="209489"/>
                  </a:cubicBezTo>
                  <a:cubicBezTo>
                    <a:pt x="114176" y="221899"/>
                    <a:pt x="115665" y="239274"/>
                    <a:pt x="120629" y="251188"/>
                  </a:cubicBezTo>
                  <a:cubicBezTo>
                    <a:pt x="125593" y="263102"/>
                    <a:pt x="134529" y="273030"/>
                    <a:pt x="144457" y="280973"/>
                  </a:cubicBezTo>
                  <a:cubicBezTo>
                    <a:pt x="154385" y="288916"/>
                    <a:pt x="177221" y="294873"/>
                    <a:pt x="180199" y="298844"/>
                  </a:cubicBezTo>
                  <a:cubicBezTo>
                    <a:pt x="183177" y="302815"/>
                    <a:pt x="170767" y="305297"/>
                    <a:pt x="162328" y="304801"/>
                  </a:cubicBezTo>
                  <a:cubicBezTo>
                    <a:pt x="153889" y="304305"/>
                    <a:pt x="141479" y="301822"/>
                    <a:pt x="129565" y="295865"/>
                  </a:cubicBezTo>
                  <a:cubicBezTo>
                    <a:pt x="117651" y="289908"/>
                    <a:pt x="101269" y="285441"/>
                    <a:pt x="90844" y="269059"/>
                  </a:cubicBezTo>
                  <a:cubicBezTo>
                    <a:pt x="80419" y="252677"/>
                    <a:pt x="69498" y="222396"/>
                    <a:pt x="67016" y="197575"/>
                  </a:cubicBezTo>
                  <a:cubicBezTo>
                    <a:pt x="64534" y="172754"/>
                    <a:pt x="70491" y="138004"/>
                    <a:pt x="75952" y="120133"/>
                  </a:cubicBezTo>
                  <a:cubicBezTo>
                    <a:pt x="81413" y="102262"/>
                    <a:pt x="93327" y="97298"/>
                    <a:pt x="99780" y="90348"/>
                  </a:cubicBezTo>
                  <a:cubicBezTo>
                    <a:pt x="106233" y="83398"/>
                    <a:pt x="115168" y="87866"/>
                    <a:pt x="114672" y="78434"/>
                  </a:cubicBezTo>
                  <a:cubicBezTo>
                    <a:pt x="114176" y="69002"/>
                    <a:pt x="84887" y="0"/>
                    <a:pt x="69995" y="993"/>
                  </a:cubicBezTo>
                  <a:close/>
                </a:path>
              </a:pathLst>
            </a:cu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任意多边形 44"/>
            <p:cNvSpPr/>
            <p:nvPr/>
          </p:nvSpPr>
          <p:spPr>
            <a:xfrm>
              <a:off x="1598760" y="4338720"/>
              <a:ext cx="127080" cy="203040"/>
            </a:xfrm>
            <a:custGeom>
              <a:avLst/>
              <a:gdLst/>
              <a:ahLst/>
              <a:rect l="l" t="t" r="r" b="b"/>
              <a:pathLst>
                <a:path w="127580" h="203035">
                  <a:moveTo>
                    <a:pt x="3475" y="25317"/>
                  </a:moveTo>
                  <a:cubicBezTo>
                    <a:pt x="6950" y="50634"/>
                    <a:pt x="66024" y="145451"/>
                    <a:pt x="80916" y="174243"/>
                  </a:cubicBezTo>
                  <a:cubicBezTo>
                    <a:pt x="95808" y="203035"/>
                    <a:pt x="86873" y="198567"/>
                    <a:pt x="92830" y="198071"/>
                  </a:cubicBezTo>
                  <a:cubicBezTo>
                    <a:pt x="98787" y="197575"/>
                    <a:pt x="111197" y="183178"/>
                    <a:pt x="116658" y="171264"/>
                  </a:cubicBezTo>
                  <a:cubicBezTo>
                    <a:pt x="122119" y="159350"/>
                    <a:pt x="127580" y="144954"/>
                    <a:pt x="125594" y="126587"/>
                  </a:cubicBezTo>
                  <a:cubicBezTo>
                    <a:pt x="123608" y="108220"/>
                    <a:pt x="115665" y="78435"/>
                    <a:pt x="104744" y="61060"/>
                  </a:cubicBezTo>
                  <a:cubicBezTo>
                    <a:pt x="93823" y="43685"/>
                    <a:pt x="75952" y="29289"/>
                    <a:pt x="60067" y="22339"/>
                  </a:cubicBezTo>
                  <a:cubicBezTo>
                    <a:pt x="44182" y="15389"/>
                    <a:pt x="0" y="0"/>
                    <a:pt x="3475" y="25317"/>
                  </a:cubicBezTo>
                  <a:close/>
                </a:path>
              </a:pathLst>
            </a:cu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1" name="任意多边形 3"/>
          <p:cNvSpPr/>
          <p:nvPr/>
        </p:nvSpPr>
        <p:spPr>
          <a:xfrm>
            <a:off x="7265880" y="1198440"/>
            <a:ext cx="1027080" cy="1871640"/>
          </a:xfrm>
          <a:custGeom>
            <a:avLst/>
            <a:gdLst/>
            <a:ahLst/>
            <a:rect l="l" t="t" r="r" b="b"/>
            <a:pathLst>
              <a:path w="1026607" h="1871505">
                <a:moveTo>
                  <a:pt x="1675" y="324059"/>
                </a:moveTo>
                <a:cubicBezTo>
                  <a:pt x="837" y="301031"/>
                  <a:pt x="0" y="278004"/>
                  <a:pt x="11723" y="258745"/>
                </a:cubicBezTo>
                <a:cubicBezTo>
                  <a:pt x="23446" y="239486"/>
                  <a:pt x="62802" y="222738"/>
                  <a:pt x="72013" y="208503"/>
                </a:cubicBezTo>
                <a:cubicBezTo>
                  <a:pt x="81224" y="194268"/>
                  <a:pt x="64477" y="184220"/>
                  <a:pt x="66989" y="173334"/>
                </a:cubicBezTo>
                <a:cubicBezTo>
                  <a:pt x="69501" y="162448"/>
                  <a:pt x="72851" y="156587"/>
                  <a:pt x="87086" y="143189"/>
                </a:cubicBezTo>
                <a:cubicBezTo>
                  <a:pt x="101321" y="129791"/>
                  <a:pt x="132303" y="102995"/>
                  <a:pt x="152400" y="92947"/>
                </a:cubicBezTo>
                <a:cubicBezTo>
                  <a:pt x="172497" y="82899"/>
                  <a:pt x="191756" y="90435"/>
                  <a:pt x="207666" y="82899"/>
                </a:cubicBezTo>
                <a:cubicBezTo>
                  <a:pt x="223576" y="75363"/>
                  <a:pt x="247860" y="47730"/>
                  <a:pt x="247860" y="47730"/>
                </a:cubicBezTo>
                <a:cubicBezTo>
                  <a:pt x="262095" y="35170"/>
                  <a:pt x="278842" y="15072"/>
                  <a:pt x="293077" y="7536"/>
                </a:cubicBezTo>
                <a:cubicBezTo>
                  <a:pt x="307312" y="0"/>
                  <a:pt x="319036" y="837"/>
                  <a:pt x="333271" y="2512"/>
                </a:cubicBezTo>
                <a:cubicBezTo>
                  <a:pt x="347506" y="4187"/>
                  <a:pt x="365928" y="15073"/>
                  <a:pt x="378488" y="17585"/>
                </a:cubicBezTo>
                <a:cubicBezTo>
                  <a:pt x="391048" y="20097"/>
                  <a:pt x="396910" y="15073"/>
                  <a:pt x="408633" y="17585"/>
                </a:cubicBezTo>
                <a:cubicBezTo>
                  <a:pt x="420356" y="20097"/>
                  <a:pt x="435429" y="30982"/>
                  <a:pt x="448827" y="32657"/>
                </a:cubicBezTo>
                <a:cubicBezTo>
                  <a:pt x="462225" y="34332"/>
                  <a:pt x="478972" y="25958"/>
                  <a:pt x="489020" y="27633"/>
                </a:cubicBezTo>
                <a:cubicBezTo>
                  <a:pt x="499068" y="29308"/>
                  <a:pt x="499069" y="39356"/>
                  <a:pt x="509117" y="42705"/>
                </a:cubicBezTo>
                <a:cubicBezTo>
                  <a:pt x="519165" y="46054"/>
                  <a:pt x="536750" y="43543"/>
                  <a:pt x="549310" y="47730"/>
                </a:cubicBezTo>
                <a:cubicBezTo>
                  <a:pt x="561870" y="51917"/>
                  <a:pt x="571919" y="62802"/>
                  <a:pt x="584479" y="67826"/>
                </a:cubicBezTo>
                <a:cubicBezTo>
                  <a:pt x="597039" y="72850"/>
                  <a:pt x="613787" y="71176"/>
                  <a:pt x="624673" y="77875"/>
                </a:cubicBezTo>
                <a:cubicBezTo>
                  <a:pt x="635559" y="84574"/>
                  <a:pt x="634721" y="94622"/>
                  <a:pt x="649794" y="108020"/>
                </a:cubicBezTo>
                <a:cubicBezTo>
                  <a:pt x="664867" y="121418"/>
                  <a:pt x="694174" y="147375"/>
                  <a:pt x="715108" y="158261"/>
                </a:cubicBezTo>
                <a:cubicBezTo>
                  <a:pt x="736042" y="169147"/>
                  <a:pt x="762838" y="166635"/>
                  <a:pt x="775398" y="173334"/>
                </a:cubicBezTo>
                <a:cubicBezTo>
                  <a:pt x="787959" y="180033"/>
                  <a:pt x="789634" y="184220"/>
                  <a:pt x="790471" y="198455"/>
                </a:cubicBezTo>
                <a:cubicBezTo>
                  <a:pt x="791308" y="212690"/>
                  <a:pt x="776235" y="244510"/>
                  <a:pt x="780422" y="258745"/>
                </a:cubicBezTo>
                <a:cubicBezTo>
                  <a:pt x="784609" y="272980"/>
                  <a:pt x="808892" y="272143"/>
                  <a:pt x="815591" y="283866"/>
                </a:cubicBezTo>
                <a:cubicBezTo>
                  <a:pt x="822290" y="295589"/>
                  <a:pt x="815592" y="318197"/>
                  <a:pt x="820616" y="329083"/>
                </a:cubicBezTo>
                <a:cubicBezTo>
                  <a:pt x="825640" y="339969"/>
                  <a:pt x="836526" y="342481"/>
                  <a:pt x="845737" y="349180"/>
                </a:cubicBezTo>
                <a:cubicBezTo>
                  <a:pt x="854948" y="355879"/>
                  <a:pt x="868346" y="362578"/>
                  <a:pt x="875882" y="369277"/>
                </a:cubicBezTo>
                <a:cubicBezTo>
                  <a:pt x="883418" y="375976"/>
                  <a:pt x="887605" y="376814"/>
                  <a:pt x="890954" y="389374"/>
                </a:cubicBezTo>
                <a:cubicBezTo>
                  <a:pt x="894303" y="401934"/>
                  <a:pt x="886767" y="426217"/>
                  <a:pt x="895978" y="444639"/>
                </a:cubicBezTo>
                <a:cubicBezTo>
                  <a:pt x="905189" y="463061"/>
                  <a:pt x="937846" y="483158"/>
                  <a:pt x="946220" y="499905"/>
                </a:cubicBezTo>
                <a:cubicBezTo>
                  <a:pt x="954594" y="516652"/>
                  <a:pt x="947057" y="530888"/>
                  <a:pt x="946220" y="545123"/>
                </a:cubicBezTo>
                <a:cubicBezTo>
                  <a:pt x="945383" y="559358"/>
                  <a:pt x="935335" y="571918"/>
                  <a:pt x="941196" y="585316"/>
                </a:cubicBezTo>
                <a:cubicBezTo>
                  <a:pt x="947057" y="598714"/>
                  <a:pt x="981389" y="625510"/>
                  <a:pt x="981389" y="625510"/>
                </a:cubicBezTo>
                <a:cubicBezTo>
                  <a:pt x="993949" y="638070"/>
                  <a:pt x="1012372" y="644769"/>
                  <a:pt x="1016559" y="660679"/>
                </a:cubicBezTo>
                <a:cubicBezTo>
                  <a:pt x="1020746" y="676589"/>
                  <a:pt x="1005673" y="691661"/>
                  <a:pt x="1006510" y="720969"/>
                </a:cubicBezTo>
                <a:cubicBezTo>
                  <a:pt x="1007347" y="750277"/>
                  <a:pt x="1026607" y="808892"/>
                  <a:pt x="1021583" y="836525"/>
                </a:cubicBezTo>
                <a:cubicBezTo>
                  <a:pt x="1016559" y="864158"/>
                  <a:pt x="984739" y="866670"/>
                  <a:pt x="976365" y="886767"/>
                </a:cubicBezTo>
                <a:cubicBezTo>
                  <a:pt x="967991" y="906864"/>
                  <a:pt x="974690" y="940358"/>
                  <a:pt x="971341" y="957105"/>
                </a:cubicBezTo>
                <a:cubicBezTo>
                  <a:pt x="967992" y="973852"/>
                  <a:pt x="958780" y="967991"/>
                  <a:pt x="956268" y="987250"/>
                </a:cubicBezTo>
                <a:cubicBezTo>
                  <a:pt x="953756" y="1006509"/>
                  <a:pt x="953756" y="1049215"/>
                  <a:pt x="956268" y="1072661"/>
                </a:cubicBezTo>
                <a:cubicBezTo>
                  <a:pt x="958780" y="1096107"/>
                  <a:pt x="974690" y="1108668"/>
                  <a:pt x="971341" y="1127927"/>
                </a:cubicBezTo>
                <a:cubicBezTo>
                  <a:pt x="967992" y="1147186"/>
                  <a:pt x="944546" y="1162260"/>
                  <a:pt x="936172" y="1188218"/>
                </a:cubicBezTo>
                <a:cubicBezTo>
                  <a:pt x="927798" y="1214176"/>
                  <a:pt x="925286" y="1263580"/>
                  <a:pt x="921099" y="1283677"/>
                </a:cubicBezTo>
                <a:cubicBezTo>
                  <a:pt x="916912" y="1303774"/>
                  <a:pt x="913563" y="1292888"/>
                  <a:pt x="911051" y="1308798"/>
                </a:cubicBezTo>
                <a:cubicBezTo>
                  <a:pt x="908539" y="1324708"/>
                  <a:pt x="910214" y="1362389"/>
                  <a:pt x="906027" y="1379136"/>
                </a:cubicBezTo>
                <a:cubicBezTo>
                  <a:pt x="901840" y="1395883"/>
                  <a:pt x="893466" y="1394209"/>
                  <a:pt x="885930" y="1409281"/>
                </a:cubicBezTo>
                <a:cubicBezTo>
                  <a:pt x="878394" y="1424354"/>
                  <a:pt x="873369" y="1440263"/>
                  <a:pt x="860809" y="1469571"/>
                </a:cubicBezTo>
                <a:cubicBezTo>
                  <a:pt x="848249" y="1498879"/>
                  <a:pt x="834850" y="1539909"/>
                  <a:pt x="810567" y="1585127"/>
                </a:cubicBezTo>
                <a:cubicBezTo>
                  <a:pt x="786284" y="1630345"/>
                  <a:pt x="732693" y="1705708"/>
                  <a:pt x="715108" y="1740877"/>
                </a:cubicBezTo>
                <a:cubicBezTo>
                  <a:pt x="697523" y="1776046"/>
                  <a:pt x="711759" y="1781908"/>
                  <a:pt x="705060" y="1796143"/>
                </a:cubicBezTo>
                <a:cubicBezTo>
                  <a:pt x="698361" y="1810378"/>
                  <a:pt x="682451" y="1813728"/>
                  <a:pt x="674915" y="1826288"/>
                </a:cubicBezTo>
                <a:cubicBezTo>
                  <a:pt x="667379" y="1838848"/>
                  <a:pt x="664866" y="1853083"/>
                  <a:pt x="659842" y="1871505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2" name="组合 57"/>
          <p:cNvGrpSpPr/>
          <p:nvPr/>
        </p:nvGrpSpPr>
        <p:grpSpPr>
          <a:xfrm>
            <a:off x="7885080" y="3065400"/>
            <a:ext cx="944640" cy="3638520"/>
            <a:chOff x="7885080" y="3065400"/>
            <a:chExt cx="944640" cy="3638520"/>
          </a:xfrm>
        </p:grpSpPr>
        <p:sp>
          <p:nvSpPr>
            <p:cNvPr id="953" name="任意多边形 4"/>
            <p:cNvSpPr/>
            <p:nvPr/>
          </p:nvSpPr>
          <p:spPr>
            <a:xfrm>
              <a:off x="7885080" y="3065400"/>
              <a:ext cx="612720" cy="2346480"/>
            </a:xfrm>
            <a:custGeom>
              <a:avLst/>
              <a:gdLst/>
              <a:ahLst/>
              <a:rect l="l" t="t" r="r" b="b"/>
              <a:pathLst>
                <a:path w="613786" h="2346290">
                  <a:moveTo>
                    <a:pt x="41030" y="0"/>
                  </a:moveTo>
                  <a:cubicBezTo>
                    <a:pt x="36006" y="20515"/>
                    <a:pt x="30982" y="41031"/>
                    <a:pt x="25958" y="60290"/>
                  </a:cubicBezTo>
                  <a:cubicBezTo>
                    <a:pt x="20934" y="79549"/>
                    <a:pt x="15072" y="97134"/>
                    <a:pt x="10885" y="115556"/>
                  </a:cubicBezTo>
                  <a:cubicBezTo>
                    <a:pt x="6698" y="133978"/>
                    <a:pt x="1674" y="154075"/>
                    <a:pt x="837" y="170822"/>
                  </a:cubicBezTo>
                  <a:cubicBezTo>
                    <a:pt x="0" y="187569"/>
                    <a:pt x="2512" y="201805"/>
                    <a:pt x="5861" y="216040"/>
                  </a:cubicBezTo>
                  <a:cubicBezTo>
                    <a:pt x="9210" y="230275"/>
                    <a:pt x="20096" y="230275"/>
                    <a:pt x="20933" y="256233"/>
                  </a:cubicBezTo>
                  <a:cubicBezTo>
                    <a:pt x="21770" y="282191"/>
                    <a:pt x="9210" y="343319"/>
                    <a:pt x="10885" y="371789"/>
                  </a:cubicBezTo>
                  <a:cubicBezTo>
                    <a:pt x="12560" y="400259"/>
                    <a:pt x="24283" y="413657"/>
                    <a:pt x="30982" y="427055"/>
                  </a:cubicBezTo>
                  <a:cubicBezTo>
                    <a:pt x="37681" y="440453"/>
                    <a:pt x="46891" y="442128"/>
                    <a:pt x="51078" y="452176"/>
                  </a:cubicBezTo>
                  <a:cubicBezTo>
                    <a:pt x="55265" y="462224"/>
                    <a:pt x="47729" y="476459"/>
                    <a:pt x="56103" y="487345"/>
                  </a:cubicBezTo>
                  <a:cubicBezTo>
                    <a:pt x="64477" y="498231"/>
                    <a:pt x="90434" y="503255"/>
                    <a:pt x="101320" y="517490"/>
                  </a:cubicBezTo>
                  <a:cubicBezTo>
                    <a:pt x="112206" y="531725"/>
                    <a:pt x="113043" y="559358"/>
                    <a:pt x="121417" y="572756"/>
                  </a:cubicBezTo>
                  <a:cubicBezTo>
                    <a:pt x="129791" y="586154"/>
                    <a:pt x="146538" y="585317"/>
                    <a:pt x="151562" y="597877"/>
                  </a:cubicBezTo>
                  <a:cubicBezTo>
                    <a:pt x="156586" y="610437"/>
                    <a:pt x="144863" y="620486"/>
                    <a:pt x="151562" y="648119"/>
                  </a:cubicBezTo>
                  <a:cubicBezTo>
                    <a:pt x="158261" y="675752"/>
                    <a:pt x="181707" y="708409"/>
                    <a:pt x="191755" y="763675"/>
                  </a:cubicBezTo>
                  <a:cubicBezTo>
                    <a:pt x="201803" y="818941"/>
                    <a:pt x="208502" y="884256"/>
                    <a:pt x="211852" y="979715"/>
                  </a:cubicBezTo>
                  <a:cubicBezTo>
                    <a:pt x="215202" y="1075174"/>
                    <a:pt x="208503" y="1237622"/>
                    <a:pt x="211852" y="1336431"/>
                  </a:cubicBezTo>
                  <a:cubicBezTo>
                    <a:pt x="215202" y="1435240"/>
                    <a:pt x="223575" y="1500554"/>
                    <a:pt x="231949" y="1572567"/>
                  </a:cubicBezTo>
                  <a:cubicBezTo>
                    <a:pt x="240323" y="1644580"/>
                    <a:pt x="243672" y="1716594"/>
                    <a:pt x="262094" y="1768510"/>
                  </a:cubicBezTo>
                  <a:cubicBezTo>
                    <a:pt x="280516" y="1820426"/>
                    <a:pt x="328246" y="1856433"/>
                    <a:pt x="342481" y="1884066"/>
                  </a:cubicBezTo>
                  <a:cubicBezTo>
                    <a:pt x="356716" y="1911699"/>
                    <a:pt x="345830" y="1922585"/>
                    <a:pt x="347505" y="1934308"/>
                  </a:cubicBezTo>
                  <a:cubicBezTo>
                    <a:pt x="349180" y="1946031"/>
                    <a:pt x="345830" y="1944357"/>
                    <a:pt x="352529" y="1954405"/>
                  </a:cubicBezTo>
                  <a:cubicBezTo>
                    <a:pt x="359228" y="1964453"/>
                    <a:pt x="358390" y="1962778"/>
                    <a:pt x="387698" y="1994598"/>
                  </a:cubicBezTo>
                  <a:cubicBezTo>
                    <a:pt x="417006" y="2026418"/>
                    <a:pt x="490694" y="2086708"/>
                    <a:pt x="528375" y="2145323"/>
                  </a:cubicBezTo>
                  <a:cubicBezTo>
                    <a:pt x="566056" y="2203938"/>
                    <a:pt x="589921" y="2275114"/>
                    <a:pt x="613786" y="234629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任意多边形 6"/>
            <p:cNvSpPr/>
            <p:nvPr/>
          </p:nvSpPr>
          <p:spPr>
            <a:xfrm>
              <a:off x="8373960" y="5406840"/>
              <a:ext cx="455760" cy="1297080"/>
            </a:xfrm>
            <a:custGeom>
              <a:avLst/>
              <a:gdLst/>
              <a:ahLst/>
              <a:rect l="l" t="t" r="r" b="b"/>
              <a:pathLst>
                <a:path w="456362" h="1297912">
                  <a:moveTo>
                    <a:pt x="124767" y="0"/>
                  </a:moveTo>
                  <a:cubicBezTo>
                    <a:pt x="131466" y="29308"/>
                    <a:pt x="138165" y="58616"/>
                    <a:pt x="159936" y="135653"/>
                  </a:cubicBezTo>
                  <a:cubicBezTo>
                    <a:pt x="181707" y="212690"/>
                    <a:pt x="228599" y="394398"/>
                    <a:pt x="255395" y="462224"/>
                  </a:cubicBezTo>
                  <a:cubicBezTo>
                    <a:pt x="282191" y="530050"/>
                    <a:pt x="311499" y="523352"/>
                    <a:pt x="320710" y="542611"/>
                  </a:cubicBezTo>
                  <a:cubicBezTo>
                    <a:pt x="329921" y="561870"/>
                    <a:pt x="306474" y="564382"/>
                    <a:pt x="310661" y="577780"/>
                  </a:cubicBezTo>
                  <a:cubicBezTo>
                    <a:pt x="314848" y="591178"/>
                    <a:pt x="341644" y="609600"/>
                    <a:pt x="345831" y="622998"/>
                  </a:cubicBezTo>
                  <a:cubicBezTo>
                    <a:pt x="350018" y="636396"/>
                    <a:pt x="329920" y="647281"/>
                    <a:pt x="335782" y="658167"/>
                  </a:cubicBezTo>
                  <a:cubicBezTo>
                    <a:pt x="341644" y="669053"/>
                    <a:pt x="365090" y="677426"/>
                    <a:pt x="381000" y="688312"/>
                  </a:cubicBezTo>
                  <a:cubicBezTo>
                    <a:pt x="396910" y="699198"/>
                    <a:pt x="419519" y="695012"/>
                    <a:pt x="431242" y="723482"/>
                  </a:cubicBezTo>
                  <a:cubicBezTo>
                    <a:pt x="442965" y="751952"/>
                    <a:pt x="456362" y="808055"/>
                    <a:pt x="451338" y="859134"/>
                  </a:cubicBezTo>
                  <a:cubicBezTo>
                    <a:pt x="446314" y="910213"/>
                    <a:pt x="409470" y="978040"/>
                    <a:pt x="401097" y="1029956"/>
                  </a:cubicBezTo>
                  <a:cubicBezTo>
                    <a:pt x="392724" y="1081872"/>
                    <a:pt x="412820" y="1134626"/>
                    <a:pt x="401097" y="1170633"/>
                  </a:cubicBezTo>
                  <a:cubicBezTo>
                    <a:pt x="389374" y="1206640"/>
                    <a:pt x="375976" y="1225899"/>
                    <a:pt x="330758" y="1245996"/>
                  </a:cubicBezTo>
                  <a:cubicBezTo>
                    <a:pt x="285540" y="1266093"/>
                    <a:pt x="181707" y="1284514"/>
                    <a:pt x="129791" y="1291213"/>
                  </a:cubicBezTo>
                  <a:cubicBezTo>
                    <a:pt x="77875" y="1297912"/>
                    <a:pt x="38518" y="1290376"/>
                    <a:pt x="19259" y="1286189"/>
                  </a:cubicBezTo>
                  <a:cubicBezTo>
                    <a:pt x="0" y="1282002"/>
                    <a:pt x="7117" y="1274047"/>
                    <a:pt x="14235" y="1266092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5" name="组合 61"/>
          <p:cNvGrpSpPr/>
          <p:nvPr/>
        </p:nvGrpSpPr>
        <p:grpSpPr>
          <a:xfrm>
            <a:off x="7404120" y="4106880"/>
            <a:ext cx="1116000" cy="2575080"/>
            <a:chOff x="7404120" y="4106880"/>
            <a:chExt cx="1116000" cy="2575080"/>
          </a:xfrm>
        </p:grpSpPr>
        <p:sp>
          <p:nvSpPr>
            <p:cNvPr id="956" name="任意多边形 7"/>
            <p:cNvSpPr/>
            <p:nvPr/>
          </p:nvSpPr>
          <p:spPr>
            <a:xfrm>
              <a:off x="7567560" y="4349520"/>
              <a:ext cx="952560" cy="2332440"/>
            </a:xfrm>
            <a:custGeom>
              <a:avLst/>
              <a:gdLst/>
              <a:ahLst/>
              <a:rect l="l" t="t" r="r" b="b"/>
              <a:pathLst>
                <a:path w="952081" h="2332055">
                  <a:moveTo>
                    <a:pt x="810567" y="2332055"/>
                  </a:moveTo>
                  <a:cubicBezTo>
                    <a:pt x="834431" y="2307771"/>
                    <a:pt x="858296" y="2283487"/>
                    <a:pt x="875881" y="2261716"/>
                  </a:cubicBezTo>
                  <a:cubicBezTo>
                    <a:pt x="893466" y="2239945"/>
                    <a:pt x="906864" y="2224035"/>
                    <a:pt x="916075" y="2201426"/>
                  </a:cubicBezTo>
                  <a:cubicBezTo>
                    <a:pt x="925286" y="2178817"/>
                    <a:pt x="926123" y="2146998"/>
                    <a:pt x="931147" y="2126064"/>
                  </a:cubicBezTo>
                  <a:cubicBezTo>
                    <a:pt x="936171" y="2105130"/>
                    <a:pt x="945383" y="2103455"/>
                    <a:pt x="946220" y="2075822"/>
                  </a:cubicBezTo>
                  <a:cubicBezTo>
                    <a:pt x="947057" y="2048189"/>
                    <a:pt x="935334" y="1992923"/>
                    <a:pt x="936171" y="1960266"/>
                  </a:cubicBezTo>
                  <a:cubicBezTo>
                    <a:pt x="937008" y="1927609"/>
                    <a:pt x="952081" y="1905837"/>
                    <a:pt x="951244" y="1879879"/>
                  </a:cubicBezTo>
                  <a:cubicBezTo>
                    <a:pt x="950407" y="1853921"/>
                    <a:pt x="942870" y="1843872"/>
                    <a:pt x="931147" y="1804516"/>
                  </a:cubicBezTo>
                  <a:cubicBezTo>
                    <a:pt x="919424" y="1765160"/>
                    <a:pt x="901002" y="1679749"/>
                    <a:pt x="880905" y="1643743"/>
                  </a:cubicBezTo>
                  <a:cubicBezTo>
                    <a:pt x="860808" y="1607737"/>
                    <a:pt x="828151" y="1616947"/>
                    <a:pt x="810567" y="1588477"/>
                  </a:cubicBezTo>
                  <a:cubicBezTo>
                    <a:pt x="792983" y="1560007"/>
                    <a:pt x="800519" y="1537398"/>
                    <a:pt x="775398" y="1472921"/>
                  </a:cubicBezTo>
                  <a:cubicBezTo>
                    <a:pt x="750277" y="1408444"/>
                    <a:pt x="703385" y="1280327"/>
                    <a:pt x="659842" y="1201615"/>
                  </a:cubicBezTo>
                  <a:cubicBezTo>
                    <a:pt x="616299" y="1122903"/>
                    <a:pt x="556845" y="1050889"/>
                    <a:pt x="514140" y="1000648"/>
                  </a:cubicBezTo>
                  <a:cubicBezTo>
                    <a:pt x="471435" y="950407"/>
                    <a:pt x="438778" y="947895"/>
                    <a:pt x="403609" y="900165"/>
                  </a:cubicBezTo>
                  <a:cubicBezTo>
                    <a:pt x="368440" y="852435"/>
                    <a:pt x="337457" y="772048"/>
                    <a:pt x="303125" y="714270"/>
                  </a:cubicBezTo>
                  <a:cubicBezTo>
                    <a:pt x="268793" y="656492"/>
                    <a:pt x="242835" y="657330"/>
                    <a:pt x="197617" y="553497"/>
                  </a:cubicBezTo>
                  <a:cubicBezTo>
                    <a:pt x="152400" y="449664"/>
                    <a:pt x="63640" y="182544"/>
                    <a:pt x="31820" y="91272"/>
                  </a:cubicBezTo>
                  <a:cubicBezTo>
                    <a:pt x="0" y="0"/>
                    <a:pt x="3349" y="2930"/>
                    <a:pt x="6699" y="5861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任意多边形 8"/>
            <p:cNvSpPr/>
            <p:nvPr/>
          </p:nvSpPr>
          <p:spPr>
            <a:xfrm>
              <a:off x="7404120" y="4106880"/>
              <a:ext cx="176040" cy="269640"/>
            </a:xfrm>
            <a:custGeom>
              <a:avLst/>
              <a:gdLst/>
              <a:ahLst/>
              <a:rect l="l" t="t" r="r" b="b"/>
              <a:pathLst>
                <a:path w="175846" h="269630">
                  <a:moveTo>
                    <a:pt x="175846" y="269630"/>
                  </a:moveTo>
                  <a:cubicBezTo>
                    <a:pt x="164122" y="228599"/>
                    <a:pt x="152399" y="187569"/>
                    <a:pt x="135652" y="149050"/>
                  </a:cubicBezTo>
                  <a:cubicBezTo>
                    <a:pt x="118905" y="110531"/>
                    <a:pt x="92946" y="62801"/>
                    <a:pt x="75362" y="38518"/>
                  </a:cubicBezTo>
                  <a:cubicBezTo>
                    <a:pt x="57778" y="14235"/>
                    <a:pt x="42705" y="6698"/>
                    <a:pt x="30145" y="3349"/>
                  </a:cubicBezTo>
                  <a:cubicBezTo>
                    <a:pt x="17585" y="0"/>
                    <a:pt x="8792" y="9210"/>
                    <a:pt x="0" y="18421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8" name="任意多边形 9"/>
          <p:cNvSpPr/>
          <p:nvPr/>
        </p:nvSpPr>
        <p:spPr>
          <a:xfrm>
            <a:off x="6175440" y="4119480"/>
            <a:ext cx="1233360" cy="2443320"/>
          </a:xfrm>
          <a:custGeom>
            <a:avLst/>
            <a:gdLst/>
            <a:ahLst/>
            <a:rect l="l" t="t" r="r" b="b"/>
            <a:pathLst>
              <a:path w="1232598" h="2443424">
                <a:moveTo>
                  <a:pt x="1232598" y="0"/>
                </a:moveTo>
                <a:cubicBezTo>
                  <a:pt x="1210407" y="19678"/>
                  <a:pt x="1188217" y="39356"/>
                  <a:pt x="1157235" y="80387"/>
                </a:cubicBezTo>
                <a:cubicBezTo>
                  <a:pt x="1126253" y="121418"/>
                  <a:pt x="1099457" y="163286"/>
                  <a:pt x="1046703" y="246185"/>
                </a:cubicBezTo>
                <a:cubicBezTo>
                  <a:pt x="993949" y="329084"/>
                  <a:pt x="901839" y="477297"/>
                  <a:pt x="840712" y="577780"/>
                </a:cubicBezTo>
                <a:cubicBezTo>
                  <a:pt x="779585" y="678263"/>
                  <a:pt x="715946" y="787121"/>
                  <a:pt x="679939" y="849086"/>
                </a:cubicBezTo>
                <a:cubicBezTo>
                  <a:pt x="643932" y="911051"/>
                  <a:pt x="642258" y="907701"/>
                  <a:pt x="624673" y="949569"/>
                </a:cubicBezTo>
                <a:cubicBezTo>
                  <a:pt x="607088" y="991437"/>
                  <a:pt x="592016" y="1051728"/>
                  <a:pt x="574431" y="1100295"/>
                </a:cubicBezTo>
                <a:cubicBezTo>
                  <a:pt x="556846" y="1148862"/>
                  <a:pt x="543448" y="1194080"/>
                  <a:pt x="519165" y="1240972"/>
                </a:cubicBezTo>
                <a:cubicBezTo>
                  <a:pt x="494882" y="1287864"/>
                  <a:pt x="453013" y="1331407"/>
                  <a:pt x="428730" y="1381649"/>
                </a:cubicBezTo>
                <a:cubicBezTo>
                  <a:pt x="404447" y="1431891"/>
                  <a:pt x="419519" y="1478783"/>
                  <a:pt x="373464" y="1542422"/>
                </a:cubicBezTo>
                <a:cubicBezTo>
                  <a:pt x="327409" y="1606062"/>
                  <a:pt x="191756" y="1709895"/>
                  <a:pt x="152400" y="1763486"/>
                </a:cubicBezTo>
                <a:cubicBezTo>
                  <a:pt x="113044" y="1817077"/>
                  <a:pt x="147376" y="1839685"/>
                  <a:pt x="137328" y="1863969"/>
                </a:cubicBezTo>
                <a:cubicBezTo>
                  <a:pt x="127280" y="1888253"/>
                  <a:pt x="113881" y="1898301"/>
                  <a:pt x="92110" y="1909187"/>
                </a:cubicBezTo>
                <a:cubicBezTo>
                  <a:pt x="70339" y="1920073"/>
                  <a:pt x="13398" y="1918398"/>
                  <a:pt x="6699" y="1929284"/>
                </a:cubicBezTo>
                <a:cubicBezTo>
                  <a:pt x="0" y="1940170"/>
                  <a:pt x="41869" y="1961103"/>
                  <a:pt x="51917" y="1974501"/>
                </a:cubicBezTo>
                <a:cubicBezTo>
                  <a:pt x="61965" y="1987899"/>
                  <a:pt x="66152" y="1996273"/>
                  <a:pt x="66989" y="2009671"/>
                </a:cubicBezTo>
                <a:cubicBezTo>
                  <a:pt x="67826" y="2023069"/>
                  <a:pt x="51080" y="2039816"/>
                  <a:pt x="56941" y="2054888"/>
                </a:cubicBezTo>
                <a:cubicBezTo>
                  <a:pt x="62802" y="2069960"/>
                  <a:pt x="94622" y="2083359"/>
                  <a:pt x="102158" y="2100106"/>
                </a:cubicBezTo>
                <a:cubicBezTo>
                  <a:pt x="109694" y="2116853"/>
                  <a:pt x="105507" y="2105968"/>
                  <a:pt x="102158" y="2155372"/>
                </a:cubicBezTo>
                <a:cubicBezTo>
                  <a:pt x="98809" y="2204776"/>
                  <a:pt x="92110" y="2349640"/>
                  <a:pt x="82062" y="2396532"/>
                </a:cubicBezTo>
                <a:cubicBezTo>
                  <a:pt x="72014" y="2443424"/>
                  <a:pt x="41868" y="2436725"/>
                  <a:pt x="41868" y="2436725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任意多边形 10"/>
          <p:cNvSpPr/>
          <p:nvPr/>
        </p:nvSpPr>
        <p:spPr>
          <a:xfrm>
            <a:off x="5572080" y="6364440"/>
            <a:ext cx="646200" cy="215640"/>
          </a:xfrm>
          <a:custGeom>
            <a:avLst/>
            <a:gdLst/>
            <a:ahLst/>
            <a:rect l="l" t="t" r="r" b="b"/>
            <a:pathLst>
              <a:path w="645606" h="215202">
                <a:moveTo>
                  <a:pt x="645606" y="191756"/>
                </a:moveTo>
                <a:cubicBezTo>
                  <a:pt x="625090" y="191337"/>
                  <a:pt x="604575" y="190919"/>
                  <a:pt x="595364" y="186732"/>
                </a:cubicBezTo>
                <a:cubicBezTo>
                  <a:pt x="586153" y="182545"/>
                  <a:pt x="592852" y="184220"/>
                  <a:pt x="590340" y="166636"/>
                </a:cubicBezTo>
                <a:cubicBezTo>
                  <a:pt x="587828" y="149052"/>
                  <a:pt x="582804" y="107183"/>
                  <a:pt x="580292" y="81225"/>
                </a:cubicBezTo>
                <a:cubicBezTo>
                  <a:pt x="577780" y="55267"/>
                  <a:pt x="581967" y="21772"/>
                  <a:pt x="575268" y="10886"/>
                </a:cubicBezTo>
                <a:cubicBezTo>
                  <a:pt x="568569" y="0"/>
                  <a:pt x="556009" y="5862"/>
                  <a:pt x="540099" y="15910"/>
                </a:cubicBezTo>
                <a:cubicBezTo>
                  <a:pt x="524189" y="25958"/>
                  <a:pt x="501580" y="44380"/>
                  <a:pt x="479808" y="71176"/>
                </a:cubicBezTo>
                <a:cubicBezTo>
                  <a:pt x="458037" y="97972"/>
                  <a:pt x="432916" y="154913"/>
                  <a:pt x="409470" y="176684"/>
                </a:cubicBezTo>
                <a:cubicBezTo>
                  <a:pt x="386024" y="198456"/>
                  <a:pt x="368440" y="195944"/>
                  <a:pt x="339132" y="201805"/>
                </a:cubicBezTo>
                <a:cubicBezTo>
                  <a:pt x="309824" y="207666"/>
                  <a:pt x="283866" y="210178"/>
                  <a:pt x="233624" y="211853"/>
                </a:cubicBezTo>
                <a:cubicBezTo>
                  <a:pt x="183382" y="213528"/>
                  <a:pt x="75362" y="215202"/>
                  <a:pt x="37681" y="211853"/>
                </a:cubicBezTo>
                <a:cubicBezTo>
                  <a:pt x="0" y="208504"/>
                  <a:pt x="10048" y="196780"/>
                  <a:pt x="7536" y="191756"/>
                </a:cubicBezTo>
                <a:cubicBezTo>
                  <a:pt x="5024" y="186732"/>
                  <a:pt x="13816" y="184220"/>
                  <a:pt x="22608" y="181708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任意多边形 11"/>
          <p:cNvSpPr/>
          <p:nvPr/>
        </p:nvSpPr>
        <p:spPr>
          <a:xfrm>
            <a:off x="5584680" y="4340160"/>
            <a:ext cx="1078200" cy="2206800"/>
          </a:xfrm>
          <a:custGeom>
            <a:avLst/>
            <a:gdLst/>
            <a:ahLst/>
            <a:rect l="l" t="t" r="r" b="b"/>
            <a:pathLst>
              <a:path w="1078523" h="2205613">
                <a:moveTo>
                  <a:pt x="0" y="2205613"/>
                </a:moveTo>
                <a:cubicBezTo>
                  <a:pt x="28470" y="2193471"/>
                  <a:pt x="56941" y="2181330"/>
                  <a:pt x="80387" y="2170444"/>
                </a:cubicBezTo>
                <a:cubicBezTo>
                  <a:pt x="103833" y="2159558"/>
                  <a:pt x="118068" y="2162908"/>
                  <a:pt x="140677" y="2140299"/>
                </a:cubicBezTo>
                <a:cubicBezTo>
                  <a:pt x="163286" y="2117690"/>
                  <a:pt x="198455" y="2069123"/>
                  <a:pt x="216040" y="2034791"/>
                </a:cubicBezTo>
                <a:cubicBezTo>
                  <a:pt x="233625" y="2000459"/>
                  <a:pt x="236137" y="1965290"/>
                  <a:pt x="246185" y="1934308"/>
                </a:cubicBezTo>
                <a:cubicBezTo>
                  <a:pt x="256233" y="1903326"/>
                  <a:pt x="262095" y="1874018"/>
                  <a:pt x="276330" y="1848897"/>
                </a:cubicBezTo>
                <a:cubicBezTo>
                  <a:pt x="290565" y="1823776"/>
                  <a:pt x="304801" y="1827962"/>
                  <a:pt x="331596" y="1783582"/>
                </a:cubicBezTo>
                <a:cubicBezTo>
                  <a:pt x="358392" y="1739202"/>
                  <a:pt x="410308" y="1628670"/>
                  <a:pt x="437103" y="1582615"/>
                </a:cubicBezTo>
                <a:cubicBezTo>
                  <a:pt x="463899" y="1536560"/>
                  <a:pt x="477296" y="1539910"/>
                  <a:pt x="492369" y="1507253"/>
                </a:cubicBezTo>
                <a:cubicBezTo>
                  <a:pt x="507442" y="1474596"/>
                  <a:pt x="481484" y="1482969"/>
                  <a:pt x="527539" y="1386672"/>
                </a:cubicBezTo>
                <a:cubicBezTo>
                  <a:pt x="573594" y="1290375"/>
                  <a:pt x="717620" y="1020744"/>
                  <a:pt x="768699" y="929472"/>
                </a:cubicBezTo>
                <a:cubicBezTo>
                  <a:pt x="819778" y="838200"/>
                  <a:pt x="818941" y="869182"/>
                  <a:pt x="834013" y="839037"/>
                </a:cubicBezTo>
                <a:cubicBezTo>
                  <a:pt x="849085" y="808892"/>
                  <a:pt x="849086" y="797169"/>
                  <a:pt x="859134" y="748602"/>
                </a:cubicBezTo>
                <a:cubicBezTo>
                  <a:pt x="869182" y="700035"/>
                  <a:pt x="870857" y="613787"/>
                  <a:pt x="894303" y="547635"/>
                </a:cubicBezTo>
                <a:cubicBezTo>
                  <a:pt x="917749" y="481483"/>
                  <a:pt x="981389" y="393560"/>
                  <a:pt x="999811" y="351692"/>
                </a:cubicBezTo>
                <a:cubicBezTo>
                  <a:pt x="1018233" y="309824"/>
                  <a:pt x="1000648" y="314848"/>
                  <a:pt x="1004835" y="296426"/>
                </a:cubicBezTo>
                <a:cubicBezTo>
                  <a:pt x="1009022" y="278004"/>
                  <a:pt x="1018233" y="260419"/>
                  <a:pt x="1024932" y="241160"/>
                </a:cubicBezTo>
                <a:cubicBezTo>
                  <a:pt x="1031631" y="221901"/>
                  <a:pt x="1036655" y="207665"/>
                  <a:pt x="1045029" y="180870"/>
                </a:cubicBezTo>
                <a:cubicBezTo>
                  <a:pt x="1053403" y="154075"/>
                  <a:pt x="1078523" y="104670"/>
                  <a:pt x="1075174" y="80387"/>
                </a:cubicBezTo>
                <a:cubicBezTo>
                  <a:pt x="1071825" y="56104"/>
                  <a:pt x="1040004" y="48567"/>
                  <a:pt x="1024932" y="35169"/>
                </a:cubicBezTo>
                <a:cubicBezTo>
                  <a:pt x="1009860" y="21771"/>
                  <a:pt x="997299" y="10885"/>
                  <a:pt x="984739" y="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任意多边形 13"/>
          <p:cNvSpPr/>
          <p:nvPr/>
        </p:nvSpPr>
        <p:spPr>
          <a:xfrm>
            <a:off x="6315120" y="3222720"/>
            <a:ext cx="270000" cy="1138320"/>
          </a:xfrm>
          <a:custGeom>
            <a:avLst/>
            <a:gdLst/>
            <a:ahLst/>
            <a:rect l="l" t="t" r="r" b="b"/>
            <a:pathLst>
              <a:path w="269630" h="1138814">
                <a:moveTo>
                  <a:pt x="269630" y="1138814"/>
                </a:moveTo>
                <a:cubicBezTo>
                  <a:pt x="257907" y="1127091"/>
                  <a:pt x="246184" y="1115368"/>
                  <a:pt x="229437" y="1093596"/>
                </a:cubicBezTo>
                <a:cubicBezTo>
                  <a:pt x="212690" y="1071825"/>
                  <a:pt x="184220" y="1040842"/>
                  <a:pt x="169147" y="1008185"/>
                </a:cubicBezTo>
                <a:cubicBezTo>
                  <a:pt x="154074" y="975528"/>
                  <a:pt x="142351" y="938684"/>
                  <a:pt x="139002" y="897653"/>
                </a:cubicBezTo>
                <a:cubicBezTo>
                  <a:pt x="135653" y="856622"/>
                  <a:pt x="140677" y="800519"/>
                  <a:pt x="149050" y="762000"/>
                </a:cubicBezTo>
                <a:cubicBezTo>
                  <a:pt x="157423" y="723481"/>
                  <a:pt x="180032" y="709246"/>
                  <a:pt x="189243" y="666541"/>
                </a:cubicBezTo>
                <a:cubicBezTo>
                  <a:pt x="198454" y="623836"/>
                  <a:pt x="212689" y="556009"/>
                  <a:pt x="204316" y="505767"/>
                </a:cubicBezTo>
                <a:cubicBezTo>
                  <a:pt x="195943" y="455525"/>
                  <a:pt x="169147" y="417007"/>
                  <a:pt x="139002" y="365091"/>
                </a:cubicBezTo>
                <a:cubicBezTo>
                  <a:pt x="108857" y="313175"/>
                  <a:pt x="46054" y="240324"/>
                  <a:pt x="23445" y="194269"/>
                </a:cubicBezTo>
                <a:cubicBezTo>
                  <a:pt x="836" y="148214"/>
                  <a:pt x="0" y="118906"/>
                  <a:pt x="3349" y="88761"/>
                </a:cubicBezTo>
                <a:cubicBezTo>
                  <a:pt x="6698" y="58616"/>
                  <a:pt x="34331" y="26796"/>
                  <a:pt x="43542" y="13398"/>
                </a:cubicBezTo>
                <a:cubicBezTo>
                  <a:pt x="52753" y="0"/>
                  <a:pt x="55684" y="4187"/>
                  <a:pt x="58615" y="837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任意多边形 14"/>
          <p:cNvSpPr/>
          <p:nvPr/>
        </p:nvSpPr>
        <p:spPr>
          <a:xfrm>
            <a:off x="6373800" y="3214800"/>
            <a:ext cx="284040" cy="158760"/>
          </a:xfrm>
          <a:custGeom>
            <a:avLst/>
            <a:gdLst/>
            <a:ahLst/>
            <a:rect l="l" t="t" r="r" b="b"/>
            <a:pathLst>
              <a:path w="284703" h="158261">
                <a:moveTo>
                  <a:pt x="0" y="10048"/>
                </a:moveTo>
                <a:cubicBezTo>
                  <a:pt x="13816" y="17165"/>
                  <a:pt x="27632" y="24283"/>
                  <a:pt x="45217" y="45217"/>
                </a:cubicBezTo>
                <a:cubicBezTo>
                  <a:pt x="62802" y="66151"/>
                  <a:pt x="81225" y="117230"/>
                  <a:pt x="105508" y="135652"/>
                </a:cubicBezTo>
                <a:cubicBezTo>
                  <a:pt x="129791" y="154074"/>
                  <a:pt x="163286" y="158261"/>
                  <a:pt x="190919" y="155749"/>
                </a:cubicBezTo>
                <a:cubicBezTo>
                  <a:pt x="218552" y="153237"/>
                  <a:pt x="257907" y="146538"/>
                  <a:pt x="271305" y="120580"/>
                </a:cubicBezTo>
                <a:cubicBezTo>
                  <a:pt x="284703" y="94622"/>
                  <a:pt x="278004" y="47311"/>
                  <a:pt x="271305" y="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3" name="组合 56"/>
          <p:cNvGrpSpPr/>
          <p:nvPr/>
        </p:nvGrpSpPr>
        <p:grpSpPr>
          <a:xfrm>
            <a:off x="5904000" y="874800"/>
            <a:ext cx="745920" cy="2360520"/>
            <a:chOff x="5904000" y="874800"/>
            <a:chExt cx="745920" cy="2360520"/>
          </a:xfrm>
        </p:grpSpPr>
        <p:sp>
          <p:nvSpPr>
            <p:cNvPr id="964" name="任意多边形 16"/>
            <p:cNvSpPr/>
            <p:nvPr/>
          </p:nvSpPr>
          <p:spPr>
            <a:xfrm>
              <a:off x="6318360" y="2030400"/>
              <a:ext cx="331560" cy="1204920"/>
            </a:xfrm>
            <a:custGeom>
              <a:avLst/>
              <a:gdLst/>
              <a:ahLst/>
              <a:rect l="l" t="t" r="r" b="b"/>
              <a:pathLst>
                <a:path w="331595" h="1205802">
                  <a:moveTo>
                    <a:pt x="0" y="0"/>
                  </a:moveTo>
                  <a:lnTo>
                    <a:pt x="331595" y="1205802"/>
                  </a:ln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任意多边形 17"/>
            <p:cNvSpPr/>
            <p:nvPr/>
          </p:nvSpPr>
          <p:spPr>
            <a:xfrm>
              <a:off x="5904000" y="874800"/>
              <a:ext cx="414360" cy="1155600"/>
            </a:xfrm>
            <a:custGeom>
              <a:avLst/>
              <a:gdLst/>
              <a:ahLst/>
              <a:rect l="l" t="t" r="r" b="b"/>
              <a:pathLst>
                <a:path w="413657" h="1155560">
                  <a:moveTo>
                    <a:pt x="413657" y="1155560"/>
                  </a:moveTo>
                  <a:cubicBezTo>
                    <a:pt x="409051" y="1133788"/>
                    <a:pt x="404446" y="1112017"/>
                    <a:pt x="398584" y="1095270"/>
                  </a:cubicBezTo>
                  <a:cubicBezTo>
                    <a:pt x="392723" y="1078523"/>
                    <a:pt x="388536" y="1066800"/>
                    <a:pt x="378488" y="1055077"/>
                  </a:cubicBezTo>
                  <a:cubicBezTo>
                    <a:pt x="368440" y="1043354"/>
                    <a:pt x="351692" y="1034142"/>
                    <a:pt x="338294" y="1024931"/>
                  </a:cubicBezTo>
                  <a:cubicBezTo>
                    <a:pt x="324896" y="1015720"/>
                    <a:pt x="306475" y="1011534"/>
                    <a:pt x="298101" y="999811"/>
                  </a:cubicBezTo>
                  <a:cubicBezTo>
                    <a:pt x="289727" y="988088"/>
                    <a:pt x="288889" y="966316"/>
                    <a:pt x="288052" y="954593"/>
                  </a:cubicBezTo>
                  <a:cubicBezTo>
                    <a:pt x="287215" y="942870"/>
                    <a:pt x="293914" y="942032"/>
                    <a:pt x="293077" y="929472"/>
                  </a:cubicBezTo>
                  <a:cubicBezTo>
                    <a:pt x="292240" y="916912"/>
                    <a:pt x="284703" y="890953"/>
                    <a:pt x="283028" y="879230"/>
                  </a:cubicBezTo>
                  <a:cubicBezTo>
                    <a:pt x="281353" y="867507"/>
                    <a:pt x="287215" y="869182"/>
                    <a:pt x="283028" y="859134"/>
                  </a:cubicBezTo>
                  <a:cubicBezTo>
                    <a:pt x="278841" y="849086"/>
                    <a:pt x="258744" y="829826"/>
                    <a:pt x="257907" y="818940"/>
                  </a:cubicBezTo>
                  <a:cubicBezTo>
                    <a:pt x="257070" y="808054"/>
                    <a:pt x="272142" y="798843"/>
                    <a:pt x="278004" y="793819"/>
                  </a:cubicBezTo>
                  <a:cubicBezTo>
                    <a:pt x="283866" y="788795"/>
                    <a:pt x="288053" y="789632"/>
                    <a:pt x="293077" y="788795"/>
                  </a:cubicBezTo>
                  <a:cubicBezTo>
                    <a:pt x="298101" y="787958"/>
                    <a:pt x="314011" y="818940"/>
                    <a:pt x="308149" y="788795"/>
                  </a:cubicBezTo>
                  <a:cubicBezTo>
                    <a:pt x="302287" y="758650"/>
                    <a:pt x="278004" y="652305"/>
                    <a:pt x="257907" y="607925"/>
                  </a:cubicBezTo>
                  <a:cubicBezTo>
                    <a:pt x="237810" y="563545"/>
                    <a:pt x="205991" y="539261"/>
                    <a:pt x="187569" y="522514"/>
                  </a:cubicBezTo>
                  <a:cubicBezTo>
                    <a:pt x="169147" y="505767"/>
                    <a:pt x="157423" y="510790"/>
                    <a:pt x="147375" y="507441"/>
                  </a:cubicBezTo>
                  <a:cubicBezTo>
                    <a:pt x="137327" y="504092"/>
                    <a:pt x="131466" y="513303"/>
                    <a:pt x="127279" y="502417"/>
                  </a:cubicBezTo>
                  <a:cubicBezTo>
                    <a:pt x="123092" y="491531"/>
                    <a:pt x="123092" y="471435"/>
                    <a:pt x="122255" y="442127"/>
                  </a:cubicBezTo>
                  <a:cubicBezTo>
                    <a:pt x="121418" y="412819"/>
                    <a:pt x="122255" y="326571"/>
                    <a:pt x="122255" y="326571"/>
                  </a:cubicBezTo>
                  <a:cubicBezTo>
                    <a:pt x="122255" y="287215"/>
                    <a:pt x="125605" y="228600"/>
                    <a:pt x="122255" y="205991"/>
                  </a:cubicBezTo>
                  <a:cubicBezTo>
                    <a:pt x="118906" y="183382"/>
                    <a:pt x="114718" y="198454"/>
                    <a:pt x="102158" y="190918"/>
                  </a:cubicBezTo>
                  <a:cubicBezTo>
                    <a:pt x="89598" y="183382"/>
                    <a:pt x="62802" y="172496"/>
                    <a:pt x="46892" y="160773"/>
                  </a:cubicBezTo>
                  <a:cubicBezTo>
                    <a:pt x="30982" y="149050"/>
                    <a:pt x="13398" y="138165"/>
                    <a:pt x="6699" y="120580"/>
                  </a:cubicBezTo>
                  <a:cubicBezTo>
                    <a:pt x="0" y="102995"/>
                    <a:pt x="1675" y="72851"/>
                    <a:pt x="6699" y="55266"/>
                  </a:cubicBezTo>
                  <a:cubicBezTo>
                    <a:pt x="11723" y="37681"/>
                    <a:pt x="24284" y="24283"/>
                    <a:pt x="36844" y="15072"/>
                  </a:cubicBezTo>
                  <a:cubicBezTo>
                    <a:pt x="49404" y="5861"/>
                    <a:pt x="65732" y="2930"/>
                    <a:pt x="82061" y="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6" name="任意多边形 18"/>
          <p:cNvSpPr/>
          <p:nvPr/>
        </p:nvSpPr>
        <p:spPr>
          <a:xfrm>
            <a:off x="7128000" y="2341440"/>
            <a:ext cx="315720" cy="865440"/>
          </a:xfrm>
          <a:custGeom>
            <a:avLst/>
            <a:gdLst/>
            <a:ahLst/>
            <a:rect l="l" t="t" r="r" b="b"/>
            <a:pathLst>
              <a:path w="315686" h="865832">
                <a:moveTo>
                  <a:pt x="315686" y="0"/>
                </a:moveTo>
                <a:cubicBezTo>
                  <a:pt x="288053" y="42287"/>
                  <a:pt x="260420" y="84574"/>
                  <a:pt x="245348" y="120580"/>
                </a:cubicBezTo>
                <a:cubicBezTo>
                  <a:pt x="230276" y="156586"/>
                  <a:pt x="220227" y="180870"/>
                  <a:pt x="225251" y="216039"/>
                </a:cubicBezTo>
                <a:cubicBezTo>
                  <a:pt x="230275" y="251208"/>
                  <a:pt x="264607" y="293915"/>
                  <a:pt x="275493" y="331596"/>
                </a:cubicBezTo>
                <a:cubicBezTo>
                  <a:pt x="286379" y="369277"/>
                  <a:pt x="298939" y="405283"/>
                  <a:pt x="290565" y="442127"/>
                </a:cubicBezTo>
                <a:cubicBezTo>
                  <a:pt x="282191" y="478971"/>
                  <a:pt x="254559" y="506604"/>
                  <a:pt x="225251" y="552659"/>
                </a:cubicBezTo>
                <a:cubicBezTo>
                  <a:pt x="195943" y="598714"/>
                  <a:pt x="141515" y="669890"/>
                  <a:pt x="114719" y="718457"/>
                </a:cubicBezTo>
                <a:cubicBezTo>
                  <a:pt x="87923" y="767024"/>
                  <a:pt x="82062" y="822290"/>
                  <a:pt x="64477" y="844061"/>
                </a:cubicBezTo>
                <a:cubicBezTo>
                  <a:pt x="46892" y="865832"/>
                  <a:pt x="18422" y="864159"/>
                  <a:pt x="9211" y="849086"/>
                </a:cubicBezTo>
                <a:cubicBezTo>
                  <a:pt x="0" y="834014"/>
                  <a:pt x="4605" y="793820"/>
                  <a:pt x="9211" y="75362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任意多边形 20"/>
          <p:cNvSpPr/>
          <p:nvPr/>
        </p:nvSpPr>
        <p:spPr>
          <a:xfrm>
            <a:off x="6945480" y="2376360"/>
            <a:ext cx="447480" cy="728640"/>
          </a:xfrm>
          <a:custGeom>
            <a:avLst/>
            <a:gdLst/>
            <a:ahLst/>
            <a:rect l="l" t="t" r="r" b="b"/>
            <a:pathLst>
              <a:path w="448826" h="728506">
                <a:moveTo>
                  <a:pt x="187569" y="728506"/>
                </a:moveTo>
                <a:cubicBezTo>
                  <a:pt x="187988" y="683288"/>
                  <a:pt x="188407" y="638071"/>
                  <a:pt x="177521" y="592853"/>
                </a:cubicBezTo>
                <a:cubicBezTo>
                  <a:pt x="166635" y="547635"/>
                  <a:pt x="144864" y="492369"/>
                  <a:pt x="122255" y="457200"/>
                </a:cubicBezTo>
                <a:cubicBezTo>
                  <a:pt x="99646" y="422031"/>
                  <a:pt x="60290" y="397748"/>
                  <a:pt x="41868" y="381838"/>
                </a:cubicBezTo>
                <a:cubicBezTo>
                  <a:pt x="23446" y="365928"/>
                  <a:pt x="14235" y="370952"/>
                  <a:pt x="11723" y="361741"/>
                </a:cubicBezTo>
                <a:cubicBezTo>
                  <a:pt x="9211" y="352530"/>
                  <a:pt x="0" y="350856"/>
                  <a:pt x="26796" y="326572"/>
                </a:cubicBezTo>
                <a:cubicBezTo>
                  <a:pt x="53592" y="302288"/>
                  <a:pt x="113882" y="262095"/>
                  <a:pt x="172497" y="216040"/>
                </a:cubicBezTo>
                <a:cubicBezTo>
                  <a:pt x="231112" y="169985"/>
                  <a:pt x="332433" y="86249"/>
                  <a:pt x="378488" y="50242"/>
                </a:cubicBezTo>
                <a:cubicBezTo>
                  <a:pt x="424543" y="14235"/>
                  <a:pt x="436684" y="7117"/>
                  <a:pt x="448826" y="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任意多边形 22"/>
          <p:cNvSpPr/>
          <p:nvPr/>
        </p:nvSpPr>
        <p:spPr>
          <a:xfrm>
            <a:off x="6840360" y="2284560"/>
            <a:ext cx="587520" cy="820440"/>
          </a:xfrm>
          <a:custGeom>
            <a:avLst/>
            <a:gdLst/>
            <a:ahLst/>
            <a:rect l="l" t="t" r="r" b="b"/>
            <a:pathLst>
              <a:path w="587828" h="820616">
                <a:moveTo>
                  <a:pt x="0" y="820616"/>
                </a:moveTo>
                <a:cubicBezTo>
                  <a:pt x="20934" y="812660"/>
                  <a:pt x="41868" y="804705"/>
                  <a:pt x="55266" y="785446"/>
                </a:cubicBezTo>
                <a:cubicBezTo>
                  <a:pt x="68664" y="766187"/>
                  <a:pt x="76200" y="733530"/>
                  <a:pt x="80387" y="705060"/>
                </a:cubicBezTo>
                <a:cubicBezTo>
                  <a:pt x="84574" y="676590"/>
                  <a:pt x="84574" y="634721"/>
                  <a:pt x="80387" y="614624"/>
                </a:cubicBezTo>
                <a:cubicBezTo>
                  <a:pt x="76200" y="594527"/>
                  <a:pt x="59453" y="602901"/>
                  <a:pt x="55266" y="584479"/>
                </a:cubicBezTo>
                <a:cubicBezTo>
                  <a:pt x="51079" y="566057"/>
                  <a:pt x="53591" y="521678"/>
                  <a:pt x="55266" y="504093"/>
                </a:cubicBezTo>
                <a:cubicBezTo>
                  <a:pt x="56941" y="486508"/>
                  <a:pt x="66989" y="487346"/>
                  <a:pt x="65314" y="478972"/>
                </a:cubicBezTo>
                <a:cubicBezTo>
                  <a:pt x="63639" y="470598"/>
                  <a:pt x="45218" y="462225"/>
                  <a:pt x="45218" y="453851"/>
                </a:cubicBezTo>
                <a:cubicBezTo>
                  <a:pt x="45218" y="445477"/>
                  <a:pt x="41031" y="448827"/>
                  <a:pt x="65314" y="428730"/>
                </a:cubicBezTo>
                <a:cubicBezTo>
                  <a:pt x="89597" y="408633"/>
                  <a:pt x="190919" y="333271"/>
                  <a:pt x="190919" y="333271"/>
                </a:cubicBezTo>
                <a:lnTo>
                  <a:pt x="371789" y="192594"/>
                </a:lnTo>
                <a:cubicBezTo>
                  <a:pt x="423705" y="153238"/>
                  <a:pt x="469761" y="121417"/>
                  <a:pt x="502418" y="97134"/>
                </a:cubicBezTo>
                <a:cubicBezTo>
                  <a:pt x="535075" y="72851"/>
                  <a:pt x="554334" y="61966"/>
                  <a:pt x="567732" y="46893"/>
                </a:cubicBezTo>
                <a:cubicBezTo>
                  <a:pt x="581130" y="31820"/>
                  <a:pt x="587828" y="13398"/>
                  <a:pt x="582804" y="6699"/>
                </a:cubicBezTo>
                <a:cubicBezTo>
                  <a:pt x="577780" y="0"/>
                  <a:pt x="557683" y="3349"/>
                  <a:pt x="537587" y="669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任意多边形 23"/>
          <p:cNvSpPr/>
          <p:nvPr/>
        </p:nvSpPr>
        <p:spPr>
          <a:xfrm>
            <a:off x="6448320" y="2014560"/>
            <a:ext cx="412920" cy="1098360"/>
          </a:xfrm>
          <a:custGeom>
            <a:avLst/>
            <a:gdLst/>
            <a:ahLst/>
            <a:rect l="l" t="t" r="r" b="b"/>
            <a:pathLst>
              <a:path w="411982" h="1097782">
                <a:moveTo>
                  <a:pt x="411982" y="1085221"/>
                </a:moveTo>
                <a:cubicBezTo>
                  <a:pt x="388535" y="1091501"/>
                  <a:pt x="365089" y="1097782"/>
                  <a:pt x="341643" y="1065125"/>
                </a:cubicBezTo>
                <a:cubicBezTo>
                  <a:pt x="318197" y="1032468"/>
                  <a:pt x="316522" y="1029119"/>
                  <a:pt x="271305" y="889279"/>
                </a:cubicBezTo>
                <a:cubicBezTo>
                  <a:pt x="226088" y="749439"/>
                  <a:pt x="113881" y="368439"/>
                  <a:pt x="70338" y="226087"/>
                </a:cubicBezTo>
                <a:cubicBezTo>
                  <a:pt x="26795" y="83735"/>
                  <a:pt x="20096" y="70338"/>
                  <a:pt x="10048" y="35169"/>
                </a:cubicBezTo>
                <a:cubicBezTo>
                  <a:pt x="0" y="0"/>
                  <a:pt x="5861" y="16747"/>
                  <a:pt x="10048" y="15072"/>
                </a:cubicBezTo>
                <a:cubicBezTo>
                  <a:pt x="14235" y="13397"/>
                  <a:pt x="16747" y="10048"/>
                  <a:pt x="35169" y="25120"/>
                </a:cubicBezTo>
                <a:cubicBezTo>
                  <a:pt x="53591" y="40193"/>
                  <a:pt x="87085" y="72850"/>
                  <a:pt x="120580" y="10550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任意多边形 24"/>
          <p:cNvSpPr/>
          <p:nvPr/>
        </p:nvSpPr>
        <p:spPr>
          <a:xfrm>
            <a:off x="6564240" y="2114640"/>
            <a:ext cx="833400" cy="207720"/>
          </a:xfrm>
          <a:custGeom>
            <a:avLst/>
            <a:gdLst/>
            <a:ahLst/>
            <a:rect l="l" t="t" r="r" b="b"/>
            <a:pathLst>
              <a:path w="834014" h="206828">
                <a:moveTo>
                  <a:pt x="0" y="0"/>
                </a:moveTo>
                <a:cubicBezTo>
                  <a:pt x="60709" y="44380"/>
                  <a:pt x="121418" y="88760"/>
                  <a:pt x="165798" y="115556"/>
                </a:cubicBezTo>
                <a:cubicBezTo>
                  <a:pt x="210178" y="142352"/>
                  <a:pt x="239486" y="147376"/>
                  <a:pt x="266282" y="160774"/>
                </a:cubicBezTo>
                <a:cubicBezTo>
                  <a:pt x="293078" y="174172"/>
                  <a:pt x="300614" y="188407"/>
                  <a:pt x="326572" y="195943"/>
                </a:cubicBezTo>
                <a:cubicBezTo>
                  <a:pt x="352530" y="203479"/>
                  <a:pt x="368440" y="206828"/>
                  <a:pt x="422031" y="205991"/>
                </a:cubicBezTo>
                <a:cubicBezTo>
                  <a:pt x="475622" y="205154"/>
                  <a:pt x="579455" y="196780"/>
                  <a:pt x="648119" y="190919"/>
                </a:cubicBezTo>
                <a:cubicBezTo>
                  <a:pt x="716783" y="185058"/>
                  <a:pt x="775398" y="177940"/>
                  <a:pt x="834014" y="17082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任意多边形 25"/>
          <p:cNvSpPr/>
          <p:nvPr/>
        </p:nvSpPr>
        <p:spPr>
          <a:xfrm>
            <a:off x="7272360" y="1517760"/>
            <a:ext cx="377640" cy="501480"/>
          </a:xfrm>
          <a:custGeom>
            <a:avLst/>
            <a:gdLst/>
            <a:ahLst/>
            <a:rect l="l" t="t" r="r" b="b"/>
            <a:pathLst>
              <a:path w="377651" h="502418">
                <a:moveTo>
                  <a:pt x="0" y="0"/>
                </a:moveTo>
                <a:cubicBezTo>
                  <a:pt x="419" y="21353"/>
                  <a:pt x="838" y="42706"/>
                  <a:pt x="10049" y="55266"/>
                </a:cubicBezTo>
                <a:cubicBezTo>
                  <a:pt x="19260" y="67827"/>
                  <a:pt x="42706" y="61128"/>
                  <a:pt x="55266" y="75363"/>
                </a:cubicBezTo>
                <a:cubicBezTo>
                  <a:pt x="67826" y="89598"/>
                  <a:pt x="76200" y="130629"/>
                  <a:pt x="85411" y="140677"/>
                </a:cubicBezTo>
                <a:cubicBezTo>
                  <a:pt x="94622" y="150725"/>
                  <a:pt x="106345" y="126442"/>
                  <a:pt x="110532" y="135653"/>
                </a:cubicBezTo>
                <a:cubicBezTo>
                  <a:pt x="114719" y="144864"/>
                  <a:pt x="111369" y="169985"/>
                  <a:pt x="110532" y="195943"/>
                </a:cubicBezTo>
                <a:cubicBezTo>
                  <a:pt x="109695" y="221901"/>
                  <a:pt x="102996" y="270468"/>
                  <a:pt x="105508" y="291402"/>
                </a:cubicBezTo>
                <a:cubicBezTo>
                  <a:pt x="108020" y="312336"/>
                  <a:pt x="113045" y="318198"/>
                  <a:pt x="125605" y="321547"/>
                </a:cubicBezTo>
                <a:cubicBezTo>
                  <a:pt x="138165" y="324896"/>
                  <a:pt x="168311" y="303963"/>
                  <a:pt x="180871" y="311499"/>
                </a:cubicBezTo>
                <a:cubicBezTo>
                  <a:pt x="193431" y="319035"/>
                  <a:pt x="195106" y="356717"/>
                  <a:pt x="200967" y="366765"/>
                </a:cubicBezTo>
                <a:cubicBezTo>
                  <a:pt x="206828" y="376813"/>
                  <a:pt x="213528" y="366765"/>
                  <a:pt x="216040" y="371789"/>
                </a:cubicBezTo>
                <a:cubicBezTo>
                  <a:pt x="218552" y="376813"/>
                  <a:pt x="211016" y="392723"/>
                  <a:pt x="216040" y="396910"/>
                </a:cubicBezTo>
                <a:cubicBezTo>
                  <a:pt x="221064" y="401097"/>
                  <a:pt x="234462" y="391886"/>
                  <a:pt x="246185" y="396910"/>
                </a:cubicBezTo>
                <a:cubicBezTo>
                  <a:pt x="257908" y="401934"/>
                  <a:pt x="272980" y="419519"/>
                  <a:pt x="286378" y="427055"/>
                </a:cubicBezTo>
                <a:cubicBezTo>
                  <a:pt x="299776" y="434591"/>
                  <a:pt x="312337" y="441291"/>
                  <a:pt x="326572" y="442128"/>
                </a:cubicBezTo>
                <a:cubicBezTo>
                  <a:pt x="340807" y="442965"/>
                  <a:pt x="366765" y="429567"/>
                  <a:pt x="371789" y="432079"/>
                </a:cubicBezTo>
                <a:cubicBezTo>
                  <a:pt x="376813" y="434591"/>
                  <a:pt x="377651" y="445477"/>
                  <a:pt x="356717" y="457200"/>
                </a:cubicBezTo>
                <a:cubicBezTo>
                  <a:pt x="335783" y="468923"/>
                  <a:pt x="290984" y="485670"/>
                  <a:pt x="246185" y="502418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任意多边形 27"/>
          <p:cNvSpPr/>
          <p:nvPr/>
        </p:nvSpPr>
        <p:spPr>
          <a:xfrm>
            <a:off x="6288120" y="1603440"/>
            <a:ext cx="1251000" cy="527040"/>
          </a:xfrm>
          <a:custGeom>
            <a:avLst/>
            <a:gdLst/>
            <a:ahLst/>
            <a:rect l="l" t="t" r="r" b="b"/>
            <a:pathLst>
              <a:path w="1251019" h="528376">
                <a:moveTo>
                  <a:pt x="1251019" y="406958"/>
                </a:moveTo>
                <a:cubicBezTo>
                  <a:pt x="1216687" y="422031"/>
                  <a:pt x="1182355" y="437104"/>
                  <a:pt x="1125415" y="452176"/>
                </a:cubicBezTo>
                <a:cubicBezTo>
                  <a:pt x="1068475" y="467248"/>
                  <a:pt x="957943" y="489857"/>
                  <a:pt x="909376" y="497393"/>
                </a:cubicBezTo>
                <a:cubicBezTo>
                  <a:pt x="860809" y="504929"/>
                  <a:pt x="859971" y="493206"/>
                  <a:pt x="834013" y="497393"/>
                </a:cubicBezTo>
                <a:cubicBezTo>
                  <a:pt x="808055" y="501580"/>
                  <a:pt x="792145" y="528376"/>
                  <a:pt x="753626" y="522514"/>
                </a:cubicBezTo>
                <a:cubicBezTo>
                  <a:pt x="715107" y="516653"/>
                  <a:pt x="647281" y="481483"/>
                  <a:pt x="602901" y="462224"/>
                </a:cubicBezTo>
                <a:cubicBezTo>
                  <a:pt x="558521" y="442965"/>
                  <a:pt x="487345" y="406958"/>
                  <a:pt x="487345" y="406958"/>
                </a:cubicBezTo>
                <a:cubicBezTo>
                  <a:pt x="438778" y="384349"/>
                  <a:pt x="365090" y="354205"/>
                  <a:pt x="311499" y="326572"/>
                </a:cubicBezTo>
                <a:cubicBezTo>
                  <a:pt x="257908" y="298939"/>
                  <a:pt x="195943" y="268794"/>
                  <a:pt x="165798" y="241161"/>
                </a:cubicBezTo>
                <a:cubicBezTo>
                  <a:pt x="135653" y="213528"/>
                  <a:pt x="137327" y="179196"/>
                  <a:pt x="130628" y="160774"/>
                </a:cubicBezTo>
                <a:cubicBezTo>
                  <a:pt x="123929" y="142352"/>
                  <a:pt x="133140" y="139003"/>
                  <a:pt x="125604" y="130629"/>
                </a:cubicBezTo>
                <a:cubicBezTo>
                  <a:pt x="118068" y="122255"/>
                  <a:pt x="100484" y="116394"/>
                  <a:pt x="85411" y="110532"/>
                </a:cubicBezTo>
                <a:cubicBezTo>
                  <a:pt x="70339" y="104670"/>
                  <a:pt x="45217" y="108020"/>
                  <a:pt x="35169" y="95459"/>
                </a:cubicBezTo>
                <a:cubicBezTo>
                  <a:pt x="25121" y="82898"/>
                  <a:pt x="30983" y="51079"/>
                  <a:pt x="25121" y="35169"/>
                </a:cubicBezTo>
                <a:cubicBezTo>
                  <a:pt x="19259" y="19259"/>
                  <a:pt x="7536" y="10886"/>
                  <a:pt x="0" y="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任意多边形 30"/>
          <p:cNvSpPr/>
          <p:nvPr/>
        </p:nvSpPr>
        <p:spPr>
          <a:xfrm>
            <a:off x="5986440" y="873000"/>
            <a:ext cx="463680" cy="735120"/>
          </a:xfrm>
          <a:custGeom>
            <a:avLst/>
            <a:gdLst/>
            <a:ahLst/>
            <a:rect l="l" t="t" r="r" b="b"/>
            <a:pathLst>
              <a:path w="463899" h="735204">
                <a:moveTo>
                  <a:pt x="0" y="1675"/>
                </a:moveTo>
                <a:cubicBezTo>
                  <a:pt x="25540" y="837"/>
                  <a:pt x="51080" y="0"/>
                  <a:pt x="70339" y="11723"/>
                </a:cubicBezTo>
                <a:cubicBezTo>
                  <a:pt x="89598" y="23446"/>
                  <a:pt x="107183" y="56103"/>
                  <a:pt x="115556" y="72013"/>
                </a:cubicBezTo>
                <a:cubicBezTo>
                  <a:pt x="123929" y="87923"/>
                  <a:pt x="114719" y="93784"/>
                  <a:pt x="120580" y="107182"/>
                </a:cubicBezTo>
                <a:cubicBezTo>
                  <a:pt x="126441" y="120580"/>
                  <a:pt x="143189" y="141514"/>
                  <a:pt x="150725" y="152400"/>
                </a:cubicBezTo>
                <a:cubicBezTo>
                  <a:pt x="158261" y="163286"/>
                  <a:pt x="154912" y="173334"/>
                  <a:pt x="165798" y="172497"/>
                </a:cubicBezTo>
                <a:cubicBezTo>
                  <a:pt x="176684" y="171660"/>
                  <a:pt x="207666" y="153238"/>
                  <a:pt x="216040" y="147376"/>
                </a:cubicBezTo>
                <a:cubicBezTo>
                  <a:pt x="224414" y="141514"/>
                  <a:pt x="211853" y="144863"/>
                  <a:pt x="216040" y="137327"/>
                </a:cubicBezTo>
                <a:cubicBezTo>
                  <a:pt x="220227" y="129791"/>
                  <a:pt x="229438" y="108857"/>
                  <a:pt x="241161" y="102158"/>
                </a:cubicBezTo>
                <a:cubicBezTo>
                  <a:pt x="252884" y="95459"/>
                  <a:pt x="272981" y="94622"/>
                  <a:pt x="286378" y="97134"/>
                </a:cubicBezTo>
                <a:cubicBezTo>
                  <a:pt x="299775" y="99646"/>
                  <a:pt x="314848" y="106345"/>
                  <a:pt x="321547" y="117231"/>
                </a:cubicBezTo>
                <a:cubicBezTo>
                  <a:pt x="328246" y="128117"/>
                  <a:pt x="333271" y="149050"/>
                  <a:pt x="326572" y="162448"/>
                </a:cubicBezTo>
                <a:cubicBezTo>
                  <a:pt x="319873" y="175846"/>
                  <a:pt x="297264" y="195105"/>
                  <a:pt x="281354" y="197617"/>
                </a:cubicBezTo>
                <a:cubicBezTo>
                  <a:pt x="265444" y="200129"/>
                  <a:pt x="246184" y="178358"/>
                  <a:pt x="231112" y="177521"/>
                </a:cubicBezTo>
                <a:cubicBezTo>
                  <a:pt x="216040" y="176684"/>
                  <a:pt x="193431" y="184219"/>
                  <a:pt x="190919" y="192593"/>
                </a:cubicBezTo>
                <a:cubicBezTo>
                  <a:pt x="188407" y="200967"/>
                  <a:pt x="205992" y="212691"/>
                  <a:pt x="216040" y="227763"/>
                </a:cubicBezTo>
                <a:cubicBezTo>
                  <a:pt x="226088" y="242836"/>
                  <a:pt x="240323" y="276329"/>
                  <a:pt x="251209" y="283028"/>
                </a:cubicBezTo>
                <a:cubicBezTo>
                  <a:pt x="262095" y="289727"/>
                  <a:pt x="274655" y="273817"/>
                  <a:pt x="281354" y="267956"/>
                </a:cubicBezTo>
                <a:cubicBezTo>
                  <a:pt x="288053" y="262095"/>
                  <a:pt x="286378" y="255395"/>
                  <a:pt x="291402" y="247859"/>
                </a:cubicBezTo>
                <a:cubicBezTo>
                  <a:pt x="296426" y="240323"/>
                  <a:pt x="301451" y="226925"/>
                  <a:pt x="311499" y="222738"/>
                </a:cubicBezTo>
                <a:cubicBezTo>
                  <a:pt x="321547" y="218551"/>
                  <a:pt x="339132" y="218551"/>
                  <a:pt x="351692" y="222738"/>
                </a:cubicBezTo>
                <a:cubicBezTo>
                  <a:pt x="364252" y="226925"/>
                  <a:pt x="380163" y="236136"/>
                  <a:pt x="386862" y="247859"/>
                </a:cubicBezTo>
                <a:cubicBezTo>
                  <a:pt x="393561" y="259582"/>
                  <a:pt x="396910" y="281354"/>
                  <a:pt x="391886" y="293077"/>
                </a:cubicBezTo>
                <a:cubicBezTo>
                  <a:pt x="386862" y="304800"/>
                  <a:pt x="370115" y="314849"/>
                  <a:pt x="356717" y="318198"/>
                </a:cubicBezTo>
                <a:cubicBezTo>
                  <a:pt x="343319" y="321547"/>
                  <a:pt x="322385" y="314848"/>
                  <a:pt x="311499" y="313173"/>
                </a:cubicBezTo>
                <a:cubicBezTo>
                  <a:pt x="300613" y="311498"/>
                  <a:pt x="298101" y="306474"/>
                  <a:pt x="291402" y="308149"/>
                </a:cubicBezTo>
                <a:cubicBezTo>
                  <a:pt x="284703" y="309824"/>
                  <a:pt x="270469" y="314011"/>
                  <a:pt x="271306" y="323222"/>
                </a:cubicBezTo>
                <a:cubicBezTo>
                  <a:pt x="272143" y="332433"/>
                  <a:pt x="288891" y="350017"/>
                  <a:pt x="296427" y="363415"/>
                </a:cubicBezTo>
                <a:cubicBezTo>
                  <a:pt x="303963" y="376813"/>
                  <a:pt x="308150" y="396073"/>
                  <a:pt x="316523" y="403609"/>
                </a:cubicBezTo>
                <a:cubicBezTo>
                  <a:pt x="324897" y="411145"/>
                  <a:pt x="339969" y="408633"/>
                  <a:pt x="346668" y="408633"/>
                </a:cubicBezTo>
                <a:cubicBezTo>
                  <a:pt x="353367" y="408633"/>
                  <a:pt x="351693" y="409470"/>
                  <a:pt x="356717" y="403609"/>
                </a:cubicBezTo>
                <a:cubicBezTo>
                  <a:pt x="361741" y="397748"/>
                  <a:pt x="368440" y="381000"/>
                  <a:pt x="376813" y="373464"/>
                </a:cubicBezTo>
                <a:cubicBezTo>
                  <a:pt x="385187" y="365928"/>
                  <a:pt x="395235" y="357554"/>
                  <a:pt x="406958" y="358391"/>
                </a:cubicBezTo>
                <a:cubicBezTo>
                  <a:pt x="418681" y="359228"/>
                  <a:pt x="438778" y="365928"/>
                  <a:pt x="447152" y="378488"/>
                </a:cubicBezTo>
                <a:cubicBezTo>
                  <a:pt x="455526" y="391048"/>
                  <a:pt x="463899" y="422031"/>
                  <a:pt x="457200" y="433754"/>
                </a:cubicBezTo>
                <a:cubicBezTo>
                  <a:pt x="450501" y="445477"/>
                  <a:pt x="419518" y="450501"/>
                  <a:pt x="406958" y="448826"/>
                </a:cubicBezTo>
                <a:cubicBezTo>
                  <a:pt x="394398" y="447151"/>
                  <a:pt x="392724" y="425380"/>
                  <a:pt x="381838" y="423705"/>
                </a:cubicBezTo>
                <a:cubicBezTo>
                  <a:pt x="370952" y="422030"/>
                  <a:pt x="344993" y="427055"/>
                  <a:pt x="341644" y="438778"/>
                </a:cubicBezTo>
                <a:cubicBezTo>
                  <a:pt x="338295" y="450501"/>
                  <a:pt x="362578" y="478134"/>
                  <a:pt x="361741" y="494044"/>
                </a:cubicBezTo>
                <a:cubicBezTo>
                  <a:pt x="360904" y="509954"/>
                  <a:pt x="349181" y="520839"/>
                  <a:pt x="336620" y="534237"/>
                </a:cubicBezTo>
                <a:cubicBezTo>
                  <a:pt x="324059" y="547635"/>
                  <a:pt x="295589" y="551822"/>
                  <a:pt x="286378" y="574431"/>
                </a:cubicBezTo>
                <a:cubicBezTo>
                  <a:pt x="277167" y="597040"/>
                  <a:pt x="278842" y="643095"/>
                  <a:pt x="281354" y="669890"/>
                </a:cubicBezTo>
                <a:cubicBezTo>
                  <a:pt x="283866" y="696685"/>
                  <a:pt x="292658" y="715944"/>
                  <a:pt x="301451" y="73520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4" name="组合 66"/>
          <p:cNvGrpSpPr/>
          <p:nvPr/>
        </p:nvGrpSpPr>
        <p:grpSpPr>
          <a:xfrm>
            <a:off x="-63360" y="2900520"/>
            <a:ext cx="6631200" cy="2052360"/>
            <a:chOff x="-63360" y="2900520"/>
            <a:chExt cx="6631200" cy="2052360"/>
          </a:xfrm>
        </p:grpSpPr>
        <p:sp>
          <p:nvSpPr>
            <p:cNvPr id="975" name="任意多边形 38"/>
            <p:cNvSpPr/>
            <p:nvPr/>
          </p:nvSpPr>
          <p:spPr>
            <a:xfrm>
              <a:off x="-63360" y="4071960"/>
              <a:ext cx="6496200" cy="760320"/>
            </a:xfrm>
            <a:custGeom>
              <a:avLst/>
              <a:gdLst/>
              <a:ahLst/>
              <a:rect l="l" t="t" r="r" b="b"/>
              <a:pathLst>
                <a:path w="6496215" h="760675">
                  <a:moveTo>
                    <a:pt x="0" y="485029"/>
                  </a:moveTo>
                  <a:cubicBezTo>
                    <a:pt x="66923" y="467801"/>
                    <a:pt x="133846" y="450573"/>
                    <a:pt x="278295" y="429370"/>
                  </a:cubicBezTo>
                  <a:cubicBezTo>
                    <a:pt x="422744" y="408167"/>
                    <a:pt x="662609" y="368411"/>
                    <a:pt x="866692" y="357809"/>
                  </a:cubicBezTo>
                  <a:cubicBezTo>
                    <a:pt x="1070776" y="347207"/>
                    <a:pt x="1301363" y="355158"/>
                    <a:pt x="1502796" y="365760"/>
                  </a:cubicBezTo>
                  <a:cubicBezTo>
                    <a:pt x="1704229" y="376362"/>
                    <a:pt x="1895061" y="393590"/>
                    <a:pt x="2075290" y="421419"/>
                  </a:cubicBezTo>
                  <a:cubicBezTo>
                    <a:pt x="2255519" y="449248"/>
                    <a:pt x="2435749" y="494306"/>
                    <a:pt x="2584173" y="532737"/>
                  </a:cubicBezTo>
                  <a:cubicBezTo>
                    <a:pt x="2732597" y="571168"/>
                    <a:pt x="2834639" y="618877"/>
                    <a:pt x="2965836" y="652007"/>
                  </a:cubicBezTo>
                  <a:cubicBezTo>
                    <a:pt x="3097033" y="685137"/>
                    <a:pt x="3225579" y="714292"/>
                    <a:pt x="3371353" y="731520"/>
                  </a:cubicBezTo>
                  <a:cubicBezTo>
                    <a:pt x="3517127" y="748748"/>
                    <a:pt x="3673503" y="760675"/>
                    <a:pt x="3840480" y="755374"/>
                  </a:cubicBezTo>
                  <a:cubicBezTo>
                    <a:pt x="4007457" y="750073"/>
                    <a:pt x="4189012" y="727545"/>
                    <a:pt x="4373217" y="699715"/>
                  </a:cubicBezTo>
                  <a:cubicBezTo>
                    <a:pt x="4557422" y="671885"/>
                    <a:pt x="4765482" y="632128"/>
                    <a:pt x="4945711" y="588396"/>
                  </a:cubicBezTo>
                  <a:cubicBezTo>
                    <a:pt x="5125941" y="544664"/>
                    <a:pt x="5261112" y="506233"/>
                    <a:pt x="5454594" y="437322"/>
                  </a:cubicBezTo>
                  <a:cubicBezTo>
                    <a:pt x="5648076" y="368411"/>
                    <a:pt x="5932998" y="247816"/>
                    <a:pt x="6106601" y="174929"/>
                  </a:cubicBezTo>
                  <a:cubicBezTo>
                    <a:pt x="6280204" y="102042"/>
                    <a:pt x="6388209" y="51021"/>
                    <a:pt x="6496215" y="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6" name="组合 65"/>
            <p:cNvGrpSpPr/>
            <p:nvPr/>
          </p:nvGrpSpPr>
          <p:grpSpPr>
            <a:xfrm>
              <a:off x="-55080" y="2900520"/>
              <a:ext cx="6622920" cy="2052360"/>
              <a:chOff x="-55080" y="2900520"/>
              <a:chExt cx="6622920" cy="2052360"/>
            </a:xfrm>
          </p:grpSpPr>
          <p:grpSp>
            <p:nvGrpSpPr>
              <p:cNvPr id="977" name="组合 34"/>
              <p:cNvGrpSpPr/>
              <p:nvPr/>
            </p:nvGrpSpPr>
            <p:grpSpPr>
              <a:xfrm>
                <a:off x="-33480" y="2900520"/>
                <a:ext cx="6564240" cy="1575360"/>
                <a:chOff x="-33480" y="2900520"/>
                <a:chExt cx="6564240" cy="1575360"/>
              </a:xfrm>
            </p:grpSpPr>
            <p:sp>
              <p:nvSpPr>
                <p:cNvPr id="978" name="任意多边形 32"/>
                <p:cNvSpPr/>
                <p:nvPr/>
              </p:nvSpPr>
              <p:spPr>
                <a:xfrm>
                  <a:off x="-33480" y="3414960"/>
                  <a:ext cx="5871960" cy="1060920"/>
                </a:xfrm>
                <a:custGeom>
                  <a:avLst/>
                  <a:gdLst/>
                  <a:ahLst/>
                  <a:rect l="l" t="t" r="r" b="b"/>
                  <a:pathLst>
                    <a:path w="5871949" h="1059977">
                      <a:moveTo>
                        <a:pt x="0" y="835926"/>
                      </a:moveTo>
                      <a:cubicBezTo>
                        <a:pt x="47198" y="813748"/>
                        <a:pt x="94397" y="791571"/>
                        <a:pt x="211540" y="767687"/>
                      </a:cubicBezTo>
                      <a:cubicBezTo>
                        <a:pt x="328683" y="743803"/>
                        <a:pt x="537948" y="707409"/>
                        <a:pt x="702859" y="692624"/>
                      </a:cubicBezTo>
                      <a:cubicBezTo>
                        <a:pt x="867770" y="677839"/>
                        <a:pt x="1041779" y="676701"/>
                        <a:pt x="1201003" y="678976"/>
                      </a:cubicBezTo>
                      <a:cubicBezTo>
                        <a:pt x="1360227" y="681251"/>
                        <a:pt x="1494430" y="683526"/>
                        <a:pt x="1658203" y="706272"/>
                      </a:cubicBezTo>
                      <a:cubicBezTo>
                        <a:pt x="1821976" y="729018"/>
                        <a:pt x="2033516" y="776785"/>
                        <a:pt x="2183641" y="815454"/>
                      </a:cubicBezTo>
                      <a:cubicBezTo>
                        <a:pt x="2333766" y="854123"/>
                        <a:pt x="2558955" y="938284"/>
                        <a:pt x="2558955" y="938284"/>
                      </a:cubicBezTo>
                      <a:cubicBezTo>
                        <a:pt x="2655627" y="970129"/>
                        <a:pt x="2681785" y="987189"/>
                        <a:pt x="2763671" y="1006523"/>
                      </a:cubicBezTo>
                      <a:cubicBezTo>
                        <a:pt x="2845558" y="1025857"/>
                        <a:pt x="2944504" y="1048604"/>
                        <a:pt x="3050274" y="1054290"/>
                      </a:cubicBezTo>
                      <a:cubicBezTo>
                        <a:pt x="3156044" y="1059977"/>
                        <a:pt x="3272050" y="1054290"/>
                        <a:pt x="3398292" y="1040642"/>
                      </a:cubicBezTo>
                      <a:cubicBezTo>
                        <a:pt x="3524534" y="1026994"/>
                        <a:pt x="3640540" y="1014484"/>
                        <a:pt x="3807725" y="972403"/>
                      </a:cubicBezTo>
                      <a:cubicBezTo>
                        <a:pt x="3974910" y="930322"/>
                        <a:pt x="4180764" y="876868"/>
                        <a:pt x="4401403" y="788158"/>
                      </a:cubicBezTo>
                      <a:cubicBezTo>
                        <a:pt x="4622042" y="699448"/>
                        <a:pt x="4906370" y="559559"/>
                        <a:pt x="5131558" y="440141"/>
                      </a:cubicBezTo>
                      <a:cubicBezTo>
                        <a:pt x="5356746" y="320723"/>
                        <a:pt x="5633113" y="143302"/>
                        <a:pt x="5752531" y="71651"/>
                      </a:cubicBezTo>
                      <a:cubicBezTo>
                        <a:pt x="5871949" y="0"/>
                        <a:pt x="5860007" y="5118"/>
                        <a:pt x="5848065" y="10236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任意多边形 33"/>
                <p:cNvSpPr/>
                <p:nvPr/>
              </p:nvSpPr>
              <p:spPr>
                <a:xfrm>
                  <a:off x="5779800" y="2900520"/>
                  <a:ext cx="750960" cy="546120"/>
                </a:xfrm>
                <a:custGeom>
                  <a:avLst/>
                  <a:gdLst/>
                  <a:ahLst/>
                  <a:rect l="l" t="t" r="r" b="b"/>
                  <a:pathLst>
                    <a:path w="750627" h="545911">
                      <a:moveTo>
                        <a:pt x="0" y="545911"/>
                      </a:moveTo>
                      <a:cubicBezTo>
                        <a:pt x="80749" y="495869"/>
                        <a:pt x="161499" y="445827"/>
                        <a:pt x="286603" y="354842"/>
                      </a:cubicBezTo>
                      <a:cubicBezTo>
                        <a:pt x="411707" y="263857"/>
                        <a:pt x="581167" y="131928"/>
                        <a:pt x="750627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0" name="任意多边形 35"/>
              <p:cNvSpPr/>
              <p:nvPr/>
            </p:nvSpPr>
            <p:spPr>
              <a:xfrm>
                <a:off x="-38880" y="3419640"/>
                <a:ext cx="6361200" cy="1160280"/>
              </a:xfrm>
              <a:custGeom>
                <a:avLst/>
                <a:gdLst/>
                <a:ahLst/>
                <a:rect l="l" t="t" r="r" b="b"/>
                <a:pathLst>
                  <a:path w="6361044" h="1160890">
                    <a:moveTo>
                      <a:pt x="0" y="930302"/>
                    </a:moveTo>
                    <a:cubicBezTo>
                      <a:pt x="64936" y="913074"/>
                      <a:pt x="129872" y="895846"/>
                      <a:pt x="238540" y="874643"/>
                    </a:cubicBezTo>
                    <a:cubicBezTo>
                      <a:pt x="347208" y="853440"/>
                      <a:pt x="514185" y="818985"/>
                      <a:pt x="652007" y="803082"/>
                    </a:cubicBezTo>
                    <a:cubicBezTo>
                      <a:pt x="789830" y="787180"/>
                      <a:pt x="943555" y="781879"/>
                      <a:pt x="1065475" y="779228"/>
                    </a:cubicBezTo>
                    <a:cubicBezTo>
                      <a:pt x="1187395" y="776578"/>
                      <a:pt x="1269558" y="780553"/>
                      <a:pt x="1383527" y="787179"/>
                    </a:cubicBezTo>
                    <a:cubicBezTo>
                      <a:pt x="1497496" y="793805"/>
                      <a:pt x="1628692" y="803081"/>
                      <a:pt x="1749287" y="818984"/>
                    </a:cubicBezTo>
                    <a:cubicBezTo>
                      <a:pt x="1869882" y="834887"/>
                      <a:pt x="1995778" y="858741"/>
                      <a:pt x="2107096" y="882595"/>
                    </a:cubicBezTo>
                    <a:cubicBezTo>
                      <a:pt x="2218414" y="906449"/>
                      <a:pt x="2313830" y="930303"/>
                      <a:pt x="2417197" y="962108"/>
                    </a:cubicBezTo>
                    <a:cubicBezTo>
                      <a:pt x="2520564" y="993913"/>
                      <a:pt x="2638509" y="1045597"/>
                      <a:pt x="2727298" y="1073426"/>
                    </a:cubicBezTo>
                    <a:cubicBezTo>
                      <a:pt x="2816088" y="1101256"/>
                      <a:pt x="2858494" y="1114508"/>
                      <a:pt x="2949934" y="1129085"/>
                    </a:cubicBezTo>
                    <a:cubicBezTo>
                      <a:pt x="3041374" y="1143662"/>
                      <a:pt x="3135465" y="1160890"/>
                      <a:pt x="3275938" y="1160890"/>
                    </a:cubicBezTo>
                    <a:cubicBezTo>
                      <a:pt x="3416411" y="1160890"/>
                      <a:pt x="3615194" y="1156915"/>
                      <a:pt x="3792773" y="1129085"/>
                    </a:cubicBezTo>
                    <a:cubicBezTo>
                      <a:pt x="3970352" y="1101256"/>
                      <a:pt x="4153232" y="1050897"/>
                      <a:pt x="4341413" y="993913"/>
                    </a:cubicBezTo>
                    <a:cubicBezTo>
                      <a:pt x="4529594" y="936929"/>
                      <a:pt x="4731027" y="866692"/>
                      <a:pt x="4921858" y="787179"/>
                    </a:cubicBezTo>
                    <a:cubicBezTo>
                      <a:pt x="5112689" y="707666"/>
                      <a:pt x="5278341" y="626828"/>
                      <a:pt x="5486400" y="516835"/>
                    </a:cubicBezTo>
                    <a:cubicBezTo>
                      <a:pt x="5694459" y="406842"/>
                      <a:pt x="6024439" y="213360"/>
                      <a:pt x="6170213" y="127221"/>
                    </a:cubicBezTo>
                    <a:cubicBezTo>
                      <a:pt x="6315987" y="41082"/>
                      <a:pt x="6338515" y="20541"/>
                      <a:pt x="6361044" y="0"/>
                    </a:cubicBez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任意多边形 37"/>
              <p:cNvSpPr/>
              <p:nvPr/>
            </p:nvSpPr>
            <p:spPr>
              <a:xfrm>
                <a:off x="-38880" y="3689280"/>
                <a:ext cx="6496200" cy="1019160"/>
              </a:xfrm>
              <a:custGeom>
                <a:avLst/>
                <a:gdLst/>
                <a:ahLst/>
                <a:rect l="l" t="t" r="r" b="b"/>
                <a:pathLst>
                  <a:path w="6496216" h="1019093">
                    <a:moveTo>
                      <a:pt x="0" y="763325"/>
                    </a:moveTo>
                    <a:cubicBezTo>
                      <a:pt x="76863" y="741459"/>
                      <a:pt x="153726" y="719593"/>
                      <a:pt x="262394" y="699715"/>
                    </a:cubicBezTo>
                    <a:cubicBezTo>
                      <a:pt x="371062" y="679837"/>
                      <a:pt x="522136" y="657308"/>
                      <a:pt x="652007" y="644056"/>
                    </a:cubicBezTo>
                    <a:cubicBezTo>
                      <a:pt x="781878" y="630804"/>
                      <a:pt x="1041621" y="620202"/>
                      <a:pt x="1041621" y="620202"/>
                    </a:cubicBezTo>
                    <a:cubicBezTo>
                      <a:pt x="1178118" y="617552"/>
                      <a:pt x="1331844" y="618877"/>
                      <a:pt x="1470992" y="628153"/>
                    </a:cubicBezTo>
                    <a:cubicBezTo>
                      <a:pt x="1610140" y="637429"/>
                      <a:pt x="1724108" y="652007"/>
                      <a:pt x="1876508" y="675861"/>
                    </a:cubicBezTo>
                    <a:cubicBezTo>
                      <a:pt x="2028908" y="699715"/>
                      <a:pt x="2251545" y="739472"/>
                      <a:pt x="2385392" y="771277"/>
                    </a:cubicBezTo>
                    <a:cubicBezTo>
                      <a:pt x="2519239" y="803082"/>
                      <a:pt x="2581524" y="836212"/>
                      <a:pt x="2679590" y="866692"/>
                    </a:cubicBezTo>
                    <a:cubicBezTo>
                      <a:pt x="2777656" y="897172"/>
                      <a:pt x="2874397" y="931628"/>
                      <a:pt x="2973788" y="954157"/>
                    </a:cubicBezTo>
                    <a:cubicBezTo>
                      <a:pt x="3073179" y="976686"/>
                      <a:pt x="3168595" y="992589"/>
                      <a:pt x="3275938" y="1001865"/>
                    </a:cubicBezTo>
                    <a:cubicBezTo>
                      <a:pt x="3383281" y="1011141"/>
                      <a:pt x="3470745" y="1019093"/>
                      <a:pt x="3617844" y="1009816"/>
                    </a:cubicBezTo>
                    <a:cubicBezTo>
                      <a:pt x="3764943" y="1000539"/>
                      <a:pt x="3995531" y="974035"/>
                      <a:pt x="4158533" y="946205"/>
                    </a:cubicBezTo>
                    <a:cubicBezTo>
                      <a:pt x="4321535" y="918375"/>
                      <a:pt x="4454056" y="881269"/>
                      <a:pt x="4595854" y="842838"/>
                    </a:cubicBezTo>
                    <a:cubicBezTo>
                      <a:pt x="4737652" y="804407"/>
                      <a:pt x="4863548" y="767301"/>
                      <a:pt x="5009322" y="715618"/>
                    </a:cubicBezTo>
                    <a:cubicBezTo>
                      <a:pt x="5155096" y="663935"/>
                      <a:pt x="5341952" y="587072"/>
                      <a:pt x="5470498" y="532738"/>
                    </a:cubicBezTo>
                    <a:cubicBezTo>
                      <a:pt x="5599044" y="478404"/>
                      <a:pt x="5669281" y="442623"/>
                      <a:pt x="5780599" y="389614"/>
                    </a:cubicBezTo>
                    <a:cubicBezTo>
                      <a:pt x="5891917" y="336605"/>
                      <a:pt x="6019138" y="279621"/>
                      <a:pt x="6138407" y="214685"/>
                    </a:cubicBezTo>
                    <a:cubicBezTo>
                      <a:pt x="6257676" y="149749"/>
                      <a:pt x="6376946" y="74874"/>
                      <a:pt x="6496216" y="0"/>
                    </a:cubicBez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任意多边形 39"/>
              <p:cNvSpPr/>
              <p:nvPr/>
            </p:nvSpPr>
            <p:spPr>
              <a:xfrm>
                <a:off x="-55080" y="4381560"/>
                <a:ext cx="6622920" cy="571320"/>
              </a:xfrm>
              <a:custGeom>
                <a:avLst/>
                <a:gdLst/>
                <a:ahLst/>
                <a:rect l="l" t="t" r="r" b="b"/>
                <a:pathLst>
                  <a:path w="6623436" h="571168">
                    <a:moveTo>
                      <a:pt x="0" y="286247"/>
                    </a:moveTo>
                    <a:cubicBezTo>
                      <a:pt x="39094" y="267031"/>
                      <a:pt x="78188" y="247816"/>
                      <a:pt x="174929" y="230588"/>
                    </a:cubicBezTo>
                    <a:cubicBezTo>
                      <a:pt x="271670" y="213360"/>
                      <a:pt x="442623" y="196132"/>
                      <a:pt x="580445" y="182880"/>
                    </a:cubicBezTo>
                    <a:cubicBezTo>
                      <a:pt x="718267" y="169628"/>
                      <a:pt x="826935" y="153725"/>
                      <a:pt x="1001864" y="151074"/>
                    </a:cubicBezTo>
                    <a:cubicBezTo>
                      <a:pt x="1176793" y="148424"/>
                      <a:pt x="1375575" y="141798"/>
                      <a:pt x="1630017" y="166977"/>
                    </a:cubicBezTo>
                    <a:cubicBezTo>
                      <a:pt x="1884459" y="192156"/>
                      <a:pt x="2315155" y="262393"/>
                      <a:pt x="2528515" y="302149"/>
                    </a:cubicBezTo>
                    <a:cubicBezTo>
                      <a:pt x="2741875" y="341905"/>
                      <a:pt x="2910177" y="405516"/>
                      <a:pt x="2910177" y="405516"/>
                    </a:cubicBezTo>
                    <a:cubicBezTo>
                      <a:pt x="3029447" y="437321"/>
                      <a:pt x="3110285" y="467802"/>
                      <a:pt x="3244132" y="492981"/>
                    </a:cubicBezTo>
                    <a:cubicBezTo>
                      <a:pt x="3377979" y="518160"/>
                      <a:pt x="3562184" y="544664"/>
                      <a:pt x="3713259" y="556591"/>
                    </a:cubicBezTo>
                    <a:cubicBezTo>
                      <a:pt x="3864334" y="568518"/>
                      <a:pt x="3980953" y="571168"/>
                      <a:pt x="4150581" y="564542"/>
                    </a:cubicBezTo>
                    <a:cubicBezTo>
                      <a:pt x="4320209" y="557916"/>
                      <a:pt x="4501764" y="549964"/>
                      <a:pt x="4731026" y="516834"/>
                    </a:cubicBezTo>
                    <a:cubicBezTo>
                      <a:pt x="4960288" y="483704"/>
                      <a:pt x="5270389" y="429370"/>
                      <a:pt x="5526156" y="365760"/>
                    </a:cubicBezTo>
                    <a:cubicBezTo>
                      <a:pt x="5781923" y="302150"/>
                      <a:pt x="6082748" y="196132"/>
                      <a:pt x="6265628" y="135172"/>
                    </a:cubicBezTo>
                    <a:cubicBezTo>
                      <a:pt x="6448508" y="74212"/>
                      <a:pt x="6535972" y="37106"/>
                      <a:pt x="6623436" y="0"/>
                    </a:cubicBez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组合 48"/>
          <p:cNvGrpSpPr/>
          <p:nvPr/>
        </p:nvGrpSpPr>
        <p:grpSpPr>
          <a:xfrm>
            <a:off x="4636440" y="3836880"/>
            <a:ext cx="156960" cy="497160"/>
            <a:chOff x="4636440" y="3836880"/>
            <a:chExt cx="156960" cy="497160"/>
          </a:xfrm>
        </p:grpSpPr>
        <p:sp>
          <p:nvSpPr>
            <p:cNvPr id="984" name="任意多边形 46"/>
            <p:cNvSpPr/>
            <p:nvPr/>
          </p:nvSpPr>
          <p:spPr>
            <a:xfrm>
              <a:off x="4786560" y="3836880"/>
              <a:ext cx="2880" cy="419400"/>
            </a:xfrm>
            <a:custGeom>
              <a:avLst/>
              <a:gdLst/>
              <a:ahLst/>
              <a:rect l="l" t="t" r="r" b="b"/>
              <a:pathLst>
                <a:path w="3810" h="419100">
                  <a:moveTo>
                    <a:pt x="3810" y="0"/>
                  </a:moveTo>
                  <a:lnTo>
                    <a:pt x="0" y="41910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椭圆 47"/>
            <p:cNvSpPr/>
            <p:nvPr/>
          </p:nvSpPr>
          <p:spPr>
            <a:xfrm rot="20677800">
              <a:off x="4643280" y="4244760"/>
              <a:ext cx="143280" cy="71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6" name="组合 56"/>
          <p:cNvGrpSpPr/>
          <p:nvPr/>
        </p:nvGrpSpPr>
        <p:grpSpPr>
          <a:xfrm>
            <a:off x="4178160" y="4532040"/>
            <a:ext cx="401760" cy="546480"/>
            <a:chOff x="4178160" y="4532040"/>
            <a:chExt cx="401760" cy="546480"/>
          </a:xfrm>
        </p:grpSpPr>
        <p:sp>
          <p:nvSpPr>
            <p:cNvPr id="987" name="任意多边形 50"/>
            <p:cNvSpPr/>
            <p:nvPr/>
          </p:nvSpPr>
          <p:spPr>
            <a:xfrm rot="20902800">
              <a:off x="4273560" y="4627440"/>
              <a:ext cx="2880" cy="341280"/>
            </a:xfrm>
            <a:custGeom>
              <a:avLst/>
              <a:gdLst/>
              <a:ahLst/>
              <a:rect l="l" t="t" r="r" b="b"/>
              <a:pathLst>
                <a:path w="3810" h="419100">
                  <a:moveTo>
                    <a:pt x="3810" y="0"/>
                  </a:moveTo>
                  <a:lnTo>
                    <a:pt x="0" y="41910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椭圆 51"/>
            <p:cNvSpPr/>
            <p:nvPr/>
          </p:nvSpPr>
          <p:spPr>
            <a:xfrm rot="18519000">
              <a:off x="4178880" y="4964400"/>
              <a:ext cx="142920" cy="71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任意多边形 53"/>
            <p:cNvSpPr/>
            <p:nvPr/>
          </p:nvSpPr>
          <p:spPr>
            <a:xfrm rot="20902800">
              <a:off x="4532040" y="4528800"/>
              <a:ext cx="2880" cy="324000"/>
            </a:xfrm>
            <a:custGeom>
              <a:avLst/>
              <a:gdLst/>
              <a:ahLst/>
              <a:rect l="l" t="t" r="r" b="b"/>
              <a:pathLst>
                <a:path w="3810" h="419100">
                  <a:moveTo>
                    <a:pt x="3810" y="0"/>
                  </a:moveTo>
                  <a:lnTo>
                    <a:pt x="0" y="41910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椭圆 54"/>
            <p:cNvSpPr/>
            <p:nvPr/>
          </p:nvSpPr>
          <p:spPr>
            <a:xfrm rot="17701800">
              <a:off x="4446000" y="4864680"/>
              <a:ext cx="142920" cy="71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任意多边形 55"/>
            <p:cNvSpPr/>
            <p:nvPr/>
          </p:nvSpPr>
          <p:spPr>
            <a:xfrm>
              <a:off x="4243320" y="4552920"/>
              <a:ext cx="262080" cy="95040"/>
            </a:xfrm>
            <a:custGeom>
              <a:avLst/>
              <a:gdLst/>
              <a:ahLst/>
              <a:rect l="l" t="t" r="r" b="b"/>
              <a:pathLst>
                <a:path w="262890" h="95250">
                  <a:moveTo>
                    <a:pt x="0" y="95250"/>
                  </a:moveTo>
                  <a:lnTo>
                    <a:pt x="262890" y="0"/>
                  </a:ln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2" name="组合 61"/>
          <p:cNvGrpSpPr/>
          <p:nvPr/>
        </p:nvGrpSpPr>
        <p:grpSpPr>
          <a:xfrm>
            <a:off x="5394960" y="3357720"/>
            <a:ext cx="469800" cy="891360"/>
            <a:chOff x="5394960" y="3357720"/>
            <a:chExt cx="469800" cy="891360"/>
          </a:xfrm>
        </p:grpSpPr>
        <p:sp>
          <p:nvSpPr>
            <p:cNvPr id="993" name="任意多边形 58"/>
            <p:cNvSpPr/>
            <p:nvPr/>
          </p:nvSpPr>
          <p:spPr>
            <a:xfrm rot="19783800">
              <a:off x="5565960" y="3420000"/>
              <a:ext cx="2880" cy="644040"/>
            </a:xfrm>
            <a:custGeom>
              <a:avLst/>
              <a:gdLst/>
              <a:ahLst/>
              <a:rect l="l" t="t" r="r" b="b"/>
              <a:pathLst>
                <a:path w="3810" h="419100">
                  <a:moveTo>
                    <a:pt x="3810" y="0"/>
                  </a:moveTo>
                  <a:lnTo>
                    <a:pt x="0" y="41910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椭圆 59"/>
            <p:cNvSpPr/>
            <p:nvPr/>
          </p:nvSpPr>
          <p:spPr>
            <a:xfrm rot="18507600">
              <a:off x="5524920" y="4033440"/>
              <a:ext cx="240120" cy="1497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任意多边形 60"/>
            <p:cNvSpPr/>
            <p:nvPr/>
          </p:nvSpPr>
          <p:spPr>
            <a:xfrm rot="19783800">
              <a:off x="5529600" y="3368160"/>
              <a:ext cx="200520" cy="588600"/>
            </a:xfrm>
            <a:custGeom>
              <a:avLst/>
              <a:gdLst/>
              <a:ahLst/>
              <a:rect l="l" t="t" r="r" b="b"/>
              <a:pathLst>
                <a:path w="201930" h="591820">
                  <a:moveTo>
                    <a:pt x="5715" y="21590"/>
                  </a:moveTo>
                  <a:cubicBezTo>
                    <a:pt x="6985" y="0"/>
                    <a:pt x="6985" y="53340"/>
                    <a:pt x="17145" y="74930"/>
                  </a:cubicBezTo>
                  <a:cubicBezTo>
                    <a:pt x="27305" y="96520"/>
                    <a:pt x="46355" y="127000"/>
                    <a:pt x="66675" y="151130"/>
                  </a:cubicBezTo>
                  <a:cubicBezTo>
                    <a:pt x="86995" y="175260"/>
                    <a:pt x="120015" y="196215"/>
                    <a:pt x="139065" y="219710"/>
                  </a:cubicBezTo>
                  <a:cubicBezTo>
                    <a:pt x="158115" y="243205"/>
                    <a:pt x="170815" y="268605"/>
                    <a:pt x="180975" y="292100"/>
                  </a:cubicBezTo>
                  <a:cubicBezTo>
                    <a:pt x="191135" y="315595"/>
                    <a:pt x="198120" y="332105"/>
                    <a:pt x="200025" y="360680"/>
                  </a:cubicBezTo>
                  <a:cubicBezTo>
                    <a:pt x="201930" y="389255"/>
                    <a:pt x="200660" y="428625"/>
                    <a:pt x="192405" y="463550"/>
                  </a:cubicBezTo>
                  <a:cubicBezTo>
                    <a:pt x="184150" y="498475"/>
                    <a:pt x="162560" y="549910"/>
                    <a:pt x="150495" y="570230"/>
                  </a:cubicBezTo>
                  <a:cubicBezTo>
                    <a:pt x="138430" y="590550"/>
                    <a:pt x="121285" y="591820"/>
                    <a:pt x="120015" y="585470"/>
                  </a:cubicBezTo>
                  <a:cubicBezTo>
                    <a:pt x="118745" y="579120"/>
                    <a:pt x="134620" y="558165"/>
                    <a:pt x="142875" y="532130"/>
                  </a:cubicBezTo>
                  <a:cubicBezTo>
                    <a:pt x="151130" y="506095"/>
                    <a:pt x="167005" y="463550"/>
                    <a:pt x="169545" y="429260"/>
                  </a:cubicBezTo>
                  <a:cubicBezTo>
                    <a:pt x="172085" y="394970"/>
                    <a:pt x="175260" y="359410"/>
                    <a:pt x="158115" y="326390"/>
                  </a:cubicBezTo>
                  <a:cubicBezTo>
                    <a:pt x="140970" y="293370"/>
                    <a:pt x="91440" y="251460"/>
                    <a:pt x="66675" y="231140"/>
                  </a:cubicBezTo>
                  <a:cubicBezTo>
                    <a:pt x="41910" y="210820"/>
                    <a:pt x="19050" y="236855"/>
                    <a:pt x="9525" y="204470"/>
                  </a:cubicBezTo>
                  <a:cubicBezTo>
                    <a:pt x="0" y="172085"/>
                    <a:pt x="4445" y="43180"/>
                    <a:pt x="5715" y="2159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6" name="组合 65"/>
          <p:cNvGrpSpPr/>
          <p:nvPr/>
        </p:nvGrpSpPr>
        <p:grpSpPr>
          <a:xfrm>
            <a:off x="3214800" y="4429080"/>
            <a:ext cx="509400" cy="588960"/>
            <a:chOff x="3214800" y="4429080"/>
            <a:chExt cx="509400" cy="588960"/>
          </a:xfrm>
        </p:grpSpPr>
        <p:sp>
          <p:nvSpPr>
            <p:cNvPr id="997" name="任意多边形 62"/>
            <p:cNvSpPr/>
            <p:nvPr/>
          </p:nvSpPr>
          <p:spPr>
            <a:xfrm>
              <a:off x="3214800" y="4429080"/>
              <a:ext cx="404640" cy="588960"/>
            </a:xfrm>
            <a:custGeom>
              <a:avLst/>
              <a:gdLst/>
              <a:ahLst/>
              <a:rect l="l" t="t" r="r" b="b"/>
              <a:pathLst>
                <a:path w="894715" h="1299845">
                  <a:moveTo>
                    <a:pt x="106045" y="1190625"/>
                  </a:moveTo>
                  <a:cubicBezTo>
                    <a:pt x="153670" y="1153795"/>
                    <a:pt x="247650" y="1094740"/>
                    <a:pt x="307975" y="1045845"/>
                  </a:cubicBezTo>
                  <a:cubicBezTo>
                    <a:pt x="368300" y="996950"/>
                    <a:pt x="418465" y="956310"/>
                    <a:pt x="467995" y="897255"/>
                  </a:cubicBezTo>
                  <a:cubicBezTo>
                    <a:pt x="517525" y="838200"/>
                    <a:pt x="571500" y="770890"/>
                    <a:pt x="605155" y="691515"/>
                  </a:cubicBezTo>
                  <a:cubicBezTo>
                    <a:pt x="638810" y="612140"/>
                    <a:pt x="673100" y="513715"/>
                    <a:pt x="669925" y="421005"/>
                  </a:cubicBezTo>
                  <a:cubicBezTo>
                    <a:pt x="666750" y="328295"/>
                    <a:pt x="619760" y="194310"/>
                    <a:pt x="586105" y="135255"/>
                  </a:cubicBezTo>
                  <a:cubicBezTo>
                    <a:pt x="552450" y="76200"/>
                    <a:pt x="514985" y="76835"/>
                    <a:pt x="467995" y="66675"/>
                  </a:cubicBezTo>
                  <a:cubicBezTo>
                    <a:pt x="421005" y="56515"/>
                    <a:pt x="353060" y="55245"/>
                    <a:pt x="304165" y="74295"/>
                  </a:cubicBezTo>
                  <a:cubicBezTo>
                    <a:pt x="255270" y="93345"/>
                    <a:pt x="198755" y="155575"/>
                    <a:pt x="174625" y="180975"/>
                  </a:cubicBezTo>
                  <a:cubicBezTo>
                    <a:pt x="150495" y="206375"/>
                    <a:pt x="154305" y="214630"/>
                    <a:pt x="159385" y="226695"/>
                  </a:cubicBezTo>
                  <a:cubicBezTo>
                    <a:pt x="164465" y="238760"/>
                    <a:pt x="186690" y="251460"/>
                    <a:pt x="205105" y="253365"/>
                  </a:cubicBezTo>
                  <a:cubicBezTo>
                    <a:pt x="223520" y="255270"/>
                    <a:pt x="247650" y="239395"/>
                    <a:pt x="269875" y="238125"/>
                  </a:cubicBezTo>
                  <a:cubicBezTo>
                    <a:pt x="292100" y="236855"/>
                    <a:pt x="318135" y="236855"/>
                    <a:pt x="338455" y="245745"/>
                  </a:cubicBezTo>
                  <a:cubicBezTo>
                    <a:pt x="358775" y="254635"/>
                    <a:pt x="379095" y="269875"/>
                    <a:pt x="391795" y="291465"/>
                  </a:cubicBezTo>
                  <a:cubicBezTo>
                    <a:pt x="404495" y="313055"/>
                    <a:pt x="415925" y="347345"/>
                    <a:pt x="414655" y="375285"/>
                  </a:cubicBezTo>
                  <a:cubicBezTo>
                    <a:pt x="413385" y="403225"/>
                    <a:pt x="401955" y="434975"/>
                    <a:pt x="384175" y="459105"/>
                  </a:cubicBezTo>
                  <a:cubicBezTo>
                    <a:pt x="366395" y="483235"/>
                    <a:pt x="344805" y="513715"/>
                    <a:pt x="307975" y="520065"/>
                  </a:cubicBezTo>
                  <a:cubicBezTo>
                    <a:pt x="271145" y="526415"/>
                    <a:pt x="203200" y="516255"/>
                    <a:pt x="163195" y="497205"/>
                  </a:cubicBezTo>
                  <a:cubicBezTo>
                    <a:pt x="123190" y="478155"/>
                    <a:pt x="84455" y="448310"/>
                    <a:pt x="67945" y="405765"/>
                  </a:cubicBezTo>
                  <a:cubicBezTo>
                    <a:pt x="51435" y="363220"/>
                    <a:pt x="46990" y="292735"/>
                    <a:pt x="64135" y="241935"/>
                  </a:cubicBezTo>
                  <a:cubicBezTo>
                    <a:pt x="81280" y="191135"/>
                    <a:pt x="120015" y="139065"/>
                    <a:pt x="170815" y="100965"/>
                  </a:cubicBezTo>
                  <a:cubicBezTo>
                    <a:pt x="221615" y="62865"/>
                    <a:pt x="299085" y="26670"/>
                    <a:pt x="368935" y="13335"/>
                  </a:cubicBezTo>
                  <a:cubicBezTo>
                    <a:pt x="438785" y="0"/>
                    <a:pt x="525145" y="5080"/>
                    <a:pt x="589915" y="20955"/>
                  </a:cubicBezTo>
                  <a:cubicBezTo>
                    <a:pt x="654685" y="36830"/>
                    <a:pt x="711835" y="69215"/>
                    <a:pt x="757555" y="108585"/>
                  </a:cubicBezTo>
                  <a:cubicBezTo>
                    <a:pt x="803275" y="147955"/>
                    <a:pt x="842010" y="202565"/>
                    <a:pt x="864235" y="257175"/>
                  </a:cubicBezTo>
                  <a:cubicBezTo>
                    <a:pt x="886460" y="311785"/>
                    <a:pt x="894715" y="370840"/>
                    <a:pt x="890905" y="436245"/>
                  </a:cubicBezTo>
                  <a:cubicBezTo>
                    <a:pt x="887095" y="501650"/>
                    <a:pt x="876300" y="573405"/>
                    <a:pt x="841375" y="649605"/>
                  </a:cubicBezTo>
                  <a:cubicBezTo>
                    <a:pt x="806450" y="725805"/>
                    <a:pt x="780415" y="804545"/>
                    <a:pt x="681355" y="893445"/>
                  </a:cubicBezTo>
                  <a:cubicBezTo>
                    <a:pt x="582295" y="982345"/>
                    <a:pt x="354330" y="1117600"/>
                    <a:pt x="247015" y="1183005"/>
                  </a:cubicBezTo>
                  <a:cubicBezTo>
                    <a:pt x="139700" y="1248410"/>
                    <a:pt x="74930" y="1271905"/>
                    <a:pt x="37465" y="1285875"/>
                  </a:cubicBezTo>
                  <a:cubicBezTo>
                    <a:pt x="0" y="1299845"/>
                    <a:pt x="15240" y="1280160"/>
                    <a:pt x="22225" y="1266825"/>
                  </a:cubicBezTo>
                  <a:cubicBezTo>
                    <a:pt x="29210" y="1253490"/>
                    <a:pt x="58420" y="1227455"/>
                    <a:pt x="106045" y="11906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椭圆 63"/>
            <p:cNvSpPr/>
            <p:nvPr/>
          </p:nvSpPr>
          <p:spPr>
            <a:xfrm>
              <a:off x="3651480" y="4491000"/>
              <a:ext cx="71280" cy="7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椭圆 64"/>
            <p:cNvSpPr/>
            <p:nvPr/>
          </p:nvSpPr>
          <p:spPr>
            <a:xfrm>
              <a:off x="3652920" y="4657680"/>
              <a:ext cx="712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0" name="TextBox 67"/>
          <p:cNvSpPr/>
          <p:nvPr/>
        </p:nvSpPr>
        <p:spPr>
          <a:xfrm>
            <a:off x="214200" y="71424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乐者，心之动也；声者，乐之象也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Box 68"/>
          <p:cNvSpPr/>
          <p:nvPr/>
        </p:nvSpPr>
        <p:spPr>
          <a:xfrm>
            <a:off x="214200" y="1214280"/>
            <a:ext cx="5214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与主题风格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致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音乐，更能营造良好的氛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  <p:timing>
    <p:tnLst>
      <p:par>
        <p:cTn id="1442" dur="indefinite" restart="never" nodeType="tmRoot">
          <p:childTnLst>
            <p:seq>
              <p:cTn id="1443" dur="indefinite" nodeType="mainSeq">
                <p:childTnLst>
                  <p:par>
                    <p:cTn id="1444" nodeType="clickEffect" fill="hold">
                      <p:stCondLst>
                        <p:cond delay="0"/>
                      </p:stCondLst>
                      <p:childTnLst>
                        <p:par>
                          <p:cTn id="1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8" dur="3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9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14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2" dur="3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4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6" dur="3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14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0" dur="3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4" dur="3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7" dur="3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0" dur="3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4" dur="3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7" dur="7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8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0" dur="3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4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4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5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14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8" dur="6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1" dur="3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4" dur="3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5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14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8" dur="8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1" dur="2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2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4" dur="6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5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150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8" dur="1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9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1" dur="2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2" dur="2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2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4" nodeType="with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6" dur="2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7" dur="2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2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9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1" dur="2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2" dur="2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2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4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6" dur="2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7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9" dur="2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153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3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4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153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7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椭圆 3"/>
          <p:cNvSpPr/>
          <p:nvPr/>
        </p:nvSpPr>
        <p:spPr>
          <a:xfrm>
            <a:off x="4927680" y="2438280"/>
            <a:ext cx="3909960" cy="39117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椭圆 2"/>
          <p:cNvSpPr/>
          <p:nvPr/>
        </p:nvSpPr>
        <p:spPr>
          <a:xfrm>
            <a:off x="4857840" y="2357280"/>
            <a:ext cx="4071960" cy="40719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椭圆 10"/>
          <p:cNvSpPr/>
          <p:nvPr/>
        </p:nvSpPr>
        <p:spPr>
          <a:xfrm>
            <a:off x="6119640" y="2595600"/>
            <a:ext cx="879480" cy="879480"/>
          </a:xfrm>
          <a:prstGeom prst="ellipse">
            <a:avLst/>
          </a:prstGeom>
          <a:solidFill>
            <a:srgbClr val="0079c5"/>
          </a:solidFill>
          <a:ln w="1260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椭圆 11"/>
          <p:cNvSpPr/>
          <p:nvPr/>
        </p:nvSpPr>
        <p:spPr>
          <a:xfrm>
            <a:off x="7448400" y="2949480"/>
            <a:ext cx="881280" cy="881280"/>
          </a:xfrm>
          <a:prstGeom prst="ellipse">
            <a:avLst/>
          </a:prstGeom>
          <a:solidFill>
            <a:srgbClr val="0079c5"/>
          </a:solidFill>
          <a:ln w="1260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椭圆 12"/>
          <p:cNvSpPr/>
          <p:nvPr/>
        </p:nvSpPr>
        <p:spPr>
          <a:xfrm>
            <a:off x="5132520" y="3575160"/>
            <a:ext cx="879480" cy="879480"/>
          </a:xfrm>
          <a:prstGeom prst="ellipse">
            <a:avLst/>
          </a:prstGeom>
          <a:solidFill>
            <a:srgbClr val="0079c5"/>
          </a:solidFill>
          <a:ln w="1260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椭圆 13"/>
          <p:cNvSpPr/>
          <p:nvPr/>
        </p:nvSpPr>
        <p:spPr>
          <a:xfrm>
            <a:off x="5502240" y="4917960"/>
            <a:ext cx="879480" cy="881280"/>
          </a:xfrm>
          <a:prstGeom prst="ellipse">
            <a:avLst/>
          </a:prstGeom>
          <a:solidFill>
            <a:srgbClr val="0079c5"/>
          </a:solidFill>
          <a:ln w="1260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椭圆 14"/>
          <p:cNvSpPr/>
          <p:nvPr/>
        </p:nvSpPr>
        <p:spPr>
          <a:xfrm>
            <a:off x="7813800" y="4292640"/>
            <a:ext cx="879480" cy="880920"/>
          </a:xfrm>
          <a:prstGeom prst="ellipse">
            <a:avLst/>
          </a:prstGeom>
          <a:solidFill>
            <a:srgbClr val="0079c5"/>
          </a:solidFill>
          <a:ln w="1260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任意多边形 18"/>
          <p:cNvSpPr/>
          <p:nvPr/>
        </p:nvSpPr>
        <p:spPr>
          <a:xfrm>
            <a:off x="6813720" y="5105520"/>
            <a:ext cx="909360" cy="1079280"/>
          </a:xfrm>
          <a:custGeom>
            <a:avLst/>
            <a:gdLst/>
            <a:ahLst/>
            <a:rect l="l" t="t" r="r" b="b"/>
            <a:pathLst>
              <a:path w="1007660" h="1196454">
                <a:moveTo>
                  <a:pt x="555010" y="1189630"/>
                </a:moveTo>
                <a:cubicBezTo>
                  <a:pt x="519753" y="1190767"/>
                  <a:pt x="465162" y="1196454"/>
                  <a:pt x="411708" y="1182806"/>
                </a:cubicBezTo>
                <a:cubicBezTo>
                  <a:pt x="358254" y="1169158"/>
                  <a:pt x="283191" y="1135039"/>
                  <a:pt x="234287" y="1107744"/>
                </a:cubicBezTo>
                <a:cubicBezTo>
                  <a:pt x="185383" y="1080449"/>
                  <a:pt x="150126" y="1054290"/>
                  <a:pt x="118281" y="1019033"/>
                </a:cubicBezTo>
                <a:cubicBezTo>
                  <a:pt x="86436" y="983776"/>
                  <a:pt x="62553" y="942833"/>
                  <a:pt x="43219" y="896203"/>
                </a:cubicBezTo>
                <a:cubicBezTo>
                  <a:pt x="23885" y="849573"/>
                  <a:pt x="4550" y="802943"/>
                  <a:pt x="2275" y="739254"/>
                </a:cubicBezTo>
                <a:cubicBezTo>
                  <a:pt x="0" y="675565"/>
                  <a:pt x="9099" y="607326"/>
                  <a:pt x="29571" y="514066"/>
                </a:cubicBezTo>
                <a:cubicBezTo>
                  <a:pt x="50043" y="420806"/>
                  <a:pt x="88711" y="259308"/>
                  <a:pt x="125105" y="179696"/>
                </a:cubicBezTo>
                <a:cubicBezTo>
                  <a:pt x="161499" y="100084"/>
                  <a:pt x="200168" y="65964"/>
                  <a:pt x="247935" y="36394"/>
                </a:cubicBezTo>
                <a:cubicBezTo>
                  <a:pt x="295702" y="6824"/>
                  <a:pt x="360529" y="0"/>
                  <a:pt x="411708" y="2275"/>
                </a:cubicBezTo>
                <a:cubicBezTo>
                  <a:pt x="462887" y="4550"/>
                  <a:pt x="504968" y="18197"/>
                  <a:pt x="555010" y="50042"/>
                </a:cubicBezTo>
                <a:cubicBezTo>
                  <a:pt x="605052" y="81887"/>
                  <a:pt x="656231" y="141027"/>
                  <a:pt x="711959" y="193344"/>
                </a:cubicBezTo>
                <a:cubicBezTo>
                  <a:pt x="767687" y="245661"/>
                  <a:pt x="843888" y="305938"/>
                  <a:pt x="889380" y="363941"/>
                </a:cubicBezTo>
                <a:cubicBezTo>
                  <a:pt x="934872" y="421944"/>
                  <a:pt x="966717" y="477673"/>
                  <a:pt x="984914" y="541362"/>
                </a:cubicBezTo>
                <a:cubicBezTo>
                  <a:pt x="1003111" y="605052"/>
                  <a:pt x="1007660" y="680114"/>
                  <a:pt x="998562" y="746078"/>
                </a:cubicBezTo>
                <a:cubicBezTo>
                  <a:pt x="989464" y="812042"/>
                  <a:pt x="965580" y="879144"/>
                  <a:pt x="930323" y="937147"/>
                </a:cubicBezTo>
                <a:cubicBezTo>
                  <a:pt x="895066" y="995150"/>
                  <a:pt x="838201" y="1054290"/>
                  <a:pt x="787022" y="1094096"/>
                </a:cubicBezTo>
                <a:cubicBezTo>
                  <a:pt x="735843" y="1133902"/>
                  <a:pt x="660780" y="1160060"/>
                  <a:pt x="623249" y="1175982"/>
                </a:cubicBezTo>
                <a:cubicBezTo>
                  <a:pt x="585718" y="1191904"/>
                  <a:pt x="590267" y="1188493"/>
                  <a:pt x="555010" y="1189630"/>
                </a:cubicBezTo>
                <a:close/>
              </a:path>
            </a:pathLst>
          </a:custGeom>
          <a:solidFill>
            <a:srgbClr val="0079c5"/>
          </a:solidFill>
          <a:ln w="6480">
            <a:solidFill>
              <a:srgbClr val="0079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椭圆 35"/>
          <p:cNvSpPr/>
          <p:nvPr/>
        </p:nvSpPr>
        <p:spPr>
          <a:xfrm>
            <a:off x="5691240" y="3151080"/>
            <a:ext cx="2446200" cy="24447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任意多边形 21"/>
          <p:cNvSpPr/>
          <p:nvPr/>
        </p:nvSpPr>
        <p:spPr>
          <a:xfrm>
            <a:off x="5119560" y="3030480"/>
            <a:ext cx="1208160" cy="1846440"/>
          </a:xfrm>
          <a:custGeom>
            <a:avLst/>
            <a:gdLst/>
            <a:ahLst/>
            <a:rect l="l" t="t" r="r" b="b"/>
            <a:pathLst>
              <a:path w="1208964" h="1844722">
                <a:moveTo>
                  <a:pt x="12511" y="1844722"/>
                </a:moveTo>
                <a:cubicBezTo>
                  <a:pt x="6255" y="1810034"/>
                  <a:pt x="0" y="1775346"/>
                  <a:pt x="12511" y="1749188"/>
                </a:cubicBezTo>
                <a:cubicBezTo>
                  <a:pt x="25022" y="1723030"/>
                  <a:pt x="28434" y="1713931"/>
                  <a:pt x="87574" y="1687773"/>
                </a:cubicBezTo>
                <a:cubicBezTo>
                  <a:pt x="146714" y="1661615"/>
                  <a:pt x="219502" y="1638868"/>
                  <a:pt x="367353" y="1592238"/>
                </a:cubicBezTo>
                <a:cubicBezTo>
                  <a:pt x="515204" y="1545608"/>
                  <a:pt x="974678" y="1407994"/>
                  <a:pt x="974678" y="1407994"/>
                </a:cubicBezTo>
                <a:lnTo>
                  <a:pt x="1083860" y="1373874"/>
                </a:lnTo>
                <a:cubicBezTo>
                  <a:pt x="1108881" y="1365913"/>
                  <a:pt x="1116843" y="1370462"/>
                  <a:pt x="1124804" y="1360226"/>
                </a:cubicBezTo>
                <a:cubicBezTo>
                  <a:pt x="1132765" y="1349990"/>
                  <a:pt x="1128216" y="1337480"/>
                  <a:pt x="1131628" y="1312459"/>
                </a:cubicBezTo>
                <a:cubicBezTo>
                  <a:pt x="1135040" y="1287438"/>
                  <a:pt x="1139589" y="1241946"/>
                  <a:pt x="1145275" y="1210101"/>
                </a:cubicBezTo>
                <a:cubicBezTo>
                  <a:pt x="1150961" y="1178256"/>
                  <a:pt x="1158923" y="1146412"/>
                  <a:pt x="1165747" y="1121391"/>
                </a:cubicBezTo>
                <a:cubicBezTo>
                  <a:pt x="1172571" y="1096370"/>
                  <a:pt x="1180533" y="1078173"/>
                  <a:pt x="1186219" y="1059976"/>
                </a:cubicBezTo>
                <a:cubicBezTo>
                  <a:pt x="1191905" y="1041779"/>
                  <a:pt x="1207827" y="1032681"/>
                  <a:pt x="1199866" y="1012209"/>
                </a:cubicBezTo>
                <a:cubicBezTo>
                  <a:pt x="1191905" y="991737"/>
                  <a:pt x="1208964" y="1016758"/>
                  <a:pt x="1138451" y="937146"/>
                </a:cubicBezTo>
                <a:cubicBezTo>
                  <a:pt x="1067938" y="857534"/>
                  <a:pt x="776786" y="534537"/>
                  <a:pt x="776786" y="534537"/>
                </a:cubicBezTo>
                <a:lnTo>
                  <a:pt x="551598" y="282053"/>
                </a:lnTo>
                <a:cubicBezTo>
                  <a:pt x="498144" y="220638"/>
                  <a:pt x="471985" y="202441"/>
                  <a:pt x="456063" y="166047"/>
                </a:cubicBezTo>
                <a:cubicBezTo>
                  <a:pt x="440141" y="129653"/>
                  <a:pt x="445827" y="89847"/>
                  <a:pt x="456063" y="63689"/>
                </a:cubicBezTo>
                <a:cubicBezTo>
                  <a:pt x="466299" y="37531"/>
                  <a:pt x="497006" y="18196"/>
                  <a:pt x="517478" y="9098"/>
                </a:cubicBezTo>
                <a:cubicBezTo>
                  <a:pt x="537950" y="0"/>
                  <a:pt x="558421" y="4549"/>
                  <a:pt x="578893" y="9098"/>
                </a:cubicBezTo>
              </a:path>
            </a:pathLst>
          </a:custGeom>
          <a:noFill/>
          <a:ln w="1908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2" name="组合 42"/>
          <p:cNvGrpSpPr/>
          <p:nvPr/>
        </p:nvGrpSpPr>
        <p:grpSpPr>
          <a:xfrm>
            <a:off x="5670720" y="2592360"/>
            <a:ext cx="1726920" cy="1214640"/>
            <a:chOff x="5670720" y="2592360"/>
            <a:chExt cx="1726920" cy="1214640"/>
          </a:xfrm>
        </p:grpSpPr>
        <p:sp>
          <p:nvSpPr>
            <p:cNvPr id="1013" name="任意多边形 23"/>
            <p:cNvSpPr/>
            <p:nvPr/>
          </p:nvSpPr>
          <p:spPr>
            <a:xfrm>
              <a:off x="5670720" y="3040200"/>
              <a:ext cx="976320" cy="766800"/>
            </a:xfrm>
            <a:custGeom>
              <a:avLst/>
              <a:gdLst/>
              <a:ahLst/>
              <a:rect l="l" t="t" r="r" b="b"/>
              <a:pathLst>
                <a:path w="975815" h="766550">
                  <a:moveTo>
                    <a:pt x="0" y="0"/>
                  </a:moveTo>
                  <a:lnTo>
                    <a:pt x="68238" y="13648"/>
                  </a:lnTo>
                  <a:cubicBezTo>
                    <a:pt x="102357" y="34120"/>
                    <a:pt x="83023" y="14785"/>
                    <a:pt x="204716" y="122830"/>
                  </a:cubicBezTo>
                  <a:cubicBezTo>
                    <a:pt x="326409" y="230875"/>
                    <a:pt x="682388" y="557284"/>
                    <a:pt x="798394" y="661917"/>
                  </a:cubicBezTo>
                  <a:cubicBezTo>
                    <a:pt x="914400" y="766550"/>
                    <a:pt x="871182" y="739254"/>
                    <a:pt x="900752" y="750627"/>
                  </a:cubicBezTo>
                  <a:cubicBezTo>
                    <a:pt x="930322" y="762000"/>
                    <a:pt x="953068" y="746077"/>
                    <a:pt x="975815" y="730155"/>
                  </a:cubicBezTo>
                </a:path>
              </a:pathLst>
            </a:custGeom>
            <a:noFill/>
            <a:ln w="19080">
              <a:solidFill>
                <a:srgbClr val="4a7eb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任意多边形 24"/>
            <p:cNvSpPr/>
            <p:nvPr/>
          </p:nvSpPr>
          <p:spPr>
            <a:xfrm>
              <a:off x="6640560" y="2592360"/>
              <a:ext cx="757080" cy="1178280"/>
            </a:xfrm>
            <a:custGeom>
              <a:avLst/>
              <a:gdLst/>
              <a:ahLst/>
              <a:rect l="l" t="t" r="r" b="b"/>
              <a:pathLst>
                <a:path w="757450" h="1178256">
                  <a:moveTo>
                    <a:pt x="0" y="1178256"/>
                  </a:moveTo>
                  <a:cubicBezTo>
                    <a:pt x="35825" y="1165177"/>
                    <a:pt x="71651" y="1152098"/>
                    <a:pt x="109182" y="1144137"/>
                  </a:cubicBezTo>
                  <a:cubicBezTo>
                    <a:pt x="146713" y="1136176"/>
                    <a:pt x="196755" y="1137313"/>
                    <a:pt x="225188" y="1130489"/>
                  </a:cubicBezTo>
                  <a:cubicBezTo>
                    <a:pt x="253621" y="1123665"/>
                    <a:pt x="264994" y="1127077"/>
                    <a:pt x="279779" y="1103194"/>
                  </a:cubicBezTo>
                  <a:cubicBezTo>
                    <a:pt x="294564" y="1079311"/>
                    <a:pt x="266131" y="1137313"/>
                    <a:pt x="313898" y="987188"/>
                  </a:cubicBezTo>
                  <a:cubicBezTo>
                    <a:pt x="361665" y="837063"/>
                    <a:pt x="516340" y="354841"/>
                    <a:pt x="566382" y="202441"/>
                  </a:cubicBezTo>
                  <a:cubicBezTo>
                    <a:pt x="616424" y="50041"/>
                    <a:pt x="599364" y="104633"/>
                    <a:pt x="614149" y="72788"/>
                  </a:cubicBezTo>
                  <a:cubicBezTo>
                    <a:pt x="628934" y="40943"/>
                    <a:pt x="631209" y="22746"/>
                    <a:pt x="655092" y="11373"/>
                  </a:cubicBezTo>
                  <a:cubicBezTo>
                    <a:pt x="678975" y="0"/>
                    <a:pt x="718212" y="2274"/>
                    <a:pt x="757450" y="4549"/>
                  </a:cubicBezTo>
                </a:path>
              </a:pathLst>
            </a:custGeom>
            <a:noFill/>
            <a:ln w="19080">
              <a:solidFill>
                <a:srgbClr val="4a7eb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5" name="任意多边形 26"/>
          <p:cNvSpPr/>
          <p:nvPr/>
        </p:nvSpPr>
        <p:spPr>
          <a:xfrm>
            <a:off x="7250040" y="2590920"/>
            <a:ext cx="317520" cy="1442880"/>
          </a:xfrm>
          <a:custGeom>
            <a:avLst/>
            <a:gdLst/>
            <a:ahLst/>
            <a:rect l="l" t="t" r="r" b="b"/>
            <a:pathLst>
              <a:path w="318447" h="1444388">
                <a:moveTo>
                  <a:pt x="113731" y="0"/>
                </a:moveTo>
                <a:cubicBezTo>
                  <a:pt x="139320" y="6255"/>
                  <a:pt x="164910" y="12511"/>
                  <a:pt x="181970" y="27296"/>
                </a:cubicBezTo>
                <a:cubicBezTo>
                  <a:pt x="199030" y="42081"/>
                  <a:pt x="212677" y="59140"/>
                  <a:pt x="216089" y="88710"/>
                </a:cubicBezTo>
                <a:cubicBezTo>
                  <a:pt x="219501" y="118280"/>
                  <a:pt x="228600" y="71650"/>
                  <a:pt x="202442" y="204716"/>
                </a:cubicBezTo>
                <a:cubicBezTo>
                  <a:pt x="176284" y="337782"/>
                  <a:pt x="89847" y="738116"/>
                  <a:pt x="59140" y="887104"/>
                </a:cubicBezTo>
                <a:cubicBezTo>
                  <a:pt x="28433" y="1036092"/>
                  <a:pt x="27296" y="1049740"/>
                  <a:pt x="18197" y="1098645"/>
                </a:cubicBezTo>
                <a:cubicBezTo>
                  <a:pt x="9098" y="1147550"/>
                  <a:pt x="0" y="1162334"/>
                  <a:pt x="4549" y="1180531"/>
                </a:cubicBezTo>
                <a:cubicBezTo>
                  <a:pt x="9098" y="1198728"/>
                  <a:pt x="22746" y="1190767"/>
                  <a:pt x="45492" y="1207827"/>
                </a:cubicBezTo>
                <a:cubicBezTo>
                  <a:pt x="68238" y="1224887"/>
                  <a:pt x="114869" y="1260144"/>
                  <a:pt x="141027" y="1282890"/>
                </a:cubicBezTo>
                <a:cubicBezTo>
                  <a:pt x="167185" y="1305636"/>
                  <a:pt x="185382" y="1323833"/>
                  <a:pt x="202442" y="1344304"/>
                </a:cubicBezTo>
                <a:cubicBezTo>
                  <a:pt x="219502" y="1364775"/>
                  <a:pt x="232012" y="1389797"/>
                  <a:pt x="243385" y="1405719"/>
                </a:cubicBezTo>
                <a:cubicBezTo>
                  <a:pt x="254758" y="1421641"/>
                  <a:pt x="258170" y="1435290"/>
                  <a:pt x="270680" y="1439839"/>
                </a:cubicBezTo>
                <a:cubicBezTo>
                  <a:pt x="283190" y="1444388"/>
                  <a:pt x="300818" y="1438701"/>
                  <a:pt x="318447" y="1433015"/>
                </a:cubicBezTo>
              </a:path>
            </a:pathLst>
          </a:custGeom>
          <a:noFill/>
          <a:ln w="1908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任意多边形 27"/>
          <p:cNvSpPr/>
          <p:nvPr/>
        </p:nvSpPr>
        <p:spPr>
          <a:xfrm>
            <a:off x="7547040" y="3833640"/>
            <a:ext cx="1146240" cy="195480"/>
          </a:xfrm>
          <a:custGeom>
            <a:avLst/>
            <a:gdLst/>
            <a:ahLst/>
            <a:rect l="l" t="t" r="r" b="b"/>
            <a:pathLst>
              <a:path w="1146412" h="195618">
                <a:moveTo>
                  <a:pt x="0" y="195618"/>
                </a:moveTo>
                <a:lnTo>
                  <a:pt x="634621" y="79612"/>
                </a:lnTo>
                <a:cubicBezTo>
                  <a:pt x="793845" y="48905"/>
                  <a:pt x="880280" y="22746"/>
                  <a:pt x="955343" y="11373"/>
                </a:cubicBezTo>
                <a:cubicBezTo>
                  <a:pt x="1030406" y="0"/>
                  <a:pt x="1053152" y="1137"/>
                  <a:pt x="1084997" y="11373"/>
                </a:cubicBezTo>
                <a:cubicBezTo>
                  <a:pt x="1116842" y="21609"/>
                  <a:pt x="1136176" y="61415"/>
                  <a:pt x="1146412" y="72788"/>
                </a:cubicBezTo>
              </a:path>
            </a:pathLst>
          </a:custGeom>
          <a:noFill/>
          <a:ln w="1908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任意多边形 29"/>
          <p:cNvSpPr/>
          <p:nvPr/>
        </p:nvSpPr>
        <p:spPr>
          <a:xfrm>
            <a:off x="7502400" y="3906720"/>
            <a:ext cx="1200240" cy="1808280"/>
          </a:xfrm>
          <a:custGeom>
            <a:avLst/>
            <a:gdLst/>
            <a:ahLst/>
            <a:rect l="l" t="t" r="r" b="b"/>
            <a:pathLst>
              <a:path w="1198728" h="1808328">
                <a:moveTo>
                  <a:pt x="1190767" y="0"/>
                </a:moveTo>
                <a:cubicBezTo>
                  <a:pt x="1194747" y="19903"/>
                  <a:pt x="1198728" y="39806"/>
                  <a:pt x="1190767" y="61415"/>
                </a:cubicBezTo>
                <a:cubicBezTo>
                  <a:pt x="1182806" y="83024"/>
                  <a:pt x="1179394" y="108045"/>
                  <a:pt x="1143000" y="129654"/>
                </a:cubicBezTo>
                <a:cubicBezTo>
                  <a:pt x="1106606" y="151263"/>
                  <a:pt x="972403" y="191069"/>
                  <a:pt x="972403" y="191069"/>
                </a:cubicBezTo>
                <a:lnTo>
                  <a:pt x="214952" y="436728"/>
                </a:lnTo>
                <a:cubicBezTo>
                  <a:pt x="69376" y="483358"/>
                  <a:pt x="121692" y="451514"/>
                  <a:pt x="98946" y="470848"/>
                </a:cubicBezTo>
                <a:cubicBezTo>
                  <a:pt x="76200" y="490182"/>
                  <a:pt x="84161" y="525439"/>
                  <a:pt x="78474" y="552734"/>
                </a:cubicBezTo>
                <a:cubicBezTo>
                  <a:pt x="72787" y="580030"/>
                  <a:pt x="75062" y="599364"/>
                  <a:pt x="64826" y="634621"/>
                </a:cubicBezTo>
                <a:cubicBezTo>
                  <a:pt x="54590" y="669878"/>
                  <a:pt x="22745" y="727881"/>
                  <a:pt x="17059" y="764275"/>
                </a:cubicBezTo>
                <a:cubicBezTo>
                  <a:pt x="11373" y="800669"/>
                  <a:pt x="0" y="805218"/>
                  <a:pt x="30707" y="852985"/>
                </a:cubicBezTo>
                <a:cubicBezTo>
                  <a:pt x="61414" y="900752"/>
                  <a:pt x="201304" y="1050878"/>
                  <a:pt x="201304" y="1050878"/>
                </a:cubicBezTo>
                <a:cubicBezTo>
                  <a:pt x="309349" y="1175982"/>
                  <a:pt x="586854" y="1492155"/>
                  <a:pt x="678976" y="1603612"/>
                </a:cubicBezTo>
                <a:cubicBezTo>
                  <a:pt x="771098" y="1715069"/>
                  <a:pt x="747214" y="1685499"/>
                  <a:pt x="754038" y="1719618"/>
                </a:cubicBezTo>
                <a:cubicBezTo>
                  <a:pt x="760862" y="1753737"/>
                  <a:pt x="740390" y="1781032"/>
                  <a:pt x="719919" y="1808328"/>
                </a:cubicBezTo>
              </a:path>
            </a:pathLst>
          </a:custGeom>
          <a:noFill/>
          <a:ln w="1908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任意多边形 30"/>
          <p:cNvSpPr/>
          <p:nvPr/>
        </p:nvSpPr>
        <p:spPr>
          <a:xfrm>
            <a:off x="5132520" y="4719600"/>
            <a:ext cx="1441440" cy="1474920"/>
          </a:xfrm>
          <a:custGeom>
            <a:avLst/>
            <a:gdLst/>
            <a:ahLst/>
            <a:rect l="l" t="t" r="r" b="b"/>
            <a:pathLst>
              <a:path w="1442113" h="1475095">
                <a:moveTo>
                  <a:pt x="0" y="156949"/>
                </a:moveTo>
                <a:cubicBezTo>
                  <a:pt x="10804" y="185382"/>
                  <a:pt x="21609" y="213815"/>
                  <a:pt x="68239" y="218364"/>
                </a:cubicBezTo>
                <a:cubicBezTo>
                  <a:pt x="114869" y="222913"/>
                  <a:pt x="279779" y="184245"/>
                  <a:pt x="279779" y="184245"/>
                </a:cubicBezTo>
                <a:lnTo>
                  <a:pt x="996287" y="40943"/>
                </a:lnTo>
                <a:cubicBezTo>
                  <a:pt x="1141863" y="10236"/>
                  <a:pt x="1117979" y="0"/>
                  <a:pt x="1153236" y="0"/>
                </a:cubicBezTo>
                <a:cubicBezTo>
                  <a:pt x="1188493" y="0"/>
                  <a:pt x="1193042" y="25021"/>
                  <a:pt x="1207827" y="40943"/>
                </a:cubicBezTo>
                <a:cubicBezTo>
                  <a:pt x="1222612" y="56865"/>
                  <a:pt x="1222612" y="71650"/>
                  <a:pt x="1241946" y="95534"/>
                </a:cubicBezTo>
                <a:cubicBezTo>
                  <a:pt x="1261280" y="119418"/>
                  <a:pt x="1293125" y="159224"/>
                  <a:pt x="1323833" y="184245"/>
                </a:cubicBezTo>
                <a:cubicBezTo>
                  <a:pt x="1354541" y="209266"/>
                  <a:pt x="1410269" y="219501"/>
                  <a:pt x="1426191" y="245659"/>
                </a:cubicBezTo>
                <a:cubicBezTo>
                  <a:pt x="1442113" y="271817"/>
                  <a:pt x="1427328" y="286603"/>
                  <a:pt x="1419367" y="341194"/>
                </a:cubicBezTo>
                <a:cubicBezTo>
                  <a:pt x="1411406" y="395785"/>
                  <a:pt x="1402308" y="448102"/>
                  <a:pt x="1378424" y="573206"/>
                </a:cubicBezTo>
                <a:cubicBezTo>
                  <a:pt x="1354541" y="698311"/>
                  <a:pt x="1299950" y="966717"/>
                  <a:pt x="1276066" y="1091821"/>
                </a:cubicBezTo>
                <a:cubicBezTo>
                  <a:pt x="1252183" y="1216926"/>
                  <a:pt x="1239672" y="1270379"/>
                  <a:pt x="1235123" y="1323833"/>
                </a:cubicBezTo>
                <a:cubicBezTo>
                  <a:pt x="1230574" y="1377287"/>
                  <a:pt x="1238534" y="1388660"/>
                  <a:pt x="1248770" y="1412543"/>
                </a:cubicBezTo>
                <a:cubicBezTo>
                  <a:pt x="1259006" y="1436426"/>
                  <a:pt x="1285164" y="1459173"/>
                  <a:pt x="1296537" y="1467134"/>
                </a:cubicBezTo>
                <a:cubicBezTo>
                  <a:pt x="1307910" y="1475095"/>
                  <a:pt x="1312459" y="1467702"/>
                  <a:pt x="1317009" y="1460310"/>
                </a:cubicBezTo>
              </a:path>
            </a:pathLst>
          </a:custGeom>
          <a:noFill/>
          <a:ln w="1908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9" name="组合 51"/>
          <p:cNvGrpSpPr/>
          <p:nvPr/>
        </p:nvGrpSpPr>
        <p:grpSpPr>
          <a:xfrm>
            <a:off x="6435720" y="4976640"/>
            <a:ext cx="1808280" cy="1213200"/>
            <a:chOff x="6435720" y="4976640"/>
            <a:chExt cx="1808280" cy="1213200"/>
          </a:xfrm>
        </p:grpSpPr>
        <p:sp>
          <p:nvSpPr>
            <p:cNvPr id="1020" name="任意多边形 31"/>
            <p:cNvSpPr/>
            <p:nvPr/>
          </p:nvSpPr>
          <p:spPr>
            <a:xfrm>
              <a:off x="6435720" y="4976640"/>
              <a:ext cx="879480" cy="1213200"/>
            </a:xfrm>
            <a:custGeom>
              <a:avLst/>
              <a:gdLst/>
              <a:ahLst/>
              <a:rect l="l" t="t" r="r" b="b"/>
              <a:pathLst>
                <a:path w="880281" h="1213513">
                  <a:moveTo>
                    <a:pt x="0" y="1210101"/>
                  </a:moveTo>
                  <a:cubicBezTo>
                    <a:pt x="28433" y="1211807"/>
                    <a:pt x="56866" y="1213513"/>
                    <a:pt x="81887" y="1196453"/>
                  </a:cubicBezTo>
                  <a:cubicBezTo>
                    <a:pt x="106908" y="1179393"/>
                    <a:pt x="109183" y="1212376"/>
                    <a:pt x="150126" y="1107743"/>
                  </a:cubicBezTo>
                  <a:cubicBezTo>
                    <a:pt x="191069" y="1003110"/>
                    <a:pt x="282055" y="707408"/>
                    <a:pt x="327547" y="568656"/>
                  </a:cubicBezTo>
                  <a:cubicBezTo>
                    <a:pt x="373040" y="429904"/>
                    <a:pt x="398060" y="349154"/>
                    <a:pt x="423081" y="275229"/>
                  </a:cubicBezTo>
                  <a:cubicBezTo>
                    <a:pt x="448102" y="201304"/>
                    <a:pt x="453789" y="158086"/>
                    <a:pt x="477672" y="125104"/>
                  </a:cubicBezTo>
                  <a:cubicBezTo>
                    <a:pt x="501555" y="92122"/>
                    <a:pt x="528851" y="89848"/>
                    <a:pt x="566382" y="77337"/>
                  </a:cubicBezTo>
                  <a:cubicBezTo>
                    <a:pt x="603913" y="64827"/>
                    <a:pt x="661917" y="62551"/>
                    <a:pt x="702860" y="50041"/>
                  </a:cubicBezTo>
                  <a:cubicBezTo>
                    <a:pt x="743803" y="37531"/>
                    <a:pt x="782472" y="4548"/>
                    <a:pt x="812042" y="2274"/>
                  </a:cubicBezTo>
                  <a:cubicBezTo>
                    <a:pt x="841612" y="0"/>
                    <a:pt x="860946" y="18197"/>
                    <a:pt x="880281" y="36394"/>
                  </a:cubicBezTo>
                </a:path>
              </a:pathLst>
            </a:custGeom>
            <a:noFill/>
            <a:ln w="19080">
              <a:solidFill>
                <a:srgbClr val="4a7eb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任意多边形 34"/>
            <p:cNvSpPr/>
            <p:nvPr/>
          </p:nvSpPr>
          <p:spPr>
            <a:xfrm>
              <a:off x="7296120" y="4989240"/>
              <a:ext cx="947880" cy="773280"/>
            </a:xfrm>
            <a:custGeom>
              <a:avLst/>
              <a:gdLst/>
              <a:ahLst/>
              <a:rect l="l" t="t" r="r" b="b"/>
              <a:pathLst>
                <a:path w="948519" h="773372">
                  <a:moveTo>
                    <a:pt x="0" y="0"/>
                  </a:moveTo>
                  <a:cubicBezTo>
                    <a:pt x="279210" y="268406"/>
                    <a:pt x="558421" y="536812"/>
                    <a:pt x="716507" y="655092"/>
                  </a:cubicBezTo>
                  <a:cubicBezTo>
                    <a:pt x="874593" y="773372"/>
                    <a:pt x="948519" y="709683"/>
                    <a:pt x="948519" y="709683"/>
                  </a:cubicBezTo>
                </a:path>
              </a:pathLst>
            </a:custGeom>
            <a:noFill/>
            <a:ln w="19080">
              <a:solidFill>
                <a:srgbClr val="4a7eb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2" name="椭圆 4"/>
          <p:cNvSpPr/>
          <p:nvPr/>
        </p:nvSpPr>
        <p:spPr>
          <a:xfrm>
            <a:off x="6072120" y="2548080"/>
            <a:ext cx="974880" cy="974520"/>
          </a:xfrm>
          <a:prstGeom prst="ellipse">
            <a:avLst/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椭圆 5"/>
          <p:cNvSpPr/>
          <p:nvPr/>
        </p:nvSpPr>
        <p:spPr>
          <a:xfrm>
            <a:off x="7407360" y="2906640"/>
            <a:ext cx="974520" cy="974880"/>
          </a:xfrm>
          <a:prstGeom prst="ellipse">
            <a:avLst/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椭圆 8"/>
          <p:cNvSpPr/>
          <p:nvPr/>
        </p:nvSpPr>
        <p:spPr>
          <a:xfrm>
            <a:off x="7764480" y="4251240"/>
            <a:ext cx="974880" cy="974880"/>
          </a:xfrm>
          <a:prstGeom prst="ellipse">
            <a:avLst/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任意多边形 17"/>
          <p:cNvSpPr/>
          <p:nvPr/>
        </p:nvSpPr>
        <p:spPr>
          <a:xfrm>
            <a:off x="6767640" y="5045040"/>
            <a:ext cx="1008000" cy="1195560"/>
          </a:xfrm>
          <a:custGeom>
            <a:avLst/>
            <a:gdLst/>
            <a:ahLst/>
            <a:rect l="l" t="t" r="r" b="b"/>
            <a:pathLst>
              <a:path w="1007660" h="1196454">
                <a:moveTo>
                  <a:pt x="555010" y="1189630"/>
                </a:moveTo>
                <a:cubicBezTo>
                  <a:pt x="519753" y="1190767"/>
                  <a:pt x="465162" y="1196454"/>
                  <a:pt x="411708" y="1182806"/>
                </a:cubicBezTo>
                <a:cubicBezTo>
                  <a:pt x="358254" y="1169158"/>
                  <a:pt x="283191" y="1135039"/>
                  <a:pt x="234287" y="1107744"/>
                </a:cubicBezTo>
                <a:cubicBezTo>
                  <a:pt x="185383" y="1080449"/>
                  <a:pt x="150126" y="1054290"/>
                  <a:pt x="118281" y="1019033"/>
                </a:cubicBezTo>
                <a:cubicBezTo>
                  <a:pt x="86436" y="983776"/>
                  <a:pt x="62553" y="942833"/>
                  <a:pt x="43219" y="896203"/>
                </a:cubicBezTo>
                <a:cubicBezTo>
                  <a:pt x="23885" y="849573"/>
                  <a:pt x="4550" y="802943"/>
                  <a:pt x="2275" y="739254"/>
                </a:cubicBezTo>
                <a:cubicBezTo>
                  <a:pt x="0" y="675565"/>
                  <a:pt x="9099" y="607326"/>
                  <a:pt x="29571" y="514066"/>
                </a:cubicBezTo>
                <a:cubicBezTo>
                  <a:pt x="50043" y="420806"/>
                  <a:pt x="88711" y="259308"/>
                  <a:pt x="125105" y="179696"/>
                </a:cubicBezTo>
                <a:cubicBezTo>
                  <a:pt x="161499" y="100084"/>
                  <a:pt x="200168" y="65964"/>
                  <a:pt x="247935" y="36394"/>
                </a:cubicBezTo>
                <a:cubicBezTo>
                  <a:pt x="295702" y="6824"/>
                  <a:pt x="360529" y="0"/>
                  <a:pt x="411708" y="2275"/>
                </a:cubicBezTo>
                <a:cubicBezTo>
                  <a:pt x="462887" y="4550"/>
                  <a:pt x="504968" y="18197"/>
                  <a:pt x="555010" y="50042"/>
                </a:cubicBezTo>
                <a:cubicBezTo>
                  <a:pt x="605052" y="81887"/>
                  <a:pt x="656231" y="141027"/>
                  <a:pt x="711959" y="193344"/>
                </a:cubicBezTo>
                <a:cubicBezTo>
                  <a:pt x="767687" y="245661"/>
                  <a:pt x="843888" y="305938"/>
                  <a:pt x="889380" y="363941"/>
                </a:cubicBezTo>
                <a:cubicBezTo>
                  <a:pt x="934872" y="421944"/>
                  <a:pt x="966717" y="477673"/>
                  <a:pt x="984914" y="541362"/>
                </a:cubicBezTo>
                <a:cubicBezTo>
                  <a:pt x="1003111" y="605052"/>
                  <a:pt x="1007660" y="680114"/>
                  <a:pt x="998562" y="746078"/>
                </a:cubicBezTo>
                <a:cubicBezTo>
                  <a:pt x="989464" y="812042"/>
                  <a:pt x="965580" y="879144"/>
                  <a:pt x="930323" y="937147"/>
                </a:cubicBezTo>
                <a:cubicBezTo>
                  <a:pt x="895066" y="995150"/>
                  <a:pt x="838201" y="1054290"/>
                  <a:pt x="787022" y="1094096"/>
                </a:cubicBezTo>
                <a:cubicBezTo>
                  <a:pt x="735843" y="1133902"/>
                  <a:pt x="660780" y="1160060"/>
                  <a:pt x="623249" y="1175982"/>
                </a:cubicBezTo>
                <a:cubicBezTo>
                  <a:pt x="585718" y="1191904"/>
                  <a:pt x="590267" y="1188493"/>
                  <a:pt x="555010" y="1189630"/>
                </a:cubicBezTo>
                <a:close/>
              </a:path>
            </a:pathLst>
          </a:custGeom>
          <a:noFill/>
          <a:ln w="25560">
            <a:solidFill>
              <a:srgbClr val="0079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椭圆 36"/>
          <p:cNvSpPr/>
          <p:nvPr/>
        </p:nvSpPr>
        <p:spPr>
          <a:xfrm>
            <a:off x="5137200" y="3578400"/>
            <a:ext cx="880920" cy="880920"/>
          </a:xfrm>
          <a:prstGeom prst="ellipse">
            <a:avLst/>
          </a:prstGeom>
          <a:noFill/>
          <a:ln w="190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椭圆 6"/>
          <p:cNvSpPr/>
          <p:nvPr/>
        </p:nvSpPr>
        <p:spPr>
          <a:xfrm>
            <a:off x="5083200" y="3525840"/>
            <a:ext cx="976320" cy="974880"/>
          </a:xfrm>
          <a:prstGeom prst="ellipse">
            <a:avLst/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椭圆 37"/>
          <p:cNvSpPr/>
          <p:nvPr/>
        </p:nvSpPr>
        <p:spPr>
          <a:xfrm>
            <a:off x="6127920" y="2603520"/>
            <a:ext cx="879480" cy="879480"/>
          </a:xfrm>
          <a:prstGeom prst="ellipse">
            <a:avLst/>
          </a:prstGeom>
          <a:noFill/>
          <a:ln w="190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椭圆 38"/>
          <p:cNvSpPr/>
          <p:nvPr/>
        </p:nvSpPr>
        <p:spPr>
          <a:xfrm>
            <a:off x="7459560" y="2955960"/>
            <a:ext cx="881280" cy="880920"/>
          </a:xfrm>
          <a:prstGeom prst="ellipse">
            <a:avLst/>
          </a:prstGeom>
          <a:noFill/>
          <a:ln w="190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椭圆 39"/>
          <p:cNvSpPr/>
          <p:nvPr/>
        </p:nvSpPr>
        <p:spPr>
          <a:xfrm>
            <a:off x="7815240" y="4303800"/>
            <a:ext cx="879480" cy="879480"/>
          </a:xfrm>
          <a:prstGeom prst="ellipse">
            <a:avLst/>
          </a:prstGeom>
          <a:noFill/>
          <a:ln w="190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椭圆 40"/>
          <p:cNvSpPr/>
          <p:nvPr/>
        </p:nvSpPr>
        <p:spPr>
          <a:xfrm>
            <a:off x="5504040" y="4916520"/>
            <a:ext cx="879120" cy="880920"/>
          </a:xfrm>
          <a:prstGeom prst="ellipse">
            <a:avLst/>
          </a:prstGeom>
          <a:noFill/>
          <a:ln w="190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椭圆 7"/>
          <p:cNvSpPr/>
          <p:nvPr/>
        </p:nvSpPr>
        <p:spPr>
          <a:xfrm>
            <a:off x="5452920" y="4870440"/>
            <a:ext cx="974880" cy="974880"/>
          </a:xfrm>
          <a:prstGeom prst="ellipse">
            <a:avLst/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任意多边形 41"/>
          <p:cNvSpPr/>
          <p:nvPr/>
        </p:nvSpPr>
        <p:spPr>
          <a:xfrm>
            <a:off x="6816600" y="5110200"/>
            <a:ext cx="909720" cy="1079640"/>
          </a:xfrm>
          <a:custGeom>
            <a:avLst/>
            <a:gdLst/>
            <a:ahLst/>
            <a:rect l="l" t="t" r="r" b="b"/>
            <a:pathLst>
              <a:path w="1007660" h="1196454">
                <a:moveTo>
                  <a:pt x="555010" y="1189630"/>
                </a:moveTo>
                <a:cubicBezTo>
                  <a:pt x="519753" y="1190767"/>
                  <a:pt x="465162" y="1196454"/>
                  <a:pt x="411708" y="1182806"/>
                </a:cubicBezTo>
                <a:cubicBezTo>
                  <a:pt x="358254" y="1169158"/>
                  <a:pt x="283191" y="1135039"/>
                  <a:pt x="234287" y="1107744"/>
                </a:cubicBezTo>
                <a:cubicBezTo>
                  <a:pt x="185383" y="1080449"/>
                  <a:pt x="150126" y="1054290"/>
                  <a:pt x="118281" y="1019033"/>
                </a:cubicBezTo>
                <a:cubicBezTo>
                  <a:pt x="86436" y="983776"/>
                  <a:pt x="62553" y="942833"/>
                  <a:pt x="43219" y="896203"/>
                </a:cubicBezTo>
                <a:cubicBezTo>
                  <a:pt x="23885" y="849573"/>
                  <a:pt x="4550" y="802943"/>
                  <a:pt x="2275" y="739254"/>
                </a:cubicBezTo>
                <a:cubicBezTo>
                  <a:pt x="0" y="675565"/>
                  <a:pt x="9099" y="607326"/>
                  <a:pt x="29571" y="514066"/>
                </a:cubicBezTo>
                <a:cubicBezTo>
                  <a:pt x="50043" y="420806"/>
                  <a:pt x="88711" y="259308"/>
                  <a:pt x="125105" y="179696"/>
                </a:cubicBezTo>
                <a:cubicBezTo>
                  <a:pt x="161499" y="100084"/>
                  <a:pt x="200168" y="65964"/>
                  <a:pt x="247935" y="36394"/>
                </a:cubicBezTo>
                <a:cubicBezTo>
                  <a:pt x="295702" y="6824"/>
                  <a:pt x="360529" y="0"/>
                  <a:pt x="411708" y="2275"/>
                </a:cubicBezTo>
                <a:cubicBezTo>
                  <a:pt x="462887" y="4550"/>
                  <a:pt x="504968" y="18197"/>
                  <a:pt x="555010" y="50042"/>
                </a:cubicBezTo>
                <a:cubicBezTo>
                  <a:pt x="605052" y="81887"/>
                  <a:pt x="656231" y="141027"/>
                  <a:pt x="711959" y="193344"/>
                </a:cubicBezTo>
                <a:cubicBezTo>
                  <a:pt x="767687" y="245661"/>
                  <a:pt x="843888" y="305938"/>
                  <a:pt x="889380" y="363941"/>
                </a:cubicBezTo>
                <a:cubicBezTo>
                  <a:pt x="934872" y="421944"/>
                  <a:pt x="966717" y="477673"/>
                  <a:pt x="984914" y="541362"/>
                </a:cubicBezTo>
                <a:cubicBezTo>
                  <a:pt x="1003111" y="605052"/>
                  <a:pt x="1007660" y="680114"/>
                  <a:pt x="998562" y="746078"/>
                </a:cubicBezTo>
                <a:cubicBezTo>
                  <a:pt x="989464" y="812042"/>
                  <a:pt x="965580" y="879144"/>
                  <a:pt x="930323" y="937147"/>
                </a:cubicBezTo>
                <a:cubicBezTo>
                  <a:pt x="895066" y="995150"/>
                  <a:pt x="838201" y="1054290"/>
                  <a:pt x="787022" y="1094096"/>
                </a:cubicBezTo>
                <a:cubicBezTo>
                  <a:pt x="735843" y="1133902"/>
                  <a:pt x="660780" y="1160060"/>
                  <a:pt x="623249" y="1175982"/>
                </a:cubicBezTo>
                <a:cubicBezTo>
                  <a:pt x="585718" y="1191904"/>
                  <a:pt x="590267" y="1188493"/>
                  <a:pt x="555010" y="1189630"/>
                </a:cubicBezTo>
                <a:close/>
              </a:path>
            </a:pathLst>
          </a:custGeom>
          <a:noFill/>
          <a:ln w="19080">
            <a:solidFill>
              <a:srgbClr val="0079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椭圆 43"/>
          <p:cNvSpPr/>
          <p:nvPr/>
        </p:nvSpPr>
        <p:spPr>
          <a:xfrm>
            <a:off x="6357960" y="3813120"/>
            <a:ext cx="1143000" cy="1143000"/>
          </a:xfrm>
          <a:prstGeom prst="ellipse">
            <a:avLst/>
          </a:prstGeom>
          <a:solidFill>
            <a:srgbClr val="0079c5"/>
          </a:solidFill>
          <a:ln w="2844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椭圆 44"/>
          <p:cNvSpPr/>
          <p:nvPr/>
        </p:nvSpPr>
        <p:spPr>
          <a:xfrm>
            <a:off x="6566040" y="4021200"/>
            <a:ext cx="214200" cy="214200"/>
          </a:xfrm>
          <a:prstGeom prst="ellips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椭圆 45"/>
          <p:cNvSpPr/>
          <p:nvPr/>
        </p:nvSpPr>
        <p:spPr>
          <a:xfrm>
            <a:off x="6908760" y="3932280"/>
            <a:ext cx="214200" cy="214200"/>
          </a:xfrm>
          <a:prstGeom prst="ellips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椭圆 46"/>
          <p:cNvSpPr/>
          <p:nvPr/>
        </p:nvSpPr>
        <p:spPr>
          <a:xfrm>
            <a:off x="6477120" y="4378320"/>
            <a:ext cx="214200" cy="214200"/>
          </a:xfrm>
          <a:prstGeom prst="ellips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椭圆 47"/>
          <p:cNvSpPr/>
          <p:nvPr/>
        </p:nvSpPr>
        <p:spPr>
          <a:xfrm>
            <a:off x="7182000" y="4194000"/>
            <a:ext cx="214200" cy="214560"/>
          </a:xfrm>
          <a:prstGeom prst="ellips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椭圆 48"/>
          <p:cNvSpPr/>
          <p:nvPr/>
        </p:nvSpPr>
        <p:spPr>
          <a:xfrm>
            <a:off x="6724800" y="4633920"/>
            <a:ext cx="214200" cy="214200"/>
          </a:xfrm>
          <a:prstGeom prst="ellips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椭圆 49"/>
          <p:cNvSpPr/>
          <p:nvPr/>
        </p:nvSpPr>
        <p:spPr>
          <a:xfrm>
            <a:off x="7086600" y="4548240"/>
            <a:ext cx="214200" cy="214200"/>
          </a:xfrm>
          <a:prstGeom prst="ellips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椭圆 50"/>
          <p:cNvSpPr/>
          <p:nvPr/>
        </p:nvSpPr>
        <p:spPr>
          <a:xfrm>
            <a:off x="6769080" y="4237200"/>
            <a:ext cx="322200" cy="322200"/>
          </a:xfrm>
          <a:prstGeom prst="ellipse">
            <a:avLst/>
          </a:prstGeom>
          <a:solidFill>
            <a:srgbClr val="0079c5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2" name="组合 92"/>
          <p:cNvGrpSpPr/>
          <p:nvPr/>
        </p:nvGrpSpPr>
        <p:grpSpPr>
          <a:xfrm>
            <a:off x="4856040" y="2357280"/>
            <a:ext cx="4071960" cy="4071960"/>
            <a:chOff x="4856040" y="2357280"/>
            <a:chExt cx="4071960" cy="4071960"/>
          </a:xfrm>
        </p:grpSpPr>
        <p:sp>
          <p:nvSpPr>
            <p:cNvPr id="1043" name="椭圆 52"/>
            <p:cNvSpPr/>
            <p:nvPr/>
          </p:nvSpPr>
          <p:spPr>
            <a:xfrm>
              <a:off x="4925880" y="2437920"/>
              <a:ext cx="3910320" cy="39117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椭圆 53"/>
            <p:cNvSpPr/>
            <p:nvPr/>
          </p:nvSpPr>
          <p:spPr>
            <a:xfrm>
              <a:off x="4856040" y="2357280"/>
              <a:ext cx="4071960" cy="407196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椭圆 54"/>
            <p:cNvSpPr/>
            <p:nvPr/>
          </p:nvSpPr>
          <p:spPr>
            <a:xfrm>
              <a:off x="6118200" y="2595240"/>
              <a:ext cx="879480" cy="879480"/>
            </a:xfrm>
            <a:prstGeom prst="ellipse">
              <a:avLst/>
            </a:prstGeom>
            <a:solidFill>
              <a:srgbClr val="0079c5"/>
            </a:solidFill>
            <a:ln w="1260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椭圆 55"/>
            <p:cNvSpPr/>
            <p:nvPr/>
          </p:nvSpPr>
          <p:spPr>
            <a:xfrm>
              <a:off x="7446960" y="2949120"/>
              <a:ext cx="880920" cy="880920"/>
            </a:xfrm>
            <a:prstGeom prst="ellipse">
              <a:avLst/>
            </a:prstGeom>
            <a:solidFill>
              <a:srgbClr val="0079c5"/>
            </a:solidFill>
            <a:ln w="1260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椭圆 56"/>
            <p:cNvSpPr/>
            <p:nvPr/>
          </p:nvSpPr>
          <p:spPr>
            <a:xfrm>
              <a:off x="5130360" y="3574800"/>
              <a:ext cx="879480" cy="879480"/>
            </a:xfrm>
            <a:prstGeom prst="ellipse">
              <a:avLst/>
            </a:prstGeom>
            <a:solidFill>
              <a:srgbClr val="0079c5"/>
            </a:solidFill>
            <a:ln w="1260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椭圆 57"/>
            <p:cNvSpPr/>
            <p:nvPr/>
          </p:nvSpPr>
          <p:spPr>
            <a:xfrm>
              <a:off x="5500440" y="4917960"/>
              <a:ext cx="879480" cy="880920"/>
            </a:xfrm>
            <a:prstGeom prst="ellipse">
              <a:avLst/>
            </a:prstGeom>
            <a:solidFill>
              <a:srgbClr val="0079c5"/>
            </a:solidFill>
            <a:ln w="1260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椭圆 58"/>
            <p:cNvSpPr/>
            <p:nvPr/>
          </p:nvSpPr>
          <p:spPr>
            <a:xfrm>
              <a:off x="7812000" y="4292280"/>
              <a:ext cx="879480" cy="880920"/>
            </a:xfrm>
            <a:prstGeom prst="ellipse">
              <a:avLst/>
            </a:prstGeom>
            <a:solidFill>
              <a:srgbClr val="0079c5"/>
            </a:solidFill>
            <a:ln w="1260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任意多边形 59"/>
            <p:cNvSpPr/>
            <p:nvPr/>
          </p:nvSpPr>
          <p:spPr>
            <a:xfrm>
              <a:off x="6811920" y="5105160"/>
              <a:ext cx="909720" cy="1079280"/>
            </a:xfrm>
            <a:custGeom>
              <a:avLst/>
              <a:gdLst/>
              <a:ahLst/>
              <a:rect l="l" t="t" r="r" b="b"/>
              <a:pathLst>
                <a:path w="1007660" h="1196454">
                  <a:moveTo>
                    <a:pt x="555010" y="1189630"/>
                  </a:moveTo>
                  <a:cubicBezTo>
                    <a:pt x="519753" y="1190767"/>
                    <a:pt x="465162" y="1196454"/>
                    <a:pt x="411708" y="1182806"/>
                  </a:cubicBezTo>
                  <a:cubicBezTo>
                    <a:pt x="358254" y="1169158"/>
                    <a:pt x="283191" y="1135039"/>
                    <a:pt x="234287" y="1107744"/>
                  </a:cubicBezTo>
                  <a:cubicBezTo>
                    <a:pt x="185383" y="1080449"/>
                    <a:pt x="150126" y="1054290"/>
                    <a:pt x="118281" y="1019033"/>
                  </a:cubicBezTo>
                  <a:cubicBezTo>
                    <a:pt x="86436" y="983776"/>
                    <a:pt x="62553" y="942833"/>
                    <a:pt x="43219" y="896203"/>
                  </a:cubicBezTo>
                  <a:cubicBezTo>
                    <a:pt x="23885" y="849573"/>
                    <a:pt x="4550" y="802943"/>
                    <a:pt x="2275" y="739254"/>
                  </a:cubicBezTo>
                  <a:cubicBezTo>
                    <a:pt x="0" y="675565"/>
                    <a:pt x="9099" y="607326"/>
                    <a:pt x="29571" y="514066"/>
                  </a:cubicBezTo>
                  <a:cubicBezTo>
                    <a:pt x="50043" y="420806"/>
                    <a:pt x="88711" y="259308"/>
                    <a:pt x="125105" y="179696"/>
                  </a:cubicBezTo>
                  <a:cubicBezTo>
                    <a:pt x="161499" y="100084"/>
                    <a:pt x="200168" y="65964"/>
                    <a:pt x="247935" y="36394"/>
                  </a:cubicBezTo>
                  <a:cubicBezTo>
                    <a:pt x="295702" y="6824"/>
                    <a:pt x="360529" y="0"/>
                    <a:pt x="411708" y="2275"/>
                  </a:cubicBezTo>
                  <a:cubicBezTo>
                    <a:pt x="462887" y="4550"/>
                    <a:pt x="504968" y="18197"/>
                    <a:pt x="555010" y="50042"/>
                  </a:cubicBezTo>
                  <a:cubicBezTo>
                    <a:pt x="605052" y="81887"/>
                    <a:pt x="656231" y="141027"/>
                    <a:pt x="711959" y="193344"/>
                  </a:cubicBezTo>
                  <a:cubicBezTo>
                    <a:pt x="767687" y="245661"/>
                    <a:pt x="843888" y="305938"/>
                    <a:pt x="889380" y="363941"/>
                  </a:cubicBezTo>
                  <a:cubicBezTo>
                    <a:pt x="934872" y="421944"/>
                    <a:pt x="966717" y="477673"/>
                    <a:pt x="984914" y="541362"/>
                  </a:cubicBezTo>
                  <a:cubicBezTo>
                    <a:pt x="1003111" y="605052"/>
                    <a:pt x="1007660" y="680114"/>
                    <a:pt x="998562" y="746078"/>
                  </a:cubicBezTo>
                  <a:cubicBezTo>
                    <a:pt x="989464" y="812042"/>
                    <a:pt x="965580" y="879144"/>
                    <a:pt x="930323" y="937147"/>
                  </a:cubicBezTo>
                  <a:cubicBezTo>
                    <a:pt x="895066" y="995150"/>
                    <a:pt x="838201" y="1054290"/>
                    <a:pt x="787022" y="1094096"/>
                  </a:cubicBezTo>
                  <a:cubicBezTo>
                    <a:pt x="735843" y="1133902"/>
                    <a:pt x="660780" y="1160060"/>
                    <a:pt x="623249" y="1175982"/>
                  </a:cubicBezTo>
                  <a:cubicBezTo>
                    <a:pt x="585718" y="1191904"/>
                    <a:pt x="590267" y="1188493"/>
                    <a:pt x="555010" y="1189630"/>
                  </a:cubicBezTo>
                  <a:close/>
                </a:path>
              </a:pathLst>
            </a:custGeom>
            <a:solidFill>
              <a:srgbClr val="0079c5"/>
            </a:solidFill>
            <a:ln w="6480">
              <a:solidFill>
                <a:srgbClr val="0079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椭圆 60"/>
            <p:cNvSpPr/>
            <p:nvPr/>
          </p:nvSpPr>
          <p:spPr>
            <a:xfrm>
              <a:off x="5689440" y="3151080"/>
              <a:ext cx="2446560" cy="24447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任意多边形 61"/>
            <p:cNvSpPr/>
            <p:nvPr/>
          </p:nvSpPr>
          <p:spPr>
            <a:xfrm>
              <a:off x="5117760" y="3030120"/>
              <a:ext cx="1208160" cy="1846080"/>
            </a:xfrm>
            <a:custGeom>
              <a:avLst/>
              <a:gdLst/>
              <a:ahLst/>
              <a:rect l="l" t="t" r="r" b="b"/>
              <a:pathLst>
                <a:path w="1208964" h="1844722">
                  <a:moveTo>
                    <a:pt x="12511" y="1844722"/>
                  </a:moveTo>
                  <a:cubicBezTo>
                    <a:pt x="6255" y="1810034"/>
                    <a:pt x="0" y="1775346"/>
                    <a:pt x="12511" y="1749188"/>
                  </a:cubicBezTo>
                  <a:cubicBezTo>
                    <a:pt x="25022" y="1723030"/>
                    <a:pt x="28434" y="1713931"/>
                    <a:pt x="87574" y="1687773"/>
                  </a:cubicBezTo>
                  <a:cubicBezTo>
                    <a:pt x="146714" y="1661615"/>
                    <a:pt x="219502" y="1638868"/>
                    <a:pt x="367353" y="1592238"/>
                  </a:cubicBezTo>
                  <a:cubicBezTo>
                    <a:pt x="515204" y="1545608"/>
                    <a:pt x="974678" y="1407994"/>
                    <a:pt x="974678" y="1407994"/>
                  </a:cubicBezTo>
                  <a:lnTo>
                    <a:pt x="1083860" y="1373874"/>
                  </a:lnTo>
                  <a:cubicBezTo>
                    <a:pt x="1108881" y="1365913"/>
                    <a:pt x="1116843" y="1370462"/>
                    <a:pt x="1124804" y="1360226"/>
                  </a:cubicBezTo>
                  <a:cubicBezTo>
                    <a:pt x="1132765" y="1349990"/>
                    <a:pt x="1128216" y="1337480"/>
                    <a:pt x="1131628" y="1312459"/>
                  </a:cubicBezTo>
                  <a:cubicBezTo>
                    <a:pt x="1135040" y="1287438"/>
                    <a:pt x="1139589" y="1241946"/>
                    <a:pt x="1145275" y="1210101"/>
                  </a:cubicBezTo>
                  <a:cubicBezTo>
                    <a:pt x="1150961" y="1178256"/>
                    <a:pt x="1158923" y="1146412"/>
                    <a:pt x="1165747" y="1121391"/>
                  </a:cubicBezTo>
                  <a:cubicBezTo>
                    <a:pt x="1172571" y="1096370"/>
                    <a:pt x="1180533" y="1078173"/>
                    <a:pt x="1186219" y="1059976"/>
                  </a:cubicBezTo>
                  <a:cubicBezTo>
                    <a:pt x="1191905" y="1041779"/>
                    <a:pt x="1207827" y="1032681"/>
                    <a:pt x="1199866" y="1012209"/>
                  </a:cubicBezTo>
                  <a:cubicBezTo>
                    <a:pt x="1191905" y="991737"/>
                    <a:pt x="1208964" y="1016758"/>
                    <a:pt x="1138451" y="937146"/>
                  </a:cubicBezTo>
                  <a:cubicBezTo>
                    <a:pt x="1067938" y="857534"/>
                    <a:pt x="776786" y="534537"/>
                    <a:pt x="776786" y="534537"/>
                  </a:cubicBezTo>
                  <a:lnTo>
                    <a:pt x="551598" y="282053"/>
                  </a:lnTo>
                  <a:cubicBezTo>
                    <a:pt x="498144" y="220638"/>
                    <a:pt x="471985" y="202441"/>
                    <a:pt x="456063" y="166047"/>
                  </a:cubicBezTo>
                  <a:cubicBezTo>
                    <a:pt x="440141" y="129653"/>
                    <a:pt x="445827" y="89847"/>
                    <a:pt x="456063" y="63689"/>
                  </a:cubicBezTo>
                  <a:cubicBezTo>
                    <a:pt x="466299" y="37531"/>
                    <a:pt x="497006" y="18196"/>
                    <a:pt x="517478" y="9098"/>
                  </a:cubicBezTo>
                  <a:cubicBezTo>
                    <a:pt x="537950" y="0"/>
                    <a:pt x="558421" y="4549"/>
                    <a:pt x="578893" y="9098"/>
                  </a:cubicBezTo>
                </a:path>
              </a:pathLst>
            </a:custGeom>
            <a:noFill/>
            <a:ln w="19080">
              <a:solidFill>
                <a:srgbClr val="4a7eb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组合 62"/>
            <p:cNvGrpSpPr/>
            <p:nvPr/>
          </p:nvGrpSpPr>
          <p:grpSpPr>
            <a:xfrm>
              <a:off x="5669280" y="2592000"/>
              <a:ext cx="1726560" cy="1214640"/>
              <a:chOff x="5669280" y="2592000"/>
              <a:chExt cx="1726560" cy="1214640"/>
            </a:xfrm>
          </p:grpSpPr>
          <p:sp>
            <p:nvSpPr>
              <p:cNvPr id="1054" name="任意多边形 63"/>
              <p:cNvSpPr/>
              <p:nvPr/>
            </p:nvSpPr>
            <p:spPr>
              <a:xfrm>
                <a:off x="5669280" y="3039840"/>
                <a:ext cx="975960" cy="766800"/>
              </a:xfrm>
              <a:custGeom>
                <a:avLst/>
                <a:gdLst/>
                <a:ahLst/>
                <a:rect l="l" t="t" r="r" b="b"/>
                <a:pathLst>
                  <a:path w="975815" h="766550">
                    <a:moveTo>
                      <a:pt x="0" y="0"/>
                    </a:moveTo>
                    <a:lnTo>
                      <a:pt x="68238" y="13648"/>
                    </a:lnTo>
                    <a:cubicBezTo>
                      <a:pt x="102357" y="34120"/>
                      <a:pt x="83023" y="14785"/>
                      <a:pt x="204716" y="122830"/>
                    </a:cubicBezTo>
                    <a:cubicBezTo>
                      <a:pt x="326409" y="230875"/>
                      <a:pt x="682388" y="557284"/>
                      <a:pt x="798394" y="661917"/>
                    </a:cubicBezTo>
                    <a:cubicBezTo>
                      <a:pt x="914400" y="766550"/>
                      <a:pt x="871182" y="739254"/>
                      <a:pt x="900752" y="750627"/>
                    </a:cubicBezTo>
                    <a:cubicBezTo>
                      <a:pt x="930322" y="762000"/>
                      <a:pt x="953068" y="746077"/>
                      <a:pt x="975815" y="730155"/>
                    </a:cubicBezTo>
                  </a:path>
                </a:pathLst>
              </a:custGeom>
              <a:noFill/>
              <a:ln w="19080">
                <a:solidFill>
                  <a:srgbClr val="4a7eb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任意多边形 64"/>
              <p:cNvSpPr/>
              <p:nvPr/>
            </p:nvSpPr>
            <p:spPr>
              <a:xfrm>
                <a:off x="6638760" y="2592000"/>
                <a:ext cx="757080" cy="1178280"/>
              </a:xfrm>
              <a:custGeom>
                <a:avLst/>
                <a:gdLst/>
                <a:ahLst/>
                <a:rect l="l" t="t" r="r" b="b"/>
                <a:pathLst>
                  <a:path w="757450" h="1178256">
                    <a:moveTo>
                      <a:pt x="0" y="1178256"/>
                    </a:moveTo>
                    <a:cubicBezTo>
                      <a:pt x="35825" y="1165177"/>
                      <a:pt x="71651" y="1152098"/>
                      <a:pt x="109182" y="1144137"/>
                    </a:cubicBezTo>
                    <a:cubicBezTo>
                      <a:pt x="146713" y="1136176"/>
                      <a:pt x="196755" y="1137313"/>
                      <a:pt x="225188" y="1130489"/>
                    </a:cubicBezTo>
                    <a:cubicBezTo>
                      <a:pt x="253621" y="1123665"/>
                      <a:pt x="264994" y="1127077"/>
                      <a:pt x="279779" y="1103194"/>
                    </a:cubicBezTo>
                    <a:cubicBezTo>
                      <a:pt x="294564" y="1079311"/>
                      <a:pt x="266131" y="1137313"/>
                      <a:pt x="313898" y="987188"/>
                    </a:cubicBezTo>
                    <a:cubicBezTo>
                      <a:pt x="361665" y="837063"/>
                      <a:pt x="516340" y="354841"/>
                      <a:pt x="566382" y="202441"/>
                    </a:cubicBezTo>
                    <a:cubicBezTo>
                      <a:pt x="616424" y="50041"/>
                      <a:pt x="599364" y="104633"/>
                      <a:pt x="614149" y="72788"/>
                    </a:cubicBezTo>
                    <a:cubicBezTo>
                      <a:pt x="628934" y="40943"/>
                      <a:pt x="631209" y="22746"/>
                      <a:pt x="655092" y="11373"/>
                    </a:cubicBezTo>
                    <a:cubicBezTo>
                      <a:pt x="678975" y="0"/>
                      <a:pt x="718212" y="2274"/>
                      <a:pt x="757450" y="4549"/>
                    </a:cubicBezTo>
                  </a:path>
                </a:pathLst>
              </a:custGeom>
              <a:noFill/>
              <a:ln w="19080">
                <a:solidFill>
                  <a:srgbClr val="4a7eb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6" name="任意多边形 65"/>
            <p:cNvSpPr/>
            <p:nvPr/>
          </p:nvSpPr>
          <p:spPr>
            <a:xfrm>
              <a:off x="7248600" y="2590560"/>
              <a:ext cx="317520" cy="1442880"/>
            </a:xfrm>
            <a:custGeom>
              <a:avLst/>
              <a:gdLst/>
              <a:ahLst/>
              <a:rect l="l" t="t" r="r" b="b"/>
              <a:pathLst>
                <a:path w="318447" h="1444388">
                  <a:moveTo>
                    <a:pt x="113731" y="0"/>
                  </a:moveTo>
                  <a:cubicBezTo>
                    <a:pt x="139320" y="6255"/>
                    <a:pt x="164910" y="12511"/>
                    <a:pt x="181970" y="27296"/>
                  </a:cubicBezTo>
                  <a:cubicBezTo>
                    <a:pt x="199030" y="42081"/>
                    <a:pt x="212677" y="59140"/>
                    <a:pt x="216089" y="88710"/>
                  </a:cubicBezTo>
                  <a:cubicBezTo>
                    <a:pt x="219501" y="118280"/>
                    <a:pt x="228600" y="71650"/>
                    <a:pt x="202442" y="204716"/>
                  </a:cubicBezTo>
                  <a:cubicBezTo>
                    <a:pt x="176284" y="337782"/>
                    <a:pt x="89847" y="738116"/>
                    <a:pt x="59140" y="887104"/>
                  </a:cubicBezTo>
                  <a:cubicBezTo>
                    <a:pt x="28433" y="1036092"/>
                    <a:pt x="27296" y="1049740"/>
                    <a:pt x="18197" y="1098645"/>
                  </a:cubicBezTo>
                  <a:cubicBezTo>
                    <a:pt x="9098" y="1147550"/>
                    <a:pt x="0" y="1162334"/>
                    <a:pt x="4549" y="1180531"/>
                  </a:cubicBezTo>
                  <a:cubicBezTo>
                    <a:pt x="9098" y="1198728"/>
                    <a:pt x="22746" y="1190767"/>
                    <a:pt x="45492" y="1207827"/>
                  </a:cubicBezTo>
                  <a:cubicBezTo>
                    <a:pt x="68238" y="1224887"/>
                    <a:pt x="114869" y="1260144"/>
                    <a:pt x="141027" y="1282890"/>
                  </a:cubicBezTo>
                  <a:cubicBezTo>
                    <a:pt x="167185" y="1305636"/>
                    <a:pt x="185382" y="1323833"/>
                    <a:pt x="202442" y="1344304"/>
                  </a:cubicBezTo>
                  <a:cubicBezTo>
                    <a:pt x="219502" y="1364775"/>
                    <a:pt x="232012" y="1389797"/>
                    <a:pt x="243385" y="1405719"/>
                  </a:cubicBezTo>
                  <a:cubicBezTo>
                    <a:pt x="254758" y="1421641"/>
                    <a:pt x="258170" y="1435290"/>
                    <a:pt x="270680" y="1439839"/>
                  </a:cubicBezTo>
                  <a:cubicBezTo>
                    <a:pt x="283190" y="1444388"/>
                    <a:pt x="300818" y="1438701"/>
                    <a:pt x="318447" y="1433015"/>
                  </a:cubicBezTo>
                </a:path>
              </a:pathLst>
            </a:custGeom>
            <a:noFill/>
            <a:ln w="19080">
              <a:solidFill>
                <a:srgbClr val="4a7eb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任意多边形 66"/>
            <p:cNvSpPr/>
            <p:nvPr/>
          </p:nvSpPr>
          <p:spPr>
            <a:xfrm>
              <a:off x="7545240" y="3833640"/>
              <a:ext cx="1146240" cy="195120"/>
            </a:xfrm>
            <a:custGeom>
              <a:avLst/>
              <a:gdLst/>
              <a:ahLst/>
              <a:rect l="l" t="t" r="r" b="b"/>
              <a:pathLst>
                <a:path w="1146412" h="195618">
                  <a:moveTo>
                    <a:pt x="0" y="195618"/>
                  </a:moveTo>
                  <a:lnTo>
                    <a:pt x="634621" y="79612"/>
                  </a:lnTo>
                  <a:cubicBezTo>
                    <a:pt x="793845" y="48905"/>
                    <a:pt x="880280" y="22746"/>
                    <a:pt x="955343" y="11373"/>
                  </a:cubicBezTo>
                  <a:cubicBezTo>
                    <a:pt x="1030406" y="0"/>
                    <a:pt x="1053152" y="1137"/>
                    <a:pt x="1084997" y="11373"/>
                  </a:cubicBezTo>
                  <a:cubicBezTo>
                    <a:pt x="1116842" y="21609"/>
                    <a:pt x="1136176" y="61415"/>
                    <a:pt x="1146412" y="72788"/>
                  </a:cubicBezTo>
                </a:path>
              </a:pathLst>
            </a:custGeom>
            <a:noFill/>
            <a:ln w="19080">
              <a:solidFill>
                <a:srgbClr val="4a7eb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任意多边形 67"/>
            <p:cNvSpPr/>
            <p:nvPr/>
          </p:nvSpPr>
          <p:spPr>
            <a:xfrm>
              <a:off x="7500960" y="3906720"/>
              <a:ext cx="1198440" cy="1808280"/>
            </a:xfrm>
            <a:custGeom>
              <a:avLst/>
              <a:gdLst/>
              <a:ahLst/>
              <a:rect l="l" t="t" r="r" b="b"/>
              <a:pathLst>
                <a:path w="1198728" h="1808328">
                  <a:moveTo>
                    <a:pt x="1190767" y="0"/>
                  </a:moveTo>
                  <a:cubicBezTo>
                    <a:pt x="1194747" y="19903"/>
                    <a:pt x="1198728" y="39806"/>
                    <a:pt x="1190767" y="61415"/>
                  </a:cubicBezTo>
                  <a:cubicBezTo>
                    <a:pt x="1182806" y="83024"/>
                    <a:pt x="1179394" y="108045"/>
                    <a:pt x="1143000" y="129654"/>
                  </a:cubicBezTo>
                  <a:cubicBezTo>
                    <a:pt x="1106606" y="151263"/>
                    <a:pt x="972403" y="191069"/>
                    <a:pt x="972403" y="191069"/>
                  </a:cubicBezTo>
                  <a:lnTo>
                    <a:pt x="214952" y="436728"/>
                  </a:lnTo>
                  <a:cubicBezTo>
                    <a:pt x="69376" y="483358"/>
                    <a:pt x="121692" y="451514"/>
                    <a:pt x="98946" y="470848"/>
                  </a:cubicBezTo>
                  <a:cubicBezTo>
                    <a:pt x="76200" y="490182"/>
                    <a:pt x="84161" y="525439"/>
                    <a:pt x="78474" y="552734"/>
                  </a:cubicBezTo>
                  <a:cubicBezTo>
                    <a:pt x="72787" y="580030"/>
                    <a:pt x="75062" y="599364"/>
                    <a:pt x="64826" y="634621"/>
                  </a:cubicBezTo>
                  <a:cubicBezTo>
                    <a:pt x="54590" y="669878"/>
                    <a:pt x="22745" y="727881"/>
                    <a:pt x="17059" y="764275"/>
                  </a:cubicBezTo>
                  <a:cubicBezTo>
                    <a:pt x="11373" y="800669"/>
                    <a:pt x="0" y="805218"/>
                    <a:pt x="30707" y="852985"/>
                  </a:cubicBezTo>
                  <a:cubicBezTo>
                    <a:pt x="61414" y="900752"/>
                    <a:pt x="201304" y="1050878"/>
                    <a:pt x="201304" y="1050878"/>
                  </a:cubicBezTo>
                  <a:cubicBezTo>
                    <a:pt x="309349" y="1175982"/>
                    <a:pt x="586854" y="1492155"/>
                    <a:pt x="678976" y="1603612"/>
                  </a:cubicBezTo>
                  <a:cubicBezTo>
                    <a:pt x="771098" y="1715069"/>
                    <a:pt x="747214" y="1685499"/>
                    <a:pt x="754038" y="1719618"/>
                  </a:cubicBezTo>
                  <a:cubicBezTo>
                    <a:pt x="760862" y="1753737"/>
                    <a:pt x="740390" y="1781032"/>
                    <a:pt x="719919" y="1808328"/>
                  </a:cubicBezTo>
                </a:path>
              </a:pathLst>
            </a:custGeom>
            <a:noFill/>
            <a:ln w="19080">
              <a:solidFill>
                <a:srgbClr val="4a7eb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任意多边形 68"/>
            <p:cNvSpPr/>
            <p:nvPr/>
          </p:nvSpPr>
          <p:spPr>
            <a:xfrm>
              <a:off x="5130360" y="4719600"/>
              <a:ext cx="1441440" cy="1474920"/>
            </a:xfrm>
            <a:custGeom>
              <a:avLst/>
              <a:gdLst/>
              <a:ahLst/>
              <a:rect l="l" t="t" r="r" b="b"/>
              <a:pathLst>
                <a:path w="1442113" h="1475095">
                  <a:moveTo>
                    <a:pt x="0" y="156949"/>
                  </a:moveTo>
                  <a:cubicBezTo>
                    <a:pt x="10804" y="185382"/>
                    <a:pt x="21609" y="213815"/>
                    <a:pt x="68239" y="218364"/>
                  </a:cubicBezTo>
                  <a:cubicBezTo>
                    <a:pt x="114869" y="222913"/>
                    <a:pt x="279779" y="184245"/>
                    <a:pt x="279779" y="184245"/>
                  </a:cubicBezTo>
                  <a:lnTo>
                    <a:pt x="996287" y="40943"/>
                  </a:lnTo>
                  <a:cubicBezTo>
                    <a:pt x="1141863" y="10236"/>
                    <a:pt x="1117979" y="0"/>
                    <a:pt x="1153236" y="0"/>
                  </a:cubicBezTo>
                  <a:cubicBezTo>
                    <a:pt x="1188493" y="0"/>
                    <a:pt x="1193042" y="25021"/>
                    <a:pt x="1207827" y="40943"/>
                  </a:cubicBezTo>
                  <a:cubicBezTo>
                    <a:pt x="1222612" y="56865"/>
                    <a:pt x="1222612" y="71650"/>
                    <a:pt x="1241946" y="95534"/>
                  </a:cubicBezTo>
                  <a:cubicBezTo>
                    <a:pt x="1261280" y="119418"/>
                    <a:pt x="1293125" y="159224"/>
                    <a:pt x="1323833" y="184245"/>
                  </a:cubicBezTo>
                  <a:cubicBezTo>
                    <a:pt x="1354541" y="209266"/>
                    <a:pt x="1410269" y="219501"/>
                    <a:pt x="1426191" y="245659"/>
                  </a:cubicBezTo>
                  <a:cubicBezTo>
                    <a:pt x="1442113" y="271817"/>
                    <a:pt x="1427328" y="286603"/>
                    <a:pt x="1419367" y="341194"/>
                  </a:cubicBezTo>
                  <a:cubicBezTo>
                    <a:pt x="1411406" y="395785"/>
                    <a:pt x="1402308" y="448102"/>
                    <a:pt x="1378424" y="573206"/>
                  </a:cubicBezTo>
                  <a:cubicBezTo>
                    <a:pt x="1354541" y="698311"/>
                    <a:pt x="1299950" y="966717"/>
                    <a:pt x="1276066" y="1091821"/>
                  </a:cubicBezTo>
                  <a:cubicBezTo>
                    <a:pt x="1252183" y="1216926"/>
                    <a:pt x="1239672" y="1270379"/>
                    <a:pt x="1235123" y="1323833"/>
                  </a:cubicBezTo>
                  <a:cubicBezTo>
                    <a:pt x="1230574" y="1377287"/>
                    <a:pt x="1238534" y="1388660"/>
                    <a:pt x="1248770" y="1412543"/>
                  </a:cubicBezTo>
                  <a:cubicBezTo>
                    <a:pt x="1259006" y="1436426"/>
                    <a:pt x="1285164" y="1459173"/>
                    <a:pt x="1296537" y="1467134"/>
                  </a:cubicBezTo>
                  <a:cubicBezTo>
                    <a:pt x="1307910" y="1475095"/>
                    <a:pt x="1312459" y="1467702"/>
                    <a:pt x="1317009" y="1460310"/>
                  </a:cubicBezTo>
                </a:path>
              </a:pathLst>
            </a:custGeom>
            <a:noFill/>
            <a:ln w="19080">
              <a:solidFill>
                <a:srgbClr val="4a7eb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0" name="组合 69"/>
            <p:cNvGrpSpPr/>
            <p:nvPr/>
          </p:nvGrpSpPr>
          <p:grpSpPr>
            <a:xfrm>
              <a:off x="6433560" y="4975920"/>
              <a:ext cx="1808280" cy="1213560"/>
              <a:chOff x="6433560" y="4975920"/>
              <a:chExt cx="1808280" cy="1213560"/>
            </a:xfrm>
          </p:grpSpPr>
          <p:sp>
            <p:nvSpPr>
              <p:cNvPr id="1061" name="任意多边形 70"/>
              <p:cNvSpPr/>
              <p:nvPr/>
            </p:nvSpPr>
            <p:spPr>
              <a:xfrm>
                <a:off x="6433560" y="4975920"/>
                <a:ext cx="879480" cy="1213560"/>
              </a:xfrm>
              <a:custGeom>
                <a:avLst/>
                <a:gdLst/>
                <a:ahLst/>
                <a:rect l="l" t="t" r="r" b="b"/>
                <a:pathLst>
                  <a:path w="880281" h="1213513">
                    <a:moveTo>
                      <a:pt x="0" y="1210101"/>
                    </a:moveTo>
                    <a:cubicBezTo>
                      <a:pt x="28433" y="1211807"/>
                      <a:pt x="56866" y="1213513"/>
                      <a:pt x="81887" y="1196453"/>
                    </a:cubicBezTo>
                    <a:cubicBezTo>
                      <a:pt x="106908" y="1179393"/>
                      <a:pt x="109183" y="1212376"/>
                      <a:pt x="150126" y="1107743"/>
                    </a:cubicBezTo>
                    <a:cubicBezTo>
                      <a:pt x="191069" y="1003110"/>
                      <a:pt x="282055" y="707408"/>
                      <a:pt x="327547" y="568656"/>
                    </a:cubicBezTo>
                    <a:cubicBezTo>
                      <a:pt x="373040" y="429904"/>
                      <a:pt x="398060" y="349154"/>
                      <a:pt x="423081" y="275229"/>
                    </a:cubicBezTo>
                    <a:cubicBezTo>
                      <a:pt x="448102" y="201304"/>
                      <a:pt x="453789" y="158086"/>
                      <a:pt x="477672" y="125104"/>
                    </a:cubicBezTo>
                    <a:cubicBezTo>
                      <a:pt x="501555" y="92122"/>
                      <a:pt x="528851" y="89848"/>
                      <a:pt x="566382" y="77337"/>
                    </a:cubicBezTo>
                    <a:cubicBezTo>
                      <a:pt x="603913" y="64827"/>
                      <a:pt x="661917" y="62551"/>
                      <a:pt x="702860" y="50041"/>
                    </a:cubicBezTo>
                    <a:cubicBezTo>
                      <a:pt x="743803" y="37531"/>
                      <a:pt x="782472" y="4548"/>
                      <a:pt x="812042" y="2274"/>
                    </a:cubicBezTo>
                    <a:cubicBezTo>
                      <a:pt x="841612" y="0"/>
                      <a:pt x="860946" y="18197"/>
                      <a:pt x="880281" y="36394"/>
                    </a:cubicBezTo>
                  </a:path>
                </a:pathLst>
              </a:custGeom>
              <a:noFill/>
              <a:ln w="19080">
                <a:solidFill>
                  <a:srgbClr val="4a7eb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任意多边形 71"/>
              <p:cNvSpPr/>
              <p:nvPr/>
            </p:nvSpPr>
            <p:spPr>
              <a:xfrm>
                <a:off x="7293960" y="4988520"/>
                <a:ext cx="947880" cy="773640"/>
              </a:xfrm>
              <a:custGeom>
                <a:avLst/>
                <a:gdLst/>
                <a:ahLst/>
                <a:rect l="l" t="t" r="r" b="b"/>
                <a:pathLst>
                  <a:path w="948519" h="773372">
                    <a:moveTo>
                      <a:pt x="0" y="0"/>
                    </a:moveTo>
                    <a:cubicBezTo>
                      <a:pt x="279210" y="268406"/>
                      <a:pt x="558421" y="536812"/>
                      <a:pt x="716507" y="655092"/>
                    </a:cubicBezTo>
                    <a:cubicBezTo>
                      <a:pt x="874593" y="773372"/>
                      <a:pt x="948519" y="709683"/>
                      <a:pt x="948519" y="709683"/>
                    </a:cubicBezTo>
                  </a:path>
                </a:pathLst>
              </a:custGeom>
              <a:noFill/>
              <a:ln w="19080">
                <a:solidFill>
                  <a:srgbClr val="4a7eb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3" name="椭圆 72"/>
            <p:cNvSpPr/>
            <p:nvPr/>
          </p:nvSpPr>
          <p:spPr>
            <a:xfrm>
              <a:off x="6070320" y="2547720"/>
              <a:ext cx="974520" cy="974520"/>
            </a:xfrm>
            <a:prstGeom prst="ellipse">
              <a:avLst/>
            </a:prstGeom>
            <a:noFill/>
            <a:ln w="2556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椭圆 73"/>
            <p:cNvSpPr/>
            <p:nvPr/>
          </p:nvSpPr>
          <p:spPr>
            <a:xfrm>
              <a:off x="7405560" y="2906280"/>
              <a:ext cx="974520" cy="974520"/>
            </a:xfrm>
            <a:prstGeom prst="ellipse">
              <a:avLst/>
            </a:prstGeom>
            <a:noFill/>
            <a:ln w="2556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椭圆 74"/>
            <p:cNvSpPr/>
            <p:nvPr/>
          </p:nvSpPr>
          <p:spPr>
            <a:xfrm>
              <a:off x="7762680" y="4251240"/>
              <a:ext cx="974520" cy="974520"/>
            </a:xfrm>
            <a:prstGeom prst="ellipse">
              <a:avLst/>
            </a:prstGeom>
            <a:noFill/>
            <a:ln w="2556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任意多边形 75"/>
            <p:cNvSpPr/>
            <p:nvPr/>
          </p:nvSpPr>
          <p:spPr>
            <a:xfrm>
              <a:off x="6765840" y="5045040"/>
              <a:ext cx="1008000" cy="1195200"/>
            </a:xfrm>
            <a:custGeom>
              <a:avLst/>
              <a:gdLst/>
              <a:ahLst/>
              <a:rect l="l" t="t" r="r" b="b"/>
              <a:pathLst>
                <a:path w="1007660" h="1196454">
                  <a:moveTo>
                    <a:pt x="555010" y="1189630"/>
                  </a:moveTo>
                  <a:cubicBezTo>
                    <a:pt x="519753" y="1190767"/>
                    <a:pt x="465162" y="1196454"/>
                    <a:pt x="411708" y="1182806"/>
                  </a:cubicBezTo>
                  <a:cubicBezTo>
                    <a:pt x="358254" y="1169158"/>
                    <a:pt x="283191" y="1135039"/>
                    <a:pt x="234287" y="1107744"/>
                  </a:cubicBezTo>
                  <a:cubicBezTo>
                    <a:pt x="185383" y="1080449"/>
                    <a:pt x="150126" y="1054290"/>
                    <a:pt x="118281" y="1019033"/>
                  </a:cubicBezTo>
                  <a:cubicBezTo>
                    <a:pt x="86436" y="983776"/>
                    <a:pt x="62553" y="942833"/>
                    <a:pt x="43219" y="896203"/>
                  </a:cubicBezTo>
                  <a:cubicBezTo>
                    <a:pt x="23885" y="849573"/>
                    <a:pt x="4550" y="802943"/>
                    <a:pt x="2275" y="739254"/>
                  </a:cubicBezTo>
                  <a:cubicBezTo>
                    <a:pt x="0" y="675565"/>
                    <a:pt x="9099" y="607326"/>
                    <a:pt x="29571" y="514066"/>
                  </a:cubicBezTo>
                  <a:cubicBezTo>
                    <a:pt x="50043" y="420806"/>
                    <a:pt x="88711" y="259308"/>
                    <a:pt x="125105" y="179696"/>
                  </a:cubicBezTo>
                  <a:cubicBezTo>
                    <a:pt x="161499" y="100084"/>
                    <a:pt x="200168" y="65964"/>
                    <a:pt x="247935" y="36394"/>
                  </a:cubicBezTo>
                  <a:cubicBezTo>
                    <a:pt x="295702" y="6824"/>
                    <a:pt x="360529" y="0"/>
                    <a:pt x="411708" y="2275"/>
                  </a:cubicBezTo>
                  <a:cubicBezTo>
                    <a:pt x="462887" y="4550"/>
                    <a:pt x="504968" y="18197"/>
                    <a:pt x="555010" y="50042"/>
                  </a:cubicBezTo>
                  <a:cubicBezTo>
                    <a:pt x="605052" y="81887"/>
                    <a:pt x="656231" y="141027"/>
                    <a:pt x="711959" y="193344"/>
                  </a:cubicBezTo>
                  <a:cubicBezTo>
                    <a:pt x="767687" y="245661"/>
                    <a:pt x="843888" y="305938"/>
                    <a:pt x="889380" y="363941"/>
                  </a:cubicBezTo>
                  <a:cubicBezTo>
                    <a:pt x="934872" y="421944"/>
                    <a:pt x="966717" y="477673"/>
                    <a:pt x="984914" y="541362"/>
                  </a:cubicBezTo>
                  <a:cubicBezTo>
                    <a:pt x="1003111" y="605052"/>
                    <a:pt x="1007660" y="680114"/>
                    <a:pt x="998562" y="746078"/>
                  </a:cubicBezTo>
                  <a:cubicBezTo>
                    <a:pt x="989464" y="812042"/>
                    <a:pt x="965580" y="879144"/>
                    <a:pt x="930323" y="937147"/>
                  </a:cubicBezTo>
                  <a:cubicBezTo>
                    <a:pt x="895066" y="995150"/>
                    <a:pt x="838201" y="1054290"/>
                    <a:pt x="787022" y="1094096"/>
                  </a:cubicBezTo>
                  <a:cubicBezTo>
                    <a:pt x="735843" y="1133902"/>
                    <a:pt x="660780" y="1160060"/>
                    <a:pt x="623249" y="1175982"/>
                  </a:cubicBezTo>
                  <a:cubicBezTo>
                    <a:pt x="585718" y="1191904"/>
                    <a:pt x="590267" y="1188493"/>
                    <a:pt x="555010" y="1189630"/>
                  </a:cubicBezTo>
                  <a:close/>
                </a:path>
              </a:pathLst>
            </a:custGeom>
            <a:noFill/>
            <a:ln w="25560">
              <a:solidFill>
                <a:srgbClr val="0079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椭圆 76"/>
            <p:cNvSpPr/>
            <p:nvPr/>
          </p:nvSpPr>
          <p:spPr>
            <a:xfrm>
              <a:off x="5135400" y="3578040"/>
              <a:ext cx="880920" cy="880920"/>
            </a:xfrm>
            <a:prstGeom prst="ellipse">
              <a:avLst/>
            </a:prstGeom>
            <a:noFill/>
            <a:ln w="190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椭圆 77"/>
            <p:cNvSpPr/>
            <p:nvPr/>
          </p:nvSpPr>
          <p:spPr>
            <a:xfrm>
              <a:off x="5081400" y="3525480"/>
              <a:ext cx="976320" cy="974520"/>
            </a:xfrm>
            <a:prstGeom prst="ellipse">
              <a:avLst/>
            </a:prstGeom>
            <a:noFill/>
            <a:ln w="2556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椭圆 78"/>
            <p:cNvSpPr/>
            <p:nvPr/>
          </p:nvSpPr>
          <p:spPr>
            <a:xfrm>
              <a:off x="6126120" y="2603160"/>
              <a:ext cx="879480" cy="879480"/>
            </a:xfrm>
            <a:prstGeom prst="ellipse">
              <a:avLst/>
            </a:prstGeom>
            <a:noFill/>
            <a:ln w="190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椭圆 79"/>
            <p:cNvSpPr/>
            <p:nvPr/>
          </p:nvSpPr>
          <p:spPr>
            <a:xfrm>
              <a:off x="7458120" y="2955600"/>
              <a:ext cx="880920" cy="880920"/>
            </a:xfrm>
            <a:prstGeom prst="ellipse">
              <a:avLst/>
            </a:prstGeom>
            <a:noFill/>
            <a:ln w="190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椭圆 80"/>
            <p:cNvSpPr/>
            <p:nvPr/>
          </p:nvSpPr>
          <p:spPr>
            <a:xfrm>
              <a:off x="7813800" y="4303440"/>
              <a:ext cx="879480" cy="879480"/>
            </a:xfrm>
            <a:prstGeom prst="ellipse">
              <a:avLst/>
            </a:prstGeom>
            <a:noFill/>
            <a:ln w="190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椭圆 81"/>
            <p:cNvSpPr/>
            <p:nvPr/>
          </p:nvSpPr>
          <p:spPr>
            <a:xfrm>
              <a:off x="5501880" y="4916520"/>
              <a:ext cx="879480" cy="880920"/>
            </a:xfrm>
            <a:prstGeom prst="ellipse">
              <a:avLst/>
            </a:prstGeom>
            <a:noFill/>
            <a:ln w="190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椭圆 82"/>
            <p:cNvSpPr/>
            <p:nvPr/>
          </p:nvSpPr>
          <p:spPr>
            <a:xfrm>
              <a:off x="5451120" y="4870440"/>
              <a:ext cx="974520" cy="974520"/>
            </a:xfrm>
            <a:prstGeom prst="ellipse">
              <a:avLst/>
            </a:prstGeom>
            <a:noFill/>
            <a:ln w="2556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任意多边形 83"/>
            <p:cNvSpPr/>
            <p:nvPr/>
          </p:nvSpPr>
          <p:spPr>
            <a:xfrm>
              <a:off x="6815160" y="5110200"/>
              <a:ext cx="909720" cy="1079280"/>
            </a:xfrm>
            <a:custGeom>
              <a:avLst/>
              <a:gdLst/>
              <a:ahLst/>
              <a:rect l="l" t="t" r="r" b="b"/>
              <a:pathLst>
                <a:path w="1007660" h="1196454">
                  <a:moveTo>
                    <a:pt x="555010" y="1189630"/>
                  </a:moveTo>
                  <a:cubicBezTo>
                    <a:pt x="519753" y="1190767"/>
                    <a:pt x="465162" y="1196454"/>
                    <a:pt x="411708" y="1182806"/>
                  </a:cubicBezTo>
                  <a:cubicBezTo>
                    <a:pt x="358254" y="1169158"/>
                    <a:pt x="283191" y="1135039"/>
                    <a:pt x="234287" y="1107744"/>
                  </a:cubicBezTo>
                  <a:cubicBezTo>
                    <a:pt x="185383" y="1080449"/>
                    <a:pt x="150126" y="1054290"/>
                    <a:pt x="118281" y="1019033"/>
                  </a:cubicBezTo>
                  <a:cubicBezTo>
                    <a:pt x="86436" y="983776"/>
                    <a:pt x="62553" y="942833"/>
                    <a:pt x="43219" y="896203"/>
                  </a:cubicBezTo>
                  <a:cubicBezTo>
                    <a:pt x="23885" y="849573"/>
                    <a:pt x="4550" y="802943"/>
                    <a:pt x="2275" y="739254"/>
                  </a:cubicBezTo>
                  <a:cubicBezTo>
                    <a:pt x="0" y="675565"/>
                    <a:pt x="9099" y="607326"/>
                    <a:pt x="29571" y="514066"/>
                  </a:cubicBezTo>
                  <a:cubicBezTo>
                    <a:pt x="50043" y="420806"/>
                    <a:pt x="88711" y="259308"/>
                    <a:pt x="125105" y="179696"/>
                  </a:cubicBezTo>
                  <a:cubicBezTo>
                    <a:pt x="161499" y="100084"/>
                    <a:pt x="200168" y="65964"/>
                    <a:pt x="247935" y="36394"/>
                  </a:cubicBezTo>
                  <a:cubicBezTo>
                    <a:pt x="295702" y="6824"/>
                    <a:pt x="360529" y="0"/>
                    <a:pt x="411708" y="2275"/>
                  </a:cubicBezTo>
                  <a:cubicBezTo>
                    <a:pt x="462887" y="4550"/>
                    <a:pt x="504968" y="18197"/>
                    <a:pt x="555010" y="50042"/>
                  </a:cubicBezTo>
                  <a:cubicBezTo>
                    <a:pt x="605052" y="81887"/>
                    <a:pt x="656231" y="141027"/>
                    <a:pt x="711959" y="193344"/>
                  </a:cubicBezTo>
                  <a:cubicBezTo>
                    <a:pt x="767687" y="245661"/>
                    <a:pt x="843888" y="305938"/>
                    <a:pt x="889380" y="363941"/>
                  </a:cubicBezTo>
                  <a:cubicBezTo>
                    <a:pt x="934872" y="421944"/>
                    <a:pt x="966717" y="477673"/>
                    <a:pt x="984914" y="541362"/>
                  </a:cubicBezTo>
                  <a:cubicBezTo>
                    <a:pt x="1003111" y="605052"/>
                    <a:pt x="1007660" y="680114"/>
                    <a:pt x="998562" y="746078"/>
                  </a:cubicBezTo>
                  <a:cubicBezTo>
                    <a:pt x="989464" y="812042"/>
                    <a:pt x="965580" y="879144"/>
                    <a:pt x="930323" y="937147"/>
                  </a:cubicBezTo>
                  <a:cubicBezTo>
                    <a:pt x="895066" y="995150"/>
                    <a:pt x="838201" y="1054290"/>
                    <a:pt x="787022" y="1094096"/>
                  </a:cubicBezTo>
                  <a:cubicBezTo>
                    <a:pt x="735843" y="1133902"/>
                    <a:pt x="660780" y="1160060"/>
                    <a:pt x="623249" y="1175982"/>
                  </a:cubicBezTo>
                  <a:cubicBezTo>
                    <a:pt x="585718" y="1191904"/>
                    <a:pt x="590267" y="1188493"/>
                    <a:pt x="555010" y="1189630"/>
                  </a:cubicBezTo>
                  <a:close/>
                </a:path>
              </a:pathLst>
            </a:custGeom>
            <a:noFill/>
            <a:ln w="19080">
              <a:solidFill>
                <a:srgbClr val="0079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椭圆 84"/>
            <p:cNvSpPr/>
            <p:nvPr/>
          </p:nvSpPr>
          <p:spPr>
            <a:xfrm>
              <a:off x="6356160" y="3813120"/>
              <a:ext cx="1143000" cy="1143000"/>
            </a:xfrm>
            <a:prstGeom prst="ellipse">
              <a:avLst/>
            </a:prstGeom>
            <a:solidFill>
              <a:srgbClr val="0079c5"/>
            </a:solidFill>
            <a:ln w="2844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椭圆 85"/>
            <p:cNvSpPr/>
            <p:nvPr/>
          </p:nvSpPr>
          <p:spPr>
            <a:xfrm>
              <a:off x="6564240" y="4020840"/>
              <a:ext cx="214200" cy="214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椭圆 86"/>
            <p:cNvSpPr/>
            <p:nvPr/>
          </p:nvSpPr>
          <p:spPr>
            <a:xfrm>
              <a:off x="6906960" y="3931920"/>
              <a:ext cx="214200" cy="214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椭圆 87"/>
            <p:cNvSpPr/>
            <p:nvPr/>
          </p:nvSpPr>
          <p:spPr>
            <a:xfrm>
              <a:off x="6475320" y="4378320"/>
              <a:ext cx="214200" cy="214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椭圆 88"/>
            <p:cNvSpPr/>
            <p:nvPr/>
          </p:nvSpPr>
          <p:spPr>
            <a:xfrm>
              <a:off x="7180200" y="4194000"/>
              <a:ext cx="214200" cy="214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椭圆 89"/>
            <p:cNvSpPr/>
            <p:nvPr/>
          </p:nvSpPr>
          <p:spPr>
            <a:xfrm>
              <a:off x="6723000" y="4633920"/>
              <a:ext cx="214200" cy="214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椭圆 90"/>
            <p:cNvSpPr/>
            <p:nvPr/>
          </p:nvSpPr>
          <p:spPr>
            <a:xfrm>
              <a:off x="7084800" y="4547880"/>
              <a:ext cx="214200" cy="214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椭圆 91"/>
            <p:cNvSpPr/>
            <p:nvPr/>
          </p:nvSpPr>
          <p:spPr>
            <a:xfrm>
              <a:off x="6767280" y="4224240"/>
              <a:ext cx="322200" cy="320400"/>
            </a:xfrm>
            <a:prstGeom prst="ellipse">
              <a:avLst/>
            </a:prstGeom>
            <a:solidFill>
              <a:srgbClr val="0079c5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3" name="TextBox 93"/>
          <p:cNvSpPr/>
          <p:nvPr/>
        </p:nvSpPr>
        <p:spPr>
          <a:xfrm>
            <a:off x="500040" y="698400"/>
            <a:ext cx="764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段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视频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加入可能会让你的幻灯更精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TextBox 94"/>
          <p:cNvSpPr/>
          <p:nvPr/>
        </p:nvSpPr>
        <p:spPr>
          <a:xfrm>
            <a:off x="428760" y="254808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但也可能拖累播放速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TextBox 95"/>
          <p:cNvSpPr/>
          <p:nvPr/>
        </p:nvSpPr>
        <p:spPr>
          <a:xfrm>
            <a:off x="428760" y="321480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TextBox 97"/>
          <p:cNvSpPr/>
          <p:nvPr/>
        </p:nvSpPr>
        <p:spPr>
          <a:xfrm>
            <a:off x="428760" y="386244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是视频播放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9000">
    <p:fade/>
  </p:transition>
  <p:timing>
    <p:tnLst>
      <p:par>
        <p:cTn id="1538" dur="indefinite" restart="never" nodeType="tmRoot">
          <p:childTnLst>
            <p:seq>
              <p:cTn id="1539" dur="indefinite" nodeType="mainSeq">
                <p:childTnLst>
                  <p:par>
                    <p:cTn id="1540" nodeType="clickEffect" fill="hold">
                      <p:stCondLst>
                        <p:cond delay="0"/>
                      </p:stCondLst>
                      <p:childTnLst>
                        <p:par>
                          <p:cTn id="1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44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8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2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58" nodeType="after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60" dur="3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1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156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64" dur="3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5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156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68" dur="3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9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157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72" dur="3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157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76" dur="3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80" dur="3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1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15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4" dur="3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5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15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8" dur="3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9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15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2" dur="3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3" nodeType="afterEffect" fill="hold">
                            <p:stCondLst>
                              <p:cond delay="6700"/>
                            </p:stCondLst>
                            <p:childTnLst>
                              <p:par>
                                <p:cTn id="15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6" dur="3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0" dur="3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1" nodeType="afterEffect" fill="hold">
                            <p:stCondLst>
                              <p:cond delay="7300"/>
                            </p:stCondLst>
                            <p:childTnLst>
                              <p:par>
                                <p:cTn id="16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4" dur="3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5" nodeType="afterEffect" fill="hold">
                            <p:stCondLst>
                              <p:cond delay="7600"/>
                            </p:stCondLst>
                            <p:childTnLst>
                              <p:par>
                                <p:cTn id="16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8" dur="3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9" nodeType="afterEffect" fill="hold">
                            <p:stCondLst>
                              <p:cond delay="7900"/>
                            </p:stCondLst>
                            <p:childTnLst>
                              <p:par>
                                <p:cTn id="16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2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3" nodeType="afterEffect" fill="hold">
                            <p:stCondLst>
                              <p:cond delay="8400"/>
                            </p:stCondLst>
                            <p:childTnLst>
                              <p:par>
                                <p:cTn id="16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6" dur="3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7" nodeType="afterEffect" fill="hold">
                            <p:stCondLst>
                              <p:cond delay="8700"/>
                            </p:stCondLst>
                            <p:childTnLst>
                              <p:par>
                                <p:cTn id="16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0" dur="3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6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4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6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28" dur="3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9" nodeType="afterEffect" fill="hold">
                            <p:stCondLst>
                              <p:cond delay="9800"/>
                            </p:stCondLst>
                            <p:childTnLst>
                              <p:par>
                                <p:cTn id="16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2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3" nodeType="afterEffect" fill="hold">
                            <p:stCondLst>
                              <p:cond delay="10300"/>
                            </p:stCondLst>
                            <p:childTnLst>
                              <p:par>
                                <p:cTn id="16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6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7" nodeType="afterEffect" fill="hold">
                            <p:stCondLst>
                              <p:cond delay="10800"/>
                            </p:stCondLst>
                            <p:childTnLst>
                              <p:par>
                                <p:cTn id="16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0" dur="3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1" nodeType="afterEffect" fill="hold">
                            <p:stCondLst>
                              <p:cond delay="11100"/>
                            </p:stCondLst>
                            <p:childTnLst>
                              <p:par>
                                <p:cTn id="16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4" dur="3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nodeType="afterEffect" fill="hold">
                            <p:stCondLst>
                              <p:cond delay="11400"/>
                            </p:stCondLst>
                            <p:childTnLst>
                              <p:par>
                                <p:cTn id="16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8" dur="3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9" nodeType="afterEffect" fill="hold">
                            <p:stCondLst>
                              <p:cond delay="11700"/>
                            </p:stCondLst>
                            <p:childTnLst>
                              <p:par>
                                <p:cTn id="16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2" dur="3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6" dur="3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7" nodeType="afterEffect" fill="hold">
                            <p:stCondLst>
                              <p:cond delay="12300"/>
                            </p:stCondLst>
                            <p:childTnLst>
                              <p:par>
                                <p:cTn id="16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0" dur="3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1" nodeType="afterEffect" fill="hold">
                            <p:stCondLst>
                              <p:cond delay="12600"/>
                            </p:stCondLst>
                            <p:childTnLst>
                              <p:par>
                                <p:cTn id="166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6" nodeType="withEffect" fill="hold" presetClass="emph" presetID="8">
                                  <p:stCondLst>
                                    <p:cond delay="3400"/>
                                  </p:stCondLst>
                                  <p:childTnLst>
                                    <p:animRot by="-21599939">
                                      <p:cBhvr>
                                        <p:cTn id="1737" dur="3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3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0" dur="1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3" dur="1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4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6" dur="1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9" dur="10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7" name="组合 104"/>
          <p:cNvGrpSpPr/>
          <p:nvPr/>
        </p:nvGrpSpPr>
        <p:grpSpPr>
          <a:xfrm>
            <a:off x="500040" y="-1300320"/>
            <a:ext cx="3286080" cy="9528480"/>
            <a:chOff x="500040" y="-1300320"/>
            <a:chExt cx="3286080" cy="9528480"/>
          </a:xfrm>
        </p:grpSpPr>
        <p:sp>
          <p:nvSpPr>
            <p:cNvPr id="1088" name="矩形 2"/>
            <p:cNvSpPr/>
            <p:nvPr/>
          </p:nvSpPr>
          <p:spPr>
            <a:xfrm>
              <a:off x="500040" y="-142920"/>
              <a:ext cx="3286080" cy="71442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9" name="组合 37"/>
            <p:cNvGrpSpPr/>
            <p:nvPr/>
          </p:nvGrpSpPr>
          <p:grpSpPr>
            <a:xfrm>
              <a:off x="635400" y="-348120"/>
              <a:ext cx="198000" cy="7540920"/>
              <a:chOff x="635400" y="-348120"/>
              <a:chExt cx="198000" cy="7540920"/>
            </a:xfrm>
          </p:grpSpPr>
          <p:grpSp>
            <p:nvGrpSpPr>
              <p:cNvPr id="1090" name="组合 18"/>
              <p:cNvGrpSpPr/>
              <p:nvPr/>
            </p:nvGrpSpPr>
            <p:grpSpPr>
              <a:xfrm>
                <a:off x="635400" y="-348120"/>
                <a:ext cx="198000" cy="2396160"/>
                <a:chOff x="635400" y="-348120"/>
                <a:chExt cx="198000" cy="2396160"/>
              </a:xfrm>
            </p:grpSpPr>
            <p:sp>
              <p:nvSpPr>
                <p:cNvPr id="1091" name="圆角矩形 4"/>
                <p:cNvSpPr/>
                <p:nvPr/>
              </p:nvSpPr>
              <p:spPr>
                <a:xfrm>
                  <a:off x="635400" y="938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2" name="圆角矩形 5"/>
                <p:cNvSpPr/>
                <p:nvPr/>
              </p:nvSpPr>
              <p:spPr>
                <a:xfrm>
                  <a:off x="635400" y="126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3" name="圆角矩形 8"/>
                <p:cNvSpPr/>
                <p:nvPr/>
              </p:nvSpPr>
              <p:spPr>
                <a:xfrm>
                  <a:off x="635400" y="1581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4" name="圆角矩形 9"/>
                <p:cNvSpPr/>
                <p:nvPr/>
              </p:nvSpPr>
              <p:spPr>
                <a:xfrm>
                  <a:off x="635400" y="1903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5" name="圆角矩形 16"/>
                <p:cNvSpPr/>
                <p:nvPr/>
              </p:nvSpPr>
              <p:spPr>
                <a:xfrm>
                  <a:off x="635400" y="-34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圆角矩形 17"/>
                <p:cNvSpPr/>
                <p:nvPr/>
              </p:nvSpPr>
              <p:spPr>
                <a:xfrm>
                  <a:off x="635400" y="-2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7" name="圆角矩形 14"/>
                <p:cNvSpPr/>
                <p:nvPr/>
              </p:nvSpPr>
              <p:spPr>
                <a:xfrm>
                  <a:off x="635400" y="294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圆角矩形 15"/>
                <p:cNvSpPr/>
                <p:nvPr/>
              </p:nvSpPr>
              <p:spPr>
                <a:xfrm>
                  <a:off x="635400" y="617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9" name="组合 19"/>
              <p:cNvGrpSpPr/>
              <p:nvPr/>
            </p:nvGrpSpPr>
            <p:grpSpPr>
              <a:xfrm>
                <a:off x="635400" y="2224080"/>
                <a:ext cx="198000" cy="2396160"/>
                <a:chOff x="635400" y="2224080"/>
                <a:chExt cx="198000" cy="2396160"/>
              </a:xfrm>
            </p:grpSpPr>
            <p:sp>
              <p:nvSpPr>
                <p:cNvPr id="1100" name="圆角矩形 20"/>
                <p:cNvSpPr/>
                <p:nvPr/>
              </p:nvSpPr>
              <p:spPr>
                <a:xfrm>
                  <a:off x="635400" y="351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圆角矩形 21"/>
                <p:cNvSpPr/>
                <p:nvPr/>
              </p:nvSpPr>
              <p:spPr>
                <a:xfrm>
                  <a:off x="635400" y="383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圆角矩形 22"/>
                <p:cNvSpPr/>
                <p:nvPr/>
              </p:nvSpPr>
              <p:spPr>
                <a:xfrm>
                  <a:off x="635400" y="4153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3" name="圆角矩形 23"/>
                <p:cNvSpPr/>
                <p:nvPr/>
              </p:nvSpPr>
              <p:spPr>
                <a:xfrm>
                  <a:off x="635400" y="4475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圆角矩形 24"/>
                <p:cNvSpPr/>
                <p:nvPr/>
              </p:nvSpPr>
              <p:spPr>
                <a:xfrm>
                  <a:off x="635400" y="22240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5" name="圆角矩形 25"/>
                <p:cNvSpPr/>
                <p:nvPr/>
              </p:nvSpPr>
              <p:spPr>
                <a:xfrm>
                  <a:off x="635400" y="25462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6" name="圆角矩形 26"/>
                <p:cNvSpPr/>
                <p:nvPr/>
              </p:nvSpPr>
              <p:spPr>
                <a:xfrm>
                  <a:off x="635400" y="2867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圆角矩形 27"/>
                <p:cNvSpPr/>
                <p:nvPr/>
              </p:nvSpPr>
              <p:spPr>
                <a:xfrm>
                  <a:off x="635400" y="3189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8" name="组合 28"/>
              <p:cNvGrpSpPr/>
              <p:nvPr/>
            </p:nvGrpSpPr>
            <p:grpSpPr>
              <a:xfrm>
                <a:off x="635400" y="4796640"/>
                <a:ext cx="198000" cy="2396160"/>
                <a:chOff x="635400" y="4796640"/>
                <a:chExt cx="198000" cy="2396160"/>
              </a:xfrm>
            </p:grpSpPr>
            <p:sp>
              <p:nvSpPr>
                <p:cNvPr id="1109" name="圆角矩形 29"/>
                <p:cNvSpPr/>
                <p:nvPr/>
              </p:nvSpPr>
              <p:spPr>
                <a:xfrm>
                  <a:off x="635400" y="6082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圆角矩形 30"/>
                <p:cNvSpPr/>
                <p:nvPr/>
              </p:nvSpPr>
              <p:spPr>
                <a:xfrm>
                  <a:off x="635400" y="6405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1" name="圆角矩形 31"/>
                <p:cNvSpPr/>
                <p:nvPr/>
              </p:nvSpPr>
              <p:spPr>
                <a:xfrm>
                  <a:off x="635400" y="6726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2" name="圆角矩形 32"/>
                <p:cNvSpPr/>
                <p:nvPr/>
              </p:nvSpPr>
              <p:spPr>
                <a:xfrm>
                  <a:off x="635400" y="7048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圆角矩形 33"/>
                <p:cNvSpPr/>
                <p:nvPr/>
              </p:nvSpPr>
              <p:spPr>
                <a:xfrm>
                  <a:off x="635400" y="47966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圆角矩形 34"/>
                <p:cNvSpPr/>
                <p:nvPr/>
              </p:nvSpPr>
              <p:spPr>
                <a:xfrm>
                  <a:off x="635400" y="5118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圆角矩形 35"/>
                <p:cNvSpPr/>
                <p:nvPr/>
              </p:nvSpPr>
              <p:spPr>
                <a:xfrm>
                  <a:off x="635400" y="5439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圆角矩形 36"/>
                <p:cNvSpPr/>
                <p:nvPr/>
              </p:nvSpPr>
              <p:spPr>
                <a:xfrm>
                  <a:off x="635400" y="5762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17" name="组合 66"/>
            <p:cNvGrpSpPr/>
            <p:nvPr/>
          </p:nvGrpSpPr>
          <p:grpSpPr>
            <a:xfrm>
              <a:off x="3445560" y="-349560"/>
              <a:ext cx="198000" cy="7540920"/>
              <a:chOff x="3445560" y="-349560"/>
              <a:chExt cx="198000" cy="7540920"/>
            </a:xfrm>
          </p:grpSpPr>
          <p:grpSp>
            <p:nvGrpSpPr>
              <p:cNvPr id="1118" name="组合 18"/>
              <p:cNvGrpSpPr/>
              <p:nvPr/>
            </p:nvGrpSpPr>
            <p:grpSpPr>
              <a:xfrm>
                <a:off x="3445560" y="-349560"/>
                <a:ext cx="198000" cy="2396160"/>
                <a:chOff x="3445560" y="-349560"/>
                <a:chExt cx="198000" cy="2396160"/>
              </a:xfrm>
            </p:grpSpPr>
            <p:sp>
              <p:nvSpPr>
                <p:cNvPr id="1119" name="圆角矩形 4"/>
                <p:cNvSpPr/>
                <p:nvPr/>
              </p:nvSpPr>
              <p:spPr>
                <a:xfrm>
                  <a:off x="3445560" y="9367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圆角矩形 87"/>
                <p:cNvSpPr/>
                <p:nvPr/>
              </p:nvSpPr>
              <p:spPr>
                <a:xfrm>
                  <a:off x="3445560" y="1258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1" name="圆角矩形 88"/>
                <p:cNvSpPr/>
                <p:nvPr/>
              </p:nvSpPr>
              <p:spPr>
                <a:xfrm>
                  <a:off x="3445560" y="1580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圆角矩形 89"/>
                <p:cNvSpPr/>
                <p:nvPr/>
              </p:nvSpPr>
              <p:spPr>
                <a:xfrm>
                  <a:off x="3445560" y="1902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圆角矩形 90"/>
                <p:cNvSpPr/>
                <p:nvPr/>
              </p:nvSpPr>
              <p:spPr>
                <a:xfrm>
                  <a:off x="3445560" y="-349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4" name="圆角矩形 91"/>
                <p:cNvSpPr/>
                <p:nvPr/>
              </p:nvSpPr>
              <p:spPr>
                <a:xfrm>
                  <a:off x="3445560" y="-270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5" name="圆角矩形 92"/>
                <p:cNvSpPr/>
                <p:nvPr/>
              </p:nvSpPr>
              <p:spPr>
                <a:xfrm>
                  <a:off x="3445560" y="293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6" name="圆角矩形 93"/>
                <p:cNvSpPr/>
                <p:nvPr/>
              </p:nvSpPr>
              <p:spPr>
                <a:xfrm>
                  <a:off x="3445560" y="6159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7" name="组合 19"/>
              <p:cNvGrpSpPr/>
              <p:nvPr/>
            </p:nvGrpSpPr>
            <p:grpSpPr>
              <a:xfrm>
                <a:off x="3445560" y="2222640"/>
                <a:ext cx="198000" cy="2396160"/>
                <a:chOff x="3445560" y="2222640"/>
                <a:chExt cx="198000" cy="2396160"/>
              </a:xfrm>
            </p:grpSpPr>
            <p:sp>
              <p:nvSpPr>
                <p:cNvPr id="1128" name="圆角矩形 78"/>
                <p:cNvSpPr/>
                <p:nvPr/>
              </p:nvSpPr>
              <p:spPr>
                <a:xfrm>
                  <a:off x="3445560" y="3507120"/>
                  <a:ext cx="198000" cy="1422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9" name="圆角矩形 79"/>
                <p:cNvSpPr/>
                <p:nvPr/>
              </p:nvSpPr>
              <p:spPr>
                <a:xfrm>
                  <a:off x="3445560" y="383328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圆角矩形 80"/>
                <p:cNvSpPr/>
                <p:nvPr/>
              </p:nvSpPr>
              <p:spPr>
                <a:xfrm>
                  <a:off x="3445560" y="41533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1" name="圆角矩形 81"/>
                <p:cNvSpPr/>
                <p:nvPr/>
              </p:nvSpPr>
              <p:spPr>
                <a:xfrm>
                  <a:off x="3445560" y="447480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圆角矩形 82"/>
                <p:cNvSpPr/>
                <p:nvPr/>
              </p:nvSpPr>
              <p:spPr>
                <a:xfrm>
                  <a:off x="3445560" y="222264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圆角矩形 83"/>
                <p:cNvSpPr/>
                <p:nvPr/>
              </p:nvSpPr>
              <p:spPr>
                <a:xfrm>
                  <a:off x="3445560" y="25441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圆角矩形 84"/>
                <p:cNvSpPr/>
                <p:nvPr/>
              </p:nvSpPr>
              <p:spPr>
                <a:xfrm>
                  <a:off x="3445560" y="286380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圆角矩形 85"/>
                <p:cNvSpPr/>
                <p:nvPr/>
              </p:nvSpPr>
              <p:spPr>
                <a:xfrm>
                  <a:off x="3445560" y="3187080"/>
                  <a:ext cx="198000" cy="1422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6" name="组合 28"/>
              <p:cNvGrpSpPr/>
              <p:nvPr/>
            </p:nvGrpSpPr>
            <p:grpSpPr>
              <a:xfrm>
                <a:off x="3445560" y="4795200"/>
                <a:ext cx="198000" cy="2396160"/>
                <a:chOff x="3445560" y="4795200"/>
                <a:chExt cx="198000" cy="2396160"/>
              </a:xfrm>
            </p:grpSpPr>
            <p:sp>
              <p:nvSpPr>
                <p:cNvPr id="1137" name="圆角矩形 70"/>
                <p:cNvSpPr/>
                <p:nvPr/>
              </p:nvSpPr>
              <p:spPr>
                <a:xfrm>
                  <a:off x="3445560" y="6084000"/>
                  <a:ext cx="198000" cy="1447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圆角矩形 71"/>
                <p:cNvSpPr/>
                <p:nvPr/>
              </p:nvSpPr>
              <p:spPr>
                <a:xfrm>
                  <a:off x="3445560" y="6406920"/>
                  <a:ext cx="198000" cy="1447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9" name="圆角矩形 72"/>
                <p:cNvSpPr/>
                <p:nvPr/>
              </p:nvSpPr>
              <p:spPr>
                <a:xfrm>
                  <a:off x="3445560" y="6728400"/>
                  <a:ext cx="198000" cy="1447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0" name="圆角矩形 73"/>
                <p:cNvSpPr/>
                <p:nvPr/>
              </p:nvSpPr>
              <p:spPr>
                <a:xfrm>
                  <a:off x="3445560" y="7051680"/>
                  <a:ext cx="198000" cy="13968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1" name="圆角矩形 74"/>
                <p:cNvSpPr/>
                <p:nvPr/>
              </p:nvSpPr>
              <p:spPr>
                <a:xfrm>
                  <a:off x="3445560" y="4795200"/>
                  <a:ext cx="198000" cy="1447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2" name="圆角矩形 75"/>
                <p:cNvSpPr/>
                <p:nvPr/>
              </p:nvSpPr>
              <p:spPr>
                <a:xfrm>
                  <a:off x="3445560" y="5118120"/>
                  <a:ext cx="198000" cy="1447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3" name="圆角矩形 76"/>
                <p:cNvSpPr/>
                <p:nvPr/>
              </p:nvSpPr>
              <p:spPr>
                <a:xfrm>
                  <a:off x="3445560" y="5439600"/>
                  <a:ext cx="198000" cy="1447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圆角矩形 77"/>
                <p:cNvSpPr/>
                <p:nvPr/>
              </p:nvSpPr>
              <p:spPr>
                <a:xfrm>
                  <a:off x="3445560" y="5762520"/>
                  <a:ext cx="198000" cy="1447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45" name="圆角矩形 94"/>
            <p:cNvSpPr/>
            <p:nvPr/>
          </p:nvSpPr>
          <p:spPr>
            <a:xfrm>
              <a:off x="928440" y="658440"/>
              <a:ext cx="2428920" cy="172872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圆角矩形 95"/>
            <p:cNvSpPr/>
            <p:nvPr/>
          </p:nvSpPr>
          <p:spPr>
            <a:xfrm>
              <a:off x="928440" y="2593800"/>
              <a:ext cx="2428920" cy="172872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圆角矩形 96"/>
            <p:cNvSpPr/>
            <p:nvPr/>
          </p:nvSpPr>
          <p:spPr>
            <a:xfrm>
              <a:off x="928440" y="4546800"/>
              <a:ext cx="2428920" cy="172872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圆角矩形 97"/>
            <p:cNvSpPr/>
            <p:nvPr/>
          </p:nvSpPr>
          <p:spPr>
            <a:xfrm>
              <a:off x="928440" y="6499440"/>
              <a:ext cx="2428920" cy="172872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圆角矩形 98"/>
            <p:cNvSpPr/>
            <p:nvPr/>
          </p:nvSpPr>
          <p:spPr>
            <a:xfrm>
              <a:off x="928440" y="-1300320"/>
              <a:ext cx="2428920" cy="172872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0" name="TextBox 99"/>
          <p:cNvSpPr/>
          <p:nvPr/>
        </p:nvSpPr>
        <p:spPr>
          <a:xfrm rot="21051000">
            <a:off x="797400" y="93996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TextBox 101"/>
          <p:cNvSpPr/>
          <p:nvPr/>
        </p:nvSpPr>
        <p:spPr>
          <a:xfrm rot="614400">
            <a:off x="767520" y="496404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直接连接符 105"/>
          <p:cNvSpPr/>
          <p:nvPr/>
        </p:nvSpPr>
        <p:spPr>
          <a:xfrm>
            <a:off x="928800" y="3451320"/>
            <a:ext cx="2519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直接连接符 109"/>
          <p:cNvSpPr/>
          <p:nvPr/>
        </p:nvSpPr>
        <p:spPr>
          <a:xfrm>
            <a:off x="2142360" y="2595600"/>
            <a:ext cx="1800" cy="172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4" name="组合 114"/>
          <p:cNvGrpSpPr/>
          <p:nvPr/>
        </p:nvGrpSpPr>
        <p:grpSpPr>
          <a:xfrm>
            <a:off x="1397160" y="2714760"/>
            <a:ext cx="1500120" cy="1500120"/>
            <a:chOff x="1397160" y="2714760"/>
            <a:chExt cx="1500120" cy="1500120"/>
          </a:xfrm>
        </p:grpSpPr>
        <p:sp>
          <p:nvSpPr>
            <p:cNvPr id="1155" name="同心圆 112"/>
            <p:cNvSpPr/>
            <p:nvPr/>
          </p:nvSpPr>
          <p:spPr>
            <a:xfrm>
              <a:off x="1397160" y="2714760"/>
              <a:ext cx="1500120" cy="1500120"/>
            </a:xfrm>
            <a:custGeom>
              <a:avLst/>
              <a:gdLst/>
              <a:ahLst/>
              <a:rect l="l" t="t" r="r" b="b"/>
              <a:pathLst>
                <a:path w="1500198" h="1500198">
                  <a:moveTo>
                    <a:pt x="0" y="750099"/>
                  </a:moveTo>
                  <a:cubicBezTo>
                    <a:pt x="0" y="335831"/>
                    <a:pt x="335831" y="0"/>
                    <a:pt x="750099" y="0"/>
                  </a:cubicBezTo>
                  <a:cubicBezTo>
                    <a:pt x="1164367" y="0"/>
                    <a:pt x="1500198" y="335831"/>
                    <a:pt x="1500198" y="750099"/>
                  </a:cubicBezTo>
                  <a:cubicBezTo>
                    <a:pt x="1500198" y="1164367"/>
                    <a:pt x="1164367" y="1500198"/>
                    <a:pt x="750099" y="1500198"/>
                  </a:cubicBezTo>
                  <a:cubicBezTo>
                    <a:pt x="335831" y="1500198"/>
                    <a:pt x="0" y="1164367"/>
                    <a:pt x="0" y="750099"/>
                  </a:cubicBezTo>
                  <a:close/>
                  <a:moveTo>
                    <a:pt x="103994" y="750099"/>
                  </a:moveTo>
                  <a:cubicBezTo>
                    <a:pt x="103994" y="1106933"/>
                    <a:pt x="393265" y="1396204"/>
                    <a:pt x="750099" y="1396204"/>
                  </a:cubicBezTo>
                  <a:cubicBezTo>
                    <a:pt x="1106933" y="1396204"/>
                    <a:pt x="1396204" y="1106933"/>
                    <a:pt x="1396204" y="750099"/>
                  </a:cubicBezTo>
                  <a:cubicBezTo>
                    <a:pt x="1396204" y="393265"/>
                    <a:pt x="1106933" y="103994"/>
                    <a:pt x="750099" y="103994"/>
                  </a:cubicBezTo>
                  <a:cubicBezTo>
                    <a:pt x="393265" y="103994"/>
                    <a:pt x="103994" y="393265"/>
                    <a:pt x="103994" y="750099"/>
                  </a:cubicBezTo>
                  <a:close/>
                </a:path>
              </a:pathLst>
            </a:custGeom>
            <a:solidFill>
              <a:srgbClr val="0079c5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6" name="椭圆 113"/>
            <p:cNvGrpSpPr/>
            <p:nvPr/>
          </p:nvGrpSpPr>
          <p:grpSpPr>
            <a:xfrm>
              <a:off x="1505880" y="2816280"/>
              <a:ext cx="1286280" cy="1286280"/>
              <a:chOff x="1505880" y="2816280"/>
              <a:chExt cx="1286280" cy="1286280"/>
            </a:xfrm>
          </p:grpSpPr>
          <p:pic>
            <p:nvPicPr>
              <p:cNvPr id="1157" name="椭圆 1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505880" y="2816280"/>
                <a:ext cx="1286280" cy="128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8" name="Text Box 73"/>
              <p:cNvSpPr/>
              <p:nvPr/>
            </p:nvSpPr>
            <p:spPr>
              <a:xfrm>
                <a:off x="1696680" y="3005640"/>
                <a:ext cx="909360" cy="9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59" name="圆角矩形 115"/>
          <p:cNvSpPr/>
          <p:nvPr/>
        </p:nvSpPr>
        <p:spPr>
          <a:xfrm>
            <a:off x="944640" y="2603520"/>
            <a:ext cx="2428920" cy="1727280"/>
          </a:xfrm>
          <a:prstGeom prst="roundRect">
            <a:avLst>
              <a:gd name="adj" fmla="val 6477"/>
            </a:avLst>
          </a:prstGeom>
          <a:solidFill>
            <a:srgbClr val="0079c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TextBox 116"/>
          <p:cNvSpPr/>
          <p:nvPr/>
        </p:nvSpPr>
        <p:spPr>
          <a:xfrm>
            <a:off x="1714680" y="2643120"/>
            <a:ext cx="1785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任意多边形 108"/>
          <p:cNvSpPr/>
          <p:nvPr/>
        </p:nvSpPr>
        <p:spPr>
          <a:xfrm>
            <a:off x="6624720" y="3786120"/>
            <a:ext cx="2519280" cy="4680"/>
          </a:xfrm>
          <a:custGeom>
            <a:avLst/>
            <a:gdLst/>
            <a:ahLst/>
            <a:rect l="l" t="t" r="r" b="b"/>
            <a:pathLst>
              <a:path w="2585545" h="4762">
                <a:moveTo>
                  <a:pt x="0" y="0"/>
                </a:moveTo>
                <a:lnTo>
                  <a:pt x="2585545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extBox 110"/>
          <p:cNvSpPr/>
          <p:nvPr/>
        </p:nvSpPr>
        <p:spPr>
          <a:xfrm>
            <a:off x="6564240" y="31035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色彩搭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1750" dur="indefinite" restart="never" nodeType="tmRoot">
          <p:childTnLst>
            <p:seq>
              <p:cTn id="1751" dur="indefinite" nodeType="mainSeq">
                <p:childTnLst>
                  <p:par>
                    <p:cTn id="1752" nodeType="clickEffect" fill="hold">
                      <p:stCondLst>
                        <p:cond delay="0"/>
                      </p:stCondLst>
                      <p:childTnLst>
                        <p:par>
                          <p:cTn id="1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6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7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758" nodeType="afterEffect" fill="hold" presetClass="entr" presetID="16" presetSubtype="2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60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1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63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4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17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7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9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0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771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3" dur="2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2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5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7" dur="2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8" dur="2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9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780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2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4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5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7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9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1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2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1793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5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6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7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8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1799" nodeType="afterEffect" fill="hold" presetClass="exit" presetID="21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800" dur="10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任意多边形 5"/>
          <p:cNvSpPr/>
          <p:nvPr/>
        </p:nvSpPr>
        <p:spPr>
          <a:xfrm>
            <a:off x="4334040" y="1857240"/>
            <a:ext cx="1177920" cy="1719360"/>
          </a:xfrm>
          <a:custGeom>
            <a:avLst/>
            <a:gdLst/>
            <a:ahLst/>
            <a:rect l="l" t="t" r="r" b="b"/>
            <a:pathLst>
              <a:path w="1178257" h="1719618">
                <a:moveTo>
                  <a:pt x="161499" y="1719618"/>
                </a:moveTo>
                <a:cubicBezTo>
                  <a:pt x="133066" y="1679812"/>
                  <a:pt x="97809" y="1628633"/>
                  <a:pt x="72788" y="1562669"/>
                </a:cubicBezTo>
                <a:cubicBezTo>
                  <a:pt x="47767" y="1496705"/>
                  <a:pt x="22746" y="1400033"/>
                  <a:pt x="11373" y="1323833"/>
                </a:cubicBezTo>
                <a:cubicBezTo>
                  <a:pt x="0" y="1247633"/>
                  <a:pt x="3412" y="1165746"/>
                  <a:pt x="4549" y="1105469"/>
                </a:cubicBezTo>
                <a:cubicBezTo>
                  <a:pt x="5686" y="1045192"/>
                  <a:pt x="7961" y="1017896"/>
                  <a:pt x="18197" y="962168"/>
                </a:cubicBezTo>
                <a:cubicBezTo>
                  <a:pt x="28433" y="906440"/>
                  <a:pt x="42080" y="838201"/>
                  <a:pt x="65964" y="771099"/>
                </a:cubicBezTo>
                <a:cubicBezTo>
                  <a:pt x="89848" y="703998"/>
                  <a:pt x="125105" y="624386"/>
                  <a:pt x="161499" y="559559"/>
                </a:cubicBezTo>
                <a:cubicBezTo>
                  <a:pt x="197893" y="494732"/>
                  <a:pt x="232012" y="441278"/>
                  <a:pt x="284328" y="382138"/>
                </a:cubicBezTo>
                <a:cubicBezTo>
                  <a:pt x="336644" y="322998"/>
                  <a:pt x="409433" y="252484"/>
                  <a:pt x="475397" y="204717"/>
                </a:cubicBezTo>
                <a:cubicBezTo>
                  <a:pt x="541361" y="156950"/>
                  <a:pt x="608462" y="123968"/>
                  <a:pt x="680113" y="95535"/>
                </a:cubicBezTo>
                <a:cubicBezTo>
                  <a:pt x="751764" y="67102"/>
                  <a:pt x="822277" y="50042"/>
                  <a:pt x="905301" y="34120"/>
                </a:cubicBezTo>
                <a:cubicBezTo>
                  <a:pt x="988325" y="18198"/>
                  <a:pt x="1083291" y="9099"/>
                  <a:pt x="1178257" y="0"/>
                </a:cubicBezTo>
              </a:path>
            </a:pathLst>
          </a:custGeom>
          <a:noFill/>
          <a:ln cap="rnd"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任意多边形 6"/>
          <p:cNvSpPr/>
          <p:nvPr/>
        </p:nvSpPr>
        <p:spPr>
          <a:xfrm>
            <a:off x="5484960" y="1859040"/>
            <a:ext cx="1155600" cy="1874880"/>
          </a:xfrm>
          <a:custGeom>
            <a:avLst/>
            <a:gdLst/>
            <a:ahLst/>
            <a:rect l="l" t="t" r="r" b="b"/>
            <a:pathLst>
              <a:path w="1155511" h="1874293">
                <a:moveTo>
                  <a:pt x="0" y="4549"/>
                </a:moveTo>
                <a:cubicBezTo>
                  <a:pt x="46630" y="2274"/>
                  <a:pt x="93260" y="0"/>
                  <a:pt x="150126" y="4549"/>
                </a:cubicBezTo>
                <a:cubicBezTo>
                  <a:pt x="206992" y="9098"/>
                  <a:pt x="280917" y="18197"/>
                  <a:pt x="341194" y="31845"/>
                </a:cubicBezTo>
                <a:cubicBezTo>
                  <a:pt x="401472" y="45493"/>
                  <a:pt x="459474" y="64827"/>
                  <a:pt x="511791" y="86436"/>
                </a:cubicBezTo>
                <a:cubicBezTo>
                  <a:pt x="564108" y="108045"/>
                  <a:pt x="606189" y="129654"/>
                  <a:pt x="655093" y="161499"/>
                </a:cubicBezTo>
                <a:cubicBezTo>
                  <a:pt x="703997" y="193344"/>
                  <a:pt x="760863" y="238836"/>
                  <a:pt x="805218" y="277505"/>
                </a:cubicBezTo>
                <a:cubicBezTo>
                  <a:pt x="849573" y="316174"/>
                  <a:pt x="883693" y="344607"/>
                  <a:pt x="921224" y="393511"/>
                </a:cubicBezTo>
                <a:cubicBezTo>
                  <a:pt x="958755" y="442415"/>
                  <a:pt x="999699" y="510654"/>
                  <a:pt x="1030406" y="570931"/>
                </a:cubicBezTo>
                <a:cubicBezTo>
                  <a:pt x="1061114" y="631209"/>
                  <a:pt x="1086135" y="693761"/>
                  <a:pt x="1105469" y="755176"/>
                </a:cubicBezTo>
                <a:cubicBezTo>
                  <a:pt x="1124803" y="816591"/>
                  <a:pt x="1138451" y="888242"/>
                  <a:pt x="1146412" y="939421"/>
                </a:cubicBezTo>
                <a:cubicBezTo>
                  <a:pt x="1154373" y="990600"/>
                  <a:pt x="1152099" y="1028132"/>
                  <a:pt x="1153236" y="1062251"/>
                </a:cubicBezTo>
                <a:cubicBezTo>
                  <a:pt x="1154373" y="1096370"/>
                  <a:pt x="1155511" y="1105468"/>
                  <a:pt x="1153236" y="1144137"/>
                </a:cubicBezTo>
                <a:cubicBezTo>
                  <a:pt x="1150961" y="1182806"/>
                  <a:pt x="1149824" y="1231711"/>
                  <a:pt x="1139588" y="1294263"/>
                </a:cubicBezTo>
                <a:cubicBezTo>
                  <a:pt x="1129352" y="1356815"/>
                  <a:pt x="1117979" y="1440976"/>
                  <a:pt x="1091821" y="1519451"/>
                </a:cubicBezTo>
                <a:cubicBezTo>
                  <a:pt x="1065663" y="1597926"/>
                  <a:pt x="1020170" y="1705971"/>
                  <a:pt x="982639" y="1765111"/>
                </a:cubicBezTo>
                <a:cubicBezTo>
                  <a:pt x="945108" y="1824251"/>
                  <a:pt x="905870" y="1849272"/>
                  <a:pt x="866633" y="1874293"/>
                </a:cubicBez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任意多边形 7"/>
          <p:cNvSpPr/>
          <p:nvPr/>
        </p:nvSpPr>
        <p:spPr>
          <a:xfrm>
            <a:off x="5695920" y="3679920"/>
            <a:ext cx="689040" cy="285480"/>
          </a:xfrm>
          <a:custGeom>
            <a:avLst/>
            <a:gdLst/>
            <a:ahLst/>
            <a:rect l="l" t="t" r="r" b="b"/>
            <a:pathLst>
              <a:path w="689212" h="286603">
                <a:moveTo>
                  <a:pt x="689212" y="27296"/>
                </a:moveTo>
                <a:cubicBezTo>
                  <a:pt x="678976" y="42081"/>
                  <a:pt x="668740" y="56866"/>
                  <a:pt x="648269" y="61415"/>
                </a:cubicBezTo>
                <a:cubicBezTo>
                  <a:pt x="627798" y="65964"/>
                  <a:pt x="598228" y="63691"/>
                  <a:pt x="566383" y="54592"/>
                </a:cubicBezTo>
                <a:cubicBezTo>
                  <a:pt x="534538" y="45493"/>
                  <a:pt x="479946" y="12511"/>
                  <a:pt x="457200" y="6824"/>
                </a:cubicBezTo>
                <a:cubicBezTo>
                  <a:pt x="434454" y="1137"/>
                  <a:pt x="460612" y="0"/>
                  <a:pt x="429905" y="20472"/>
                </a:cubicBezTo>
                <a:cubicBezTo>
                  <a:pt x="399198" y="40944"/>
                  <a:pt x="332096" y="89848"/>
                  <a:pt x="272956" y="129654"/>
                </a:cubicBezTo>
                <a:cubicBezTo>
                  <a:pt x="213816" y="169460"/>
                  <a:pt x="120556" y="233150"/>
                  <a:pt x="75063" y="259308"/>
                </a:cubicBezTo>
                <a:cubicBezTo>
                  <a:pt x="29570" y="285466"/>
                  <a:pt x="14785" y="286034"/>
                  <a:pt x="0" y="286603"/>
                </a:cubicBez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任意多边形 8"/>
          <p:cNvSpPr/>
          <p:nvPr/>
        </p:nvSpPr>
        <p:spPr>
          <a:xfrm>
            <a:off x="4761000" y="1946160"/>
            <a:ext cx="287280" cy="519120"/>
          </a:xfrm>
          <a:custGeom>
            <a:avLst/>
            <a:gdLst/>
            <a:ahLst/>
            <a:rect l="l" t="t" r="r" b="b"/>
            <a:pathLst>
              <a:path w="286603" h="518615">
                <a:moveTo>
                  <a:pt x="286603" y="0"/>
                </a:moveTo>
                <a:cubicBezTo>
                  <a:pt x="259307" y="14785"/>
                  <a:pt x="232012" y="29570"/>
                  <a:pt x="197892" y="68239"/>
                </a:cubicBezTo>
                <a:cubicBezTo>
                  <a:pt x="163772" y="106908"/>
                  <a:pt x="114868" y="156949"/>
                  <a:pt x="81886" y="232012"/>
                </a:cubicBezTo>
                <a:cubicBezTo>
                  <a:pt x="48904" y="307075"/>
                  <a:pt x="24452" y="412845"/>
                  <a:pt x="0" y="518615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任意多边形 9"/>
          <p:cNvSpPr/>
          <p:nvPr/>
        </p:nvSpPr>
        <p:spPr>
          <a:xfrm>
            <a:off x="4749840" y="2860560"/>
            <a:ext cx="312840" cy="927360"/>
          </a:xfrm>
          <a:custGeom>
            <a:avLst/>
            <a:gdLst/>
            <a:ahLst/>
            <a:rect l="l" t="t" r="r" b="b"/>
            <a:pathLst>
              <a:path w="311624" h="928048">
                <a:moveTo>
                  <a:pt x="4549" y="0"/>
                </a:moveTo>
                <a:cubicBezTo>
                  <a:pt x="2274" y="23883"/>
                  <a:pt x="0" y="47767"/>
                  <a:pt x="11373" y="116006"/>
                </a:cubicBezTo>
                <a:cubicBezTo>
                  <a:pt x="22746" y="184245"/>
                  <a:pt x="44355" y="312761"/>
                  <a:pt x="72788" y="409433"/>
                </a:cubicBezTo>
                <a:cubicBezTo>
                  <a:pt x="101221" y="506105"/>
                  <a:pt x="142164" y="609600"/>
                  <a:pt x="181970" y="696036"/>
                </a:cubicBezTo>
                <a:cubicBezTo>
                  <a:pt x="221776" y="782472"/>
                  <a:pt x="266700" y="855260"/>
                  <a:pt x="311624" y="92804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任意多边形 10"/>
          <p:cNvSpPr/>
          <p:nvPr/>
        </p:nvSpPr>
        <p:spPr>
          <a:xfrm>
            <a:off x="4097160" y="3556080"/>
            <a:ext cx="1824120" cy="477720"/>
          </a:xfrm>
          <a:custGeom>
            <a:avLst/>
            <a:gdLst/>
            <a:ahLst/>
            <a:rect l="l" t="t" r="r" b="b"/>
            <a:pathLst>
              <a:path w="1824252" h="478808">
                <a:moveTo>
                  <a:pt x="1824252" y="478808"/>
                </a:moveTo>
                <a:lnTo>
                  <a:pt x="725607" y="164910"/>
                </a:lnTo>
                <a:lnTo>
                  <a:pt x="247935" y="28432"/>
                </a:lnTo>
                <a:cubicBezTo>
                  <a:pt x="150126" y="1137"/>
                  <a:pt x="167186" y="2274"/>
                  <a:pt x="138753" y="1137"/>
                </a:cubicBezTo>
                <a:cubicBezTo>
                  <a:pt x="110320" y="0"/>
                  <a:pt x="97810" y="2274"/>
                  <a:pt x="77338" y="21608"/>
                </a:cubicBezTo>
                <a:cubicBezTo>
                  <a:pt x="56866" y="40942"/>
                  <a:pt x="28433" y="92122"/>
                  <a:pt x="15923" y="117143"/>
                </a:cubicBezTo>
                <a:cubicBezTo>
                  <a:pt x="3413" y="142164"/>
                  <a:pt x="0" y="144439"/>
                  <a:pt x="2275" y="171734"/>
                </a:cubicBezTo>
                <a:cubicBezTo>
                  <a:pt x="4550" y="199030"/>
                  <a:pt x="26159" y="266131"/>
                  <a:pt x="29571" y="280916"/>
                </a:cubicBezTo>
                <a:cubicBezTo>
                  <a:pt x="32983" y="295701"/>
                  <a:pt x="27865" y="278072"/>
                  <a:pt x="22747" y="260444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任意多边形 12"/>
          <p:cNvSpPr/>
          <p:nvPr/>
        </p:nvSpPr>
        <p:spPr>
          <a:xfrm>
            <a:off x="7354800" y="5713560"/>
            <a:ext cx="920880" cy="95040"/>
          </a:xfrm>
          <a:custGeom>
            <a:avLst/>
            <a:gdLst/>
            <a:ahLst/>
            <a:rect l="l" t="t" r="r" b="b"/>
            <a:pathLst>
              <a:path w="921224" h="95534">
                <a:moveTo>
                  <a:pt x="0" y="95534"/>
                </a:moveTo>
                <a:lnTo>
                  <a:pt x="818866" y="88710"/>
                </a:lnTo>
                <a:lnTo>
                  <a:pt x="921224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任意多边形 19"/>
          <p:cNvSpPr/>
          <p:nvPr/>
        </p:nvSpPr>
        <p:spPr>
          <a:xfrm>
            <a:off x="4197240" y="3564000"/>
            <a:ext cx="2843280" cy="2151000"/>
          </a:xfrm>
          <a:custGeom>
            <a:avLst/>
            <a:gdLst/>
            <a:ahLst/>
            <a:rect l="l" t="t" r="r" b="b"/>
            <a:pathLst>
              <a:path w="2843283" h="2150659">
                <a:moveTo>
                  <a:pt x="65964" y="5687"/>
                </a:moveTo>
                <a:cubicBezTo>
                  <a:pt x="37531" y="2843"/>
                  <a:pt x="9098" y="0"/>
                  <a:pt x="4549" y="26158"/>
                </a:cubicBezTo>
                <a:cubicBezTo>
                  <a:pt x="0" y="52316"/>
                  <a:pt x="6823" y="64827"/>
                  <a:pt x="38668" y="162636"/>
                </a:cubicBezTo>
                <a:cubicBezTo>
                  <a:pt x="70513" y="260445"/>
                  <a:pt x="109181" y="371902"/>
                  <a:pt x="195617" y="613012"/>
                </a:cubicBezTo>
                <a:cubicBezTo>
                  <a:pt x="282053" y="854122"/>
                  <a:pt x="473122" y="1382973"/>
                  <a:pt x="557283" y="1609298"/>
                </a:cubicBezTo>
                <a:cubicBezTo>
                  <a:pt x="641444" y="1835623"/>
                  <a:pt x="665327" y="1890215"/>
                  <a:pt x="700584" y="1970964"/>
                </a:cubicBezTo>
                <a:cubicBezTo>
                  <a:pt x="735841" y="2051713"/>
                  <a:pt x="743802" y="2065361"/>
                  <a:pt x="768823" y="2093794"/>
                </a:cubicBezTo>
                <a:cubicBezTo>
                  <a:pt x="793844" y="2122227"/>
                  <a:pt x="806355" y="2132463"/>
                  <a:pt x="850710" y="2141561"/>
                </a:cubicBezTo>
                <a:cubicBezTo>
                  <a:pt x="895065" y="2150659"/>
                  <a:pt x="1034955" y="2148385"/>
                  <a:pt x="1034955" y="2148385"/>
                </a:cubicBezTo>
                <a:lnTo>
                  <a:pt x="1785581" y="2148385"/>
                </a:lnTo>
                <a:lnTo>
                  <a:pt x="2843283" y="2148385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任意多边形 21"/>
          <p:cNvSpPr/>
          <p:nvPr/>
        </p:nvSpPr>
        <p:spPr>
          <a:xfrm>
            <a:off x="7327800" y="5719680"/>
            <a:ext cx="941400" cy="6480"/>
          </a:xfrm>
          <a:custGeom>
            <a:avLst/>
            <a:gdLst/>
            <a:ahLst/>
            <a:rect l="l" t="t" r="r" b="b"/>
            <a:pathLst>
              <a:path w="941695" h="6824">
                <a:moveTo>
                  <a:pt x="0" y="0"/>
                </a:moveTo>
                <a:lnTo>
                  <a:pt x="941695" y="682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任意多边形 25"/>
          <p:cNvSpPr/>
          <p:nvPr/>
        </p:nvSpPr>
        <p:spPr>
          <a:xfrm>
            <a:off x="3571920" y="5276880"/>
            <a:ext cx="1039680" cy="988920"/>
          </a:xfrm>
          <a:custGeom>
            <a:avLst/>
            <a:gdLst/>
            <a:ahLst/>
            <a:rect l="l" t="t" r="r" b="b"/>
            <a:pathLst>
              <a:path w="1039503" h="989462">
                <a:moveTo>
                  <a:pt x="1039503" y="0"/>
                </a:moveTo>
                <a:cubicBezTo>
                  <a:pt x="1003109" y="6255"/>
                  <a:pt x="966715" y="12510"/>
                  <a:pt x="896202" y="34119"/>
                </a:cubicBezTo>
                <a:cubicBezTo>
                  <a:pt x="825689" y="55728"/>
                  <a:pt x="709683" y="84160"/>
                  <a:pt x="616423" y="129653"/>
                </a:cubicBezTo>
                <a:cubicBezTo>
                  <a:pt x="523163" y="175146"/>
                  <a:pt x="419668" y="234286"/>
                  <a:pt x="336644" y="307074"/>
                </a:cubicBezTo>
                <a:cubicBezTo>
                  <a:pt x="253620" y="379862"/>
                  <a:pt x="168322" y="497006"/>
                  <a:pt x="118280" y="566382"/>
                </a:cubicBezTo>
                <a:cubicBezTo>
                  <a:pt x="68238" y="635758"/>
                  <a:pt x="54590" y="681251"/>
                  <a:pt x="36393" y="723331"/>
                </a:cubicBezTo>
                <a:cubicBezTo>
                  <a:pt x="18196" y="765411"/>
                  <a:pt x="0" y="790432"/>
                  <a:pt x="9098" y="818865"/>
                </a:cubicBezTo>
                <a:cubicBezTo>
                  <a:pt x="18196" y="847298"/>
                  <a:pt x="34118" y="868907"/>
                  <a:pt x="90984" y="893928"/>
                </a:cubicBezTo>
                <a:cubicBezTo>
                  <a:pt x="147850" y="918949"/>
                  <a:pt x="254758" y="953069"/>
                  <a:pt x="350292" y="968991"/>
                </a:cubicBezTo>
                <a:cubicBezTo>
                  <a:pt x="445826" y="984913"/>
                  <a:pt x="555008" y="987187"/>
                  <a:pt x="664190" y="989462"/>
                </a:cubicBezTo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任意多边形 26"/>
          <p:cNvSpPr/>
          <p:nvPr/>
        </p:nvSpPr>
        <p:spPr>
          <a:xfrm>
            <a:off x="4175280" y="6087960"/>
            <a:ext cx="1083960" cy="184320"/>
          </a:xfrm>
          <a:custGeom>
            <a:avLst/>
            <a:gdLst/>
            <a:ahLst/>
            <a:rect l="l" t="t" r="r" b="b"/>
            <a:pathLst>
              <a:path w="1084997" h="184245">
                <a:moveTo>
                  <a:pt x="0" y="170597"/>
                </a:moveTo>
                <a:cubicBezTo>
                  <a:pt x="54591" y="177421"/>
                  <a:pt x="109183" y="184245"/>
                  <a:pt x="197893" y="177421"/>
                </a:cubicBezTo>
                <a:cubicBezTo>
                  <a:pt x="286604" y="170597"/>
                  <a:pt x="384412" y="159224"/>
                  <a:pt x="532263" y="129654"/>
                </a:cubicBezTo>
                <a:cubicBezTo>
                  <a:pt x="680114" y="100084"/>
                  <a:pt x="882555" y="50042"/>
                  <a:pt x="1084997" y="0"/>
                </a:cubicBezTo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任意多边形 27"/>
          <p:cNvSpPr/>
          <p:nvPr/>
        </p:nvSpPr>
        <p:spPr>
          <a:xfrm>
            <a:off x="5146560" y="5899320"/>
            <a:ext cx="658800" cy="811080"/>
          </a:xfrm>
          <a:custGeom>
            <a:avLst/>
            <a:gdLst/>
            <a:ahLst/>
            <a:rect l="l" t="t" r="r" b="b"/>
            <a:pathLst>
              <a:path w="659642" h="812042">
                <a:moveTo>
                  <a:pt x="222913" y="0"/>
                </a:moveTo>
                <a:cubicBezTo>
                  <a:pt x="213246" y="6824"/>
                  <a:pt x="203579" y="13648"/>
                  <a:pt x="181970" y="61415"/>
                </a:cubicBezTo>
                <a:cubicBezTo>
                  <a:pt x="160361" y="109182"/>
                  <a:pt x="122829" y="194481"/>
                  <a:pt x="93259" y="286603"/>
                </a:cubicBezTo>
                <a:cubicBezTo>
                  <a:pt x="63689" y="378725"/>
                  <a:pt x="9098" y="544774"/>
                  <a:pt x="4549" y="614150"/>
                </a:cubicBezTo>
                <a:cubicBezTo>
                  <a:pt x="0" y="683526"/>
                  <a:pt x="9098" y="675565"/>
                  <a:pt x="65964" y="702860"/>
                </a:cubicBezTo>
                <a:cubicBezTo>
                  <a:pt x="122830" y="730155"/>
                  <a:pt x="246797" y="759726"/>
                  <a:pt x="345743" y="777923"/>
                </a:cubicBezTo>
                <a:cubicBezTo>
                  <a:pt x="444689" y="796120"/>
                  <a:pt x="552165" y="804081"/>
                  <a:pt x="659642" y="812042"/>
                </a:cubicBezTo>
              </a:path>
            </a:pathLst>
          </a:custGeom>
          <a:noFill/>
          <a:ln cap="rnd"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任意多边形 28"/>
          <p:cNvSpPr/>
          <p:nvPr/>
        </p:nvSpPr>
        <p:spPr>
          <a:xfrm>
            <a:off x="5784840" y="6178680"/>
            <a:ext cx="1082520" cy="536400"/>
          </a:xfrm>
          <a:custGeom>
            <a:avLst/>
            <a:gdLst/>
            <a:ahLst/>
            <a:rect l="l" t="t" r="r" b="b"/>
            <a:pathLst>
              <a:path w="1082722" h="536812">
                <a:moveTo>
                  <a:pt x="0" y="532263"/>
                </a:moveTo>
                <a:cubicBezTo>
                  <a:pt x="61983" y="534537"/>
                  <a:pt x="123967" y="536812"/>
                  <a:pt x="225188" y="532263"/>
                </a:cubicBezTo>
                <a:cubicBezTo>
                  <a:pt x="326409" y="527714"/>
                  <a:pt x="507242" y="518616"/>
                  <a:pt x="607325" y="504968"/>
                </a:cubicBezTo>
                <a:cubicBezTo>
                  <a:pt x="707408" y="491320"/>
                  <a:pt x="766549" y="473123"/>
                  <a:pt x="825689" y="450377"/>
                </a:cubicBezTo>
                <a:cubicBezTo>
                  <a:pt x="884829" y="427631"/>
                  <a:pt x="922361" y="407159"/>
                  <a:pt x="962167" y="368490"/>
                </a:cubicBezTo>
                <a:cubicBezTo>
                  <a:pt x="1001973" y="329821"/>
                  <a:pt x="1046328" y="269544"/>
                  <a:pt x="1064525" y="218365"/>
                </a:cubicBezTo>
                <a:cubicBezTo>
                  <a:pt x="1082722" y="167186"/>
                  <a:pt x="1073623" y="97809"/>
                  <a:pt x="1071349" y="61415"/>
                </a:cubicBezTo>
                <a:cubicBezTo>
                  <a:pt x="1069075" y="25021"/>
                  <a:pt x="1059976" y="12510"/>
                  <a:pt x="1050878" y="0"/>
                </a:cubicBezTo>
              </a:path>
            </a:pathLst>
          </a:custGeom>
          <a:noFill/>
          <a:ln cap="rnd"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任意多边形 30"/>
          <p:cNvSpPr/>
          <p:nvPr/>
        </p:nvSpPr>
        <p:spPr>
          <a:xfrm>
            <a:off x="5989680" y="3719520"/>
            <a:ext cx="403200" cy="173160"/>
          </a:xfrm>
          <a:custGeom>
            <a:avLst/>
            <a:gdLst/>
            <a:ahLst/>
            <a:rect l="l" t="t" r="r" b="b"/>
            <a:pathLst>
              <a:path w="402609" h="172872">
                <a:moveTo>
                  <a:pt x="402609" y="0"/>
                </a:moveTo>
                <a:cubicBezTo>
                  <a:pt x="369058" y="25021"/>
                  <a:pt x="335508" y="50042"/>
                  <a:pt x="300251" y="75063"/>
                </a:cubicBezTo>
                <a:cubicBezTo>
                  <a:pt x="264994" y="100084"/>
                  <a:pt x="220639" y="134203"/>
                  <a:pt x="191069" y="150125"/>
                </a:cubicBezTo>
                <a:cubicBezTo>
                  <a:pt x="161499" y="166047"/>
                  <a:pt x="144439" y="168322"/>
                  <a:pt x="122830" y="170597"/>
                </a:cubicBezTo>
                <a:cubicBezTo>
                  <a:pt x="101221" y="172872"/>
                  <a:pt x="73925" y="168322"/>
                  <a:pt x="61415" y="163773"/>
                </a:cubicBezTo>
                <a:cubicBezTo>
                  <a:pt x="48905" y="159224"/>
                  <a:pt x="58004" y="152400"/>
                  <a:pt x="47768" y="143301"/>
                </a:cubicBezTo>
                <a:cubicBezTo>
                  <a:pt x="37532" y="134202"/>
                  <a:pt x="18766" y="121692"/>
                  <a:pt x="0" y="10918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任意多边形 31"/>
          <p:cNvSpPr/>
          <p:nvPr/>
        </p:nvSpPr>
        <p:spPr>
          <a:xfrm>
            <a:off x="5937120" y="3870360"/>
            <a:ext cx="120960" cy="183960"/>
          </a:xfrm>
          <a:custGeom>
            <a:avLst/>
            <a:gdLst/>
            <a:ahLst/>
            <a:rect l="l" t="t" r="r" b="b"/>
            <a:pathLst>
              <a:path w="120555" h="184245">
                <a:moveTo>
                  <a:pt x="120555" y="13648"/>
                </a:moveTo>
                <a:cubicBezTo>
                  <a:pt x="102358" y="6824"/>
                  <a:pt x="84161" y="0"/>
                  <a:pt x="65964" y="6824"/>
                </a:cubicBezTo>
                <a:cubicBezTo>
                  <a:pt x="47767" y="13648"/>
                  <a:pt x="21609" y="32982"/>
                  <a:pt x="11373" y="54591"/>
                </a:cubicBezTo>
                <a:cubicBezTo>
                  <a:pt x="1137" y="76200"/>
                  <a:pt x="0" y="114869"/>
                  <a:pt x="4549" y="136478"/>
                </a:cubicBezTo>
                <a:cubicBezTo>
                  <a:pt x="9098" y="158087"/>
                  <a:pt x="23883" y="171166"/>
                  <a:pt x="38669" y="184245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任意多边形 32"/>
          <p:cNvSpPr/>
          <p:nvPr/>
        </p:nvSpPr>
        <p:spPr>
          <a:xfrm>
            <a:off x="6058080" y="3890880"/>
            <a:ext cx="860400" cy="246240"/>
          </a:xfrm>
          <a:custGeom>
            <a:avLst/>
            <a:gdLst/>
            <a:ahLst/>
            <a:rect l="l" t="t" r="r" b="b"/>
            <a:pathLst>
              <a:path w="859809" h="245660">
                <a:moveTo>
                  <a:pt x="0" y="0"/>
                </a:moveTo>
                <a:lnTo>
                  <a:pt x="859809" y="24566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任意多边形 33"/>
          <p:cNvSpPr/>
          <p:nvPr/>
        </p:nvSpPr>
        <p:spPr>
          <a:xfrm>
            <a:off x="5888160" y="4027320"/>
            <a:ext cx="1069920" cy="335160"/>
          </a:xfrm>
          <a:custGeom>
            <a:avLst/>
            <a:gdLst/>
            <a:ahLst/>
            <a:rect l="l" t="t" r="r" b="b"/>
            <a:pathLst>
              <a:path w="1071349" h="334370">
                <a:moveTo>
                  <a:pt x="0" y="0"/>
                </a:moveTo>
                <a:lnTo>
                  <a:pt x="81887" y="20471"/>
                </a:lnTo>
                <a:lnTo>
                  <a:pt x="88711" y="13647"/>
                </a:lnTo>
                <a:lnTo>
                  <a:pt x="1071349" y="33437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任意多边形 35"/>
          <p:cNvSpPr/>
          <p:nvPr/>
        </p:nvSpPr>
        <p:spPr>
          <a:xfrm>
            <a:off x="6892920" y="4084560"/>
            <a:ext cx="343080" cy="277920"/>
          </a:xfrm>
          <a:custGeom>
            <a:avLst/>
            <a:gdLst/>
            <a:ahLst/>
            <a:rect l="l" t="t" r="r" b="b"/>
            <a:pathLst>
              <a:path w="342332" h="276368">
                <a:moveTo>
                  <a:pt x="65964" y="276368"/>
                </a:moveTo>
                <a:cubicBezTo>
                  <a:pt x="43786" y="258171"/>
                  <a:pt x="21609" y="239974"/>
                  <a:pt x="11373" y="214953"/>
                </a:cubicBezTo>
                <a:cubicBezTo>
                  <a:pt x="1137" y="189932"/>
                  <a:pt x="0" y="153537"/>
                  <a:pt x="4549" y="126242"/>
                </a:cubicBezTo>
                <a:cubicBezTo>
                  <a:pt x="9098" y="98947"/>
                  <a:pt x="25021" y="69377"/>
                  <a:pt x="38669" y="51180"/>
                </a:cubicBezTo>
                <a:cubicBezTo>
                  <a:pt x="52317" y="32983"/>
                  <a:pt x="64827" y="25021"/>
                  <a:pt x="86436" y="17060"/>
                </a:cubicBezTo>
                <a:cubicBezTo>
                  <a:pt x="108045" y="9099"/>
                  <a:pt x="138753" y="0"/>
                  <a:pt x="168323" y="3412"/>
                </a:cubicBezTo>
                <a:cubicBezTo>
                  <a:pt x="197893" y="6824"/>
                  <a:pt x="236562" y="18198"/>
                  <a:pt x="263857" y="37532"/>
                </a:cubicBezTo>
                <a:cubicBezTo>
                  <a:pt x="291153" y="56866"/>
                  <a:pt x="321860" y="92123"/>
                  <a:pt x="332096" y="119418"/>
                </a:cubicBezTo>
                <a:cubicBezTo>
                  <a:pt x="342332" y="146713"/>
                  <a:pt x="330959" y="181971"/>
                  <a:pt x="325272" y="201305"/>
                </a:cubicBezTo>
                <a:cubicBezTo>
                  <a:pt x="319585" y="220639"/>
                  <a:pt x="308780" y="228031"/>
                  <a:pt x="297976" y="235424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任意多边形 36"/>
          <p:cNvSpPr/>
          <p:nvPr/>
        </p:nvSpPr>
        <p:spPr>
          <a:xfrm>
            <a:off x="6951600" y="4354560"/>
            <a:ext cx="74520" cy="846000"/>
          </a:xfrm>
          <a:custGeom>
            <a:avLst/>
            <a:gdLst/>
            <a:ahLst/>
            <a:rect l="l" t="t" r="r" b="b"/>
            <a:pathLst>
              <a:path w="75062" h="846161">
                <a:moveTo>
                  <a:pt x="0" y="0"/>
                </a:moveTo>
                <a:lnTo>
                  <a:pt x="20471" y="47767"/>
                </a:lnTo>
                <a:lnTo>
                  <a:pt x="75062" y="846161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任意多边形 37"/>
          <p:cNvSpPr/>
          <p:nvPr/>
        </p:nvSpPr>
        <p:spPr>
          <a:xfrm>
            <a:off x="7191360" y="4321080"/>
            <a:ext cx="60480" cy="893880"/>
          </a:xfrm>
          <a:custGeom>
            <a:avLst/>
            <a:gdLst/>
            <a:ahLst/>
            <a:rect l="l" t="t" r="r" b="b"/>
            <a:pathLst>
              <a:path w="61415" h="893929">
                <a:moveTo>
                  <a:pt x="0" y="0"/>
                </a:moveTo>
                <a:lnTo>
                  <a:pt x="61415" y="893929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任意多边形 39"/>
          <p:cNvSpPr/>
          <p:nvPr/>
        </p:nvSpPr>
        <p:spPr>
          <a:xfrm>
            <a:off x="6942240" y="5180040"/>
            <a:ext cx="398520" cy="382680"/>
          </a:xfrm>
          <a:custGeom>
            <a:avLst/>
            <a:gdLst/>
            <a:ahLst/>
            <a:rect l="l" t="t" r="r" b="b"/>
            <a:pathLst>
              <a:path w="399197" h="382138">
                <a:moveTo>
                  <a:pt x="303662" y="375314"/>
                </a:moveTo>
                <a:cubicBezTo>
                  <a:pt x="320722" y="367352"/>
                  <a:pt x="337782" y="359391"/>
                  <a:pt x="351430" y="348018"/>
                </a:cubicBezTo>
                <a:cubicBezTo>
                  <a:pt x="365078" y="336645"/>
                  <a:pt x="377588" y="328684"/>
                  <a:pt x="385549" y="307075"/>
                </a:cubicBezTo>
                <a:cubicBezTo>
                  <a:pt x="393510" y="285466"/>
                  <a:pt x="399197" y="247935"/>
                  <a:pt x="399197" y="218365"/>
                </a:cubicBezTo>
                <a:cubicBezTo>
                  <a:pt x="399197" y="188795"/>
                  <a:pt x="396922" y="156950"/>
                  <a:pt x="385549" y="129654"/>
                </a:cubicBezTo>
                <a:cubicBezTo>
                  <a:pt x="374176" y="102358"/>
                  <a:pt x="348018" y="72788"/>
                  <a:pt x="330958" y="54591"/>
                </a:cubicBezTo>
                <a:cubicBezTo>
                  <a:pt x="313898" y="36394"/>
                  <a:pt x="304800" y="29570"/>
                  <a:pt x="283191" y="20472"/>
                </a:cubicBezTo>
                <a:cubicBezTo>
                  <a:pt x="261582" y="11374"/>
                  <a:pt x="230874" y="0"/>
                  <a:pt x="201304" y="0"/>
                </a:cubicBezTo>
                <a:cubicBezTo>
                  <a:pt x="171734" y="0"/>
                  <a:pt x="133065" y="7962"/>
                  <a:pt x="105770" y="20472"/>
                </a:cubicBezTo>
                <a:cubicBezTo>
                  <a:pt x="78475" y="32982"/>
                  <a:pt x="54591" y="46630"/>
                  <a:pt x="37531" y="75063"/>
                </a:cubicBezTo>
                <a:cubicBezTo>
                  <a:pt x="20471" y="103496"/>
                  <a:pt x="6824" y="153538"/>
                  <a:pt x="3412" y="191069"/>
                </a:cubicBezTo>
                <a:cubicBezTo>
                  <a:pt x="0" y="228600"/>
                  <a:pt x="1137" y="268406"/>
                  <a:pt x="17059" y="300251"/>
                </a:cubicBezTo>
                <a:cubicBezTo>
                  <a:pt x="32981" y="332096"/>
                  <a:pt x="65963" y="357117"/>
                  <a:pt x="98946" y="38213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任意多边形 40"/>
          <p:cNvSpPr/>
          <p:nvPr/>
        </p:nvSpPr>
        <p:spPr>
          <a:xfrm>
            <a:off x="6508800" y="5460840"/>
            <a:ext cx="716040" cy="559080"/>
          </a:xfrm>
          <a:custGeom>
            <a:avLst/>
            <a:gdLst/>
            <a:ahLst/>
            <a:rect l="l" t="t" r="r" b="b"/>
            <a:pathLst>
              <a:path w="716508" h="559559">
                <a:moveTo>
                  <a:pt x="532263" y="0"/>
                </a:moveTo>
                <a:lnTo>
                  <a:pt x="545911" y="272956"/>
                </a:lnTo>
                <a:lnTo>
                  <a:pt x="539087" y="320723"/>
                </a:lnTo>
                <a:lnTo>
                  <a:pt x="518615" y="334371"/>
                </a:lnTo>
                <a:lnTo>
                  <a:pt x="300251" y="375314"/>
                </a:lnTo>
                <a:lnTo>
                  <a:pt x="0" y="388962"/>
                </a:lnTo>
                <a:lnTo>
                  <a:pt x="129654" y="559559"/>
                </a:lnTo>
                <a:lnTo>
                  <a:pt x="539087" y="539087"/>
                </a:lnTo>
                <a:lnTo>
                  <a:pt x="696036" y="525439"/>
                </a:lnTo>
                <a:lnTo>
                  <a:pt x="716508" y="504968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任意多边形 41"/>
          <p:cNvSpPr/>
          <p:nvPr/>
        </p:nvSpPr>
        <p:spPr>
          <a:xfrm>
            <a:off x="7197840" y="5440320"/>
            <a:ext cx="47520" cy="538200"/>
          </a:xfrm>
          <a:custGeom>
            <a:avLst/>
            <a:gdLst/>
            <a:ahLst/>
            <a:rect l="l" t="t" r="r" b="b"/>
            <a:pathLst>
              <a:path w="47767" h="539086">
                <a:moveTo>
                  <a:pt x="13648" y="539086"/>
                </a:moveTo>
                <a:lnTo>
                  <a:pt x="47767" y="498143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任意多边形 42"/>
          <p:cNvSpPr/>
          <p:nvPr/>
        </p:nvSpPr>
        <p:spPr>
          <a:xfrm>
            <a:off x="7040520" y="5430960"/>
            <a:ext cx="225360" cy="117360"/>
          </a:xfrm>
          <a:custGeom>
            <a:avLst/>
            <a:gdLst/>
            <a:ahLst/>
            <a:rect l="l" t="t" r="r" b="b"/>
            <a:pathLst>
              <a:path w="225188" h="118280">
                <a:moveTo>
                  <a:pt x="0" y="43217"/>
                </a:moveTo>
                <a:cubicBezTo>
                  <a:pt x="15922" y="51747"/>
                  <a:pt x="31845" y="60277"/>
                  <a:pt x="54591" y="56865"/>
                </a:cubicBezTo>
                <a:cubicBezTo>
                  <a:pt x="77337" y="53453"/>
                  <a:pt x="119418" y="29570"/>
                  <a:pt x="136478" y="22746"/>
                </a:cubicBezTo>
                <a:cubicBezTo>
                  <a:pt x="153538" y="15922"/>
                  <a:pt x="142164" y="0"/>
                  <a:pt x="156949" y="15922"/>
                </a:cubicBezTo>
                <a:cubicBezTo>
                  <a:pt x="171734" y="31844"/>
                  <a:pt x="198461" y="75062"/>
                  <a:pt x="225188" y="11828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任意多边形 43"/>
          <p:cNvSpPr/>
          <p:nvPr/>
        </p:nvSpPr>
        <p:spPr>
          <a:xfrm>
            <a:off x="6692760" y="5514840"/>
            <a:ext cx="689040" cy="627120"/>
          </a:xfrm>
          <a:custGeom>
            <a:avLst/>
            <a:gdLst/>
            <a:ahLst/>
            <a:rect l="l" t="t" r="r" b="b"/>
            <a:pathLst>
              <a:path w="689212" h="627797">
                <a:moveTo>
                  <a:pt x="0" y="518615"/>
                </a:moveTo>
                <a:lnTo>
                  <a:pt x="109182" y="627797"/>
                </a:lnTo>
                <a:lnTo>
                  <a:pt x="614149" y="614150"/>
                </a:lnTo>
                <a:lnTo>
                  <a:pt x="668740" y="593678"/>
                </a:lnTo>
                <a:lnTo>
                  <a:pt x="689212" y="545911"/>
                </a:lnTo>
                <a:lnTo>
                  <a:pt x="627797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任意多边形 44"/>
          <p:cNvSpPr/>
          <p:nvPr/>
        </p:nvSpPr>
        <p:spPr>
          <a:xfrm>
            <a:off x="6734160" y="5535720"/>
            <a:ext cx="558720" cy="538200"/>
          </a:xfrm>
          <a:custGeom>
            <a:avLst/>
            <a:gdLst/>
            <a:ahLst/>
            <a:rect l="l" t="t" r="r" b="b"/>
            <a:pathLst>
              <a:path w="559559" h="539087">
                <a:moveTo>
                  <a:pt x="0" y="539087"/>
                </a:moveTo>
                <a:lnTo>
                  <a:pt x="436729" y="518615"/>
                </a:lnTo>
                <a:lnTo>
                  <a:pt x="525439" y="504967"/>
                </a:lnTo>
                <a:lnTo>
                  <a:pt x="545911" y="491320"/>
                </a:lnTo>
                <a:lnTo>
                  <a:pt x="559559" y="457200"/>
                </a:lnTo>
                <a:lnTo>
                  <a:pt x="552735" y="300251"/>
                </a:lnTo>
                <a:lnTo>
                  <a:pt x="532263" y="0"/>
                </a:lnTo>
              </a:path>
            </a:pathLst>
          </a:custGeom>
          <a:noFill/>
          <a:ln w="31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任意多边形 48"/>
          <p:cNvSpPr/>
          <p:nvPr/>
        </p:nvSpPr>
        <p:spPr>
          <a:xfrm>
            <a:off x="4605480" y="4321080"/>
            <a:ext cx="66600" cy="12960"/>
          </a:xfrm>
          <a:custGeom>
            <a:avLst/>
            <a:gdLst/>
            <a:ahLst/>
            <a:rect l="l" t="t" r="r" b="b"/>
            <a:pathLst>
              <a:path w="68238" h="13648">
                <a:moveTo>
                  <a:pt x="0" y="0"/>
                </a:moveTo>
                <a:lnTo>
                  <a:pt x="68238" y="13648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任意多边形 52"/>
          <p:cNvSpPr/>
          <p:nvPr/>
        </p:nvSpPr>
        <p:spPr>
          <a:xfrm>
            <a:off x="5410080" y="5268960"/>
            <a:ext cx="12960" cy="88920"/>
          </a:xfrm>
          <a:custGeom>
            <a:avLst/>
            <a:gdLst/>
            <a:ahLst/>
            <a:rect l="l" t="t" r="r" b="b"/>
            <a:pathLst>
              <a:path w="13647" h="88710">
                <a:moveTo>
                  <a:pt x="13647" y="88710"/>
                </a:moveTo>
                <a:lnTo>
                  <a:pt x="0" y="0"/>
                </a:lnTo>
                <a:lnTo>
                  <a:pt x="13647" y="8871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组合 123"/>
          <p:cNvGrpSpPr/>
          <p:nvPr/>
        </p:nvGrpSpPr>
        <p:grpSpPr>
          <a:xfrm>
            <a:off x="4605480" y="4307040"/>
            <a:ext cx="1582560" cy="1106280"/>
            <a:chOff x="4605480" y="4307040"/>
            <a:chExt cx="1582560" cy="1106280"/>
          </a:xfrm>
        </p:grpSpPr>
        <p:sp>
          <p:nvSpPr>
            <p:cNvPr id="83" name="任意多边形 49"/>
            <p:cNvSpPr/>
            <p:nvPr/>
          </p:nvSpPr>
          <p:spPr>
            <a:xfrm>
              <a:off x="4605480" y="4307040"/>
              <a:ext cx="68040" cy="47520"/>
            </a:xfrm>
            <a:custGeom>
              <a:avLst/>
              <a:gdLst/>
              <a:ahLst/>
              <a:rect l="l" t="t" r="r" b="b"/>
              <a:pathLst>
                <a:path w="68238" h="47767">
                  <a:moveTo>
                    <a:pt x="0" y="0"/>
                  </a:moveTo>
                  <a:lnTo>
                    <a:pt x="54591" y="20471"/>
                  </a:lnTo>
                  <a:lnTo>
                    <a:pt x="68238" y="27295"/>
                  </a:lnTo>
                  <a:lnTo>
                    <a:pt x="34119" y="477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任意多边形 50"/>
            <p:cNvSpPr/>
            <p:nvPr/>
          </p:nvSpPr>
          <p:spPr>
            <a:xfrm>
              <a:off x="4714920" y="4586400"/>
              <a:ext cx="74520" cy="68040"/>
            </a:xfrm>
            <a:custGeom>
              <a:avLst/>
              <a:gdLst/>
              <a:ahLst/>
              <a:rect l="l" t="t" r="r" b="b"/>
              <a:pathLst>
                <a:path w="75062" h="68239">
                  <a:moveTo>
                    <a:pt x="0" y="0"/>
                  </a:moveTo>
                  <a:lnTo>
                    <a:pt x="40943" y="40943"/>
                  </a:lnTo>
                  <a:lnTo>
                    <a:pt x="75062" y="40943"/>
                  </a:lnTo>
                  <a:lnTo>
                    <a:pt x="34119" y="682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任意多边形 51"/>
            <p:cNvSpPr/>
            <p:nvPr/>
          </p:nvSpPr>
          <p:spPr>
            <a:xfrm>
              <a:off x="4834080" y="4927680"/>
              <a:ext cx="98280" cy="55440"/>
            </a:xfrm>
            <a:custGeom>
              <a:avLst/>
              <a:gdLst/>
              <a:ahLst/>
              <a:rect l="l" t="t" r="r" b="b"/>
              <a:pathLst>
                <a:path w="98447" h="54591">
                  <a:moveTo>
                    <a:pt x="16560" y="0"/>
                  </a:moveTo>
                  <a:lnTo>
                    <a:pt x="64327" y="27295"/>
                  </a:lnTo>
                  <a:lnTo>
                    <a:pt x="98447" y="27295"/>
                  </a:lnTo>
                  <a:lnTo>
                    <a:pt x="57504" y="47767"/>
                  </a:lnTo>
                  <a:lnTo>
                    <a:pt x="30208" y="54591"/>
                  </a:lnTo>
                  <a:cubicBezTo>
                    <a:pt x="15935" y="4637"/>
                    <a:pt x="0" y="6824"/>
                    <a:pt x="16560" y="0"/>
                  </a:cubicBez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任意多边形 53"/>
            <p:cNvSpPr/>
            <p:nvPr/>
          </p:nvSpPr>
          <p:spPr>
            <a:xfrm>
              <a:off x="5369040" y="5276880"/>
              <a:ext cx="819000" cy="136440"/>
            </a:xfrm>
            <a:custGeom>
              <a:avLst/>
              <a:gdLst/>
              <a:ahLst/>
              <a:rect l="l" t="t" r="r" b="b"/>
              <a:pathLst>
                <a:path w="818866" h="136477">
                  <a:moveTo>
                    <a:pt x="0" y="75062"/>
                  </a:moveTo>
                  <a:lnTo>
                    <a:pt x="54591" y="75062"/>
                  </a:lnTo>
                  <a:lnTo>
                    <a:pt x="40944" y="0"/>
                  </a:lnTo>
                  <a:lnTo>
                    <a:pt x="81887" y="75062"/>
                  </a:lnTo>
                  <a:lnTo>
                    <a:pt x="429905" y="102358"/>
                  </a:lnTo>
                  <a:lnTo>
                    <a:pt x="429905" y="47767"/>
                  </a:lnTo>
                  <a:lnTo>
                    <a:pt x="457200" y="102358"/>
                  </a:lnTo>
                  <a:lnTo>
                    <a:pt x="777923" y="122830"/>
                  </a:lnTo>
                  <a:lnTo>
                    <a:pt x="777923" y="88710"/>
                  </a:lnTo>
                  <a:lnTo>
                    <a:pt x="812042" y="116006"/>
                  </a:lnTo>
                  <a:lnTo>
                    <a:pt x="818866" y="129654"/>
                  </a:lnTo>
                  <a:lnTo>
                    <a:pt x="791570" y="136477"/>
                  </a:lnTo>
                  <a:lnTo>
                    <a:pt x="0" y="75062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任意多边形 54"/>
          <p:cNvSpPr/>
          <p:nvPr/>
        </p:nvSpPr>
        <p:spPr>
          <a:xfrm>
            <a:off x="4392720" y="3672000"/>
            <a:ext cx="2409840" cy="662040"/>
          </a:xfrm>
          <a:custGeom>
            <a:avLst/>
            <a:gdLst/>
            <a:ahLst/>
            <a:rect l="l" t="t" r="r" b="b"/>
            <a:pathLst>
              <a:path w="2408830" h="661916">
                <a:moveTo>
                  <a:pt x="0" y="0"/>
                </a:moveTo>
                <a:lnTo>
                  <a:pt x="197893" y="47767"/>
                </a:lnTo>
                <a:lnTo>
                  <a:pt x="225188" y="68239"/>
                </a:lnTo>
                <a:lnTo>
                  <a:pt x="245660" y="61415"/>
                </a:lnTo>
                <a:lnTo>
                  <a:pt x="443553" y="116006"/>
                </a:lnTo>
                <a:lnTo>
                  <a:pt x="450376" y="129653"/>
                </a:lnTo>
                <a:lnTo>
                  <a:pt x="457200" y="116006"/>
                </a:lnTo>
                <a:lnTo>
                  <a:pt x="648269" y="163773"/>
                </a:lnTo>
                <a:lnTo>
                  <a:pt x="655093" y="184244"/>
                </a:lnTo>
                <a:lnTo>
                  <a:pt x="675564" y="170597"/>
                </a:lnTo>
                <a:lnTo>
                  <a:pt x="859809" y="218364"/>
                </a:lnTo>
                <a:lnTo>
                  <a:pt x="873457" y="245659"/>
                </a:lnTo>
                <a:lnTo>
                  <a:pt x="887105" y="225188"/>
                </a:lnTo>
                <a:lnTo>
                  <a:pt x="1030406" y="259307"/>
                </a:lnTo>
                <a:lnTo>
                  <a:pt x="1050878" y="286603"/>
                </a:lnTo>
                <a:lnTo>
                  <a:pt x="1071350" y="272955"/>
                </a:lnTo>
                <a:lnTo>
                  <a:pt x="1194179" y="307074"/>
                </a:lnTo>
                <a:lnTo>
                  <a:pt x="1214651" y="327546"/>
                </a:lnTo>
                <a:lnTo>
                  <a:pt x="1241947" y="313898"/>
                </a:lnTo>
                <a:lnTo>
                  <a:pt x="1385248" y="354842"/>
                </a:lnTo>
                <a:lnTo>
                  <a:pt x="1398896" y="382137"/>
                </a:lnTo>
                <a:lnTo>
                  <a:pt x="1426191" y="375313"/>
                </a:lnTo>
                <a:lnTo>
                  <a:pt x="1549021" y="409433"/>
                </a:lnTo>
                <a:lnTo>
                  <a:pt x="1576317" y="436728"/>
                </a:lnTo>
                <a:lnTo>
                  <a:pt x="1596788" y="416256"/>
                </a:lnTo>
                <a:lnTo>
                  <a:pt x="1692323" y="443552"/>
                </a:lnTo>
                <a:lnTo>
                  <a:pt x="1712794" y="464024"/>
                </a:lnTo>
                <a:lnTo>
                  <a:pt x="1719618" y="457200"/>
                </a:lnTo>
                <a:lnTo>
                  <a:pt x="1828800" y="491319"/>
                </a:lnTo>
                <a:lnTo>
                  <a:pt x="1856096" y="511791"/>
                </a:lnTo>
                <a:lnTo>
                  <a:pt x="1876567" y="511791"/>
                </a:lnTo>
                <a:lnTo>
                  <a:pt x="1972102" y="539086"/>
                </a:lnTo>
                <a:lnTo>
                  <a:pt x="1985750" y="552734"/>
                </a:lnTo>
                <a:lnTo>
                  <a:pt x="2006221" y="545910"/>
                </a:lnTo>
                <a:lnTo>
                  <a:pt x="2088108" y="566382"/>
                </a:lnTo>
                <a:lnTo>
                  <a:pt x="2108579" y="586853"/>
                </a:lnTo>
                <a:lnTo>
                  <a:pt x="2122227" y="580030"/>
                </a:lnTo>
                <a:lnTo>
                  <a:pt x="2245057" y="614149"/>
                </a:lnTo>
                <a:lnTo>
                  <a:pt x="2251881" y="627797"/>
                </a:lnTo>
                <a:lnTo>
                  <a:pt x="2279176" y="627797"/>
                </a:lnTo>
                <a:lnTo>
                  <a:pt x="2347415" y="641444"/>
                </a:lnTo>
                <a:lnTo>
                  <a:pt x="2381535" y="661916"/>
                </a:lnTo>
                <a:lnTo>
                  <a:pt x="2408830" y="655092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组合 108"/>
          <p:cNvGrpSpPr/>
          <p:nvPr/>
        </p:nvGrpSpPr>
        <p:grpSpPr>
          <a:xfrm>
            <a:off x="4357800" y="3713040"/>
            <a:ext cx="403200" cy="376200"/>
            <a:chOff x="4357800" y="3713040"/>
            <a:chExt cx="403200" cy="376200"/>
          </a:xfrm>
        </p:grpSpPr>
        <p:sp>
          <p:nvSpPr>
            <p:cNvPr id="89" name="任意多边形 46"/>
            <p:cNvSpPr/>
            <p:nvPr/>
          </p:nvSpPr>
          <p:spPr>
            <a:xfrm>
              <a:off x="4357800" y="3713040"/>
              <a:ext cx="88920" cy="142920"/>
            </a:xfrm>
            <a:custGeom>
              <a:avLst/>
              <a:gdLst/>
              <a:ahLst/>
              <a:rect l="l" t="t" r="r" b="b"/>
              <a:pathLst>
                <a:path w="88710" h="143301">
                  <a:moveTo>
                    <a:pt x="0" y="0"/>
                  </a:moveTo>
                  <a:lnTo>
                    <a:pt x="54591" y="102358"/>
                  </a:lnTo>
                  <a:lnTo>
                    <a:pt x="88710" y="129654"/>
                  </a:lnTo>
                  <a:lnTo>
                    <a:pt x="61415" y="1433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任意多边形 47"/>
            <p:cNvSpPr/>
            <p:nvPr/>
          </p:nvSpPr>
          <p:spPr>
            <a:xfrm>
              <a:off x="4487760" y="4035240"/>
              <a:ext cx="61920" cy="54000"/>
            </a:xfrm>
            <a:custGeom>
              <a:avLst/>
              <a:gdLst/>
              <a:ahLst/>
              <a:rect l="l" t="t" r="r" b="b"/>
              <a:pathLst>
                <a:path w="61414" h="54591">
                  <a:moveTo>
                    <a:pt x="0" y="0"/>
                  </a:moveTo>
                  <a:lnTo>
                    <a:pt x="-4122" y="-24592"/>
                  </a:lnTo>
                  <a:lnTo>
                    <a:pt x="-31417" y="-109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任意多边形 55"/>
            <p:cNvSpPr/>
            <p:nvPr/>
          </p:nvSpPr>
          <p:spPr>
            <a:xfrm>
              <a:off x="4419720" y="3828960"/>
              <a:ext cx="129960" cy="233280"/>
            </a:xfrm>
            <a:custGeom>
              <a:avLst/>
              <a:gdLst/>
              <a:ahLst/>
              <a:rect l="l" t="t" r="r" b="b"/>
              <a:pathLst>
                <a:path w="129653" h="232012">
                  <a:moveTo>
                    <a:pt x="0" y="20472"/>
                  </a:moveTo>
                  <a:lnTo>
                    <a:pt x="61415" y="0"/>
                  </a:lnTo>
                  <a:lnTo>
                    <a:pt x="129653" y="150125"/>
                  </a:lnTo>
                  <a:lnTo>
                    <a:pt x="95534" y="232012"/>
                  </a:lnTo>
                  <a:lnTo>
                    <a:pt x="0" y="20472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任意多边形 56"/>
            <p:cNvSpPr/>
            <p:nvPr/>
          </p:nvSpPr>
          <p:spPr>
            <a:xfrm>
              <a:off x="4487760" y="3836880"/>
              <a:ext cx="266760" cy="163440"/>
            </a:xfrm>
            <a:custGeom>
              <a:avLst/>
              <a:gdLst/>
              <a:ahLst/>
              <a:rect l="l" t="t" r="r" b="b"/>
              <a:pathLst>
                <a:path w="266131" h="163773">
                  <a:moveTo>
                    <a:pt x="0" y="0"/>
                  </a:moveTo>
                  <a:lnTo>
                    <a:pt x="204716" y="40943"/>
                  </a:lnTo>
                  <a:lnTo>
                    <a:pt x="266131" y="163773"/>
                  </a:lnTo>
                  <a:lnTo>
                    <a:pt x="75062" y="1296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任意多边形 57"/>
            <p:cNvSpPr/>
            <p:nvPr/>
          </p:nvSpPr>
          <p:spPr>
            <a:xfrm>
              <a:off x="4529160" y="3986280"/>
              <a:ext cx="231840" cy="88920"/>
            </a:xfrm>
            <a:custGeom>
              <a:avLst/>
              <a:gdLst/>
              <a:ahLst/>
              <a:rect l="l" t="t" r="r" b="b"/>
              <a:pathLst>
                <a:path w="232012" h="88711">
                  <a:moveTo>
                    <a:pt x="34119" y="0"/>
                  </a:moveTo>
                  <a:lnTo>
                    <a:pt x="218364" y="27296"/>
                  </a:lnTo>
                  <a:lnTo>
                    <a:pt x="232012" y="88711"/>
                  </a:lnTo>
                  <a:lnTo>
                    <a:pt x="81886" y="61415"/>
                  </a:lnTo>
                  <a:lnTo>
                    <a:pt x="27295" y="81887"/>
                  </a:lnTo>
                  <a:lnTo>
                    <a:pt x="0" y="68239"/>
                  </a:lnTo>
                  <a:lnTo>
                    <a:pt x="34119" y="0"/>
                  </a:lnTo>
                  <a:close/>
                </a:path>
              </a:pathLst>
            </a:cu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组合 112"/>
          <p:cNvGrpSpPr/>
          <p:nvPr/>
        </p:nvGrpSpPr>
        <p:grpSpPr>
          <a:xfrm>
            <a:off x="4527720" y="4059360"/>
            <a:ext cx="473040" cy="315720"/>
            <a:chOff x="4527720" y="4059360"/>
            <a:chExt cx="473040" cy="315720"/>
          </a:xfrm>
        </p:grpSpPr>
        <p:sp>
          <p:nvSpPr>
            <p:cNvPr id="95" name="任意多边形 58"/>
            <p:cNvSpPr/>
            <p:nvPr/>
          </p:nvSpPr>
          <p:spPr>
            <a:xfrm>
              <a:off x="4527720" y="4059360"/>
              <a:ext cx="142920" cy="252360"/>
            </a:xfrm>
            <a:custGeom>
              <a:avLst/>
              <a:gdLst/>
              <a:ahLst/>
              <a:rect l="l" t="t" r="r" b="b"/>
              <a:pathLst>
                <a:path w="143301" h="259307">
                  <a:moveTo>
                    <a:pt x="0" y="34119"/>
                  </a:moveTo>
                  <a:lnTo>
                    <a:pt x="61415" y="0"/>
                  </a:lnTo>
                  <a:lnTo>
                    <a:pt x="143301" y="177421"/>
                  </a:lnTo>
                  <a:lnTo>
                    <a:pt x="81886" y="259307"/>
                  </a:lnTo>
                  <a:lnTo>
                    <a:pt x="0" y="34119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任意多边形 59"/>
            <p:cNvSpPr/>
            <p:nvPr/>
          </p:nvSpPr>
          <p:spPr>
            <a:xfrm>
              <a:off x="4626000" y="4232160"/>
              <a:ext cx="374760" cy="142920"/>
            </a:xfrm>
            <a:custGeom>
              <a:avLst/>
              <a:gdLst/>
              <a:ahLst/>
              <a:rect l="l" t="t" r="r" b="b"/>
              <a:pathLst>
                <a:path w="375313" h="143301">
                  <a:moveTo>
                    <a:pt x="40943" y="0"/>
                  </a:moveTo>
                  <a:lnTo>
                    <a:pt x="0" y="88710"/>
                  </a:lnTo>
                  <a:lnTo>
                    <a:pt x="34119" y="102358"/>
                  </a:lnTo>
                  <a:lnTo>
                    <a:pt x="54591" y="95534"/>
                  </a:lnTo>
                  <a:lnTo>
                    <a:pt x="375313" y="143301"/>
                  </a:lnTo>
                  <a:lnTo>
                    <a:pt x="354842" y="61415"/>
                  </a:lnTo>
                  <a:lnTo>
                    <a:pt x="40943" y="0"/>
                  </a:lnTo>
                  <a:close/>
                </a:path>
              </a:pathLst>
            </a:cu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任意多边形 60"/>
            <p:cNvSpPr/>
            <p:nvPr/>
          </p:nvSpPr>
          <p:spPr>
            <a:xfrm>
              <a:off x="4605480" y="4068720"/>
              <a:ext cx="362160" cy="210960"/>
            </a:xfrm>
            <a:custGeom>
              <a:avLst/>
              <a:gdLst/>
              <a:ahLst/>
              <a:rect l="l" t="t" r="r" b="b"/>
              <a:pathLst>
                <a:path w="361666" h="211540">
                  <a:moveTo>
                    <a:pt x="0" y="0"/>
                  </a:moveTo>
                  <a:lnTo>
                    <a:pt x="75063" y="156949"/>
                  </a:lnTo>
                  <a:lnTo>
                    <a:pt x="361666" y="211540"/>
                  </a:lnTo>
                  <a:lnTo>
                    <a:pt x="286603" y="614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组合 113"/>
          <p:cNvGrpSpPr/>
          <p:nvPr/>
        </p:nvGrpSpPr>
        <p:grpSpPr>
          <a:xfrm>
            <a:off x="4643280" y="4334040"/>
            <a:ext cx="588960" cy="341280"/>
            <a:chOff x="4643280" y="4334040"/>
            <a:chExt cx="588960" cy="341280"/>
          </a:xfrm>
        </p:grpSpPr>
        <p:sp>
          <p:nvSpPr>
            <p:cNvPr id="99" name="任意多边形 61"/>
            <p:cNvSpPr/>
            <p:nvPr/>
          </p:nvSpPr>
          <p:spPr>
            <a:xfrm>
              <a:off x="4643280" y="4334040"/>
              <a:ext cx="147600" cy="293760"/>
            </a:xfrm>
            <a:custGeom>
              <a:avLst/>
              <a:gdLst/>
              <a:ahLst/>
              <a:rect l="l" t="t" r="r" b="b"/>
              <a:pathLst>
                <a:path w="147344" h="294688">
                  <a:moveTo>
                    <a:pt x="0" y="30335"/>
                  </a:moveTo>
                  <a:lnTo>
                    <a:pt x="52003" y="0"/>
                  </a:lnTo>
                  <a:lnTo>
                    <a:pt x="60671" y="0"/>
                  </a:lnTo>
                  <a:lnTo>
                    <a:pt x="147344" y="182013"/>
                  </a:lnTo>
                  <a:lnTo>
                    <a:pt x="112675" y="294688"/>
                  </a:lnTo>
                  <a:lnTo>
                    <a:pt x="0" y="30335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任意多边形 62"/>
            <p:cNvSpPr/>
            <p:nvPr/>
          </p:nvSpPr>
          <p:spPr>
            <a:xfrm>
              <a:off x="4773240" y="4524480"/>
              <a:ext cx="459000" cy="150840"/>
            </a:xfrm>
            <a:custGeom>
              <a:avLst/>
              <a:gdLst/>
              <a:ahLst/>
              <a:rect l="l" t="t" r="r" b="b"/>
              <a:pathLst>
                <a:path w="459367" h="151678">
                  <a:moveTo>
                    <a:pt x="30336" y="0"/>
                  </a:moveTo>
                  <a:lnTo>
                    <a:pt x="0" y="104008"/>
                  </a:lnTo>
                  <a:lnTo>
                    <a:pt x="30336" y="108342"/>
                  </a:lnTo>
                  <a:lnTo>
                    <a:pt x="65005" y="95341"/>
                  </a:lnTo>
                  <a:lnTo>
                    <a:pt x="459367" y="151678"/>
                  </a:lnTo>
                  <a:lnTo>
                    <a:pt x="442032" y="69339"/>
                  </a:lnTo>
                  <a:lnTo>
                    <a:pt x="30336" y="0"/>
                  </a:lnTo>
                  <a:close/>
                </a:path>
              </a:pathLst>
            </a:cu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任意多边形 63"/>
            <p:cNvSpPr/>
            <p:nvPr/>
          </p:nvSpPr>
          <p:spPr>
            <a:xfrm>
              <a:off x="4721040" y="4338720"/>
              <a:ext cx="503280" cy="246240"/>
            </a:xfrm>
            <a:custGeom>
              <a:avLst/>
              <a:gdLst/>
              <a:ahLst/>
              <a:rect l="l" t="t" r="r" b="b"/>
              <a:pathLst>
                <a:path w="502704" h="247019">
                  <a:moveTo>
                    <a:pt x="0" y="0"/>
                  </a:moveTo>
                  <a:lnTo>
                    <a:pt x="398696" y="60672"/>
                  </a:lnTo>
                  <a:lnTo>
                    <a:pt x="502704" y="247019"/>
                  </a:lnTo>
                  <a:lnTo>
                    <a:pt x="82340" y="1776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组合 115"/>
          <p:cNvGrpSpPr/>
          <p:nvPr/>
        </p:nvGrpSpPr>
        <p:grpSpPr>
          <a:xfrm>
            <a:off x="4741920" y="4632480"/>
            <a:ext cx="758880" cy="380880"/>
            <a:chOff x="4741920" y="4632480"/>
            <a:chExt cx="758880" cy="380880"/>
          </a:xfrm>
        </p:grpSpPr>
        <p:sp>
          <p:nvSpPr>
            <p:cNvPr id="103" name="任意多边形 65"/>
            <p:cNvSpPr/>
            <p:nvPr/>
          </p:nvSpPr>
          <p:spPr>
            <a:xfrm>
              <a:off x="4741920" y="4637160"/>
              <a:ext cx="164880" cy="317520"/>
            </a:xfrm>
            <a:custGeom>
              <a:avLst/>
              <a:gdLst/>
              <a:ahLst/>
              <a:rect l="l" t="t" r="r" b="b"/>
              <a:pathLst>
                <a:path w="164678" h="317678">
                  <a:moveTo>
                    <a:pt x="0" y="26002"/>
                  </a:moveTo>
                  <a:lnTo>
                    <a:pt x="78005" y="0"/>
                  </a:lnTo>
                  <a:lnTo>
                    <a:pt x="164678" y="208015"/>
                  </a:lnTo>
                  <a:cubicBezTo>
                    <a:pt x="116426" y="317678"/>
                    <a:pt x="156463" y="316356"/>
                    <a:pt x="112674" y="316356"/>
                  </a:cubicBezTo>
                  <a:lnTo>
                    <a:pt x="0" y="26002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任意多边形 66"/>
            <p:cNvSpPr/>
            <p:nvPr/>
          </p:nvSpPr>
          <p:spPr>
            <a:xfrm>
              <a:off x="4879800" y="4848480"/>
              <a:ext cx="621000" cy="164880"/>
            </a:xfrm>
            <a:custGeom>
              <a:avLst/>
              <a:gdLst/>
              <a:ahLst/>
              <a:rect l="l" t="t" r="r" b="b"/>
              <a:pathLst>
                <a:path w="619712" h="164679">
                  <a:moveTo>
                    <a:pt x="34669" y="0"/>
                  </a:moveTo>
                  <a:lnTo>
                    <a:pt x="0" y="104008"/>
                  </a:lnTo>
                  <a:lnTo>
                    <a:pt x="34669" y="112675"/>
                  </a:lnTo>
                  <a:lnTo>
                    <a:pt x="56337" y="99674"/>
                  </a:lnTo>
                  <a:lnTo>
                    <a:pt x="381361" y="134343"/>
                  </a:lnTo>
                  <a:lnTo>
                    <a:pt x="403029" y="156011"/>
                  </a:lnTo>
                  <a:lnTo>
                    <a:pt x="463700" y="164679"/>
                  </a:lnTo>
                  <a:lnTo>
                    <a:pt x="489702" y="143011"/>
                  </a:lnTo>
                  <a:lnTo>
                    <a:pt x="619712" y="156011"/>
                  </a:lnTo>
                  <a:lnTo>
                    <a:pt x="606711" y="65005"/>
                  </a:lnTo>
                  <a:lnTo>
                    <a:pt x="34669" y="0"/>
                  </a:lnTo>
                  <a:close/>
                </a:path>
              </a:pathLst>
            </a:cu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任意多边形 67"/>
            <p:cNvSpPr/>
            <p:nvPr/>
          </p:nvSpPr>
          <p:spPr>
            <a:xfrm>
              <a:off x="4832280" y="4632480"/>
              <a:ext cx="650880" cy="268200"/>
            </a:xfrm>
            <a:custGeom>
              <a:avLst/>
              <a:gdLst/>
              <a:ahLst/>
              <a:rect l="l" t="t" r="r" b="b"/>
              <a:pathLst>
                <a:path w="650047" h="268686">
                  <a:moveTo>
                    <a:pt x="0" y="0"/>
                  </a:moveTo>
                  <a:lnTo>
                    <a:pt x="82339" y="199348"/>
                  </a:lnTo>
                  <a:lnTo>
                    <a:pt x="650047" y="268686"/>
                  </a:lnTo>
                  <a:lnTo>
                    <a:pt x="546040" y="7800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组合 116"/>
          <p:cNvGrpSpPr/>
          <p:nvPr/>
        </p:nvGrpSpPr>
        <p:grpSpPr>
          <a:xfrm>
            <a:off x="4869000" y="4951440"/>
            <a:ext cx="554040" cy="393840"/>
            <a:chOff x="4869000" y="4951440"/>
            <a:chExt cx="554040" cy="393840"/>
          </a:xfrm>
        </p:grpSpPr>
        <p:sp>
          <p:nvSpPr>
            <p:cNvPr id="107" name="任意多边形 68"/>
            <p:cNvSpPr/>
            <p:nvPr/>
          </p:nvSpPr>
          <p:spPr>
            <a:xfrm>
              <a:off x="4869000" y="4956120"/>
              <a:ext cx="182520" cy="333720"/>
            </a:xfrm>
            <a:custGeom>
              <a:avLst/>
              <a:gdLst/>
              <a:ahLst/>
              <a:rect l="l" t="t" r="r" b="b"/>
              <a:pathLst>
                <a:path w="182014" h="333691">
                  <a:moveTo>
                    <a:pt x="0" y="34669"/>
                  </a:moveTo>
                  <a:lnTo>
                    <a:pt x="82340" y="0"/>
                  </a:lnTo>
                  <a:lnTo>
                    <a:pt x="182014" y="208015"/>
                  </a:lnTo>
                  <a:lnTo>
                    <a:pt x="151678" y="333691"/>
                  </a:lnTo>
                  <a:lnTo>
                    <a:pt x="112675" y="325024"/>
                  </a:lnTo>
                  <a:lnTo>
                    <a:pt x="0" y="34669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任意多边形 69"/>
            <p:cNvSpPr/>
            <p:nvPr/>
          </p:nvSpPr>
          <p:spPr>
            <a:xfrm>
              <a:off x="5029200" y="5180040"/>
              <a:ext cx="393840" cy="165240"/>
            </a:xfrm>
            <a:custGeom>
              <a:avLst/>
              <a:gdLst/>
              <a:ahLst/>
              <a:rect l="l" t="t" r="r" b="b"/>
              <a:pathLst>
                <a:path w="394363" h="164678">
                  <a:moveTo>
                    <a:pt x="0" y="130009"/>
                  </a:moveTo>
                  <a:lnTo>
                    <a:pt x="34670" y="0"/>
                  </a:lnTo>
                  <a:lnTo>
                    <a:pt x="372694" y="30335"/>
                  </a:lnTo>
                  <a:lnTo>
                    <a:pt x="394363" y="164678"/>
                  </a:lnTo>
                  <a:lnTo>
                    <a:pt x="0" y="130009"/>
                  </a:lnTo>
                  <a:close/>
                </a:path>
              </a:pathLst>
            </a:cu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任意多边形 71"/>
            <p:cNvSpPr/>
            <p:nvPr/>
          </p:nvSpPr>
          <p:spPr>
            <a:xfrm>
              <a:off x="4968720" y="4951440"/>
              <a:ext cx="428760" cy="243000"/>
            </a:xfrm>
            <a:custGeom>
              <a:avLst/>
              <a:gdLst/>
              <a:ahLst/>
              <a:rect l="l" t="t" r="r" b="b"/>
              <a:pathLst>
                <a:path w="429032" h="242685">
                  <a:moveTo>
                    <a:pt x="0" y="0"/>
                  </a:moveTo>
                  <a:lnTo>
                    <a:pt x="316357" y="30336"/>
                  </a:lnTo>
                  <a:lnTo>
                    <a:pt x="429032" y="242685"/>
                  </a:lnTo>
                  <a:lnTo>
                    <a:pt x="104008" y="2166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组合 119"/>
          <p:cNvGrpSpPr/>
          <p:nvPr/>
        </p:nvGrpSpPr>
        <p:grpSpPr>
          <a:xfrm>
            <a:off x="5322960" y="5005440"/>
            <a:ext cx="473040" cy="368280"/>
            <a:chOff x="5322960" y="5005440"/>
            <a:chExt cx="473040" cy="368280"/>
          </a:xfrm>
        </p:grpSpPr>
        <p:sp>
          <p:nvSpPr>
            <p:cNvPr id="111" name="任意多边形 72"/>
            <p:cNvSpPr/>
            <p:nvPr/>
          </p:nvSpPr>
          <p:spPr>
            <a:xfrm>
              <a:off x="5322960" y="5005440"/>
              <a:ext cx="177840" cy="351000"/>
            </a:xfrm>
            <a:custGeom>
              <a:avLst/>
              <a:gdLst/>
              <a:ahLst/>
              <a:rect l="l" t="t" r="r" b="b"/>
              <a:pathLst>
                <a:path w="177679" h="351025">
                  <a:moveTo>
                    <a:pt x="0" y="47670"/>
                  </a:moveTo>
                  <a:lnTo>
                    <a:pt x="65004" y="0"/>
                  </a:lnTo>
                  <a:lnTo>
                    <a:pt x="177679" y="216682"/>
                  </a:lnTo>
                  <a:lnTo>
                    <a:pt x="134343" y="351025"/>
                  </a:lnTo>
                  <a:lnTo>
                    <a:pt x="91006" y="281687"/>
                  </a:lnTo>
                  <a:lnTo>
                    <a:pt x="78005" y="212349"/>
                  </a:lnTo>
                  <a:lnTo>
                    <a:pt x="0" y="4767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任意多边形 73"/>
            <p:cNvSpPr/>
            <p:nvPr/>
          </p:nvSpPr>
          <p:spPr>
            <a:xfrm>
              <a:off x="5475240" y="5230800"/>
              <a:ext cx="320760" cy="142920"/>
            </a:xfrm>
            <a:custGeom>
              <a:avLst/>
              <a:gdLst/>
              <a:ahLst/>
              <a:rect l="l" t="t" r="r" b="b"/>
              <a:pathLst>
                <a:path w="320690" h="143010">
                  <a:moveTo>
                    <a:pt x="0" y="121342"/>
                  </a:moveTo>
                  <a:lnTo>
                    <a:pt x="39003" y="0"/>
                  </a:lnTo>
                  <a:lnTo>
                    <a:pt x="312023" y="21668"/>
                  </a:lnTo>
                  <a:lnTo>
                    <a:pt x="320690" y="143010"/>
                  </a:lnTo>
                  <a:lnTo>
                    <a:pt x="0" y="121342"/>
                  </a:lnTo>
                  <a:close/>
                </a:path>
              </a:pathLst>
            </a:cu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任意多边形 74"/>
            <p:cNvSpPr/>
            <p:nvPr/>
          </p:nvSpPr>
          <p:spPr>
            <a:xfrm>
              <a:off x="5405400" y="5005440"/>
              <a:ext cx="382680" cy="233280"/>
            </a:xfrm>
            <a:custGeom>
              <a:avLst/>
              <a:gdLst/>
              <a:ahLst/>
              <a:rect l="l" t="t" r="r" b="b"/>
              <a:pathLst>
                <a:path w="381361" h="234017">
                  <a:moveTo>
                    <a:pt x="0" y="0"/>
                  </a:moveTo>
                  <a:lnTo>
                    <a:pt x="251352" y="26002"/>
                  </a:lnTo>
                  <a:lnTo>
                    <a:pt x="381361" y="234017"/>
                  </a:lnTo>
                  <a:lnTo>
                    <a:pt x="104008" y="2123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组合 120"/>
          <p:cNvGrpSpPr/>
          <p:nvPr/>
        </p:nvGrpSpPr>
        <p:grpSpPr>
          <a:xfrm>
            <a:off x="5691240" y="5052960"/>
            <a:ext cx="450720" cy="338040"/>
            <a:chOff x="5691240" y="5052960"/>
            <a:chExt cx="450720" cy="338040"/>
          </a:xfrm>
        </p:grpSpPr>
        <p:sp>
          <p:nvSpPr>
            <p:cNvPr id="115" name="任意多边形 75"/>
            <p:cNvSpPr/>
            <p:nvPr/>
          </p:nvSpPr>
          <p:spPr>
            <a:xfrm>
              <a:off x="5691240" y="5052960"/>
              <a:ext cx="172800" cy="320760"/>
            </a:xfrm>
            <a:custGeom>
              <a:avLst/>
              <a:gdLst/>
              <a:ahLst/>
              <a:rect l="l" t="t" r="r" b="b"/>
              <a:pathLst>
                <a:path w="173346" h="320690">
                  <a:moveTo>
                    <a:pt x="0" y="21668"/>
                  </a:moveTo>
                  <a:lnTo>
                    <a:pt x="65005" y="0"/>
                  </a:lnTo>
                  <a:lnTo>
                    <a:pt x="173346" y="199347"/>
                  </a:lnTo>
                  <a:lnTo>
                    <a:pt x="143010" y="320690"/>
                  </a:lnTo>
                  <a:lnTo>
                    <a:pt x="99674" y="255685"/>
                  </a:lnTo>
                  <a:lnTo>
                    <a:pt x="99674" y="182013"/>
                  </a:lnTo>
                  <a:lnTo>
                    <a:pt x="0" y="21668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任意多边形 76"/>
            <p:cNvSpPr/>
            <p:nvPr/>
          </p:nvSpPr>
          <p:spPr>
            <a:xfrm>
              <a:off x="5851440" y="5256000"/>
              <a:ext cx="290520" cy="135000"/>
            </a:xfrm>
            <a:custGeom>
              <a:avLst/>
              <a:gdLst/>
              <a:ahLst/>
              <a:rect l="l" t="t" r="r" b="b"/>
              <a:pathLst>
                <a:path w="290354" h="134343">
                  <a:moveTo>
                    <a:pt x="0" y="112675"/>
                  </a:moveTo>
                  <a:lnTo>
                    <a:pt x="30335" y="0"/>
                  </a:lnTo>
                  <a:lnTo>
                    <a:pt x="281687" y="21668"/>
                  </a:lnTo>
                  <a:lnTo>
                    <a:pt x="290354" y="134343"/>
                  </a:lnTo>
                  <a:lnTo>
                    <a:pt x="0" y="112675"/>
                  </a:lnTo>
                  <a:close/>
                </a:path>
              </a:pathLst>
            </a:cu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任意多边形 77"/>
            <p:cNvSpPr/>
            <p:nvPr/>
          </p:nvSpPr>
          <p:spPr>
            <a:xfrm>
              <a:off x="5769000" y="5052960"/>
              <a:ext cx="351000" cy="208080"/>
            </a:xfrm>
            <a:custGeom>
              <a:avLst/>
              <a:gdLst/>
              <a:ahLst/>
              <a:rect l="l" t="t" r="r" b="b"/>
              <a:pathLst>
                <a:path w="351026" h="208015">
                  <a:moveTo>
                    <a:pt x="0" y="0"/>
                  </a:moveTo>
                  <a:lnTo>
                    <a:pt x="104008" y="190681"/>
                  </a:lnTo>
                  <a:lnTo>
                    <a:pt x="351026" y="208015"/>
                  </a:lnTo>
                  <a:lnTo>
                    <a:pt x="234017" y="216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组合 121"/>
          <p:cNvGrpSpPr/>
          <p:nvPr/>
        </p:nvGrpSpPr>
        <p:grpSpPr>
          <a:xfrm>
            <a:off x="6026040" y="5100480"/>
            <a:ext cx="992160" cy="358920"/>
            <a:chOff x="6026040" y="5100480"/>
            <a:chExt cx="992160" cy="358920"/>
          </a:xfrm>
        </p:grpSpPr>
        <p:sp>
          <p:nvSpPr>
            <p:cNvPr id="119" name="任意多边形 78"/>
            <p:cNvSpPr/>
            <p:nvPr/>
          </p:nvSpPr>
          <p:spPr>
            <a:xfrm>
              <a:off x="6026040" y="5100480"/>
              <a:ext cx="172800" cy="293760"/>
            </a:xfrm>
            <a:custGeom>
              <a:avLst/>
              <a:gdLst/>
              <a:ahLst/>
              <a:rect l="l" t="t" r="r" b="b"/>
              <a:pathLst>
                <a:path w="173346" h="294688">
                  <a:moveTo>
                    <a:pt x="0" y="21668"/>
                  </a:moveTo>
                  <a:lnTo>
                    <a:pt x="65005" y="0"/>
                  </a:lnTo>
                  <a:lnTo>
                    <a:pt x="173346" y="182013"/>
                  </a:lnTo>
                  <a:lnTo>
                    <a:pt x="143010" y="294688"/>
                  </a:lnTo>
                  <a:lnTo>
                    <a:pt x="112675" y="255685"/>
                  </a:lnTo>
                  <a:lnTo>
                    <a:pt x="112675" y="203681"/>
                  </a:lnTo>
                  <a:lnTo>
                    <a:pt x="0" y="21668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任意多边形 80"/>
            <p:cNvSpPr/>
            <p:nvPr/>
          </p:nvSpPr>
          <p:spPr>
            <a:xfrm>
              <a:off x="6181560" y="5295960"/>
              <a:ext cx="763560" cy="163440"/>
            </a:xfrm>
            <a:custGeom>
              <a:avLst/>
              <a:gdLst/>
              <a:ahLst/>
              <a:rect l="l" t="t" r="r" b="b"/>
              <a:pathLst>
                <a:path w="762722" h="164679">
                  <a:moveTo>
                    <a:pt x="0" y="108341"/>
                  </a:moveTo>
                  <a:lnTo>
                    <a:pt x="34669" y="0"/>
                  </a:lnTo>
                  <a:lnTo>
                    <a:pt x="762722" y="56337"/>
                  </a:lnTo>
                  <a:lnTo>
                    <a:pt x="762722" y="164679"/>
                  </a:lnTo>
                  <a:lnTo>
                    <a:pt x="0" y="108341"/>
                  </a:lnTo>
                  <a:close/>
                </a:path>
              </a:pathLst>
            </a:cu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任意多边形 81"/>
            <p:cNvSpPr/>
            <p:nvPr/>
          </p:nvSpPr>
          <p:spPr>
            <a:xfrm>
              <a:off x="6116400" y="5108400"/>
              <a:ext cx="901800" cy="230400"/>
            </a:xfrm>
            <a:custGeom>
              <a:avLst/>
              <a:gdLst/>
              <a:ahLst/>
              <a:rect l="l" t="t" r="r" b="b"/>
              <a:pathLst>
                <a:path w="901399" h="229684">
                  <a:moveTo>
                    <a:pt x="0" y="0"/>
                  </a:moveTo>
                  <a:lnTo>
                    <a:pt x="897066" y="86673"/>
                  </a:lnTo>
                  <a:lnTo>
                    <a:pt x="901399" y="130010"/>
                  </a:lnTo>
                  <a:lnTo>
                    <a:pt x="858063" y="182014"/>
                  </a:lnTo>
                  <a:lnTo>
                    <a:pt x="836395" y="229684"/>
                  </a:lnTo>
                  <a:lnTo>
                    <a:pt x="99674" y="1733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任意多边形 82"/>
          <p:cNvSpPr/>
          <p:nvPr/>
        </p:nvSpPr>
        <p:spPr>
          <a:xfrm>
            <a:off x="7203960" y="4457880"/>
            <a:ext cx="936720" cy="1137960"/>
          </a:xfrm>
          <a:custGeom>
            <a:avLst/>
            <a:gdLst/>
            <a:ahLst/>
            <a:rect l="l" t="t" r="r" b="b"/>
            <a:pathLst>
              <a:path w="936069" h="1139750">
                <a:moveTo>
                  <a:pt x="0" y="0"/>
                </a:moveTo>
                <a:lnTo>
                  <a:pt x="30336" y="52004"/>
                </a:lnTo>
                <a:lnTo>
                  <a:pt x="26002" y="69338"/>
                </a:lnTo>
                <a:lnTo>
                  <a:pt x="43337" y="69338"/>
                </a:lnTo>
                <a:lnTo>
                  <a:pt x="160345" y="208015"/>
                </a:lnTo>
                <a:lnTo>
                  <a:pt x="160345" y="225350"/>
                </a:lnTo>
                <a:lnTo>
                  <a:pt x="173346" y="225350"/>
                </a:lnTo>
                <a:lnTo>
                  <a:pt x="316357" y="381361"/>
                </a:lnTo>
                <a:lnTo>
                  <a:pt x="316357" y="403029"/>
                </a:lnTo>
                <a:lnTo>
                  <a:pt x="342359" y="407363"/>
                </a:lnTo>
                <a:lnTo>
                  <a:pt x="489703" y="576375"/>
                </a:lnTo>
                <a:lnTo>
                  <a:pt x="485369" y="606711"/>
                </a:lnTo>
                <a:lnTo>
                  <a:pt x="515705" y="611045"/>
                </a:lnTo>
                <a:cubicBezTo>
                  <a:pt x="566222" y="664533"/>
                  <a:pt x="615364" y="719360"/>
                  <a:pt x="667382" y="771390"/>
                </a:cubicBezTo>
                <a:lnTo>
                  <a:pt x="658715" y="801725"/>
                </a:lnTo>
                <a:lnTo>
                  <a:pt x="680383" y="797391"/>
                </a:lnTo>
                <a:lnTo>
                  <a:pt x="931735" y="1061744"/>
                </a:lnTo>
                <a:lnTo>
                  <a:pt x="936069" y="1126749"/>
                </a:lnTo>
                <a:cubicBezTo>
                  <a:pt x="936069" y="1139750"/>
                  <a:pt x="932638" y="1137042"/>
                  <a:pt x="931735" y="113975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任意多边形 83"/>
          <p:cNvSpPr/>
          <p:nvPr/>
        </p:nvSpPr>
        <p:spPr>
          <a:xfrm>
            <a:off x="8148600" y="5568840"/>
            <a:ext cx="125280" cy="150840"/>
          </a:xfrm>
          <a:custGeom>
            <a:avLst/>
            <a:gdLst/>
            <a:ahLst/>
            <a:rect l="l" t="t" r="r" b="b"/>
            <a:pathLst>
              <a:path w="125676" h="151678">
                <a:moveTo>
                  <a:pt x="125676" y="15167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组合 122"/>
          <p:cNvGrpSpPr/>
          <p:nvPr/>
        </p:nvGrpSpPr>
        <p:grpSpPr>
          <a:xfrm>
            <a:off x="4359240" y="3684600"/>
            <a:ext cx="3780000" cy="1916280"/>
            <a:chOff x="4359240" y="3684600"/>
            <a:chExt cx="3780000" cy="1916280"/>
          </a:xfrm>
        </p:grpSpPr>
        <p:sp>
          <p:nvSpPr>
            <p:cNvPr id="125" name="任意多边形 84"/>
            <p:cNvSpPr/>
            <p:nvPr/>
          </p:nvSpPr>
          <p:spPr>
            <a:xfrm>
              <a:off x="4359240" y="3684600"/>
              <a:ext cx="2641680" cy="1495800"/>
            </a:xfrm>
            <a:custGeom>
              <a:avLst/>
              <a:gdLst/>
              <a:ahLst/>
              <a:rect l="l" t="t" r="r" b="b"/>
              <a:pathLst>
                <a:path w="2640841" h="1494430">
                  <a:moveTo>
                    <a:pt x="109182" y="143302"/>
                  </a:moveTo>
                  <a:lnTo>
                    <a:pt x="320722" y="191069"/>
                  </a:lnTo>
                  <a:lnTo>
                    <a:pt x="388961" y="320723"/>
                  </a:lnTo>
                  <a:lnTo>
                    <a:pt x="388961" y="402609"/>
                  </a:lnTo>
                  <a:lnTo>
                    <a:pt x="545910" y="436729"/>
                  </a:lnTo>
                  <a:lnTo>
                    <a:pt x="620973" y="600502"/>
                  </a:lnTo>
                  <a:lnTo>
                    <a:pt x="634620" y="682388"/>
                  </a:lnTo>
                  <a:lnTo>
                    <a:pt x="743803" y="702860"/>
                  </a:lnTo>
                  <a:lnTo>
                    <a:pt x="846161" y="887105"/>
                  </a:lnTo>
                  <a:lnTo>
                    <a:pt x="852985" y="982639"/>
                  </a:lnTo>
                  <a:lnTo>
                    <a:pt x="1016758" y="1016759"/>
                  </a:lnTo>
                  <a:lnTo>
                    <a:pt x="1132764" y="1214651"/>
                  </a:lnTo>
                  <a:lnTo>
                    <a:pt x="1132764" y="1323833"/>
                  </a:lnTo>
                  <a:lnTo>
                    <a:pt x="1276065" y="1344305"/>
                  </a:lnTo>
                  <a:lnTo>
                    <a:pt x="1296537" y="1392072"/>
                  </a:lnTo>
                  <a:lnTo>
                    <a:pt x="1364776" y="1351129"/>
                  </a:lnTo>
                  <a:lnTo>
                    <a:pt x="1624083" y="1378424"/>
                  </a:lnTo>
                  <a:lnTo>
                    <a:pt x="1651379" y="1412544"/>
                  </a:lnTo>
                  <a:lnTo>
                    <a:pt x="1705970" y="1398896"/>
                  </a:lnTo>
                  <a:lnTo>
                    <a:pt x="2640841" y="1494430"/>
                  </a:lnTo>
                  <a:lnTo>
                    <a:pt x="2599898" y="743803"/>
                  </a:lnTo>
                  <a:lnTo>
                    <a:pt x="2579426" y="675565"/>
                  </a:lnTo>
                  <a:lnTo>
                    <a:pt x="2442949" y="627797"/>
                  </a:lnTo>
                  <a:lnTo>
                    <a:pt x="2402006" y="655093"/>
                  </a:lnTo>
                  <a:lnTo>
                    <a:pt x="1644555" y="423081"/>
                  </a:lnTo>
                  <a:lnTo>
                    <a:pt x="1392071" y="368490"/>
                  </a:lnTo>
                  <a:lnTo>
                    <a:pt x="1378423" y="341194"/>
                  </a:lnTo>
                  <a:lnTo>
                    <a:pt x="0" y="0"/>
                  </a:lnTo>
                  <a:lnTo>
                    <a:pt x="109182" y="143302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任意多边形 85"/>
            <p:cNvSpPr/>
            <p:nvPr/>
          </p:nvSpPr>
          <p:spPr>
            <a:xfrm>
              <a:off x="7210440" y="4535640"/>
              <a:ext cx="928800" cy="1065240"/>
            </a:xfrm>
            <a:custGeom>
              <a:avLst/>
              <a:gdLst/>
              <a:ahLst/>
              <a:rect l="l" t="t" r="r" b="b"/>
              <a:pathLst>
                <a:path w="928048" h="1064525">
                  <a:moveTo>
                    <a:pt x="0" y="0"/>
                  </a:moveTo>
                  <a:lnTo>
                    <a:pt x="40943" y="689212"/>
                  </a:lnTo>
                  <a:lnTo>
                    <a:pt x="109182" y="764275"/>
                  </a:lnTo>
                  <a:lnTo>
                    <a:pt x="136478" y="846161"/>
                  </a:lnTo>
                  <a:lnTo>
                    <a:pt x="129654" y="955343"/>
                  </a:lnTo>
                  <a:lnTo>
                    <a:pt x="477672" y="968991"/>
                  </a:lnTo>
                  <a:lnTo>
                    <a:pt x="586854" y="1050878"/>
                  </a:lnTo>
                  <a:lnTo>
                    <a:pt x="928048" y="1064525"/>
                  </a:lnTo>
                  <a:lnTo>
                    <a:pt x="921224" y="1016758"/>
                  </a:lnTo>
                  <a:lnTo>
                    <a:pt x="122830" y="1501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组合 102"/>
          <p:cNvGrpSpPr/>
          <p:nvPr/>
        </p:nvGrpSpPr>
        <p:grpSpPr>
          <a:xfrm>
            <a:off x="4351320" y="3672000"/>
            <a:ext cx="3787920" cy="1925640"/>
            <a:chOff x="4351320" y="3672000"/>
            <a:chExt cx="3787920" cy="1925640"/>
          </a:xfrm>
        </p:grpSpPr>
        <p:sp>
          <p:nvSpPr>
            <p:cNvPr id="128" name="任意多边形 23"/>
            <p:cNvSpPr/>
            <p:nvPr/>
          </p:nvSpPr>
          <p:spPr>
            <a:xfrm>
              <a:off x="7347240" y="5475600"/>
              <a:ext cx="792000" cy="122040"/>
            </a:xfrm>
            <a:custGeom>
              <a:avLst/>
              <a:gdLst/>
              <a:ahLst/>
              <a:rect l="l" t="t" r="r" b="b"/>
              <a:pathLst>
                <a:path w="791570" h="122830">
                  <a:moveTo>
                    <a:pt x="0" y="0"/>
                  </a:moveTo>
                  <a:lnTo>
                    <a:pt x="348018" y="13648"/>
                  </a:lnTo>
                  <a:lnTo>
                    <a:pt x="457200" y="102358"/>
                  </a:lnTo>
                  <a:lnTo>
                    <a:pt x="791570" y="12283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任意多边形 22"/>
            <p:cNvSpPr/>
            <p:nvPr/>
          </p:nvSpPr>
          <p:spPr>
            <a:xfrm>
              <a:off x="4351320" y="3672000"/>
              <a:ext cx="2578320" cy="1783080"/>
            </a:xfrm>
            <a:custGeom>
              <a:avLst/>
              <a:gdLst/>
              <a:ahLst/>
              <a:rect l="l" t="t" r="r" b="b"/>
              <a:pathLst>
                <a:path w="2578289" h="1781033">
                  <a:moveTo>
                    <a:pt x="32981" y="0"/>
                  </a:moveTo>
                  <a:cubicBezTo>
                    <a:pt x="16490" y="2275"/>
                    <a:pt x="0" y="4550"/>
                    <a:pt x="19334" y="68239"/>
                  </a:cubicBezTo>
                  <a:cubicBezTo>
                    <a:pt x="38668" y="131929"/>
                    <a:pt x="60277" y="160361"/>
                    <a:pt x="148987" y="382137"/>
                  </a:cubicBezTo>
                  <a:cubicBezTo>
                    <a:pt x="237697" y="603913"/>
                    <a:pt x="467435" y="1189629"/>
                    <a:pt x="551596" y="1398895"/>
                  </a:cubicBezTo>
                  <a:cubicBezTo>
                    <a:pt x="635757" y="1608161"/>
                    <a:pt x="597088" y="1591101"/>
                    <a:pt x="653954" y="1637731"/>
                  </a:cubicBezTo>
                  <a:cubicBezTo>
                    <a:pt x="710820" y="1684361"/>
                    <a:pt x="801805" y="1668438"/>
                    <a:pt x="892790" y="1678674"/>
                  </a:cubicBezTo>
                  <a:cubicBezTo>
                    <a:pt x="983775" y="1688910"/>
                    <a:pt x="1199865" y="1699146"/>
                    <a:pt x="1199865" y="1699146"/>
                  </a:cubicBezTo>
                  <a:lnTo>
                    <a:pt x="2182504" y="1760561"/>
                  </a:lnTo>
                  <a:lnTo>
                    <a:pt x="2578289" y="1781033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任意多边形 86"/>
          <p:cNvSpPr/>
          <p:nvPr/>
        </p:nvSpPr>
        <p:spPr>
          <a:xfrm>
            <a:off x="2881440" y="1457280"/>
            <a:ext cx="1860480" cy="1676520"/>
          </a:xfrm>
          <a:custGeom>
            <a:avLst/>
            <a:gdLst/>
            <a:ahLst/>
            <a:rect l="l" t="t" r="r" b="b"/>
            <a:pathLst>
              <a:path w="1860605" h="1676400">
                <a:moveTo>
                  <a:pt x="0" y="1676400"/>
                </a:moveTo>
                <a:cubicBezTo>
                  <a:pt x="25179" y="1593573"/>
                  <a:pt x="50358" y="1510747"/>
                  <a:pt x="95415" y="1374250"/>
                </a:cubicBezTo>
                <a:cubicBezTo>
                  <a:pt x="140472" y="1237753"/>
                  <a:pt x="205408" y="1038970"/>
                  <a:pt x="270344" y="857415"/>
                </a:cubicBezTo>
                <a:cubicBezTo>
                  <a:pt x="335280" y="675860"/>
                  <a:pt x="434671" y="414793"/>
                  <a:pt x="485029" y="284922"/>
                </a:cubicBezTo>
                <a:cubicBezTo>
                  <a:pt x="535387" y="155051"/>
                  <a:pt x="547315" y="124571"/>
                  <a:pt x="572494" y="78188"/>
                </a:cubicBezTo>
                <a:cubicBezTo>
                  <a:pt x="597673" y="31805"/>
                  <a:pt x="604299" y="13252"/>
                  <a:pt x="636104" y="6626"/>
                </a:cubicBezTo>
                <a:cubicBezTo>
                  <a:pt x="667909" y="0"/>
                  <a:pt x="685137" y="14577"/>
                  <a:pt x="763325" y="38431"/>
                </a:cubicBezTo>
                <a:cubicBezTo>
                  <a:pt x="841513" y="62285"/>
                  <a:pt x="985962" y="102041"/>
                  <a:pt x="1105231" y="149749"/>
                </a:cubicBezTo>
                <a:cubicBezTo>
                  <a:pt x="1224500" y="197457"/>
                  <a:pt x="1380876" y="261068"/>
                  <a:pt x="1478942" y="324678"/>
                </a:cubicBezTo>
                <a:cubicBezTo>
                  <a:pt x="1577008" y="388289"/>
                  <a:pt x="1630018" y="474428"/>
                  <a:pt x="1693628" y="531412"/>
                </a:cubicBezTo>
                <a:cubicBezTo>
                  <a:pt x="1757238" y="588396"/>
                  <a:pt x="1808921" y="627490"/>
                  <a:pt x="1860605" y="666584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组合 124"/>
          <p:cNvGrpSpPr/>
          <p:nvPr/>
        </p:nvGrpSpPr>
        <p:grpSpPr>
          <a:xfrm>
            <a:off x="4222800" y="4336920"/>
            <a:ext cx="119160" cy="142920"/>
            <a:chOff x="4222800" y="4336920"/>
            <a:chExt cx="119160" cy="142920"/>
          </a:xfrm>
        </p:grpSpPr>
        <p:sp>
          <p:nvSpPr>
            <p:cNvPr id="132" name="任意多边形 88"/>
            <p:cNvSpPr/>
            <p:nvPr/>
          </p:nvSpPr>
          <p:spPr>
            <a:xfrm>
              <a:off x="4222800" y="4336920"/>
              <a:ext cx="58680" cy="17280"/>
            </a:xfrm>
            <a:custGeom>
              <a:avLst/>
              <a:gdLst/>
              <a:ahLst/>
              <a:rect l="l" t="t" r="r" b="b"/>
              <a:pathLst>
                <a:path w="59376" h="17813">
                  <a:moveTo>
                    <a:pt x="0" y="17813"/>
                  </a:moveTo>
                  <a:lnTo>
                    <a:pt x="-6160" y="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 89"/>
            <p:cNvSpPr/>
            <p:nvPr/>
          </p:nvSpPr>
          <p:spPr>
            <a:xfrm>
              <a:off x="4287960" y="4469040"/>
              <a:ext cx="54000" cy="10800"/>
            </a:xfrm>
            <a:custGeom>
              <a:avLst/>
              <a:gdLst/>
              <a:ahLst/>
              <a:rect l="l" t="t" r="r" b="b"/>
              <a:pathLst>
                <a:path w="53439" h="11875">
                  <a:moveTo>
                    <a:pt x="0" y="11875"/>
                  </a:moveTo>
                  <a:lnTo>
                    <a:pt x="-12097" y="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任意多边形 90"/>
          <p:cNvSpPr/>
          <p:nvPr/>
        </p:nvSpPr>
        <p:spPr>
          <a:xfrm>
            <a:off x="4100400" y="4338720"/>
            <a:ext cx="203400" cy="225360"/>
          </a:xfrm>
          <a:custGeom>
            <a:avLst/>
            <a:gdLst/>
            <a:ahLst/>
            <a:rect l="l" t="t" r="r" b="b"/>
            <a:pathLst>
              <a:path w="201881" h="226620">
                <a:moveTo>
                  <a:pt x="2969" y="94013"/>
                </a:moveTo>
                <a:cubicBezTo>
                  <a:pt x="0" y="71252"/>
                  <a:pt x="4949" y="55418"/>
                  <a:pt x="14845" y="40574"/>
                </a:cubicBezTo>
                <a:cubicBezTo>
                  <a:pt x="24741" y="25730"/>
                  <a:pt x="43544" y="9896"/>
                  <a:pt x="62346" y="4948"/>
                </a:cubicBezTo>
                <a:cubicBezTo>
                  <a:pt x="81148" y="0"/>
                  <a:pt x="115785" y="990"/>
                  <a:pt x="127660" y="10886"/>
                </a:cubicBezTo>
                <a:cubicBezTo>
                  <a:pt x="139535" y="20782"/>
                  <a:pt x="127660" y="44532"/>
                  <a:pt x="133598" y="64324"/>
                </a:cubicBezTo>
                <a:cubicBezTo>
                  <a:pt x="139536" y="84116"/>
                  <a:pt x="152400" y="116774"/>
                  <a:pt x="163286" y="129639"/>
                </a:cubicBezTo>
                <a:cubicBezTo>
                  <a:pt x="174172" y="142504"/>
                  <a:pt x="195943" y="131618"/>
                  <a:pt x="198912" y="141514"/>
                </a:cubicBezTo>
                <a:cubicBezTo>
                  <a:pt x="201881" y="151410"/>
                  <a:pt x="197922" y="175161"/>
                  <a:pt x="181099" y="189015"/>
                </a:cubicBezTo>
                <a:cubicBezTo>
                  <a:pt x="164276" y="202869"/>
                  <a:pt x="122712" y="226620"/>
                  <a:pt x="97972" y="224641"/>
                </a:cubicBezTo>
                <a:cubicBezTo>
                  <a:pt x="73232" y="222662"/>
                  <a:pt x="47502" y="198911"/>
                  <a:pt x="32658" y="177140"/>
                </a:cubicBezTo>
                <a:cubicBezTo>
                  <a:pt x="17814" y="155369"/>
                  <a:pt x="5938" y="116774"/>
                  <a:pt x="2969" y="94013"/>
                </a:cubicBezTo>
                <a:close/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任意多边形 92"/>
          <p:cNvSpPr/>
          <p:nvPr/>
        </p:nvSpPr>
        <p:spPr>
          <a:xfrm>
            <a:off x="3451320" y="4419720"/>
            <a:ext cx="647640" cy="225360"/>
          </a:xfrm>
          <a:custGeom>
            <a:avLst/>
            <a:gdLst/>
            <a:ahLst/>
            <a:rect l="l" t="t" r="r" b="b"/>
            <a:pathLst>
              <a:path w="647205" h="225631">
                <a:moveTo>
                  <a:pt x="0" y="225631"/>
                </a:moveTo>
                <a:lnTo>
                  <a:pt x="0" y="225631"/>
                </a:lnTo>
                <a:lnTo>
                  <a:pt x="647205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任意多边形 93"/>
          <p:cNvSpPr/>
          <p:nvPr/>
        </p:nvSpPr>
        <p:spPr>
          <a:xfrm>
            <a:off x="3481560" y="4545000"/>
            <a:ext cx="676080" cy="236520"/>
          </a:xfrm>
          <a:custGeom>
            <a:avLst/>
            <a:gdLst/>
            <a:ahLst/>
            <a:rect l="l" t="t" r="r" b="b"/>
            <a:pathLst>
              <a:path w="676893" h="237506">
                <a:moveTo>
                  <a:pt x="0" y="237506"/>
                </a:moveTo>
                <a:lnTo>
                  <a:pt x="67689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组合 125"/>
          <p:cNvGrpSpPr/>
          <p:nvPr/>
        </p:nvGrpSpPr>
        <p:grpSpPr>
          <a:xfrm>
            <a:off x="3281400" y="4619520"/>
            <a:ext cx="210960" cy="252360"/>
            <a:chOff x="3281400" y="4619520"/>
            <a:chExt cx="210960" cy="252360"/>
          </a:xfrm>
        </p:grpSpPr>
        <p:sp>
          <p:nvSpPr>
            <p:cNvPr id="138" name="任意多边形 94"/>
            <p:cNvSpPr/>
            <p:nvPr/>
          </p:nvSpPr>
          <p:spPr>
            <a:xfrm>
              <a:off x="3281400" y="4619520"/>
              <a:ext cx="204840" cy="252360"/>
            </a:xfrm>
            <a:custGeom>
              <a:avLst/>
              <a:gdLst/>
              <a:ahLst/>
              <a:rect l="l" t="t" r="r" b="b"/>
              <a:pathLst>
                <a:path w="205839" h="251361">
                  <a:moveTo>
                    <a:pt x="170213" y="37605"/>
                  </a:moveTo>
                  <a:cubicBezTo>
                    <a:pt x="154379" y="20781"/>
                    <a:pt x="138546" y="3958"/>
                    <a:pt x="116774" y="1979"/>
                  </a:cubicBezTo>
                  <a:cubicBezTo>
                    <a:pt x="95003" y="0"/>
                    <a:pt x="58387" y="9896"/>
                    <a:pt x="39584" y="25730"/>
                  </a:cubicBezTo>
                  <a:cubicBezTo>
                    <a:pt x="20781" y="41564"/>
                    <a:pt x="7916" y="70263"/>
                    <a:pt x="3958" y="96982"/>
                  </a:cubicBezTo>
                  <a:cubicBezTo>
                    <a:pt x="0" y="123701"/>
                    <a:pt x="3958" y="161307"/>
                    <a:pt x="15833" y="186047"/>
                  </a:cubicBezTo>
                  <a:cubicBezTo>
                    <a:pt x="27708" y="210787"/>
                    <a:pt x="48491" y="239485"/>
                    <a:pt x="75210" y="245423"/>
                  </a:cubicBezTo>
                  <a:cubicBezTo>
                    <a:pt x="101929" y="251361"/>
                    <a:pt x="154379" y="236517"/>
                    <a:pt x="176150" y="221673"/>
                  </a:cubicBezTo>
                  <a:cubicBezTo>
                    <a:pt x="197921" y="206829"/>
                    <a:pt x="201880" y="181593"/>
                    <a:pt x="205839" y="156358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 95"/>
            <p:cNvSpPr/>
            <p:nvPr/>
          </p:nvSpPr>
          <p:spPr>
            <a:xfrm>
              <a:off x="3430440" y="4651200"/>
              <a:ext cx="61920" cy="136440"/>
            </a:xfrm>
            <a:custGeom>
              <a:avLst/>
              <a:gdLst/>
              <a:ahLst/>
              <a:rect l="l" t="t" r="r" b="b"/>
              <a:pathLst>
                <a:path w="61356" h="136566">
                  <a:moveTo>
                    <a:pt x="13855" y="0"/>
                  </a:moveTo>
                  <a:cubicBezTo>
                    <a:pt x="6927" y="30183"/>
                    <a:pt x="0" y="60366"/>
                    <a:pt x="7917" y="83127"/>
                  </a:cubicBezTo>
                  <a:cubicBezTo>
                    <a:pt x="15834" y="105888"/>
                    <a:pt x="38595" y="121227"/>
                    <a:pt x="61356" y="13656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任意多边形 96"/>
          <p:cNvSpPr/>
          <p:nvPr/>
        </p:nvSpPr>
        <p:spPr>
          <a:xfrm>
            <a:off x="2976480" y="4378320"/>
            <a:ext cx="320760" cy="546120"/>
          </a:xfrm>
          <a:custGeom>
            <a:avLst/>
            <a:gdLst/>
            <a:ahLst/>
            <a:rect l="l" t="t" r="r" b="b"/>
            <a:pathLst>
              <a:path w="320633" h="546265">
                <a:moveTo>
                  <a:pt x="302820" y="356260"/>
                </a:moveTo>
                <a:lnTo>
                  <a:pt x="124690" y="421574"/>
                </a:lnTo>
                <a:lnTo>
                  <a:pt x="83127" y="207818"/>
                </a:lnTo>
                <a:lnTo>
                  <a:pt x="207818" y="47501"/>
                </a:lnTo>
                <a:lnTo>
                  <a:pt x="142503" y="0"/>
                </a:lnTo>
                <a:lnTo>
                  <a:pt x="0" y="195943"/>
                </a:lnTo>
                <a:cubicBezTo>
                  <a:pt x="6045" y="306774"/>
                  <a:pt x="17813" y="417457"/>
                  <a:pt x="17813" y="528452"/>
                </a:cubicBezTo>
                <a:lnTo>
                  <a:pt x="83127" y="546265"/>
                </a:lnTo>
                <a:lnTo>
                  <a:pt x="320633" y="463138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任意多边形 97"/>
          <p:cNvSpPr/>
          <p:nvPr/>
        </p:nvSpPr>
        <p:spPr>
          <a:xfrm>
            <a:off x="3147840" y="4384800"/>
            <a:ext cx="136800" cy="396720"/>
          </a:xfrm>
          <a:custGeom>
            <a:avLst/>
            <a:gdLst/>
            <a:ahLst/>
            <a:rect l="l" t="t" r="r" b="b"/>
            <a:pathLst>
              <a:path w="136566" h="397823">
                <a:moveTo>
                  <a:pt x="23750" y="35625"/>
                </a:moveTo>
                <a:lnTo>
                  <a:pt x="65314" y="0"/>
                </a:lnTo>
                <a:lnTo>
                  <a:pt x="136566" y="71251"/>
                </a:lnTo>
                <a:lnTo>
                  <a:pt x="0" y="231568"/>
                </a:lnTo>
                <a:lnTo>
                  <a:pt x="29688" y="397823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任意多边形 99"/>
          <p:cNvSpPr/>
          <p:nvPr/>
        </p:nvSpPr>
        <p:spPr>
          <a:xfrm>
            <a:off x="3052800" y="4871880"/>
            <a:ext cx="315720" cy="76320"/>
          </a:xfrm>
          <a:custGeom>
            <a:avLst/>
            <a:gdLst/>
            <a:ahLst/>
            <a:rect l="l" t="t" r="r" b="b"/>
            <a:pathLst>
              <a:path w="314696" h="77190">
                <a:moveTo>
                  <a:pt x="0" y="59377"/>
                </a:moveTo>
                <a:lnTo>
                  <a:pt x="148441" y="77190"/>
                </a:lnTo>
                <a:lnTo>
                  <a:pt x="314696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任意多边形 101"/>
          <p:cNvSpPr/>
          <p:nvPr/>
        </p:nvSpPr>
        <p:spPr>
          <a:xfrm>
            <a:off x="2857680" y="3116160"/>
            <a:ext cx="187200" cy="2103480"/>
          </a:xfrm>
          <a:custGeom>
            <a:avLst/>
            <a:gdLst/>
            <a:ahLst/>
            <a:rect l="l" t="t" r="r" b="b"/>
            <a:pathLst>
              <a:path w="187325" h="2102908">
                <a:moveTo>
                  <a:pt x="28575" y="0"/>
                </a:moveTo>
                <a:cubicBezTo>
                  <a:pt x="21166" y="19050"/>
                  <a:pt x="13758" y="38100"/>
                  <a:pt x="9525" y="63500"/>
                </a:cubicBezTo>
                <a:cubicBezTo>
                  <a:pt x="5292" y="88900"/>
                  <a:pt x="3175" y="55033"/>
                  <a:pt x="3175" y="152400"/>
                </a:cubicBezTo>
                <a:cubicBezTo>
                  <a:pt x="3175" y="249767"/>
                  <a:pt x="0" y="413808"/>
                  <a:pt x="9525" y="647700"/>
                </a:cubicBezTo>
                <a:cubicBezTo>
                  <a:pt x="19050" y="881592"/>
                  <a:pt x="48683" y="1352550"/>
                  <a:pt x="60325" y="1555750"/>
                </a:cubicBezTo>
                <a:cubicBezTo>
                  <a:pt x="71967" y="1758950"/>
                  <a:pt x="73025" y="1782233"/>
                  <a:pt x="79375" y="1866900"/>
                </a:cubicBezTo>
                <a:cubicBezTo>
                  <a:pt x="85725" y="1951567"/>
                  <a:pt x="80433" y="2024592"/>
                  <a:pt x="98425" y="2063750"/>
                </a:cubicBezTo>
                <a:cubicBezTo>
                  <a:pt x="116417" y="2102908"/>
                  <a:pt x="151871" y="2102379"/>
                  <a:pt x="187325" y="210185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任意多边形 103"/>
          <p:cNvSpPr/>
          <p:nvPr/>
        </p:nvSpPr>
        <p:spPr>
          <a:xfrm>
            <a:off x="3025800" y="4767120"/>
            <a:ext cx="1409760" cy="452520"/>
          </a:xfrm>
          <a:custGeom>
            <a:avLst/>
            <a:gdLst/>
            <a:ahLst/>
            <a:rect l="l" t="t" r="r" b="b"/>
            <a:pathLst>
              <a:path w="1409700" h="451908">
                <a:moveTo>
                  <a:pt x="0" y="450850"/>
                </a:moveTo>
                <a:cubicBezTo>
                  <a:pt x="25400" y="451379"/>
                  <a:pt x="50800" y="451908"/>
                  <a:pt x="127000" y="444500"/>
                </a:cubicBezTo>
                <a:cubicBezTo>
                  <a:pt x="203200" y="437092"/>
                  <a:pt x="352425" y="426508"/>
                  <a:pt x="457200" y="406400"/>
                </a:cubicBezTo>
                <a:cubicBezTo>
                  <a:pt x="561975" y="386292"/>
                  <a:pt x="647700" y="364067"/>
                  <a:pt x="755650" y="323850"/>
                </a:cubicBezTo>
                <a:cubicBezTo>
                  <a:pt x="863600" y="283633"/>
                  <a:pt x="995892" y="219075"/>
                  <a:pt x="1104900" y="165100"/>
                </a:cubicBezTo>
                <a:cubicBezTo>
                  <a:pt x="1213908" y="111125"/>
                  <a:pt x="1311804" y="55562"/>
                  <a:pt x="1409700" y="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任意多边形 104"/>
          <p:cNvSpPr/>
          <p:nvPr/>
        </p:nvSpPr>
        <p:spPr>
          <a:xfrm>
            <a:off x="3489480" y="1469880"/>
            <a:ext cx="330120" cy="2592360"/>
          </a:xfrm>
          <a:custGeom>
            <a:avLst/>
            <a:gdLst/>
            <a:ahLst/>
            <a:rect l="l" t="t" r="r" b="b"/>
            <a:pathLst>
              <a:path w="330200" h="2592917">
                <a:moveTo>
                  <a:pt x="0" y="2117"/>
                </a:moveTo>
                <a:cubicBezTo>
                  <a:pt x="16404" y="1058"/>
                  <a:pt x="32808" y="0"/>
                  <a:pt x="44450" y="40217"/>
                </a:cubicBezTo>
                <a:cubicBezTo>
                  <a:pt x="56092" y="80434"/>
                  <a:pt x="44450" y="11642"/>
                  <a:pt x="69850" y="243417"/>
                </a:cubicBezTo>
                <a:cubicBezTo>
                  <a:pt x="95250" y="475192"/>
                  <a:pt x="167217" y="1155700"/>
                  <a:pt x="196850" y="1430867"/>
                </a:cubicBezTo>
                <a:cubicBezTo>
                  <a:pt x="226483" y="1706034"/>
                  <a:pt x="225425" y="1700742"/>
                  <a:pt x="247650" y="1894417"/>
                </a:cubicBezTo>
                <a:cubicBezTo>
                  <a:pt x="269875" y="2088092"/>
                  <a:pt x="300037" y="2340504"/>
                  <a:pt x="330200" y="259291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组合 126"/>
          <p:cNvGrpSpPr/>
          <p:nvPr/>
        </p:nvGrpSpPr>
        <p:grpSpPr>
          <a:xfrm>
            <a:off x="2968560" y="4044960"/>
            <a:ext cx="1257480" cy="1166760"/>
            <a:chOff x="2968560" y="4044960"/>
            <a:chExt cx="1257480" cy="1166760"/>
          </a:xfrm>
        </p:grpSpPr>
        <p:sp>
          <p:nvSpPr>
            <p:cNvPr id="147" name="任意多边形 105"/>
            <p:cNvSpPr/>
            <p:nvPr/>
          </p:nvSpPr>
          <p:spPr>
            <a:xfrm>
              <a:off x="2968560" y="4944960"/>
              <a:ext cx="171360" cy="266760"/>
            </a:xfrm>
            <a:custGeom>
              <a:avLst/>
              <a:gdLst/>
              <a:ahLst/>
              <a:rect l="l" t="t" r="r" b="b"/>
              <a:pathLst>
                <a:path w="171450" h="266700">
                  <a:moveTo>
                    <a:pt x="0" y="266700"/>
                  </a:moveTo>
                  <a:cubicBezTo>
                    <a:pt x="11112" y="244475"/>
                    <a:pt x="22225" y="222250"/>
                    <a:pt x="50800" y="177800"/>
                  </a:cubicBezTo>
                  <a:cubicBezTo>
                    <a:pt x="79375" y="133350"/>
                    <a:pt x="125412" y="66675"/>
                    <a:pt x="171450" y="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任意多边形 106"/>
            <p:cNvSpPr/>
            <p:nvPr/>
          </p:nvSpPr>
          <p:spPr>
            <a:xfrm>
              <a:off x="3368520" y="4044960"/>
              <a:ext cx="857520" cy="582480"/>
            </a:xfrm>
            <a:custGeom>
              <a:avLst/>
              <a:gdLst/>
              <a:ahLst/>
              <a:rect l="l" t="t" r="r" b="b"/>
              <a:pathLst>
                <a:path w="857250" h="583142">
                  <a:moveTo>
                    <a:pt x="0" y="583142"/>
                  </a:moveTo>
                  <a:cubicBezTo>
                    <a:pt x="141816" y="385763"/>
                    <a:pt x="283633" y="188384"/>
                    <a:pt x="368300" y="94192"/>
                  </a:cubicBezTo>
                  <a:cubicBezTo>
                    <a:pt x="452967" y="0"/>
                    <a:pt x="456142" y="29634"/>
                    <a:pt x="508000" y="17992"/>
                  </a:cubicBezTo>
                  <a:cubicBezTo>
                    <a:pt x="559858" y="6350"/>
                    <a:pt x="621242" y="17992"/>
                    <a:pt x="679450" y="24342"/>
                  </a:cubicBezTo>
                  <a:cubicBezTo>
                    <a:pt x="737658" y="30692"/>
                    <a:pt x="797454" y="43392"/>
                    <a:pt x="857250" y="56092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任意多边形 107"/>
          <p:cNvSpPr/>
          <p:nvPr/>
        </p:nvSpPr>
        <p:spPr>
          <a:xfrm>
            <a:off x="2924280" y="1827360"/>
            <a:ext cx="717480" cy="2730240"/>
          </a:xfrm>
          <a:custGeom>
            <a:avLst/>
            <a:gdLst/>
            <a:ahLst/>
            <a:rect l="l" t="t" r="r" b="b"/>
            <a:pathLst>
              <a:path w="717550" h="2730500">
                <a:moveTo>
                  <a:pt x="50800" y="2730500"/>
                </a:moveTo>
                <a:lnTo>
                  <a:pt x="0" y="1403350"/>
                </a:lnTo>
                <a:lnTo>
                  <a:pt x="279400" y="558800"/>
                </a:lnTo>
                <a:lnTo>
                  <a:pt x="501650" y="0"/>
                </a:lnTo>
                <a:lnTo>
                  <a:pt x="717550" y="1854200"/>
                </a:lnTo>
                <a:lnTo>
                  <a:pt x="254000" y="2565400"/>
                </a:lnTo>
                <a:lnTo>
                  <a:pt x="203200" y="2533650"/>
                </a:lnTo>
                <a:lnTo>
                  <a:pt x="50800" y="2730500"/>
                </a:lnTo>
                <a:close/>
              </a:path>
            </a:pathLst>
          </a:custGeom>
          <a:solidFill>
            <a:srgbClr val="ffffff">
              <a:alpha val="94000"/>
            </a:srgbClr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任意多边形 109"/>
          <p:cNvSpPr/>
          <p:nvPr/>
        </p:nvSpPr>
        <p:spPr>
          <a:xfrm>
            <a:off x="4567320" y="2463840"/>
            <a:ext cx="290520" cy="396720"/>
          </a:xfrm>
          <a:custGeom>
            <a:avLst/>
            <a:gdLst/>
            <a:ahLst/>
            <a:rect l="l" t="t" r="r" b="b"/>
            <a:pathLst>
              <a:path w="289984" h="397934">
                <a:moveTo>
                  <a:pt x="186267" y="5292"/>
                </a:moveTo>
                <a:cubicBezTo>
                  <a:pt x="162984" y="0"/>
                  <a:pt x="139700" y="9525"/>
                  <a:pt x="116417" y="24342"/>
                </a:cubicBezTo>
                <a:cubicBezTo>
                  <a:pt x="93134" y="39159"/>
                  <a:pt x="64559" y="68792"/>
                  <a:pt x="46567" y="94192"/>
                </a:cubicBezTo>
                <a:cubicBezTo>
                  <a:pt x="28575" y="119592"/>
                  <a:pt x="15875" y="149225"/>
                  <a:pt x="8467" y="176742"/>
                </a:cubicBezTo>
                <a:cubicBezTo>
                  <a:pt x="1059" y="204259"/>
                  <a:pt x="0" y="230717"/>
                  <a:pt x="2117" y="259292"/>
                </a:cubicBezTo>
                <a:cubicBezTo>
                  <a:pt x="4234" y="287867"/>
                  <a:pt x="8467" y="325967"/>
                  <a:pt x="21167" y="348192"/>
                </a:cubicBezTo>
                <a:cubicBezTo>
                  <a:pt x="33867" y="370417"/>
                  <a:pt x="57151" y="387350"/>
                  <a:pt x="78317" y="392642"/>
                </a:cubicBezTo>
                <a:cubicBezTo>
                  <a:pt x="99483" y="397934"/>
                  <a:pt x="124884" y="389467"/>
                  <a:pt x="148167" y="379942"/>
                </a:cubicBezTo>
                <a:cubicBezTo>
                  <a:pt x="171450" y="370417"/>
                  <a:pt x="197909" y="355600"/>
                  <a:pt x="218017" y="335492"/>
                </a:cubicBezTo>
                <a:cubicBezTo>
                  <a:pt x="238125" y="315384"/>
                  <a:pt x="257175" y="292100"/>
                  <a:pt x="268817" y="259292"/>
                </a:cubicBezTo>
                <a:cubicBezTo>
                  <a:pt x="280459" y="226484"/>
                  <a:pt x="289984" y="172509"/>
                  <a:pt x="287867" y="138642"/>
                </a:cubicBezTo>
                <a:cubicBezTo>
                  <a:pt x="285750" y="104775"/>
                  <a:pt x="269875" y="77259"/>
                  <a:pt x="256117" y="56092"/>
                </a:cubicBezTo>
                <a:cubicBezTo>
                  <a:pt x="242359" y="34925"/>
                  <a:pt x="209550" y="10584"/>
                  <a:pt x="186267" y="5292"/>
                </a:cubicBez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任意多边形 110"/>
          <p:cNvSpPr/>
          <p:nvPr/>
        </p:nvSpPr>
        <p:spPr>
          <a:xfrm>
            <a:off x="4683240" y="2455920"/>
            <a:ext cx="223560" cy="415800"/>
          </a:xfrm>
          <a:custGeom>
            <a:avLst/>
            <a:gdLst/>
            <a:ahLst/>
            <a:rect l="l" t="t" r="r" b="b"/>
            <a:pathLst>
              <a:path w="223308" h="415925">
                <a:moveTo>
                  <a:pt x="0" y="412750"/>
                </a:moveTo>
                <a:cubicBezTo>
                  <a:pt x="31750" y="414337"/>
                  <a:pt x="63500" y="415925"/>
                  <a:pt x="95250" y="400050"/>
                </a:cubicBezTo>
                <a:cubicBezTo>
                  <a:pt x="127000" y="384175"/>
                  <a:pt x="169333" y="353483"/>
                  <a:pt x="190500" y="317500"/>
                </a:cubicBezTo>
                <a:cubicBezTo>
                  <a:pt x="211667" y="281517"/>
                  <a:pt x="223308" y="228600"/>
                  <a:pt x="222250" y="184150"/>
                </a:cubicBezTo>
                <a:cubicBezTo>
                  <a:pt x="221192" y="139700"/>
                  <a:pt x="207433" y="81492"/>
                  <a:pt x="184150" y="50800"/>
                </a:cubicBezTo>
                <a:cubicBezTo>
                  <a:pt x="160867" y="20108"/>
                  <a:pt x="121708" y="10054"/>
                  <a:pt x="82550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任意多边形 111"/>
          <p:cNvSpPr/>
          <p:nvPr/>
        </p:nvSpPr>
        <p:spPr>
          <a:xfrm>
            <a:off x="4645080" y="2521080"/>
            <a:ext cx="214200" cy="311040"/>
          </a:xfrm>
          <a:custGeom>
            <a:avLst/>
            <a:gdLst/>
            <a:ahLst/>
            <a:rect l="l" t="t" r="r" b="b"/>
            <a:pathLst>
              <a:path w="214842" h="311150">
                <a:moveTo>
                  <a:pt x="100542" y="302683"/>
                </a:moveTo>
                <a:cubicBezTo>
                  <a:pt x="82550" y="306916"/>
                  <a:pt x="64559" y="311150"/>
                  <a:pt x="49742" y="302683"/>
                </a:cubicBezTo>
                <a:cubicBezTo>
                  <a:pt x="34925" y="294216"/>
                  <a:pt x="19050" y="276225"/>
                  <a:pt x="11642" y="251883"/>
                </a:cubicBezTo>
                <a:cubicBezTo>
                  <a:pt x="4234" y="227541"/>
                  <a:pt x="0" y="189441"/>
                  <a:pt x="5292" y="156633"/>
                </a:cubicBezTo>
                <a:cubicBezTo>
                  <a:pt x="10584" y="123825"/>
                  <a:pt x="28575" y="79375"/>
                  <a:pt x="43392" y="55033"/>
                </a:cubicBezTo>
                <a:cubicBezTo>
                  <a:pt x="58209" y="30691"/>
                  <a:pt x="75142" y="19050"/>
                  <a:pt x="94192" y="10583"/>
                </a:cubicBezTo>
                <a:cubicBezTo>
                  <a:pt x="113242" y="2116"/>
                  <a:pt x="137584" y="0"/>
                  <a:pt x="157692" y="4233"/>
                </a:cubicBezTo>
                <a:cubicBezTo>
                  <a:pt x="177800" y="8466"/>
                  <a:pt x="196321" y="22224"/>
                  <a:pt x="214842" y="35983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任意多边形 114"/>
          <p:cNvSpPr/>
          <p:nvPr/>
        </p:nvSpPr>
        <p:spPr>
          <a:xfrm>
            <a:off x="6958080" y="4309920"/>
            <a:ext cx="226800" cy="54000"/>
          </a:xfrm>
          <a:custGeom>
            <a:avLst/>
            <a:gdLst/>
            <a:ahLst/>
            <a:rect l="l" t="t" r="r" b="b"/>
            <a:pathLst>
              <a:path w="226772" h="53645">
                <a:moveTo>
                  <a:pt x="0" y="53645"/>
                </a:moveTo>
                <a:cubicBezTo>
                  <a:pt x="15240" y="35966"/>
                  <a:pt x="30480" y="18288"/>
                  <a:pt x="58522" y="9754"/>
                </a:cubicBezTo>
                <a:cubicBezTo>
                  <a:pt x="86564" y="1220"/>
                  <a:pt x="140208" y="0"/>
                  <a:pt x="168250" y="2438"/>
                </a:cubicBezTo>
                <a:cubicBezTo>
                  <a:pt x="196292" y="4876"/>
                  <a:pt x="211532" y="14630"/>
                  <a:pt x="226772" y="24384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组合 100"/>
          <p:cNvGrpSpPr/>
          <p:nvPr/>
        </p:nvGrpSpPr>
        <p:grpSpPr>
          <a:xfrm>
            <a:off x="4127400" y="3816360"/>
            <a:ext cx="2695680" cy="2052720"/>
            <a:chOff x="4127400" y="3816360"/>
            <a:chExt cx="2695680" cy="2052720"/>
          </a:xfrm>
        </p:grpSpPr>
        <p:sp>
          <p:nvSpPr>
            <p:cNvPr id="155" name="任意多边形 17"/>
            <p:cNvSpPr/>
            <p:nvPr/>
          </p:nvSpPr>
          <p:spPr>
            <a:xfrm>
              <a:off x="4727520" y="5616720"/>
              <a:ext cx="396720" cy="252360"/>
            </a:xfrm>
            <a:custGeom>
              <a:avLst/>
              <a:gdLst/>
              <a:ahLst/>
              <a:rect l="l" t="t" r="r" b="b"/>
              <a:pathLst>
                <a:path w="395786" h="252483">
                  <a:moveTo>
                    <a:pt x="0" y="0"/>
                  </a:moveTo>
                  <a:cubicBezTo>
                    <a:pt x="21040" y="56865"/>
                    <a:pt x="42081" y="113731"/>
                    <a:pt x="54591" y="143301"/>
                  </a:cubicBezTo>
                  <a:cubicBezTo>
                    <a:pt x="67101" y="172871"/>
                    <a:pt x="61415" y="164909"/>
                    <a:pt x="75063" y="177420"/>
                  </a:cubicBezTo>
                  <a:cubicBezTo>
                    <a:pt x="88711" y="189931"/>
                    <a:pt x="110320" y="208128"/>
                    <a:pt x="136478" y="218364"/>
                  </a:cubicBezTo>
                  <a:cubicBezTo>
                    <a:pt x="162636" y="228600"/>
                    <a:pt x="188794" y="233149"/>
                    <a:pt x="232012" y="238835"/>
                  </a:cubicBezTo>
                  <a:cubicBezTo>
                    <a:pt x="275230" y="244521"/>
                    <a:pt x="335508" y="248502"/>
                    <a:pt x="395786" y="252483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" name="组合 98"/>
            <p:cNvGrpSpPr/>
            <p:nvPr/>
          </p:nvGrpSpPr>
          <p:grpSpPr>
            <a:xfrm>
              <a:off x="4127400" y="3816360"/>
              <a:ext cx="2695680" cy="2052720"/>
              <a:chOff x="4127400" y="3816360"/>
              <a:chExt cx="2695680" cy="2052720"/>
            </a:xfrm>
          </p:grpSpPr>
          <p:sp>
            <p:nvSpPr>
              <p:cNvPr id="157" name="任意多边形 13"/>
              <p:cNvSpPr/>
              <p:nvPr/>
            </p:nvSpPr>
            <p:spPr>
              <a:xfrm>
                <a:off x="4127400" y="3816360"/>
                <a:ext cx="614160" cy="1841760"/>
              </a:xfrm>
              <a:custGeom>
                <a:avLst/>
                <a:gdLst/>
                <a:ahLst/>
                <a:rect l="l" t="t" r="r" b="b"/>
                <a:pathLst>
                  <a:path w="614149" h="1842448">
                    <a:moveTo>
                      <a:pt x="0" y="0"/>
                    </a:moveTo>
                    <a:lnTo>
                      <a:pt x="614149" y="1842448"/>
                    </a:ln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任意多边形 15"/>
              <p:cNvSpPr/>
              <p:nvPr/>
            </p:nvSpPr>
            <p:spPr>
              <a:xfrm>
                <a:off x="5068800" y="5828040"/>
                <a:ext cx="1754280" cy="41040"/>
              </a:xfrm>
              <a:custGeom>
                <a:avLst/>
                <a:gdLst/>
                <a:ahLst/>
                <a:rect l="l" t="t" r="r" b="b"/>
                <a:pathLst>
                  <a:path w="1753738" h="40943">
                    <a:moveTo>
                      <a:pt x="1753738" y="0"/>
                    </a:moveTo>
                    <a:lnTo>
                      <a:pt x="0" y="40943"/>
                    </a:ln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extBox 127"/>
          <p:cNvSpPr/>
          <p:nvPr/>
        </p:nvSpPr>
        <p:spPr>
          <a:xfrm>
            <a:off x="714240" y="341280"/>
            <a:ext cx="135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17"/>
          <p:cNvSpPr/>
          <p:nvPr/>
        </p:nvSpPr>
        <p:spPr>
          <a:xfrm>
            <a:off x="1571760" y="857160"/>
            <a:ext cx="71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曾在制作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抱着电脑不知从何下手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"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3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3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3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3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3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3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3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3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3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3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3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3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3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3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3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3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3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1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3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3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3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3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120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2" dur="3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3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3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3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3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3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1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3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6700"/>
                            </p:stCondLst>
                            <p:childTnLst>
                              <p:par>
                                <p:cTn id="1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8" dur="3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3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73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3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76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3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79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3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82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3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3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88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3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910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3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94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3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97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3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3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03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0301"/>
                            </p:stCondLst>
                            <p:childTnLst>
                              <p:par>
                                <p:cTn id="199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1" dur="3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1101"/>
                            </p:stCondLst>
                            <p:childTnLst>
                              <p:par>
                                <p:cTn id="2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5" dur="3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1401"/>
                            </p:stCondLst>
                            <p:childTnLst>
                              <p:par>
                                <p:cTn id="20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9" dur="3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2" dur="3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1701"/>
                            </p:stCondLst>
                            <p:childTnLst>
                              <p:par>
                                <p:cTn id="2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6" dur="3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2001"/>
                            </p:stCondLst>
                            <p:childTnLst>
                              <p:par>
                                <p:cTn id="2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0" dur="3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2301"/>
                            </p:stCondLst>
                            <p:childTnLst>
                              <p:par>
                                <p:cTn id="2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3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3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2801"/>
                            </p:stCondLst>
                            <p:childTnLst>
                              <p:par>
                                <p:cTn id="2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1" dur="3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4" dur="3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13101"/>
                            </p:stCondLst>
                            <p:childTnLst>
                              <p:par>
                                <p:cTn id="2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3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3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3401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3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3701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3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4001"/>
                            </p:stCondLst>
                            <p:childTnLst>
                              <p:par>
                                <p:cTn id="25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3" dur="3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4301"/>
                            </p:stCondLst>
                            <p:childTnLst>
                              <p:par>
                                <p:cTn id="2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3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3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4601"/>
                            </p:stCondLst>
                            <p:childTnLst>
                              <p:par>
                                <p:cTn id="2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3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4901"/>
                            </p:stCondLst>
                            <p:childTnLst>
                              <p:par>
                                <p:cTn id="2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3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任意多边形 2"/>
          <p:cNvSpPr/>
          <p:nvPr/>
        </p:nvSpPr>
        <p:spPr>
          <a:xfrm>
            <a:off x="6218280" y="1809720"/>
            <a:ext cx="711000" cy="676440"/>
          </a:xfrm>
          <a:custGeom>
            <a:avLst/>
            <a:gdLst/>
            <a:ahLst/>
            <a:rect l="l" t="t" r="r" b="b"/>
            <a:pathLst>
              <a:path w="1056198" h="1003190">
                <a:moveTo>
                  <a:pt x="34455" y="116619"/>
                </a:moveTo>
                <a:cubicBezTo>
                  <a:pt x="45057" y="72887"/>
                  <a:pt x="64935" y="63610"/>
                  <a:pt x="90114" y="45057"/>
                </a:cubicBezTo>
                <a:cubicBezTo>
                  <a:pt x="115293" y="26504"/>
                  <a:pt x="140473" y="10602"/>
                  <a:pt x="185530" y="5301"/>
                </a:cubicBezTo>
                <a:cubicBezTo>
                  <a:pt x="230587" y="0"/>
                  <a:pt x="298173" y="0"/>
                  <a:pt x="360458" y="13252"/>
                </a:cubicBezTo>
                <a:cubicBezTo>
                  <a:pt x="422743" y="26504"/>
                  <a:pt x="496956" y="53009"/>
                  <a:pt x="559241" y="84814"/>
                </a:cubicBezTo>
                <a:cubicBezTo>
                  <a:pt x="621526" y="116619"/>
                  <a:pt x="675861" y="152401"/>
                  <a:pt x="734170" y="204084"/>
                </a:cubicBezTo>
                <a:cubicBezTo>
                  <a:pt x="792479" y="255767"/>
                  <a:pt x="862716" y="329980"/>
                  <a:pt x="909098" y="394915"/>
                </a:cubicBezTo>
                <a:cubicBezTo>
                  <a:pt x="955481" y="459851"/>
                  <a:pt x="988611" y="526111"/>
                  <a:pt x="1012465" y="593697"/>
                </a:cubicBezTo>
                <a:cubicBezTo>
                  <a:pt x="1036319" y="661283"/>
                  <a:pt x="1056198" y="740796"/>
                  <a:pt x="1052222" y="800431"/>
                </a:cubicBezTo>
                <a:cubicBezTo>
                  <a:pt x="1048246" y="860066"/>
                  <a:pt x="1029693" y="919701"/>
                  <a:pt x="988611" y="951506"/>
                </a:cubicBezTo>
                <a:cubicBezTo>
                  <a:pt x="947529" y="983311"/>
                  <a:pt x="887894" y="1003190"/>
                  <a:pt x="805731" y="991263"/>
                </a:cubicBezTo>
                <a:cubicBezTo>
                  <a:pt x="723568" y="979336"/>
                  <a:pt x="597673" y="942229"/>
                  <a:pt x="495631" y="879944"/>
                </a:cubicBezTo>
                <a:cubicBezTo>
                  <a:pt x="393589" y="817659"/>
                  <a:pt x="271669" y="712967"/>
                  <a:pt x="193481" y="617551"/>
                </a:cubicBezTo>
                <a:cubicBezTo>
                  <a:pt x="115293" y="522135"/>
                  <a:pt x="53008" y="390939"/>
                  <a:pt x="26504" y="307450"/>
                </a:cubicBezTo>
                <a:cubicBezTo>
                  <a:pt x="0" y="223961"/>
                  <a:pt x="23853" y="160351"/>
                  <a:pt x="34455" y="116619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任意多边形 6"/>
          <p:cNvSpPr/>
          <p:nvPr/>
        </p:nvSpPr>
        <p:spPr>
          <a:xfrm>
            <a:off x="5732640" y="357120"/>
            <a:ext cx="3066840" cy="986040"/>
          </a:xfrm>
          <a:custGeom>
            <a:avLst/>
            <a:gdLst/>
            <a:ahLst/>
            <a:rect l="l" t="t" r="r" b="b"/>
            <a:pathLst>
              <a:path w="4550054" h="1463040">
                <a:moveTo>
                  <a:pt x="0" y="1463040"/>
                </a:moveTo>
                <a:lnTo>
                  <a:pt x="1477670" y="365760"/>
                </a:lnTo>
                <a:cubicBezTo>
                  <a:pt x="1765401" y="149962"/>
                  <a:pt x="1655673" y="214579"/>
                  <a:pt x="1726387" y="168249"/>
                </a:cubicBezTo>
                <a:cubicBezTo>
                  <a:pt x="1797101" y="121919"/>
                  <a:pt x="1828800" y="110947"/>
                  <a:pt x="1901952" y="87782"/>
                </a:cubicBezTo>
                <a:cubicBezTo>
                  <a:pt x="1975104" y="64617"/>
                  <a:pt x="2047037" y="42671"/>
                  <a:pt x="2165299" y="29260"/>
                </a:cubicBezTo>
                <a:cubicBezTo>
                  <a:pt x="2283561" y="15849"/>
                  <a:pt x="2443276" y="0"/>
                  <a:pt x="2611526" y="7315"/>
                </a:cubicBezTo>
                <a:cubicBezTo>
                  <a:pt x="2779776" y="14630"/>
                  <a:pt x="3002890" y="41453"/>
                  <a:pt x="3174797" y="73152"/>
                </a:cubicBezTo>
                <a:cubicBezTo>
                  <a:pt x="3346704" y="104851"/>
                  <a:pt x="3501543" y="147523"/>
                  <a:pt x="3642970" y="197510"/>
                </a:cubicBezTo>
                <a:cubicBezTo>
                  <a:pt x="3784397" y="247497"/>
                  <a:pt x="3918509" y="315773"/>
                  <a:pt x="4023360" y="373075"/>
                </a:cubicBezTo>
                <a:cubicBezTo>
                  <a:pt x="4128211" y="430377"/>
                  <a:pt x="4202583" y="488899"/>
                  <a:pt x="4272077" y="541324"/>
                </a:cubicBezTo>
                <a:cubicBezTo>
                  <a:pt x="4341571" y="593749"/>
                  <a:pt x="4398873" y="644956"/>
                  <a:pt x="4440326" y="687628"/>
                </a:cubicBezTo>
                <a:cubicBezTo>
                  <a:pt x="4481779" y="730300"/>
                  <a:pt x="4502506" y="765657"/>
                  <a:pt x="4520794" y="797356"/>
                </a:cubicBezTo>
                <a:cubicBezTo>
                  <a:pt x="4539082" y="829055"/>
                  <a:pt x="4544568" y="853439"/>
                  <a:pt x="4550054" y="877824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任意多边形 7"/>
          <p:cNvSpPr/>
          <p:nvPr/>
        </p:nvSpPr>
        <p:spPr>
          <a:xfrm>
            <a:off x="5730840" y="933480"/>
            <a:ext cx="3073320" cy="1347840"/>
          </a:xfrm>
          <a:custGeom>
            <a:avLst/>
            <a:gdLst/>
            <a:ahLst/>
            <a:rect l="l" t="t" r="r" b="b"/>
            <a:pathLst>
              <a:path w="4559807" h="1999488">
                <a:moveTo>
                  <a:pt x="4551273" y="0"/>
                </a:moveTo>
                <a:cubicBezTo>
                  <a:pt x="4555540" y="31699"/>
                  <a:pt x="4559807" y="63399"/>
                  <a:pt x="4551273" y="95098"/>
                </a:cubicBezTo>
                <a:cubicBezTo>
                  <a:pt x="4542739" y="126797"/>
                  <a:pt x="4500067" y="190195"/>
                  <a:pt x="4500067" y="190195"/>
                </a:cubicBezTo>
                <a:lnTo>
                  <a:pt x="3614928" y="1682496"/>
                </a:lnTo>
                <a:cubicBezTo>
                  <a:pt x="3438144" y="1976323"/>
                  <a:pt x="3507638" y="1906828"/>
                  <a:pt x="3439363" y="1953158"/>
                </a:cubicBezTo>
                <a:cubicBezTo>
                  <a:pt x="3371088" y="1999488"/>
                  <a:pt x="3308909" y="1989735"/>
                  <a:pt x="3205277" y="1960474"/>
                </a:cubicBezTo>
                <a:cubicBezTo>
                  <a:pt x="3101645" y="1931213"/>
                  <a:pt x="2817571" y="1777594"/>
                  <a:pt x="2817571" y="1777594"/>
                </a:cubicBezTo>
                <a:cubicBezTo>
                  <a:pt x="2623718" y="1682496"/>
                  <a:pt x="2322576" y="1519123"/>
                  <a:pt x="2042160" y="1389888"/>
                </a:cubicBezTo>
                <a:cubicBezTo>
                  <a:pt x="1761744" y="1260653"/>
                  <a:pt x="1378915" y="1097280"/>
                  <a:pt x="1135075" y="1002182"/>
                </a:cubicBezTo>
                <a:cubicBezTo>
                  <a:pt x="891235" y="907084"/>
                  <a:pt x="736397" y="866851"/>
                  <a:pt x="579120" y="819302"/>
                </a:cubicBezTo>
                <a:cubicBezTo>
                  <a:pt x="421843" y="771753"/>
                  <a:pt x="279196" y="737616"/>
                  <a:pt x="191414" y="716890"/>
                </a:cubicBezTo>
                <a:cubicBezTo>
                  <a:pt x="103632" y="696164"/>
                  <a:pt x="82905" y="701040"/>
                  <a:pt x="52425" y="694944"/>
                </a:cubicBezTo>
                <a:cubicBezTo>
                  <a:pt x="21945" y="688848"/>
                  <a:pt x="17068" y="692506"/>
                  <a:pt x="8534" y="680314"/>
                </a:cubicBezTo>
                <a:cubicBezTo>
                  <a:pt x="0" y="668122"/>
                  <a:pt x="1219" y="633984"/>
                  <a:pt x="1219" y="621792"/>
                </a:cubicBezTo>
                <a:cubicBezTo>
                  <a:pt x="1219" y="609600"/>
                  <a:pt x="4876" y="608381"/>
                  <a:pt x="8534" y="607162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任意多边形 8"/>
          <p:cNvSpPr/>
          <p:nvPr/>
        </p:nvSpPr>
        <p:spPr>
          <a:xfrm>
            <a:off x="5813280" y="1644480"/>
            <a:ext cx="471600" cy="497160"/>
          </a:xfrm>
          <a:custGeom>
            <a:avLst/>
            <a:gdLst/>
            <a:ahLst/>
            <a:rect l="l" t="t" r="r" b="b"/>
            <a:pathLst>
              <a:path w="698602" h="738835">
                <a:moveTo>
                  <a:pt x="54865" y="0"/>
                </a:moveTo>
                <a:cubicBezTo>
                  <a:pt x="31090" y="37185"/>
                  <a:pt x="7316" y="74371"/>
                  <a:pt x="3658" y="109728"/>
                </a:cubicBezTo>
                <a:cubicBezTo>
                  <a:pt x="0" y="145085"/>
                  <a:pt x="10973" y="176784"/>
                  <a:pt x="32919" y="212141"/>
                </a:cubicBezTo>
                <a:cubicBezTo>
                  <a:pt x="54865" y="247498"/>
                  <a:pt x="56084" y="254813"/>
                  <a:pt x="135332" y="321869"/>
                </a:cubicBezTo>
                <a:cubicBezTo>
                  <a:pt x="214580" y="388925"/>
                  <a:pt x="414529" y="544983"/>
                  <a:pt x="508407" y="614477"/>
                </a:cubicBezTo>
                <a:cubicBezTo>
                  <a:pt x="602285" y="683971"/>
                  <a:pt x="650443" y="711403"/>
                  <a:pt x="698602" y="738835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任意多边形 9"/>
          <p:cNvSpPr/>
          <p:nvPr/>
        </p:nvSpPr>
        <p:spPr>
          <a:xfrm>
            <a:off x="6896160" y="1047600"/>
            <a:ext cx="1878120" cy="1625760"/>
          </a:xfrm>
          <a:custGeom>
            <a:avLst/>
            <a:gdLst/>
            <a:ahLst/>
            <a:rect l="l" t="t" r="r" b="b"/>
            <a:pathLst>
              <a:path w="2787091" h="2411577">
                <a:moveTo>
                  <a:pt x="0" y="2092147"/>
                </a:moveTo>
                <a:cubicBezTo>
                  <a:pt x="74371" y="2118969"/>
                  <a:pt x="148742" y="2145791"/>
                  <a:pt x="263347" y="2179929"/>
                </a:cubicBezTo>
                <a:cubicBezTo>
                  <a:pt x="377952" y="2214067"/>
                  <a:pt x="523037" y="2260396"/>
                  <a:pt x="687629" y="2296972"/>
                </a:cubicBezTo>
                <a:cubicBezTo>
                  <a:pt x="852221" y="2333548"/>
                  <a:pt x="1115568" y="2387193"/>
                  <a:pt x="1250899" y="2399385"/>
                </a:cubicBezTo>
                <a:cubicBezTo>
                  <a:pt x="1386230" y="2411577"/>
                  <a:pt x="1432560" y="2395727"/>
                  <a:pt x="1499616" y="2370124"/>
                </a:cubicBezTo>
                <a:cubicBezTo>
                  <a:pt x="1566672" y="2344521"/>
                  <a:pt x="1578864" y="2351836"/>
                  <a:pt x="1653235" y="2245766"/>
                </a:cubicBezTo>
                <a:cubicBezTo>
                  <a:pt x="1727606" y="2139696"/>
                  <a:pt x="1797101" y="1989734"/>
                  <a:pt x="1945843" y="1733702"/>
                </a:cubicBezTo>
                <a:cubicBezTo>
                  <a:pt x="2094585" y="1477670"/>
                  <a:pt x="2422551" y="920496"/>
                  <a:pt x="2545690" y="709574"/>
                </a:cubicBezTo>
                <a:cubicBezTo>
                  <a:pt x="2668829" y="498652"/>
                  <a:pt x="2654199" y="524255"/>
                  <a:pt x="2684679" y="468172"/>
                </a:cubicBezTo>
                <a:cubicBezTo>
                  <a:pt x="2715159" y="412089"/>
                  <a:pt x="2718817" y="412089"/>
                  <a:pt x="2728570" y="373075"/>
                </a:cubicBezTo>
                <a:cubicBezTo>
                  <a:pt x="2738323" y="334061"/>
                  <a:pt x="2734666" y="288950"/>
                  <a:pt x="2743200" y="234086"/>
                </a:cubicBezTo>
                <a:cubicBezTo>
                  <a:pt x="2751734" y="179222"/>
                  <a:pt x="2772461" y="80467"/>
                  <a:pt x="2779776" y="43891"/>
                </a:cubicBezTo>
                <a:cubicBezTo>
                  <a:pt x="2787091" y="7315"/>
                  <a:pt x="2787091" y="21945"/>
                  <a:pt x="2787091" y="14630"/>
                </a:cubicBezTo>
                <a:cubicBezTo>
                  <a:pt x="2787091" y="7315"/>
                  <a:pt x="2781300" y="3048"/>
                  <a:pt x="2779776" y="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任意多边形 10"/>
          <p:cNvSpPr/>
          <p:nvPr/>
        </p:nvSpPr>
        <p:spPr>
          <a:xfrm>
            <a:off x="5737320" y="1387440"/>
            <a:ext cx="135000" cy="428760"/>
          </a:xfrm>
          <a:custGeom>
            <a:avLst/>
            <a:gdLst/>
            <a:ahLst/>
            <a:rect l="l" t="t" r="r" b="b"/>
            <a:pathLst>
              <a:path w="199949" h="636423">
                <a:moveTo>
                  <a:pt x="0" y="0"/>
                </a:moveTo>
                <a:cubicBezTo>
                  <a:pt x="32309" y="43891"/>
                  <a:pt x="64618" y="87783"/>
                  <a:pt x="95098" y="153620"/>
                </a:cubicBezTo>
                <a:cubicBezTo>
                  <a:pt x="125578" y="219457"/>
                  <a:pt x="165811" y="314554"/>
                  <a:pt x="182880" y="395021"/>
                </a:cubicBezTo>
                <a:cubicBezTo>
                  <a:pt x="199949" y="475488"/>
                  <a:pt x="198730" y="555955"/>
                  <a:pt x="197511" y="636423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任意多边形 12"/>
          <p:cNvSpPr/>
          <p:nvPr/>
        </p:nvSpPr>
        <p:spPr>
          <a:xfrm>
            <a:off x="7502400" y="2131920"/>
            <a:ext cx="123840" cy="490680"/>
          </a:xfrm>
          <a:custGeom>
            <a:avLst/>
            <a:gdLst/>
            <a:ahLst/>
            <a:rect l="l" t="t" r="r" b="b"/>
            <a:pathLst>
              <a:path w="182879" h="726643">
                <a:moveTo>
                  <a:pt x="182879" y="0"/>
                </a:moveTo>
                <a:cubicBezTo>
                  <a:pt x="164590" y="33528"/>
                  <a:pt x="146302" y="67056"/>
                  <a:pt x="131672" y="138989"/>
                </a:cubicBezTo>
                <a:cubicBezTo>
                  <a:pt x="117042" y="210922"/>
                  <a:pt x="97534" y="346253"/>
                  <a:pt x="95096" y="431597"/>
                </a:cubicBezTo>
                <a:cubicBezTo>
                  <a:pt x="92658" y="516941"/>
                  <a:pt x="121919" y="603504"/>
                  <a:pt x="117042" y="651053"/>
                </a:cubicBezTo>
                <a:cubicBezTo>
                  <a:pt x="112165" y="698602"/>
                  <a:pt x="74369" y="707136"/>
                  <a:pt x="65835" y="716889"/>
                </a:cubicBezTo>
                <a:cubicBezTo>
                  <a:pt x="57301" y="726643"/>
                  <a:pt x="71932" y="708355"/>
                  <a:pt x="65836" y="709574"/>
                </a:cubicBezTo>
                <a:cubicBezTo>
                  <a:pt x="59740" y="710793"/>
                  <a:pt x="40233" y="722985"/>
                  <a:pt x="29260" y="724204"/>
                </a:cubicBezTo>
                <a:cubicBezTo>
                  <a:pt x="18287" y="725423"/>
                  <a:pt x="6096" y="718413"/>
                  <a:pt x="0" y="716889"/>
                </a:cubicBez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任意多边形 14"/>
          <p:cNvSpPr/>
          <p:nvPr/>
        </p:nvSpPr>
        <p:spPr>
          <a:xfrm>
            <a:off x="7974000" y="2274840"/>
            <a:ext cx="41400" cy="301680"/>
          </a:xfrm>
          <a:custGeom>
            <a:avLst/>
            <a:gdLst/>
            <a:ahLst/>
            <a:rect l="l" t="t" r="r" b="b"/>
            <a:pathLst>
              <a:path w="60960" h="446228">
                <a:moveTo>
                  <a:pt x="60960" y="0"/>
                </a:moveTo>
                <a:cubicBezTo>
                  <a:pt x="47549" y="40843"/>
                  <a:pt x="34138" y="81687"/>
                  <a:pt x="24384" y="138989"/>
                </a:cubicBezTo>
                <a:cubicBezTo>
                  <a:pt x="14630" y="196291"/>
                  <a:pt x="4876" y="292609"/>
                  <a:pt x="2438" y="343815"/>
                </a:cubicBezTo>
                <a:cubicBezTo>
                  <a:pt x="0" y="395021"/>
                  <a:pt x="4876" y="420624"/>
                  <a:pt x="9753" y="44622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任意多边形 3"/>
          <p:cNvSpPr/>
          <p:nvPr/>
        </p:nvSpPr>
        <p:spPr>
          <a:xfrm>
            <a:off x="6288120" y="1871640"/>
            <a:ext cx="585720" cy="522360"/>
          </a:xfrm>
          <a:custGeom>
            <a:avLst/>
            <a:gdLst/>
            <a:ahLst/>
            <a:rect l="l" t="t" r="r" b="b"/>
            <a:pathLst>
              <a:path w="870668" h="776578">
                <a:moveTo>
                  <a:pt x="10602" y="144449"/>
                </a:moveTo>
                <a:cubicBezTo>
                  <a:pt x="0" y="88790"/>
                  <a:pt x="25179" y="79513"/>
                  <a:pt x="42407" y="56984"/>
                </a:cubicBezTo>
                <a:cubicBezTo>
                  <a:pt x="59635" y="34455"/>
                  <a:pt x="72887" y="15903"/>
                  <a:pt x="113969" y="9277"/>
                </a:cubicBezTo>
                <a:cubicBezTo>
                  <a:pt x="155051" y="2651"/>
                  <a:pt x="223962" y="0"/>
                  <a:pt x="288898" y="17228"/>
                </a:cubicBezTo>
                <a:cubicBezTo>
                  <a:pt x="353834" y="34456"/>
                  <a:pt x="438647" y="71562"/>
                  <a:pt x="503583" y="112644"/>
                </a:cubicBezTo>
                <a:cubicBezTo>
                  <a:pt x="568519" y="153726"/>
                  <a:pt x="634780" y="219986"/>
                  <a:pt x="678512" y="263718"/>
                </a:cubicBezTo>
                <a:cubicBezTo>
                  <a:pt x="722244" y="307450"/>
                  <a:pt x="739472" y="335281"/>
                  <a:pt x="765976" y="375037"/>
                </a:cubicBezTo>
                <a:cubicBezTo>
                  <a:pt x="792480" y="414794"/>
                  <a:pt x="820310" y="457200"/>
                  <a:pt x="837538" y="502257"/>
                </a:cubicBezTo>
                <a:cubicBezTo>
                  <a:pt x="854766" y="547314"/>
                  <a:pt x="870668" y="608275"/>
                  <a:pt x="869343" y="645381"/>
                </a:cubicBezTo>
                <a:cubicBezTo>
                  <a:pt x="868018" y="682487"/>
                  <a:pt x="850789" y="703691"/>
                  <a:pt x="829586" y="724894"/>
                </a:cubicBezTo>
                <a:cubicBezTo>
                  <a:pt x="808383" y="746097"/>
                  <a:pt x="791155" y="768626"/>
                  <a:pt x="742122" y="772602"/>
                </a:cubicBezTo>
                <a:cubicBezTo>
                  <a:pt x="693089" y="776578"/>
                  <a:pt x="606950" y="775252"/>
                  <a:pt x="535388" y="748748"/>
                </a:cubicBezTo>
                <a:cubicBezTo>
                  <a:pt x="463826" y="722244"/>
                  <a:pt x="384314" y="673211"/>
                  <a:pt x="312752" y="613576"/>
                </a:cubicBezTo>
                <a:cubicBezTo>
                  <a:pt x="241190" y="553941"/>
                  <a:pt x="156376" y="463826"/>
                  <a:pt x="106018" y="390939"/>
                </a:cubicBezTo>
                <a:cubicBezTo>
                  <a:pt x="55660" y="318052"/>
                  <a:pt x="21204" y="200108"/>
                  <a:pt x="10602" y="144449"/>
                </a:cubicBezTo>
                <a:close/>
              </a:path>
            </a:pathLst>
          </a:custGeom>
          <a:solidFill>
            <a:srgbClr val="0079c5"/>
          </a:solidFill>
          <a:ln w="25560">
            <a:solidFill>
              <a:srgbClr val="0079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任意多边形 4"/>
          <p:cNvSpPr/>
          <p:nvPr/>
        </p:nvSpPr>
        <p:spPr>
          <a:xfrm>
            <a:off x="6408720" y="1913040"/>
            <a:ext cx="417600" cy="393480"/>
          </a:xfrm>
          <a:custGeom>
            <a:avLst/>
            <a:gdLst/>
            <a:ahLst/>
            <a:rect l="l" t="t" r="r" b="b"/>
            <a:pathLst>
              <a:path w="617551" h="584421">
                <a:moveTo>
                  <a:pt x="29155" y="18553"/>
                </a:moveTo>
                <a:cubicBezTo>
                  <a:pt x="15903" y="37106"/>
                  <a:pt x="0" y="78188"/>
                  <a:pt x="5301" y="121920"/>
                </a:cubicBezTo>
                <a:cubicBezTo>
                  <a:pt x="10602" y="165652"/>
                  <a:pt x="23854" y="223962"/>
                  <a:pt x="60960" y="280946"/>
                </a:cubicBezTo>
                <a:cubicBezTo>
                  <a:pt x="98066" y="337930"/>
                  <a:pt x="166977" y="416118"/>
                  <a:pt x="227937" y="463826"/>
                </a:cubicBezTo>
                <a:cubicBezTo>
                  <a:pt x="288897" y="511534"/>
                  <a:pt x="369736" y="549965"/>
                  <a:pt x="426720" y="567193"/>
                </a:cubicBezTo>
                <a:cubicBezTo>
                  <a:pt x="483704" y="584421"/>
                  <a:pt x="538038" y="572494"/>
                  <a:pt x="569843" y="567193"/>
                </a:cubicBezTo>
                <a:cubicBezTo>
                  <a:pt x="601648" y="561892"/>
                  <a:pt x="617551" y="565868"/>
                  <a:pt x="617551" y="535388"/>
                </a:cubicBezTo>
                <a:cubicBezTo>
                  <a:pt x="617551" y="504908"/>
                  <a:pt x="598998" y="439972"/>
                  <a:pt x="569843" y="384313"/>
                </a:cubicBezTo>
                <a:cubicBezTo>
                  <a:pt x="540688" y="328654"/>
                  <a:pt x="492980" y="254442"/>
                  <a:pt x="442622" y="201433"/>
                </a:cubicBezTo>
                <a:cubicBezTo>
                  <a:pt x="392264" y="148424"/>
                  <a:pt x="327329" y="98066"/>
                  <a:pt x="267694" y="66261"/>
                </a:cubicBezTo>
                <a:cubicBezTo>
                  <a:pt x="208059" y="34456"/>
                  <a:pt x="124570" y="21204"/>
                  <a:pt x="84814" y="10602"/>
                </a:cubicBezTo>
                <a:cubicBezTo>
                  <a:pt x="45058" y="0"/>
                  <a:pt x="42407" y="0"/>
                  <a:pt x="29155" y="1855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任意多边形 5"/>
          <p:cNvSpPr/>
          <p:nvPr/>
        </p:nvSpPr>
        <p:spPr>
          <a:xfrm>
            <a:off x="6481800" y="1946160"/>
            <a:ext cx="301680" cy="282600"/>
          </a:xfrm>
          <a:custGeom>
            <a:avLst/>
            <a:gdLst/>
            <a:ahLst/>
            <a:rect l="l" t="t" r="r" b="b"/>
            <a:pathLst>
              <a:path w="447923" h="418768">
                <a:moveTo>
                  <a:pt x="39757" y="6626"/>
                </a:moveTo>
                <a:cubicBezTo>
                  <a:pt x="21204" y="13252"/>
                  <a:pt x="9276" y="33130"/>
                  <a:pt x="7951" y="62285"/>
                </a:cubicBezTo>
                <a:cubicBezTo>
                  <a:pt x="6626" y="91440"/>
                  <a:pt x="0" y="128545"/>
                  <a:pt x="31805" y="181554"/>
                </a:cubicBezTo>
                <a:cubicBezTo>
                  <a:pt x="63610" y="234563"/>
                  <a:pt x="147100" y="341906"/>
                  <a:pt x="198783" y="380337"/>
                </a:cubicBezTo>
                <a:cubicBezTo>
                  <a:pt x="250466" y="418768"/>
                  <a:pt x="303475" y="413467"/>
                  <a:pt x="341906" y="412142"/>
                </a:cubicBezTo>
                <a:cubicBezTo>
                  <a:pt x="380337" y="410817"/>
                  <a:pt x="416118" y="394915"/>
                  <a:pt x="429370" y="372386"/>
                </a:cubicBezTo>
                <a:cubicBezTo>
                  <a:pt x="442622" y="349857"/>
                  <a:pt x="447923" y="322028"/>
                  <a:pt x="421419" y="276970"/>
                </a:cubicBezTo>
                <a:cubicBezTo>
                  <a:pt x="394915" y="231912"/>
                  <a:pt x="320702" y="144448"/>
                  <a:pt x="270344" y="102041"/>
                </a:cubicBezTo>
                <a:cubicBezTo>
                  <a:pt x="219986" y="59634"/>
                  <a:pt x="157701" y="39756"/>
                  <a:pt x="119270" y="22528"/>
                </a:cubicBezTo>
                <a:cubicBezTo>
                  <a:pt x="80839" y="5300"/>
                  <a:pt x="58310" y="0"/>
                  <a:pt x="39757" y="6626"/>
                </a:cubicBezTo>
                <a:close/>
              </a:path>
            </a:pathLst>
          </a:custGeom>
          <a:solidFill>
            <a:srgbClr val="00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任意多边形 20"/>
          <p:cNvSpPr/>
          <p:nvPr/>
        </p:nvSpPr>
        <p:spPr>
          <a:xfrm>
            <a:off x="407880" y="5757840"/>
            <a:ext cx="2343240" cy="388800"/>
          </a:xfrm>
          <a:custGeom>
            <a:avLst/>
            <a:gdLst/>
            <a:ahLst/>
            <a:rect l="l" t="t" r="r" b="b"/>
            <a:pathLst>
              <a:path w="4239491" h="704603">
                <a:moveTo>
                  <a:pt x="0" y="617517"/>
                </a:moveTo>
                <a:cubicBezTo>
                  <a:pt x="29688" y="646215"/>
                  <a:pt x="59376" y="674914"/>
                  <a:pt x="95002" y="688769"/>
                </a:cubicBezTo>
                <a:cubicBezTo>
                  <a:pt x="130628" y="702624"/>
                  <a:pt x="152399" y="704603"/>
                  <a:pt x="213755" y="700645"/>
                </a:cubicBezTo>
                <a:cubicBezTo>
                  <a:pt x="275111" y="696687"/>
                  <a:pt x="463137" y="665019"/>
                  <a:pt x="463137" y="665019"/>
                </a:cubicBezTo>
                <a:lnTo>
                  <a:pt x="1567542" y="486889"/>
                </a:lnTo>
                <a:lnTo>
                  <a:pt x="2968831" y="273133"/>
                </a:lnTo>
                <a:lnTo>
                  <a:pt x="3811979" y="142504"/>
                </a:lnTo>
                <a:cubicBezTo>
                  <a:pt x="4011880" y="110837"/>
                  <a:pt x="4096987" y="106879"/>
                  <a:pt x="4168239" y="83128"/>
                </a:cubicBezTo>
                <a:cubicBezTo>
                  <a:pt x="4239491" y="59377"/>
                  <a:pt x="4239491" y="29688"/>
                  <a:pt x="4239491" y="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5" name="任意多边形 21"/>
          <p:cNvGrpSpPr/>
          <p:nvPr/>
        </p:nvGrpSpPr>
        <p:grpSpPr>
          <a:xfrm>
            <a:off x="128520" y="3730680"/>
            <a:ext cx="414360" cy="2425680"/>
            <a:chOff x="128520" y="3730680"/>
            <a:chExt cx="414360" cy="2425680"/>
          </a:xfrm>
        </p:grpSpPr>
        <p:pic>
          <p:nvPicPr>
            <p:cNvPr id="1176" name="任意多边形 21" descr=""/>
            <p:cNvPicPr/>
            <p:nvPr/>
          </p:nvPicPr>
          <p:blipFill>
            <a:blip r:embed="rId1"/>
            <a:stretch/>
          </p:blipFill>
          <p:spPr>
            <a:xfrm>
              <a:off x="131400" y="3744720"/>
              <a:ext cx="404640" cy="23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7" name="Text Box 16"/>
            <p:cNvSpPr/>
            <p:nvPr/>
          </p:nvSpPr>
          <p:spPr>
            <a:xfrm>
              <a:off x="128520" y="3730680"/>
              <a:ext cx="414360" cy="24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8" name="任意多边形 22"/>
          <p:cNvSpPr/>
          <p:nvPr/>
        </p:nvSpPr>
        <p:spPr>
          <a:xfrm>
            <a:off x="163440" y="3714840"/>
            <a:ext cx="2622600" cy="2422440"/>
          </a:xfrm>
          <a:custGeom>
            <a:avLst/>
            <a:gdLst/>
            <a:ahLst/>
            <a:rect l="l" t="t" r="r" b="b"/>
            <a:pathLst>
              <a:path w="4744191" h="4381995">
                <a:moveTo>
                  <a:pt x="73231" y="847107"/>
                </a:moveTo>
                <a:cubicBezTo>
                  <a:pt x="29688" y="453242"/>
                  <a:pt x="23750" y="395845"/>
                  <a:pt x="13854" y="300842"/>
                </a:cubicBezTo>
                <a:cubicBezTo>
                  <a:pt x="3958" y="205839"/>
                  <a:pt x="13854" y="277091"/>
                  <a:pt x="13854" y="277091"/>
                </a:cubicBezTo>
                <a:cubicBezTo>
                  <a:pt x="13854" y="245424"/>
                  <a:pt x="0" y="154380"/>
                  <a:pt x="13854" y="110837"/>
                </a:cubicBezTo>
                <a:cubicBezTo>
                  <a:pt x="27708" y="67294"/>
                  <a:pt x="47501" y="31668"/>
                  <a:pt x="96981" y="15834"/>
                </a:cubicBezTo>
                <a:cubicBezTo>
                  <a:pt x="146462" y="0"/>
                  <a:pt x="310737" y="15834"/>
                  <a:pt x="310737" y="15834"/>
                </a:cubicBezTo>
                <a:lnTo>
                  <a:pt x="3160815" y="158338"/>
                </a:lnTo>
                <a:lnTo>
                  <a:pt x="3944586" y="205839"/>
                </a:lnTo>
                <a:cubicBezTo>
                  <a:pt x="4122716" y="217714"/>
                  <a:pt x="4164280" y="203860"/>
                  <a:pt x="4229594" y="229590"/>
                </a:cubicBezTo>
                <a:cubicBezTo>
                  <a:pt x="4294908" y="255320"/>
                  <a:pt x="4310742" y="288966"/>
                  <a:pt x="4336472" y="360218"/>
                </a:cubicBezTo>
                <a:cubicBezTo>
                  <a:pt x="4362202" y="431470"/>
                  <a:pt x="4360222" y="471055"/>
                  <a:pt x="4383973" y="657102"/>
                </a:cubicBezTo>
                <a:cubicBezTo>
                  <a:pt x="4407724" y="843149"/>
                  <a:pt x="4478976" y="1476499"/>
                  <a:pt x="4478976" y="1476499"/>
                </a:cubicBezTo>
                <a:cubicBezTo>
                  <a:pt x="4524498" y="1868385"/>
                  <a:pt x="4619501" y="2687782"/>
                  <a:pt x="4657106" y="3008416"/>
                </a:cubicBezTo>
                <a:cubicBezTo>
                  <a:pt x="4694711" y="3329050"/>
                  <a:pt x="4690753" y="3291445"/>
                  <a:pt x="4704607" y="3400302"/>
                </a:cubicBezTo>
                <a:cubicBezTo>
                  <a:pt x="4718461" y="3509159"/>
                  <a:pt x="4744191" y="3610099"/>
                  <a:pt x="4740233" y="3661559"/>
                </a:cubicBezTo>
                <a:cubicBezTo>
                  <a:pt x="4736275" y="3713019"/>
                  <a:pt x="4694712" y="3691247"/>
                  <a:pt x="4680857" y="3709060"/>
                </a:cubicBezTo>
                <a:cubicBezTo>
                  <a:pt x="4667003" y="3726873"/>
                  <a:pt x="4670961" y="3756562"/>
                  <a:pt x="4657106" y="3768437"/>
                </a:cubicBezTo>
                <a:cubicBezTo>
                  <a:pt x="4643251" y="3780312"/>
                  <a:pt x="4597729" y="3780312"/>
                  <a:pt x="4597729" y="3780312"/>
                </a:cubicBezTo>
                <a:lnTo>
                  <a:pt x="3220192" y="3994068"/>
                </a:lnTo>
                <a:lnTo>
                  <a:pt x="1581397" y="4243450"/>
                </a:lnTo>
                <a:cubicBezTo>
                  <a:pt x="1153885" y="4306785"/>
                  <a:pt x="839188" y="4366161"/>
                  <a:pt x="655121" y="4374078"/>
                </a:cubicBezTo>
                <a:cubicBezTo>
                  <a:pt x="471054" y="4381995"/>
                  <a:pt x="518556" y="4362203"/>
                  <a:pt x="476992" y="4290951"/>
                </a:cubicBezTo>
                <a:cubicBezTo>
                  <a:pt x="435429" y="4219699"/>
                  <a:pt x="439387" y="4217720"/>
                  <a:pt x="405740" y="3946567"/>
                </a:cubicBezTo>
                <a:cubicBezTo>
                  <a:pt x="372093" y="3675414"/>
                  <a:pt x="330529" y="3184566"/>
                  <a:pt x="275111" y="2664031"/>
                </a:cubicBezTo>
                <a:cubicBezTo>
                  <a:pt x="219693" y="2143496"/>
                  <a:pt x="116774" y="1240972"/>
                  <a:pt x="73231" y="847107"/>
                </a:cubicBezTo>
                <a:close/>
              </a:path>
            </a:pathLst>
          </a:custGeom>
          <a:solidFill>
            <a:srgbClr val="0079c5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任意多边形 24"/>
          <p:cNvSpPr/>
          <p:nvPr/>
        </p:nvSpPr>
        <p:spPr>
          <a:xfrm>
            <a:off x="544680" y="6059520"/>
            <a:ext cx="1839600" cy="679320"/>
          </a:xfrm>
          <a:custGeom>
            <a:avLst/>
            <a:gdLst/>
            <a:ahLst/>
            <a:rect l="l" t="t" r="r" b="b"/>
            <a:pathLst>
              <a:path w="3329049" h="1229096">
                <a:moveTo>
                  <a:pt x="0" y="190005"/>
                </a:moveTo>
                <a:lnTo>
                  <a:pt x="344384" y="380010"/>
                </a:lnTo>
                <a:cubicBezTo>
                  <a:pt x="419594" y="423553"/>
                  <a:pt x="431470" y="431470"/>
                  <a:pt x="451262" y="451262"/>
                </a:cubicBezTo>
                <a:cubicBezTo>
                  <a:pt x="471054" y="471054"/>
                  <a:pt x="494806" y="484908"/>
                  <a:pt x="463138" y="498763"/>
                </a:cubicBezTo>
                <a:cubicBezTo>
                  <a:pt x="431470" y="512618"/>
                  <a:pt x="316675" y="522514"/>
                  <a:pt x="261257" y="534389"/>
                </a:cubicBezTo>
                <a:cubicBezTo>
                  <a:pt x="205839" y="546264"/>
                  <a:pt x="160316" y="550223"/>
                  <a:pt x="130628" y="570015"/>
                </a:cubicBezTo>
                <a:cubicBezTo>
                  <a:pt x="100940" y="589807"/>
                  <a:pt x="87085" y="619496"/>
                  <a:pt x="83127" y="653143"/>
                </a:cubicBezTo>
                <a:cubicBezTo>
                  <a:pt x="79169" y="686790"/>
                  <a:pt x="63335" y="726374"/>
                  <a:pt x="106878" y="771896"/>
                </a:cubicBezTo>
                <a:cubicBezTo>
                  <a:pt x="150421" y="817418"/>
                  <a:pt x="247402" y="870857"/>
                  <a:pt x="344384" y="926275"/>
                </a:cubicBezTo>
                <a:cubicBezTo>
                  <a:pt x="441366" y="981693"/>
                  <a:pt x="597725" y="1058883"/>
                  <a:pt x="688769" y="1104405"/>
                </a:cubicBezTo>
                <a:cubicBezTo>
                  <a:pt x="779813" y="1149927"/>
                  <a:pt x="823355" y="1181594"/>
                  <a:pt x="890649" y="1199407"/>
                </a:cubicBezTo>
                <a:cubicBezTo>
                  <a:pt x="957943" y="1217220"/>
                  <a:pt x="959922" y="1229096"/>
                  <a:pt x="1092530" y="1211283"/>
                </a:cubicBezTo>
                <a:cubicBezTo>
                  <a:pt x="1225138" y="1193470"/>
                  <a:pt x="1686296" y="1092530"/>
                  <a:pt x="1686296" y="1092530"/>
                </a:cubicBezTo>
                <a:lnTo>
                  <a:pt x="2790701" y="855023"/>
                </a:lnTo>
                <a:cubicBezTo>
                  <a:pt x="3049979" y="801584"/>
                  <a:pt x="3154879" y="799605"/>
                  <a:pt x="3241964" y="771896"/>
                </a:cubicBezTo>
                <a:cubicBezTo>
                  <a:pt x="3329049" y="744187"/>
                  <a:pt x="3303319" y="712519"/>
                  <a:pt x="3313215" y="688768"/>
                </a:cubicBezTo>
                <a:cubicBezTo>
                  <a:pt x="3323111" y="665017"/>
                  <a:pt x="3321132" y="649184"/>
                  <a:pt x="3301340" y="629392"/>
                </a:cubicBezTo>
                <a:cubicBezTo>
                  <a:pt x="3281548" y="609600"/>
                  <a:pt x="3194462" y="570015"/>
                  <a:pt x="3194462" y="570015"/>
                </a:cubicBezTo>
                <a:lnTo>
                  <a:pt x="2648197" y="296883"/>
                </a:lnTo>
                <a:cubicBezTo>
                  <a:pt x="2527465" y="237506"/>
                  <a:pt x="2553194" y="223651"/>
                  <a:pt x="2470067" y="213755"/>
                </a:cubicBezTo>
                <a:cubicBezTo>
                  <a:pt x="2386940" y="203859"/>
                  <a:pt x="2248395" y="227610"/>
                  <a:pt x="2149434" y="237506"/>
                </a:cubicBezTo>
                <a:cubicBezTo>
                  <a:pt x="2050473" y="247402"/>
                  <a:pt x="1963387" y="277091"/>
                  <a:pt x="1876301" y="273132"/>
                </a:cubicBezTo>
                <a:cubicBezTo>
                  <a:pt x="1789215" y="269174"/>
                  <a:pt x="1737755" y="259277"/>
                  <a:pt x="1626919" y="213755"/>
                </a:cubicBezTo>
                <a:cubicBezTo>
                  <a:pt x="1516083" y="168233"/>
                  <a:pt x="1363683" y="84116"/>
                  <a:pt x="1211283" y="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任意多边形 25"/>
          <p:cNvSpPr/>
          <p:nvPr/>
        </p:nvSpPr>
        <p:spPr>
          <a:xfrm>
            <a:off x="617400" y="6145200"/>
            <a:ext cx="335160" cy="192240"/>
          </a:xfrm>
          <a:custGeom>
            <a:avLst/>
            <a:gdLst/>
            <a:ahLst/>
            <a:rect l="l" t="t" r="r" b="b"/>
            <a:pathLst>
              <a:path w="605641" h="346363">
                <a:moveTo>
                  <a:pt x="23751" y="35626"/>
                </a:moveTo>
                <a:cubicBezTo>
                  <a:pt x="47502" y="71252"/>
                  <a:pt x="332510" y="213756"/>
                  <a:pt x="332510" y="213756"/>
                </a:cubicBezTo>
                <a:cubicBezTo>
                  <a:pt x="407720" y="257299"/>
                  <a:pt x="447304" y="275112"/>
                  <a:pt x="475013" y="296883"/>
                </a:cubicBezTo>
                <a:cubicBezTo>
                  <a:pt x="502722" y="318654"/>
                  <a:pt x="480951" y="342405"/>
                  <a:pt x="498764" y="344384"/>
                </a:cubicBezTo>
                <a:cubicBezTo>
                  <a:pt x="516577" y="346363"/>
                  <a:pt x="573974" y="322612"/>
                  <a:pt x="581891" y="308758"/>
                </a:cubicBezTo>
                <a:cubicBezTo>
                  <a:pt x="589808" y="294904"/>
                  <a:pt x="605641" y="302821"/>
                  <a:pt x="546265" y="261257"/>
                </a:cubicBezTo>
                <a:cubicBezTo>
                  <a:pt x="486889" y="219693"/>
                  <a:pt x="286988" y="98960"/>
                  <a:pt x="225632" y="59376"/>
                </a:cubicBezTo>
                <a:cubicBezTo>
                  <a:pt x="164276" y="19792"/>
                  <a:pt x="184068" y="33647"/>
                  <a:pt x="178130" y="23751"/>
                </a:cubicBezTo>
                <a:cubicBezTo>
                  <a:pt x="172192" y="13855"/>
                  <a:pt x="217715" y="0"/>
                  <a:pt x="190006" y="0"/>
                </a:cubicBezTo>
                <a:cubicBezTo>
                  <a:pt x="162297" y="0"/>
                  <a:pt x="0" y="0"/>
                  <a:pt x="23751" y="356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任意多边形 26"/>
          <p:cNvSpPr/>
          <p:nvPr/>
        </p:nvSpPr>
        <p:spPr>
          <a:xfrm>
            <a:off x="585720" y="6372360"/>
            <a:ext cx="1805040" cy="330120"/>
          </a:xfrm>
          <a:custGeom>
            <a:avLst/>
            <a:gdLst/>
            <a:ahLst/>
            <a:rect l="l" t="t" r="r" b="b"/>
            <a:pathLst>
              <a:path w="3265715" h="599704">
                <a:moveTo>
                  <a:pt x="67294" y="5938"/>
                </a:moveTo>
                <a:cubicBezTo>
                  <a:pt x="53440" y="0"/>
                  <a:pt x="15834" y="33648"/>
                  <a:pt x="7917" y="53440"/>
                </a:cubicBezTo>
                <a:cubicBezTo>
                  <a:pt x="0" y="73232"/>
                  <a:pt x="0" y="102920"/>
                  <a:pt x="19792" y="124691"/>
                </a:cubicBezTo>
                <a:cubicBezTo>
                  <a:pt x="39584" y="146462"/>
                  <a:pt x="126670" y="184068"/>
                  <a:pt x="126670" y="184068"/>
                </a:cubicBezTo>
                <a:lnTo>
                  <a:pt x="435429" y="362198"/>
                </a:lnTo>
                <a:cubicBezTo>
                  <a:pt x="540328" y="423554"/>
                  <a:pt x="674915" y="512619"/>
                  <a:pt x="756063" y="552203"/>
                </a:cubicBezTo>
                <a:cubicBezTo>
                  <a:pt x="837211" y="591787"/>
                  <a:pt x="843148" y="599704"/>
                  <a:pt x="922317" y="599704"/>
                </a:cubicBezTo>
                <a:cubicBezTo>
                  <a:pt x="1001486" y="599704"/>
                  <a:pt x="1074718" y="579912"/>
                  <a:pt x="1231076" y="552203"/>
                </a:cubicBezTo>
                <a:cubicBezTo>
                  <a:pt x="1387434" y="524494"/>
                  <a:pt x="1860468" y="433450"/>
                  <a:pt x="1860468" y="433450"/>
                </a:cubicBezTo>
                <a:lnTo>
                  <a:pt x="2941122" y="207819"/>
                </a:lnTo>
                <a:cubicBezTo>
                  <a:pt x="3164774" y="162297"/>
                  <a:pt x="3156857" y="174172"/>
                  <a:pt x="3202379" y="160317"/>
                </a:cubicBezTo>
                <a:cubicBezTo>
                  <a:pt x="3247901" y="146462"/>
                  <a:pt x="3265715" y="120732"/>
                  <a:pt x="3214255" y="124691"/>
                </a:cubicBezTo>
                <a:cubicBezTo>
                  <a:pt x="3162795" y="128650"/>
                  <a:pt x="2893621" y="184068"/>
                  <a:pt x="2893621" y="184068"/>
                </a:cubicBezTo>
                <a:lnTo>
                  <a:pt x="1278577" y="504702"/>
                </a:lnTo>
                <a:cubicBezTo>
                  <a:pt x="950026" y="564079"/>
                  <a:pt x="1019299" y="550224"/>
                  <a:pt x="922317" y="540328"/>
                </a:cubicBezTo>
                <a:cubicBezTo>
                  <a:pt x="825335" y="530432"/>
                  <a:pt x="819398" y="510639"/>
                  <a:pt x="696686" y="445325"/>
                </a:cubicBezTo>
                <a:cubicBezTo>
                  <a:pt x="573974" y="380011"/>
                  <a:pt x="286987" y="207819"/>
                  <a:pt x="186047" y="148442"/>
                </a:cubicBezTo>
                <a:cubicBezTo>
                  <a:pt x="85107" y="89066"/>
                  <a:pt x="110836" y="104900"/>
                  <a:pt x="91044" y="89066"/>
                </a:cubicBezTo>
                <a:cubicBezTo>
                  <a:pt x="71252" y="73232"/>
                  <a:pt x="81149" y="11876"/>
                  <a:pt x="67294" y="59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任意多边形 27"/>
          <p:cNvSpPr/>
          <p:nvPr/>
        </p:nvSpPr>
        <p:spPr>
          <a:xfrm>
            <a:off x="861840" y="6245280"/>
            <a:ext cx="1303560" cy="352440"/>
          </a:xfrm>
          <a:custGeom>
            <a:avLst/>
            <a:gdLst/>
            <a:ahLst/>
            <a:rect l="l" t="t" r="r" b="b"/>
            <a:pathLst>
              <a:path w="2359231" h="639288">
                <a:moveTo>
                  <a:pt x="316675" y="568036"/>
                </a:moveTo>
                <a:cubicBezTo>
                  <a:pt x="227610" y="540327"/>
                  <a:pt x="154379" y="471055"/>
                  <a:pt x="102919" y="437408"/>
                </a:cubicBezTo>
                <a:cubicBezTo>
                  <a:pt x="51459" y="403761"/>
                  <a:pt x="15834" y="389907"/>
                  <a:pt x="7917" y="366156"/>
                </a:cubicBezTo>
                <a:cubicBezTo>
                  <a:pt x="0" y="342405"/>
                  <a:pt x="1979" y="316675"/>
                  <a:pt x="55418" y="294904"/>
                </a:cubicBezTo>
                <a:cubicBezTo>
                  <a:pt x="108857" y="273133"/>
                  <a:pt x="116774" y="273132"/>
                  <a:pt x="328551" y="235527"/>
                </a:cubicBezTo>
                <a:cubicBezTo>
                  <a:pt x="540328" y="197922"/>
                  <a:pt x="1326078" y="69273"/>
                  <a:pt x="1326078" y="69273"/>
                </a:cubicBezTo>
                <a:cubicBezTo>
                  <a:pt x="1555668" y="31668"/>
                  <a:pt x="1613065" y="15834"/>
                  <a:pt x="1706088" y="9896"/>
                </a:cubicBezTo>
                <a:cubicBezTo>
                  <a:pt x="1799111" y="3958"/>
                  <a:pt x="1789215" y="0"/>
                  <a:pt x="1884218" y="33647"/>
                </a:cubicBezTo>
                <a:cubicBezTo>
                  <a:pt x="1979221" y="67294"/>
                  <a:pt x="2206831" y="168234"/>
                  <a:pt x="2276104" y="211777"/>
                </a:cubicBezTo>
                <a:cubicBezTo>
                  <a:pt x="2345377" y="255320"/>
                  <a:pt x="2359231" y="269174"/>
                  <a:pt x="2299854" y="294904"/>
                </a:cubicBezTo>
                <a:cubicBezTo>
                  <a:pt x="2240477" y="320634"/>
                  <a:pt x="1919844" y="366156"/>
                  <a:pt x="1919844" y="366156"/>
                </a:cubicBezTo>
                <a:cubicBezTo>
                  <a:pt x="1642753" y="417616"/>
                  <a:pt x="896587" y="568036"/>
                  <a:pt x="637309" y="603662"/>
                </a:cubicBezTo>
                <a:cubicBezTo>
                  <a:pt x="378031" y="639288"/>
                  <a:pt x="405740" y="595745"/>
                  <a:pt x="316675" y="568036"/>
                </a:cubicBezTo>
                <a:close/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3" name="图片 28" descr="未标题-2.png"/>
          <p:cNvPicPr/>
          <p:nvPr/>
        </p:nvPicPr>
        <p:blipFill>
          <a:blip r:embed="rId2"/>
          <a:stretch/>
        </p:blipFill>
        <p:spPr>
          <a:xfrm>
            <a:off x="380880" y="3919680"/>
            <a:ext cx="2264040" cy="2023920"/>
          </a:xfrm>
          <a:prstGeom prst="rect">
            <a:avLst/>
          </a:prstGeom>
          <a:ln w="0">
            <a:noFill/>
          </a:ln>
        </p:spPr>
      </p:pic>
      <p:pic>
        <p:nvPicPr>
          <p:cNvPr id="1184" name="图片 29" descr="未标题-2.png"/>
          <p:cNvPicPr/>
          <p:nvPr/>
        </p:nvPicPr>
        <p:blipFill>
          <a:blip r:embed="rId3"/>
          <a:stretch/>
        </p:blipFill>
        <p:spPr>
          <a:xfrm rot="21286200">
            <a:off x="748800" y="5151240"/>
            <a:ext cx="433440" cy="387360"/>
          </a:xfrm>
          <a:prstGeom prst="rect">
            <a:avLst/>
          </a:prstGeom>
          <a:ln w="0">
            <a:noFill/>
          </a:ln>
        </p:spPr>
      </p:pic>
      <p:sp>
        <p:nvSpPr>
          <p:cNvPr id="1185" name="TextBox 30"/>
          <p:cNvSpPr/>
          <p:nvPr/>
        </p:nvSpPr>
        <p:spPr>
          <a:xfrm>
            <a:off x="3857760" y="469116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即使是投影仪和显示器的色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TextBox 31"/>
          <p:cNvSpPr/>
          <p:nvPr/>
        </p:nvSpPr>
        <p:spPr>
          <a:xfrm>
            <a:off x="428760" y="912960"/>
            <a:ext cx="5000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配色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是孤立的环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TextBox 32"/>
          <p:cNvSpPr/>
          <p:nvPr/>
        </p:nvSpPr>
        <p:spPr>
          <a:xfrm>
            <a:off x="3857760" y="4691160"/>
            <a:ext cx="528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也应该在制作时予以充分考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8" name="任意多边形 36"/>
          <p:cNvGrpSpPr/>
          <p:nvPr/>
        </p:nvGrpSpPr>
        <p:grpSpPr>
          <a:xfrm>
            <a:off x="4889520" y="1962000"/>
            <a:ext cx="1882800" cy="1622160"/>
            <a:chOff x="4889520" y="1962000"/>
            <a:chExt cx="1882800" cy="1622160"/>
          </a:xfrm>
        </p:grpSpPr>
        <p:pic>
          <p:nvPicPr>
            <p:cNvPr id="1189" name="任意多边形 36" descr=""/>
            <p:cNvPicPr/>
            <p:nvPr/>
          </p:nvPicPr>
          <p:blipFill>
            <a:blip r:embed="rId4"/>
            <a:stretch/>
          </p:blipFill>
          <p:spPr>
            <a:xfrm>
              <a:off x="4889520" y="1962000"/>
              <a:ext cx="188136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0" name=""/>
            <p:cNvSpPr/>
            <p:nvPr/>
          </p:nvSpPr>
          <p:spPr>
            <a:xfrm>
              <a:off x="4889520" y="1963440"/>
              <a:ext cx="1882800" cy="16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14000">
    <p:fade/>
  </p:transition>
  <p:timing>
    <p:tnLst>
      <p:par>
        <p:cTn id="1802" dur="indefinite" restart="never" nodeType="tmRoot">
          <p:childTnLst>
            <p:seq>
              <p:cTn id="1803" dur="indefinite" nodeType="mainSeq">
                <p:childTnLst>
                  <p:par>
                    <p:cTn id="1804" nodeType="clickEffect" fill="hold">
                      <p:stCondLst>
                        <p:cond delay="0"/>
                      </p:stCondLst>
                      <p:childTnLst>
                        <p:par>
                          <p:cTn id="1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08" dur="3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9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18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2" dur="3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3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18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6" dur="3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9" dur="3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2" dur="3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3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18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6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9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0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83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33" dur="3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4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83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37" dur="3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1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3" nodeType="after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45" dur="3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6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18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9" dur="3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0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18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3" dur="3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4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18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7" dur="3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8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18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1" dur="3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5" dur="3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6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18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9" dur="3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0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187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3" dur="3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4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187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7" dur="3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8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187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1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2" nodeType="afterEffect" fill="hold">
                            <p:stCondLst>
                              <p:cond delay="8200"/>
                            </p:stCondLst>
                            <p:childTnLst>
                              <p:par>
                                <p:cTn id="188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5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6" nodeType="afterEffect" fill="hold">
                            <p:stCondLst>
                              <p:cond delay="9200"/>
                            </p:stCondLst>
                            <p:childTnLst>
                              <p:par>
                                <p:cTn id="1887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8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0" nodeType="afterEffect" fill="hold">
                            <p:stCondLst>
                              <p:cond delay="11200"/>
                            </p:stCondLst>
                            <p:childTnLst>
                              <p:par>
                                <p:cTn id="18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3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4" nodeType="afterEffect" fill="hold">
                            <p:stCondLst>
                              <p:cond delay="11700"/>
                            </p:stCondLst>
                            <p:childTnLst>
                              <p:par>
                                <p:cTn id="1895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6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1" name="组合 104"/>
          <p:cNvGrpSpPr/>
          <p:nvPr/>
        </p:nvGrpSpPr>
        <p:grpSpPr>
          <a:xfrm>
            <a:off x="500040" y="-1300320"/>
            <a:ext cx="3286080" cy="9528480"/>
            <a:chOff x="500040" y="-1300320"/>
            <a:chExt cx="3286080" cy="9528480"/>
          </a:xfrm>
        </p:grpSpPr>
        <p:sp>
          <p:nvSpPr>
            <p:cNvPr id="1192" name="矩形 2"/>
            <p:cNvSpPr/>
            <p:nvPr/>
          </p:nvSpPr>
          <p:spPr>
            <a:xfrm>
              <a:off x="500040" y="-142920"/>
              <a:ext cx="3286080" cy="71442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3" name="组合 37"/>
            <p:cNvGrpSpPr/>
            <p:nvPr/>
          </p:nvGrpSpPr>
          <p:grpSpPr>
            <a:xfrm>
              <a:off x="635400" y="-348120"/>
              <a:ext cx="198000" cy="7540920"/>
              <a:chOff x="635400" y="-348120"/>
              <a:chExt cx="198000" cy="7540920"/>
            </a:xfrm>
          </p:grpSpPr>
          <p:grpSp>
            <p:nvGrpSpPr>
              <p:cNvPr id="1194" name="组合 18"/>
              <p:cNvGrpSpPr/>
              <p:nvPr/>
            </p:nvGrpSpPr>
            <p:grpSpPr>
              <a:xfrm>
                <a:off x="635400" y="-348120"/>
                <a:ext cx="198000" cy="2396160"/>
                <a:chOff x="635400" y="-348120"/>
                <a:chExt cx="198000" cy="2396160"/>
              </a:xfrm>
            </p:grpSpPr>
            <p:sp>
              <p:nvSpPr>
                <p:cNvPr id="1195" name="圆角矩形 4"/>
                <p:cNvSpPr/>
                <p:nvPr/>
              </p:nvSpPr>
              <p:spPr>
                <a:xfrm>
                  <a:off x="635400" y="938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圆角矩形 5"/>
                <p:cNvSpPr/>
                <p:nvPr/>
              </p:nvSpPr>
              <p:spPr>
                <a:xfrm>
                  <a:off x="635400" y="126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7" name="圆角矩形 8"/>
                <p:cNvSpPr/>
                <p:nvPr/>
              </p:nvSpPr>
              <p:spPr>
                <a:xfrm>
                  <a:off x="635400" y="1581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圆角矩形 9"/>
                <p:cNvSpPr/>
                <p:nvPr/>
              </p:nvSpPr>
              <p:spPr>
                <a:xfrm>
                  <a:off x="635400" y="1903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圆角矩形 16"/>
                <p:cNvSpPr/>
                <p:nvPr/>
              </p:nvSpPr>
              <p:spPr>
                <a:xfrm>
                  <a:off x="635400" y="-34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0" name="圆角矩形 17"/>
                <p:cNvSpPr/>
                <p:nvPr/>
              </p:nvSpPr>
              <p:spPr>
                <a:xfrm>
                  <a:off x="635400" y="-2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1" name="圆角矩形 14"/>
                <p:cNvSpPr/>
                <p:nvPr/>
              </p:nvSpPr>
              <p:spPr>
                <a:xfrm>
                  <a:off x="635400" y="294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2" name="圆角矩形 15"/>
                <p:cNvSpPr/>
                <p:nvPr/>
              </p:nvSpPr>
              <p:spPr>
                <a:xfrm>
                  <a:off x="635400" y="617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3" name="组合 19"/>
              <p:cNvGrpSpPr/>
              <p:nvPr/>
            </p:nvGrpSpPr>
            <p:grpSpPr>
              <a:xfrm>
                <a:off x="635400" y="2224080"/>
                <a:ext cx="198000" cy="2396160"/>
                <a:chOff x="635400" y="2224080"/>
                <a:chExt cx="198000" cy="2396160"/>
              </a:xfrm>
            </p:grpSpPr>
            <p:sp>
              <p:nvSpPr>
                <p:cNvPr id="1204" name="圆角矩形 20"/>
                <p:cNvSpPr/>
                <p:nvPr/>
              </p:nvSpPr>
              <p:spPr>
                <a:xfrm>
                  <a:off x="635400" y="351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5" name="圆角矩形 21"/>
                <p:cNvSpPr/>
                <p:nvPr/>
              </p:nvSpPr>
              <p:spPr>
                <a:xfrm>
                  <a:off x="635400" y="383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6" name="圆角矩形 22"/>
                <p:cNvSpPr/>
                <p:nvPr/>
              </p:nvSpPr>
              <p:spPr>
                <a:xfrm>
                  <a:off x="635400" y="4153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7" name="圆角矩形 23"/>
                <p:cNvSpPr/>
                <p:nvPr/>
              </p:nvSpPr>
              <p:spPr>
                <a:xfrm>
                  <a:off x="635400" y="4475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8" name="圆角矩形 24"/>
                <p:cNvSpPr/>
                <p:nvPr/>
              </p:nvSpPr>
              <p:spPr>
                <a:xfrm>
                  <a:off x="635400" y="22240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9" name="圆角矩形 25"/>
                <p:cNvSpPr/>
                <p:nvPr/>
              </p:nvSpPr>
              <p:spPr>
                <a:xfrm>
                  <a:off x="635400" y="25462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0" name="圆角矩形 26"/>
                <p:cNvSpPr/>
                <p:nvPr/>
              </p:nvSpPr>
              <p:spPr>
                <a:xfrm>
                  <a:off x="635400" y="2867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1" name="圆角矩形 27"/>
                <p:cNvSpPr/>
                <p:nvPr/>
              </p:nvSpPr>
              <p:spPr>
                <a:xfrm>
                  <a:off x="635400" y="3189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2" name="组合 28"/>
              <p:cNvGrpSpPr/>
              <p:nvPr/>
            </p:nvGrpSpPr>
            <p:grpSpPr>
              <a:xfrm>
                <a:off x="635400" y="4796640"/>
                <a:ext cx="198000" cy="2396160"/>
                <a:chOff x="635400" y="4796640"/>
                <a:chExt cx="198000" cy="2396160"/>
              </a:xfrm>
            </p:grpSpPr>
            <p:sp>
              <p:nvSpPr>
                <p:cNvPr id="1213" name="圆角矩形 29"/>
                <p:cNvSpPr/>
                <p:nvPr/>
              </p:nvSpPr>
              <p:spPr>
                <a:xfrm>
                  <a:off x="635400" y="6082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4" name="圆角矩形 30"/>
                <p:cNvSpPr/>
                <p:nvPr/>
              </p:nvSpPr>
              <p:spPr>
                <a:xfrm>
                  <a:off x="635400" y="6405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5" name="圆角矩形 31"/>
                <p:cNvSpPr/>
                <p:nvPr/>
              </p:nvSpPr>
              <p:spPr>
                <a:xfrm>
                  <a:off x="635400" y="6726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圆角矩形 32"/>
                <p:cNvSpPr/>
                <p:nvPr/>
              </p:nvSpPr>
              <p:spPr>
                <a:xfrm>
                  <a:off x="635400" y="7048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7" name="圆角矩形 33"/>
                <p:cNvSpPr/>
                <p:nvPr/>
              </p:nvSpPr>
              <p:spPr>
                <a:xfrm>
                  <a:off x="635400" y="47966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圆角矩形 34"/>
                <p:cNvSpPr/>
                <p:nvPr/>
              </p:nvSpPr>
              <p:spPr>
                <a:xfrm>
                  <a:off x="635400" y="5118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9" name="圆角矩形 35"/>
                <p:cNvSpPr/>
                <p:nvPr/>
              </p:nvSpPr>
              <p:spPr>
                <a:xfrm>
                  <a:off x="635400" y="5439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0" name="圆角矩形 36"/>
                <p:cNvSpPr/>
                <p:nvPr/>
              </p:nvSpPr>
              <p:spPr>
                <a:xfrm>
                  <a:off x="635400" y="5762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1" name="组合 66"/>
            <p:cNvGrpSpPr/>
            <p:nvPr/>
          </p:nvGrpSpPr>
          <p:grpSpPr>
            <a:xfrm>
              <a:off x="3445560" y="-349560"/>
              <a:ext cx="198000" cy="7540920"/>
              <a:chOff x="3445560" y="-349560"/>
              <a:chExt cx="198000" cy="7540920"/>
            </a:xfrm>
          </p:grpSpPr>
          <p:grpSp>
            <p:nvGrpSpPr>
              <p:cNvPr id="1222" name="组合 18"/>
              <p:cNvGrpSpPr/>
              <p:nvPr/>
            </p:nvGrpSpPr>
            <p:grpSpPr>
              <a:xfrm>
                <a:off x="3445560" y="-349560"/>
                <a:ext cx="198000" cy="2396160"/>
                <a:chOff x="3445560" y="-349560"/>
                <a:chExt cx="198000" cy="2396160"/>
              </a:xfrm>
            </p:grpSpPr>
            <p:sp>
              <p:nvSpPr>
                <p:cNvPr id="1223" name="圆角矩形 4"/>
                <p:cNvSpPr/>
                <p:nvPr/>
              </p:nvSpPr>
              <p:spPr>
                <a:xfrm>
                  <a:off x="3445560" y="9367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4" name="圆角矩形 87"/>
                <p:cNvSpPr/>
                <p:nvPr/>
              </p:nvSpPr>
              <p:spPr>
                <a:xfrm>
                  <a:off x="3445560" y="1258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5" name="圆角矩形 88"/>
                <p:cNvSpPr/>
                <p:nvPr/>
              </p:nvSpPr>
              <p:spPr>
                <a:xfrm>
                  <a:off x="3445560" y="1580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6" name="圆角矩形 89"/>
                <p:cNvSpPr/>
                <p:nvPr/>
              </p:nvSpPr>
              <p:spPr>
                <a:xfrm>
                  <a:off x="3445560" y="1902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7" name="圆角矩形 90"/>
                <p:cNvSpPr/>
                <p:nvPr/>
              </p:nvSpPr>
              <p:spPr>
                <a:xfrm>
                  <a:off x="3445560" y="-349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8" name="圆角矩形 91"/>
                <p:cNvSpPr/>
                <p:nvPr/>
              </p:nvSpPr>
              <p:spPr>
                <a:xfrm>
                  <a:off x="3445560" y="-270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9" name="圆角矩形 92"/>
                <p:cNvSpPr/>
                <p:nvPr/>
              </p:nvSpPr>
              <p:spPr>
                <a:xfrm>
                  <a:off x="3445560" y="293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0" name="圆角矩形 93"/>
                <p:cNvSpPr/>
                <p:nvPr/>
              </p:nvSpPr>
              <p:spPr>
                <a:xfrm>
                  <a:off x="3445560" y="6159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1" name="组合 19"/>
              <p:cNvGrpSpPr/>
              <p:nvPr/>
            </p:nvGrpSpPr>
            <p:grpSpPr>
              <a:xfrm>
                <a:off x="3445560" y="2222640"/>
                <a:ext cx="198000" cy="2396160"/>
                <a:chOff x="3445560" y="2222640"/>
                <a:chExt cx="198000" cy="2396160"/>
              </a:xfrm>
            </p:grpSpPr>
            <p:sp>
              <p:nvSpPr>
                <p:cNvPr id="1232" name="圆角矩形 78"/>
                <p:cNvSpPr/>
                <p:nvPr/>
              </p:nvSpPr>
              <p:spPr>
                <a:xfrm>
                  <a:off x="3445560" y="3507120"/>
                  <a:ext cx="198000" cy="1422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3" name="圆角矩形 79"/>
                <p:cNvSpPr/>
                <p:nvPr/>
              </p:nvSpPr>
              <p:spPr>
                <a:xfrm>
                  <a:off x="3445560" y="383328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4" name="圆角矩形 80"/>
                <p:cNvSpPr/>
                <p:nvPr/>
              </p:nvSpPr>
              <p:spPr>
                <a:xfrm>
                  <a:off x="3445560" y="41533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5" name="圆角矩形 81"/>
                <p:cNvSpPr/>
                <p:nvPr/>
              </p:nvSpPr>
              <p:spPr>
                <a:xfrm>
                  <a:off x="3445560" y="447480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6" name="圆角矩形 82"/>
                <p:cNvSpPr/>
                <p:nvPr/>
              </p:nvSpPr>
              <p:spPr>
                <a:xfrm>
                  <a:off x="3445560" y="222264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7" name="圆角矩形 83"/>
                <p:cNvSpPr/>
                <p:nvPr/>
              </p:nvSpPr>
              <p:spPr>
                <a:xfrm>
                  <a:off x="3445560" y="25441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8" name="圆角矩形 84"/>
                <p:cNvSpPr/>
                <p:nvPr/>
              </p:nvSpPr>
              <p:spPr>
                <a:xfrm>
                  <a:off x="3445560" y="286380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9" name="圆角矩形 85"/>
                <p:cNvSpPr/>
                <p:nvPr/>
              </p:nvSpPr>
              <p:spPr>
                <a:xfrm>
                  <a:off x="3445560" y="3187080"/>
                  <a:ext cx="198000" cy="1422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0" name="组合 28"/>
              <p:cNvGrpSpPr/>
              <p:nvPr/>
            </p:nvGrpSpPr>
            <p:grpSpPr>
              <a:xfrm>
                <a:off x="3445560" y="4795200"/>
                <a:ext cx="198000" cy="2396160"/>
                <a:chOff x="3445560" y="4795200"/>
                <a:chExt cx="198000" cy="2396160"/>
              </a:xfrm>
            </p:grpSpPr>
            <p:sp>
              <p:nvSpPr>
                <p:cNvPr id="1241" name="圆角矩形 70"/>
                <p:cNvSpPr/>
                <p:nvPr/>
              </p:nvSpPr>
              <p:spPr>
                <a:xfrm>
                  <a:off x="3445560" y="6084000"/>
                  <a:ext cx="198000" cy="1447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2" name="圆角矩形 71"/>
                <p:cNvSpPr/>
                <p:nvPr/>
              </p:nvSpPr>
              <p:spPr>
                <a:xfrm>
                  <a:off x="3445560" y="6406920"/>
                  <a:ext cx="198000" cy="1447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3" name="圆角矩形 72"/>
                <p:cNvSpPr/>
                <p:nvPr/>
              </p:nvSpPr>
              <p:spPr>
                <a:xfrm>
                  <a:off x="3445560" y="6728400"/>
                  <a:ext cx="198000" cy="1447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4" name="圆角矩形 73"/>
                <p:cNvSpPr/>
                <p:nvPr/>
              </p:nvSpPr>
              <p:spPr>
                <a:xfrm>
                  <a:off x="3445560" y="7051680"/>
                  <a:ext cx="198000" cy="13968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5" name="圆角矩形 74"/>
                <p:cNvSpPr/>
                <p:nvPr/>
              </p:nvSpPr>
              <p:spPr>
                <a:xfrm>
                  <a:off x="3445560" y="4795200"/>
                  <a:ext cx="198000" cy="1447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6" name="圆角矩形 75"/>
                <p:cNvSpPr/>
                <p:nvPr/>
              </p:nvSpPr>
              <p:spPr>
                <a:xfrm>
                  <a:off x="3445560" y="5118120"/>
                  <a:ext cx="198000" cy="1447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7" name="圆角矩形 76"/>
                <p:cNvSpPr/>
                <p:nvPr/>
              </p:nvSpPr>
              <p:spPr>
                <a:xfrm>
                  <a:off x="3445560" y="5439600"/>
                  <a:ext cx="198000" cy="1447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8" name="圆角矩形 77"/>
                <p:cNvSpPr/>
                <p:nvPr/>
              </p:nvSpPr>
              <p:spPr>
                <a:xfrm>
                  <a:off x="3445560" y="5762520"/>
                  <a:ext cx="198000" cy="1447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9" name="圆角矩形 94"/>
            <p:cNvSpPr/>
            <p:nvPr/>
          </p:nvSpPr>
          <p:spPr>
            <a:xfrm>
              <a:off x="928440" y="658440"/>
              <a:ext cx="2428920" cy="172872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圆角矩形 95"/>
            <p:cNvSpPr/>
            <p:nvPr/>
          </p:nvSpPr>
          <p:spPr>
            <a:xfrm>
              <a:off x="928440" y="2593800"/>
              <a:ext cx="2428920" cy="172872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圆角矩形 96"/>
            <p:cNvSpPr/>
            <p:nvPr/>
          </p:nvSpPr>
          <p:spPr>
            <a:xfrm>
              <a:off x="928440" y="4546800"/>
              <a:ext cx="2428920" cy="172872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圆角矩形 97"/>
            <p:cNvSpPr/>
            <p:nvPr/>
          </p:nvSpPr>
          <p:spPr>
            <a:xfrm>
              <a:off x="928440" y="6499440"/>
              <a:ext cx="2428920" cy="172872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圆角矩形 98"/>
            <p:cNvSpPr/>
            <p:nvPr/>
          </p:nvSpPr>
          <p:spPr>
            <a:xfrm>
              <a:off x="928440" y="-1300320"/>
              <a:ext cx="2428920" cy="172872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4" name="TextBox 99"/>
          <p:cNvSpPr/>
          <p:nvPr/>
        </p:nvSpPr>
        <p:spPr>
          <a:xfrm rot="21051000">
            <a:off x="797400" y="93996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TextBox 101"/>
          <p:cNvSpPr/>
          <p:nvPr/>
        </p:nvSpPr>
        <p:spPr>
          <a:xfrm rot="614400">
            <a:off x="767520" y="496404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直接连接符 105"/>
          <p:cNvSpPr/>
          <p:nvPr/>
        </p:nvSpPr>
        <p:spPr>
          <a:xfrm>
            <a:off x="928800" y="3451320"/>
            <a:ext cx="2519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直接连接符 109"/>
          <p:cNvSpPr/>
          <p:nvPr/>
        </p:nvSpPr>
        <p:spPr>
          <a:xfrm>
            <a:off x="2142360" y="2595600"/>
            <a:ext cx="1800" cy="172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8" name="组合 114"/>
          <p:cNvGrpSpPr/>
          <p:nvPr/>
        </p:nvGrpSpPr>
        <p:grpSpPr>
          <a:xfrm>
            <a:off x="1397160" y="2714760"/>
            <a:ext cx="1500120" cy="1500120"/>
            <a:chOff x="1397160" y="2714760"/>
            <a:chExt cx="1500120" cy="1500120"/>
          </a:xfrm>
        </p:grpSpPr>
        <p:sp>
          <p:nvSpPr>
            <p:cNvPr id="1259" name="同心圆 112"/>
            <p:cNvSpPr/>
            <p:nvPr/>
          </p:nvSpPr>
          <p:spPr>
            <a:xfrm>
              <a:off x="1397160" y="2714760"/>
              <a:ext cx="1500120" cy="1500120"/>
            </a:xfrm>
            <a:custGeom>
              <a:avLst/>
              <a:gdLst/>
              <a:ahLst/>
              <a:rect l="l" t="t" r="r" b="b"/>
              <a:pathLst>
                <a:path w="1500198" h="1500198">
                  <a:moveTo>
                    <a:pt x="0" y="750099"/>
                  </a:moveTo>
                  <a:cubicBezTo>
                    <a:pt x="0" y="335831"/>
                    <a:pt x="335831" y="0"/>
                    <a:pt x="750099" y="0"/>
                  </a:cubicBezTo>
                  <a:cubicBezTo>
                    <a:pt x="1164367" y="0"/>
                    <a:pt x="1500198" y="335831"/>
                    <a:pt x="1500198" y="750099"/>
                  </a:cubicBezTo>
                  <a:cubicBezTo>
                    <a:pt x="1500198" y="1164367"/>
                    <a:pt x="1164367" y="1500198"/>
                    <a:pt x="750099" y="1500198"/>
                  </a:cubicBezTo>
                  <a:cubicBezTo>
                    <a:pt x="335831" y="1500198"/>
                    <a:pt x="0" y="1164367"/>
                    <a:pt x="0" y="750099"/>
                  </a:cubicBezTo>
                  <a:close/>
                  <a:moveTo>
                    <a:pt x="103994" y="750099"/>
                  </a:moveTo>
                  <a:cubicBezTo>
                    <a:pt x="103994" y="1106933"/>
                    <a:pt x="393265" y="1396204"/>
                    <a:pt x="750099" y="1396204"/>
                  </a:cubicBezTo>
                  <a:cubicBezTo>
                    <a:pt x="1106933" y="1396204"/>
                    <a:pt x="1396204" y="1106933"/>
                    <a:pt x="1396204" y="750099"/>
                  </a:cubicBezTo>
                  <a:cubicBezTo>
                    <a:pt x="1396204" y="393265"/>
                    <a:pt x="1106933" y="103994"/>
                    <a:pt x="750099" y="103994"/>
                  </a:cubicBezTo>
                  <a:cubicBezTo>
                    <a:pt x="393265" y="103994"/>
                    <a:pt x="103994" y="393265"/>
                    <a:pt x="103994" y="750099"/>
                  </a:cubicBezTo>
                  <a:close/>
                </a:path>
              </a:pathLst>
            </a:custGeom>
            <a:solidFill>
              <a:srgbClr val="0079c5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椭圆 113"/>
            <p:cNvGrpSpPr/>
            <p:nvPr/>
          </p:nvGrpSpPr>
          <p:grpSpPr>
            <a:xfrm>
              <a:off x="1505880" y="2816280"/>
              <a:ext cx="1286280" cy="1286280"/>
              <a:chOff x="1505880" y="2816280"/>
              <a:chExt cx="1286280" cy="1286280"/>
            </a:xfrm>
          </p:grpSpPr>
          <p:pic>
            <p:nvPicPr>
              <p:cNvPr id="1261" name="椭圆 1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505880" y="2816280"/>
                <a:ext cx="1286280" cy="128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2" name="Text Box 73"/>
              <p:cNvSpPr/>
              <p:nvPr/>
            </p:nvSpPr>
            <p:spPr>
              <a:xfrm>
                <a:off x="1696680" y="3005640"/>
                <a:ext cx="909360" cy="9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3" name="圆角矩形 115"/>
          <p:cNvSpPr/>
          <p:nvPr/>
        </p:nvSpPr>
        <p:spPr>
          <a:xfrm>
            <a:off x="944640" y="2603520"/>
            <a:ext cx="2428920" cy="1727280"/>
          </a:xfrm>
          <a:prstGeom prst="roundRect">
            <a:avLst>
              <a:gd name="adj" fmla="val 6477"/>
            </a:avLst>
          </a:prstGeom>
          <a:solidFill>
            <a:srgbClr val="0079c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TextBox 116"/>
          <p:cNvSpPr/>
          <p:nvPr/>
        </p:nvSpPr>
        <p:spPr>
          <a:xfrm>
            <a:off x="1695600" y="2643120"/>
            <a:ext cx="17859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  <a:ea typeface="Arial"/>
              </a:rPr>
              <a:t>6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任意多边形 108"/>
          <p:cNvSpPr/>
          <p:nvPr/>
        </p:nvSpPr>
        <p:spPr>
          <a:xfrm>
            <a:off x="6624720" y="3786120"/>
            <a:ext cx="2519280" cy="4680"/>
          </a:xfrm>
          <a:custGeom>
            <a:avLst/>
            <a:gdLst/>
            <a:ahLst/>
            <a:rect l="l" t="t" r="r" b="b"/>
            <a:pathLst>
              <a:path w="2585545" h="4762">
                <a:moveTo>
                  <a:pt x="0" y="0"/>
                </a:moveTo>
                <a:lnTo>
                  <a:pt x="2585545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TextBox 110"/>
          <p:cNvSpPr/>
          <p:nvPr/>
        </p:nvSpPr>
        <p:spPr>
          <a:xfrm>
            <a:off x="6564240" y="31035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最优选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1898" dur="indefinite" restart="never" nodeType="tmRoot">
          <p:childTnLst>
            <p:seq>
              <p:cTn id="1899" dur="indefinite" nodeType="mainSeq">
                <p:childTnLst>
                  <p:par>
                    <p:cTn id="1900" nodeType="clickEffect" fill="hold">
                      <p:stCondLst>
                        <p:cond delay="0"/>
                      </p:stCondLst>
                      <p:childTnLst>
                        <p:par>
                          <p:cTn id="1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2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4" dur="5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5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906" nodeType="afterEffect" fill="hold" presetClass="entr" presetID="16" presetSubtype="2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08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9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11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2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19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5" dur="5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6" dur="5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7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8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919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1" dur="2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2" dur="2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3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5" dur="2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6" dur="2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7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928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0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2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3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5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7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39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0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1941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3" dur="5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4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5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6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1947" nodeType="afterEffect" fill="hold" presetClass="exit" presetID="21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948" dur="10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任意多边形 3"/>
          <p:cNvSpPr/>
          <p:nvPr/>
        </p:nvSpPr>
        <p:spPr>
          <a:xfrm>
            <a:off x="3263760" y="3500280"/>
            <a:ext cx="5969160" cy="3436920"/>
          </a:xfrm>
          <a:custGeom>
            <a:avLst/>
            <a:gdLst/>
            <a:ahLst/>
            <a:rect l="l" t="t" r="r" b="b"/>
            <a:pathLst>
              <a:path w="5943600" h="3421118">
                <a:moveTo>
                  <a:pt x="0" y="3421118"/>
                </a:moveTo>
                <a:lnTo>
                  <a:pt x="5943600" y="0"/>
                </a:lnTo>
                <a:lnTo>
                  <a:pt x="5927835" y="3373821"/>
                </a:lnTo>
                <a:lnTo>
                  <a:pt x="0" y="3421118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8" name="组合 31"/>
          <p:cNvGrpSpPr/>
          <p:nvPr/>
        </p:nvGrpSpPr>
        <p:grpSpPr>
          <a:xfrm>
            <a:off x="9274320" y="-1285920"/>
            <a:ext cx="3941280" cy="3839040"/>
            <a:chOff x="9274320" y="-1285920"/>
            <a:chExt cx="3941280" cy="3839040"/>
          </a:xfrm>
        </p:grpSpPr>
        <p:grpSp>
          <p:nvGrpSpPr>
            <p:cNvPr id="1269" name="组合 29"/>
            <p:cNvGrpSpPr/>
            <p:nvPr/>
          </p:nvGrpSpPr>
          <p:grpSpPr>
            <a:xfrm>
              <a:off x="9274320" y="-781200"/>
              <a:ext cx="2726640" cy="3334320"/>
              <a:chOff x="9274320" y="-781200"/>
              <a:chExt cx="2726640" cy="3334320"/>
            </a:xfrm>
          </p:grpSpPr>
          <p:sp>
            <p:nvSpPr>
              <p:cNvPr id="1270" name="椭圆 4"/>
              <p:cNvSpPr/>
              <p:nvPr/>
            </p:nvSpPr>
            <p:spPr>
              <a:xfrm>
                <a:off x="10620000" y="2196000"/>
                <a:ext cx="357120" cy="3571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椭圆 5"/>
              <p:cNvSpPr/>
              <p:nvPr/>
            </p:nvSpPr>
            <p:spPr>
              <a:xfrm>
                <a:off x="11643840" y="1592640"/>
                <a:ext cx="357120" cy="3571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任意多边形 6"/>
              <p:cNvSpPr/>
              <p:nvPr/>
            </p:nvSpPr>
            <p:spPr>
              <a:xfrm>
                <a:off x="10440720" y="-781200"/>
                <a:ext cx="1355400" cy="2996280"/>
              </a:xfrm>
              <a:custGeom>
                <a:avLst/>
                <a:gdLst/>
                <a:ahLst/>
                <a:rect l="l" t="t" r="r" b="b"/>
                <a:pathLst>
                  <a:path w="1355835" h="2995448">
                    <a:moveTo>
                      <a:pt x="1229710" y="0"/>
                    </a:moveTo>
                    <a:lnTo>
                      <a:pt x="882869" y="268014"/>
                    </a:lnTo>
                    <a:lnTo>
                      <a:pt x="1355835" y="2191407"/>
                    </a:lnTo>
                    <a:lnTo>
                      <a:pt x="0" y="2995448"/>
                    </a:lnTo>
                  </a:path>
                </a:pathLst>
              </a:custGeom>
              <a:noFill/>
              <a:ln cap="rnd" w="763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任意多边形 7"/>
              <p:cNvSpPr/>
              <p:nvPr/>
            </p:nvSpPr>
            <p:spPr>
              <a:xfrm>
                <a:off x="9274320" y="-212400"/>
                <a:ext cx="2396520" cy="2127600"/>
              </a:xfrm>
              <a:custGeom>
                <a:avLst/>
                <a:gdLst/>
                <a:ahLst/>
                <a:rect l="l" t="t" r="r" b="b"/>
                <a:pathLst>
                  <a:path w="2396358" h="2128344">
                    <a:moveTo>
                      <a:pt x="2112579" y="0"/>
                    </a:moveTo>
                    <a:lnTo>
                      <a:pt x="0" y="1229710"/>
                    </a:lnTo>
                    <a:lnTo>
                      <a:pt x="882869" y="2128344"/>
                    </a:lnTo>
                    <a:lnTo>
                      <a:pt x="2396358" y="1245475"/>
                    </a:lnTo>
                  </a:path>
                </a:pathLst>
              </a:custGeom>
              <a:noFill/>
              <a:ln cap="rnd" w="1015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任意多边形 8"/>
              <p:cNvSpPr/>
              <p:nvPr/>
            </p:nvSpPr>
            <p:spPr>
              <a:xfrm>
                <a:off x="9542520" y="133200"/>
                <a:ext cx="1923480" cy="1135080"/>
              </a:xfrm>
              <a:custGeom>
                <a:avLst/>
                <a:gdLst/>
                <a:ahLst/>
                <a:rect l="l" t="t" r="r" b="b"/>
                <a:pathLst>
                  <a:path w="1923393" h="1135117">
                    <a:moveTo>
                      <a:pt x="0" y="1135117"/>
                    </a:moveTo>
                    <a:lnTo>
                      <a:pt x="1923393" y="0"/>
                    </a:lnTo>
                  </a:path>
                </a:pathLst>
              </a:custGeom>
              <a:noFill/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任意多边形 10"/>
              <p:cNvSpPr/>
              <p:nvPr/>
            </p:nvSpPr>
            <p:spPr>
              <a:xfrm>
                <a:off x="9763200" y="433440"/>
                <a:ext cx="1782360" cy="1055880"/>
              </a:xfrm>
              <a:custGeom>
                <a:avLst/>
                <a:gdLst/>
                <a:ahLst/>
                <a:rect l="l" t="t" r="r" b="b"/>
                <a:pathLst>
                  <a:path w="1781503" h="1056289">
                    <a:moveTo>
                      <a:pt x="0" y="1056289"/>
                    </a:moveTo>
                    <a:lnTo>
                      <a:pt x="1781503" y="0"/>
                    </a:lnTo>
                  </a:path>
                </a:pathLst>
              </a:custGeom>
              <a:noFill/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任意多边形 11"/>
              <p:cNvSpPr/>
              <p:nvPr/>
            </p:nvSpPr>
            <p:spPr>
              <a:xfrm>
                <a:off x="9983520" y="731880"/>
                <a:ext cx="1623600" cy="946080"/>
              </a:xfrm>
              <a:custGeom>
                <a:avLst/>
                <a:gdLst/>
                <a:ahLst/>
                <a:rect l="l" t="t" r="r" b="b"/>
                <a:pathLst>
                  <a:path w="1623848" h="945931">
                    <a:moveTo>
                      <a:pt x="0" y="945931"/>
                    </a:moveTo>
                    <a:lnTo>
                      <a:pt x="1623848" y="0"/>
                    </a:lnTo>
                  </a:path>
                </a:pathLst>
              </a:custGeom>
              <a:noFill/>
              <a:ln cap="rnd"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任意多边形 13"/>
              <p:cNvSpPr/>
              <p:nvPr/>
            </p:nvSpPr>
            <p:spPr>
              <a:xfrm>
                <a:off x="9763200" y="731880"/>
                <a:ext cx="709200" cy="993960"/>
              </a:xfrm>
              <a:custGeom>
                <a:avLst/>
                <a:gdLst/>
                <a:ahLst/>
                <a:rect l="l" t="t" r="r" b="b"/>
                <a:pathLst>
                  <a:path w="709448" h="993227">
                    <a:moveTo>
                      <a:pt x="0" y="0"/>
                    </a:moveTo>
                    <a:lnTo>
                      <a:pt x="709448" y="993227"/>
                    </a:lnTo>
                  </a:path>
                </a:pathLst>
              </a:custGeom>
              <a:noFill/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 14"/>
              <p:cNvSpPr/>
              <p:nvPr/>
            </p:nvSpPr>
            <p:spPr>
              <a:xfrm>
                <a:off x="10125000" y="542880"/>
                <a:ext cx="647280" cy="1009800"/>
              </a:xfrm>
              <a:custGeom>
                <a:avLst/>
                <a:gdLst/>
                <a:ahLst/>
                <a:rect l="l" t="t" r="r" b="b"/>
                <a:pathLst>
                  <a:path w="646386" h="1008994">
                    <a:moveTo>
                      <a:pt x="0" y="0"/>
                    </a:moveTo>
                    <a:lnTo>
                      <a:pt x="646386" y="1008994"/>
                    </a:lnTo>
                  </a:path>
                </a:pathLst>
              </a:custGeom>
              <a:noFill/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 15"/>
              <p:cNvSpPr/>
              <p:nvPr/>
            </p:nvSpPr>
            <p:spPr>
              <a:xfrm>
                <a:off x="10456560" y="338040"/>
                <a:ext cx="630000" cy="1025640"/>
              </a:xfrm>
              <a:custGeom>
                <a:avLst/>
                <a:gdLst/>
                <a:ahLst/>
                <a:rect l="l" t="t" r="r" b="b"/>
                <a:pathLst>
                  <a:path w="630620" h="1024758">
                    <a:moveTo>
                      <a:pt x="0" y="0"/>
                    </a:moveTo>
                    <a:lnTo>
                      <a:pt x="630620" y="1024758"/>
                    </a:lnTo>
                  </a:path>
                </a:pathLst>
              </a:custGeom>
              <a:noFill/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任意多边形 16"/>
              <p:cNvSpPr/>
              <p:nvPr/>
            </p:nvSpPr>
            <p:spPr>
              <a:xfrm>
                <a:off x="10882080" y="85680"/>
                <a:ext cx="472680" cy="1119240"/>
              </a:xfrm>
              <a:custGeom>
                <a:avLst/>
                <a:gdLst/>
                <a:ahLst/>
                <a:rect l="l" t="t" r="r" b="b"/>
                <a:pathLst>
                  <a:path w="472965" h="1119352">
                    <a:moveTo>
                      <a:pt x="0" y="0"/>
                    </a:moveTo>
                    <a:lnTo>
                      <a:pt x="472965" y="1119352"/>
                    </a:lnTo>
                  </a:path>
                </a:pathLst>
              </a:custGeom>
              <a:noFill/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任意多边形 17"/>
              <p:cNvSpPr/>
              <p:nvPr/>
            </p:nvSpPr>
            <p:spPr>
              <a:xfrm>
                <a:off x="9321840" y="-701640"/>
                <a:ext cx="2033280" cy="1592640"/>
              </a:xfrm>
              <a:custGeom>
                <a:avLst/>
                <a:gdLst/>
                <a:ahLst/>
                <a:rect l="l" t="t" r="r" b="b"/>
                <a:pathLst>
                  <a:path w="2033752" h="1592317">
                    <a:moveTo>
                      <a:pt x="126125" y="1592317"/>
                    </a:moveTo>
                    <a:lnTo>
                      <a:pt x="0" y="1545020"/>
                    </a:lnTo>
                    <a:lnTo>
                      <a:pt x="441435" y="0"/>
                    </a:lnTo>
                    <a:lnTo>
                      <a:pt x="2033752" y="472965"/>
                    </a:ln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2" name="组合 30"/>
            <p:cNvGrpSpPr/>
            <p:nvPr/>
          </p:nvGrpSpPr>
          <p:grpSpPr>
            <a:xfrm>
              <a:off x="11718000" y="-1285920"/>
              <a:ext cx="1497600" cy="2111400"/>
              <a:chOff x="11718000" y="-1285920"/>
              <a:chExt cx="1497600" cy="2111400"/>
            </a:xfrm>
          </p:grpSpPr>
          <p:sp>
            <p:nvSpPr>
              <p:cNvPr id="1283" name="任意多边形 22"/>
              <p:cNvSpPr/>
              <p:nvPr/>
            </p:nvSpPr>
            <p:spPr>
              <a:xfrm>
                <a:off x="11718000" y="-1285920"/>
                <a:ext cx="1497600" cy="898560"/>
              </a:xfrm>
              <a:custGeom>
                <a:avLst/>
                <a:gdLst/>
                <a:ahLst/>
                <a:rect l="l" t="t" r="r" b="b"/>
                <a:pathLst>
                  <a:path w="1497724" h="898635">
                    <a:moveTo>
                      <a:pt x="0" y="898635"/>
                    </a:moveTo>
                    <a:lnTo>
                      <a:pt x="1497724" y="0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任意多边形 23"/>
              <p:cNvSpPr/>
              <p:nvPr/>
            </p:nvSpPr>
            <p:spPr>
              <a:xfrm>
                <a:off x="11786040" y="-948960"/>
                <a:ext cx="1286640" cy="771480"/>
              </a:xfrm>
              <a:custGeom>
                <a:avLst/>
                <a:gdLst/>
                <a:ahLst/>
                <a:rect l="l" t="t" r="r" b="b"/>
                <a:pathLst>
                  <a:path w="1497724" h="898635">
                    <a:moveTo>
                      <a:pt x="0" y="898635"/>
                    </a:moveTo>
                    <a:lnTo>
                      <a:pt x="1497724" y="0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任意多边形 24"/>
              <p:cNvSpPr/>
              <p:nvPr/>
            </p:nvSpPr>
            <p:spPr>
              <a:xfrm>
                <a:off x="11841480" y="-633240"/>
                <a:ext cx="1088280" cy="652320"/>
              </a:xfrm>
              <a:custGeom>
                <a:avLst/>
                <a:gdLst/>
                <a:ahLst/>
                <a:rect l="l" t="t" r="r" b="b"/>
                <a:pathLst>
                  <a:path w="1497724" h="898635">
                    <a:moveTo>
                      <a:pt x="0" y="898635"/>
                    </a:moveTo>
                    <a:lnTo>
                      <a:pt x="1497724" y="0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任意多边形 25"/>
              <p:cNvSpPr/>
              <p:nvPr/>
            </p:nvSpPr>
            <p:spPr>
              <a:xfrm>
                <a:off x="11873160" y="-356760"/>
                <a:ext cx="985320" cy="590400"/>
              </a:xfrm>
              <a:custGeom>
                <a:avLst/>
                <a:gdLst/>
                <a:ahLst/>
                <a:rect l="l" t="t" r="r" b="b"/>
                <a:pathLst>
                  <a:path w="1497724" h="898635">
                    <a:moveTo>
                      <a:pt x="0" y="898635"/>
                    </a:moveTo>
                    <a:lnTo>
                      <a:pt x="1497724" y="0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任意多边形 26"/>
              <p:cNvSpPr/>
              <p:nvPr/>
            </p:nvSpPr>
            <p:spPr>
              <a:xfrm>
                <a:off x="11922480" y="-337680"/>
                <a:ext cx="1286640" cy="771480"/>
              </a:xfrm>
              <a:custGeom>
                <a:avLst/>
                <a:gdLst/>
                <a:ahLst/>
                <a:rect l="l" t="t" r="r" b="b"/>
                <a:pathLst>
                  <a:path w="1497724" h="898635">
                    <a:moveTo>
                      <a:pt x="0" y="898635"/>
                    </a:moveTo>
                    <a:lnTo>
                      <a:pt x="1497724" y="0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任意多边形 27"/>
              <p:cNvSpPr/>
              <p:nvPr/>
            </p:nvSpPr>
            <p:spPr>
              <a:xfrm>
                <a:off x="11984400" y="108000"/>
                <a:ext cx="860040" cy="515880"/>
              </a:xfrm>
              <a:custGeom>
                <a:avLst/>
                <a:gdLst/>
                <a:ahLst/>
                <a:rect l="l" t="t" r="r" b="b"/>
                <a:pathLst>
                  <a:path w="1497724" h="898635">
                    <a:moveTo>
                      <a:pt x="0" y="898635"/>
                    </a:moveTo>
                    <a:lnTo>
                      <a:pt x="1497724" y="0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任意多边形 28"/>
              <p:cNvSpPr/>
              <p:nvPr/>
            </p:nvSpPr>
            <p:spPr>
              <a:xfrm>
                <a:off x="12031920" y="525600"/>
                <a:ext cx="499680" cy="299880"/>
              </a:xfrm>
              <a:custGeom>
                <a:avLst/>
                <a:gdLst/>
                <a:ahLst/>
                <a:rect l="l" t="t" r="r" b="b"/>
                <a:pathLst>
                  <a:path w="1497724" h="898635">
                    <a:moveTo>
                      <a:pt x="0" y="898635"/>
                    </a:moveTo>
                    <a:lnTo>
                      <a:pt x="1497724" y="0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0" name="TextBox 32"/>
          <p:cNvSpPr/>
          <p:nvPr/>
        </p:nvSpPr>
        <p:spPr>
          <a:xfrm>
            <a:off x="500040" y="428760"/>
            <a:ext cx="564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有一种选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TextBox 33"/>
          <p:cNvSpPr/>
          <p:nvPr/>
        </p:nvSpPr>
        <p:spPr>
          <a:xfrm>
            <a:off x="500040" y="1000080"/>
            <a:ext cx="792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高效、更便捷、更完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TextBox 34"/>
          <p:cNvSpPr/>
          <p:nvPr/>
        </p:nvSpPr>
        <p:spPr>
          <a:xfrm>
            <a:off x="6929280" y="5286240"/>
            <a:ext cx="221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9c5"/>
                </a:solidFill>
                <a:latin typeface="微软雅黑"/>
                <a:ea typeface="微软雅黑"/>
              </a:rPr>
              <a:t>耗时降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TextBox 35"/>
          <p:cNvSpPr/>
          <p:nvPr/>
        </p:nvSpPr>
        <p:spPr>
          <a:xfrm>
            <a:off x="6981840" y="5648400"/>
            <a:ext cx="185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9c5"/>
                </a:solidFill>
                <a:latin typeface="Calibri"/>
              </a:rPr>
              <a:t>40%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4" name="组合 38"/>
          <p:cNvGrpSpPr/>
          <p:nvPr/>
        </p:nvGrpSpPr>
        <p:grpSpPr>
          <a:xfrm>
            <a:off x="4019400" y="2340360"/>
            <a:ext cx="1716480" cy="1453320"/>
            <a:chOff x="4019400" y="2340360"/>
            <a:chExt cx="1716480" cy="1453320"/>
          </a:xfrm>
        </p:grpSpPr>
        <p:sp>
          <p:nvSpPr>
            <p:cNvPr id="1295" name="TextBox 36"/>
            <p:cNvSpPr/>
            <p:nvPr/>
          </p:nvSpPr>
          <p:spPr>
            <a:xfrm rot="19875600">
              <a:off x="4010760" y="2695680"/>
              <a:ext cx="157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效果提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TextBox 37"/>
            <p:cNvSpPr/>
            <p:nvPr/>
          </p:nvSpPr>
          <p:spPr>
            <a:xfrm rot="19740000">
              <a:off x="4141800" y="2905560"/>
              <a:ext cx="157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0%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1950" dur="indefinite" restart="never" nodeType="tmRoot">
          <p:childTnLst>
            <p:seq>
              <p:cTn id="1951" dur="indefinite" nodeType="mainSeq">
                <p:childTnLst>
                  <p:par>
                    <p:cTn id="1952" nodeType="clickEffect" fill="hold">
                      <p:stCondLst>
                        <p:cond delay="0"/>
                      </p:stCondLst>
                      <p:childTnLst>
                        <p:par>
                          <p:cTn id="1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4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6" dur="5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7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1958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0" dur="10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1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96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4" dur="10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5" dur="10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6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196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11111E-006 L -0.60365 0.46019 E">
                                      <p:cBhvr>
                                        <p:cTn id="1968" dur="1000" fill="hold"/>
                                        <p:tgtEl>
                                          <p:spTgt spid="1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9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19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2" dur="3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3" dur="3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4" dur="3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8" name="任意多边形 4" descr=""/>
          <p:cNvPicPr/>
          <p:nvPr/>
        </p:nvPicPr>
        <p:blipFill>
          <a:blip r:embed="rId1"/>
          <a:stretch/>
        </p:blipFill>
        <p:spPr>
          <a:xfrm>
            <a:off x="5937120" y="3736800"/>
            <a:ext cx="3414960" cy="3492720"/>
          </a:xfrm>
          <a:prstGeom prst="rect">
            <a:avLst/>
          </a:prstGeom>
          <a:ln w="0">
            <a:noFill/>
          </a:ln>
        </p:spPr>
      </p:pic>
      <p:grpSp>
        <p:nvGrpSpPr>
          <p:cNvPr id="1299" name="任意多边形 5"/>
          <p:cNvGrpSpPr/>
          <p:nvPr/>
        </p:nvGrpSpPr>
        <p:grpSpPr>
          <a:xfrm>
            <a:off x="6315120" y="3852720"/>
            <a:ext cx="2987640" cy="2852640"/>
            <a:chOff x="6315120" y="3852720"/>
            <a:chExt cx="2987640" cy="2852640"/>
          </a:xfrm>
        </p:grpSpPr>
        <p:pic>
          <p:nvPicPr>
            <p:cNvPr id="1300" name="任意多边形 5" descr=""/>
            <p:cNvPicPr/>
            <p:nvPr/>
          </p:nvPicPr>
          <p:blipFill>
            <a:blip r:embed="rId2"/>
            <a:stretch/>
          </p:blipFill>
          <p:spPr>
            <a:xfrm>
              <a:off x="6315120" y="3852720"/>
              <a:ext cx="2987640" cy="28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1" name="Text Box 5"/>
            <p:cNvSpPr/>
            <p:nvPr/>
          </p:nvSpPr>
          <p:spPr>
            <a:xfrm>
              <a:off x="6329520" y="3865320"/>
              <a:ext cx="2957400" cy="283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2" name="任意多边形 6"/>
          <p:cNvGrpSpPr/>
          <p:nvPr/>
        </p:nvGrpSpPr>
        <p:grpSpPr>
          <a:xfrm>
            <a:off x="6456240" y="3998880"/>
            <a:ext cx="2668680" cy="2322360"/>
            <a:chOff x="6456240" y="3998880"/>
            <a:chExt cx="2668680" cy="2322360"/>
          </a:xfrm>
        </p:grpSpPr>
        <p:pic>
          <p:nvPicPr>
            <p:cNvPr id="1303" name="任意多边形 6" descr=""/>
            <p:cNvPicPr/>
            <p:nvPr/>
          </p:nvPicPr>
          <p:blipFill>
            <a:blip r:embed="rId3"/>
            <a:stretch/>
          </p:blipFill>
          <p:spPr>
            <a:xfrm>
              <a:off x="6456240" y="3998880"/>
              <a:ext cx="2668680" cy="232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4" name="Text Box 8"/>
            <p:cNvSpPr/>
            <p:nvPr/>
          </p:nvSpPr>
          <p:spPr>
            <a:xfrm>
              <a:off x="6484680" y="4032360"/>
              <a:ext cx="2608560" cy="22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5" name="组合 133"/>
          <p:cNvGrpSpPr/>
          <p:nvPr/>
        </p:nvGrpSpPr>
        <p:grpSpPr>
          <a:xfrm>
            <a:off x="6134040" y="3692520"/>
            <a:ext cx="3094200" cy="3219480"/>
            <a:chOff x="6134040" y="3692520"/>
            <a:chExt cx="3094200" cy="3219480"/>
          </a:xfrm>
        </p:grpSpPr>
        <p:sp>
          <p:nvSpPr>
            <p:cNvPr id="1306" name="任意多边形 2"/>
            <p:cNvSpPr/>
            <p:nvPr/>
          </p:nvSpPr>
          <p:spPr>
            <a:xfrm>
              <a:off x="6134040" y="3692520"/>
              <a:ext cx="3094200" cy="3219480"/>
            </a:xfrm>
            <a:custGeom>
              <a:avLst/>
              <a:gdLst/>
              <a:ahLst/>
              <a:rect l="l" t="t" r="r" b="b"/>
              <a:pathLst>
                <a:path w="3094630" h="3219734">
                  <a:moveTo>
                    <a:pt x="3094630" y="974677"/>
                  </a:moveTo>
                  <a:cubicBezTo>
                    <a:pt x="3078707" y="974108"/>
                    <a:pt x="3062785" y="973540"/>
                    <a:pt x="3040039" y="940558"/>
                  </a:cubicBezTo>
                  <a:cubicBezTo>
                    <a:pt x="3017293" y="907576"/>
                    <a:pt x="2994546" y="856397"/>
                    <a:pt x="2958152" y="776785"/>
                  </a:cubicBezTo>
                  <a:cubicBezTo>
                    <a:pt x="2921758" y="697173"/>
                    <a:pt x="2851244" y="531125"/>
                    <a:pt x="2821674" y="462886"/>
                  </a:cubicBezTo>
                  <a:cubicBezTo>
                    <a:pt x="2792104" y="394647"/>
                    <a:pt x="2793241" y="399197"/>
                    <a:pt x="2780731" y="367352"/>
                  </a:cubicBezTo>
                  <a:cubicBezTo>
                    <a:pt x="2768221" y="335507"/>
                    <a:pt x="2760260" y="303662"/>
                    <a:pt x="2746612" y="271817"/>
                  </a:cubicBezTo>
                  <a:cubicBezTo>
                    <a:pt x="2732964" y="239972"/>
                    <a:pt x="2719317" y="206990"/>
                    <a:pt x="2698845" y="176283"/>
                  </a:cubicBezTo>
                  <a:cubicBezTo>
                    <a:pt x="2678373" y="145576"/>
                    <a:pt x="2653352" y="111457"/>
                    <a:pt x="2623782" y="87573"/>
                  </a:cubicBezTo>
                  <a:cubicBezTo>
                    <a:pt x="2594212" y="63690"/>
                    <a:pt x="2558955" y="46630"/>
                    <a:pt x="2521424" y="32982"/>
                  </a:cubicBezTo>
                  <a:cubicBezTo>
                    <a:pt x="2483893" y="19334"/>
                    <a:pt x="2449773" y="10235"/>
                    <a:pt x="2398594" y="5686"/>
                  </a:cubicBezTo>
                  <a:cubicBezTo>
                    <a:pt x="2347415" y="1137"/>
                    <a:pt x="2283725" y="0"/>
                    <a:pt x="2214349" y="5686"/>
                  </a:cubicBezTo>
                  <a:cubicBezTo>
                    <a:pt x="2144973" y="11372"/>
                    <a:pt x="2067635" y="21608"/>
                    <a:pt x="1982337" y="39805"/>
                  </a:cubicBezTo>
                  <a:cubicBezTo>
                    <a:pt x="1897039" y="58002"/>
                    <a:pt x="1815152" y="79611"/>
                    <a:pt x="1702558" y="114868"/>
                  </a:cubicBezTo>
                  <a:cubicBezTo>
                    <a:pt x="1589964" y="150125"/>
                    <a:pt x="1451212" y="197892"/>
                    <a:pt x="1306773" y="251346"/>
                  </a:cubicBezTo>
                  <a:cubicBezTo>
                    <a:pt x="1162334" y="304800"/>
                    <a:pt x="988325" y="369626"/>
                    <a:pt x="835925" y="435590"/>
                  </a:cubicBezTo>
                  <a:cubicBezTo>
                    <a:pt x="683525" y="501554"/>
                    <a:pt x="499281" y="587991"/>
                    <a:pt x="392373" y="647131"/>
                  </a:cubicBezTo>
                  <a:cubicBezTo>
                    <a:pt x="285466" y="706271"/>
                    <a:pt x="249071" y="739253"/>
                    <a:pt x="194480" y="790432"/>
                  </a:cubicBezTo>
                  <a:cubicBezTo>
                    <a:pt x="139889" y="841611"/>
                    <a:pt x="96672" y="897339"/>
                    <a:pt x="64827" y="954205"/>
                  </a:cubicBezTo>
                  <a:cubicBezTo>
                    <a:pt x="32982" y="1011071"/>
                    <a:pt x="6824" y="1065662"/>
                    <a:pt x="3412" y="1131626"/>
                  </a:cubicBezTo>
                  <a:cubicBezTo>
                    <a:pt x="0" y="1197590"/>
                    <a:pt x="23883" y="1279477"/>
                    <a:pt x="44355" y="1349990"/>
                  </a:cubicBezTo>
                  <a:cubicBezTo>
                    <a:pt x="64827" y="1420503"/>
                    <a:pt x="92122" y="1464859"/>
                    <a:pt x="126242" y="1554707"/>
                  </a:cubicBezTo>
                  <a:cubicBezTo>
                    <a:pt x="160362" y="1644555"/>
                    <a:pt x="214953" y="1784444"/>
                    <a:pt x="249072" y="1889077"/>
                  </a:cubicBezTo>
                  <a:cubicBezTo>
                    <a:pt x="283191" y="1993710"/>
                    <a:pt x="307075" y="2082420"/>
                    <a:pt x="330958" y="2182504"/>
                  </a:cubicBezTo>
                  <a:cubicBezTo>
                    <a:pt x="354841" y="2282588"/>
                    <a:pt x="370764" y="2397457"/>
                    <a:pt x="392373" y="2489579"/>
                  </a:cubicBezTo>
                  <a:cubicBezTo>
                    <a:pt x="413982" y="2581701"/>
                    <a:pt x="432179" y="2668137"/>
                    <a:pt x="460612" y="2735238"/>
                  </a:cubicBezTo>
                  <a:cubicBezTo>
                    <a:pt x="489045" y="2802339"/>
                    <a:pt x="520889" y="2843282"/>
                    <a:pt x="562970" y="2892187"/>
                  </a:cubicBezTo>
                  <a:cubicBezTo>
                    <a:pt x="605051" y="2941092"/>
                    <a:pt x="647131" y="2985447"/>
                    <a:pt x="713095" y="3028665"/>
                  </a:cubicBezTo>
                  <a:cubicBezTo>
                    <a:pt x="779059" y="3071883"/>
                    <a:pt x="889379" y="3119650"/>
                    <a:pt x="958755" y="3151495"/>
                  </a:cubicBezTo>
                  <a:cubicBezTo>
                    <a:pt x="1028131" y="3183340"/>
                    <a:pt x="1078741" y="3201537"/>
                    <a:pt x="1129352" y="321973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任意多边形 3"/>
            <p:cNvSpPr/>
            <p:nvPr/>
          </p:nvSpPr>
          <p:spPr>
            <a:xfrm>
              <a:off x="8143920" y="6297840"/>
              <a:ext cx="1030320" cy="566640"/>
            </a:xfrm>
            <a:custGeom>
              <a:avLst/>
              <a:gdLst/>
              <a:ahLst/>
              <a:rect l="l" t="t" r="r" b="b"/>
              <a:pathLst>
                <a:path w="1030406" h="566382">
                  <a:moveTo>
                    <a:pt x="0" y="566382"/>
                  </a:moveTo>
                  <a:cubicBezTo>
                    <a:pt x="50610" y="559558"/>
                    <a:pt x="101220" y="552734"/>
                    <a:pt x="191068" y="518614"/>
                  </a:cubicBezTo>
                  <a:cubicBezTo>
                    <a:pt x="280916" y="484494"/>
                    <a:pt x="434453" y="418531"/>
                    <a:pt x="539086" y="361665"/>
                  </a:cubicBezTo>
                  <a:cubicBezTo>
                    <a:pt x="643719" y="304799"/>
                    <a:pt x="736978" y="237698"/>
                    <a:pt x="818865" y="177420"/>
                  </a:cubicBezTo>
                  <a:cubicBezTo>
                    <a:pt x="900752" y="117142"/>
                    <a:pt x="965579" y="58571"/>
                    <a:pt x="1030406" y="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8" name="任意多边形 8"/>
          <p:cNvSpPr/>
          <p:nvPr/>
        </p:nvSpPr>
        <p:spPr>
          <a:xfrm>
            <a:off x="2558880" y="3724200"/>
            <a:ext cx="1940040" cy="181080"/>
          </a:xfrm>
          <a:custGeom>
            <a:avLst/>
            <a:gdLst/>
            <a:ahLst/>
            <a:rect l="l" t="t" r="r" b="b"/>
            <a:pathLst>
              <a:path w="1940943" h="181155">
                <a:moveTo>
                  <a:pt x="0" y="0"/>
                </a:moveTo>
                <a:lnTo>
                  <a:pt x="1940943" y="181155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任意多边形 9"/>
          <p:cNvSpPr/>
          <p:nvPr/>
        </p:nvSpPr>
        <p:spPr>
          <a:xfrm>
            <a:off x="4387680" y="3905280"/>
            <a:ext cx="103320" cy="1077840"/>
          </a:xfrm>
          <a:custGeom>
            <a:avLst/>
            <a:gdLst/>
            <a:ahLst/>
            <a:rect l="l" t="t" r="r" b="b"/>
            <a:pathLst>
              <a:path w="103517" h="1078302">
                <a:moveTo>
                  <a:pt x="103517" y="0"/>
                </a:moveTo>
                <a:lnTo>
                  <a:pt x="0" y="1078302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任意多边形 10"/>
          <p:cNvSpPr/>
          <p:nvPr/>
        </p:nvSpPr>
        <p:spPr>
          <a:xfrm>
            <a:off x="2454120" y="4802040"/>
            <a:ext cx="1941840" cy="190800"/>
          </a:xfrm>
          <a:custGeom>
            <a:avLst/>
            <a:gdLst/>
            <a:ahLst/>
            <a:rect l="l" t="t" r="r" b="b"/>
            <a:pathLst>
              <a:path w="1940943" h="189781">
                <a:moveTo>
                  <a:pt x="0" y="0"/>
                </a:moveTo>
                <a:lnTo>
                  <a:pt x="1940943" y="189781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任意多边形 11"/>
          <p:cNvSpPr/>
          <p:nvPr/>
        </p:nvSpPr>
        <p:spPr>
          <a:xfrm>
            <a:off x="2471760" y="3724200"/>
            <a:ext cx="95400" cy="1077840"/>
          </a:xfrm>
          <a:custGeom>
            <a:avLst/>
            <a:gdLst/>
            <a:ahLst/>
            <a:rect l="l" t="t" r="r" b="b"/>
            <a:pathLst>
              <a:path w="94890" h="1078302">
                <a:moveTo>
                  <a:pt x="94890" y="0"/>
                </a:moveTo>
                <a:lnTo>
                  <a:pt x="0" y="1078302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任意多边形 12"/>
          <p:cNvSpPr/>
          <p:nvPr/>
        </p:nvSpPr>
        <p:spPr>
          <a:xfrm>
            <a:off x="2386080" y="3379680"/>
            <a:ext cx="137880" cy="1198800"/>
          </a:xfrm>
          <a:custGeom>
            <a:avLst/>
            <a:gdLst/>
            <a:ahLst/>
            <a:rect l="l" t="t" r="r" b="b"/>
            <a:pathLst>
              <a:path w="138022" h="1199071">
                <a:moveTo>
                  <a:pt x="112143" y="1199071"/>
                </a:moveTo>
                <a:lnTo>
                  <a:pt x="0" y="1190445"/>
                </a:lnTo>
                <a:lnTo>
                  <a:pt x="138022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任意多边形 13"/>
          <p:cNvSpPr/>
          <p:nvPr/>
        </p:nvSpPr>
        <p:spPr>
          <a:xfrm>
            <a:off x="2514600" y="3387600"/>
            <a:ext cx="1544760" cy="181080"/>
          </a:xfrm>
          <a:custGeom>
            <a:avLst/>
            <a:gdLst/>
            <a:ahLst/>
            <a:rect l="l" t="t" r="r" b="b"/>
            <a:pathLst>
              <a:path w="1544128" h="181155">
                <a:moveTo>
                  <a:pt x="0" y="0"/>
                </a:moveTo>
                <a:lnTo>
                  <a:pt x="1544128" y="181155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任意多边形 14"/>
          <p:cNvSpPr/>
          <p:nvPr/>
        </p:nvSpPr>
        <p:spPr>
          <a:xfrm>
            <a:off x="2602080" y="3332160"/>
            <a:ext cx="99720" cy="61920"/>
          </a:xfrm>
          <a:custGeom>
            <a:avLst/>
            <a:gdLst/>
            <a:ahLst/>
            <a:rect l="l" t="t" r="r" b="b"/>
            <a:pathLst>
              <a:path w="100013" h="61118">
                <a:moveTo>
                  <a:pt x="0" y="61118"/>
                </a:moveTo>
                <a:cubicBezTo>
                  <a:pt x="5953" y="39290"/>
                  <a:pt x="11906" y="17462"/>
                  <a:pt x="28575" y="8731"/>
                </a:cubicBezTo>
                <a:cubicBezTo>
                  <a:pt x="45244" y="0"/>
                  <a:pt x="72628" y="4365"/>
                  <a:pt x="100013" y="8731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任意多边形 16"/>
          <p:cNvSpPr/>
          <p:nvPr/>
        </p:nvSpPr>
        <p:spPr>
          <a:xfrm>
            <a:off x="2635200" y="3335400"/>
            <a:ext cx="98640" cy="330120"/>
          </a:xfrm>
          <a:custGeom>
            <a:avLst/>
            <a:gdLst/>
            <a:ahLst/>
            <a:rect l="l" t="t" r="r" b="b"/>
            <a:pathLst>
              <a:path w="98424" h="330200">
                <a:moveTo>
                  <a:pt x="33337" y="1587"/>
                </a:moveTo>
                <a:cubicBezTo>
                  <a:pt x="57943" y="793"/>
                  <a:pt x="82550" y="0"/>
                  <a:pt x="90487" y="25400"/>
                </a:cubicBezTo>
                <a:cubicBezTo>
                  <a:pt x="98424" y="50800"/>
                  <a:pt x="87312" y="108743"/>
                  <a:pt x="80962" y="153987"/>
                </a:cubicBezTo>
                <a:cubicBezTo>
                  <a:pt x="74612" y="199231"/>
                  <a:pt x="65881" y="267493"/>
                  <a:pt x="52387" y="296862"/>
                </a:cubicBezTo>
                <a:cubicBezTo>
                  <a:pt x="38893" y="326231"/>
                  <a:pt x="19446" y="328215"/>
                  <a:pt x="0" y="33020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任意多边形 17"/>
          <p:cNvSpPr/>
          <p:nvPr/>
        </p:nvSpPr>
        <p:spPr>
          <a:xfrm>
            <a:off x="2600280" y="3441600"/>
            <a:ext cx="76320" cy="223920"/>
          </a:xfrm>
          <a:custGeom>
            <a:avLst/>
            <a:gdLst/>
            <a:ahLst/>
            <a:rect l="l" t="t" r="r" b="b"/>
            <a:pathLst>
              <a:path w="75406" h="223837">
                <a:moveTo>
                  <a:pt x="53975" y="223837"/>
                </a:moveTo>
                <a:cubicBezTo>
                  <a:pt x="33337" y="222646"/>
                  <a:pt x="12700" y="221456"/>
                  <a:pt x="6350" y="195262"/>
                </a:cubicBezTo>
                <a:cubicBezTo>
                  <a:pt x="0" y="169068"/>
                  <a:pt x="11906" y="96837"/>
                  <a:pt x="15875" y="66675"/>
                </a:cubicBezTo>
                <a:cubicBezTo>
                  <a:pt x="19844" y="36513"/>
                  <a:pt x="23018" y="25400"/>
                  <a:pt x="30162" y="14287"/>
                </a:cubicBezTo>
                <a:cubicBezTo>
                  <a:pt x="37306" y="3175"/>
                  <a:pt x="51593" y="0"/>
                  <a:pt x="58737" y="0"/>
                </a:cubicBezTo>
                <a:cubicBezTo>
                  <a:pt x="65881" y="0"/>
                  <a:pt x="70644" y="10318"/>
                  <a:pt x="73025" y="14287"/>
                </a:cubicBezTo>
                <a:cubicBezTo>
                  <a:pt x="75406" y="18256"/>
                  <a:pt x="74215" y="21034"/>
                  <a:pt x="73025" y="23812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任意多边形 18"/>
          <p:cNvSpPr/>
          <p:nvPr/>
        </p:nvSpPr>
        <p:spPr>
          <a:xfrm>
            <a:off x="2668680" y="3465360"/>
            <a:ext cx="9360" cy="100080"/>
          </a:xfrm>
          <a:custGeom>
            <a:avLst/>
            <a:gdLst/>
            <a:ahLst/>
            <a:rect l="l" t="t" r="r" b="b"/>
            <a:pathLst>
              <a:path w="9525" h="100012">
                <a:moveTo>
                  <a:pt x="9525" y="0"/>
                </a:moveTo>
                <a:lnTo>
                  <a:pt x="0" y="100012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任意多边形 19"/>
          <p:cNvSpPr/>
          <p:nvPr/>
        </p:nvSpPr>
        <p:spPr>
          <a:xfrm>
            <a:off x="2614680" y="4829040"/>
            <a:ext cx="2044800" cy="965160"/>
          </a:xfrm>
          <a:custGeom>
            <a:avLst/>
            <a:gdLst/>
            <a:ahLst/>
            <a:rect l="l" t="t" r="r" b="b"/>
            <a:pathLst>
              <a:path w="2044700" h="965200">
                <a:moveTo>
                  <a:pt x="0" y="0"/>
                </a:moveTo>
                <a:lnTo>
                  <a:pt x="120650" y="965200"/>
                </a:lnTo>
                <a:lnTo>
                  <a:pt x="2044700" y="73660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任意多边形 20"/>
          <p:cNvSpPr/>
          <p:nvPr/>
        </p:nvSpPr>
        <p:spPr>
          <a:xfrm>
            <a:off x="4430880" y="4498920"/>
            <a:ext cx="228600" cy="1073160"/>
          </a:xfrm>
          <a:custGeom>
            <a:avLst/>
            <a:gdLst/>
            <a:ahLst/>
            <a:rect l="l" t="t" r="r" b="b"/>
            <a:pathLst>
              <a:path w="228600" h="1073150">
                <a:moveTo>
                  <a:pt x="0" y="19050"/>
                </a:moveTo>
                <a:lnTo>
                  <a:pt x="95250" y="0"/>
                </a:lnTo>
                <a:lnTo>
                  <a:pt x="228600" y="107315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0" name="组合 139"/>
          <p:cNvGrpSpPr/>
          <p:nvPr/>
        </p:nvGrpSpPr>
        <p:grpSpPr>
          <a:xfrm>
            <a:off x="2417760" y="3984480"/>
            <a:ext cx="241200" cy="1194120"/>
            <a:chOff x="2417760" y="3984480"/>
            <a:chExt cx="241200" cy="1194120"/>
          </a:xfrm>
        </p:grpSpPr>
        <p:sp>
          <p:nvSpPr>
            <p:cNvPr id="1321" name="任意多边形 21"/>
            <p:cNvSpPr/>
            <p:nvPr/>
          </p:nvSpPr>
          <p:spPr>
            <a:xfrm>
              <a:off x="2506680" y="4810320"/>
              <a:ext cx="152280" cy="368280"/>
            </a:xfrm>
            <a:custGeom>
              <a:avLst/>
              <a:gdLst/>
              <a:ahLst/>
              <a:rect l="l" t="t" r="r" b="b"/>
              <a:pathLst>
                <a:path w="152400" h="368300">
                  <a:moveTo>
                    <a:pt x="152400" y="355600"/>
                  </a:moveTo>
                  <a:lnTo>
                    <a:pt x="38100" y="36830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任意多边形 22"/>
            <p:cNvSpPr/>
            <p:nvPr/>
          </p:nvSpPr>
          <p:spPr>
            <a:xfrm>
              <a:off x="2417760" y="3984480"/>
              <a:ext cx="44280" cy="158760"/>
            </a:xfrm>
            <a:custGeom>
              <a:avLst/>
              <a:gdLst/>
              <a:ahLst/>
              <a:rect l="l" t="t" r="r" b="b"/>
              <a:pathLst>
                <a:path w="44450" h="158750">
                  <a:moveTo>
                    <a:pt x="12700" y="158750"/>
                  </a:moveTo>
                  <a:lnTo>
                    <a:pt x="0" y="0"/>
                  </a:lnTo>
                  <a:lnTo>
                    <a:pt x="44450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3" name="任意多边形 23"/>
          <p:cNvSpPr/>
          <p:nvPr/>
        </p:nvSpPr>
        <p:spPr>
          <a:xfrm>
            <a:off x="4068720" y="2108160"/>
            <a:ext cx="360" cy="1752480"/>
          </a:xfrm>
          <a:custGeom>
            <a:avLst/>
            <a:gdLst/>
            <a:ahLst/>
            <a:rect l="l" t="t" r="r" b="b"/>
            <a:pathLst>
              <a:path w="0" h="1752600">
                <a:moveTo>
                  <a:pt x="0" y="1752600"/>
                </a:moveTo>
                <a:lnTo>
                  <a:pt x="0" y="0"/>
                </a:lnTo>
                <a:lnTo>
                  <a:pt x="0" y="9525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任意多边形 24"/>
          <p:cNvSpPr/>
          <p:nvPr/>
        </p:nvSpPr>
        <p:spPr>
          <a:xfrm>
            <a:off x="4068720" y="5641920"/>
            <a:ext cx="360" cy="428760"/>
          </a:xfrm>
          <a:custGeom>
            <a:avLst/>
            <a:gdLst/>
            <a:ahLst/>
            <a:rect l="l" t="t" r="r" b="b"/>
            <a:pathLst>
              <a:path w="0" h="428625">
                <a:moveTo>
                  <a:pt x="0" y="0"/>
                </a:moveTo>
                <a:lnTo>
                  <a:pt x="0" y="428625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任意多边形 28"/>
          <p:cNvSpPr/>
          <p:nvPr/>
        </p:nvSpPr>
        <p:spPr>
          <a:xfrm>
            <a:off x="4068720" y="2108160"/>
            <a:ext cx="3029040" cy="360"/>
          </a:xfrm>
          <a:custGeom>
            <a:avLst/>
            <a:gdLst/>
            <a:ahLst/>
            <a:rect l="l" t="t" r="r" b="b"/>
            <a:pathLst>
              <a:path w="3028950" h="0">
                <a:moveTo>
                  <a:pt x="0" y="0"/>
                </a:moveTo>
                <a:lnTo>
                  <a:pt x="3028950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任意多边形 29"/>
          <p:cNvSpPr/>
          <p:nvPr/>
        </p:nvSpPr>
        <p:spPr>
          <a:xfrm>
            <a:off x="4059360" y="6060960"/>
            <a:ext cx="2428920" cy="9720"/>
          </a:xfrm>
          <a:custGeom>
            <a:avLst/>
            <a:gdLst/>
            <a:ahLst/>
            <a:rect l="l" t="t" r="r" b="b"/>
            <a:pathLst>
              <a:path w="2428875" h="9525">
                <a:moveTo>
                  <a:pt x="0" y="0"/>
                </a:moveTo>
                <a:lnTo>
                  <a:pt x="2428875" y="9525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任意多边形 30"/>
          <p:cNvSpPr/>
          <p:nvPr/>
        </p:nvSpPr>
        <p:spPr>
          <a:xfrm>
            <a:off x="7093080" y="2098800"/>
            <a:ext cx="360" cy="1971720"/>
          </a:xfrm>
          <a:custGeom>
            <a:avLst/>
            <a:gdLst/>
            <a:ahLst/>
            <a:rect l="l" t="t" r="r" b="b"/>
            <a:pathLst>
              <a:path w="0" h="1971675">
                <a:moveTo>
                  <a:pt x="0" y="0"/>
                </a:moveTo>
                <a:lnTo>
                  <a:pt x="0" y="1971675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任意多边形 31"/>
          <p:cNvSpPr/>
          <p:nvPr/>
        </p:nvSpPr>
        <p:spPr>
          <a:xfrm>
            <a:off x="3949560" y="6226200"/>
            <a:ext cx="2571840" cy="285840"/>
          </a:xfrm>
          <a:custGeom>
            <a:avLst/>
            <a:gdLst/>
            <a:ahLst/>
            <a:rect l="l" t="t" r="r" b="b"/>
            <a:pathLst>
              <a:path w="2571750" h="285750">
                <a:moveTo>
                  <a:pt x="2571750" y="0"/>
                </a:moveTo>
                <a:lnTo>
                  <a:pt x="0" y="28575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任意多边形 32"/>
          <p:cNvSpPr/>
          <p:nvPr/>
        </p:nvSpPr>
        <p:spPr>
          <a:xfrm>
            <a:off x="3564000" y="2546280"/>
            <a:ext cx="485640" cy="38160"/>
          </a:xfrm>
          <a:custGeom>
            <a:avLst/>
            <a:gdLst/>
            <a:ahLst/>
            <a:rect l="l" t="t" r="r" b="b"/>
            <a:pathLst>
              <a:path w="485775" h="38100">
                <a:moveTo>
                  <a:pt x="485775" y="0"/>
                </a:moveTo>
                <a:lnTo>
                  <a:pt x="0" y="3810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任意多边形 33"/>
          <p:cNvSpPr/>
          <p:nvPr/>
        </p:nvSpPr>
        <p:spPr>
          <a:xfrm>
            <a:off x="3875040" y="5651640"/>
            <a:ext cx="85680" cy="866520"/>
          </a:xfrm>
          <a:custGeom>
            <a:avLst/>
            <a:gdLst/>
            <a:ahLst/>
            <a:rect l="l" t="t" r="r" b="b"/>
            <a:pathLst>
              <a:path w="85725" h="866775">
                <a:moveTo>
                  <a:pt x="85725" y="866775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任意多边形 34"/>
          <p:cNvSpPr/>
          <p:nvPr/>
        </p:nvSpPr>
        <p:spPr>
          <a:xfrm>
            <a:off x="3560760" y="2584440"/>
            <a:ext cx="95400" cy="933480"/>
          </a:xfrm>
          <a:custGeom>
            <a:avLst/>
            <a:gdLst/>
            <a:ahLst/>
            <a:rect l="l" t="t" r="r" b="b"/>
            <a:pathLst>
              <a:path w="95250" h="933450">
                <a:moveTo>
                  <a:pt x="95250" y="933450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任意多边形 38"/>
          <p:cNvSpPr/>
          <p:nvPr/>
        </p:nvSpPr>
        <p:spPr>
          <a:xfrm>
            <a:off x="-142920" y="-85680"/>
            <a:ext cx="3457800" cy="2374920"/>
          </a:xfrm>
          <a:custGeom>
            <a:avLst/>
            <a:gdLst/>
            <a:ahLst/>
            <a:rect l="l" t="t" r="r" b="b"/>
            <a:pathLst>
              <a:path w="2743200" h="1883392">
                <a:moveTo>
                  <a:pt x="0" y="1883392"/>
                </a:moveTo>
                <a:lnTo>
                  <a:pt x="2743200" y="1037230"/>
                </a:lnTo>
                <a:lnTo>
                  <a:pt x="2456597" y="27296"/>
                </a:lnTo>
                <a:lnTo>
                  <a:pt x="68239" y="0"/>
                </a:lnTo>
                <a:lnTo>
                  <a:pt x="0" y="18833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TextBox 35"/>
          <p:cNvSpPr/>
          <p:nvPr/>
        </p:nvSpPr>
        <p:spPr>
          <a:xfrm rot="20580000">
            <a:off x="896040" y="815760"/>
            <a:ext cx="32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9c5"/>
                </a:solidFill>
                <a:latin typeface="Arial Black"/>
              </a:rPr>
              <a:t>DES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TextBox 36"/>
          <p:cNvSpPr/>
          <p:nvPr/>
        </p:nvSpPr>
        <p:spPr>
          <a:xfrm rot="20580000">
            <a:off x="67680" y="659880"/>
            <a:ext cx="3498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9c5"/>
                </a:solidFill>
                <a:latin typeface="Arial Black"/>
              </a:rPr>
              <a:t>PERFECT P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5" name="图片 40" descr="完-1.png"/>
          <p:cNvPicPr/>
          <p:nvPr/>
        </p:nvPicPr>
        <p:blipFill>
          <a:blip r:embed="rId4">
            <a:lum bright="100000"/>
          </a:blip>
          <a:srcRect l="-35404" t="-16245" r="-35404" b="-16245"/>
          <a:stretch/>
        </p:blipFill>
        <p:spPr>
          <a:xfrm rot="20220000">
            <a:off x="6756120" y="4822560"/>
            <a:ext cx="96840" cy="133200"/>
          </a:xfrm>
          <a:prstGeom prst="rect">
            <a:avLst/>
          </a:prstGeom>
          <a:ln w="0">
            <a:noFill/>
          </a:ln>
        </p:spPr>
      </p:pic>
      <p:pic>
        <p:nvPicPr>
          <p:cNvPr id="1336" name="图片 41" descr="完-2-1.png"/>
          <p:cNvPicPr/>
          <p:nvPr/>
        </p:nvPicPr>
        <p:blipFill>
          <a:blip r:embed="rId5">
            <a:lum bright="100000"/>
          </a:blip>
          <a:srcRect l="-55340" t="-4382" r="-55340" b="-4382"/>
          <a:stretch/>
        </p:blipFill>
        <p:spPr>
          <a:xfrm rot="20220000">
            <a:off x="6669000" y="4990680"/>
            <a:ext cx="76320" cy="397080"/>
          </a:xfrm>
          <a:prstGeom prst="rect">
            <a:avLst/>
          </a:prstGeom>
          <a:ln w="0">
            <a:noFill/>
          </a:ln>
        </p:spPr>
      </p:pic>
      <p:pic>
        <p:nvPicPr>
          <p:cNvPr id="1337" name="图片 42" descr="完-2-2.png"/>
          <p:cNvPicPr/>
          <p:nvPr/>
        </p:nvPicPr>
        <p:blipFill>
          <a:blip r:embed="rId6">
            <a:lum bright="100000"/>
          </a:blip>
          <a:srcRect l="-82609" t="-43689" r="-82609" b="-43689"/>
          <a:stretch/>
        </p:blipFill>
        <p:spPr>
          <a:xfrm rot="20220000">
            <a:off x="6751800" y="5300640"/>
            <a:ext cx="69840" cy="71640"/>
          </a:xfrm>
          <a:prstGeom prst="rect">
            <a:avLst/>
          </a:prstGeom>
          <a:ln w="0">
            <a:noFill/>
          </a:ln>
        </p:spPr>
      </p:pic>
      <p:pic>
        <p:nvPicPr>
          <p:cNvPr id="1338" name="图片 44" descr="完-3.png"/>
          <p:cNvPicPr/>
          <p:nvPr/>
        </p:nvPicPr>
        <p:blipFill>
          <a:blip r:embed="rId7">
            <a:lum bright="100000"/>
          </a:blip>
          <a:srcRect l="-9149" t="-43689" r="-9149" b="-43689"/>
          <a:stretch/>
        </p:blipFill>
        <p:spPr>
          <a:xfrm rot="20220000">
            <a:off x="6668640" y="4970160"/>
            <a:ext cx="266760" cy="66600"/>
          </a:xfrm>
          <a:prstGeom prst="rect">
            <a:avLst/>
          </a:prstGeom>
          <a:ln w="0">
            <a:noFill/>
          </a:ln>
        </p:spPr>
      </p:pic>
      <p:pic>
        <p:nvPicPr>
          <p:cNvPr id="1339" name="图片 45" descr="完-4.png"/>
          <p:cNvPicPr/>
          <p:nvPr/>
        </p:nvPicPr>
        <p:blipFill>
          <a:blip r:embed="rId8">
            <a:lum bright="100000"/>
          </a:blip>
          <a:srcRect l="-10517" t="-8671" r="-10517" b="-8671"/>
          <a:stretch/>
        </p:blipFill>
        <p:spPr>
          <a:xfrm rot="20220000">
            <a:off x="6735600" y="4968720"/>
            <a:ext cx="233640" cy="217800"/>
          </a:xfrm>
          <a:prstGeom prst="rect">
            <a:avLst/>
          </a:prstGeom>
          <a:ln w="0">
            <a:noFill/>
          </a:ln>
        </p:spPr>
      </p:pic>
      <p:pic>
        <p:nvPicPr>
          <p:cNvPr id="1340" name="图片 46" descr="完-5.png"/>
          <p:cNvPicPr/>
          <p:nvPr/>
        </p:nvPicPr>
        <p:blipFill>
          <a:blip r:embed="rId9">
            <a:lum bright="100000"/>
          </a:blip>
          <a:srcRect l="-11492" t="-20548" r="-11492" b="-20548"/>
          <a:stretch/>
        </p:blipFill>
        <p:spPr>
          <a:xfrm rot="20220000">
            <a:off x="6757920" y="5073120"/>
            <a:ext cx="217440" cy="111240"/>
          </a:xfrm>
          <a:prstGeom prst="rect">
            <a:avLst/>
          </a:prstGeom>
          <a:ln w="0">
            <a:noFill/>
          </a:ln>
        </p:spPr>
      </p:pic>
      <p:pic>
        <p:nvPicPr>
          <p:cNvPr id="1341" name="图片 47" descr="完-6.png"/>
          <p:cNvPicPr/>
          <p:nvPr/>
        </p:nvPicPr>
        <p:blipFill>
          <a:blip r:embed="rId10">
            <a:lum bright="100000"/>
          </a:blip>
          <a:srcRect l="-9500" t="-6190" r="-9500" b="-6190"/>
          <a:stretch/>
        </p:blipFill>
        <p:spPr>
          <a:xfrm rot="20220000">
            <a:off x="6759360" y="5071680"/>
            <a:ext cx="253800" cy="289080"/>
          </a:xfrm>
          <a:prstGeom prst="rect">
            <a:avLst/>
          </a:prstGeom>
          <a:ln w="0">
            <a:noFill/>
          </a:ln>
        </p:spPr>
      </p:pic>
      <p:pic>
        <p:nvPicPr>
          <p:cNvPr id="1342" name="图片 48" descr="完-7.png"/>
          <p:cNvPicPr/>
          <p:nvPr/>
        </p:nvPicPr>
        <p:blipFill>
          <a:blip r:embed="rId11">
            <a:lum bright="100000"/>
          </a:blip>
          <a:srcRect l="-8237" t="-8475" r="-8237" b="-8475"/>
          <a:stretch/>
        </p:blipFill>
        <p:spPr>
          <a:xfrm rot="20220000">
            <a:off x="6770160" y="5130360"/>
            <a:ext cx="287640" cy="222480"/>
          </a:xfrm>
          <a:prstGeom prst="rect">
            <a:avLst/>
          </a:prstGeom>
          <a:ln w="0">
            <a:noFill/>
          </a:ln>
        </p:spPr>
      </p:pic>
      <p:pic>
        <p:nvPicPr>
          <p:cNvPr id="1343" name="图片 49" descr="完-8.png"/>
          <p:cNvPicPr/>
          <p:nvPr/>
        </p:nvPicPr>
        <p:blipFill>
          <a:blip r:embed="rId12">
            <a:lum bright="100000"/>
          </a:blip>
          <a:srcRect l="-10734" t="-6608" r="-10734" b="-6608"/>
          <a:stretch/>
        </p:blipFill>
        <p:spPr>
          <a:xfrm rot="20220000">
            <a:off x="6832080" y="5124600"/>
            <a:ext cx="230400" cy="269640"/>
          </a:xfrm>
          <a:prstGeom prst="rect">
            <a:avLst/>
          </a:prstGeom>
          <a:ln w="0">
            <a:noFill/>
          </a:ln>
        </p:spPr>
      </p:pic>
      <p:pic>
        <p:nvPicPr>
          <p:cNvPr id="1344" name="图片 50" descr="完-9.png"/>
          <p:cNvPicPr/>
          <p:nvPr/>
        </p:nvPicPr>
        <p:blipFill>
          <a:blip r:embed="rId13">
            <a:lum bright="100000"/>
          </a:blip>
          <a:srcRect l="-13735" t="-10274" r="-13735" b="-10274"/>
          <a:stretch/>
        </p:blipFill>
        <p:spPr>
          <a:xfrm rot="20220000">
            <a:off x="6856200" y="5208120"/>
            <a:ext cx="187200" cy="189000"/>
          </a:xfrm>
          <a:prstGeom prst="rect">
            <a:avLst/>
          </a:prstGeom>
          <a:ln w="0">
            <a:noFill/>
          </a:ln>
        </p:spPr>
      </p:pic>
      <p:pic>
        <p:nvPicPr>
          <p:cNvPr id="1345" name="图片 51" descr="完-10.png"/>
          <p:cNvPicPr/>
          <p:nvPr/>
        </p:nvPicPr>
        <p:blipFill>
          <a:blip r:embed="rId14">
            <a:lum bright="100000"/>
          </a:blip>
          <a:srcRect l="-41304" t="-8475" r="-41304" b="-8475"/>
          <a:stretch/>
        </p:blipFill>
        <p:spPr>
          <a:xfrm rot="20220000">
            <a:off x="6973920" y="5182920"/>
            <a:ext cx="90360" cy="222120"/>
          </a:xfrm>
          <a:prstGeom prst="rect">
            <a:avLst/>
          </a:prstGeom>
          <a:ln w="0">
            <a:noFill/>
          </a:ln>
        </p:spPr>
      </p:pic>
      <p:pic>
        <p:nvPicPr>
          <p:cNvPr id="1346" name="图片 52" descr="完-12.png"/>
          <p:cNvPicPr/>
          <p:nvPr/>
        </p:nvPicPr>
        <p:blipFill>
          <a:blip r:embed="rId15">
            <a:lum bright="100000"/>
          </a:blip>
          <a:srcRect l="-15966" t="-9514" r="-15966" b="-9514"/>
          <a:stretch/>
        </p:blipFill>
        <p:spPr>
          <a:xfrm rot="20220000">
            <a:off x="7004160" y="5178240"/>
            <a:ext cx="166680" cy="199800"/>
          </a:xfrm>
          <a:prstGeom prst="rect">
            <a:avLst/>
          </a:prstGeom>
          <a:ln w="0">
            <a:noFill/>
          </a:ln>
        </p:spPr>
      </p:pic>
      <p:pic>
        <p:nvPicPr>
          <p:cNvPr id="1347" name="图片 53" descr="美-1.png"/>
          <p:cNvPicPr/>
          <p:nvPr/>
        </p:nvPicPr>
        <p:blipFill>
          <a:blip r:embed="rId16">
            <a:lum bright="100000"/>
          </a:blip>
          <a:srcRect l="-30978" t="-13006" r="-30978" b="-13006"/>
          <a:stretch/>
        </p:blipFill>
        <p:spPr>
          <a:xfrm rot="20220000">
            <a:off x="6997320" y="4768920"/>
            <a:ext cx="108000" cy="154080"/>
          </a:xfrm>
          <a:prstGeom prst="rect">
            <a:avLst/>
          </a:prstGeom>
          <a:ln w="0">
            <a:noFill/>
          </a:ln>
        </p:spPr>
      </p:pic>
      <p:pic>
        <p:nvPicPr>
          <p:cNvPr id="1348" name="图片 54" descr="美-2.png"/>
          <p:cNvPicPr/>
          <p:nvPr/>
        </p:nvPicPr>
        <p:blipFill>
          <a:blip r:embed="rId17">
            <a:lum bright="100000"/>
          </a:blip>
          <a:srcRect l="-29082" t="-11480" r="-29082" b="-11480"/>
          <a:stretch/>
        </p:blipFill>
        <p:spPr>
          <a:xfrm rot="20220000">
            <a:off x="7044840" y="4728960"/>
            <a:ext cx="109800" cy="172800"/>
          </a:xfrm>
          <a:prstGeom prst="rect">
            <a:avLst/>
          </a:prstGeom>
          <a:ln w="0">
            <a:noFill/>
          </a:ln>
        </p:spPr>
      </p:pic>
      <p:pic>
        <p:nvPicPr>
          <p:cNvPr id="1349" name="图片 55" descr="美-3.png"/>
          <p:cNvPicPr/>
          <p:nvPr/>
        </p:nvPicPr>
        <p:blipFill>
          <a:blip r:embed="rId18">
            <a:lum bright="100000"/>
          </a:blip>
          <a:srcRect l="-13735" t="-6098" r="-13735" b="-6098"/>
          <a:stretch/>
        </p:blipFill>
        <p:spPr>
          <a:xfrm rot="20220000">
            <a:off x="6992640" y="4749480"/>
            <a:ext cx="185760" cy="291960"/>
          </a:xfrm>
          <a:prstGeom prst="rect">
            <a:avLst/>
          </a:prstGeom>
          <a:ln w="0">
            <a:noFill/>
          </a:ln>
        </p:spPr>
      </p:pic>
      <p:pic>
        <p:nvPicPr>
          <p:cNvPr id="1350" name="图片 56" descr="美-4.png"/>
          <p:cNvPicPr/>
          <p:nvPr/>
        </p:nvPicPr>
        <p:blipFill>
          <a:blip r:embed="rId19">
            <a:lum bright="100000"/>
          </a:blip>
          <a:srcRect l="-17066" t="-15625" r="-17066" b="-15625"/>
          <a:stretch/>
        </p:blipFill>
        <p:spPr>
          <a:xfrm rot="20220000">
            <a:off x="7024680" y="4908600"/>
            <a:ext cx="162000" cy="133200"/>
          </a:xfrm>
          <a:prstGeom prst="rect">
            <a:avLst/>
          </a:prstGeom>
          <a:ln w="0">
            <a:noFill/>
          </a:ln>
        </p:spPr>
      </p:pic>
      <p:pic>
        <p:nvPicPr>
          <p:cNvPr id="1351" name="图片 57" descr="美-5.png"/>
          <p:cNvPicPr/>
          <p:nvPr/>
        </p:nvPicPr>
        <p:blipFill>
          <a:blip r:embed="rId20">
            <a:lum bright="100000"/>
          </a:blip>
          <a:srcRect l="-13014" t="-5821" r="-13014" b="-5821"/>
          <a:stretch/>
        </p:blipFill>
        <p:spPr>
          <a:xfrm rot="20220000">
            <a:off x="7032240" y="4905360"/>
            <a:ext cx="195120" cy="308160"/>
          </a:xfrm>
          <a:prstGeom prst="rect">
            <a:avLst/>
          </a:prstGeom>
          <a:ln w="0">
            <a:noFill/>
          </a:ln>
        </p:spPr>
      </p:pic>
      <p:pic>
        <p:nvPicPr>
          <p:cNvPr id="1352" name="图片 58" descr="美-6.png"/>
          <p:cNvPicPr/>
          <p:nvPr/>
        </p:nvPicPr>
        <p:blipFill>
          <a:blip r:embed="rId21">
            <a:lum bright="100000"/>
          </a:blip>
          <a:srcRect l="-7480" t="-6190" r="-7480" b="-6190"/>
          <a:stretch/>
        </p:blipFill>
        <p:spPr>
          <a:xfrm rot="20220000">
            <a:off x="7032240" y="4903920"/>
            <a:ext cx="308160" cy="287280"/>
          </a:xfrm>
          <a:prstGeom prst="rect">
            <a:avLst/>
          </a:prstGeom>
          <a:ln w="0">
            <a:noFill/>
          </a:ln>
        </p:spPr>
      </p:pic>
      <p:pic>
        <p:nvPicPr>
          <p:cNvPr id="1353" name="图片 59" descr="美-7.png"/>
          <p:cNvPicPr/>
          <p:nvPr/>
        </p:nvPicPr>
        <p:blipFill>
          <a:blip r:embed="rId22">
            <a:lum bright="100000"/>
          </a:blip>
          <a:srcRect l="-8976" t="-5569" r="-8976" b="-5569"/>
          <a:stretch/>
        </p:blipFill>
        <p:spPr>
          <a:xfrm rot="20220000">
            <a:off x="7090920" y="4889160"/>
            <a:ext cx="263520" cy="320760"/>
          </a:xfrm>
          <a:prstGeom prst="rect">
            <a:avLst/>
          </a:prstGeom>
          <a:ln w="0">
            <a:noFill/>
          </a:ln>
        </p:spPr>
      </p:pic>
      <p:pic>
        <p:nvPicPr>
          <p:cNvPr id="1354" name="图片 60" descr="美-8.png"/>
          <p:cNvPicPr/>
          <p:nvPr/>
        </p:nvPicPr>
        <p:blipFill>
          <a:blip r:embed="rId23">
            <a:lum bright="100000"/>
          </a:blip>
          <a:srcRect l="-35404" t="-7365" r="-35404" b="-7365"/>
          <a:stretch/>
        </p:blipFill>
        <p:spPr>
          <a:xfrm rot="20220000">
            <a:off x="7079760" y="5001840"/>
            <a:ext cx="96840" cy="249120"/>
          </a:xfrm>
          <a:prstGeom prst="rect">
            <a:avLst/>
          </a:prstGeom>
          <a:ln w="0">
            <a:noFill/>
          </a:ln>
        </p:spPr>
      </p:pic>
      <p:pic>
        <p:nvPicPr>
          <p:cNvPr id="1355" name="图片 61" descr="美-9.png"/>
          <p:cNvPicPr/>
          <p:nvPr/>
        </p:nvPicPr>
        <p:blipFill>
          <a:blip r:embed="rId24">
            <a:lum bright="100000"/>
          </a:blip>
          <a:srcRect l="-5429" t="-7799" r="-5429" b="-7799"/>
          <a:stretch/>
        </p:blipFill>
        <p:spPr>
          <a:xfrm rot="20220000">
            <a:off x="7129440" y="4987800"/>
            <a:ext cx="414360" cy="236520"/>
          </a:xfrm>
          <a:prstGeom prst="rect">
            <a:avLst/>
          </a:prstGeom>
          <a:ln w="0">
            <a:noFill/>
          </a:ln>
        </p:spPr>
      </p:pic>
      <p:pic>
        <p:nvPicPr>
          <p:cNvPr id="1356" name="图片 62" descr="美-10.png"/>
          <p:cNvPicPr/>
          <p:nvPr/>
        </p:nvPicPr>
        <p:blipFill>
          <a:blip r:embed="rId25">
            <a:lum bright="100000"/>
          </a:blip>
          <a:srcRect l="-19792" t="-12605" r="-19792" b="-12605"/>
          <a:stretch/>
        </p:blipFill>
        <p:spPr>
          <a:xfrm rot="20220000">
            <a:off x="7400880" y="5009760"/>
            <a:ext cx="142920" cy="160200"/>
          </a:xfrm>
          <a:prstGeom prst="rect">
            <a:avLst/>
          </a:prstGeom>
          <a:ln w="0">
            <a:noFill/>
          </a:ln>
        </p:spPr>
      </p:pic>
      <p:pic>
        <p:nvPicPr>
          <p:cNvPr id="1357" name="图片 63" descr="美-11.png"/>
          <p:cNvPicPr/>
          <p:nvPr/>
        </p:nvPicPr>
        <p:blipFill>
          <a:blip r:embed="rId26">
            <a:lum bright="100000"/>
          </a:blip>
          <a:srcRect l="-17647" t="-8858" r="-17647" b="-8858"/>
          <a:stretch/>
        </p:blipFill>
        <p:spPr>
          <a:xfrm rot="20220000">
            <a:off x="7279920" y="4957920"/>
            <a:ext cx="157320" cy="212400"/>
          </a:xfrm>
          <a:prstGeom prst="rect">
            <a:avLst/>
          </a:prstGeom>
          <a:ln w="0">
            <a:noFill/>
          </a:ln>
        </p:spPr>
      </p:pic>
      <p:pic>
        <p:nvPicPr>
          <p:cNvPr id="1358" name="图片 64" descr="美-12.png"/>
          <p:cNvPicPr/>
          <p:nvPr/>
        </p:nvPicPr>
        <p:blipFill>
          <a:blip r:embed="rId27">
            <a:lum bright="100000"/>
          </a:blip>
          <a:srcRect l="-71250" t="-27950" r="-71250" b="-27950"/>
          <a:stretch/>
        </p:blipFill>
        <p:spPr>
          <a:xfrm rot="20220000">
            <a:off x="7300800" y="5089320"/>
            <a:ext cx="71640" cy="88920"/>
          </a:xfrm>
          <a:prstGeom prst="rect">
            <a:avLst/>
          </a:prstGeom>
          <a:ln w="0">
            <a:noFill/>
          </a:ln>
        </p:spPr>
      </p:pic>
      <p:pic>
        <p:nvPicPr>
          <p:cNvPr id="1359" name="图片 65" descr="演-1.png"/>
          <p:cNvPicPr/>
          <p:nvPr/>
        </p:nvPicPr>
        <p:blipFill>
          <a:blip r:embed="rId28">
            <a:lum bright="100000"/>
          </a:blip>
          <a:srcRect l="-38000" t="-20548" r="-38000" b="-20548"/>
          <a:stretch/>
        </p:blipFill>
        <p:spPr>
          <a:xfrm rot="20220000">
            <a:off x="7337160" y="4727520"/>
            <a:ext cx="95040" cy="111240"/>
          </a:xfrm>
          <a:prstGeom prst="rect">
            <a:avLst/>
          </a:prstGeom>
          <a:ln w="0">
            <a:noFill/>
          </a:ln>
        </p:spPr>
      </p:pic>
      <p:pic>
        <p:nvPicPr>
          <p:cNvPr id="1360" name="图片 66" descr="演-2.png"/>
          <p:cNvPicPr/>
          <p:nvPr/>
        </p:nvPicPr>
        <p:blipFill>
          <a:blip r:embed="rId29">
            <a:lum bright="100000"/>
          </a:blip>
          <a:srcRect l="-24783" t="-5732" r="-24783" b="-5732"/>
          <a:stretch/>
        </p:blipFill>
        <p:spPr>
          <a:xfrm rot="20220000">
            <a:off x="7405560" y="4844520"/>
            <a:ext cx="125640" cy="309600"/>
          </a:xfrm>
          <a:prstGeom prst="rect">
            <a:avLst/>
          </a:prstGeom>
          <a:ln w="0">
            <a:noFill/>
          </a:ln>
        </p:spPr>
      </p:pic>
      <p:pic>
        <p:nvPicPr>
          <p:cNvPr id="1361" name="图片 67" descr="演-3.png"/>
          <p:cNvPicPr/>
          <p:nvPr/>
        </p:nvPicPr>
        <p:blipFill>
          <a:blip r:embed="rId30">
            <a:lum bright="100000"/>
          </a:blip>
          <a:srcRect l="-23554" t="-4644" r="-23554" b="-4644"/>
          <a:stretch/>
        </p:blipFill>
        <p:spPr>
          <a:xfrm rot="20220000">
            <a:off x="7427880" y="4762080"/>
            <a:ext cx="127080" cy="374760"/>
          </a:xfrm>
          <a:prstGeom prst="rect">
            <a:avLst/>
          </a:prstGeom>
          <a:ln w="0">
            <a:noFill/>
          </a:ln>
        </p:spPr>
      </p:pic>
      <p:pic>
        <p:nvPicPr>
          <p:cNvPr id="1362" name="图片 68" descr="演-7.png"/>
          <p:cNvPicPr/>
          <p:nvPr/>
        </p:nvPicPr>
        <p:blipFill>
          <a:blip r:embed="rId31">
            <a:lum bright="100000"/>
          </a:blip>
          <a:srcRect l="-10734" t="-16245" r="-10734" b="-16245"/>
          <a:stretch/>
        </p:blipFill>
        <p:spPr>
          <a:xfrm rot="20220000">
            <a:off x="7445520" y="4598640"/>
            <a:ext cx="230040" cy="128520"/>
          </a:xfrm>
          <a:prstGeom prst="rect">
            <a:avLst/>
          </a:prstGeom>
          <a:ln w="0">
            <a:noFill/>
          </a:ln>
        </p:spPr>
      </p:pic>
      <p:pic>
        <p:nvPicPr>
          <p:cNvPr id="1363" name="图片 69" descr="演-8.png"/>
          <p:cNvPicPr/>
          <p:nvPr/>
        </p:nvPicPr>
        <p:blipFill>
          <a:blip r:embed="rId32">
            <a:lum bright="100000"/>
          </a:blip>
          <a:srcRect l="-9149" t="-3750" r="-9149" b="-3750"/>
          <a:stretch/>
        </p:blipFill>
        <p:spPr>
          <a:xfrm rot="20220000">
            <a:off x="7488360" y="4592520"/>
            <a:ext cx="260280" cy="459000"/>
          </a:xfrm>
          <a:prstGeom prst="rect">
            <a:avLst/>
          </a:prstGeom>
          <a:ln w="0">
            <a:noFill/>
          </a:ln>
        </p:spPr>
      </p:pic>
      <p:pic>
        <p:nvPicPr>
          <p:cNvPr id="1364" name="图片 70" descr="演-9.png"/>
          <p:cNvPicPr/>
          <p:nvPr/>
        </p:nvPicPr>
        <p:blipFill>
          <a:blip r:embed="rId33">
            <a:lum bright="100000"/>
          </a:blip>
          <a:srcRect l="-9500" t="-6294" r="-9500" b="-6294"/>
          <a:stretch/>
        </p:blipFill>
        <p:spPr>
          <a:xfrm rot="20220000">
            <a:off x="7515000" y="4755960"/>
            <a:ext cx="253800" cy="287280"/>
          </a:xfrm>
          <a:prstGeom prst="rect">
            <a:avLst/>
          </a:prstGeom>
          <a:ln w="0">
            <a:noFill/>
          </a:ln>
        </p:spPr>
      </p:pic>
      <p:pic>
        <p:nvPicPr>
          <p:cNvPr id="1365" name="图片 71" descr="演-10.png"/>
          <p:cNvPicPr/>
          <p:nvPr/>
        </p:nvPicPr>
        <p:blipFill>
          <a:blip r:embed="rId34">
            <a:lum bright="100000"/>
          </a:blip>
          <a:srcRect l="-19000" t="-7500" r="-19000" b="-7500"/>
          <a:stretch/>
        </p:blipFill>
        <p:spPr>
          <a:xfrm rot="20220000">
            <a:off x="7647120" y="4722480"/>
            <a:ext cx="147600" cy="245880"/>
          </a:xfrm>
          <a:prstGeom prst="rect">
            <a:avLst/>
          </a:prstGeom>
          <a:ln w="0">
            <a:noFill/>
          </a:ln>
        </p:spPr>
      </p:pic>
      <p:pic>
        <p:nvPicPr>
          <p:cNvPr id="1366" name="图片 72" descr="演-11.png"/>
          <p:cNvPicPr/>
          <p:nvPr/>
        </p:nvPicPr>
        <p:blipFill>
          <a:blip r:embed="rId35">
            <a:lum bright="100000"/>
          </a:blip>
          <a:srcRect l="-17066" t="-12195" r="-17066" b="-12195"/>
          <a:stretch/>
        </p:blipFill>
        <p:spPr>
          <a:xfrm rot="20220000">
            <a:off x="7597800" y="4827240"/>
            <a:ext cx="162000" cy="166680"/>
          </a:xfrm>
          <a:prstGeom prst="rect">
            <a:avLst/>
          </a:prstGeom>
          <a:ln w="0">
            <a:noFill/>
          </a:ln>
        </p:spPr>
      </p:pic>
      <p:pic>
        <p:nvPicPr>
          <p:cNvPr id="1367" name="图片 73" descr="演-12.png"/>
          <p:cNvPicPr/>
          <p:nvPr/>
        </p:nvPicPr>
        <p:blipFill>
          <a:blip r:embed="rId36">
            <a:lum bright="100000"/>
          </a:blip>
          <a:srcRect l="-13014" t="-10000" r="-13014" b="-10000"/>
          <a:stretch/>
        </p:blipFill>
        <p:spPr>
          <a:xfrm rot="20220000">
            <a:off x="7578360" y="4827240"/>
            <a:ext cx="193680" cy="193680"/>
          </a:xfrm>
          <a:prstGeom prst="rect">
            <a:avLst/>
          </a:prstGeom>
          <a:ln w="0">
            <a:noFill/>
          </a:ln>
        </p:spPr>
      </p:pic>
      <p:pic>
        <p:nvPicPr>
          <p:cNvPr id="1368" name="图片 74" descr="演-4.png"/>
          <p:cNvPicPr/>
          <p:nvPr/>
        </p:nvPicPr>
        <p:blipFill>
          <a:blip r:embed="rId37">
            <a:lum bright="100000"/>
          </a:blip>
          <a:srcRect l="-22441" t="-19565" r="-22441" b="-19565"/>
          <a:stretch/>
        </p:blipFill>
        <p:spPr>
          <a:xfrm rot="20220000">
            <a:off x="7395840" y="4489560"/>
            <a:ext cx="128520" cy="117360"/>
          </a:xfrm>
          <a:prstGeom prst="rect">
            <a:avLst/>
          </a:prstGeom>
          <a:ln w="0">
            <a:noFill/>
          </a:ln>
        </p:spPr>
      </p:pic>
      <p:pic>
        <p:nvPicPr>
          <p:cNvPr id="1369" name="图片 75" descr="演-5.png"/>
          <p:cNvPicPr/>
          <p:nvPr/>
        </p:nvPicPr>
        <p:blipFill>
          <a:blip r:embed="rId38">
            <a:lum bright="100000"/>
          </a:blip>
          <a:srcRect l="-13014" t="-4021" r="-13014" b="-4021"/>
          <a:stretch/>
        </p:blipFill>
        <p:spPr>
          <a:xfrm rot="20220000">
            <a:off x="7419600" y="4551120"/>
            <a:ext cx="196920" cy="426960"/>
          </a:xfrm>
          <a:prstGeom prst="rect">
            <a:avLst/>
          </a:prstGeom>
          <a:ln w="0">
            <a:noFill/>
          </a:ln>
        </p:spPr>
      </p:pic>
      <p:pic>
        <p:nvPicPr>
          <p:cNvPr id="1370" name="图片 76" descr="演-6.png"/>
          <p:cNvPicPr/>
          <p:nvPr/>
        </p:nvPicPr>
        <p:blipFill>
          <a:blip r:embed="rId39">
            <a:lum bright="100000"/>
          </a:blip>
          <a:srcRect l="-11492" t="-8123" r="-11492" b="-8123"/>
          <a:stretch/>
        </p:blipFill>
        <p:spPr>
          <a:xfrm rot="20220000">
            <a:off x="7461360" y="4741560"/>
            <a:ext cx="214200" cy="226800"/>
          </a:xfrm>
          <a:prstGeom prst="rect">
            <a:avLst/>
          </a:prstGeom>
          <a:ln w="0">
            <a:noFill/>
          </a:ln>
        </p:spPr>
      </p:pic>
      <p:pic>
        <p:nvPicPr>
          <p:cNvPr id="1371" name="图片 77" descr="演-13.png"/>
          <p:cNvPicPr/>
          <p:nvPr/>
        </p:nvPicPr>
        <p:blipFill>
          <a:blip r:embed="rId40">
            <a:lum bright="100000"/>
          </a:blip>
          <a:srcRect l="-12667" t="-27950" r="-12667" b="-27950"/>
          <a:stretch/>
        </p:blipFill>
        <p:spPr>
          <a:xfrm rot="20220000">
            <a:off x="7473600" y="4817880"/>
            <a:ext cx="201600" cy="90360"/>
          </a:xfrm>
          <a:prstGeom prst="rect">
            <a:avLst/>
          </a:prstGeom>
          <a:ln w="0">
            <a:noFill/>
          </a:ln>
        </p:spPr>
      </p:pic>
      <p:pic>
        <p:nvPicPr>
          <p:cNvPr id="1372" name="图片 78" descr="14.png"/>
          <p:cNvPicPr/>
          <p:nvPr/>
        </p:nvPicPr>
        <p:blipFill>
          <a:blip r:embed="rId41">
            <a:lum bright="100000"/>
          </a:blip>
          <a:srcRect l="-49565" t="-9514" r="-49565" b="-9514"/>
          <a:stretch/>
        </p:blipFill>
        <p:spPr>
          <a:xfrm rot="20220000">
            <a:off x="7628040" y="4782960"/>
            <a:ext cx="83880" cy="201960"/>
          </a:xfrm>
          <a:prstGeom prst="rect">
            <a:avLst/>
          </a:prstGeom>
          <a:ln w="0">
            <a:noFill/>
          </a:ln>
        </p:spPr>
      </p:pic>
      <p:pic>
        <p:nvPicPr>
          <p:cNvPr id="1373" name="图片 79" descr="演-14.png"/>
          <p:cNvPicPr/>
          <p:nvPr/>
        </p:nvPicPr>
        <p:blipFill>
          <a:blip r:embed="rId42">
            <a:lum bright="100000"/>
          </a:blip>
          <a:srcRect l="-19000" t="-20548" r="-19000" b="-20548"/>
          <a:stretch/>
        </p:blipFill>
        <p:spPr>
          <a:xfrm rot="20220000">
            <a:off x="7608960" y="5019480"/>
            <a:ext cx="147600" cy="109440"/>
          </a:xfrm>
          <a:prstGeom prst="rect">
            <a:avLst/>
          </a:prstGeom>
          <a:ln w="0">
            <a:noFill/>
          </a:ln>
        </p:spPr>
      </p:pic>
      <p:pic>
        <p:nvPicPr>
          <p:cNvPr id="1374" name="图片 80" descr="演-15.png"/>
          <p:cNvPicPr/>
          <p:nvPr/>
        </p:nvPicPr>
        <p:blipFill>
          <a:blip r:embed="rId43">
            <a:lum bright="100000"/>
          </a:blip>
          <a:srcRect l="-20578" t="-17717" r="-20578" b="-17717"/>
          <a:stretch/>
        </p:blipFill>
        <p:spPr>
          <a:xfrm rot="20220000">
            <a:off x="7770960" y="4903920"/>
            <a:ext cx="136440" cy="123840"/>
          </a:xfrm>
          <a:prstGeom prst="rect">
            <a:avLst/>
          </a:prstGeom>
          <a:ln w="0">
            <a:noFill/>
          </a:ln>
        </p:spPr>
      </p:pic>
      <p:pic>
        <p:nvPicPr>
          <p:cNvPr id="1375" name="图片 81" descr="1.png"/>
          <p:cNvPicPr/>
          <p:nvPr/>
        </p:nvPicPr>
        <p:blipFill>
          <a:blip r:embed="rId44">
            <a:lum bright="100000"/>
          </a:blip>
          <a:srcRect l="-35404" t="-9761" r="-35404" b="-9761"/>
          <a:stretch/>
        </p:blipFill>
        <p:spPr>
          <a:xfrm rot="20220000">
            <a:off x="7748280" y="4557240"/>
            <a:ext cx="98280" cy="198720"/>
          </a:xfrm>
          <a:prstGeom prst="rect">
            <a:avLst/>
          </a:prstGeom>
          <a:ln w="0">
            <a:noFill/>
          </a:ln>
        </p:spPr>
      </p:pic>
      <p:pic>
        <p:nvPicPr>
          <p:cNvPr id="1376" name="图片 82" descr="2.png"/>
          <p:cNvPicPr/>
          <p:nvPr/>
        </p:nvPicPr>
        <p:blipFill>
          <a:blip r:embed="rId45">
            <a:lum bright="100000"/>
          </a:blip>
          <a:srcRect l="-24783" t="-48913" r="-24783" b="-48913"/>
          <a:stretch/>
        </p:blipFill>
        <p:spPr>
          <a:xfrm rot="20220000">
            <a:off x="7780320" y="4689000"/>
            <a:ext cx="122400" cy="63720"/>
          </a:xfrm>
          <a:prstGeom prst="rect">
            <a:avLst/>
          </a:prstGeom>
          <a:ln w="0">
            <a:noFill/>
          </a:ln>
        </p:spPr>
      </p:pic>
      <p:pic>
        <p:nvPicPr>
          <p:cNvPr id="1377" name="图片 83" descr="3.png"/>
          <p:cNvPicPr/>
          <p:nvPr/>
        </p:nvPicPr>
        <p:blipFill>
          <a:blip r:embed="rId46">
            <a:lum bright="100000"/>
          </a:blip>
          <a:srcRect l="-26027" t="-10274" r="-26027" b="-10274"/>
          <a:stretch/>
        </p:blipFill>
        <p:spPr>
          <a:xfrm rot="20220000">
            <a:off x="7811640" y="4683240"/>
            <a:ext cx="115920" cy="188640"/>
          </a:xfrm>
          <a:prstGeom prst="rect">
            <a:avLst/>
          </a:prstGeom>
          <a:ln w="0">
            <a:noFill/>
          </a:ln>
        </p:spPr>
      </p:pic>
      <p:pic>
        <p:nvPicPr>
          <p:cNvPr id="1378" name="图片 84" descr="4.png"/>
          <p:cNvPicPr/>
          <p:nvPr/>
        </p:nvPicPr>
        <p:blipFill>
          <a:blip r:embed="rId47">
            <a:lum bright="100000"/>
          </a:blip>
          <a:srcRect l="-24783" t="-26012" r="-24783" b="-26012"/>
          <a:stretch/>
        </p:blipFill>
        <p:spPr>
          <a:xfrm rot="20220000">
            <a:off x="7835760" y="4760640"/>
            <a:ext cx="120960" cy="95040"/>
          </a:xfrm>
          <a:prstGeom prst="rect">
            <a:avLst/>
          </a:prstGeom>
          <a:ln w="0">
            <a:noFill/>
          </a:ln>
        </p:spPr>
      </p:pic>
      <p:pic>
        <p:nvPicPr>
          <p:cNvPr id="1379" name="图片 85" descr="5.png"/>
          <p:cNvPicPr/>
          <p:nvPr/>
        </p:nvPicPr>
        <p:blipFill>
          <a:blip r:embed="rId48">
            <a:lum bright="100000"/>
          </a:blip>
          <a:srcRect l="-35404" t="-8671" r="-35404" b="-8671"/>
          <a:stretch/>
        </p:blipFill>
        <p:spPr>
          <a:xfrm rot="20220000">
            <a:off x="7883640" y="4764240"/>
            <a:ext cx="101520" cy="214200"/>
          </a:xfrm>
          <a:prstGeom prst="rect">
            <a:avLst/>
          </a:prstGeom>
          <a:ln w="0">
            <a:noFill/>
          </a:ln>
        </p:spPr>
      </p:pic>
      <p:pic>
        <p:nvPicPr>
          <p:cNvPr id="1380" name="图片 86" descr="6.png"/>
          <p:cNvPicPr/>
          <p:nvPr/>
        </p:nvPicPr>
        <p:blipFill>
          <a:blip r:embed="rId49">
            <a:lum bright="100000"/>
          </a:blip>
          <a:srcRect l="-18328" t="-3277" r="-18328" b="-3277"/>
          <a:stretch/>
        </p:blipFill>
        <p:spPr>
          <a:xfrm rot="20220000">
            <a:off x="7824960" y="4464000"/>
            <a:ext cx="152280" cy="517680"/>
          </a:xfrm>
          <a:prstGeom prst="rect">
            <a:avLst/>
          </a:prstGeom>
          <a:ln w="0">
            <a:noFill/>
          </a:ln>
        </p:spPr>
      </p:pic>
      <p:pic>
        <p:nvPicPr>
          <p:cNvPr id="1381" name="图片 87" descr="7.png"/>
          <p:cNvPicPr/>
          <p:nvPr/>
        </p:nvPicPr>
        <p:blipFill>
          <a:blip r:embed="rId50">
            <a:lum bright="100000"/>
          </a:blip>
          <a:srcRect l="-9329" t="-4644" r="-9329" b="-4644"/>
          <a:stretch/>
        </p:blipFill>
        <p:spPr>
          <a:xfrm rot="20220000">
            <a:off x="7803720" y="4431960"/>
            <a:ext cx="257400" cy="374760"/>
          </a:xfrm>
          <a:prstGeom prst="rect">
            <a:avLst/>
          </a:prstGeom>
          <a:ln w="0">
            <a:noFill/>
          </a:ln>
        </p:spPr>
      </p:pic>
      <p:pic>
        <p:nvPicPr>
          <p:cNvPr id="1382" name="图片 88" descr="8.png"/>
          <p:cNvPicPr/>
          <p:nvPr/>
        </p:nvPicPr>
        <p:blipFill>
          <a:blip r:embed="rId51">
            <a:lum bright="100000"/>
          </a:blip>
          <a:srcRect l="-18328" t="-9761" r="-18328" b="-9761"/>
          <a:stretch/>
        </p:blipFill>
        <p:spPr>
          <a:xfrm rot="20220000">
            <a:off x="7804080" y="4630320"/>
            <a:ext cx="152640" cy="195480"/>
          </a:xfrm>
          <a:prstGeom prst="rect">
            <a:avLst/>
          </a:prstGeom>
          <a:ln w="0">
            <a:noFill/>
          </a:ln>
        </p:spPr>
      </p:pic>
      <p:pic>
        <p:nvPicPr>
          <p:cNvPr id="1383" name="图片 89" descr="9.png"/>
          <p:cNvPicPr/>
          <p:nvPr/>
        </p:nvPicPr>
        <p:blipFill>
          <a:blip r:embed="rId52">
            <a:lum bright="100000"/>
          </a:blip>
          <a:srcRect l="-7161" t="-10539" r="-7161" b="-10539"/>
          <a:stretch/>
        </p:blipFill>
        <p:spPr>
          <a:xfrm rot="20220000">
            <a:off x="7895880" y="4551120"/>
            <a:ext cx="325440" cy="185760"/>
          </a:xfrm>
          <a:prstGeom prst="rect">
            <a:avLst/>
          </a:prstGeom>
          <a:ln w="0">
            <a:noFill/>
          </a:ln>
        </p:spPr>
      </p:pic>
      <p:pic>
        <p:nvPicPr>
          <p:cNvPr id="1384" name="图片 90" descr="10.png"/>
          <p:cNvPicPr/>
          <p:nvPr/>
        </p:nvPicPr>
        <p:blipFill>
          <a:blip r:embed="rId53">
            <a:lum bright="100000"/>
          </a:blip>
          <a:srcRect l="-7374" t="-24457" r="-7374" b="-24457"/>
          <a:stretch/>
        </p:blipFill>
        <p:spPr>
          <a:xfrm rot="20220000">
            <a:off x="7934400" y="4659120"/>
            <a:ext cx="314280" cy="98280"/>
          </a:xfrm>
          <a:prstGeom prst="rect">
            <a:avLst/>
          </a:prstGeom>
          <a:ln w="0">
            <a:noFill/>
          </a:ln>
        </p:spPr>
      </p:pic>
      <p:pic>
        <p:nvPicPr>
          <p:cNvPr id="1385" name="图片 91" descr="11.png"/>
          <p:cNvPicPr/>
          <p:nvPr/>
        </p:nvPicPr>
        <p:blipFill>
          <a:blip r:embed="rId54">
            <a:lum bright="100000"/>
          </a:blip>
          <a:srcRect l="-9694" t="-30000" r="-9694" b="-30000"/>
          <a:stretch/>
        </p:blipFill>
        <p:spPr>
          <a:xfrm rot="20220000">
            <a:off x="7929360" y="4659480"/>
            <a:ext cx="247320" cy="87120"/>
          </a:xfrm>
          <a:prstGeom prst="rect">
            <a:avLst/>
          </a:prstGeom>
          <a:ln w="0">
            <a:noFill/>
          </a:ln>
        </p:spPr>
      </p:pic>
      <p:pic>
        <p:nvPicPr>
          <p:cNvPr id="1386" name="图片 92" descr="12.png"/>
          <p:cNvPicPr/>
          <p:nvPr/>
        </p:nvPicPr>
        <p:blipFill>
          <a:blip r:embed="rId55">
            <a:lum bright="100000"/>
          </a:blip>
          <a:srcRect l="-10517" t="-7087" r="-10517" b="-7087"/>
          <a:stretch/>
        </p:blipFill>
        <p:spPr>
          <a:xfrm rot="20220000">
            <a:off x="7984800" y="4642920"/>
            <a:ext cx="233280" cy="257400"/>
          </a:xfrm>
          <a:prstGeom prst="rect">
            <a:avLst/>
          </a:prstGeom>
          <a:ln w="0">
            <a:noFill/>
          </a:ln>
        </p:spPr>
      </p:pic>
      <p:pic>
        <p:nvPicPr>
          <p:cNvPr id="1387" name="图片 93" descr="13.png"/>
          <p:cNvPicPr/>
          <p:nvPr/>
        </p:nvPicPr>
        <p:blipFill>
          <a:blip r:embed="rId56">
            <a:lum bright="100000"/>
          </a:blip>
          <a:srcRect l="-10983" t="-10539" r="-10983" b="-10539"/>
          <a:stretch/>
        </p:blipFill>
        <p:spPr>
          <a:xfrm rot="20220000">
            <a:off x="8002440" y="4716360"/>
            <a:ext cx="223920" cy="182520"/>
          </a:xfrm>
          <a:prstGeom prst="rect">
            <a:avLst/>
          </a:prstGeom>
          <a:ln w="0">
            <a:noFill/>
          </a:ln>
        </p:spPr>
      </p:pic>
      <p:pic>
        <p:nvPicPr>
          <p:cNvPr id="1388" name="图片 94" descr="14.png"/>
          <p:cNvPicPr/>
          <p:nvPr/>
        </p:nvPicPr>
        <p:blipFill>
          <a:blip r:embed="rId57">
            <a:lum bright="100000"/>
          </a:blip>
          <a:srcRect l="-21509" t="-14469" r="-21509" b="-14469"/>
          <a:stretch/>
        </p:blipFill>
        <p:spPr>
          <a:xfrm rot="20220000">
            <a:off x="8047080" y="4611600"/>
            <a:ext cx="133200" cy="139680"/>
          </a:xfrm>
          <a:prstGeom prst="rect">
            <a:avLst/>
          </a:prstGeom>
          <a:ln w="0">
            <a:noFill/>
          </a:ln>
        </p:spPr>
      </p:pic>
      <p:pic>
        <p:nvPicPr>
          <p:cNvPr id="1389" name="图片 95" descr="15.png"/>
          <p:cNvPicPr/>
          <p:nvPr/>
        </p:nvPicPr>
        <p:blipFill>
          <a:blip r:embed="rId58">
            <a:lum bright="100000"/>
          </a:blip>
          <a:srcRect l="-49565" t="-3612" r="-49565" b="-3612"/>
          <a:stretch/>
        </p:blipFill>
        <p:spPr>
          <a:xfrm rot="20220000">
            <a:off x="8113680" y="4606920"/>
            <a:ext cx="84240" cy="473040"/>
          </a:xfrm>
          <a:prstGeom prst="rect">
            <a:avLst/>
          </a:prstGeom>
          <a:ln w="0">
            <a:noFill/>
          </a:ln>
        </p:spPr>
      </p:pic>
      <p:pic>
        <p:nvPicPr>
          <p:cNvPr id="1390" name="图片 96" descr="1.png"/>
          <p:cNvPicPr/>
          <p:nvPr/>
        </p:nvPicPr>
        <p:blipFill>
          <a:blip r:embed="rId59">
            <a:lum bright="100000"/>
          </a:blip>
          <a:srcRect l="-32948" t="-56250" r="-32948" b="-56250"/>
          <a:stretch/>
        </p:blipFill>
        <p:spPr>
          <a:xfrm rot="20220000">
            <a:off x="7408800" y="5398560"/>
            <a:ext cx="100080" cy="65160"/>
          </a:xfrm>
          <a:prstGeom prst="rect">
            <a:avLst/>
          </a:prstGeom>
          <a:ln w="0">
            <a:noFill/>
          </a:ln>
        </p:spPr>
      </p:pic>
      <p:pic>
        <p:nvPicPr>
          <p:cNvPr id="1391" name="图片 97" descr="2.png"/>
          <p:cNvPicPr/>
          <p:nvPr/>
        </p:nvPicPr>
        <p:blipFill>
          <a:blip r:embed="rId60">
            <a:lum bright="100000"/>
          </a:blip>
          <a:srcRect l="-16474" t="-6503" r="-16474" b="-6503"/>
          <a:stretch/>
        </p:blipFill>
        <p:spPr>
          <a:xfrm rot="20220000">
            <a:off x="7405560" y="5425920"/>
            <a:ext cx="160560" cy="276480"/>
          </a:xfrm>
          <a:prstGeom prst="rect">
            <a:avLst/>
          </a:prstGeom>
          <a:ln w="0">
            <a:noFill/>
          </a:ln>
        </p:spPr>
      </p:pic>
      <p:pic>
        <p:nvPicPr>
          <p:cNvPr id="1392" name="图片 98" descr="3.png"/>
          <p:cNvPicPr/>
          <p:nvPr/>
        </p:nvPicPr>
        <p:blipFill>
          <a:blip r:embed="rId61">
            <a:lum bright="100000"/>
          </a:blip>
          <a:srcRect l="-13735" t="-12605" r="-13735" b="-12605"/>
          <a:stretch/>
        </p:blipFill>
        <p:spPr>
          <a:xfrm rot="20220000">
            <a:off x="7431120" y="5535360"/>
            <a:ext cx="189000" cy="158760"/>
          </a:xfrm>
          <a:prstGeom prst="rect">
            <a:avLst/>
          </a:prstGeom>
          <a:ln w="0">
            <a:noFill/>
          </a:ln>
        </p:spPr>
      </p:pic>
      <p:pic>
        <p:nvPicPr>
          <p:cNvPr id="1393" name="图片 99" descr="4.png"/>
          <p:cNvPicPr/>
          <p:nvPr/>
        </p:nvPicPr>
        <p:blipFill>
          <a:blip r:embed="rId62">
            <a:lum bright="100000"/>
          </a:blip>
          <a:srcRect l="-20578" t="-6098" r="-20578" b="-6098"/>
          <a:stretch/>
        </p:blipFill>
        <p:spPr>
          <a:xfrm rot="20220000">
            <a:off x="7507080" y="5520960"/>
            <a:ext cx="141120" cy="295200"/>
          </a:xfrm>
          <a:prstGeom prst="rect">
            <a:avLst/>
          </a:prstGeom>
          <a:ln w="0">
            <a:noFill/>
          </a:ln>
        </p:spPr>
      </p:pic>
      <p:pic>
        <p:nvPicPr>
          <p:cNvPr id="1394" name="图片 100" descr="5.png"/>
          <p:cNvPicPr/>
          <p:nvPr/>
        </p:nvPicPr>
        <p:blipFill>
          <a:blip r:embed="rId63">
            <a:lum bright="100000"/>
          </a:blip>
          <a:srcRect l="-14109" t="-9514" r="-14109" b="-9514"/>
          <a:stretch/>
        </p:blipFill>
        <p:spPr>
          <a:xfrm rot="20220000">
            <a:off x="7524720" y="5602320"/>
            <a:ext cx="185760" cy="200160"/>
          </a:xfrm>
          <a:prstGeom prst="rect">
            <a:avLst/>
          </a:prstGeom>
          <a:ln w="0">
            <a:noFill/>
          </a:ln>
        </p:spPr>
      </p:pic>
      <p:pic>
        <p:nvPicPr>
          <p:cNvPr id="1395" name="图片 101" descr="7.png"/>
          <p:cNvPicPr/>
          <p:nvPr/>
        </p:nvPicPr>
        <p:blipFill>
          <a:blip r:embed="rId64">
            <a:lum bright="100000"/>
          </a:blip>
          <a:srcRect l="-16474" t="-21739" r="-16474" b="-21739"/>
          <a:stretch/>
        </p:blipFill>
        <p:spPr>
          <a:xfrm rot="20220000">
            <a:off x="7591320" y="5464080"/>
            <a:ext cx="160560" cy="106560"/>
          </a:xfrm>
          <a:prstGeom prst="rect">
            <a:avLst/>
          </a:prstGeom>
          <a:ln w="0">
            <a:noFill/>
          </a:ln>
        </p:spPr>
      </p:pic>
      <p:pic>
        <p:nvPicPr>
          <p:cNvPr id="1396" name="图片 102" descr="8.png"/>
          <p:cNvPicPr/>
          <p:nvPr/>
        </p:nvPicPr>
        <p:blipFill>
          <a:blip r:embed="rId65">
            <a:lum bright="100000"/>
          </a:blip>
          <a:srcRect l="-21509" t="-5569" r="-21509" b="-5569"/>
          <a:stretch/>
        </p:blipFill>
        <p:spPr>
          <a:xfrm rot="20220000">
            <a:off x="7695720" y="5433480"/>
            <a:ext cx="133560" cy="317520"/>
          </a:xfrm>
          <a:prstGeom prst="rect">
            <a:avLst/>
          </a:prstGeom>
          <a:ln w="0">
            <a:noFill/>
          </a:ln>
        </p:spPr>
      </p:pic>
      <p:pic>
        <p:nvPicPr>
          <p:cNvPr id="1397" name="图片 103" descr="9.png"/>
          <p:cNvPicPr/>
          <p:nvPr/>
        </p:nvPicPr>
        <p:blipFill>
          <a:blip r:embed="rId66">
            <a:lum bright="100000"/>
          </a:blip>
          <a:srcRect l="-27536" t="-16245" r="-27536" b="-16245"/>
          <a:stretch/>
        </p:blipFill>
        <p:spPr>
          <a:xfrm rot="20220000">
            <a:off x="7684560" y="5640120"/>
            <a:ext cx="115920" cy="129960"/>
          </a:xfrm>
          <a:prstGeom prst="rect">
            <a:avLst/>
          </a:prstGeom>
          <a:ln w="0">
            <a:noFill/>
          </a:ln>
        </p:spPr>
      </p:pic>
      <p:pic>
        <p:nvPicPr>
          <p:cNvPr id="1398" name="图片 104" descr="6.png"/>
          <p:cNvPicPr/>
          <p:nvPr/>
        </p:nvPicPr>
        <p:blipFill>
          <a:blip r:embed="rId67">
            <a:lum bright="100000"/>
          </a:blip>
          <a:srcRect l="-35404" t="-14469" r="-35404" b="-14469"/>
          <a:stretch/>
        </p:blipFill>
        <p:spPr>
          <a:xfrm rot="20220000">
            <a:off x="7621200" y="5583240"/>
            <a:ext cx="98280" cy="141120"/>
          </a:xfrm>
          <a:prstGeom prst="rect">
            <a:avLst/>
          </a:prstGeom>
          <a:ln w="0">
            <a:noFill/>
          </a:ln>
        </p:spPr>
      </p:pic>
      <p:pic>
        <p:nvPicPr>
          <p:cNvPr id="1399" name="图片 105" descr="1.png"/>
          <p:cNvPicPr/>
          <p:nvPr/>
        </p:nvPicPr>
        <p:blipFill>
          <a:blip r:embed="rId68">
            <a:lum bright="100000"/>
          </a:blip>
          <a:srcRect l="-22441" t="-16981" r="-22441" b="-16981"/>
          <a:stretch/>
        </p:blipFill>
        <p:spPr>
          <a:xfrm rot="20220000">
            <a:off x="7785000" y="5424480"/>
            <a:ext cx="131760" cy="128520"/>
          </a:xfrm>
          <a:prstGeom prst="rect">
            <a:avLst/>
          </a:prstGeom>
          <a:ln w="0">
            <a:noFill/>
          </a:ln>
        </p:spPr>
      </p:pic>
      <p:pic>
        <p:nvPicPr>
          <p:cNvPr id="1400" name="图片 106" descr="2.png"/>
          <p:cNvPicPr/>
          <p:nvPr/>
        </p:nvPicPr>
        <p:blipFill>
          <a:blip r:embed="rId69">
            <a:lum bright="100000"/>
          </a:blip>
          <a:srcRect l="-41304" t="-11480" r="-41304" b="-11480"/>
          <a:stretch/>
        </p:blipFill>
        <p:spPr>
          <a:xfrm rot="20220000">
            <a:off x="7848720" y="5363640"/>
            <a:ext cx="87120" cy="173160"/>
          </a:xfrm>
          <a:prstGeom prst="rect">
            <a:avLst/>
          </a:prstGeom>
          <a:ln w="0">
            <a:noFill/>
          </a:ln>
        </p:spPr>
      </p:pic>
      <p:pic>
        <p:nvPicPr>
          <p:cNvPr id="1401" name="图片 107" descr="3.png"/>
          <p:cNvPicPr/>
          <p:nvPr/>
        </p:nvPicPr>
        <p:blipFill>
          <a:blip r:embed="rId70">
            <a:lum bright="100000"/>
          </a:blip>
          <a:srcRect l="-24783" t="-6000" r="-24783" b="-6000"/>
          <a:stretch/>
        </p:blipFill>
        <p:spPr>
          <a:xfrm rot="20220000">
            <a:off x="7851600" y="5361120"/>
            <a:ext cx="120960" cy="298440"/>
          </a:xfrm>
          <a:prstGeom prst="rect">
            <a:avLst/>
          </a:prstGeom>
          <a:ln w="0">
            <a:noFill/>
          </a:ln>
        </p:spPr>
      </p:pic>
      <p:pic>
        <p:nvPicPr>
          <p:cNvPr id="1402" name="图片 108" descr="4.png"/>
          <p:cNvPicPr/>
          <p:nvPr/>
        </p:nvPicPr>
        <p:blipFill>
          <a:blip r:embed="rId71">
            <a:lum bright="100000"/>
          </a:blip>
          <a:srcRect l="-19000" t="-14469" r="-19000" b="-14469"/>
          <a:stretch/>
        </p:blipFill>
        <p:spPr>
          <a:xfrm rot="20220000">
            <a:off x="7887960" y="5352840"/>
            <a:ext cx="147600" cy="145800"/>
          </a:xfrm>
          <a:prstGeom prst="rect">
            <a:avLst/>
          </a:prstGeom>
          <a:ln w="0">
            <a:noFill/>
          </a:ln>
        </p:spPr>
      </p:pic>
      <p:pic>
        <p:nvPicPr>
          <p:cNvPr id="1403" name="图片 109" descr="5.png"/>
          <p:cNvPicPr/>
          <p:nvPr/>
        </p:nvPicPr>
        <p:blipFill>
          <a:blip r:embed="rId72">
            <a:lum bright="100000"/>
          </a:blip>
          <a:srcRect l="-17066" t="-11811" r="-17066" b="-11811"/>
          <a:stretch/>
        </p:blipFill>
        <p:spPr>
          <a:xfrm rot="20220000">
            <a:off x="7926480" y="5433840"/>
            <a:ext cx="156960" cy="168480"/>
          </a:xfrm>
          <a:prstGeom prst="rect">
            <a:avLst/>
          </a:prstGeom>
          <a:ln w="0">
            <a:noFill/>
          </a:ln>
        </p:spPr>
      </p:pic>
      <p:pic>
        <p:nvPicPr>
          <p:cNvPr id="1404" name="图片 110" descr="6.png"/>
          <p:cNvPicPr/>
          <p:nvPr/>
        </p:nvPicPr>
        <p:blipFill>
          <a:blip r:embed="rId73">
            <a:lum bright="100000"/>
          </a:blip>
          <a:srcRect l="-49565" t="-16981" r="-49565" b="-16981"/>
          <a:stretch/>
        </p:blipFill>
        <p:spPr>
          <a:xfrm rot="20220000">
            <a:off x="8013600" y="5452560"/>
            <a:ext cx="79560" cy="125640"/>
          </a:xfrm>
          <a:prstGeom prst="rect">
            <a:avLst/>
          </a:prstGeom>
          <a:ln w="0">
            <a:noFill/>
          </a:ln>
        </p:spPr>
      </p:pic>
      <p:pic>
        <p:nvPicPr>
          <p:cNvPr id="1405" name="图片 111" descr="7.png"/>
          <p:cNvPicPr/>
          <p:nvPr/>
        </p:nvPicPr>
        <p:blipFill>
          <a:blip r:embed="rId74">
            <a:lum bright="100000"/>
          </a:blip>
          <a:srcRect l="-10088" t="-14469" r="-10088" b="-14469"/>
          <a:stretch/>
        </p:blipFill>
        <p:spPr>
          <a:xfrm rot="20220000">
            <a:off x="7934400" y="5219640"/>
            <a:ext cx="239760" cy="141480"/>
          </a:xfrm>
          <a:prstGeom prst="rect">
            <a:avLst/>
          </a:prstGeom>
          <a:ln w="0">
            <a:noFill/>
          </a:ln>
        </p:spPr>
      </p:pic>
      <p:pic>
        <p:nvPicPr>
          <p:cNvPr id="1406" name="图片 112" descr="8.png"/>
          <p:cNvPicPr/>
          <p:nvPr/>
        </p:nvPicPr>
        <p:blipFill>
          <a:blip r:embed="rId75">
            <a:lum bright="100000"/>
          </a:blip>
          <a:srcRect l="-10983" t="-3145" r="-10983" b="-3145"/>
          <a:stretch/>
        </p:blipFill>
        <p:spPr>
          <a:xfrm rot="20220000">
            <a:off x="8030880" y="5213520"/>
            <a:ext cx="225360" cy="537840"/>
          </a:xfrm>
          <a:prstGeom prst="rect">
            <a:avLst/>
          </a:prstGeom>
          <a:ln w="0">
            <a:noFill/>
          </a:ln>
        </p:spPr>
      </p:pic>
      <p:pic>
        <p:nvPicPr>
          <p:cNvPr id="1407" name="图片 113" descr="1.png"/>
          <p:cNvPicPr/>
          <p:nvPr/>
        </p:nvPicPr>
        <p:blipFill>
          <a:blip r:embed="rId76">
            <a:lum bright="100000"/>
          </a:blip>
          <a:srcRect l="-24783" t="-7500" r="-24783" b="-7500"/>
          <a:stretch/>
        </p:blipFill>
        <p:spPr>
          <a:xfrm rot="20220000">
            <a:off x="8174160" y="5143320"/>
            <a:ext cx="120600" cy="242640"/>
          </a:xfrm>
          <a:prstGeom prst="rect">
            <a:avLst/>
          </a:prstGeom>
          <a:ln w="0">
            <a:noFill/>
          </a:ln>
        </p:spPr>
      </p:pic>
      <p:pic>
        <p:nvPicPr>
          <p:cNvPr id="1408" name="图片 114" descr="2.png"/>
          <p:cNvPicPr/>
          <p:nvPr/>
        </p:nvPicPr>
        <p:blipFill>
          <a:blip r:embed="rId77">
            <a:lum bright="100000"/>
          </a:blip>
          <a:srcRect l="-35404" t="-20548" r="-35404" b="-20548"/>
          <a:stretch/>
        </p:blipFill>
        <p:spPr>
          <a:xfrm rot="20220000">
            <a:off x="8209080" y="5271840"/>
            <a:ext cx="98280" cy="110880"/>
          </a:xfrm>
          <a:prstGeom prst="rect">
            <a:avLst/>
          </a:prstGeom>
          <a:ln w="0">
            <a:noFill/>
          </a:ln>
        </p:spPr>
      </p:pic>
      <p:pic>
        <p:nvPicPr>
          <p:cNvPr id="1409" name="图片 115" descr="3.png"/>
          <p:cNvPicPr/>
          <p:nvPr/>
        </p:nvPicPr>
        <p:blipFill>
          <a:blip r:embed="rId78">
            <a:lum bright="100000"/>
          </a:blip>
          <a:srcRect l="-38000" t="-7500" r="-38000" b="-7500"/>
          <a:stretch/>
        </p:blipFill>
        <p:spPr>
          <a:xfrm rot="20220000">
            <a:off x="8280000" y="5253120"/>
            <a:ext cx="92160" cy="242640"/>
          </a:xfrm>
          <a:prstGeom prst="rect">
            <a:avLst/>
          </a:prstGeom>
          <a:ln w="0">
            <a:noFill/>
          </a:ln>
        </p:spPr>
      </p:pic>
      <p:pic>
        <p:nvPicPr>
          <p:cNvPr id="1410" name="图片 116" descr="4.png"/>
          <p:cNvPicPr/>
          <p:nvPr/>
        </p:nvPicPr>
        <p:blipFill>
          <a:blip r:embed="rId79">
            <a:lum bright="100000"/>
          </a:blip>
          <a:srcRect l="-11492" t="-17717" r="-11492" b="-17717"/>
          <a:stretch/>
        </p:blipFill>
        <p:spPr>
          <a:xfrm rot="20220000">
            <a:off x="8238960" y="5105160"/>
            <a:ext cx="219240" cy="120600"/>
          </a:xfrm>
          <a:prstGeom prst="rect">
            <a:avLst/>
          </a:prstGeom>
          <a:ln w="0">
            <a:noFill/>
          </a:ln>
        </p:spPr>
      </p:pic>
      <p:pic>
        <p:nvPicPr>
          <p:cNvPr id="1411" name="图片 117" descr="5.png"/>
          <p:cNvPicPr/>
          <p:nvPr/>
        </p:nvPicPr>
        <p:blipFill>
          <a:blip r:embed="rId80">
            <a:lum bright="100000"/>
          </a:blip>
          <a:srcRect l="-14109" t="-7965" r="-14109" b="-7965"/>
          <a:stretch/>
        </p:blipFill>
        <p:spPr>
          <a:xfrm rot="20220000">
            <a:off x="8299080" y="5090760"/>
            <a:ext cx="182520" cy="231840"/>
          </a:xfrm>
          <a:prstGeom prst="rect">
            <a:avLst/>
          </a:prstGeom>
          <a:ln w="0">
            <a:noFill/>
          </a:ln>
        </p:spPr>
      </p:pic>
      <p:pic>
        <p:nvPicPr>
          <p:cNvPr id="1412" name="图片 118" descr="6.png"/>
          <p:cNvPicPr/>
          <p:nvPr/>
        </p:nvPicPr>
        <p:blipFill>
          <a:blip r:embed="rId81">
            <a:lum bright="100000"/>
          </a:blip>
          <a:stretch/>
        </p:blipFill>
        <p:spPr>
          <a:xfrm rot="20220000">
            <a:off x="8368920" y="5038200"/>
            <a:ext cx="38160" cy="276480"/>
          </a:xfrm>
          <a:prstGeom prst="rect">
            <a:avLst/>
          </a:prstGeom>
          <a:ln w="0">
            <a:noFill/>
          </a:ln>
        </p:spPr>
      </p:pic>
      <p:pic>
        <p:nvPicPr>
          <p:cNvPr id="1413" name="图片 119" descr="7.png"/>
          <p:cNvPicPr/>
          <p:nvPr/>
        </p:nvPicPr>
        <p:blipFill>
          <a:blip r:embed="rId82">
            <a:lum bright="100000"/>
          </a:blip>
          <a:srcRect l="-15447" t="-39130" r="-15447" b="-39130"/>
          <a:stretch/>
        </p:blipFill>
        <p:spPr>
          <a:xfrm rot="20220000">
            <a:off x="8393040" y="5232240"/>
            <a:ext cx="169920" cy="69840"/>
          </a:xfrm>
          <a:prstGeom prst="rect">
            <a:avLst/>
          </a:prstGeom>
          <a:ln w="0">
            <a:noFill/>
          </a:ln>
        </p:spPr>
      </p:pic>
      <p:pic>
        <p:nvPicPr>
          <p:cNvPr id="1414" name="图片 120" descr="8.png"/>
          <p:cNvPicPr/>
          <p:nvPr/>
        </p:nvPicPr>
        <p:blipFill>
          <a:blip r:embed="rId83">
            <a:lum bright="100000"/>
          </a:blip>
          <a:srcRect l="-13349" t="-9073" r="-13349" b="-9073"/>
          <a:stretch/>
        </p:blipFill>
        <p:spPr>
          <a:xfrm rot="20220000">
            <a:off x="8405280" y="5230800"/>
            <a:ext cx="190800" cy="209520"/>
          </a:xfrm>
          <a:prstGeom prst="rect">
            <a:avLst/>
          </a:prstGeom>
          <a:ln w="0">
            <a:noFill/>
          </a:ln>
        </p:spPr>
      </p:pic>
      <p:pic>
        <p:nvPicPr>
          <p:cNvPr id="1415" name="图片 121" descr="9.png"/>
          <p:cNvPicPr/>
          <p:nvPr/>
        </p:nvPicPr>
        <p:blipFill>
          <a:blip r:embed="rId84">
            <a:lum bright="100000"/>
          </a:blip>
          <a:srcRect l="-13014" t="-30000" r="-13014" b="-30000"/>
          <a:stretch/>
        </p:blipFill>
        <p:spPr>
          <a:xfrm rot="20220000">
            <a:off x="8431200" y="5354280"/>
            <a:ext cx="193680" cy="84240"/>
          </a:xfrm>
          <a:prstGeom prst="rect">
            <a:avLst/>
          </a:prstGeom>
          <a:ln w="0">
            <a:noFill/>
          </a:ln>
        </p:spPr>
      </p:pic>
      <p:pic>
        <p:nvPicPr>
          <p:cNvPr id="1416" name="图片 122" descr="1.png"/>
          <p:cNvPicPr/>
          <p:nvPr/>
        </p:nvPicPr>
        <p:blipFill>
          <a:blip r:embed="rId85">
            <a:lum bright="100000"/>
          </a:blip>
          <a:stretch/>
        </p:blipFill>
        <p:spPr>
          <a:xfrm rot="20220000">
            <a:off x="8521560" y="4925520"/>
            <a:ext cx="154080" cy="68400"/>
          </a:xfrm>
          <a:prstGeom prst="rect">
            <a:avLst/>
          </a:prstGeom>
          <a:ln w="0">
            <a:noFill/>
          </a:ln>
        </p:spPr>
      </p:pic>
      <p:pic>
        <p:nvPicPr>
          <p:cNvPr id="1417" name="图片 123" descr="2.png"/>
          <p:cNvPicPr/>
          <p:nvPr/>
        </p:nvPicPr>
        <p:blipFill>
          <a:blip r:embed="rId86">
            <a:lum bright="100000"/>
          </a:blip>
          <a:stretch/>
        </p:blipFill>
        <p:spPr>
          <a:xfrm rot="20220000">
            <a:off x="8577360" y="4863600"/>
            <a:ext cx="81000" cy="236520"/>
          </a:xfrm>
          <a:prstGeom prst="rect">
            <a:avLst/>
          </a:prstGeom>
          <a:ln w="0">
            <a:noFill/>
          </a:ln>
        </p:spPr>
      </p:pic>
      <p:pic>
        <p:nvPicPr>
          <p:cNvPr id="1418" name="图片 124" descr="3.png"/>
          <p:cNvPicPr/>
          <p:nvPr/>
        </p:nvPicPr>
        <p:blipFill>
          <a:blip r:embed="rId87">
            <a:lum bright="100000"/>
          </a:blip>
          <a:stretch/>
        </p:blipFill>
        <p:spPr>
          <a:xfrm rot="20220000">
            <a:off x="8597880" y="4960440"/>
            <a:ext cx="136440" cy="122400"/>
          </a:xfrm>
          <a:prstGeom prst="rect">
            <a:avLst/>
          </a:prstGeom>
          <a:ln w="0">
            <a:noFill/>
          </a:ln>
        </p:spPr>
      </p:pic>
      <p:pic>
        <p:nvPicPr>
          <p:cNvPr id="1419" name="图片 125" descr="4.png"/>
          <p:cNvPicPr/>
          <p:nvPr/>
        </p:nvPicPr>
        <p:blipFill>
          <a:blip r:embed="rId88">
            <a:lum bright="100000"/>
          </a:blip>
          <a:srcRect l="-20248" t="48553" r="0" b="0"/>
          <a:stretch/>
        </p:blipFill>
        <p:spPr>
          <a:xfrm rot="20220000">
            <a:off x="8636040" y="4998600"/>
            <a:ext cx="104760" cy="57240"/>
          </a:xfrm>
          <a:prstGeom prst="rect">
            <a:avLst/>
          </a:prstGeom>
          <a:ln w="0">
            <a:noFill/>
          </a:ln>
        </p:spPr>
      </p:pic>
      <p:pic>
        <p:nvPicPr>
          <p:cNvPr id="1420" name="图片 126" descr="5-1.png"/>
          <p:cNvPicPr/>
          <p:nvPr/>
        </p:nvPicPr>
        <p:blipFill>
          <a:blip r:embed="rId89">
            <a:lum bright="100000"/>
          </a:blip>
          <a:srcRect l="-24783" t="-32609" r="-24783" b="-32609"/>
          <a:stretch/>
        </p:blipFill>
        <p:spPr>
          <a:xfrm rot="20220000">
            <a:off x="8523360" y="5148360"/>
            <a:ext cx="119160" cy="83880"/>
          </a:xfrm>
          <a:prstGeom prst="rect">
            <a:avLst/>
          </a:prstGeom>
          <a:ln w="0">
            <a:noFill/>
          </a:ln>
        </p:spPr>
      </p:pic>
      <p:pic>
        <p:nvPicPr>
          <p:cNvPr id="1421" name="图片 127" descr="5-2.png"/>
          <p:cNvPicPr/>
          <p:nvPr/>
        </p:nvPicPr>
        <p:blipFill>
          <a:blip r:embed="rId90">
            <a:lum bright="100000"/>
          </a:blip>
          <a:stretch/>
        </p:blipFill>
        <p:spPr>
          <a:xfrm rot="20220000">
            <a:off x="8516880" y="5038200"/>
            <a:ext cx="276120" cy="140040"/>
          </a:xfrm>
          <a:prstGeom prst="rect">
            <a:avLst/>
          </a:prstGeom>
          <a:ln w="0">
            <a:noFill/>
          </a:ln>
        </p:spPr>
      </p:pic>
      <p:pic>
        <p:nvPicPr>
          <p:cNvPr id="1422" name="图片 128" descr="6.png"/>
          <p:cNvPicPr/>
          <p:nvPr/>
        </p:nvPicPr>
        <p:blipFill>
          <a:blip r:embed="rId91">
            <a:lum bright="100000"/>
          </a:blip>
          <a:stretch/>
        </p:blipFill>
        <p:spPr>
          <a:xfrm rot="20220000">
            <a:off x="8637120" y="5020920"/>
            <a:ext cx="171720" cy="244440"/>
          </a:xfrm>
          <a:prstGeom prst="rect">
            <a:avLst/>
          </a:prstGeom>
          <a:ln w="0">
            <a:noFill/>
          </a:ln>
        </p:spPr>
      </p:pic>
      <p:pic>
        <p:nvPicPr>
          <p:cNvPr id="1423" name="图片 129" descr="7.png"/>
          <p:cNvPicPr/>
          <p:nvPr/>
        </p:nvPicPr>
        <p:blipFill>
          <a:blip r:embed="rId92">
            <a:lum bright="100000"/>
          </a:blip>
          <a:stretch/>
        </p:blipFill>
        <p:spPr>
          <a:xfrm rot="20220000">
            <a:off x="8651880" y="5052600"/>
            <a:ext cx="181080" cy="184320"/>
          </a:xfrm>
          <a:prstGeom prst="rect">
            <a:avLst/>
          </a:prstGeom>
          <a:ln w="0">
            <a:noFill/>
          </a:ln>
        </p:spPr>
      </p:pic>
      <p:pic>
        <p:nvPicPr>
          <p:cNvPr id="1424" name="图片 130" descr="8.png"/>
          <p:cNvPicPr/>
          <p:nvPr/>
        </p:nvPicPr>
        <p:blipFill>
          <a:blip r:embed="rId93">
            <a:lum bright="100000"/>
          </a:blip>
          <a:stretch/>
        </p:blipFill>
        <p:spPr>
          <a:xfrm rot="20220000">
            <a:off x="8673840" y="5038560"/>
            <a:ext cx="164880" cy="254160"/>
          </a:xfrm>
          <a:prstGeom prst="rect">
            <a:avLst/>
          </a:prstGeom>
          <a:ln w="0">
            <a:noFill/>
          </a:ln>
        </p:spPr>
      </p:pic>
      <p:pic>
        <p:nvPicPr>
          <p:cNvPr id="1425" name="图片 131" descr="10.png"/>
          <p:cNvPicPr/>
          <p:nvPr/>
        </p:nvPicPr>
        <p:blipFill>
          <a:blip r:embed="rId94">
            <a:lum bright="100000"/>
          </a:blip>
          <a:stretch/>
        </p:blipFill>
        <p:spPr>
          <a:xfrm rot="20220000">
            <a:off x="8815320" y="5016240"/>
            <a:ext cx="42840" cy="342720"/>
          </a:xfrm>
          <a:prstGeom prst="rect">
            <a:avLst/>
          </a:prstGeom>
          <a:ln w="0">
            <a:noFill/>
          </a:ln>
        </p:spPr>
      </p:pic>
      <p:pic>
        <p:nvPicPr>
          <p:cNvPr id="1426" name="图片 132" descr="11.png"/>
          <p:cNvPicPr/>
          <p:nvPr/>
        </p:nvPicPr>
        <p:blipFill>
          <a:blip r:embed="rId95">
            <a:lum bright="100000"/>
          </a:blip>
          <a:srcRect l="-13253" t="-43689" r="-13253" b="-43689"/>
          <a:stretch/>
        </p:blipFill>
        <p:spPr>
          <a:xfrm rot="20220000">
            <a:off x="8733960" y="5330520"/>
            <a:ext cx="192240" cy="69840"/>
          </a:xfrm>
          <a:prstGeom prst="rect">
            <a:avLst/>
          </a:prstGeom>
          <a:ln w="0">
            <a:noFill/>
          </a:ln>
        </p:spPr>
      </p:pic>
      <p:sp>
        <p:nvSpPr>
          <p:cNvPr id="1427" name="TextBox 134"/>
          <p:cNvSpPr/>
          <p:nvPr/>
        </p:nvSpPr>
        <p:spPr>
          <a:xfrm>
            <a:off x="4286160" y="2438280"/>
            <a:ext cx="25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联系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TextBox 135"/>
          <p:cNvSpPr/>
          <p:nvPr/>
        </p:nvSpPr>
        <p:spPr>
          <a:xfrm>
            <a:off x="4286160" y="2857680"/>
            <a:ext cx="3357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E-mail/MSN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4000">
    <p:fade/>
  </p:transition>
  <p:timing>
    <p:tnLst>
      <p:par>
        <p:cTn id="1975" dur="indefinite" restart="never" nodeType="tmRoot">
          <p:childTnLst>
            <p:seq>
              <p:cTn id="1976" dur="indefinite" nodeType="mainSeq">
                <p:childTnLst>
                  <p:par>
                    <p:cTn id="1977" nodeType="clickEffect" fill="hold">
                      <p:stCondLst>
                        <p:cond delay="0"/>
                      </p:stCondLst>
                      <p:childTnLst>
                        <p:par>
                          <p:cTn id="1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1" dur="10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5" dur="10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9" dur="10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3" dur="10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995" nodeType="afterEffect" fill="hold" presetClass="entr" presetID="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7" dur="2000" fill="hold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8" dur="2000" fill="hold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00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2" dur="10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04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6" dur="10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0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0" dur="5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1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0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4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18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0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2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6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7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0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30" dur="5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4" dur="3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5" nodeType="afterEffect" fill="hold">
                            <p:stCondLst>
                              <p:cond delay="14300"/>
                            </p:stCondLst>
                            <p:childTnLst>
                              <p:par>
                                <p:cTn id="20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8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9" nodeType="afterEffect" fill="hold">
                            <p:stCondLst>
                              <p:cond delay="14800"/>
                            </p:stCondLst>
                            <p:childTnLst>
                              <p:par>
                                <p:cTn id="20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2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3" nodeType="afterEffect" fill="hold">
                            <p:stCondLst>
                              <p:cond delay="15300"/>
                            </p:stCondLst>
                            <p:childTnLst>
                              <p:par>
                                <p:cTn id="20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46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7" nodeType="afterEffect" fill="hold">
                            <p:stCondLst>
                              <p:cond delay="15800"/>
                            </p:stCondLst>
                            <p:childTnLst>
                              <p:par>
                                <p:cTn id="20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0" dur="2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4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5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20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8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9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0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2" dur="2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3" nodeType="afterEffect" fill="hold">
                            <p:stCondLst>
                              <p:cond delay="17200"/>
                            </p:stCondLst>
                            <p:childTnLst>
                              <p:par>
                                <p:cTn id="20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6" dur="3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7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20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0" dur="3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1" nodeType="afterEffect" fill="hold">
                            <p:stCondLst>
                              <p:cond delay="17800"/>
                            </p:stCondLst>
                            <p:childTnLst>
                              <p:par>
                                <p:cTn id="20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4" dur="2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5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07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8" dur="10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9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208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2" dur="10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3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20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6" dur="5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7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20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0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1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20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4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5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20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8" dur="5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9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2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2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3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210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6" dur="1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7" nodeType="afterEffect" fill="hold">
                            <p:stCondLst>
                              <p:cond delay="24100"/>
                            </p:stCondLst>
                            <p:childTnLst>
                              <p:par>
                                <p:cTn id="2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0" dur="1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1" nodeType="afterEffect" fill="hold">
                            <p:stCondLst>
                              <p:cond delay="24200"/>
                            </p:stCondLst>
                            <p:childTnLst>
                              <p:par>
                                <p:cTn id="21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4" dur="1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5" nodeType="afterEffect" fill="hold">
                            <p:stCondLst>
                              <p:cond delay="24300"/>
                            </p:stCondLst>
                            <p:childTnLst>
                              <p:par>
                                <p:cTn id="2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8" dur="1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9" nodeType="afterEffect" fill="hold">
                            <p:stCondLst>
                              <p:cond delay="24400"/>
                            </p:stCondLst>
                            <p:childTnLst>
                              <p:par>
                                <p:cTn id="2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2" dur="1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3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2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6" dur="1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7" nodeType="afterEffect" fill="hold">
                            <p:stCondLst>
                              <p:cond delay="24600"/>
                            </p:stCondLst>
                            <p:childTnLst>
                              <p:par>
                                <p:cTn id="21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30" dur="1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1" nodeType="afterEffect" fill="hold">
                            <p:stCondLst>
                              <p:cond delay="24700"/>
                            </p:stCondLst>
                            <p:childTnLst>
                              <p:par>
                                <p:cTn id="21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4" dur="1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5" nodeType="afterEffect" fill="hold">
                            <p:stCondLst>
                              <p:cond delay="24800"/>
                            </p:stCondLst>
                            <p:childTnLst>
                              <p:par>
                                <p:cTn id="21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8" dur="1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9" nodeType="afterEffect" fill="hold">
                            <p:stCondLst>
                              <p:cond delay="24900"/>
                            </p:stCondLst>
                            <p:childTnLst>
                              <p:par>
                                <p:cTn id="21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2" dur="1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3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21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6" dur="1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7" nodeType="afterEffect" fill="hold">
                            <p:stCondLst>
                              <p:cond delay="25100"/>
                            </p:stCondLst>
                            <p:childTnLst>
                              <p:par>
                                <p:cTn id="2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0" dur="1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1" nodeType="afterEffect" fill="hold">
                            <p:stCondLst>
                              <p:cond delay="25200"/>
                            </p:stCondLst>
                            <p:childTnLst>
                              <p:par>
                                <p:cTn id="21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4" dur="1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5" nodeType="afterEffect" fill="hold">
                            <p:stCondLst>
                              <p:cond delay="25300"/>
                            </p:stCondLst>
                            <p:childTnLst>
                              <p:par>
                                <p:cTn id="2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8" dur="1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9" nodeType="afterEffect" fill="hold">
                            <p:stCondLst>
                              <p:cond delay="25400"/>
                            </p:stCondLst>
                            <p:childTnLst>
                              <p:par>
                                <p:cTn id="2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2" dur="1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3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2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6" dur="1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7" nodeType="afterEffect" fill="hold">
                            <p:stCondLst>
                              <p:cond delay="25600"/>
                            </p:stCondLst>
                            <p:childTnLst>
                              <p:par>
                                <p:cTn id="2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0" dur="1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1" nodeType="afterEffect" fill="hold">
                            <p:stCondLst>
                              <p:cond delay="25700"/>
                            </p:stCondLst>
                            <p:childTnLst>
                              <p:par>
                                <p:cTn id="21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4" dur="1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5" nodeType="afterEffect" fill="hold">
                            <p:stCondLst>
                              <p:cond delay="25800"/>
                            </p:stCondLst>
                            <p:childTnLst>
                              <p:par>
                                <p:cTn id="21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78" dur="1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9" nodeType="afterEffect" fill="hold">
                            <p:stCondLst>
                              <p:cond delay="25900"/>
                            </p:stCondLst>
                            <p:childTnLst>
                              <p:par>
                                <p:cTn id="21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2" dur="1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3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2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6" dur="1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7" nodeType="afterEffect" fill="hold">
                            <p:stCondLst>
                              <p:cond delay="26100"/>
                            </p:stCondLst>
                            <p:childTnLst>
                              <p:par>
                                <p:cTn id="21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0" dur="1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1" nodeType="afterEffect" fill="hold">
                            <p:stCondLst>
                              <p:cond delay="26200"/>
                            </p:stCondLst>
                            <p:childTnLst>
                              <p:par>
                                <p:cTn id="21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94" dur="1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5" nodeType="afterEffect" fill="hold">
                            <p:stCondLst>
                              <p:cond delay="26300"/>
                            </p:stCondLst>
                            <p:childTnLst>
                              <p:par>
                                <p:cTn id="21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8" dur="1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9" nodeType="afterEffect" fill="hold">
                            <p:stCondLst>
                              <p:cond delay="26400"/>
                            </p:stCondLst>
                            <p:childTnLst>
                              <p:par>
                                <p:cTn id="22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2" dur="1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3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22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6" dur="1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7" nodeType="afterEffect" fill="hold">
                            <p:stCondLst>
                              <p:cond delay="26600"/>
                            </p:stCondLst>
                            <p:childTnLst>
                              <p:par>
                                <p:cTn id="22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0" dur="1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1" nodeType="afterEffect" fill="hold">
                            <p:stCondLst>
                              <p:cond delay="26700"/>
                            </p:stCondLst>
                            <p:childTnLst>
                              <p:par>
                                <p:cTn id="2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4" dur="1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5" nodeType="afterEffect" fill="hold">
                            <p:stCondLst>
                              <p:cond delay="26800"/>
                            </p:stCondLst>
                            <p:childTnLst>
                              <p:par>
                                <p:cTn id="2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8" dur="1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9" nodeType="afterEffect" fill="hold">
                            <p:stCondLst>
                              <p:cond delay="26900"/>
                            </p:stCondLst>
                            <p:childTnLst>
                              <p:par>
                                <p:cTn id="2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2" dur="1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3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2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6" dur="1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7" nodeType="afterEffect" fill="hold">
                            <p:stCondLst>
                              <p:cond delay="27100"/>
                            </p:stCondLst>
                            <p:childTnLst>
                              <p:par>
                                <p:cTn id="22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0" dur="1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1" nodeType="afterEffect" fill="hold">
                            <p:stCondLst>
                              <p:cond delay="27200"/>
                            </p:stCondLst>
                            <p:childTnLst>
                              <p:par>
                                <p:cTn id="2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4" dur="1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5" nodeType="afterEffect" fill="hold">
                            <p:stCondLst>
                              <p:cond delay="27300"/>
                            </p:stCondLst>
                            <p:childTnLst>
                              <p:par>
                                <p:cTn id="2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8" dur="1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9" nodeType="afterEffect" fill="hold">
                            <p:stCondLst>
                              <p:cond delay="27400"/>
                            </p:stCondLst>
                            <p:childTnLst>
                              <p:par>
                                <p:cTn id="2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2" dur="1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3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2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6" dur="1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7" nodeType="afterEffect" fill="hold">
                            <p:stCondLst>
                              <p:cond delay="27600"/>
                            </p:stCondLst>
                            <p:childTnLst>
                              <p:par>
                                <p:cTn id="2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0" dur="1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1" nodeType="afterEffect" fill="hold">
                            <p:stCondLst>
                              <p:cond delay="27700"/>
                            </p:stCondLst>
                            <p:childTnLst>
                              <p:par>
                                <p:cTn id="22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4" dur="1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5" nodeType="afterEffect" fill="hold">
                            <p:stCondLst>
                              <p:cond delay="27800"/>
                            </p:stCondLst>
                            <p:childTnLst>
                              <p:par>
                                <p:cTn id="2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8" dur="1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9" nodeType="afterEffect" fill="hold">
                            <p:stCondLst>
                              <p:cond delay="27900"/>
                            </p:stCondLst>
                            <p:childTnLst>
                              <p:par>
                                <p:cTn id="22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2" dur="1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3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22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6" dur="1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7" nodeType="afterEffect" fill="hold">
                            <p:stCondLst>
                              <p:cond delay="28100"/>
                            </p:stCondLst>
                            <p:childTnLst>
                              <p:par>
                                <p:cTn id="2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0" dur="1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1" nodeType="afterEffect" fill="hold">
                            <p:stCondLst>
                              <p:cond delay="28200"/>
                            </p:stCondLst>
                            <p:childTnLst>
                              <p:par>
                                <p:cTn id="2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4" dur="1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5" nodeType="afterEffect" fill="hold">
                            <p:stCondLst>
                              <p:cond delay="28300"/>
                            </p:stCondLst>
                            <p:childTnLst>
                              <p:par>
                                <p:cTn id="22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8" dur="1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9" nodeType="afterEffect" fill="hold">
                            <p:stCondLst>
                              <p:cond delay="28400"/>
                            </p:stCondLst>
                            <p:childTnLst>
                              <p:par>
                                <p:cTn id="22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2" dur="1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3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22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6" dur="1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7" nodeType="afterEffect" fill="hold">
                            <p:stCondLst>
                              <p:cond delay="28600"/>
                            </p:stCondLst>
                            <p:childTnLst>
                              <p:par>
                                <p:cTn id="22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0" dur="1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1" nodeType="afterEffect" fill="hold">
                            <p:stCondLst>
                              <p:cond delay="28700"/>
                            </p:stCondLst>
                            <p:childTnLst>
                              <p:par>
                                <p:cTn id="2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4" dur="1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5" nodeType="afterEffect" fill="hold">
                            <p:stCondLst>
                              <p:cond delay="28800"/>
                            </p:stCondLst>
                            <p:childTnLst>
                              <p:par>
                                <p:cTn id="2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8" dur="1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9" nodeType="afterEffect" fill="hold">
                            <p:stCondLst>
                              <p:cond delay="28900"/>
                            </p:stCondLst>
                            <p:childTnLst>
                              <p:par>
                                <p:cTn id="23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02" dur="1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3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2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6" dur="1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7" nodeType="afterEffect" fill="hold">
                            <p:stCondLst>
                              <p:cond delay="29100"/>
                            </p:stCondLst>
                            <p:childTnLst>
                              <p:par>
                                <p:cTn id="2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0" dur="1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1" nodeType="afterEffect" fill="hold">
                            <p:stCondLst>
                              <p:cond delay="29200"/>
                            </p:stCondLst>
                            <p:childTnLst>
                              <p:par>
                                <p:cTn id="23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4" dur="1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5" nodeType="afterEffect" fill="hold">
                            <p:stCondLst>
                              <p:cond delay="29300"/>
                            </p:stCondLst>
                            <p:childTnLst>
                              <p:par>
                                <p:cTn id="23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8" dur="1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9" nodeType="afterEffect" fill="hold">
                            <p:stCondLst>
                              <p:cond delay="29400"/>
                            </p:stCondLst>
                            <p:childTnLst>
                              <p:par>
                                <p:cTn id="23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2" dur="1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3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2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6" dur="1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7" nodeType="afterEffect" fill="hold">
                            <p:stCondLst>
                              <p:cond delay="29600"/>
                            </p:stCondLst>
                            <p:childTnLst>
                              <p:par>
                                <p:cTn id="23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0" dur="1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1" nodeType="afterEffect" fill="hold">
                            <p:stCondLst>
                              <p:cond delay="29700"/>
                            </p:stCondLst>
                            <p:childTnLst>
                              <p:par>
                                <p:cTn id="23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4" dur="1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5" nodeType="afterEffect" fill="hold">
                            <p:stCondLst>
                              <p:cond delay="29800"/>
                            </p:stCondLst>
                            <p:childTnLst>
                              <p:par>
                                <p:cTn id="23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8" dur="1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9" nodeType="afterEffect" fill="hold">
                            <p:stCondLst>
                              <p:cond delay="29900"/>
                            </p:stCondLst>
                            <p:childTnLst>
                              <p:par>
                                <p:cTn id="23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2" dur="1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3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2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6" dur="1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7" nodeType="afterEffect" fill="hold">
                            <p:stCondLst>
                              <p:cond delay="30100"/>
                            </p:stCondLst>
                            <p:childTnLst>
                              <p:par>
                                <p:cTn id="2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0" dur="1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1" nodeType="afterEffect" fill="hold">
                            <p:stCondLst>
                              <p:cond delay="30200"/>
                            </p:stCondLst>
                            <p:childTnLst>
                              <p:par>
                                <p:cTn id="23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4" dur="1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5" nodeType="afterEffect" fill="hold">
                            <p:stCondLst>
                              <p:cond delay="30300"/>
                            </p:stCondLst>
                            <p:childTnLst>
                              <p:par>
                                <p:cTn id="23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8" dur="1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9" nodeType="afterEffect" fill="hold">
                            <p:stCondLst>
                              <p:cond delay="30400"/>
                            </p:stCondLst>
                            <p:childTnLst>
                              <p:par>
                                <p:cTn id="23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2" dur="1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3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23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6" dur="1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7" nodeType="afterEffect" fill="hold">
                            <p:stCondLst>
                              <p:cond delay="30600"/>
                            </p:stCondLst>
                            <p:childTnLst>
                              <p:par>
                                <p:cTn id="23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0" dur="1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1" nodeType="afterEffect" fill="hold">
                            <p:stCondLst>
                              <p:cond delay="30700"/>
                            </p:stCondLst>
                            <p:childTnLst>
                              <p:par>
                                <p:cTn id="23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4" dur="1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5" nodeType="afterEffect" fill="hold">
                            <p:stCondLst>
                              <p:cond delay="30800"/>
                            </p:stCondLst>
                            <p:childTnLst>
                              <p:par>
                                <p:cTn id="23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8" dur="1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9" nodeType="afterEffect" fill="hold">
                            <p:stCondLst>
                              <p:cond delay="30900"/>
                            </p:stCondLst>
                            <p:childTnLst>
                              <p:par>
                                <p:cTn id="23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2" dur="1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3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23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6" dur="1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7" nodeType="afterEffect" fill="hold">
                            <p:stCondLst>
                              <p:cond delay="31100"/>
                            </p:stCondLst>
                            <p:childTnLst>
                              <p:par>
                                <p:cTn id="23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0" dur="1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1" nodeType="afterEffect" fill="hold">
                            <p:stCondLst>
                              <p:cond delay="31200"/>
                            </p:stCondLst>
                            <p:childTnLst>
                              <p:par>
                                <p:cTn id="23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4" dur="1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5" nodeType="afterEffect" fill="hold">
                            <p:stCondLst>
                              <p:cond delay="31300"/>
                            </p:stCondLst>
                            <p:childTnLst>
                              <p:par>
                                <p:cTn id="23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8" dur="1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9" nodeType="afterEffect" fill="hold">
                            <p:stCondLst>
                              <p:cond delay="31400"/>
                            </p:stCondLst>
                            <p:childTnLst>
                              <p:par>
                                <p:cTn id="2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2" dur="1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3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2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6" dur="1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7" nodeType="afterEffect" fill="hold">
                            <p:stCondLst>
                              <p:cond delay="31600"/>
                            </p:stCondLst>
                            <p:childTnLst>
                              <p:par>
                                <p:cTn id="24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0" dur="1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1" nodeType="afterEffect" fill="hold">
                            <p:stCondLst>
                              <p:cond delay="31700"/>
                            </p:stCondLst>
                            <p:childTnLst>
                              <p:par>
                                <p:cTn id="24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4" dur="1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5" nodeType="afterEffect" fill="hold">
                            <p:stCondLst>
                              <p:cond delay="31800"/>
                            </p:stCondLst>
                            <p:childTnLst>
                              <p:par>
                                <p:cTn id="2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8" dur="1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9" nodeType="afterEffect" fill="hold">
                            <p:stCondLst>
                              <p:cond delay="31900"/>
                            </p:stCondLst>
                            <p:childTnLst>
                              <p:par>
                                <p:cTn id="24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2" dur="1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3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2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6" dur="1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7" nodeType="afterEffect" fill="hold">
                            <p:stCondLst>
                              <p:cond delay="32100"/>
                            </p:stCondLst>
                            <p:childTnLst>
                              <p:par>
                                <p:cTn id="24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0" dur="1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1" nodeType="afterEffect" fill="hold">
                            <p:stCondLst>
                              <p:cond delay="32200"/>
                            </p:stCondLst>
                            <p:childTnLst>
                              <p:par>
                                <p:cTn id="24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4" dur="1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5" nodeType="afterEffect" fill="hold">
                            <p:stCondLst>
                              <p:cond delay="32299"/>
                            </p:stCondLst>
                            <p:childTnLst>
                              <p:par>
                                <p:cTn id="24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8" dur="1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9" nodeType="afterEffect" fill="hold">
                            <p:stCondLst>
                              <p:cond delay="32400"/>
                            </p:stCondLst>
                            <p:childTnLst>
                              <p:par>
                                <p:cTn id="244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42" dur="1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3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24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46" dur="1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7" nodeType="afterEffect" fill="hold">
                            <p:stCondLst>
                              <p:cond delay="32600"/>
                            </p:stCondLst>
                            <p:childTnLst>
                              <p:par>
                                <p:cTn id="24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0" dur="1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1" nodeType="afterEffect" fill="hold">
                            <p:stCondLst>
                              <p:cond delay="32700"/>
                            </p:stCondLst>
                            <p:childTnLst>
                              <p:par>
                                <p:cTn id="24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4" dur="1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5" nodeType="afterEffect" fill="hold">
                            <p:stCondLst>
                              <p:cond delay="32800"/>
                            </p:stCondLst>
                            <p:childTnLst>
                              <p:par>
                                <p:cTn id="24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8" dur="1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9" nodeType="afterEffect" fill="hold">
                            <p:stCondLst>
                              <p:cond delay="32900"/>
                            </p:stCondLst>
                            <p:childTnLst>
                              <p:par>
                                <p:cTn id="24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2" dur="1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3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24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6" dur="1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7" nodeType="afterEffect" fill="hold">
                            <p:stCondLst>
                              <p:cond delay="33100"/>
                            </p:stCondLst>
                            <p:childTnLst>
                              <p:par>
                                <p:cTn id="24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70" dur="1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任意多边形 5"/>
          <p:cNvSpPr/>
          <p:nvPr/>
        </p:nvSpPr>
        <p:spPr>
          <a:xfrm>
            <a:off x="4500720" y="1684440"/>
            <a:ext cx="3122280" cy="3487680"/>
          </a:xfrm>
          <a:custGeom>
            <a:avLst/>
            <a:gdLst/>
            <a:ahLst/>
            <a:rect l="l" t="t" r="r" b="b"/>
            <a:pathLst>
              <a:path w="2950234" h="3295290">
                <a:moveTo>
                  <a:pt x="2950234" y="3295290"/>
                </a:moveTo>
                <a:lnTo>
                  <a:pt x="51758" y="295886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任意多边形 6"/>
          <p:cNvSpPr/>
          <p:nvPr/>
        </p:nvSpPr>
        <p:spPr>
          <a:xfrm>
            <a:off x="4500720" y="1693800"/>
            <a:ext cx="3286080" cy="360"/>
          </a:xfrm>
          <a:custGeom>
            <a:avLst/>
            <a:gdLst/>
            <a:ahLst/>
            <a:rect l="l" t="t" r="r" b="b"/>
            <a:pathLst>
              <a:path w="3105509" h="0">
                <a:moveTo>
                  <a:pt x="0" y="0"/>
                </a:moveTo>
                <a:lnTo>
                  <a:pt x="310550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任意多边形 7"/>
          <p:cNvSpPr/>
          <p:nvPr/>
        </p:nvSpPr>
        <p:spPr>
          <a:xfrm>
            <a:off x="7604280" y="1693800"/>
            <a:ext cx="172800" cy="3478320"/>
          </a:xfrm>
          <a:custGeom>
            <a:avLst/>
            <a:gdLst/>
            <a:ahLst/>
            <a:rect l="l" t="t" r="r" b="b"/>
            <a:pathLst>
              <a:path w="163902" h="3286664">
                <a:moveTo>
                  <a:pt x="0" y="3286664"/>
                </a:moveTo>
                <a:lnTo>
                  <a:pt x="163902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组合 52"/>
          <p:cNvGrpSpPr/>
          <p:nvPr/>
        </p:nvGrpSpPr>
        <p:grpSpPr>
          <a:xfrm>
            <a:off x="4619520" y="1830240"/>
            <a:ext cx="2984760" cy="2986200"/>
            <a:chOff x="4619520" y="1830240"/>
            <a:chExt cx="2984760" cy="2986200"/>
          </a:xfrm>
        </p:grpSpPr>
        <p:sp>
          <p:nvSpPr>
            <p:cNvPr id="165" name="任意多边形 31"/>
            <p:cNvSpPr/>
            <p:nvPr/>
          </p:nvSpPr>
          <p:spPr>
            <a:xfrm>
              <a:off x="4619520" y="1830240"/>
              <a:ext cx="2984760" cy="26640"/>
            </a:xfrm>
            <a:custGeom>
              <a:avLst/>
              <a:gdLst/>
              <a:ahLst/>
              <a:rect l="l" t="t" r="r" b="b"/>
              <a:pathLst>
                <a:path w="2820837" h="25879">
                  <a:moveTo>
                    <a:pt x="0" y="0"/>
                  </a:moveTo>
                  <a:lnTo>
                    <a:pt x="2820837" y="25879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任意多边形 32"/>
            <p:cNvSpPr/>
            <p:nvPr/>
          </p:nvSpPr>
          <p:spPr>
            <a:xfrm>
              <a:off x="4628880" y="1958760"/>
              <a:ext cx="2975400" cy="53640"/>
            </a:xfrm>
            <a:custGeom>
              <a:avLst/>
              <a:gdLst/>
              <a:ahLst/>
              <a:rect l="l" t="t" r="r" b="b"/>
              <a:pathLst>
                <a:path w="2812211" h="51759">
                  <a:moveTo>
                    <a:pt x="0" y="0"/>
                  </a:moveTo>
                  <a:lnTo>
                    <a:pt x="2812211" y="51759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任意多边形 33"/>
            <p:cNvSpPr/>
            <p:nvPr/>
          </p:nvSpPr>
          <p:spPr>
            <a:xfrm>
              <a:off x="4628880" y="2112840"/>
              <a:ext cx="2958120" cy="55440"/>
            </a:xfrm>
            <a:custGeom>
              <a:avLst/>
              <a:gdLst/>
              <a:ahLst/>
              <a:rect l="l" t="t" r="r" b="b"/>
              <a:pathLst>
                <a:path w="2794959" h="51759">
                  <a:moveTo>
                    <a:pt x="0" y="0"/>
                  </a:moveTo>
                  <a:lnTo>
                    <a:pt x="2794959" y="51759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任意多边形 34"/>
            <p:cNvSpPr/>
            <p:nvPr/>
          </p:nvSpPr>
          <p:spPr>
            <a:xfrm>
              <a:off x="4628880" y="2250720"/>
              <a:ext cx="2948400" cy="72720"/>
            </a:xfrm>
            <a:custGeom>
              <a:avLst/>
              <a:gdLst/>
              <a:ahLst/>
              <a:rect l="l" t="t" r="r" b="b"/>
              <a:pathLst>
                <a:path w="2786332" h="69012">
                  <a:moveTo>
                    <a:pt x="0" y="0"/>
                  </a:moveTo>
                  <a:lnTo>
                    <a:pt x="2786332" y="69012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任意多边形 35"/>
            <p:cNvSpPr/>
            <p:nvPr/>
          </p:nvSpPr>
          <p:spPr>
            <a:xfrm>
              <a:off x="4636800" y="2387520"/>
              <a:ext cx="2940480" cy="90360"/>
            </a:xfrm>
            <a:custGeom>
              <a:avLst/>
              <a:gdLst/>
              <a:ahLst/>
              <a:rect l="l" t="t" r="r" b="b"/>
              <a:pathLst>
                <a:path w="2777705" h="86264">
                  <a:moveTo>
                    <a:pt x="0" y="0"/>
                  </a:moveTo>
                  <a:lnTo>
                    <a:pt x="2777705" y="86264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任意多边形 36"/>
            <p:cNvSpPr/>
            <p:nvPr/>
          </p:nvSpPr>
          <p:spPr>
            <a:xfrm>
              <a:off x="4636800" y="2533320"/>
              <a:ext cx="2931120" cy="90360"/>
            </a:xfrm>
            <a:custGeom>
              <a:avLst/>
              <a:gdLst/>
              <a:ahLst/>
              <a:rect l="l" t="t" r="r" b="b"/>
              <a:pathLst>
                <a:path w="2769079" h="86264">
                  <a:moveTo>
                    <a:pt x="0" y="0"/>
                  </a:moveTo>
                  <a:lnTo>
                    <a:pt x="2769079" y="86264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任意多边形 37"/>
            <p:cNvSpPr/>
            <p:nvPr/>
          </p:nvSpPr>
          <p:spPr>
            <a:xfrm>
              <a:off x="4636800" y="2660400"/>
              <a:ext cx="2921400" cy="128520"/>
            </a:xfrm>
            <a:custGeom>
              <a:avLst/>
              <a:gdLst/>
              <a:ahLst/>
              <a:rect l="l" t="t" r="r" b="b"/>
              <a:pathLst>
                <a:path w="2760452" h="120770">
                  <a:moveTo>
                    <a:pt x="0" y="0"/>
                  </a:moveTo>
                  <a:lnTo>
                    <a:pt x="2760452" y="12077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任意多边形 38"/>
            <p:cNvSpPr/>
            <p:nvPr/>
          </p:nvSpPr>
          <p:spPr>
            <a:xfrm>
              <a:off x="4636800" y="2798640"/>
              <a:ext cx="2921400" cy="136440"/>
            </a:xfrm>
            <a:custGeom>
              <a:avLst/>
              <a:gdLst/>
              <a:ahLst/>
              <a:rect l="l" t="t" r="r" b="b"/>
              <a:pathLst>
                <a:path w="2760452" h="129396">
                  <a:moveTo>
                    <a:pt x="0" y="0"/>
                  </a:moveTo>
                  <a:lnTo>
                    <a:pt x="2760452" y="129396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任意多边形 39"/>
            <p:cNvSpPr/>
            <p:nvPr/>
          </p:nvSpPr>
          <p:spPr>
            <a:xfrm>
              <a:off x="4636800" y="2935080"/>
              <a:ext cx="2921400" cy="155520"/>
            </a:xfrm>
            <a:custGeom>
              <a:avLst/>
              <a:gdLst/>
              <a:ahLst/>
              <a:rect l="l" t="t" r="r" b="b"/>
              <a:pathLst>
                <a:path w="2760453" h="146649">
                  <a:moveTo>
                    <a:pt x="0" y="0"/>
                  </a:moveTo>
                  <a:lnTo>
                    <a:pt x="2760453" y="146649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任意多边形 40"/>
            <p:cNvSpPr/>
            <p:nvPr/>
          </p:nvSpPr>
          <p:spPr>
            <a:xfrm>
              <a:off x="4636800" y="3081240"/>
              <a:ext cx="2904120" cy="155520"/>
            </a:xfrm>
            <a:custGeom>
              <a:avLst/>
              <a:gdLst/>
              <a:ahLst/>
              <a:rect l="l" t="t" r="r" b="b"/>
              <a:pathLst>
                <a:path w="2743200" h="146649">
                  <a:moveTo>
                    <a:pt x="0" y="0"/>
                  </a:moveTo>
                  <a:lnTo>
                    <a:pt x="2743200" y="146649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任意多边形 41"/>
            <p:cNvSpPr/>
            <p:nvPr/>
          </p:nvSpPr>
          <p:spPr>
            <a:xfrm>
              <a:off x="4646160" y="3209760"/>
              <a:ext cx="2894400" cy="172800"/>
            </a:xfrm>
            <a:custGeom>
              <a:avLst/>
              <a:gdLst/>
              <a:ahLst/>
              <a:rect l="l" t="t" r="r" b="b"/>
              <a:pathLst>
                <a:path w="2734574" h="163902">
                  <a:moveTo>
                    <a:pt x="0" y="0"/>
                  </a:moveTo>
                  <a:lnTo>
                    <a:pt x="2734574" y="163902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任意多边形 42"/>
            <p:cNvSpPr/>
            <p:nvPr/>
          </p:nvSpPr>
          <p:spPr>
            <a:xfrm>
              <a:off x="4646160" y="3336840"/>
              <a:ext cx="2885040" cy="191880"/>
            </a:xfrm>
            <a:custGeom>
              <a:avLst/>
              <a:gdLst/>
              <a:ahLst/>
              <a:rect l="l" t="t" r="r" b="b"/>
              <a:pathLst>
                <a:path w="2725947" h="181154">
                  <a:moveTo>
                    <a:pt x="0" y="0"/>
                  </a:moveTo>
                  <a:lnTo>
                    <a:pt x="2725947" y="181154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任意多边形 43"/>
            <p:cNvSpPr/>
            <p:nvPr/>
          </p:nvSpPr>
          <p:spPr>
            <a:xfrm>
              <a:off x="4636800" y="3473280"/>
              <a:ext cx="2885040" cy="201600"/>
            </a:xfrm>
            <a:custGeom>
              <a:avLst/>
              <a:gdLst/>
              <a:ahLst/>
              <a:rect l="l" t="t" r="r" b="b"/>
              <a:pathLst>
                <a:path w="2725947" h="189781">
                  <a:moveTo>
                    <a:pt x="0" y="0"/>
                  </a:moveTo>
                  <a:lnTo>
                    <a:pt x="2725947" y="189781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任意多边形 44"/>
            <p:cNvSpPr/>
            <p:nvPr/>
          </p:nvSpPr>
          <p:spPr>
            <a:xfrm>
              <a:off x="4655880" y="3611520"/>
              <a:ext cx="2858040" cy="209520"/>
            </a:xfrm>
            <a:custGeom>
              <a:avLst/>
              <a:gdLst/>
              <a:ahLst/>
              <a:rect l="l" t="t" r="r" b="b"/>
              <a:pathLst>
                <a:path w="2700068" h="198408">
                  <a:moveTo>
                    <a:pt x="0" y="0"/>
                  </a:moveTo>
                  <a:lnTo>
                    <a:pt x="2700068" y="198408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任意多边形 45"/>
            <p:cNvSpPr/>
            <p:nvPr/>
          </p:nvSpPr>
          <p:spPr>
            <a:xfrm>
              <a:off x="4655880" y="3738600"/>
              <a:ext cx="2848320" cy="228600"/>
            </a:xfrm>
            <a:custGeom>
              <a:avLst/>
              <a:gdLst/>
              <a:ahLst/>
              <a:rect l="l" t="t" r="r" b="b"/>
              <a:pathLst>
                <a:path w="2691442" h="215660">
                  <a:moveTo>
                    <a:pt x="0" y="0"/>
                  </a:moveTo>
                  <a:lnTo>
                    <a:pt x="2691442" y="21566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任意多边形 46"/>
            <p:cNvSpPr/>
            <p:nvPr/>
          </p:nvSpPr>
          <p:spPr>
            <a:xfrm>
              <a:off x="4646160" y="3876840"/>
              <a:ext cx="2858040" cy="226800"/>
            </a:xfrm>
            <a:custGeom>
              <a:avLst/>
              <a:gdLst/>
              <a:ahLst/>
              <a:rect l="l" t="t" r="r" b="b"/>
              <a:pathLst>
                <a:path w="2700068" h="215661">
                  <a:moveTo>
                    <a:pt x="0" y="0"/>
                  </a:moveTo>
                  <a:lnTo>
                    <a:pt x="2700068" y="215661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任意多边形 47"/>
            <p:cNvSpPr/>
            <p:nvPr/>
          </p:nvSpPr>
          <p:spPr>
            <a:xfrm>
              <a:off x="4655880" y="4013280"/>
              <a:ext cx="2829240" cy="236520"/>
            </a:xfrm>
            <a:custGeom>
              <a:avLst/>
              <a:gdLst/>
              <a:ahLst/>
              <a:rect l="l" t="t" r="r" b="b"/>
              <a:pathLst>
                <a:path w="2674189" h="224287">
                  <a:moveTo>
                    <a:pt x="0" y="0"/>
                  </a:moveTo>
                  <a:lnTo>
                    <a:pt x="2674189" y="224287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任意多边形 48"/>
            <p:cNvSpPr/>
            <p:nvPr/>
          </p:nvSpPr>
          <p:spPr>
            <a:xfrm>
              <a:off x="4655880" y="4149720"/>
              <a:ext cx="2829240" cy="245880"/>
            </a:xfrm>
            <a:custGeom>
              <a:avLst/>
              <a:gdLst/>
              <a:ahLst/>
              <a:rect l="l" t="t" r="r" b="b"/>
              <a:pathLst>
                <a:path w="2674189" h="232913">
                  <a:moveTo>
                    <a:pt x="0" y="0"/>
                  </a:moveTo>
                  <a:lnTo>
                    <a:pt x="2674189" y="23291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任意多边形 49"/>
            <p:cNvSpPr/>
            <p:nvPr/>
          </p:nvSpPr>
          <p:spPr>
            <a:xfrm>
              <a:off x="4655880" y="4268880"/>
              <a:ext cx="2829240" cy="272880"/>
            </a:xfrm>
            <a:custGeom>
              <a:avLst/>
              <a:gdLst/>
              <a:ahLst/>
              <a:rect l="l" t="t" r="r" b="b"/>
              <a:pathLst>
                <a:path w="2674189" h="258792">
                  <a:moveTo>
                    <a:pt x="0" y="0"/>
                  </a:moveTo>
                  <a:lnTo>
                    <a:pt x="2674189" y="258792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任意多边形 50"/>
            <p:cNvSpPr/>
            <p:nvPr/>
          </p:nvSpPr>
          <p:spPr>
            <a:xfrm>
              <a:off x="4646160" y="4405320"/>
              <a:ext cx="2831040" cy="274680"/>
            </a:xfrm>
            <a:custGeom>
              <a:avLst/>
              <a:gdLst/>
              <a:ahLst/>
              <a:rect l="l" t="t" r="r" b="b"/>
              <a:pathLst>
                <a:path w="2674189" h="258793">
                  <a:moveTo>
                    <a:pt x="0" y="0"/>
                  </a:moveTo>
                  <a:lnTo>
                    <a:pt x="2674189" y="25879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任意多边形 51"/>
            <p:cNvSpPr/>
            <p:nvPr/>
          </p:nvSpPr>
          <p:spPr>
            <a:xfrm>
              <a:off x="4655880" y="4515120"/>
              <a:ext cx="2821320" cy="301320"/>
            </a:xfrm>
            <a:custGeom>
              <a:avLst/>
              <a:gdLst/>
              <a:ahLst/>
              <a:rect l="l" t="t" r="r" b="b"/>
              <a:pathLst>
                <a:path w="2665563" h="284672">
                  <a:moveTo>
                    <a:pt x="0" y="0"/>
                  </a:moveTo>
                  <a:lnTo>
                    <a:pt x="2665563" y="284672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组合 53"/>
          <p:cNvGrpSpPr/>
          <p:nvPr/>
        </p:nvGrpSpPr>
        <p:grpSpPr>
          <a:xfrm>
            <a:off x="4629240" y="1830240"/>
            <a:ext cx="2975040" cy="2976840"/>
            <a:chOff x="4629240" y="1830240"/>
            <a:chExt cx="2975040" cy="2976840"/>
          </a:xfrm>
        </p:grpSpPr>
        <p:sp>
          <p:nvSpPr>
            <p:cNvPr id="187" name="任意多边形 54"/>
            <p:cNvSpPr/>
            <p:nvPr/>
          </p:nvSpPr>
          <p:spPr>
            <a:xfrm>
              <a:off x="4629240" y="1830240"/>
              <a:ext cx="17280" cy="2684880"/>
            </a:xfrm>
            <a:custGeom>
              <a:avLst/>
              <a:gdLst/>
              <a:ahLst/>
              <a:rect l="l" t="t" r="r" b="b"/>
              <a:pathLst>
                <a:path w="17252" h="2536166">
                  <a:moveTo>
                    <a:pt x="17252" y="2536166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任意多边形 55"/>
            <p:cNvSpPr/>
            <p:nvPr/>
          </p:nvSpPr>
          <p:spPr>
            <a:xfrm>
              <a:off x="4755960" y="1830240"/>
              <a:ext cx="9360" cy="2694240"/>
            </a:xfrm>
            <a:custGeom>
              <a:avLst/>
              <a:gdLst/>
              <a:ahLst/>
              <a:rect l="l" t="t" r="r" b="b"/>
              <a:pathLst>
                <a:path w="8627" h="2544793">
                  <a:moveTo>
                    <a:pt x="8627" y="2544793"/>
                  </a:moveTo>
                  <a:cubicBezTo>
                    <a:pt x="5751" y="1696529"/>
                    <a:pt x="2876" y="848264"/>
                    <a:pt x="0" y="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任意多边形 56"/>
            <p:cNvSpPr/>
            <p:nvPr/>
          </p:nvSpPr>
          <p:spPr>
            <a:xfrm>
              <a:off x="4884840" y="1830240"/>
              <a:ext cx="9360" cy="2711880"/>
            </a:xfrm>
            <a:custGeom>
              <a:avLst/>
              <a:gdLst/>
              <a:ahLst/>
              <a:rect l="l" t="t" r="r" b="b"/>
              <a:pathLst>
                <a:path w="8627" h="2562045">
                  <a:moveTo>
                    <a:pt x="8627" y="2562045"/>
                  </a:moveTo>
                  <a:cubicBezTo>
                    <a:pt x="5751" y="1708030"/>
                    <a:pt x="2876" y="854015"/>
                    <a:pt x="0" y="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任意多边形 57"/>
            <p:cNvSpPr/>
            <p:nvPr/>
          </p:nvSpPr>
          <p:spPr>
            <a:xfrm>
              <a:off x="5030640" y="1830240"/>
              <a:ext cx="9360" cy="2721240"/>
            </a:xfrm>
            <a:custGeom>
              <a:avLst/>
              <a:gdLst/>
              <a:ahLst/>
              <a:rect l="l" t="t" r="r" b="b"/>
              <a:pathLst>
                <a:path w="8626" h="2570672">
                  <a:moveTo>
                    <a:pt x="8626" y="2570672"/>
                  </a:moveTo>
                  <a:cubicBezTo>
                    <a:pt x="5751" y="1713781"/>
                    <a:pt x="2875" y="856891"/>
                    <a:pt x="0" y="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任意多边形 58"/>
            <p:cNvSpPr/>
            <p:nvPr/>
          </p:nvSpPr>
          <p:spPr>
            <a:xfrm>
              <a:off x="5167440" y="1839600"/>
              <a:ext cx="9360" cy="2729160"/>
            </a:xfrm>
            <a:custGeom>
              <a:avLst/>
              <a:gdLst/>
              <a:ahLst/>
              <a:rect l="l" t="t" r="r" b="b"/>
              <a:pathLst>
                <a:path w="8626" h="2579298">
                  <a:moveTo>
                    <a:pt x="0" y="2579298"/>
                  </a:moveTo>
                  <a:cubicBezTo>
                    <a:pt x="2875" y="1719532"/>
                    <a:pt x="5751" y="859766"/>
                    <a:pt x="8626" y="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任意多边形 59"/>
            <p:cNvSpPr/>
            <p:nvPr/>
          </p:nvSpPr>
          <p:spPr>
            <a:xfrm>
              <a:off x="5303880" y="1830240"/>
              <a:ext cx="9360" cy="2757960"/>
            </a:xfrm>
            <a:custGeom>
              <a:avLst/>
              <a:gdLst/>
              <a:ahLst/>
              <a:rect l="l" t="t" r="r" b="b"/>
              <a:pathLst>
                <a:path w="8627" h="2605177">
                  <a:moveTo>
                    <a:pt x="0" y="2605177"/>
                  </a:moveTo>
                  <a:cubicBezTo>
                    <a:pt x="2876" y="1736785"/>
                    <a:pt x="5751" y="868392"/>
                    <a:pt x="8627" y="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任意多边形 60"/>
            <p:cNvSpPr/>
            <p:nvPr/>
          </p:nvSpPr>
          <p:spPr>
            <a:xfrm>
              <a:off x="5432400" y="1839600"/>
              <a:ext cx="26640" cy="2757960"/>
            </a:xfrm>
            <a:custGeom>
              <a:avLst/>
              <a:gdLst/>
              <a:ahLst/>
              <a:rect l="l" t="t" r="r" b="b"/>
              <a:pathLst>
                <a:path w="25879" h="2605178">
                  <a:moveTo>
                    <a:pt x="0" y="2605178"/>
                  </a:moveTo>
                  <a:lnTo>
                    <a:pt x="25879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任意多边形 61"/>
            <p:cNvSpPr/>
            <p:nvPr/>
          </p:nvSpPr>
          <p:spPr>
            <a:xfrm>
              <a:off x="5578560" y="1839600"/>
              <a:ext cx="17280" cy="2775240"/>
            </a:xfrm>
            <a:custGeom>
              <a:avLst/>
              <a:gdLst/>
              <a:ahLst/>
              <a:rect l="l" t="t" r="r" b="b"/>
              <a:pathLst>
                <a:path w="17253" h="2622430">
                  <a:moveTo>
                    <a:pt x="0" y="2622430"/>
                  </a:moveTo>
                  <a:lnTo>
                    <a:pt x="1725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任意多边形 62"/>
            <p:cNvSpPr/>
            <p:nvPr/>
          </p:nvSpPr>
          <p:spPr>
            <a:xfrm>
              <a:off x="5715000" y="1839600"/>
              <a:ext cx="26640" cy="2794320"/>
            </a:xfrm>
            <a:custGeom>
              <a:avLst/>
              <a:gdLst/>
              <a:ahLst/>
              <a:rect l="l" t="t" r="r" b="b"/>
              <a:pathLst>
                <a:path w="25879" h="2639683">
                  <a:moveTo>
                    <a:pt x="0" y="2639683"/>
                  </a:moveTo>
                  <a:lnTo>
                    <a:pt x="25879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任意多边形 63"/>
            <p:cNvSpPr/>
            <p:nvPr/>
          </p:nvSpPr>
          <p:spPr>
            <a:xfrm>
              <a:off x="5851440" y="1830240"/>
              <a:ext cx="36360" cy="2811960"/>
            </a:xfrm>
            <a:custGeom>
              <a:avLst/>
              <a:gdLst/>
              <a:ahLst/>
              <a:rect l="l" t="t" r="r" b="b"/>
              <a:pathLst>
                <a:path w="34506" h="2656936">
                  <a:moveTo>
                    <a:pt x="0" y="2656936"/>
                  </a:moveTo>
                  <a:lnTo>
                    <a:pt x="34506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任意多边形 64"/>
            <p:cNvSpPr/>
            <p:nvPr/>
          </p:nvSpPr>
          <p:spPr>
            <a:xfrm>
              <a:off x="5997600" y="1839600"/>
              <a:ext cx="45720" cy="2811960"/>
            </a:xfrm>
            <a:custGeom>
              <a:avLst/>
              <a:gdLst/>
              <a:ahLst/>
              <a:rect l="l" t="t" r="r" b="b"/>
              <a:pathLst>
                <a:path w="43132" h="2656935">
                  <a:moveTo>
                    <a:pt x="0" y="2656935"/>
                  </a:moveTo>
                  <a:lnTo>
                    <a:pt x="43132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任意多边形 65"/>
            <p:cNvSpPr/>
            <p:nvPr/>
          </p:nvSpPr>
          <p:spPr>
            <a:xfrm>
              <a:off x="6134400" y="1839600"/>
              <a:ext cx="55440" cy="2831040"/>
            </a:xfrm>
            <a:custGeom>
              <a:avLst/>
              <a:gdLst/>
              <a:ahLst/>
              <a:rect l="l" t="t" r="r" b="b"/>
              <a:pathLst>
                <a:path w="51758" h="2674188">
                  <a:moveTo>
                    <a:pt x="0" y="2674188"/>
                  </a:moveTo>
                  <a:lnTo>
                    <a:pt x="51758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任意多边形 66"/>
            <p:cNvSpPr/>
            <p:nvPr/>
          </p:nvSpPr>
          <p:spPr>
            <a:xfrm>
              <a:off x="6272280" y="1839600"/>
              <a:ext cx="72720" cy="2848320"/>
            </a:xfrm>
            <a:custGeom>
              <a:avLst/>
              <a:gdLst/>
              <a:ahLst/>
              <a:rect l="l" t="t" r="r" b="b"/>
              <a:pathLst>
                <a:path w="69012" h="2691441">
                  <a:moveTo>
                    <a:pt x="0" y="2691441"/>
                  </a:moveTo>
                  <a:lnTo>
                    <a:pt x="69012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任意多边形 67"/>
            <p:cNvSpPr/>
            <p:nvPr/>
          </p:nvSpPr>
          <p:spPr>
            <a:xfrm>
              <a:off x="6418440" y="1839600"/>
              <a:ext cx="80640" cy="2867400"/>
            </a:xfrm>
            <a:custGeom>
              <a:avLst/>
              <a:gdLst/>
              <a:ahLst/>
              <a:rect l="l" t="t" r="r" b="b"/>
              <a:pathLst>
                <a:path w="77638" h="2708694">
                  <a:moveTo>
                    <a:pt x="0" y="2708694"/>
                  </a:moveTo>
                  <a:lnTo>
                    <a:pt x="77638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任意多边形 68"/>
            <p:cNvSpPr/>
            <p:nvPr/>
          </p:nvSpPr>
          <p:spPr>
            <a:xfrm>
              <a:off x="6564600" y="1839600"/>
              <a:ext cx="90360" cy="2875320"/>
            </a:xfrm>
            <a:custGeom>
              <a:avLst/>
              <a:gdLst/>
              <a:ahLst/>
              <a:rect l="l" t="t" r="r" b="b"/>
              <a:pathLst>
                <a:path w="86264" h="2717320">
                  <a:moveTo>
                    <a:pt x="0" y="2717320"/>
                  </a:moveTo>
                  <a:lnTo>
                    <a:pt x="86264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任意多边形 69"/>
            <p:cNvSpPr/>
            <p:nvPr/>
          </p:nvSpPr>
          <p:spPr>
            <a:xfrm>
              <a:off x="6701040" y="1848960"/>
              <a:ext cx="99720" cy="2875320"/>
            </a:xfrm>
            <a:custGeom>
              <a:avLst/>
              <a:gdLst/>
              <a:ahLst/>
              <a:rect l="l" t="t" r="r" b="b"/>
              <a:pathLst>
                <a:path w="94890" h="2717321">
                  <a:moveTo>
                    <a:pt x="0" y="2717321"/>
                  </a:moveTo>
                  <a:lnTo>
                    <a:pt x="9489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任意多边形 70"/>
            <p:cNvSpPr/>
            <p:nvPr/>
          </p:nvSpPr>
          <p:spPr>
            <a:xfrm>
              <a:off x="6856560" y="1848960"/>
              <a:ext cx="99720" cy="2894400"/>
            </a:xfrm>
            <a:custGeom>
              <a:avLst/>
              <a:gdLst/>
              <a:ahLst/>
              <a:rect l="l" t="t" r="r" b="b"/>
              <a:pathLst>
                <a:path w="94890" h="2734574">
                  <a:moveTo>
                    <a:pt x="0" y="2734574"/>
                  </a:moveTo>
                  <a:lnTo>
                    <a:pt x="9489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任意多边形 71"/>
            <p:cNvSpPr/>
            <p:nvPr/>
          </p:nvSpPr>
          <p:spPr>
            <a:xfrm>
              <a:off x="7002720" y="1856880"/>
              <a:ext cx="117360" cy="2904120"/>
            </a:xfrm>
            <a:custGeom>
              <a:avLst/>
              <a:gdLst/>
              <a:ahLst/>
              <a:rect l="l" t="t" r="r" b="b"/>
              <a:pathLst>
                <a:path w="112144" h="2743200">
                  <a:moveTo>
                    <a:pt x="0" y="2743200"/>
                  </a:moveTo>
                  <a:lnTo>
                    <a:pt x="112144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任意多边形 72"/>
            <p:cNvSpPr/>
            <p:nvPr/>
          </p:nvSpPr>
          <p:spPr>
            <a:xfrm>
              <a:off x="7156800" y="1848960"/>
              <a:ext cx="128520" cy="2931120"/>
            </a:xfrm>
            <a:custGeom>
              <a:avLst/>
              <a:gdLst/>
              <a:ahLst/>
              <a:rect l="l" t="t" r="r" b="b"/>
              <a:pathLst>
                <a:path w="120770" h="2769079">
                  <a:moveTo>
                    <a:pt x="0" y="2769079"/>
                  </a:moveTo>
                  <a:lnTo>
                    <a:pt x="12077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任意多边形 73"/>
            <p:cNvSpPr/>
            <p:nvPr/>
          </p:nvSpPr>
          <p:spPr>
            <a:xfrm>
              <a:off x="7312320" y="1856880"/>
              <a:ext cx="128520" cy="2931120"/>
            </a:xfrm>
            <a:custGeom>
              <a:avLst/>
              <a:gdLst/>
              <a:ahLst/>
              <a:rect l="l" t="t" r="r" b="b"/>
              <a:pathLst>
                <a:path w="120769" h="2769080">
                  <a:moveTo>
                    <a:pt x="0" y="2769080"/>
                  </a:moveTo>
                  <a:lnTo>
                    <a:pt x="120769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任意多边形 74"/>
            <p:cNvSpPr/>
            <p:nvPr/>
          </p:nvSpPr>
          <p:spPr>
            <a:xfrm>
              <a:off x="7458480" y="1856880"/>
              <a:ext cx="145800" cy="2950200"/>
            </a:xfrm>
            <a:custGeom>
              <a:avLst/>
              <a:gdLst/>
              <a:ahLst/>
              <a:rect l="l" t="t" r="r" b="b"/>
              <a:pathLst>
                <a:path w="138023" h="2786333">
                  <a:moveTo>
                    <a:pt x="0" y="2786333"/>
                  </a:moveTo>
                  <a:lnTo>
                    <a:pt x="13802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组合 94"/>
          <p:cNvGrpSpPr/>
          <p:nvPr/>
        </p:nvGrpSpPr>
        <p:grpSpPr>
          <a:xfrm>
            <a:off x="4775040" y="4906800"/>
            <a:ext cx="621000" cy="1387800"/>
            <a:chOff x="4775040" y="4906800"/>
            <a:chExt cx="621000" cy="1387800"/>
          </a:xfrm>
        </p:grpSpPr>
        <p:sp>
          <p:nvSpPr>
            <p:cNvPr id="209" name="任意多边形 76"/>
            <p:cNvSpPr/>
            <p:nvPr/>
          </p:nvSpPr>
          <p:spPr>
            <a:xfrm>
              <a:off x="4775040" y="4906800"/>
              <a:ext cx="484560" cy="1387800"/>
            </a:xfrm>
            <a:custGeom>
              <a:avLst/>
              <a:gdLst/>
              <a:ahLst/>
              <a:rect l="l" t="t" r="r" b="b"/>
              <a:pathLst>
                <a:path w="457200" h="1311215">
                  <a:moveTo>
                    <a:pt x="457200" y="0"/>
                  </a:moveTo>
                  <a:lnTo>
                    <a:pt x="0" y="1259457"/>
                  </a:lnTo>
                  <a:lnTo>
                    <a:pt x="8626" y="1293962"/>
                  </a:lnTo>
                  <a:lnTo>
                    <a:pt x="60385" y="1311215"/>
                  </a:lnTo>
                  <a:lnTo>
                    <a:pt x="120770" y="1293962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任意多边形 77"/>
            <p:cNvSpPr/>
            <p:nvPr/>
          </p:nvSpPr>
          <p:spPr>
            <a:xfrm>
              <a:off x="4894200" y="4925520"/>
              <a:ext cx="501840" cy="1340280"/>
            </a:xfrm>
            <a:custGeom>
              <a:avLst/>
              <a:gdLst/>
              <a:ahLst/>
              <a:rect l="l" t="t" r="r" b="b"/>
              <a:pathLst>
                <a:path w="474453" h="1293962">
                  <a:moveTo>
                    <a:pt x="0" y="1293962"/>
                  </a:moveTo>
                  <a:lnTo>
                    <a:pt x="474453" y="0"/>
                  </a:lnTo>
                </a:path>
              </a:pathLst>
            </a:custGeom>
            <a:noFill/>
            <a:ln cap="rnd"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任意多边形 78"/>
          <p:cNvSpPr/>
          <p:nvPr/>
        </p:nvSpPr>
        <p:spPr>
          <a:xfrm>
            <a:off x="6472080" y="5043600"/>
            <a:ext cx="282600" cy="685800"/>
          </a:xfrm>
          <a:custGeom>
            <a:avLst/>
            <a:gdLst/>
            <a:ahLst/>
            <a:rect l="l" t="t" r="r" b="b"/>
            <a:pathLst>
              <a:path w="267419" h="646981">
                <a:moveTo>
                  <a:pt x="0" y="0"/>
                </a:moveTo>
                <a:lnTo>
                  <a:pt x="155275" y="621102"/>
                </a:lnTo>
                <a:lnTo>
                  <a:pt x="198407" y="646981"/>
                </a:lnTo>
                <a:lnTo>
                  <a:pt x="232913" y="646981"/>
                </a:lnTo>
                <a:lnTo>
                  <a:pt x="267419" y="603849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任意多边形 79"/>
          <p:cNvSpPr/>
          <p:nvPr/>
        </p:nvSpPr>
        <p:spPr>
          <a:xfrm>
            <a:off x="6600960" y="5072040"/>
            <a:ext cx="126720" cy="609480"/>
          </a:xfrm>
          <a:custGeom>
            <a:avLst/>
            <a:gdLst/>
            <a:ahLst/>
            <a:rect l="l" t="t" r="r" b="b"/>
            <a:pathLst>
              <a:path w="120769" h="586596">
                <a:moveTo>
                  <a:pt x="120769" y="58659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任意多边形 80"/>
          <p:cNvSpPr/>
          <p:nvPr/>
        </p:nvSpPr>
        <p:spPr>
          <a:xfrm>
            <a:off x="6764400" y="5089680"/>
            <a:ext cx="647640" cy="1625400"/>
          </a:xfrm>
          <a:custGeom>
            <a:avLst/>
            <a:gdLst/>
            <a:ahLst/>
            <a:rect l="l" t="t" r="r" b="b"/>
            <a:pathLst>
              <a:path w="612476" h="1536126">
                <a:moveTo>
                  <a:pt x="0" y="0"/>
                </a:moveTo>
                <a:lnTo>
                  <a:pt x="474453" y="1440612"/>
                </a:lnTo>
                <a:cubicBezTo>
                  <a:pt x="510127" y="1520877"/>
                  <a:pt x="480639" y="1518249"/>
                  <a:pt x="517585" y="1518249"/>
                </a:cubicBezTo>
                <a:cubicBezTo>
                  <a:pt x="598030" y="1536126"/>
                  <a:pt x="592347" y="1532627"/>
                  <a:pt x="603849" y="1535502"/>
                </a:cubicBezTo>
                <a:lnTo>
                  <a:pt x="612476" y="1535502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任意多边形 81"/>
          <p:cNvSpPr/>
          <p:nvPr/>
        </p:nvSpPr>
        <p:spPr>
          <a:xfrm>
            <a:off x="6929280" y="5089680"/>
            <a:ext cx="501840" cy="1618920"/>
          </a:xfrm>
          <a:custGeom>
            <a:avLst/>
            <a:gdLst/>
            <a:ahLst/>
            <a:rect l="l" t="t" r="r" b="b"/>
            <a:pathLst>
              <a:path w="474453" h="1500996">
                <a:moveTo>
                  <a:pt x="474453" y="150099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椭圆 82"/>
          <p:cNvSpPr/>
          <p:nvPr/>
        </p:nvSpPr>
        <p:spPr>
          <a:xfrm>
            <a:off x="5176800" y="3565440"/>
            <a:ext cx="74520" cy="74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83"/>
          <p:cNvSpPr/>
          <p:nvPr/>
        </p:nvSpPr>
        <p:spPr>
          <a:xfrm>
            <a:off x="5495760" y="3537000"/>
            <a:ext cx="76320" cy="76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椭圆 84"/>
          <p:cNvSpPr/>
          <p:nvPr/>
        </p:nvSpPr>
        <p:spPr>
          <a:xfrm>
            <a:off x="6286680" y="3071880"/>
            <a:ext cx="75960" cy="75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5"/>
          <p:cNvSpPr/>
          <p:nvPr/>
        </p:nvSpPr>
        <p:spPr>
          <a:xfrm>
            <a:off x="6969240" y="2459160"/>
            <a:ext cx="75960" cy="74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任意多边形 87"/>
          <p:cNvSpPr/>
          <p:nvPr/>
        </p:nvSpPr>
        <p:spPr>
          <a:xfrm>
            <a:off x="4692600" y="2268360"/>
            <a:ext cx="2774880" cy="1908360"/>
          </a:xfrm>
          <a:custGeom>
            <a:avLst/>
            <a:gdLst/>
            <a:ahLst/>
            <a:rect l="l" t="t" r="r" b="b"/>
            <a:pathLst>
              <a:path w="2622430" h="1802921">
                <a:moveTo>
                  <a:pt x="0" y="1802921"/>
                </a:moveTo>
                <a:lnTo>
                  <a:pt x="155275" y="1345721"/>
                </a:lnTo>
                <a:lnTo>
                  <a:pt x="319177" y="1647645"/>
                </a:lnTo>
                <a:lnTo>
                  <a:pt x="491706" y="1259457"/>
                </a:lnTo>
                <a:lnTo>
                  <a:pt x="552091" y="1397479"/>
                </a:lnTo>
                <a:lnTo>
                  <a:pt x="690113" y="1130061"/>
                </a:lnTo>
                <a:lnTo>
                  <a:pt x="785004" y="1242204"/>
                </a:lnTo>
                <a:lnTo>
                  <a:pt x="1293962" y="810883"/>
                </a:lnTo>
                <a:lnTo>
                  <a:pt x="1388853" y="931653"/>
                </a:lnTo>
                <a:lnTo>
                  <a:pt x="1483743" y="681487"/>
                </a:lnTo>
                <a:lnTo>
                  <a:pt x="1544128" y="785004"/>
                </a:lnTo>
                <a:lnTo>
                  <a:pt x="2191109" y="207034"/>
                </a:lnTo>
                <a:lnTo>
                  <a:pt x="2380891" y="457200"/>
                </a:lnTo>
                <a:lnTo>
                  <a:pt x="262243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组合 90"/>
          <p:cNvGrpSpPr/>
          <p:nvPr/>
        </p:nvGrpSpPr>
        <p:grpSpPr>
          <a:xfrm>
            <a:off x="1071720" y="2500200"/>
            <a:ext cx="550800" cy="4113360"/>
            <a:chOff x="1071720" y="2500200"/>
            <a:chExt cx="550800" cy="4113360"/>
          </a:xfrm>
        </p:grpSpPr>
        <p:sp>
          <p:nvSpPr>
            <p:cNvPr id="221" name="任意多边形 96"/>
            <p:cNvSpPr/>
            <p:nvPr/>
          </p:nvSpPr>
          <p:spPr>
            <a:xfrm>
              <a:off x="1082520" y="2500200"/>
              <a:ext cx="540000" cy="1924200"/>
            </a:xfrm>
            <a:custGeom>
              <a:avLst/>
              <a:gdLst/>
              <a:ahLst/>
              <a:rect l="l" t="t" r="r" b="b"/>
              <a:pathLst>
                <a:path w="390525" h="1389592">
                  <a:moveTo>
                    <a:pt x="390525" y="24342"/>
                  </a:moveTo>
                  <a:cubicBezTo>
                    <a:pt x="362479" y="17727"/>
                    <a:pt x="334433" y="11113"/>
                    <a:pt x="307975" y="11642"/>
                  </a:cubicBezTo>
                  <a:cubicBezTo>
                    <a:pt x="281517" y="12171"/>
                    <a:pt x="256117" y="0"/>
                    <a:pt x="231775" y="27517"/>
                  </a:cubicBezTo>
                  <a:cubicBezTo>
                    <a:pt x="207433" y="55034"/>
                    <a:pt x="174096" y="134938"/>
                    <a:pt x="161925" y="176742"/>
                  </a:cubicBezTo>
                  <a:cubicBezTo>
                    <a:pt x="149754" y="218546"/>
                    <a:pt x="168804" y="253471"/>
                    <a:pt x="158750" y="278342"/>
                  </a:cubicBezTo>
                  <a:cubicBezTo>
                    <a:pt x="148696" y="303213"/>
                    <a:pt x="116946" y="311150"/>
                    <a:pt x="101600" y="325967"/>
                  </a:cubicBezTo>
                  <a:cubicBezTo>
                    <a:pt x="86254" y="340784"/>
                    <a:pt x="73025" y="349250"/>
                    <a:pt x="66675" y="367242"/>
                  </a:cubicBezTo>
                  <a:cubicBezTo>
                    <a:pt x="60325" y="385234"/>
                    <a:pt x="58738" y="420688"/>
                    <a:pt x="63500" y="433917"/>
                  </a:cubicBezTo>
                  <a:cubicBezTo>
                    <a:pt x="68262" y="447146"/>
                    <a:pt x="90488" y="439209"/>
                    <a:pt x="95250" y="446617"/>
                  </a:cubicBezTo>
                  <a:cubicBezTo>
                    <a:pt x="100013" y="454025"/>
                    <a:pt x="101600" y="457200"/>
                    <a:pt x="92075" y="478367"/>
                  </a:cubicBezTo>
                  <a:cubicBezTo>
                    <a:pt x="82550" y="499534"/>
                    <a:pt x="52917" y="542925"/>
                    <a:pt x="38100" y="573617"/>
                  </a:cubicBezTo>
                  <a:cubicBezTo>
                    <a:pt x="23283" y="604309"/>
                    <a:pt x="6350" y="627592"/>
                    <a:pt x="3175" y="662517"/>
                  </a:cubicBezTo>
                  <a:cubicBezTo>
                    <a:pt x="0" y="697442"/>
                    <a:pt x="13758" y="730250"/>
                    <a:pt x="19050" y="783167"/>
                  </a:cubicBezTo>
                  <a:cubicBezTo>
                    <a:pt x="24342" y="836084"/>
                    <a:pt x="19050" y="936625"/>
                    <a:pt x="34925" y="980017"/>
                  </a:cubicBezTo>
                  <a:cubicBezTo>
                    <a:pt x="50800" y="1023409"/>
                    <a:pt x="97367" y="1027113"/>
                    <a:pt x="114300" y="1043517"/>
                  </a:cubicBezTo>
                  <a:cubicBezTo>
                    <a:pt x="131233" y="1059921"/>
                    <a:pt x="139171" y="1056746"/>
                    <a:pt x="136525" y="1078442"/>
                  </a:cubicBezTo>
                  <a:cubicBezTo>
                    <a:pt x="133879" y="1100138"/>
                    <a:pt x="111654" y="1137709"/>
                    <a:pt x="98425" y="1173692"/>
                  </a:cubicBezTo>
                  <a:cubicBezTo>
                    <a:pt x="85196" y="1209675"/>
                    <a:pt x="68792" y="1258359"/>
                    <a:pt x="57150" y="1294342"/>
                  </a:cubicBezTo>
                  <a:cubicBezTo>
                    <a:pt x="45508" y="1330325"/>
                    <a:pt x="28575" y="1389592"/>
                    <a:pt x="28575" y="1389592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 97"/>
            <p:cNvSpPr/>
            <p:nvPr/>
          </p:nvSpPr>
          <p:spPr>
            <a:xfrm>
              <a:off x="1116000" y="4397400"/>
              <a:ext cx="160200" cy="944640"/>
            </a:xfrm>
            <a:custGeom>
              <a:avLst/>
              <a:gdLst/>
              <a:ahLst/>
              <a:rect l="l" t="t" r="r" b="b"/>
              <a:pathLst>
                <a:path w="115887" h="682625">
                  <a:moveTo>
                    <a:pt x="4762" y="0"/>
                  </a:moveTo>
                  <a:cubicBezTo>
                    <a:pt x="3174" y="13758"/>
                    <a:pt x="1587" y="27517"/>
                    <a:pt x="1587" y="53975"/>
                  </a:cubicBezTo>
                  <a:cubicBezTo>
                    <a:pt x="1587" y="80433"/>
                    <a:pt x="0" y="119592"/>
                    <a:pt x="4762" y="158750"/>
                  </a:cubicBezTo>
                  <a:cubicBezTo>
                    <a:pt x="9525" y="197908"/>
                    <a:pt x="22225" y="251883"/>
                    <a:pt x="30162" y="288925"/>
                  </a:cubicBezTo>
                  <a:cubicBezTo>
                    <a:pt x="38100" y="325967"/>
                    <a:pt x="43920" y="337608"/>
                    <a:pt x="52387" y="381000"/>
                  </a:cubicBezTo>
                  <a:cubicBezTo>
                    <a:pt x="60854" y="424392"/>
                    <a:pt x="75141" y="505354"/>
                    <a:pt x="80962" y="549275"/>
                  </a:cubicBezTo>
                  <a:cubicBezTo>
                    <a:pt x="86783" y="593196"/>
                    <a:pt x="81491" y="622300"/>
                    <a:pt x="87312" y="644525"/>
                  </a:cubicBezTo>
                  <a:cubicBezTo>
                    <a:pt x="93133" y="666750"/>
                    <a:pt x="104510" y="674687"/>
                    <a:pt x="115887" y="682625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 98"/>
            <p:cNvSpPr/>
            <p:nvPr/>
          </p:nvSpPr>
          <p:spPr>
            <a:xfrm>
              <a:off x="1071720" y="5337360"/>
              <a:ext cx="199800" cy="1276200"/>
            </a:xfrm>
            <a:custGeom>
              <a:avLst/>
              <a:gdLst/>
              <a:ahLst/>
              <a:rect l="l" t="t" r="r" b="b"/>
              <a:pathLst>
                <a:path w="144462" h="921808">
                  <a:moveTo>
                    <a:pt x="141287" y="0"/>
                  </a:moveTo>
                  <a:cubicBezTo>
                    <a:pt x="129910" y="21431"/>
                    <a:pt x="118533" y="42862"/>
                    <a:pt x="103187" y="76200"/>
                  </a:cubicBezTo>
                  <a:cubicBezTo>
                    <a:pt x="87841" y="109538"/>
                    <a:pt x="58208" y="120121"/>
                    <a:pt x="49212" y="200025"/>
                  </a:cubicBezTo>
                  <a:cubicBezTo>
                    <a:pt x="40216" y="279929"/>
                    <a:pt x="53975" y="483129"/>
                    <a:pt x="49212" y="555625"/>
                  </a:cubicBezTo>
                  <a:cubicBezTo>
                    <a:pt x="44450" y="628121"/>
                    <a:pt x="28575" y="615421"/>
                    <a:pt x="20637" y="635000"/>
                  </a:cubicBezTo>
                  <a:cubicBezTo>
                    <a:pt x="12699" y="654579"/>
                    <a:pt x="3174" y="653521"/>
                    <a:pt x="1587" y="673100"/>
                  </a:cubicBezTo>
                  <a:cubicBezTo>
                    <a:pt x="0" y="692679"/>
                    <a:pt x="7937" y="723371"/>
                    <a:pt x="11112" y="752475"/>
                  </a:cubicBezTo>
                  <a:cubicBezTo>
                    <a:pt x="14287" y="781579"/>
                    <a:pt x="2645" y="821267"/>
                    <a:pt x="20637" y="847725"/>
                  </a:cubicBezTo>
                  <a:cubicBezTo>
                    <a:pt x="38629" y="874183"/>
                    <a:pt x="98425" y="900642"/>
                    <a:pt x="119062" y="911225"/>
                  </a:cubicBezTo>
                  <a:cubicBezTo>
                    <a:pt x="139700" y="921808"/>
                    <a:pt x="142081" y="916516"/>
                    <a:pt x="144462" y="911225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任意多边形 99"/>
          <p:cNvSpPr/>
          <p:nvPr/>
        </p:nvSpPr>
        <p:spPr>
          <a:xfrm>
            <a:off x="1266840" y="5799240"/>
            <a:ext cx="96840" cy="809640"/>
          </a:xfrm>
          <a:custGeom>
            <a:avLst/>
            <a:gdLst/>
            <a:ahLst/>
            <a:rect l="l" t="t" r="r" b="b"/>
            <a:pathLst>
              <a:path w="70379" h="584200">
                <a:moveTo>
                  <a:pt x="529" y="584200"/>
                </a:moveTo>
                <a:cubicBezTo>
                  <a:pt x="17462" y="574410"/>
                  <a:pt x="34396" y="564621"/>
                  <a:pt x="38629" y="539750"/>
                </a:cubicBezTo>
                <a:cubicBezTo>
                  <a:pt x="42862" y="514879"/>
                  <a:pt x="30691" y="461962"/>
                  <a:pt x="25929" y="434975"/>
                </a:cubicBezTo>
                <a:cubicBezTo>
                  <a:pt x="21167" y="407988"/>
                  <a:pt x="14287" y="402167"/>
                  <a:pt x="10054" y="377825"/>
                </a:cubicBezTo>
                <a:cubicBezTo>
                  <a:pt x="5821" y="353483"/>
                  <a:pt x="0" y="324908"/>
                  <a:pt x="529" y="288925"/>
                </a:cubicBezTo>
                <a:cubicBezTo>
                  <a:pt x="1058" y="252942"/>
                  <a:pt x="5292" y="196850"/>
                  <a:pt x="13229" y="161925"/>
                </a:cubicBezTo>
                <a:cubicBezTo>
                  <a:pt x="21166" y="127000"/>
                  <a:pt x="41275" y="100541"/>
                  <a:pt x="48154" y="79375"/>
                </a:cubicBezTo>
                <a:cubicBezTo>
                  <a:pt x="55033" y="58209"/>
                  <a:pt x="50800" y="48154"/>
                  <a:pt x="54504" y="34925"/>
                </a:cubicBezTo>
                <a:cubicBezTo>
                  <a:pt x="58208" y="21696"/>
                  <a:pt x="64293" y="10848"/>
                  <a:pt x="70379" y="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任意多边形 100"/>
          <p:cNvSpPr/>
          <p:nvPr/>
        </p:nvSpPr>
        <p:spPr>
          <a:xfrm>
            <a:off x="1305000" y="5808600"/>
            <a:ext cx="538200" cy="636480"/>
          </a:xfrm>
          <a:custGeom>
            <a:avLst/>
            <a:gdLst/>
            <a:ahLst/>
            <a:rect l="l" t="t" r="r" b="b"/>
            <a:pathLst>
              <a:path w="388408" h="460375">
                <a:moveTo>
                  <a:pt x="39158" y="0"/>
                </a:moveTo>
                <a:cubicBezTo>
                  <a:pt x="44449" y="11641"/>
                  <a:pt x="49741" y="23283"/>
                  <a:pt x="51858" y="50800"/>
                </a:cubicBezTo>
                <a:cubicBezTo>
                  <a:pt x="53975" y="78317"/>
                  <a:pt x="56621" y="132292"/>
                  <a:pt x="51858" y="165100"/>
                </a:cubicBezTo>
                <a:cubicBezTo>
                  <a:pt x="47095" y="197908"/>
                  <a:pt x="31221" y="226483"/>
                  <a:pt x="23283" y="247650"/>
                </a:cubicBezTo>
                <a:cubicBezTo>
                  <a:pt x="15346" y="268817"/>
                  <a:pt x="7937" y="282046"/>
                  <a:pt x="4233" y="292100"/>
                </a:cubicBezTo>
                <a:cubicBezTo>
                  <a:pt x="529" y="302154"/>
                  <a:pt x="0" y="301625"/>
                  <a:pt x="1058" y="307975"/>
                </a:cubicBezTo>
                <a:cubicBezTo>
                  <a:pt x="2116" y="314325"/>
                  <a:pt x="4233" y="322792"/>
                  <a:pt x="10583" y="330200"/>
                </a:cubicBezTo>
                <a:cubicBezTo>
                  <a:pt x="16933" y="337608"/>
                  <a:pt x="34396" y="345546"/>
                  <a:pt x="39158" y="352425"/>
                </a:cubicBezTo>
                <a:cubicBezTo>
                  <a:pt x="43920" y="359304"/>
                  <a:pt x="39687" y="362479"/>
                  <a:pt x="39158" y="371475"/>
                </a:cubicBezTo>
                <a:cubicBezTo>
                  <a:pt x="38629" y="380471"/>
                  <a:pt x="33866" y="397933"/>
                  <a:pt x="35983" y="406400"/>
                </a:cubicBezTo>
                <a:cubicBezTo>
                  <a:pt x="38100" y="414867"/>
                  <a:pt x="45508" y="420158"/>
                  <a:pt x="51858" y="422275"/>
                </a:cubicBezTo>
                <a:cubicBezTo>
                  <a:pt x="58208" y="424392"/>
                  <a:pt x="70379" y="421746"/>
                  <a:pt x="74083" y="419100"/>
                </a:cubicBezTo>
                <a:cubicBezTo>
                  <a:pt x="77787" y="416454"/>
                  <a:pt x="74612" y="412221"/>
                  <a:pt x="74083" y="406400"/>
                </a:cubicBezTo>
                <a:cubicBezTo>
                  <a:pt x="73554" y="400579"/>
                  <a:pt x="70379" y="391583"/>
                  <a:pt x="70908" y="384175"/>
                </a:cubicBezTo>
                <a:cubicBezTo>
                  <a:pt x="71437" y="376767"/>
                  <a:pt x="72496" y="365125"/>
                  <a:pt x="77258" y="361950"/>
                </a:cubicBezTo>
                <a:cubicBezTo>
                  <a:pt x="82020" y="358775"/>
                  <a:pt x="89958" y="359833"/>
                  <a:pt x="99483" y="365125"/>
                </a:cubicBezTo>
                <a:cubicBezTo>
                  <a:pt x="109008" y="370417"/>
                  <a:pt x="121179" y="380471"/>
                  <a:pt x="134408" y="393700"/>
                </a:cubicBezTo>
                <a:cubicBezTo>
                  <a:pt x="147637" y="406929"/>
                  <a:pt x="164041" y="434446"/>
                  <a:pt x="178858" y="444500"/>
                </a:cubicBezTo>
                <a:cubicBezTo>
                  <a:pt x="193675" y="454554"/>
                  <a:pt x="198437" y="451908"/>
                  <a:pt x="223308" y="454025"/>
                </a:cubicBezTo>
                <a:cubicBezTo>
                  <a:pt x="248179" y="456142"/>
                  <a:pt x="302154" y="460375"/>
                  <a:pt x="328083" y="457200"/>
                </a:cubicBezTo>
                <a:cubicBezTo>
                  <a:pt x="354012" y="454025"/>
                  <a:pt x="369358" y="440796"/>
                  <a:pt x="378883" y="434975"/>
                </a:cubicBezTo>
                <a:cubicBezTo>
                  <a:pt x="388408" y="429154"/>
                  <a:pt x="386820" y="425714"/>
                  <a:pt x="385233" y="422275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组合 91"/>
          <p:cNvGrpSpPr/>
          <p:nvPr/>
        </p:nvGrpSpPr>
        <p:grpSpPr>
          <a:xfrm>
            <a:off x="1512720" y="4111560"/>
            <a:ext cx="333720" cy="2286000"/>
            <a:chOff x="1512720" y="4111560"/>
            <a:chExt cx="333720" cy="2286000"/>
          </a:xfrm>
        </p:grpSpPr>
        <p:sp>
          <p:nvSpPr>
            <p:cNvPr id="227" name="任意多边形 101"/>
            <p:cNvSpPr/>
            <p:nvPr/>
          </p:nvSpPr>
          <p:spPr>
            <a:xfrm>
              <a:off x="1512720" y="5302080"/>
              <a:ext cx="330840" cy="1095480"/>
            </a:xfrm>
            <a:custGeom>
              <a:avLst/>
              <a:gdLst/>
              <a:ahLst/>
              <a:rect l="l" t="t" r="r" b="b"/>
              <a:pathLst>
                <a:path w="238654" h="790575">
                  <a:moveTo>
                    <a:pt x="114829" y="0"/>
                  </a:moveTo>
                  <a:cubicBezTo>
                    <a:pt x="107156" y="2646"/>
                    <a:pt x="99483" y="5292"/>
                    <a:pt x="89429" y="60325"/>
                  </a:cubicBezTo>
                  <a:cubicBezTo>
                    <a:pt x="79375" y="115358"/>
                    <a:pt x="68262" y="243946"/>
                    <a:pt x="54504" y="330200"/>
                  </a:cubicBezTo>
                  <a:cubicBezTo>
                    <a:pt x="40746" y="416454"/>
                    <a:pt x="13758" y="523875"/>
                    <a:pt x="6879" y="577850"/>
                  </a:cubicBezTo>
                  <a:cubicBezTo>
                    <a:pt x="0" y="631825"/>
                    <a:pt x="2117" y="630238"/>
                    <a:pt x="13229" y="654050"/>
                  </a:cubicBezTo>
                  <a:cubicBezTo>
                    <a:pt x="24342" y="677863"/>
                    <a:pt x="55033" y="703792"/>
                    <a:pt x="73554" y="720725"/>
                  </a:cubicBezTo>
                  <a:cubicBezTo>
                    <a:pt x="92075" y="737658"/>
                    <a:pt x="100012" y="746125"/>
                    <a:pt x="124354" y="755650"/>
                  </a:cubicBezTo>
                  <a:cubicBezTo>
                    <a:pt x="148696" y="765175"/>
                    <a:pt x="200554" y="772054"/>
                    <a:pt x="219604" y="777875"/>
                  </a:cubicBezTo>
                  <a:cubicBezTo>
                    <a:pt x="238654" y="783696"/>
                    <a:pt x="238654" y="787135"/>
                    <a:pt x="238654" y="790575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任意多边形 102"/>
            <p:cNvSpPr/>
            <p:nvPr/>
          </p:nvSpPr>
          <p:spPr>
            <a:xfrm>
              <a:off x="1666800" y="4111560"/>
              <a:ext cx="179640" cy="1195560"/>
            </a:xfrm>
            <a:custGeom>
              <a:avLst/>
              <a:gdLst/>
              <a:ahLst/>
              <a:rect l="l" t="t" r="r" b="b"/>
              <a:pathLst>
                <a:path w="129117" h="863600">
                  <a:moveTo>
                    <a:pt x="0" y="863600"/>
                  </a:moveTo>
                  <a:cubicBezTo>
                    <a:pt x="22489" y="855133"/>
                    <a:pt x="44979" y="846667"/>
                    <a:pt x="63500" y="835025"/>
                  </a:cubicBezTo>
                  <a:cubicBezTo>
                    <a:pt x="82021" y="823383"/>
                    <a:pt x="104246" y="829204"/>
                    <a:pt x="111125" y="793750"/>
                  </a:cubicBezTo>
                  <a:cubicBezTo>
                    <a:pt x="118004" y="758296"/>
                    <a:pt x="103717" y="676275"/>
                    <a:pt x="104775" y="622300"/>
                  </a:cubicBezTo>
                  <a:cubicBezTo>
                    <a:pt x="105833" y="568325"/>
                    <a:pt x="118004" y="523346"/>
                    <a:pt x="117475" y="469900"/>
                  </a:cubicBezTo>
                  <a:cubicBezTo>
                    <a:pt x="116946" y="416454"/>
                    <a:pt x="100012" y="339725"/>
                    <a:pt x="101600" y="301625"/>
                  </a:cubicBezTo>
                  <a:cubicBezTo>
                    <a:pt x="103188" y="263525"/>
                    <a:pt x="124883" y="261408"/>
                    <a:pt x="127000" y="241300"/>
                  </a:cubicBezTo>
                  <a:cubicBezTo>
                    <a:pt x="129117" y="221192"/>
                    <a:pt x="116417" y="195263"/>
                    <a:pt x="114300" y="180975"/>
                  </a:cubicBezTo>
                  <a:cubicBezTo>
                    <a:pt x="112183" y="166688"/>
                    <a:pt x="113242" y="171979"/>
                    <a:pt x="114300" y="155575"/>
                  </a:cubicBezTo>
                  <a:cubicBezTo>
                    <a:pt x="115358" y="139171"/>
                    <a:pt x="123825" y="108479"/>
                    <a:pt x="120650" y="82550"/>
                  </a:cubicBezTo>
                  <a:cubicBezTo>
                    <a:pt x="117475" y="56621"/>
                    <a:pt x="106362" y="28310"/>
                    <a:pt x="95250" y="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任意多边形 103"/>
          <p:cNvSpPr/>
          <p:nvPr/>
        </p:nvSpPr>
        <p:spPr>
          <a:xfrm>
            <a:off x="1609560" y="2538360"/>
            <a:ext cx="225720" cy="777960"/>
          </a:xfrm>
          <a:custGeom>
            <a:avLst/>
            <a:gdLst/>
            <a:ahLst/>
            <a:rect l="l" t="t" r="r" b="b"/>
            <a:pathLst>
              <a:path w="162983" h="561975">
                <a:moveTo>
                  <a:pt x="0" y="0"/>
                </a:moveTo>
                <a:cubicBezTo>
                  <a:pt x="17462" y="2381"/>
                  <a:pt x="34925" y="4763"/>
                  <a:pt x="50800" y="9525"/>
                </a:cubicBezTo>
                <a:cubicBezTo>
                  <a:pt x="66675" y="14287"/>
                  <a:pt x="80963" y="14288"/>
                  <a:pt x="95250" y="28575"/>
                </a:cubicBezTo>
                <a:cubicBezTo>
                  <a:pt x="109537" y="42862"/>
                  <a:pt x="131233" y="74084"/>
                  <a:pt x="136525" y="95250"/>
                </a:cubicBezTo>
                <a:cubicBezTo>
                  <a:pt x="141817" y="116416"/>
                  <a:pt x="130175" y="141288"/>
                  <a:pt x="127000" y="155575"/>
                </a:cubicBezTo>
                <a:cubicBezTo>
                  <a:pt x="123825" y="169862"/>
                  <a:pt x="113771" y="166688"/>
                  <a:pt x="117475" y="180975"/>
                </a:cubicBezTo>
                <a:cubicBezTo>
                  <a:pt x="121179" y="195262"/>
                  <a:pt x="142346" y="227542"/>
                  <a:pt x="149225" y="241300"/>
                </a:cubicBezTo>
                <a:cubicBezTo>
                  <a:pt x="156104" y="255058"/>
                  <a:pt x="162983" y="255588"/>
                  <a:pt x="158750" y="263525"/>
                </a:cubicBezTo>
                <a:cubicBezTo>
                  <a:pt x="154517" y="271462"/>
                  <a:pt x="128587" y="277283"/>
                  <a:pt x="123825" y="288925"/>
                </a:cubicBezTo>
                <a:cubicBezTo>
                  <a:pt x="119063" y="300567"/>
                  <a:pt x="133879" y="318029"/>
                  <a:pt x="130175" y="333375"/>
                </a:cubicBezTo>
                <a:cubicBezTo>
                  <a:pt x="126471" y="348721"/>
                  <a:pt x="112713" y="373592"/>
                  <a:pt x="101600" y="381000"/>
                </a:cubicBezTo>
                <a:cubicBezTo>
                  <a:pt x="90488" y="388408"/>
                  <a:pt x="76200" y="369888"/>
                  <a:pt x="63500" y="377825"/>
                </a:cubicBezTo>
                <a:cubicBezTo>
                  <a:pt x="50800" y="385762"/>
                  <a:pt x="32808" y="407988"/>
                  <a:pt x="25400" y="428625"/>
                </a:cubicBezTo>
                <a:cubicBezTo>
                  <a:pt x="17992" y="449262"/>
                  <a:pt x="9525" y="479425"/>
                  <a:pt x="19050" y="501650"/>
                </a:cubicBezTo>
                <a:cubicBezTo>
                  <a:pt x="28575" y="523875"/>
                  <a:pt x="55562" y="542925"/>
                  <a:pt x="82550" y="561975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任意多边形 104"/>
          <p:cNvSpPr/>
          <p:nvPr/>
        </p:nvSpPr>
        <p:spPr>
          <a:xfrm>
            <a:off x="1711440" y="2532240"/>
            <a:ext cx="687240" cy="784080"/>
          </a:xfrm>
          <a:custGeom>
            <a:avLst/>
            <a:gdLst/>
            <a:ahLst/>
            <a:rect l="l" t="t" r="r" b="b"/>
            <a:pathLst>
              <a:path w="496358" h="566208">
                <a:moveTo>
                  <a:pt x="0" y="566208"/>
                </a:moveTo>
                <a:cubicBezTo>
                  <a:pt x="17991" y="549804"/>
                  <a:pt x="35983" y="533400"/>
                  <a:pt x="73025" y="505883"/>
                </a:cubicBezTo>
                <a:cubicBezTo>
                  <a:pt x="110067" y="478366"/>
                  <a:pt x="195792" y="423333"/>
                  <a:pt x="222250" y="401108"/>
                </a:cubicBezTo>
                <a:cubicBezTo>
                  <a:pt x="248708" y="378883"/>
                  <a:pt x="234421" y="381529"/>
                  <a:pt x="231775" y="372533"/>
                </a:cubicBezTo>
                <a:cubicBezTo>
                  <a:pt x="229129" y="363537"/>
                  <a:pt x="215371" y="361950"/>
                  <a:pt x="206375" y="347133"/>
                </a:cubicBezTo>
                <a:cubicBezTo>
                  <a:pt x="197379" y="332316"/>
                  <a:pt x="183092" y="311150"/>
                  <a:pt x="177800" y="283633"/>
                </a:cubicBezTo>
                <a:cubicBezTo>
                  <a:pt x="172508" y="256116"/>
                  <a:pt x="176742" y="205846"/>
                  <a:pt x="174625" y="182033"/>
                </a:cubicBezTo>
                <a:cubicBezTo>
                  <a:pt x="172508" y="158220"/>
                  <a:pt x="164571" y="158220"/>
                  <a:pt x="165100" y="140758"/>
                </a:cubicBezTo>
                <a:cubicBezTo>
                  <a:pt x="165629" y="123296"/>
                  <a:pt x="164571" y="97366"/>
                  <a:pt x="177800" y="77258"/>
                </a:cubicBezTo>
                <a:cubicBezTo>
                  <a:pt x="191029" y="57150"/>
                  <a:pt x="219604" y="32808"/>
                  <a:pt x="244475" y="20108"/>
                </a:cubicBezTo>
                <a:cubicBezTo>
                  <a:pt x="269346" y="7408"/>
                  <a:pt x="306917" y="2116"/>
                  <a:pt x="327025" y="1058"/>
                </a:cubicBezTo>
                <a:cubicBezTo>
                  <a:pt x="347133" y="0"/>
                  <a:pt x="352425" y="8995"/>
                  <a:pt x="365125" y="13758"/>
                </a:cubicBezTo>
                <a:cubicBezTo>
                  <a:pt x="377825" y="18521"/>
                  <a:pt x="388408" y="24341"/>
                  <a:pt x="403225" y="29633"/>
                </a:cubicBezTo>
                <a:cubicBezTo>
                  <a:pt x="418042" y="34925"/>
                  <a:pt x="439737" y="37041"/>
                  <a:pt x="454025" y="45508"/>
                </a:cubicBezTo>
                <a:cubicBezTo>
                  <a:pt x="468313" y="53975"/>
                  <a:pt x="482600" y="54504"/>
                  <a:pt x="488950" y="80433"/>
                </a:cubicBezTo>
                <a:cubicBezTo>
                  <a:pt x="495300" y="106362"/>
                  <a:pt x="496358" y="169862"/>
                  <a:pt x="492125" y="201083"/>
                </a:cubicBezTo>
                <a:cubicBezTo>
                  <a:pt x="487892" y="232304"/>
                  <a:pt x="473604" y="242887"/>
                  <a:pt x="463550" y="267758"/>
                </a:cubicBezTo>
                <a:cubicBezTo>
                  <a:pt x="453496" y="292629"/>
                  <a:pt x="431800" y="350308"/>
                  <a:pt x="431800" y="35030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任意多边形 105"/>
          <p:cNvSpPr/>
          <p:nvPr/>
        </p:nvSpPr>
        <p:spPr>
          <a:xfrm>
            <a:off x="2305080" y="2590920"/>
            <a:ext cx="1442880" cy="547560"/>
          </a:xfrm>
          <a:custGeom>
            <a:avLst/>
            <a:gdLst/>
            <a:ahLst/>
            <a:rect l="l" t="t" r="r" b="b"/>
            <a:pathLst>
              <a:path w="1041929" h="396346">
                <a:moveTo>
                  <a:pt x="2117" y="302154"/>
                </a:moveTo>
                <a:cubicBezTo>
                  <a:pt x="1058" y="324643"/>
                  <a:pt x="0" y="347133"/>
                  <a:pt x="21167" y="362479"/>
                </a:cubicBezTo>
                <a:cubicBezTo>
                  <a:pt x="42334" y="377825"/>
                  <a:pt x="97896" y="396346"/>
                  <a:pt x="129117" y="394229"/>
                </a:cubicBezTo>
                <a:cubicBezTo>
                  <a:pt x="160338" y="392112"/>
                  <a:pt x="155575" y="359833"/>
                  <a:pt x="208492" y="349779"/>
                </a:cubicBezTo>
                <a:cubicBezTo>
                  <a:pt x="261409" y="339725"/>
                  <a:pt x="382588" y="347662"/>
                  <a:pt x="446617" y="333904"/>
                </a:cubicBezTo>
                <a:cubicBezTo>
                  <a:pt x="510646" y="320146"/>
                  <a:pt x="537105" y="295804"/>
                  <a:pt x="592667" y="267229"/>
                </a:cubicBezTo>
                <a:cubicBezTo>
                  <a:pt x="648230" y="238654"/>
                  <a:pt x="738188" y="191029"/>
                  <a:pt x="779992" y="162454"/>
                </a:cubicBezTo>
                <a:cubicBezTo>
                  <a:pt x="821796" y="133879"/>
                  <a:pt x="804863" y="121179"/>
                  <a:pt x="843492" y="95779"/>
                </a:cubicBezTo>
                <a:cubicBezTo>
                  <a:pt x="882121" y="70379"/>
                  <a:pt x="981605" y="20108"/>
                  <a:pt x="1011767" y="10054"/>
                </a:cubicBezTo>
                <a:cubicBezTo>
                  <a:pt x="1041929" y="0"/>
                  <a:pt x="1024467" y="30692"/>
                  <a:pt x="1024467" y="35454"/>
                </a:cubicBezTo>
                <a:cubicBezTo>
                  <a:pt x="1024467" y="40216"/>
                  <a:pt x="1018117" y="39422"/>
                  <a:pt x="1011767" y="38629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任意多边形 106"/>
          <p:cNvSpPr/>
          <p:nvPr/>
        </p:nvSpPr>
        <p:spPr>
          <a:xfrm>
            <a:off x="2641680" y="2647800"/>
            <a:ext cx="1077840" cy="1436760"/>
          </a:xfrm>
          <a:custGeom>
            <a:avLst/>
            <a:gdLst/>
            <a:ahLst/>
            <a:rect l="l" t="t" r="r" b="b"/>
            <a:pathLst>
              <a:path w="778404" h="1038225">
                <a:moveTo>
                  <a:pt x="778404" y="0"/>
                </a:moveTo>
                <a:cubicBezTo>
                  <a:pt x="762000" y="13758"/>
                  <a:pt x="745596" y="27517"/>
                  <a:pt x="733954" y="38100"/>
                </a:cubicBezTo>
                <a:cubicBezTo>
                  <a:pt x="722312" y="48683"/>
                  <a:pt x="710142" y="47625"/>
                  <a:pt x="708554" y="63500"/>
                </a:cubicBezTo>
                <a:cubicBezTo>
                  <a:pt x="706967" y="79375"/>
                  <a:pt x="730250" y="117475"/>
                  <a:pt x="724429" y="133350"/>
                </a:cubicBezTo>
                <a:cubicBezTo>
                  <a:pt x="718608" y="149225"/>
                  <a:pt x="690033" y="150283"/>
                  <a:pt x="673629" y="158750"/>
                </a:cubicBezTo>
                <a:cubicBezTo>
                  <a:pt x="657225" y="167217"/>
                  <a:pt x="640821" y="179387"/>
                  <a:pt x="626004" y="184150"/>
                </a:cubicBezTo>
                <a:cubicBezTo>
                  <a:pt x="611187" y="188913"/>
                  <a:pt x="606954" y="170921"/>
                  <a:pt x="584729" y="187325"/>
                </a:cubicBezTo>
                <a:cubicBezTo>
                  <a:pt x="562504" y="203729"/>
                  <a:pt x="530225" y="249767"/>
                  <a:pt x="492654" y="282575"/>
                </a:cubicBezTo>
                <a:cubicBezTo>
                  <a:pt x="455083" y="315383"/>
                  <a:pt x="405871" y="350838"/>
                  <a:pt x="359304" y="384175"/>
                </a:cubicBezTo>
                <a:cubicBezTo>
                  <a:pt x="312737" y="417513"/>
                  <a:pt x="255058" y="451379"/>
                  <a:pt x="213254" y="482600"/>
                </a:cubicBezTo>
                <a:cubicBezTo>
                  <a:pt x="171450" y="513821"/>
                  <a:pt x="135996" y="545042"/>
                  <a:pt x="108479" y="571500"/>
                </a:cubicBezTo>
                <a:cubicBezTo>
                  <a:pt x="80962" y="597958"/>
                  <a:pt x="59266" y="613833"/>
                  <a:pt x="48154" y="641350"/>
                </a:cubicBezTo>
                <a:cubicBezTo>
                  <a:pt x="37042" y="668867"/>
                  <a:pt x="45508" y="713317"/>
                  <a:pt x="41804" y="736600"/>
                </a:cubicBezTo>
                <a:cubicBezTo>
                  <a:pt x="38100" y="759883"/>
                  <a:pt x="30691" y="767821"/>
                  <a:pt x="25929" y="781050"/>
                </a:cubicBezTo>
                <a:cubicBezTo>
                  <a:pt x="21167" y="794279"/>
                  <a:pt x="17462" y="793221"/>
                  <a:pt x="13229" y="815975"/>
                </a:cubicBezTo>
                <a:cubicBezTo>
                  <a:pt x="8996" y="838729"/>
                  <a:pt x="1058" y="880533"/>
                  <a:pt x="529" y="917575"/>
                </a:cubicBezTo>
                <a:cubicBezTo>
                  <a:pt x="0" y="954617"/>
                  <a:pt x="5027" y="996421"/>
                  <a:pt x="10054" y="1038225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任意多边形 107"/>
          <p:cNvSpPr/>
          <p:nvPr/>
        </p:nvSpPr>
        <p:spPr>
          <a:xfrm>
            <a:off x="2651040" y="4049640"/>
            <a:ext cx="195480" cy="2131920"/>
          </a:xfrm>
          <a:custGeom>
            <a:avLst/>
            <a:gdLst/>
            <a:ahLst/>
            <a:rect l="l" t="t" r="r" b="b"/>
            <a:pathLst>
              <a:path w="141287" h="1539875">
                <a:moveTo>
                  <a:pt x="0" y="0"/>
                </a:moveTo>
                <a:cubicBezTo>
                  <a:pt x="2116" y="27252"/>
                  <a:pt x="4233" y="54504"/>
                  <a:pt x="12700" y="88900"/>
                </a:cubicBezTo>
                <a:cubicBezTo>
                  <a:pt x="21167" y="123296"/>
                  <a:pt x="33338" y="168275"/>
                  <a:pt x="50800" y="206375"/>
                </a:cubicBezTo>
                <a:cubicBezTo>
                  <a:pt x="68262" y="244475"/>
                  <a:pt x="103188" y="294217"/>
                  <a:pt x="117475" y="317500"/>
                </a:cubicBezTo>
                <a:cubicBezTo>
                  <a:pt x="131762" y="340783"/>
                  <a:pt x="141287" y="332317"/>
                  <a:pt x="136525" y="346075"/>
                </a:cubicBezTo>
                <a:cubicBezTo>
                  <a:pt x="131763" y="359833"/>
                  <a:pt x="103717" y="386292"/>
                  <a:pt x="88900" y="400050"/>
                </a:cubicBezTo>
                <a:cubicBezTo>
                  <a:pt x="74083" y="413808"/>
                  <a:pt x="55563" y="420158"/>
                  <a:pt x="47625" y="428625"/>
                </a:cubicBezTo>
                <a:cubicBezTo>
                  <a:pt x="39688" y="437092"/>
                  <a:pt x="39158" y="424392"/>
                  <a:pt x="41275" y="450850"/>
                </a:cubicBezTo>
                <a:cubicBezTo>
                  <a:pt x="43392" y="477308"/>
                  <a:pt x="53975" y="546100"/>
                  <a:pt x="60325" y="587375"/>
                </a:cubicBezTo>
                <a:cubicBezTo>
                  <a:pt x="66675" y="628650"/>
                  <a:pt x="73025" y="666221"/>
                  <a:pt x="79375" y="698500"/>
                </a:cubicBezTo>
                <a:cubicBezTo>
                  <a:pt x="85725" y="730779"/>
                  <a:pt x="98425" y="750358"/>
                  <a:pt x="98425" y="781050"/>
                </a:cubicBezTo>
                <a:cubicBezTo>
                  <a:pt x="98425" y="811742"/>
                  <a:pt x="84667" y="839788"/>
                  <a:pt x="79375" y="882650"/>
                </a:cubicBezTo>
                <a:cubicBezTo>
                  <a:pt x="74083" y="925512"/>
                  <a:pt x="68262" y="976842"/>
                  <a:pt x="66675" y="1038225"/>
                </a:cubicBezTo>
                <a:cubicBezTo>
                  <a:pt x="65088" y="1099608"/>
                  <a:pt x="66146" y="1184275"/>
                  <a:pt x="69850" y="1250950"/>
                </a:cubicBezTo>
                <a:cubicBezTo>
                  <a:pt x="73554" y="1317625"/>
                  <a:pt x="78317" y="1390121"/>
                  <a:pt x="88900" y="1438275"/>
                </a:cubicBezTo>
                <a:cubicBezTo>
                  <a:pt x="99483" y="1486429"/>
                  <a:pt x="116416" y="1513152"/>
                  <a:pt x="133350" y="1539875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任意多边形 108"/>
          <p:cNvSpPr/>
          <p:nvPr/>
        </p:nvSpPr>
        <p:spPr>
          <a:xfrm>
            <a:off x="2523960" y="6137280"/>
            <a:ext cx="424080" cy="209520"/>
          </a:xfrm>
          <a:custGeom>
            <a:avLst/>
            <a:gdLst/>
            <a:ahLst/>
            <a:rect l="l" t="t" r="r" b="b"/>
            <a:pathLst>
              <a:path w="306387" h="151342">
                <a:moveTo>
                  <a:pt x="216429" y="15875"/>
                </a:moveTo>
                <a:cubicBezTo>
                  <a:pt x="224895" y="30427"/>
                  <a:pt x="233362" y="44979"/>
                  <a:pt x="245004" y="57150"/>
                </a:cubicBezTo>
                <a:cubicBezTo>
                  <a:pt x="256646" y="69321"/>
                  <a:pt x="276225" y="80963"/>
                  <a:pt x="286279" y="88900"/>
                </a:cubicBezTo>
                <a:cubicBezTo>
                  <a:pt x="296333" y="96837"/>
                  <a:pt x="306387" y="97367"/>
                  <a:pt x="305329" y="104775"/>
                </a:cubicBezTo>
                <a:cubicBezTo>
                  <a:pt x="304271" y="112183"/>
                  <a:pt x="295804" y="127000"/>
                  <a:pt x="279929" y="133350"/>
                </a:cubicBezTo>
                <a:cubicBezTo>
                  <a:pt x="264054" y="139700"/>
                  <a:pt x="239183" y="151342"/>
                  <a:pt x="210079" y="142875"/>
                </a:cubicBezTo>
                <a:cubicBezTo>
                  <a:pt x="180975" y="134408"/>
                  <a:pt x="135466" y="96837"/>
                  <a:pt x="105304" y="82550"/>
                </a:cubicBezTo>
                <a:cubicBezTo>
                  <a:pt x="75142" y="68263"/>
                  <a:pt x="46037" y="63500"/>
                  <a:pt x="29104" y="57150"/>
                </a:cubicBezTo>
                <a:cubicBezTo>
                  <a:pt x="12171" y="50800"/>
                  <a:pt x="7408" y="53975"/>
                  <a:pt x="3704" y="44450"/>
                </a:cubicBezTo>
                <a:cubicBezTo>
                  <a:pt x="0" y="34925"/>
                  <a:pt x="6879" y="0"/>
                  <a:pt x="6879" y="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任意多边形 109"/>
          <p:cNvSpPr/>
          <p:nvPr/>
        </p:nvSpPr>
        <p:spPr>
          <a:xfrm>
            <a:off x="2357280" y="4792680"/>
            <a:ext cx="173160" cy="1393920"/>
          </a:xfrm>
          <a:custGeom>
            <a:avLst/>
            <a:gdLst/>
            <a:ahLst/>
            <a:rect l="l" t="t" r="r" b="b"/>
            <a:pathLst>
              <a:path w="125412" h="1006475">
                <a:moveTo>
                  <a:pt x="0" y="0"/>
                </a:moveTo>
                <a:cubicBezTo>
                  <a:pt x="16404" y="49477"/>
                  <a:pt x="32808" y="98954"/>
                  <a:pt x="47625" y="152400"/>
                </a:cubicBezTo>
                <a:cubicBezTo>
                  <a:pt x="62442" y="205846"/>
                  <a:pt x="80963" y="254000"/>
                  <a:pt x="88900" y="320675"/>
                </a:cubicBezTo>
                <a:cubicBezTo>
                  <a:pt x="96837" y="387350"/>
                  <a:pt x="91017" y="483658"/>
                  <a:pt x="95250" y="552450"/>
                </a:cubicBezTo>
                <a:cubicBezTo>
                  <a:pt x="99483" y="621242"/>
                  <a:pt x="112183" y="694267"/>
                  <a:pt x="114300" y="733425"/>
                </a:cubicBezTo>
                <a:cubicBezTo>
                  <a:pt x="116417" y="772583"/>
                  <a:pt x="106363" y="750888"/>
                  <a:pt x="107950" y="787400"/>
                </a:cubicBezTo>
                <a:cubicBezTo>
                  <a:pt x="109537" y="823912"/>
                  <a:pt x="122238" y="915988"/>
                  <a:pt x="123825" y="952500"/>
                </a:cubicBezTo>
                <a:cubicBezTo>
                  <a:pt x="125412" y="989012"/>
                  <a:pt x="121443" y="997743"/>
                  <a:pt x="117475" y="1006475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任意多边形 110"/>
          <p:cNvSpPr/>
          <p:nvPr/>
        </p:nvSpPr>
        <p:spPr>
          <a:xfrm>
            <a:off x="1832040" y="3578400"/>
            <a:ext cx="85680" cy="99720"/>
          </a:xfrm>
          <a:custGeom>
            <a:avLst/>
            <a:gdLst/>
            <a:ahLst/>
            <a:rect l="l" t="t" r="r" b="b"/>
            <a:pathLst>
              <a:path w="62441" h="71966">
                <a:moveTo>
                  <a:pt x="23812" y="1058"/>
                </a:moveTo>
                <a:cubicBezTo>
                  <a:pt x="13758" y="0"/>
                  <a:pt x="0" y="40216"/>
                  <a:pt x="1587" y="51858"/>
                </a:cubicBezTo>
                <a:cubicBezTo>
                  <a:pt x="3174" y="63500"/>
                  <a:pt x="23283" y="69850"/>
                  <a:pt x="33337" y="70908"/>
                </a:cubicBezTo>
                <a:cubicBezTo>
                  <a:pt x="43391" y="71966"/>
                  <a:pt x="61383" y="69320"/>
                  <a:pt x="61912" y="58208"/>
                </a:cubicBezTo>
                <a:cubicBezTo>
                  <a:pt x="62441" y="47096"/>
                  <a:pt x="33866" y="2116"/>
                  <a:pt x="23812" y="1058"/>
                </a:cubicBez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任意多边形 111"/>
          <p:cNvSpPr/>
          <p:nvPr/>
        </p:nvSpPr>
        <p:spPr>
          <a:xfrm>
            <a:off x="1808280" y="4087800"/>
            <a:ext cx="411120" cy="2292480"/>
          </a:xfrm>
          <a:custGeom>
            <a:avLst/>
            <a:gdLst/>
            <a:ahLst/>
            <a:rect l="l" t="t" r="r" b="b"/>
            <a:pathLst>
              <a:path w="296869" h="1655438">
                <a:moveTo>
                  <a:pt x="0" y="20962"/>
                </a:moveTo>
                <a:cubicBezTo>
                  <a:pt x="18696" y="15296"/>
                  <a:pt x="37393" y="9631"/>
                  <a:pt x="54389" y="7365"/>
                </a:cubicBezTo>
                <a:cubicBezTo>
                  <a:pt x="71385" y="5099"/>
                  <a:pt x="87248" y="0"/>
                  <a:pt x="101978" y="7365"/>
                </a:cubicBezTo>
                <a:cubicBezTo>
                  <a:pt x="116708" y="14730"/>
                  <a:pt x="134837" y="36825"/>
                  <a:pt x="142769" y="51555"/>
                </a:cubicBezTo>
                <a:cubicBezTo>
                  <a:pt x="150701" y="66285"/>
                  <a:pt x="154667" y="69119"/>
                  <a:pt x="149568" y="95746"/>
                </a:cubicBezTo>
                <a:cubicBezTo>
                  <a:pt x="144469" y="122374"/>
                  <a:pt x="120674" y="184126"/>
                  <a:pt x="112176" y="211320"/>
                </a:cubicBezTo>
                <a:cubicBezTo>
                  <a:pt x="103678" y="238514"/>
                  <a:pt x="97446" y="239648"/>
                  <a:pt x="98579" y="258910"/>
                </a:cubicBezTo>
                <a:cubicBezTo>
                  <a:pt x="99712" y="278172"/>
                  <a:pt x="117274" y="305366"/>
                  <a:pt x="118974" y="326895"/>
                </a:cubicBezTo>
                <a:cubicBezTo>
                  <a:pt x="120674" y="348424"/>
                  <a:pt x="107644" y="364854"/>
                  <a:pt x="108777" y="388082"/>
                </a:cubicBezTo>
                <a:cubicBezTo>
                  <a:pt x="109910" y="411310"/>
                  <a:pt x="121241" y="431706"/>
                  <a:pt x="125773" y="466265"/>
                </a:cubicBezTo>
                <a:cubicBezTo>
                  <a:pt x="130305" y="500824"/>
                  <a:pt x="137671" y="549546"/>
                  <a:pt x="135971" y="595436"/>
                </a:cubicBezTo>
                <a:cubicBezTo>
                  <a:pt x="134271" y="641326"/>
                  <a:pt x="117841" y="686083"/>
                  <a:pt x="115575" y="741604"/>
                </a:cubicBezTo>
                <a:cubicBezTo>
                  <a:pt x="113309" y="797125"/>
                  <a:pt x="116709" y="875875"/>
                  <a:pt x="122374" y="928563"/>
                </a:cubicBezTo>
                <a:cubicBezTo>
                  <a:pt x="128039" y="981251"/>
                  <a:pt x="144469" y="1016377"/>
                  <a:pt x="149568" y="1057735"/>
                </a:cubicBezTo>
                <a:cubicBezTo>
                  <a:pt x="154667" y="1099093"/>
                  <a:pt x="148435" y="1137051"/>
                  <a:pt x="152967" y="1176709"/>
                </a:cubicBezTo>
                <a:cubicBezTo>
                  <a:pt x="157499" y="1216367"/>
                  <a:pt x="172796" y="1263390"/>
                  <a:pt x="176762" y="1295683"/>
                </a:cubicBezTo>
                <a:cubicBezTo>
                  <a:pt x="180728" y="1327976"/>
                  <a:pt x="179028" y="1346672"/>
                  <a:pt x="176762" y="1370467"/>
                </a:cubicBezTo>
                <a:cubicBezTo>
                  <a:pt x="174496" y="1394262"/>
                  <a:pt x="162599" y="1418057"/>
                  <a:pt x="163165" y="1438452"/>
                </a:cubicBezTo>
                <a:cubicBezTo>
                  <a:pt x="163731" y="1458847"/>
                  <a:pt x="178461" y="1470178"/>
                  <a:pt x="180161" y="1492840"/>
                </a:cubicBezTo>
                <a:cubicBezTo>
                  <a:pt x="181861" y="1515502"/>
                  <a:pt x="164865" y="1549494"/>
                  <a:pt x="173363" y="1574422"/>
                </a:cubicBezTo>
                <a:cubicBezTo>
                  <a:pt x="181861" y="1599350"/>
                  <a:pt x="211888" y="1629376"/>
                  <a:pt x="231150" y="1642407"/>
                </a:cubicBezTo>
                <a:cubicBezTo>
                  <a:pt x="250412" y="1655438"/>
                  <a:pt x="281005" y="1651472"/>
                  <a:pt x="288937" y="1652605"/>
                </a:cubicBezTo>
                <a:cubicBezTo>
                  <a:pt x="296869" y="1653738"/>
                  <a:pt x="278739" y="1649206"/>
                  <a:pt x="278739" y="164920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任意多边形 112"/>
          <p:cNvSpPr/>
          <p:nvPr/>
        </p:nvSpPr>
        <p:spPr>
          <a:xfrm>
            <a:off x="2203560" y="4803840"/>
            <a:ext cx="155520" cy="1577880"/>
          </a:xfrm>
          <a:custGeom>
            <a:avLst/>
            <a:gdLst/>
            <a:ahLst/>
            <a:rect l="l" t="t" r="r" b="b"/>
            <a:pathLst>
              <a:path w="112175" h="1139318">
                <a:moveTo>
                  <a:pt x="112175" y="0"/>
                </a:moveTo>
                <a:cubicBezTo>
                  <a:pt x="105093" y="5099"/>
                  <a:pt x="98012" y="10198"/>
                  <a:pt x="88381" y="44191"/>
                </a:cubicBezTo>
                <a:cubicBezTo>
                  <a:pt x="78750" y="78184"/>
                  <a:pt x="60054" y="165431"/>
                  <a:pt x="54388" y="203956"/>
                </a:cubicBezTo>
                <a:cubicBezTo>
                  <a:pt x="48722" y="242481"/>
                  <a:pt x="56654" y="248146"/>
                  <a:pt x="54388" y="275340"/>
                </a:cubicBezTo>
                <a:cubicBezTo>
                  <a:pt x="52122" y="302534"/>
                  <a:pt x="44190" y="330295"/>
                  <a:pt x="40791" y="367120"/>
                </a:cubicBezTo>
                <a:cubicBezTo>
                  <a:pt x="37392" y="403945"/>
                  <a:pt x="33993" y="496292"/>
                  <a:pt x="33993" y="496292"/>
                </a:cubicBezTo>
                <a:cubicBezTo>
                  <a:pt x="31160" y="550113"/>
                  <a:pt x="22096" y="648691"/>
                  <a:pt x="23795" y="690049"/>
                </a:cubicBezTo>
                <a:cubicBezTo>
                  <a:pt x="25494" y="731407"/>
                  <a:pt x="39091" y="726309"/>
                  <a:pt x="44190" y="744438"/>
                </a:cubicBezTo>
                <a:cubicBezTo>
                  <a:pt x="49289" y="762568"/>
                  <a:pt x="47590" y="780130"/>
                  <a:pt x="54388" y="798826"/>
                </a:cubicBezTo>
                <a:cubicBezTo>
                  <a:pt x="61187" y="817522"/>
                  <a:pt x="82715" y="836217"/>
                  <a:pt x="84981" y="856613"/>
                </a:cubicBezTo>
                <a:cubicBezTo>
                  <a:pt x="87247" y="877009"/>
                  <a:pt x="75917" y="900237"/>
                  <a:pt x="67985" y="921199"/>
                </a:cubicBezTo>
                <a:cubicBezTo>
                  <a:pt x="60054" y="942161"/>
                  <a:pt x="39658" y="963690"/>
                  <a:pt x="37392" y="982386"/>
                </a:cubicBezTo>
                <a:cubicBezTo>
                  <a:pt x="35126" y="1001082"/>
                  <a:pt x="48723" y="1019211"/>
                  <a:pt x="54388" y="1033374"/>
                </a:cubicBezTo>
                <a:cubicBezTo>
                  <a:pt x="60053" y="1047538"/>
                  <a:pt x="74783" y="1051504"/>
                  <a:pt x="71384" y="1067367"/>
                </a:cubicBezTo>
                <a:cubicBezTo>
                  <a:pt x="67985" y="1083230"/>
                  <a:pt x="45890" y="1117790"/>
                  <a:pt x="33993" y="1128554"/>
                </a:cubicBezTo>
                <a:cubicBezTo>
                  <a:pt x="22096" y="1139318"/>
                  <a:pt x="11048" y="1135635"/>
                  <a:pt x="0" y="1131953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88"/>
          <p:cNvSpPr/>
          <p:nvPr/>
        </p:nvSpPr>
        <p:spPr>
          <a:xfrm>
            <a:off x="857160" y="341280"/>
            <a:ext cx="135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89"/>
          <p:cNvSpPr/>
          <p:nvPr/>
        </p:nvSpPr>
        <p:spPr>
          <a:xfrm>
            <a:off x="1714680" y="857160"/>
            <a:ext cx="71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曾在演示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为如何引起受众的关注而发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fade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3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3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2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3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2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3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2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3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3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2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3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3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3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3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3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3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3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3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9" dur="3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3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3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3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3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3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3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3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3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3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3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3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3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35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3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3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3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3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8300"/>
                            </p:stCondLst>
                            <p:childTnLst>
                              <p:par>
                                <p:cTn id="3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3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8600"/>
                            </p:stCondLst>
                            <p:childTnLst>
                              <p:par>
                                <p:cTn id="3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3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8900"/>
                            </p:stCondLst>
                            <p:childTnLst>
                              <p:par>
                                <p:cTn id="3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3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92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9700"/>
                            </p:stCondLst>
                            <p:childTnLst>
                              <p:par>
                                <p:cTn id="38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11200"/>
                            </p:stCondLst>
                            <p:childTnLst>
                              <p:par>
                                <p:cTn id="389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任意多边形 53"/>
          <p:cNvSpPr/>
          <p:nvPr/>
        </p:nvSpPr>
        <p:spPr>
          <a:xfrm>
            <a:off x="5051520" y="5800680"/>
            <a:ext cx="2047680" cy="422280"/>
          </a:xfrm>
          <a:custGeom>
            <a:avLst/>
            <a:gdLst/>
            <a:ahLst/>
            <a:rect l="l" t="t" r="r" b="b"/>
            <a:pathLst>
              <a:path w="2047164" h="423080">
                <a:moveTo>
                  <a:pt x="0" y="0"/>
                </a:moveTo>
                <a:lnTo>
                  <a:pt x="1637731" y="0"/>
                </a:lnTo>
                <a:lnTo>
                  <a:pt x="2047164" y="42308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任意多边形 11"/>
          <p:cNvSpPr/>
          <p:nvPr/>
        </p:nvSpPr>
        <p:spPr>
          <a:xfrm>
            <a:off x="6969240" y="6107040"/>
            <a:ext cx="803160" cy="750960"/>
          </a:xfrm>
          <a:custGeom>
            <a:avLst/>
            <a:gdLst/>
            <a:ahLst/>
            <a:rect l="l" t="t" r="r" b="b"/>
            <a:pathLst>
              <a:path w="577970" h="534838">
                <a:moveTo>
                  <a:pt x="0" y="0"/>
                </a:moveTo>
                <a:lnTo>
                  <a:pt x="577970" y="534838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任意多边形 50"/>
          <p:cNvSpPr/>
          <p:nvPr/>
        </p:nvSpPr>
        <p:spPr>
          <a:xfrm>
            <a:off x="4871880" y="4545000"/>
            <a:ext cx="2565720" cy="1992240"/>
          </a:xfrm>
          <a:custGeom>
            <a:avLst/>
            <a:gdLst/>
            <a:ahLst/>
            <a:rect l="l" t="t" r="r" b="b"/>
            <a:pathLst>
              <a:path w="2565779" h="1992574">
                <a:moveTo>
                  <a:pt x="95534" y="1746914"/>
                </a:moveTo>
                <a:lnTo>
                  <a:pt x="313898" y="968992"/>
                </a:lnTo>
                <a:lnTo>
                  <a:pt x="532262" y="177421"/>
                </a:lnTo>
                <a:lnTo>
                  <a:pt x="2538483" y="0"/>
                </a:lnTo>
                <a:lnTo>
                  <a:pt x="2565779" y="54592"/>
                </a:lnTo>
                <a:lnTo>
                  <a:pt x="2047164" y="1746914"/>
                </a:lnTo>
                <a:lnTo>
                  <a:pt x="0" y="1992574"/>
                </a:lnTo>
                <a:lnTo>
                  <a:pt x="95534" y="1746914"/>
                </a:lnTo>
                <a:close/>
              </a:path>
            </a:pathLst>
          </a:custGeom>
          <a:solidFill>
            <a:srgbClr val="00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组合 40"/>
          <p:cNvGrpSpPr/>
          <p:nvPr/>
        </p:nvGrpSpPr>
        <p:grpSpPr>
          <a:xfrm>
            <a:off x="189000" y="1440000"/>
            <a:ext cx="1554120" cy="4128840"/>
            <a:chOff x="189000" y="1440000"/>
            <a:chExt cx="1554120" cy="4128840"/>
          </a:xfrm>
        </p:grpSpPr>
        <p:sp>
          <p:nvSpPr>
            <p:cNvPr id="245" name="任意多边形 3"/>
            <p:cNvSpPr/>
            <p:nvPr/>
          </p:nvSpPr>
          <p:spPr>
            <a:xfrm>
              <a:off x="189000" y="2975040"/>
              <a:ext cx="1354320" cy="2593800"/>
            </a:xfrm>
            <a:custGeom>
              <a:avLst/>
              <a:gdLst/>
              <a:ahLst/>
              <a:rect l="l" t="t" r="r" b="b"/>
              <a:pathLst>
                <a:path w="1353403" h="2593075">
                  <a:moveTo>
                    <a:pt x="15922" y="2593075"/>
                  </a:moveTo>
                  <a:cubicBezTo>
                    <a:pt x="17059" y="2521424"/>
                    <a:pt x="18197" y="2449773"/>
                    <a:pt x="15922" y="2388358"/>
                  </a:cubicBezTo>
                  <a:cubicBezTo>
                    <a:pt x="13648" y="2326943"/>
                    <a:pt x="0" y="2279176"/>
                    <a:pt x="2275" y="2224585"/>
                  </a:cubicBezTo>
                  <a:cubicBezTo>
                    <a:pt x="4550" y="2169994"/>
                    <a:pt x="9098" y="2147248"/>
                    <a:pt x="29570" y="2060812"/>
                  </a:cubicBezTo>
                  <a:cubicBezTo>
                    <a:pt x="50042" y="1974376"/>
                    <a:pt x="97810" y="1801504"/>
                    <a:pt x="125105" y="1705970"/>
                  </a:cubicBezTo>
                  <a:cubicBezTo>
                    <a:pt x="152400" y="1610436"/>
                    <a:pt x="188794" y="1546746"/>
                    <a:pt x="193343" y="1487606"/>
                  </a:cubicBezTo>
                  <a:cubicBezTo>
                    <a:pt x="197892" y="1428466"/>
                    <a:pt x="145576" y="1382973"/>
                    <a:pt x="152400" y="1351128"/>
                  </a:cubicBezTo>
                  <a:cubicBezTo>
                    <a:pt x="159224" y="1319283"/>
                    <a:pt x="234287" y="1344304"/>
                    <a:pt x="234287" y="1296537"/>
                  </a:cubicBezTo>
                  <a:cubicBezTo>
                    <a:pt x="234287" y="1248770"/>
                    <a:pt x="159224" y="1144137"/>
                    <a:pt x="152400" y="1064525"/>
                  </a:cubicBezTo>
                  <a:cubicBezTo>
                    <a:pt x="145576" y="984913"/>
                    <a:pt x="154674" y="887105"/>
                    <a:pt x="193343" y="818866"/>
                  </a:cubicBezTo>
                  <a:cubicBezTo>
                    <a:pt x="232012" y="750627"/>
                    <a:pt x="272955" y="723331"/>
                    <a:pt x="384412" y="655092"/>
                  </a:cubicBezTo>
                  <a:cubicBezTo>
                    <a:pt x="495869" y="586853"/>
                    <a:pt x="766550" y="466299"/>
                    <a:pt x="862084" y="409433"/>
                  </a:cubicBezTo>
                  <a:cubicBezTo>
                    <a:pt x="957618" y="352567"/>
                    <a:pt x="916675" y="341193"/>
                    <a:pt x="957618" y="313898"/>
                  </a:cubicBezTo>
                  <a:cubicBezTo>
                    <a:pt x="998561" y="286603"/>
                    <a:pt x="1064525" y="272955"/>
                    <a:pt x="1107743" y="245660"/>
                  </a:cubicBezTo>
                  <a:cubicBezTo>
                    <a:pt x="1150961" y="218365"/>
                    <a:pt x="1189630" y="184244"/>
                    <a:pt x="1216925" y="150125"/>
                  </a:cubicBezTo>
                  <a:cubicBezTo>
                    <a:pt x="1244220" y="116006"/>
                    <a:pt x="1248770" y="65964"/>
                    <a:pt x="1271516" y="40943"/>
                  </a:cubicBezTo>
                  <a:cubicBezTo>
                    <a:pt x="1294262" y="15922"/>
                    <a:pt x="1323832" y="7961"/>
                    <a:pt x="1353403" y="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任意多边形 4"/>
            <p:cNvSpPr/>
            <p:nvPr/>
          </p:nvSpPr>
          <p:spPr>
            <a:xfrm>
              <a:off x="1260720" y="1440000"/>
              <a:ext cx="482400" cy="1536480"/>
            </a:xfrm>
            <a:custGeom>
              <a:avLst/>
              <a:gdLst/>
              <a:ahLst/>
              <a:rect l="l" t="t" r="r" b="b"/>
              <a:pathLst>
                <a:path w="483079" h="1535502">
                  <a:moveTo>
                    <a:pt x="284671" y="1535502"/>
                  </a:moveTo>
                  <a:cubicBezTo>
                    <a:pt x="286827" y="1506747"/>
                    <a:pt x="288984" y="1477993"/>
                    <a:pt x="284671" y="1440612"/>
                  </a:cubicBezTo>
                  <a:cubicBezTo>
                    <a:pt x="280358" y="1403231"/>
                    <a:pt x="258792" y="1311215"/>
                    <a:pt x="258792" y="1311215"/>
                  </a:cubicBezTo>
                  <a:cubicBezTo>
                    <a:pt x="253041" y="1282460"/>
                    <a:pt x="260230" y="1266645"/>
                    <a:pt x="250166" y="1268083"/>
                  </a:cubicBezTo>
                  <a:cubicBezTo>
                    <a:pt x="240102" y="1269521"/>
                    <a:pt x="221411" y="1315529"/>
                    <a:pt x="198407" y="1319842"/>
                  </a:cubicBezTo>
                  <a:cubicBezTo>
                    <a:pt x="175403" y="1324155"/>
                    <a:pt x="135147" y="1315529"/>
                    <a:pt x="112143" y="1293963"/>
                  </a:cubicBezTo>
                  <a:cubicBezTo>
                    <a:pt x="89139" y="1272397"/>
                    <a:pt x="76200" y="1237891"/>
                    <a:pt x="60385" y="1190446"/>
                  </a:cubicBezTo>
                  <a:cubicBezTo>
                    <a:pt x="44570" y="1143001"/>
                    <a:pt x="27316" y="1062487"/>
                    <a:pt x="17252" y="1009291"/>
                  </a:cubicBezTo>
                  <a:cubicBezTo>
                    <a:pt x="7188" y="956095"/>
                    <a:pt x="0" y="895709"/>
                    <a:pt x="0" y="871268"/>
                  </a:cubicBezTo>
                  <a:cubicBezTo>
                    <a:pt x="0" y="846827"/>
                    <a:pt x="12939" y="884208"/>
                    <a:pt x="17252" y="862642"/>
                  </a:cubicBezTo>
                  <a:cubicBezTo>
                    <a:pt x="21565" y="841076"/>
                    <a:pt x="23004" y="800819"/>
                    <a:pt x="25879" y="741872"/>
                  </a:cubicBezTo>
                  <a:cubicBezTo>
                    <a:pt x="28754" y="682925"/>
                    <a:pt x="23003" y="582284"/>
                    <a:pt x="34505" y="508959"/>
                  </a:cubicBezTo>
                  <a:cubicBezTo>
                    <a:pt x="46007" y="435634"/>
                    <a:pt x="54633" y="370936"/>
                    <a:pt x="94890" y="301925"/>
                  </a:cubicBezTo>
                  <a:cubicBezTo>
                    <a:pt x="135147" y="232914"/>
                    <a:pt x="211347" y="145212"/>
                    <a:pt x="276045" y="94891"/>
                  </a:cubicBezTo>
                  <a:cubicBezTo>
                    <a:pt x="340743" y="44570"/>
                    <a:pt x="411911" y="22285"/>
                    <a:pt x="483079" y="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组合 7"/>
          <p:cNvGrpSpPr/>
          <p:nvPr/>
        </p:nvGrpSpPr>
        <p:grpSpPr>
          <a:xfrm>
            <a:off x="1716120" y="1446120"/>
            <a:ext cx="3227400" cy="4351320"/>
            <a:chOff x="1716120" y="1446120"/>
            <a:chExt cx="3227400" cy="4351320"/>
          </a:xfrm>
        </p:grpSpPr>
        <p:sp>
          <p:nvSpPr>
            <p:cNvPr id="248" name="任意多边形 5"/>
            <p:cNvSpPr/>
            <p:nvPr/>
          </p:nvSpPr>
          <p:spPr>
            <a:xfrm>
              <a:off x="1716120" y="1446120"/>
              <a:ext cx="3097440" cy="4283280"/>
            </a:xfrm>
            <a:custGeom>
              <a:avLst/>
              <a:gdLst/>
              <a:ahLst/>
              <a:rect l="l" t="t" r="r" b="b"/>
              <a:pathLst>
                <a:path w="3096883" h="4281578">
                  <a:moveTo>
                    <a:pt x="0" y="2876"/>
                  </a:moveTo>
                  <a:cubicBezTo>
                    <a:pt x="49602" y="1438"/>
                    <a:pt x="99204" y="0"/>
                    <a:pt x="146649" y="2876"/>
                  </a:cubicBezTo>
                  <a:cubicBezTo>
                    <a:pt x="194094" y="5752"/>
                    <a:pt x="253041" y="10065"/>
                    <a:pt x="284671" y="20129"/>
                  </a:cubicBezTo>
                  <a:cubicBezTo>
                    <a:pt x="316301" y="30193"/>
                    <a:pt x="306238" y="51759"/>
                    <a:pt x="336430" y="63261"/>
                  </a:cubicBezTo>
                  <a:cubicBezTo>
                    <a:pt x="366622" y="74763"/>
                    <a:pt x="422694" y="67574"/>
                    <a:pt x="465826" y="89140"/>
                  </a:cubicBezTo>
                  <a:cubicBezTo>
                    <a:pt x="508958" y="110706"/>
                    <a:pt x="562154" y="153838"/>
                    <a:pt x="595222" y="192657"/>
                  </a:cubicBezTo>
                  <a:cubicBezTo>
                    <a:pt x="628290" y="231476"/>
                    <a:pt x="639793" y="277483"/>
                    <a:pt x="664234" y="322053"/>
                  </a:cubicBezTo>
                  <a:cubicBezTo>
                    <a:pt x="688676" y="366623"/>
                    <a:pt x="720305" y="399691"/>
                    <a:pt x="741871" y="460076"/>
                  </a:cubicBezTo>
                  <a:cubicBezTo>
                    <a:pt x="763437" y="520461"/>
                    <a:pt x="785003" y="634042"/>
                    <a:pt x="793630" y="684363"/>
                  </a:cubicBezTo>
                  <a:cubicBezTo>
                    <a:pt x="802257" y="734684"/>
                    <a:pt x="789317" y="726057"/>
                    <a:pt x="793630" y="762000"/>
                  </a:cubicBezTo>
                  <a:cubicBezTo>
                    <a:pt x="797943" y="797943"/>
                    <a:pt x="816634" y="854015"/>
                    <a:pt x="819509" y="900023"/>
                  </a:cubicBezTo>
                  <a:cubicBezTo>
                    <a:pt x="822384" y="946031"/>
                    <a:pt x="813758" y="999227"/>
                    <a:pt x="810883" y="1038046"/>
                  </a:cubicBezTo>
                  <a:cubicBezTo>
                    <a:pt x="808008" y="1076865"/>
                    <a:pt x="813758" y="1112808"/>
                    <a:pt x="802256" y="1132936"/>
                  </a:cubicBezTo>
                  <a:cubicBezTo>
                    <a:pt x="790754" y="1153064"/>
                    <a:pt x="751935" y="1153064"/>
                    <a:pt x="741871" y="1158815"/>
                  </a:cubicBezTo>
                  <a:cubicBezTo>
                    <a:pt x="731807" y="1164566"/>
                    <a:pt x="749060" y="1135812"/>
                    <a:pt x="741871" y="1167442"/>
                  </a:cubicBezTo>
                  <a:cubicBezTo>
                    <a:pt x="734682" y="1199072"/>
                    <a:pt x="710241" y="1305464"/>
                    <a:pt x="698739" y="1348596"/>
                  </a:cubicBezTo>
                  <a:cubicBezTo>
                    <a:pt x="687237" y="1391728"/>
                    <a:pt x="677173" y="1383102"/>
                    <a:pt x="672860" y="1426234"/>
                  </a:cubicBezTo>
                  <a:cubicBezTo>
                    <a:pt x="668547" y="1469366"/>
                    <a:pt x="674298" y="1567132"/>
                    <a:pt x="672860" y="1607389"/>
                  </a:cubicBezTo>
                  <a:cubicBezTo>
                    <a:pt x="671422" y="1647646"/>
                    <a:pt x="658483" y="1647646"/>
                    <a:pt x="664234" y="1667774"/>
                  </a:cubicBezTo>
                  <a:cubicBezTo>
                    <a:pt x="669985" y="1687902"/>
                    <a:pt x="671423" y="1713782"/>
                    <a:pt x="707366" y="1728159"/>
                  </a:cubicBezTo>
                  <a:cubicBezTo>
                    <a:pt x="743309" y="1742536"/>
                    <a:pt x="818072" y="1743974"/>
                    <a:pt x="879894" y="1754038"/>
                  </a:cubicBezTo>
                  <a:cubicBezTo>
                    <a:pt x="941716" y="1764102"/>
                    <a:pt x="1009290" y="1769854"/>
                    <a:pt x="1078301" y="1788544"/>
                  </a:cubicBezTo>
                  <a:cubicBezTo>
                    <a:pt x="1147312" y="1807234"/>
                    <a:pt x="1293962" y="1866181"/>
                    <a:pt x="1293962" y="1866181"/>
                  </a:cubicBezTo>
                  <a:cubicBezTo>
                    <a:pt x="1364411" y="1892060"/>
                    <a:pt x="1446362" y="1909313"/>
                    <a:pt x="1500996" y="1943819"/>
                  </a:cubicBezTo>
                  <a:cubicBezTo>
                    <a:pt x="1555630" y="1978325"/>
                    <a:pt x="1598762" y="2031521"/>
                    <a:pt x="1621766" y="2073215"/>
                  </a:cubicBezTo>
                  <a:cubicBezTo>
                    <a:pt x="1644770" y="2114909"/>
                    <a:pt x="1630392" y="2159479"/>
                    <a:pt x="1639018" y="2193985"/>
                  </a:cubicBezTo>
                  <a:cubicBezTo>
                    <a:pt x="1647644" y="2228491"/>
                    <a:pt x="1667773" y="2248619"/>
                    <a:pt x="1673524" y="2280249"/>
                  </a:cubicBezTo>
                  <a:cubicBezTo>
                    <a:pt x="1679275" y="2311879"/>
                    <a:pt x="1669211" y="2360762"/>
                    <a:pt x="1673524" y="2383766"/>
                  </a:cubicBezTo>
                  <a:cubicBezTo>
                    <a:pt x="1677837" y="2406770"/>
                    <a:pt x="1693652" y="2392393"/>
                    <a:pt x="1699403" y="2418272"/>
                  </a:cubicBezTo>
                  <a:cubicBezTo>
                    <a:pt x="1705154" y="2444151"/>
                    <a:pt x="1712343" y="2503099"/>
                    <a:pt x="1708030" y="2539042"/>
                  </a:cubicBezTo>
                  <a:cubicBezTo>
                    <a:pt x="1703717" y="2574985"/>
                    <a:pt x="1673524" y="2609491"/>
                    <a:pt x="1673524" y="2633932"/>
                  </a:cubicBezTo>
                  <a:cubicBezTo>
                    <a:pt x="1673524" y="2658373"/>
                    <a:pt x="1696528" y="2661250"/>
                    <a:pt x="1708030" y="2685691"/>
                  </a:cubicBezTo>
                  <a:cubicBezTo>
                    <a:pt x="1719532" y="2710133"/>
                    <a:pt x="1738222" y="2757577"/>
                    <a:pt x="1742535" y="2780581"/>
                  </a:cubicBezTo>
                  <a:cubicBezTo>
                    <a:pt x="1746848" y="2803585"/>
                    <a:pt x="1726720" y="2806460"/>
                    <a:pt x="1733909" y="2823713"/>
                  </a:cubicBezTo>
                  <a:cubicBezTo>
                    <a:pt x="1741098" y="2840966"/>
                    <a:pt x="1772728" y="2853906"/>
                    <a:pt x="1785668" y="2884098"/>
                  </a:cubicBezTo>
                  <a:cubicBezTo>
                    <a:pt x="1798608" y="2914290"/>
                    <a:pt x="1810109" y="2955985"/>
                    <a:pt x="1811547" y="3004868"/>
                  </a:cubicBezTo>
                  <a:cubicBezTo>
                    <a:pt x="1812985" y="3053751"/>
                    <a:pt x="1789981" y="3140015"/>
                    <a:pt x="1794294" y="3177396"/>
                  </a:cubicBezTo>
                  <a:cubicBezTo>
                    <a:pt x="1798607" y="3214777"/>
                    <a:pt x="1814422" y="3209027"/>
                    <a:pt x="1837426" y="3229155"/>
                  </a:cubicBezTo>
                  <a:cubicBezTo>
                    <a:pt x="1860430" y="3249283"/>
                    <a:pt x="1892060" y="3253596"/>
                    <a:pt x="1932317" y="3298166"/>
                  </a:cubicBezTo>
                  <a:cubicBezTo>
                    <a:pt x="1972574" y="3342736"/>
                    <a:pt x="2045898" y="3450566"/>
                    <a:pt x="2078966" y="3496574"/>
                  </a:cubicBezTo>
                  <a:cubicBezTo>
                    <a:pt x="2112034" y="3542582"/>
                    <a:pt x="2120660" y="3548333"/>
                    <a:pt x="2130724" y="3574212"/>
                  </a:cubicBezTo>
                  <a:cubicBezTo>
                    <a:pt x="2140788" y="3600091"/>
                    <a:pt x="2119223" y="3627408"/>
                    <a:pt x="2139351" y="3651849"/>
                  </a:cubicBezTo>
                  <a:cubicBezTo>
                    <a:pt x="2159479" y="3676290"/>
                    <a:pt x="2216988" y="3700733"/>
                    <a:pt x="2251494" y="3720861"/>
                  </a:cubicBezTo>
                  <a:cubicBezTo>
                    <a:pt x="2286000" y="3740989"/>
                    <a:pt x="2293189" y="3738113"/>
                    <a:pt x="2346385" y="3772619"/>
                  </a:cubicBezTo>
                  <a:cubicBezTo>
                    <a:pt x="2399581" y="3807125"/>
                    <a:pt x="2520350" y="3884763"/>
                    <a:pt x="2570671" y="3927895"/>
                  </a:cubicBezTo>
                  <a:cubicBezTo>
                    <a:pt x="2620992" y="3971027"/>
                    <a:pt x="2618117" y="4008408"/>
                    <a:pt x="2648309" y="4031412"/>
                  </a:cubicBezTo>
                  <a:cubicBezTo>
                    <a:pt x="2678502" y="4054416"/>
                    <a:pt x="2677064" y="4024223"/>
                    <a:pt x="2751826" y="4065917"/>
                  </a:cubicBezTo>
                  <a:cubicBezTo>
                    <a:pt x="2826588" y="4107611"/>
                    <a:pt x="2961735" y="4194594"/>
                    <a:pt x="3096883" y="4281578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任意多边形 6"/>
            <p:cNvSpPr/>
            <p:nvPr/>
          </p:nvSpPr>
          <p:spPr>
            <a:xfrm>
              <a:off x="4788000" y="5729400"/>
              <a:ext cx="155520" cy="68040"/>
            </a:xfrm>
            <a:custGeom>
              <a:avLst/>
              <a:gdLst/>
              <a:ahLst/>
              <a:rect l="l" t="t" r="r" b="b"/>
              <a:pathLst>
                <a:path w="155276" h="69011">
                  <a:moveTo>
                    <a:pt x="0" y="0"/>
                  </a:moveTo>
                  <a:lnTo>
                    <a:pt x="155276" y="69011"/>
                  </a:ln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任意多边形 8"/>
          <p:cNvSpPr/>
          <p:nvPr/>
        </p:nvSpPr>
        <p:spPr>
          <a:xfrm>
            <a:off x="-34920" y="5797440"/>
            <a:ext cx="353880" cy="360"/>
          </a:xfrm>
          <a:custGeom>
            <a:avLst/>
            <a:gdLst/>
            <a:ahLst/>
            <a:rect l="l" t="t" r="r" b="b"/>
            <a:pathLst>
              <a:path w="353683" h="0">
                <a:moveTo>
                  <a:pt x="0" y="0"/>
                </a:moveTo>
                <a:lnTo>
                  <a:pt x="353683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任意多边形 12"/>
          <p:cNvSpPr/>
          <p:nvPr/>
        </p:nvSpPr>
        <p:spPr>
          <a:xfrm>
            <a:off x="3929040" y="6194520"/>
            <a:ext cx="939960" cy="430200"/>
          </a:xfrm>
          <a:custGeom>
            <a:avLst/>
            <a:gdLst/>
            <a:ahLst/>
            <a:rect l="l" t="t" r="r" b="b"/>
            <a:pathLst>
              <a:path w="940279" h="431321">
                <a:moveTo>
                  <a:pt x="0" y="0"/>
                </a:moveTo>
                <a:lnTo>
                  <a:pt x="8626" y="146649"/>
                </a:lnTo>
                <a:lnTo>
                  <a:pt x="103517" y="189781"/>
                </a:lnTo>
                <a:lnTo>
                  <a:pt x="940279" y="431321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任意多边形 15"/>
          <p:cNvSpPr/>
          <p:nvPr/>
        </p:nvSpPr>
        <p:spPr>
          <a:xfrm>
            <a:off x="3929040" y="6210360"/>
            <a:ext cx="922320" cy="276120"/>
          </a:xfrm>
          <a:custGeom>
            <a:avLst/>
            <a:gdLst/>
            <a:ahLst/>
            <a:rect l="l" t="t" r="r" b="b"/>
            <a:pathLst>
              <a:path w="923026" h="276045">
                <a:moveTo>
                  <a:pt x="0" y="0"/>
                </a:moveTo>
                <a:lnTo>
                  <a:pt x="923026" y="276045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任意多边形 16"/>
          <p:cNvSpPr/>
          <p:nvPr/>
        </p:nvSpPr>
        <p:spPr>
          <a:xfrm>
            <a:off x="3936960" y="6039000"/>
            <a:ext cx="1096920" cy="171360"/>
          </a:xfrm>
          <a:custGeom>
            <a:avLst/>
            <a:gdLst/>
            <a:ahLst/>
            <a:rect l="l" t="t" r="r" b="b"/>
            <a:pathLst>
              <a:path w="1095555" h="172528">
                <a:moveTo>
                  <a:pt x="0" y="172528"/>
                </a:moveTo>
                <a:cubicBezTo>
                  <a:pt x="2875" y="160307"/>
                  <a:pt x="5751" y="148087"/>
                  <a:pt x="112144" y="129396"/>
                </a:cubicBezTo>
                <a:cubicBezTo>
                  <a:pt x="218537" y="110705"/>
                  <a:pt x="638355" y="60384"/>
                  <a:pt x="638355" y="60384"/>
                </a:cubicBezTo>
                <a:lnTo>
                  <a:pt x="1095555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任意多边形 17"/>
          <p:cNvSpPr/>
          <p:nvPr/>
        </p:nvSpPr>
        <p:spPr>
          <a:xfrm>
            <a:off x="4851360" y="6486480"/>
            <a:ext cx="360" cy="155520"/>
          </a:xfrm>
          <a:custGeom>
            <a:avLst/>
            <a:gdLst/>
            <a:ahLst/>
            <a:rect l="l" t="t" r="r" b="b"/>
            <a:pathLst>
              <a:path w="0" h="155276">
                <a:moveTo>
                  <a:pt x="0" y="0"/>
                </a:moveTo>
                <a:lnTo>
                  <a:pt x="0" y="155276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任意多边形 20"/>
          <p:cNvSpPr/>
          <p:nvPr/>
        </p:nvSpPr>
        <p:spPr>
          <a:xfrm>
            <a:off x="4843440" y="4735440"/>
            <a:ext cx="569880" cy="1751040"/>
          </a:xfrm>
          <a:custGeom>
            <a:avLst/>
            <a:gdLst/>
            <a:ahLst/>
            <a:rect l="l" t="t" r="r" b="b"/>
            <a:pathLst>
              <a:path w="569343" h="1751162">
                <a:moveTo>
                  <a:pt x="0" y="1751162"/>
                </a:moveTo>
                <a:cubicBezTo>
                  <a:pt x="39537" y="1745411"/>
                  <a:pt x="79075" y="1739660"/>
                  <a:pt x="94890" y="1733909"/>
                </a:cubicBezTo>
                <a:cubicBezTo>
                  <a:pt x="110705" y="1728158"/>
                  <a:pt x="87701" y="1735346"/>
                  <a:pt x="94890" y="1716656"/>
                </a:cubicBezTo>
                <a:cubicBezTo>
                  <a:pt x="102079" y="1697966"/>
                  <a:pt x="130833" y="1651958"/>
                  <a:pt x="138022" y="1621766"/>
                </a:cubicBezTo>
                <a:cubicBezTo>
                  <a:pt x="145211" y="1591574"/>
                  <a:pt x="126520" y="1591574"/>
                  <a:pt x="138022" y="1535502"/>
                </a:cubicBezTo>
                <a:cubicBezTo>
                  <a:pt x="149524" y="1479430"/>
                  <a:pt x="150962" y="1492370"/>
                  <a:pt x="207034" y="1285336"/>
                </a:cubicBezTo>
                <a:cubicBezTo>
                  <a:pt x="263106" y="1078302"/>
                  <a:pt x="414068" y="507521"/>
                  <a:pt x="474453" y="293298"/>
                </a:cubicBezTo>
                <a:cubicBezTo>
                  <a:pt x="534838" y="79075"/>
                  <a:pt x="552090" y="39537"/>
                  <a:pt x="569343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组合 64"/>
          <p:cNvGrpSpPr/>
          <p:nvPr/>
        </p:nvGrpSpPr>
        <p:grpSpPr>
          <a:xfrm>
            <a:off x="4941720" y="4772160"/>
            <a:ext cx="544680" cy="1719000"/>
            <a:chOff x="4941720" y="4772160"/>
            <a:chExt cx="544680" cy="1719000"/>
          </a:xfrm>
        </p:grpSpPr>
        <p:sp>
          <p:nvSpPr>
            <p:cNvPr id="257" name="任意多边形 24"/>
            <p:cNvSpPr/>
            <p:nvPr/>
          </p:nvSpPr>
          <p:spPr>
            <a:xfrm>
              <a:off x="5016240" y="4772160"/>
              <a:ext cx="470160" cy="1641240"/>
            </a:xfrm>
            <a:custGeom>
              <a:avLst/>
              <a:gdLst/>
              <a:ahLst/>
              <a:rect l="l" t="t" r="r" b="b"/>
              <a:pathLst>
                <a:path w="469354" h="1639937">
                  <a:moveTo>
                    <a:pt x="469354" y="7480"/>
                  </a:moveTo>
                  <a:cubicBezTo>
                    <a:pt x="460939" y="3740"/>
                    <a:pt x="452525" y="0"/>
                    <a:pt x="435695" y="46749"/>
                  </a:cubicBezTo>
                  <a:cubicBezTo>
                    <a:pt x="418865" y="93498"/>
                    <a:pt x="368377" y="287971"/>
                    <a:pt x="368377" y="287971"/>
                  </a:cubicBezTo>
                  <a:cubicBezTo>
                    <a:pt x="305734" y="515168"/>
                    <a:pt x="119676" y="1184606"/>
                    <a:pt x="59838" y="1409934"/>
                  </a:cubicBezTo>
                  <a:cubicBezTo>
                    <a:pt x="0" y="1635262"/>
                    <a:pt x="19634" y="1590384"/>
                    <a:pt x="9349" y="1639937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任意多边形 25"/>
            <p:cNvSpPr/>
            <p:nvPr/>
          </p:nvSpPr>
          <p:spPr>
            <a:xfrm>
              <a:off x="4941720" y="6367680"/>
              <a:ext cx="90360" cy="123480"/>
            </a:xfrm>
            <a:custGeom>
              <a:avLst/>
              <a:gdLst/>
              <a:ahLst/>
              <a:rect l="l" t="t" r="r" b="b"/>
              <a:pathLst>
                <a:path w="89757" h="123417">
                  <a:moveTo>
                    <a:pt x="89757" y="0"/>
                  </a:moveTo>
                  <a:cubicBezTo>
                    <a:pt x="83212" y="44879"/>
                    <a:pt x="76668" y="89758"/>
                    <a:pt x="61708" y="106587"/>
                  </a:cubicBezTo>
                  <a:cubicBezTo>
                    <a:pt x="46749" y="123417"/>
                    <a:pt x="23374" y="112197"/>
                    <a:pt x="0" y="100977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任意多边形 27"/>
          <p:cNvSpPr/>
          <p:nvPr/>
        </p:nvSpPr>
        <p:spPr>
          <a:xfrm>
            <a:off x="4986360" y="6221520"/>
            <a:ext cx="1952640" cy="257040"/>
          </a:xfrm>
          <a:custGeom>
            <a:avLst/>
            <a:gdLst/>
            <a:ahLst/>
            <a:rect l="l" t="t" r="r" b="b"/>
            <a:pathLst>
              <a:path w="1952216" h="258051">
                <a:moveTo>
                  <a:pt x="0" y="258051"/>
                </a:moveTo>
                <a:lnTo>
                  <a:pt x="230003" y="224393"/>
                </a:lnTo>
                <a:lnTo>
                  <a:pt x="1638066" y="39269"/>
                </a:lnTo>
                <a:lnTo>
                  <a:pt x="1952216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任意多边形 28"/>
          <p:cNvSpPr/>
          <p:nvPr/>
        </p:nvSpPr>
        <p:spPr>
          <a:xfrm>
            <a:off x="6921360" y="4616280"/>
            <a:ext cx="484200" cy="1605240"/>
          </a:xfrm>
          <a:custGeom>
            <a:avLst/>
            <a:gdLst/>
            <a:ahLst/>
            <a:rect l="l" t="t" r="r" b="b"/>
            <a:pathLst>
              <a:path w="484314" h="1604407">
                <a:moveTo>
                  <a:pt x="471224" y="0"/>
                </a:moveTo>
                <a:cubicBezTo>
                  <a:pt x="477769" y="1869"/>
                  <a:pt x="484314" y="3739"/>
                  <a:pt x="431956" y="190733"/>
                </a:cubicBezTo>
                <a:cubicBezTo>
                  <a:pt x="379598" y="377727"/>
                  <a:pt x="229068" y="886351"/>
                  <a:pt x="157075" y="1121963"/>
                </a:cubicBezTo>
                <a:cubicBezTo>
                  <a:pt x="85082" y="1357575"/>
                  <a:pt x="42541" y="1480991"/>
                  <a:pt x="0" y="1604407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任意多边形 29"/>
          <p:cNvSpPr/>
          <p:nvPr/>
        </p:nvSpPr>
        <p:spPr>
          <a:xfrm>
            <a:off x="4863960" y="6546960"/>
            <a:ext cx="554040" cy="88920"/>
          </a:xfrm>
          <a:custGeom>
            <a:avLst/>
            <a:gdLst/>
            <a:ahLst/>
            <a:rect l="l" t="t" r="r" b="b"/>
            <a:pathLst>
              <a:path w="555371" h="89757">
                <a:moveTo>
                  <a:pt x="0" y="89757"/>
                </a:moveTo>
                <a:lnTo>
                  <a:pt x="555371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任意多边形 30"/>
          <p:cNvSpPr/>
          <p:nvPr/>
        </p:nvSpPr>
        <p:spPr>
          <a:xfrm>
            <a:off x="6445080" y="6338880"/>
            <a:ext cx="370080" cy="61920"/>
          </a:xfrm>
          <a:custGeom>
            <a:avLst/>
            <a:gdLst/>
            <a:ahLst/>
            <a:rect l="l" t="t" r="r" b="b"/>
            <a:pathLst>
              <a:path w="370248" h="61708">
                <a:moveTo>
                  <a:pt x="0" y="61708"/>
                </a:moveTo>
                <a:lnTo>
                  <a:pt x="370248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任意多边形 31"/>
          <p:cNvSpPr/>
          <p:nvPr/>
        </p:nvSpPr>
        <p:spPr>
          <a:xfrm>
            <a:off x="6799320" y="6248520"/>
            <a:ext cx="4680" cy="88920"/>
          </a:xfrm>
          <a:custGeom>
            <a:avLst/>
            <a:gdLst/>
            <a:ahLst/>
            <a:rect l="l" t="t" r="r" b="b"/>
            <a:pathLst>
              <a:path w="5610" h="89757">
                <a:moveTo>
                  <a:pt x="5610" y="89757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任意多边形 34"/>
          <p:cNvSpPr/>
          <p:nvPr/>
        </p:nvSpPr>
        <p:spPr>
          <a:xfrm>
            <a:off x="5478480" y="6435720"/>
            <a:ext cx="927000" cy="133200"/>
          </a:xfrm>
          <a:custGeom>
            <a:avLst/>
            <a:gdLst/>
            <a:ahLst/>
            <a:rect l="l" t="t" r="r" b="b"/>
            <a:pathLst>
              <a:path w="927401" h="134343">
                <a:moveTo>
                  <a:pt x="0" y="134343"/>
                </a:moveTo>
                <a:lnTo>
                  <a:pt x="927401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组合 63"/>
          <p:cNvGrpSpPr/>
          <p:nvPr/>
        </p:nvGrpSpPr>
        <p:grpSpPr>
          <a:xfrm>
            <a:off x="5388120" y="6288120"/>
            <a:ext cx="1069920" cy="280800"/>
            <a:chOff x="5388120" y="6288120"/>
            <a:chExt cx="1069920" cy="280800"/>
          </a:xfrm>
        </p:grpSpPr>
        <p:sp>
          <p:nvSpPr>
            <p:cNvPr id="266" name="任意多边形 33"/>
            <p:cNvSpPr/>
            <p:nvPr/>
          </p:nvSpPr>
          <p:spPr>
            <a:xfrm>
              <a:off x="5388120" y="6421320"/>
              <a:ext cx="120600" cy="147600"/>
            </a:xfrm>
            <a:custGeom>
              <a:avLst/>
              <a:gdLst/>
              <a:ahLst/>
              <a:rect l="l" t="t" r="r" b="b"/>
              <a:pathLst>
                <a:path w="119898" h="147344">
                  <a:moveTo>
                    <a:pt x="7223" y="0"/>
                  </a:moveTo>
                  <a:cubicBezTo>
                    <a:pt x="3611" y="33947"/>
                    <a:pt x="0" y="67894"/>
                    <a:pt x="7223" y="91007"/>
                  </a:cubicBezTo>
                  <a:cubicBezTo>
                    <a:pt x="14446" y="114120"/>
                    <a:pt x="33947" y="130010"/>
                    <a:pt x="50559" y="138677"/>
                  </a:cubicBezTo>
                  <a:cubicBezTo>
                    <a:pt x="67171" y="147344"/>
                    <a:pt x="95341" y="146622"/>
                    <a:pt x="106897" y="143011"/>
                  </a:cubicBezTo>
                  <a:cubicBezTo>
                    <a:pt x="118453" y="139400"/>
                    <a:pt x="119175" y="128204"/>
                    <a:pt x="119898" y="117009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任意多边形 35"/>
            <p:cNvSpPr/>
            <p:nvPr/>
          </p:nvSpPr>
          <p:spPr>
            <a:xfrm>
              <a:off x="5491080" y="6418080"/>
              <a:ext cx="21960" cy="137880"/>
            </a:xfrm>
            <a:custGeom>
              <a:avLst/>
              <a:gdLst/>
              <a:ahLst/>
              <a:rect l="l" t="t" r="r" b="b"/>
              <a:pathLst>
                <a:path w="22390" h="138676">
                  <a:moveTo>
                    <a:pt x="13001" y="138676"/>
                  </a:moveTo>
                  <a:cubicBezTo>
                    <a:pt x="16973" y="114119"/>
                    <a:pt x="20946" y="89562"/>
                    <a:pt x="21668" y="69338"/>
                  </a:cubicBezTo>
                  <a:cubicBezTo>
                    <a:pt x="22390" y="49114"/>
                    <a:pt x="20946" y="28890"/>
                    <a:pt x="17335" y="17334"/>
                  </a:cubicBezTo>
                  <a:cubicBezTo>
                    <a:pt x="13724" y="5778"/>
                    <a:pt x="6862" y="2889"/>
                    <a:pt x="0" y="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任意多边形 36"/>
            <p:cNvSpPr/>
            <p:nvPr/>
          </p:nvSpPr>
          <p:spPr>
            <a:xfrm>
              <a:off x="6393240" y="6288120"/>
              <a:ext cx="64800" cy="150840"/>
            </a:xfrm>
            <a:custGeom>
              <a:avLst/>
              <a:gdLst/>
              <a:ahLst/>
              <a:rect l="l" t="t" r="r" b="b"/>
              <a:pathLst>
                <a:path w="65728" h="151678">
                  <a:moveTo>
                    <a:pt x="0" y="151678"/>
                  </a:moveTo>
                  <a:cubicBezTo>
                    <a:pt x="23474" y="149511"/>
                    <a:pt x="46948" y="147345"/>
                    <a:pt x="56338" y="130010"/>
                  </a:cubicBezTo>
                  <a:cubicBezTo>
                    <a:pt x="65728" y="112675"/>
                    <a:pt x="58505" y="69338"/>
                    <a:pt x="56338" y="47670"/>
                  </a:cubicBezTo>
                  <a:cubicBezTo>
                    <a:pt x="54171" y="26002"/>
                    <a:pt x="48754" y="13001"/>
                    <a:pt x="43337" y="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组合 62"/>
          <p:cNvGrpSpPr/>
          <p:nvPr/>
        </p:nvGrpSpPr>
        <p:grpSpPr>
          <a:xfrm>
            <a:off x="5413320" y="4626000"/>
            <a:ext cx="1986120" cy="154080"/>
            <a:chOff x="5413320" y="4626000"/>
            <a:chExt cx="1986120" cy="154080"/>
          </a:xfrm>
        </p:grpSpPr>
        <p:sp>
          <p:nvSpPr>
            <p:cNvPr id="270" name="任意多边形 23"/>
            <p:cNvSpPr/>
            <p:nvPr/>
          </p:nvSpPr>
          <p:spPr>
            <a:xfrm>
              <a:off x="5470200" y="4626000"/>
              <a:ext cx="1929240" cy="147960"/>
            </a:xfrm>
            <a:custGeom>
              <a:avLst/>
              <a:gdLst/>
              <a:ahLst/>
              <a:rect l="l" t="t" r="r" b="b"/>
              <a:pathLst>
                <a:path w="1929776" h="148660">
                  <a:moveTo>
                    <a:pt x="0" y="148660"/>
                  </a:moveTo>
                  <a:cubicBezTo>
                    <a:pt x="100976" y="134635"/>
                    <a:pt x="199148" y="120611"/>
                    <a:pt x="347808" y="103782"/>
                  </a:cubicBezTo>
                  <a:cubicBezTo>
                    <a:pt x="496468" y="86953"/>
                    <a:pt x="720860" y="61709"/>
                    <a:pt x="891960" y="47684"/>
                  </a:cubicBezTo>
                  <a:cubicBezTo>
                    <a:pt x="1063060" y="33659"/>
                    <a:pt x="1219200" y="27115"/>
                    <a:pt x="1374405" y="19635"/>
                  </a:cubicBezTo>
                  <a:cubicBezTo>
                    <a:pt x="1529610" y="12155"/>
                    <a:pt x="1730628" y="5610"/>
                    <a:pt x="1823190" y="2805"/>
                  </a:cubicBezTo>
                  <a:cubicBezTo>
                    <a:pt x="1915752" y="0"/>
                    <a:pt x="1922764" y="1402"/>
                    <a:pt x="1929776" y="2805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任意多边形 37"/>
            <p:cNvSpPr/>
            <p:nvPr/>
          </p:nvSpPr>
          <p:spPr>
            <a:xfrm>
              <a:off x="5413320" y="4741920"/>
              <a:ext cx="52200" cy="38160"/>
            </a:xfrm>
            <a:custGeom>
              <a:avLst/>
              <a:gdLst/>
              <a:ahLst/>
              <a:rect l="l" t="t" r="r" b="b"/>
              <a:pathLst>
                <a:path w="52004" h="39003">
                  <a:moveTo>
                    <a:pt x="0" y="0"/>
                  </a:moveTo>
                  <a:lnTo>
                    <a:pt x="-13532" y="-2653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组合 55"/>
          <p:cNvGrpSpPr/>
          <p:nvPr/>
        </p:nvGrpSpPr>
        <p:grpSpPr>
          <a:xfrm>
            <a:off x="204840" y="5540400"/>
            <a:ext cx="4913280" cy="334800"/>
            <a:chOff x="204840" y="5540400"/>
            <a:chExt cx="4913280" cy="334800"/>
          </a:xfrm>
        </p:grpSpPr>
        <p:sp>
          <p:nvSpPr>
            <p:cNvPr id="273" name="任意多边形 10"/>
            <p:cNvSpPr/>
            <p:nvPr/>
          </p:nvSpPr>
          <p:spPr>
            <a:xfrm>
              <a:off x="3686400" y="5791320"/>
              <a:ext cx="1431720" cy="360"/>
            </a:xfrm>
            <a:custGeom>
              <a:avLst/>
              <a:gdLst/>
              <a:ahLst/>
              <a:rect l="l" t="t" r="r" b="b"/>
              <a:pathLst>
                <a:path w="1431985" h="0">
                  <a:moveTo>
                    <a:pt x="0" y="0"/>
                  </a:moveTo>
                  <a:lnTo>
                    <a:pt x="1431985" y="0"/>
                  </a:ln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组合 39"/>
            <p:cNvGrpSpPr/>
            <p:nvPr/>
          </p:nvGrpSpPr>
          <p:grpSpPr>
            <a:xfrm>
              <a:off x="204840" y="5540400"/>
              <a:ext cx="3500280" cy="334800"/>
              <a:chOff x="204840" y="5540400"/>
              <a:chExt cx="3500280" cy="334800"/>
            </a:xfrm>
          </p:grpSpPr>
          <p:sp>
            <p:nvSpPr>
              <p:cNvPr id="275" name="任意多边形 2"/>
              <p:cNvSpPr/>
              <p:nvPr/>
            </p:nvSpPr>
            <p:spPr>
              <a:xfrm>
                <a:off x="204840" y="5540400"/>
                <a:ext cx="2292480" cy="334800"/>
              </a:xfrm>
              <a:custGeom>
                <a:avLst/>
                <a:gdLst/>
                <a:ahLst/>
                <a:rect l="l" t="t" r="r" b="b"/>
                <a:pathLst>
                  <a:path w="2292824" h="334370">
                    <a:moveTo>
                      <a:pt x="2292824" y="313899"/>
                    </a:moveTo>
                    <a:cubicBezTo>
                      <a:pt x="2191603" y="322997"/>
                      <a:pt x="2090382" y="332095"/>
                      <a:pt x="1978926" y="327546"/>
                    </a:cubicBezTo>
                    <a:cubicBezTo>
                      <a:pt x="1867470" y="322997"/>
                      <a:pt x="1710520" y="291152"/>
                      <a:pt x="1624084" y="286603"/>
                    </a:cubicBezTo>
                    <a:cubicBezTo>
                      <a:pt x="1537648" y="282054"/>
                      <a:pt x="1551296" y="300251"/>
                      <a:pt x="1460311" y="300251"/>
                    </a:cubicBezTo>
                    <a:cubicBezTo>
                      <a:pt x="1369326" y="300251"/>
                      <a:pt x="1257869" y="282054"/>
                      <a:pt x="1078174" y="286603"/>
                    </a:cubicBezTo>
                    <a:cubicBezTo>
                      <a:pt x="898479" y="291152"/>
                      <a:pt x="545911" y="334370"/>
                      <a:pt x="382138" y="327546"/>
                    </a:cubicBezTo>
                    <a:cubicBezTo>
                      <a:pt x="218365" y="320722"/>
                      <a:pt x="159225" y="300251"/>
                      <a:pt x="95535" y="245660"/>
                    </a:cubicBezTo>
                    <a:cubicBezTo>
                      <a:pt x="31845" y="191069"/>
                      <a:pt x="15922" y="95534"/>
                      <a:pt x="0" y="0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任意多边形 44"/>
              <p:cNvSpPr/>
              <p:nvPr/>
            </p:nvSpPr>
            <p:spPr>
              <a:xfrm>
                <a:off x="2471760" y="5773680"/>
                <a:ext cx="1233360" cy="81000"/>
              </a:xfrm>
              <a:custGeom>
                <a:avLst/>
                <a:gdLst/>
                <a:ahLst/>
                <a:rect l="l" t="t" r="r" b="b"/>
                <a:pathLst>
                  <a:path w="1233377" h="81516">
                    <a:moveTo>
                      <a:pt x="0" y="81516"/>
                    </a:moveTo>
                    <a:cubicBezTo>
                      <a:pt x="31012" y="69111"/>
                      <a:pt x="62024" y="56706"/>
                      <a:pt x="159489" y="49618"/>
                    </a:cubicBezTo>
                    <a:cubicBezTo>
                      <a:pt x="256954" y="42530"/>
                      <a:pt x="469605" y="37214"/>
                      <a:pt x="584791" y="38986"/>
                    </a:cubicBezTo>
                    <a:cubicBezTo>
                      <a:pt x="699977" y="40758"/>
                      <a:pt x="785038" y="65567"/>
                      <a:pt x="850605" y="60251"/>
                    </a:cubicBezTo>
                    <a:cubicBezTo>
                      <a:pt x="916172" y="54935"/>
                      <a:pt x="914401" y="14176"/>
                      <a:pt x="978196" y="7088"/>
                    </a:cubicBezTo>
                    <a:cubicBezTo>
                      <a:pt x="1041991" y="0"/>
                      <a:pt x="1137684" y="8860"/>
                      <a:pt x="1233377" y="17721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7" name="组合 58"/>
          <p:cNvGrpSpPr/>
          <p:nvPr/>
        </p:nvGrpSpPr>
        <p:grpSpPr>
          <a:xfrm>
            <a:off x="1382760" y="5840280"/>
            <a:ext cx="423720" cy="366840"/>
            <a:chOff x="1382760" y="5840280"/>
            <a:chExt cx="423720" cy="366840"/>
          </a:xfrm>
        </p:grpSpPr>
        <p:sp>
          <p:nvSpPr>
            <p:cNvPr id="278" name="任意多边形 45"/>
            <p:cNvSpPr/>
            <p:nvPr/>
          </p:nvSpPr>
          <p:spPr>
            <a:xfrm>
              <a:off x="1382760" y="5840280"/>
              <a:ext cx="423720" cy="311400"/>
            </a:xfrm>
            <a:custGeom>
              <a:avLst/>
              <a:gdLst/>
              <a:ahLst/>
              <a:rect l="l" t="t" r="r" b="b"/>
              <a:pathLst>
                <a:path w="422695" h="310551">
                  <a:moveTo>
                    <a:pt x="422695" y="0"/>
                  </a:moveTo>
                  <a:lnTo>
                    <a:pt x="0" y="310551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任意多边形 47"/>
            <p:cNvSpPr/>
            <p:nvPr/>
          </p:nvSpPr>
          <p:spPr>
            <a:xfrm>
              <a:off x="1382760" y="6148440"/>
              <a:ext cx="360" cy="58680"/>
            </a:xfrm>
            <a:custGeom>
              <a:avLst/>
              <a:gdLst/>
              <a:ahLst/>
              <a:rect l="l" t="t" r="r" b="b"/>
              <a:pathLst>
                <a:path w="0" h="58521">
                  <a:moveTo>
                    <a:pt x="0" y="0"/>
                  </a:moveTo>
                  <a:lnTo>
                    <a:pt x="0" y="-7015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组合 59"/>
          <p:cNvGrpSpPr/>
          <p:nvPr/>
        </p:nvGrpSpPr>
        <p:grpSpPr>
          <a:xfrm>
            <a:off x="1382760" y="6156360"/>
            <a:ext cx="1843200" cy="216000"/>
            <a:chOff x="1382760" y="6156360"/>
            <a:chExt cx="1843200" cy="216000"/>
          </a:xfrm>
        </p:grpSpPr>
        <p:sp>
          <p:nvSpPr>
            <p:cNvPr id="281" name="任意多边形 46"/>
            <p:cNvSpPr/>
            <p:nvPr/>
          </p:nvSpPr>
          <p:spPr>
            <a:xfrm>
              <a:off x="1382760" y="6156360"/>
              <a:ext cx="1843200" cy="114480"/>
            </a:xfrm>
            <a:custGeom>
              <a:avLst/>
              <a:gdLst/>
              <a:ahLst/>
              <a:rect l="l" t="t" r="r" b="b"/>
              <a:pathLst>
                <a:path w="1843430" h="114605">
                  <a:moveTo>
                    <a:pt x="0" y="0"/>
                  </a:moveTo>
                  <a:cubicBezTo>
                    <a:pt x="33833" y="4572"/>
                    <a:pt x="67666" y="9144"/>
                    <a:pt x="135331" y="21945"/>
                  </a:cubicBezTo>
                  <a:cubicBezTo>
                    <a:pt x="202996" y="34746"/>
                    <a:pt x="308457" y="62179"/>
                    <a:pt x="405993" y="76809"/>
                  </a:cubicBezTo>
                  <a:cubicBezTo>
                    <a:pt x="503529" y="91439"/>
                    <a:pt x="599846" y="104851"/>
                    <a:pt x="720547" y="109728"/>
                  </a:cubicBezTo>
                  <a:cubicBezTo>
                    <a:pt x="841248" y="114605"/>
                    <a:pt x="1130198" y="106070"/>
                    <a:pt x="1130198" y="106070"/>
                  </a:cubicBezTo>
                  <a:lnTo>
                    <a:pt x="1397203" y="106070"/>
                  </a:lnTo>
                  <a:lnTo>
                    <a:pt x="1843430" y="113385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任意多边形 48"/>
            <p:cNvSpPr/>
            <p:nvPr/>
          </p:nvSpPr>
          <p:spPr>
            <a:xfrm>
              <a:off x="1385640" y="6211800"/>
              <a:ext cx="1837080" cy="157320"/>
            </a:xfrm>
            <a:custGeom>
              <a:avLst/>
              <a:gdLst/>
              <a:ahLst/>
              <a:rect l="l" t="t" r="r" b="b"/>
              <a:pathLst>
                <a:path w="1836116" h="157277">
                  <a:moveTo>
                    <a:pt x="0" y="0"/>
                  </a:moveTo>
                  <a:lnTo>
                    <a:pt x="109728" y="18288"/>
                  </a:lnTo>
                  <a:cubicBezTo>
                    <a:pt x="189586" y="31090"/>
                    <a:pt x="349301" y="60350"/>
                    <a:pt x="479146" y="76809"/>
                  </a:cubicBezTo>
                  <a:cubicBezTo>
                    <a:pt x="608991" y="93268"/>
                    <a:pt x="747370" y="111557"/>
                    <a:pt x="888797" y="117043"/>
                  </a:cubicBezTo>
                  <a:cubicBezTo>
                    <a:pt x="1030224" y="122529"/>
                    <a:pt x="1188720" y="109118"/>
                    <a:pt x="1327709" y="109728"/>
                  </a:cubicBezTo>
                  <a:cubicBezTo>
                    <a:pt x="1466698" y="110338"/>
                    <a:pt x="1637996" y="112776"/>
                    <a:pt x="1722730" y="120701"/>
                  </a:cubicBezTo>
                  <a:cubicBezTo>
                    <a:pt x="1807465" y="128626"/>
                    <a:pt x="1821790" y="142951"/>
                    <a:pt x="1836116" y="157277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任意多边形 51"/>
            <p:cNvSpPr/>
            <p:nvPr/>
          </p:nvSpPr>
          <p:spPr>
            <a:xfrm>
              <a:off x="3218040" y="6269040"/>
              <a:ext cx="7920" cy="103320"/>
            </a:xfrm>
            <a:custGeom>
              <a:avLst/>
              <a:gdLst/>
              <a:ahLst/>
              <a:rect l="l" t="t" r="r" b="b"/>
              <a:pathLst>
                <a:path w="7315" h="102413">
                  <a:moveTo>
                    <a:pt x="7315" y="0"/>
                  </a:moveTo>
                  <a:lnTo>
                    <a:pt x="3658" y="58522"/>
                  </a:lnTo>
                  <a:lnTo>
                    <a:pt x="0" y="10241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组合 60"/>
          <p:cNvGrpSpPr/>
          <p:nvPr/>
        </p:nvGrpSpPr>
        <p:grpSpPr>
          <a:xfrm>
            <a:off x="3214800" y="5840280"/>
            <a:ext cx="277560" cy="532080"/>
            <a:chOff x="3214800" y="5840280"/>
            <a:chExt cx="277560" cy="532080"/>
          </a:xfrm>
        </p:grpSpPr>
        <p:sp>
          <p:nvSpPr>
            <p:cNvPr id="285" name="任意多边形 52"/>
            <p:cNvSpPr/>
            <p:nvPr/>
          </p:nvSpPr>
          <p:spPr>
            <a:xfrm>
              <a:off x="3214800" y="5843160"/>
              <a:ext cx="269640" cy="429120"/>
            </a:xfrm>
            <a:custGeom>
              <a:avLst/>
              <a:gdLst/>
              <a:ahLst/>
              <a:rect l="l" t="t" r="r" b="b"/>
              <a:pathLst>
                <a:path w="270663" h="426719">
                  <a:moveTo>
                    <a:pt x="0" y="424281"/>
                  </a:moveTo>
                  <a:cubicBezTo>
                    <a:pt x="13716" y="425500"/>
                    <a:pt x="27432" y="426719"/>
                    <a:pt x="54864" y="387705"/>
                  </a:cubicBezTo>
                  <a:cubicBezTo>
                    <a:pt x="82296" y="348691"/>
                    <a:pt x="164592" y="190195"/>
                    <a:pt x="164592" y="190195"/>
                  </a:cubicBezTo>
                  <a:lnTo>
                    <a:pt x="27066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任意多边形 54"/>
            <p:cNvSpPr/>
            <p:nvPr/>
          </p:nvSpPr>
          <p:spPr>
            <a:xfrm>
              <a:off x="3222720" y="5887800"/>
              <a:ext cx="269640" cy="484560"/>
            </a:xfrm>
            <a:custGeom>
              <a:avLst/>
              <a:gdLst/>
              <a:ahLst/>
              <a:rect l="l" t="t" r="r" b="b"/>
              <a:pathLst>
                <a:path w="270662" h="482803">
                  <a:moveTo>
                    <a:pt x="0" y="482803"/>
                  </a:moveTo>
                  <a:cubicBezTo>
                    <a:pt x="8534" y="480974"/>
                    <a:pt x="17069" y="479145"/>
                    <a:pt x="62179" y="398678"/>
                  </a:cubicBezTo>
                  <a:cubicBezTo>
                    <a:pt x="107289" y="318211"/>
                    <a:pt x="188975" y="159105"/>
                    <a:pt x="270662" y="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任意多边形 56"/>
            <p:cNvSpPr/>
            <p:nvPr/>
          </p:nvSpPr>
          <p:spPr>
            <a:xfrm>
              <a:off x="3489480" y="5840280"/>
              <a:ext cx="2880" cy="55440"/>
            </a:xfrm>
            <a:custGeom>
              <a:avLst/>
              <a:gdLst/>
              <a:ahLst/>
              <a:rect l="l" t="t" r="r" b="b"/>
              <a:pathLst>
                <a:path w="3658" h="54864">
                  <a:moveTo>
                    <a:pt x="0" y="0"/>
                  </a:moveTo>
                  <a:lnTo>
                    <a:pt x="3658" y="-10672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任意多边形 57"/>
            <p:cNvSpPr/>
            <p:nvPr/>
          </p:nvSpPr>
          <p:spPr>
            <a:xfrm>
              <a:off x="3379680" y="5843160"/>
              <a:ext cx="109440" cy="15840"/>
            </a:xfrm>
            <a:custGeom>
              <a:avLst/>
              <a:gdLst/>
              <a:ahLst/>
              <a:rect l="l" t="t" r="r" b="b"/>
              <a:pathLst>
                <a:path w="109728" h="14630">
                  <a:moveTo>
                    <a:pt x="0" y="14630"/>
                  </a:moveTo>
                  <a:cubicBezTo>
                    <a:pt x="18288" y="14020"/>
                    <a:pt x="36576" y="13411"/>
                    <a:pt x="54864" y="10973"/>
                  </a:cubicBezTo>
                  <a:cubicBezTo>
                    <a:pt x="73152" y="8535"/>
                    <a:pt x="91440" y="4267"/>
                    <a:pt x="109728" y="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任意多边形 61"/>
          <p:cNvSpPr/>
          <p:nvPr/>
        </p:nvSpPr>
        <p:spPr>
          <a:xfrm>
            <a:off x="5411880" y="4586400"/>
            <a:ext cx="1998720" cy="147600"/>
          </a:xfrm>
          <a:custGeom>
            <a:avLst/>
            <a:gdLst/>
            <a:ahLst/>
            <a:rect l="l" t="t" r="r" b="b"/>
            <a:pathLst>
              <a:path w="1998029" h="148661">
                <a:moveTo>
                  <a:pt x="935" y="148661"/>
                </a:moveTo>
                <a:cubicBezTo>
                  <a:pt x="467" y="144453"/>
                  <a:pt x="0" y="140246"/>
                  <a:pt x="113131" y="126221"/>
                </a:cubicBezTo>
                <a:cubicBezTo>
                  <a:pt x="226262" y="112196"/>
                  <a:pt x="487118" y="82277"/>
                  <a:pt x="679722" y="64513"/>
                </a:cubicBezTo>
                <a:cubicBezTo>
                  <a:pt x="872326" y="46749"/>
                  <a:pt x="1079889" y="29920"/>
                  <a:pt x="1268753" y="19635"/>
                </a:cubicBezTo>
                <a:cubicBezTo>
                  <a:pt x="1457617" y="9350"/>
                  <a:pt x="1711928" y="5610"/>
                  <a:pt x="1812905" y="2805"/>
                </a:cubicBezTo>
                <a:cubicBezTo>
                  <a:pt x="1913882" y="0"/>
                  <a:pt x="1855914" y="1870"/>
                  <a:pt x="1874613" y="2805"/>
                </a:cubicBezTo>
                <a:cubicBezTo>
                  <a:pt x="1893312" y="3740"/>
                  <a:pt x="1904532" y="935"/>
                  <a:pt x="1925101" y="8415"/>
                </a:cubicBezTo>
                <a:cubicBezTo>
                  <a:pt x="1945670" y="15895"/>
                  <a:pt x="1998029" y="47684"/>
                  <a:pt x="1998029" y="47684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65"/>
          <p:cNvSpPr/>
          <p:nvPr/>
        </p:nvSpPr>
        <p:spPr>
          <a:xfrm>
            <a:off x="2786040" y="857160"/>
            <a:ext cx="407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介绍</a:t>
            </a:r>
            <a:r>
              <a:rPr b="0" lang="en-US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作方法的教程有很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68"/>
          <p:cNvSpPr/>
          <p:nvPr/>
        </p:nvSpPr>
        <p:spPr>
          <a:xfrm>
            <a:off x="4000680" y="1357200"/>
            <a:ext cx="507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</a:t>
            </a: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最重要</a:t>
            </a: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法则你真的知道么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fade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2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3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3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4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3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43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32" dur="3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4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3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3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3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3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9" dur="3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3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6300"/>
                            </p:stCondLst>
                            <p:childTnLst>
                              <p:par>
                                <p:cTn id="4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3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45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0" dur="3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6900"/>
                            </p:stCondLst>
                            <p:childTnLst>
                              <p:par>
                                <p:cTn id="46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3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3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4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3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3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8" dur="3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1" dur="3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7800"/>
                            </p:stCondLst>
                            <p:childTnLst>
                              <p:par>
                                <p:cTn id="4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3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8100"/>
                            </p:stCondLst>
                            <p:childTnLst>
                              <p:par>
                                <p:cTn id="48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9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任意多边形 55"/>
          <p:cNvSpPr/>
          <p:nvPr/>
        </p:nvSpPr>
        <p:spPr>
          <a:xfrm>
            <a:off x="2868480" y="4071960"/>
            <a:ext cx="560520" cy="542880"/>
          </a:xfrm>
          <a:custGeom>
            <a:avLst/>
            <a:gdLst/>
            <a:ahLst/>
            <a:rect l="l" t="t" r="r" b="b"/>
            <a:pathLst>
              <a:path w="560716" h="543464">
                <a:moveTo>
                  <a:pt x="0" y="500332"/>
                </a:moveTo>
                <a:lnTo>
                  <a:pt x="517584" y="163902"/>
                </a:lnTo>
                <a:lnTo>
                  <a:pt x="422694" y="0"/>
                </a:lnTo>
                <a:lnTo>
                  <a:pt x="560716" y="0"/>
                </a:lnTo>
                <a:lnTo>
                  <a:pt x="517584" y="353683"/>
                </a:lnTo>
                <a:lnTo>
                  <a:pt x="215660" y="543464"/>
                </a:lnTo>
                <a:lnTo>
                  <a:pt x="0" y="500332"/>
                </a:lnTo>
                <a:close/>
              </a:path>
            </a:pathLst>
          </a:cu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任意多边形 3"/>
          <p:cNvSpPr/>
          <p:nvPr/>
        </p:nvSpPr>
        <p:spPr>
          <a:xfrm>
            <a:off x="3997440" y="4925880"/>
            <a:ext cx="303120" cy="1967040"/>
          </a:xfrm>
          <a:custGeom>
            <a:avLst/>
            <a:gdLst/>
            <a:ahLst/>
            <a:rect l="l" t="t" r="r" b="b"/>
            <a:pathLst>
              <a:path w="301924" h="1966823">
                <a:moveTo>
                  <a:pt x="301924" y="0"/>
                </a:moveTo>
                <a:lnTo>
                  <a:pt x="0" y="1966823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任意多边形 4"/>
          <p:cNvSpPr/>
          <p:nvPr/>
        </p:nvSpPr>
        <p:spPr>
          <a:xfrm>
            <a:off x="4165560" y="4916520"/>
            <a:ext cx="303120" cy="1959120"/>
          </a:xfrm>
          <a:custGeom>
            <a:avLst/>
            <a:gdLst/>
            <a:ahLst/>
            <a:rect l="l" t="t" r="r" b="b"/>
            <a:pathLst>
              <a:path w="301924" h="1958197">
                <a:moveTo>
                  <a:pt x="301924" y="0"/>
                </a:moveTo>
                <a:lnTo>
                  <a:pt x="0" y="1958197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任意多边形 5"/>
          <p:cNvSpPr/>
          <p:nvPr/>
        </p:nvSpPr>
        <p:spPr>
          <a:xfrm>
            <a:off x="3502080" y="4898880"/>
            <a:ext cx="1733400" cy="52560"/>
          </a:xfrm>
          <a:custGeom>
            <a:avLst/>
            <a:gdLst/>
            <a:ahLst/>
            <a:rect l="l" t="t" r="r" b="b"/>
            <a:pathLst>
              <a:path w="1733910" h="51758">
                <a:moveTo>
                  <a:pt x="0" y="51758"/>
                </a:moveTo>
                <a:lnTo>
                  <a:pt x="173391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组合 60"/>
          <p:cNvGrpSpPr/>
          <p:nvPr/>
        </p:nvGrpSpPr>
        <p:grpSpPr>
          <a:xfrm>
            <a:off x="5222880" y="3519360"/>
            <a:ext cx="368280" cy="1381320"/>
            <a:chOff x="5222880" y="3519360"/>
            <a:chExt cx="368280" cy="1381320"/>
          </a:xfrm>
        </p:grpSpPr>
        <p:sp>
          <p:nvSpPr>
            <p:cNvPr id="297" name="任意多边形 6"/>
            <p:cNvSpPr/>
            <p:nvPr/>
          </p:nvSpPr>
          <p:spPr>
            <a:xfrm>
              <a:off x="5222880" y="4562640"/>
              <a:ext cx="368280" cy="338040"/>
            </a:xfrm>
            <a:custGeom>
              <a:avLst/>
              <a:gdLst/>
              <a:ahLst/>
              <a:rect l="l" t="t" r="r" b="b"/>
              <a:pathLst>
                <a:path w="368060" h="337868">
                  <a:moveTo>
                    <a:pt x="0" y="336430"/>
                  </a:moveTo>
                  <a:cubicBezTo>
                    <a:pt x="54634" y="337149"/>
                    <a:pt x="109268" y="337868"/>
                    <a:pt x="155275" y="327804"/>
                  </a:cubicBezTo>
                  <a:cubicBezTo>
                    <a:pt x="201283" y="317740"/>
                    <a:pt x="242977" y="300487"/>
                    <a:pt x="276045" y="276045"/>
                  </a:cubicBezTo>
                  <a:cubicBezTo>
                    <a:pt x="309113" y="251604"/>
                    <a:pt x="339306" y="227162"/>
                    <a:pt x="353683" y="181155"/>
                  </a:cubicBezTo>
                  <a:cubicBezTo>
                    <a:pt x="368060" y="135148"/>
                    <a:pt x="365184" y="67574"/>
                    <a:pt x="362309" y="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任意多边形 8"/>
            <p:cNvSpPr/>
            <p:nvPr/>
          </p:nvSpPr>
          <p:spPr>
            <a:xfrm>
              <a:off x="5572440" y="3519360"/>
              <a:ext cx="9360" cy="1078200"/>
            </a:xfrm>
            <a:custGeom>
              <a:avLst/>
              <a:gdLst/>
              <a:ahLst/>
              <a:rect l="l" t="t" r="r" b="b"/>
              <a:pathLst>
                <a:path w="8626" h="1078302">
                  <a:moveTo>
                    <a:pt x="8626" y="1078302"/>
                  </a:moveTo>
                  <a:cubicBezTo>
                    <a:pt x="5751" y="718868"/>
                    <a:pt x="2875" y="359434"/>
                    <a:pt x="0" y="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任意多边形 9"/>
          <p:cNvSpPr/>
          <p:nvPr/>
        </p:nvSpPr>
        <p:spPr>
          <a:xfrm>
            <a:off x="3648240" y="3295800"/>
            <a:ext cx="1596960" cy="465120"/>
          </a:xfrm>
          <a:custGeom>
            <a:avLst/>
            <a:gdLst/>
            <a:ahLst/>
            <a:rect l="l" t="t" r="r" b="b"/>
            <a:pathLst>
              <a:path w="1595887" h="465826">
                <a:moveTo>
                  <a:pt x="0" y="465826"/>
                </a:moveTo>
                <a:lnTo>
                  <a:pt x="1595887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任意多边形 12"/>
          <p:cNvSpPr/>
          <p:nvPr/>
        </p:nvSpPr>
        <p:spPr>
          <a:xfrm>
            <a:off x="5192640" y="3252960"/>
            <a:ext cx="379440" cy="266400"/>
          </a:xfrm>
          <a:custGeom>
            <a:avLst/>
            <a:gdLst/>
            <a:ahLst/>
            <a:rect l="l" t="t" r="r" b="b"/>
            <a:pathLst>
              <a:path w="379562" h="267419">
                <a:moveTo>
                  <a:pt x="0" y="51758"/>
                </a:moveTo>
                <a:cubicBezTo>
                  <a:pt x="65417" y="38100"/>
                  <a:pt x="130834" y="24442"/>
                  <a:pt x="181155" y="17253"/>
                </a:cubicBezTo>
                <a:cubicBezTo>
                  <a:pt x="231476" y="10064"/>
                  <a:pt x="271733" y="0"/>
                  <a:pt x="301925" y="8626"/>
                </a:cubicBezTo>
                <a:cubicBezTo>
                  <a:pt x="332118" y="17252"/>
                  <a:pt x="349371" y="25879"/>
                  <a:pt x="362310" y="69011"/>
                </a:cubicBezTo>
                <a:cubicBezTo>
                  <a:pt x="375249" y="112143"/>
                  <a:pt x="377405" y="189781"/>
                  <a:pt x="379562" y="267419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组合 59"/>
          <p:cNvGrpSpPr/>
          <p:nvPr/>
        </p:nvGrpSpPr>
        <p:grpSpPr>
          <a:xfrm>
            <a:off x="3346560" y="4040280"/>
            <a:ext cx="180720" cy="915840"/>
            <a:chOff x="3346560" y="4040280"/>
            <a:chExt cx="180720" cy="915840"/>
          </a:xfrm>
        </p:grpSpPr>
        <p:sp>
          <p:nvSpPr>
            <p:cNvPr id="302" name="任意多边形 11"/>
            <p:cNvSpPr/>
            <p:nvPr/>
          </p:nvSpPr>
          <p:spPr>
            <a:xfrm>
              <a:off x="3360600" y="4040280"/>
              <a:ext cx="77760" cy="681120"/>
            </a:xfrm>
            <a:custGeom>
              <a:avLst/>
              <a:gdLst/>
              <a:ahLst/>
              <a:rect l="l" t="t" r="r" b="b"/>
              <a:pathLst>
                <a:path w="77637" h="681486">
                  <a:moveTo>
                    <a:pt x="77637" y="0"/>
                  </a:moveTo>
                  <a:lnTo>
                    <a:pt x="0" y="681486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任意多边形 13"/>
            <p:cNvSpPr/>
            <p:nvPr/>
          </p:nvSpPr>
          <p:spPr>
            <a:xfrm>
              <a:off x="3346560" y="4686480"/>
              <a:ext cx="180720" cy="269640"/>
            </a:xfrm>
            <a:custGeom>
              <a:avLst/>
              <a:gdLst/>
              <a:ahLst/>
              <a:rect l="l" t="t" r="r" b="b"/>
              <a:pathLst>
                <a:path w="181154" h="270294">
                  <a:moveTo>
                    <a:pt x="181154" y="258792"/>
                  </a:moveTo>
                  <a:cubicBezTo>
                    <a:pt x="139460" y="264543"/>
                    <a:pt x="97766" y="270294"/>
                    <a:pt x="69011" y="258792"/>
                  </a:cubicBezTo>
                  <a:cubicBezTo>
                    <a:pt x="40256" y="247290"/>
                    <a:pt x="17252" y="232913"/>
                    <a:pt x="8626" y="189781"/>
                  </a:cubicBezTo>
                  <a:cubicBezTo>
                    <a:pt x="0" y="146649"/>
                    <a:pt x="8626" y="73324"/>
                    <a:pt x="17252" y="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任意多边形 14"/>
          <p:cNvSpPr/>
          <p:nvPr/>
        </p:nvSpPr>
        <p:spPr>
          <a:xfrm>
            <a:off x="3432240" y="3728880"/>
            <a:ext cx="311040" cy="344520"/>
          </a:xfrm>
          <a:custGeom>
            <a:avLst/>
            <a:gdLst/>
            <a:ahLst/>
            <a:rect l="l" t="t" r="r" b="b"/>
            <a:pathLst>
              <a:path w="310551" h="345056">
                <a:moveTo>
                  <a:pt x="0" y="345056"/>
                </a:moveTo>
                <a:cubicBezTo>
                  <a:pt x="5032" y="289703"/>
                  <a:pt x="10064" y="234350"/>
                  <a:pt x="17253" y="198407"/>
                </a:cubicBezTo>
                <a:cubicBezTo>
                  <a:pt x="24442" y="162464"/>
                  <a:pt x="35944" y="145211"/>
                  <a:pt x="43133" y="129396"/>
                </a:cubicBezTo>
                <a:cubicBezTo>
                  <a:pt x="50322" y="113581"/>
                  <a:pt x="48883" y="113581"/>
                  <a:pt x="60385" y="103517"/>
                </a:cubicBezTo>
                <a:cubicBezTo>
                  <a:pt x="71887" y="93453"/>
                  <a:pt x="70450" y="86264"/>
                  <a:pt x="112144" y="69011"/>
                </a:cubicBezTo>
                <a:cubicBezTo>
                  <a:pt x="153838" y="51758"/>
                  <a:pt x="232194" y="25879"/>
                  <a:pt x="310551" y="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任意多边形 17"/>
          <p:cNvSpPr/>
          <p:nvPr/>
        </p:nvSpPr>
        <p:spPr>
          <a:xfrm>
            <a:off x="4214880" y="1641600"/>
            <a:ext cx="1236600" cy="906480"/>
          </a:xfrm>
          <a:custGeom>
            <a:avLst/>
            <a:gdLst/>
            <a:ahLst/>
            <a:rect l="l" t="t" r="r" b="b"/>
            <a:pathLst>
              <a:path w="1236452" h="905773">
                <a:moveTo>
                  <a:pt x="11501" y="428446"/>
                </a:moveTo>
                <a:cubicBezTo>
                  <a:pt x="5750" y="386032"/>
                  <a:pt x="0" y="343619"/>
                  <a:pt x="20128" y="316302"/>
                </a:cubicBezTo>
                <a:cubicBezTo>
                  <a:pt x="40256" y="288985"/>
                  <a:pt x="63260" y="287548"/>
                  <a:pt x="132271" y="264544"/>
                </a:cubicBezTo>
                <a:cubicBezTo>
                  <a:pt x="201282" y="241540"/>
                  <a:pt x="434196" y="178280"/>
                  <a:pt x="434196" y="178280"/>
                </a:cubicBezTo>
                <a:lnTo>
                  <a:pt x="908648" y="48883"/>
                </a:lnTo>
                <a:cubicBezTo>
                  <a:pt x="1016478" y="20128"/>
                  <a:pt x="1039483" y="11502"/>
                  <a:pt x="1081177" y="5751"/>
                </a:cubicBezTo>
                <a:cubicBezTo>
                  <a:pt x="1122871" y="0"/>
                  <a:pt x="1138686" y="8627"/>
                  <a:pt x="1158814" y="14378"/>
                </a:cubicBezTo>
                <a:cubicBezTo>
                  <a:pt x="1178942" y="20129"/>
                  <a:pt x="1191883" y="20129"/>
                  <a:pt x="1201947" y="40257"/>
                </a:cubicBezTo>
                <a:cubicBezTo>
                  <a:pt x="1212011" y="60385"/>
                  <a:pt x="1213448" y="40258"/>
                  <a:pt x="1219199" y="135148"/>
                </a:cubicBezTo>
                <a:cubicBezTo>
                  <a:pt x="1224950" y="230038"/>
                  <a:pt x="1236452" y="496019"/>
                  <a:pt x="1236452" y="609600"/>
                </a:cubicBezTo>
                <a:cubicBezTo>
                  <a:pt x="1236452" y="723181"/>
                  <a:pt x="1236452" y="770626"/>
                  <a:pt x="1219199" y="816634"/>
                </a:cubicBezTo>
                <a:cubicBezTo>
                  <a:pt x="1201946" y="862642"/>
                  <a:pt x="1187569" y="871269"/>
                  <a:pt x="1132935" y="885646"/>
                </a:cubicBezTo>
                <a:cubicBezTo>
                  <a:pt x="1078301" y="900023"/>
                  <a:pt x="987724" y="900023"/>
                  <a:pt x="891396" y="902898"/>
                </a:cubicBezTo>
                <a:cubicBezTo>
                  <a:pt x="795068" y="905773"/>
                  <a:pt x="675016" y="904335"/>
                  <a:pt x="554965" y="902898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任意多边形 18"/>
          <p:cNvSpPr/>
          <p:nvPr/>
        </p:nvSpPr>
        <p:spPr>
          <a:xfrm>
            <a:off x="3527280" y="3403440"/>
            <a:ext cx="1886040" cy="633600"/>
          </a:xfrm>
          <a:custGeom>
            <a:avLst/>
            <a:gdLst/>
            <a:ahLst/>
            <a:rect l="l" t="t" r="r" b="b"/>
            <a:pathLst>
              <a:path w="1884871" h="634042">
                <a:moveTo>
                  <a:pt x="0" y="634042"/>
                </a:moveTo>
                <a:cubicBezTo>
                  <a:pt x="3594" y="595223"/>
                  <a:pt x="7188" y="556404"/>
                  <a:pt x="17252" y="530525"/>
                </a:cubicBezTo>
                <a:cubicBezTo>
                  <a:pt x="27316" y="504646"/>
                  <a:pt x="23004" y="497457"/>
                  <a:pt x="60385" y="478767"/>
                </a:cubicBezTo>
                <a:cubicBezTo>
                  <a:pt x="97766" y="460077"/>
                  <a:pt x="241539" y="418382"/>
                  <a:pt x="241539" y="418382"/>
                </a:cubicBezTo>
                <a:lnTo>
                  <a:pt x="1190445" y="150963"/>
                </a:lnTo>
                <a:lnTo>
                  <a:pt x="1595886" y="38820"/>
                </a:lnTo>
                <a:cubicBezTo>
                  <a:pt x="1690777" y="14379"/>
                  <a:pt x="1716656" y="8627"/>
                  <a:pt x="1759788" y="4314"/>
                </a:cubicBezTo>
                <a:cubicBezTo>
                  <a:pt x="1802920" y="1"/>
                  <a:pt x="1834551" y="0"/>
                  <a:pt x="1854679" y="12940"/>
                </a:cubicBezTo>
                <a:cubicBezTo>
                  <a:pt x="1874807" y="25880"/>
                  <a:pt x="1876245" y="48884"/>
                  <a:pt x="1880558" y="81952"/>
                </a:cubicBezTo>
                <a:cubicBezTo>
                  <a:pt x="1884871" y="115020"/>
                  <a:pt x="1882714" y="163184"/>
                  <a:pt x="1880558" y="21134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组合 62"/>
          <p:cNvGrpSpPr/>
          <p:nvPr/>
        </p:nvGrpSpPr>
        <p:grpSpPr>
          <a:xfrm>
            <a:off x="3432240" y="4011480"/>
            <a:ext cx="182520" cy="862200"/>
            <a:chOff x="3432240" y="4011480"/>
            <a:chExt cx="182520" cy="862200"/>
          </a:xfrm>
        </p:grpSpPr>
        <p:sp>
          <p:nvSpPr>
            <p:cNvPr id="308" name="任意多边形 19"/>
            <p:cNvSpPr/>
            <p:nvPr/>
          </p:nvSpPr>
          <p:spPr>
            <a:xfrm>
              <a:off x="3449520" y="4011480"/>
              <a:ext cx="77760" cy="628920"/>
            </a:xfrm>
            <a:custGeom>
              <a:avLst/>
              <a:gdLst/>
              <a:ahLst/>
              <a:rect l="l" t="t" r="r" b="b"/>
              <a:pathLst>
                <a:path w="77638" h="629728">
                  <a:moveTo>
                    <a:pt x="77638" y="0"/>
                  </a:moveTo>
                  <a:lnTo>
                    <a:pt x="0" y="629728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任意多边形 21"/>
            <p:cNvSpPr/>
            <p:nvPr/>
          </p:nvSpPr>
          <p:spPr>
            <a:xfrm>
              <a:off x="3432240" y="4640400"/>
              <a:ext cx="182520" cy="233280"/>
            </a:xfrm>
            <a:custGeom>
              <a:avLst/>
              <a:gdLst/>
              <a:ahLst/>
              <a:rect l="l" t="t" r="r" b="b"/>
              <a:pathLst>
                <a:path w="182593" h="232914">
                  <a:moveTo>
                    <a:pt x="10064" y="0"/>
                  </a:moveTo>
                  <a:cubicBezTo>
                    <a:pt x="5032" y="43851"/>
                    <a:pt x="0" y="87702"/>
                    <a:pt x="1438" y="120770"/>
                  </a:cubicBezTo>
                  <a:cubicBezTo>
                    <a:pt x="2876" y="153838"/>
                    <a:pt x="7189" y="181155"/>
                    <a:pt x="18691" y="198408"/>
                  </a:cubicBezTo>
                  <a:cubicBezTo>
                    <a:pt x="30193" y="215661"/>
                    <a:pt x="43132" y="218536"/>
                    <a:pt x="70449" y="224287"/>
                  </a:cubicBezTo>
                  <a:cubicBezTo>
                    <a:pt x="97766" y="230038"/>
                    <a:pt x="140179" y="231476"/>
                    <a:pt x="182593" y="23291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任意多边形 22"/>
          <p:cNvSpPr/>
          <p:nvPr/>
        </p:nvSpPr>
        <p:spPr>
          <a:xfrm>
            <a:off x="3605040" y="4795920"/>
            <a:ext cx="1605240" cy="77760"/>
          </a:xfrm>
          <a:custGeom>
            <a:avLst/>
            <a:gdLst/>
            <a:ahLst/>
            <a:rect l="l" t="t" r="r" b="b"/>
            <a:pathLst>
              <a:path w="1604514" h="77638">
                <a:moveTo>
                  <a:pt x="0" y="77638"/>
                </a:moveTo>
                <a:lnTo>
                  <a:pt x="1604514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组合 61"/>
          <p:cNvGrpSpPr/>
          <p:nvPr/>
        </p:nvGrpSpPr>
        <p:grpSpPr>
          <a:xfrm>
            <a:off x="5149800" y="3589200"/>
            <a:ext cx="289080" cy="1209960"/>
            <a:chOff x="5149800" y="3589200"/>
            <a:chExt cx="289080" cy="1209960"/>
          </a:xfrm>
        </p:grpSpPr>
        <p:sp>
          <p:nvSpPr>
            <p:cNvPr id="312" name="任意多边形 20"/>
            <p:cNvSpPr/>
            <p:nvPr/>
          </p:nvSpPr>
          <p:spPr>
            <a:xfrm>
              <a:off x="5409000" y="3589200"/>
              <a:ext cx="25200" cy="939960"/>
            </a:xfrm>
            <a:custGeom>
              <a:avLst/>
              <a:gdLst/>
              <a:ahLst/>
              <a:rect l="l" t="t" r="r" b="b"/>
              <a:pathLst>
                <a:path w="25879" h="940279">
                  <a:moveTo>
                    <a:pt x="0" y="0"/>
                  </a:moveTo>
                  <a:lnTo>
                    <a:pt x="25879" y="940279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任意多边形 24"/>
            <p:cNvSpPr/>
            <p:nvPr/>
          </p:nvSpPr>
          <p:spPr>
            <a:xfrm>
              <a:off x="5149800" y="4505400"/>
              <a:ext cx="289080" cy="293760"/>
            </a:xfrm>
            <a:custGeom>
              <a:avLst/>
              <a:gdLst/>
              <a:ahLst/>
              <a:rect l="l" t="t" r="r" b="b"/>
              <a:pathLst>
                <a:path w="288985" h="293298">
                  <a:moveTo>
                    <a:pt x="0" y="293298"/>
                  </a:moveTo>
                  <a:cubicBezTo>
                    <a:pt x="34505" y="291141"/>
                    <a:pt x="69011" y="288985"/>
                    <a:pt x="103517" y="284672"/>
                  </a:cubicBezTo>
                  <a:cubicBezTo>
                    <a:pt x="138023" y="280359"/>
                    <a:pt x="178279" y="286110"/>
                    <a:pt x="207034" y="267419"/>
                  </a:cubicBezTo>
                  <a:cubicBezTo>
                    <a:pt x="235789" y="248728"/>
                    <a:pt x="263105" y="217098"/>
                    <a:pt x="276045" y="172528"/>
                  </a:cubicBezTo>
                  <a:cubicBezTo>
                    <a:pt x="288985" y="127958"/>
                    <a:pt x="286828" y="63979"/>
                    <a:pt x="284671" y="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任意多边形 25"/>
          <p:cNvSpPr/>
          <p:nvPr/>
        </p:nvSpPr>
        <p:spPr>
          <a:xfrm>
            <a:off x="3851280" y="2111400"/>
            <a:ext cx="1485720" cy="1433520"/>
          </a:xfrm>
          <a:custGeom>
            <a:avLst/>
            <a:gdLst/>
            <a:ahLst/>
            <a:rect l="l" t="t" r="r" b="b"/>
            <a:pathLst>
              <a:path w="1486619" h="1434861">
                <a:moveTo>
                  <a:pt x="547778" y="1434861"/>
                </a:moveTo>
                <a:lnTo>
                  <a:pt x="185468" y="1262332"/>
                </a:lnTo>
                <a:cubicBezTo>
                  <a:pt x="106393" y="1224951"/>
                  <a:pt x="100642" y="1224951"/>
                  <a:pt x="73325" y="1210574"/>
                </a:cubicBezTo>
                <a:cubicBezTo>
                  <a:pt x="46008" y="1196197"/>
                  <a:pt x="33068" y="1197634"/>
                  <a:pt x="21566" y="1176068"/>
                </a:cubicBezTo>
                <a:cubicBezTo>
                  <a:pt x="10064" y="1154502"/>
                  <a:pt x="0" y="1140125"/>
                  <a:pt x="4313" y="1081178"/>
                </a:cubicBezTo>
                <a:cubicBezTo>
                  <a:pt x="8626" y="1022231"/>
                  <a:pt x="20128" y="976223"/>
                  <a:pt x="47445" y="822385"/>
                </a:cubicBezTo>
                <a:cubicBezTo>
                  <a:pt x="74762" y="668547"/>
                  <a:pt x="130834" y="291860"/>
                  <a:pt x="168215" y="158151"/>
                </a:cubicBezTo>
                <a:cubicBezTo>
                  <a:pt x="205596" y="24442"/>
                  <a:pt x="228600" y="27318"/>
                  <a:pt x="271732" y="20129"/>
                </a:cubicBezTo>
                <a:cubicBezTo>
                  <a:pt x="314864" y="12940"/>
                  <a:pt x="283234" y="0"/>
                  <a:pt x="427008" y="115019"/>
                </a:cubicBezTo>
                <a:cubicBezTo>
                  <a:pt x="570782" y="230038"/>
                  <a:pt x="1134374" y="710242"/>
                  <a:pt x="1134374" y="710242"/>
                </a:cubicBezTo>
                <a:cubicBezTo>
                  <a:pt x="1298276" y="848265"/>
                  <a:pt x="1352910" y="887083"/>
                  <a:pt x="1410419" y="943155"/>
                </a:cubicBezTo>
                <a:cubicBezTo>
                  <a:pt x="1467928" y="999227"/>
                  <a:pt x="1472241" y="1009291"/>
                  <a:pt x="1479430" y="1046672"/>
                </a:cubicBezTo>
                <a:cubicBezTo>
                  <a:pt x="1486619" y="1084053"/>
                  <a:pt x="1470085" y="1125747"/>
                  <a:pt x="1453551" y="1167442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任意多边形 26"/>
          <p:cNvSpPr/>
          <p:nvPr/>
        </p:nvSpPr>
        <p:spPr>
          <a:xfrm>
            <a:off x="4257720" y="1698480"/>
            <a:ext cx="1128600" cy="811440"/>
          </a:xfrm>
          <a:custGeom>
            <a:avLst/>
            <a:gdLst/>
            <a:ahLst/>
            <a:rect l="l" t="t" r="r" b="b"/>
            <a:pathLst>
              <a:path w="1128622" h="810883">
                <a:moveTo>
                  <a:pt x="2875" y="405441"/>
                </a:moveTo>
                <a:cubicBezTo>
                  <a:pt x="1437" y="378124"/>
                  <a:pt x="0" y="350808"/>
                  <a:pt x="2875" y="327804"/>
                </a:cubicBezTo>
                <a:cubicBezTo>
                  <a:pt x="5751" y="304800"/>
                  <a:pt x="1438" y="284672"/>
                  <a:pt x="20128" y="267419"/>
                </a:cubicBezTo>
                <a:cubicBezTo>
                  <a:pt x="38818" y="250166"/>
                  <a:pt x="30192" y="248728"/>
                  <a:pt x="115018" y="224287"/>
                </a:cubicBezTo>
                <a:cubicBezTo>
                  <a:pt x="199844" y="199846"/>
                  <a:pt x="529086" y="120770"/>
                  <a:pt x="529086" y="120770"/>
                </a:cubicBezTo>
                <a:lnTo>
                  <a:pt x="917275" y="25879"/>
                </a:lnTo>
                <a:cubicBezTo>
                  <a:pt x="1003539" y="7188"/>
                  <a:pt x="1016479" y="0"/>
                  <a:pt x="1046671" y="8626"/>
                </a:cubicBezTo>
                <a:cubicBezTo>
                  <a:pt x="1076864" y="17253"/>
                  <a:pt x="1088366" y="31631"/>
                  <a:pt x="1098430" y="77638"/>
                </a:cubicBezTo>
                <a:cubicBezTo>
                  <a:pt x="1108494" y="123646"/>
                  <a:pt x="1102743" y="194094"/>
                  <a:pt x="1107056" y="284671"/>
                </a:cubicBezTo>
                <a:cubicBezTo>
                  <a:pt x="1111369" y="375248"/>
                  <a:pt x="1128622" y="543464"/>
                  <a:pt x="1124309" y="621102"/>
                </a:cubicBezTo>
                <a:cubicBezTo>
                  <a:pt x="1119996" y="698740"/>
                  <a:pt x="1107056" y="721743"/>
                  <a:pt x="1081177" y="750498"/>
                </a:cubicBezTo>
                <a:cubicBezTo>
                  <a:pt x="1055298" y="779253"/>
                  <a:pt x="1036607" y="785004"/>
                  <a:pt x="969033" y="793630"/>
                </a:cubicBezTo>
                <a:cubicBezTo>
                  <a:pt x="901459" y="802256"/>
                  <a:pt x="675735" y="802256"/>
                  <a:pt x="675735" y="802256"/>
                </a:cubicBezTo>
                <a:lnTo>
                  <a:pt x="460075" y="810883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任意多边形 31"/>
          <p:cNvSpPr/>
          <p:nvPr/>
        </p:nvSpPr>
        <p:spPr>
          <a:xfrm>
            <a:off x="3597120" y="3665520"/>
            <a:ext cx="1673280" cy="1009800"/>
          </a:xfrm>
          <a:custGeom>
            <a:avLst/>
            <a:gdLst/>
            <a:ahLst/>
            <a:rect l="l" t="t" r="r" b="b"/>
            <a:pathLst>
              <a:path w="1673524" h="1009291">
                <a:moveTo>
                  <a:pt x="0" y="569344"/>
                </a:moveTo>
                <a:lnTo>
                  <a:pt x="1026543" y="336431"/>
                </a:lnTo>
                <a:lnTo>
                  <a:pt x="931653" y="0"/>
                </a:lnTo>
                <a:lnTo>
                  <a:pt x="1673524" y="396816"/>
                </a:lnTo>
                <a:lnTo>
                  <a:pt x="940279" y="1009291"/>
                </a:lnTo>
                <a:lnTo>
                  <a:pt x="1017917" y="664234"/>
                </a:lnTo>
                <a:lnTo>
                  <a:pt x="0" y="836763"/>
                </a:lnTo>
                <a:lnTo>
                  <a:pt x="0" y="569344"/>
                </a:lnTo>
                <a:close/>
              </a:path>
            </a:pathLst>
          </a:custGeom>
          <a:solidFill>
            <a:srgbClr val="ffffff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任意多边形 32"/>
          <p:cNvSpPr/>
          <p:nvPr/>
        </p:nvSpPr>
        <p:spPr>
          <a:xfrm>
            <a:off x="4037040" y="2579760"/>
            <a:ext cx="1190520" cy="887400"/>
          </a:xfrm>
          <a:custGeom>
            <a:avLst/>
            <a:gdLst/>
            <a:ahLst/>
            <a:rect l="l" t="t" r="r" b="b"/>
            <a:pathLst>
              <a:path w="1190445" h="888521">
                <a:moveTo>
                  <a:pt x="414068" y="888521"/>
                </a:moveTo>
                <a:lnTo>
                  <a:pt x="0" y="120770"/>
                </a:lnTo>
                <a:lnTo>
                  <a:pt x="595223" y="0"/>
                </a:lnTo>
                <a:lnTo>
                  <a:pt x="534838" y="258793"/>
                </a:lnTo>
                <a:lnTo>
                  <a:pt x="1190445" y="724619"/>
                </a:lnTo>
                <a:lnTo>
                  <a:pt x="828136" y="828136"/>
                </a:lnTo>
                <a:lnTo>
                  <a:pt x="457200" y="603849"/>
                </a:lnTo>
                <a:lnTo>
                  <a:pt x="414068" y="888521"/>
                </a:lnTo>
                <a:close/>
              </a:path>
            </a:pathLst>
          </a:cu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任意多边形 35"/>
          <p:cNvSpPr/>
          <p:nvPr/>
        </p:nvSpPr>
        <p:spPr>
          <a:xfrm>
            <a:off x="4346640" y="1871640"/>
            <a:ext cx="923760" cy="560520"/>
          </a:xfrm>
          <a:custGeom>
            <a:avLst/>
            <a:gdLst/>
            <a:ahLst/>
            <a:rect l="l" t="t" r="r" b="b"/>
            <a:pathLst>
              <a:path w="923026" h="560717">
                <a:moveTo>
                  <a:pt x="0" y="301925"/>
                </a:moveTo>
                <a:lnTo>
                  <a:pt x="560717" y="181155"/>
                </a:lnTo>
                <a:lnTo>
                  <a:pt x="517585" y="0"/>
                </a:lnTo>
                <a:lnTo>
                  <a:pt x="923026" y="215660"/>
                </a:lnTo>
                <a:lnTo>
                  <a:pt x="500332" y="560717"/>
                </a:lnTo>
                <a:lnTo>
                  <a:pt x="560717" y="362310"/>
                </a:lnTo>
                <a:lnTo>
                  <a:pt x="155276" y="439947"/>
                </a:lnTo>
                <a:lnTo>
                  <a:pt x="0" y="301925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组合 64"/>
          <p:cNvGrpSpPr/>
          <p:nvPr/>
        </p:nvGrpSpPr>
        <p:grpSpPr>
          <a:xfrm>
            <a:off x="3368520" y="5624640"/>
            <a:ext cx="327240" cy="1258920"/>
            <a:chOff x="3368520" y="5624640"/>
            <a:chExt cx="327240" cy="1258920"/>
          </a:xfrm>
        </p:grpSpPr>
        <p:sp>
          <p:nvSpPr>
            <p:cNvPr id="320" name="任意多边形 36"/>
            <p:cNvSpPr/>
            <p:nvPr/>
          </p:nvSpPr>
          <p:spPr>
            <a:xfrm>
              <a:off x="3368520" y="5624640"/>
              <a:ext cx="216000" cy="1241640"/>
            </a:xfrm>
            <a:custGeom>
              <a:avLst/>
              <a:gdLst/>
              <a:ahLst/>
              <a:rect l="l" t="t" r="r" b="b"/>
              <a:pathLst>
                <a:path w="215660" h="1242203">
                  <a:moveTo>
                    <a:pt x="0" y="0"/>
                  </a:moveTo>
                  <a:lnTo>
                    <a:pt x="215660" y="1242203"/>
                  </a:lnTo>
                </a:path>
              </a:pathLst>
            </a:custGeom>
            <a:noFill/>
            <a:ln w="19080">
              <a:solidFill>
                <a:srgbClr val="ffffff">
                  <a:alpha val="7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任意多边形 37"/>
            <p:cNvSpPr/>
            <p:nvPr/>
          </p:nvSpPr>
          <p:spPr>
            <a:xfrm>
              <a:off x="3489120" y="5624640"/>
              <a:ext cx="206640" cy="1258920"/>
            </a:xfrm>
            <a:custGeom>
              <a:avLst/>
              <a:gdLst/>
              <a:ahLst/>
              <a:rect l="l" t="t" r="r" b="b"/>
              <a:pathLst>
                <a:path w="207034" h="1259456">
                  <a:moveTo>
                    <a:pt x="0" y="0"/>
                  </a:moveTo>
                  <a:lnTo>
                    <a:pt x="207034" y="1259456"/>
                  </a:lnTo>
                </a:path>
              </a:pathLst>
            </a:custGeom>
            <a:noFill/>
            <a:ln w="19080">
              <a:solidFill>
                <a:srgbClr val="ffffff">
                  <a:alpha val="7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任意多边形 38"/>
          <p:cNvSpPr/>
          <p:nvPr/>
        </p:nvSpPr>
        <p:spPr>
          <a:xfrm>
            <a:off x="2558880" y="3454560"/>
            <a:ext cx="1649520" cy="2182680"/>
          </a:xfrm>
          <a:custGeom>
            <a:avLst/>
            <a:gdLst/>
            <a:ahLst/>
            <a:rect l="l" t="t" r="r" b="b"/>
            <a:pathLst>
              <a:path w="1649084" h="2182483">
                <a:moveTo>
                  <a:pt x="1646208" y="2117785"/>
                </a:moveTo>
                <a:cubicBezTo>
                  <a:pt x="1647646" y="2139351"/>
                  <a:pt x="1649084" y="2160918"/>
                  <a:pt x="1620329" y="2169544"/>
                </a:cubicBezTo>
                <a:cubicBezTo>
                  <a:pt x="1591574" y="2178170"/>
                  <a:pt x="1473680" y="2169544"/>
                  <a:pt x="1473680" y="2169544"/>
                </a:cubicBezTo>
                <a:lnTo>
                  <a:pt x="740434" y="2178170"/>
                </a:lnTo>
                <a:cubicBezTo>
                  <a:pt x="544902" y="2179608"/>
                  <a:pt x="406879" y="2182483"/>
                  <a:pt x="300487" y="2178170"/>
                </a:cubicBezTo>
                <a:cubicBezTo>
                  <a:pt x="194095" y="2173857"/>
                  <a:pt x="149525" y="2173857"/>
                  <a:pt x="102080" y="2152291"/>
                </a:cubicBezTo>
                <a:cubicBezTo>
                  <a:pt x="54635" y="2130725"/>
                  <a:pt x="31630" y="2110597"/>
                  <a:pt x="15815" y="2048774"/>
                </a:cubicBezTo>
                <a:cubicBezTo>
                  <a:pt x="0" y="1986951"/>
                  <a:pt x="7189" y="1887747"/>
                  <a:pt x="7189" y="1781355"/>
                </a:cubicBezTo>
                <a:cubicBezTo>
                  <a:pt x="7189" y="1674963"/>
                  <a:pt x="12940" y="1502434"/>
                  <a:pt x="15815" y="1410419"/>
                </a:cubicBezTo>
                <a:cubicBezTo>
                  <a:pt x="18690" y="1318404"/>
                  <a:pt x="15816" y="1275272"/>
                  <a:pt x="24442" y="1229264"/>
                </a:cubicBezTo>
                <a:cubicBezTo>
                  <a:pt x="33069" y="1183257"/>
                  <a:pt x="50321" y="1154502"/>
                  <a:pt x="67574" y="1134374"/>
                </a:cubicBezTo>
                <a:cubicBezTo>
                  <a:pt x="84827" y="1114246"/>
                  <a:pt x="107831" y="1112808"/>
                  <a:pt x="127959" y="1108495"/>
                </a:cubicBezTo>
                <a:cubicBezTo>
                  <a:pt x="148087" y="1104182"/>
                  <a:pt x="184031" y="1118559"/>
                  <a:pt x="188344" y="1108495"/>
                </a:cubicBezTo>
                <a:cubicBezTo>
                  <a:pt x="192657" y="1098431"/>
                  <a:pt x="159589" y="1072551"/>
                  <a:pt x="153838" y="1048110"/>
                </a:cubicBezTo>
                <a:cubicBezTo>
                  <a:pt x="148087" y="1023669"/>
                  <a:pt x="136585" y="990601"/>
                  <a:pt x="153838" y="961846"/>
                </a:cubicBezTo>
                <a:cubicBezTo>
                  <a:pt x="171091" y="933091"/>
                  <a:pt x="209910" y="911524"/>
                  <a:pt x="257355" y="875581"/>
                </a:cubicBezTo>
                <a:cubicBezTo>
                  <a:pt x="304800" y="839638"/>
                  <a:pt x="379563" y="789317"/>
                  <a:pt x="438510" y="746185"/>
                </a:cubicBezTo>
                <a:cubicBezTo>
                  <a:pt x="497457" y="703053"/>
                  <a:pt x="575095" y="642668"/>
                  <a:pt x="611038" y="616789"/>
                </a:cubicBezTo>
                <a:cubicBezTo>
                  <a:pt x="646981" y="590910"/>
                  <a:pt x="657045" y="595223"/>
                  <a:pt x="654170" y="590910"/>
                </a:cubicBezTo>
                <a:cubicBezTo>
                  <a:pt x="651295" y="586597"/>
                  <a:pt x="593785" y="590910"/>
                  <a:pt x="593785" y="590910"/>
                </a:cubicBezTo>
                <a:lnTo>
                  <a:pt x="378125" y="590910"/>
                </a:lnTo>
                <a:cubicBezTo>
                  <a:pt x="319178" y="590910"/>
                  <a:pt x="277483" y="592348"/>
                  <a:pt x="240102" y="590910"/>
                </a:cubicBezTo>
                <a:cubicBezTo>
                  <a:pt x="202721" y="589472"/>
                  <a:pt x="173966" y="599536"/>
                  <a:pt x="153838" y="582283"/>
                </a:cubicBezTo>
                <a:cubicBezTo>
                  <a:pt x="133710" y="565030"/>
                  <a:pt x="125083" y="562155"/>
                  <a:pt x="119332" y="487393"/>
                </a:cubicBezTo>
                <a:cubicBezTo>
                  <a:pt x="113581" y="412631"/>
                  <a:pt x="115019" y="211348"/>
                  <a:pt x="119332" y="133710"/>
                </a:cubicBezTo>
                <a:cubicBezTo>
                  <a:pt x="123645" y="56072"/>
                  <a:pt x="127959" y="43132"/>
                  <a:pt x="145212" y="21566"/>
                </a:cubicBezTo>
                <a:cubicBezTo>
                  <a:pt x="162465" y="0"/>
                  <a:pt x="184030" y="2875"/>
                  <a:pt x="222849" y="4313"/>
                </a:cubicBezTo>
                <a:cubicBezTo>
                  <a:pt x="261668" y="5751"/>
                  <a:pt x="378125" y="30193"/>
                  <a:pt x="378125" y="30193"/>
                </a:cubicBezTo>
                <a:lnTo>
                  <a:pt x="869830" y="107830"/>
                </a:lnTo>
                <a:cubicBezTo>
                  <a:pt x="980536" y="127958"/>
                  <a:pt x="1009291" y="129397"/>
                  <a:pt x="1042359" y="150963"/>
                </a:cubicBezTo>
                <a:cubicBezTo>
                  <a:pt x="1075427" y="172529"/>
                  <a:pt x="1055298" y="230038"/>
                  <a:pt x="1068238" y="237227"/>
                </a:cubicBezTo>
                <a:cubicBezTo>
                  <a:pt x="1081178" y="244416"/>
                  <a:pt x="1095556" y="204159"/>
                  <a:pt x="1119997" y="194095"/>
                </a:cubicBezTo>
                <a:cubicBezTo>
                  <a:pt x="1144438" y="184031"/>
                  <a:pt x="1190446" y="176842"/>
                  <a:pt x="1214887" y="176842"/>
                </a:cubicBezTo>
                <a:cubicBezTo>
                  <a:pt x="1239328" y="176842"/>
                  <a:pt x="1255144" y="185469"/>
                  <a:pt x="1266646" y="194095"/>
                </a:cubicBezTo>
                <a:cubicBezTo>
                  <a:pt x="1278148" y="202721"/>
                  <a:pt x="1281023" y="215660"/>
                  <a:pt x="1283898" y="228600"/>
                </a:cubicBezTo>
              </a:path>
            </a:pathLst>
          </a:custGeom>
          <a:noFill/>
          <a:ln w="19080">
            <a:solidFill>
              <a:srgbClr val="ffffff">
                <a:alpha val="7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任意多边形 39"/>
          <p:cNvSpPr/>
          <p:nvPr/>
        </p:nvSpPr>
        <p:spPr>
          <a:xfrm>
            <a:off x="2733840" y="4554360"/>
            <a:ext cx="637920" cy="113040"/>
          </a:xfrm>
          <a:custGeom>
            <a:avLst/>
            <a:gdLst/>
            <a:ahLst/>
            <a:rect l="l" t="t" r="r" b="b"/>
            <a:pathLst>
              <a:path w="638355" h="112144">
                <a:moveTo>
                  <a:pt x="0" y="0"/>
                </a:moveTo>
                <a:lnTo>
                  <a:pt x="638355" y="112144"/>
                </a:lnTo>
              </a:path>
            </a:pathLst>
          </a:custGeom>
          <a:noFill/>
          <a:ln w="19080">
            <a:solidFill>
              <a:srgbClr val="ffffff">
                <a:alpha val="7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任意多边形 41"/>
          <p:cNvSpPr/>
          <p:nvPr/>
        </p:nvSpPr>
        <p:spPr>
          <a:xfrm>
            <a:off x="3213000" y="3692520"/>
            <a:ext cx="406440" cy="344520"/>
          </a:xfrm>
          <a:custGeom>
            <a:avLst/>
            <a:gdLst/>
            <a:ahLst/>
            <a:rect l="l" t="t" r="r" b="b"/>
            <a:pathLst>
              <a:path w="405442" h="345057">
                <a:moveTo>
                  <a:pt x="405442" y="0"/>
                </a:moveTo>
                <a:lnTo>
                  <a:pt x="0" y="345057"/>
                </a:lnTo>
              </a:path>
            </a:pathLst>
          </a:custGeom>
          <a:noFill/>
          <a:ln w="19080">
            <a:solidFill>
              <a:srgbClr val="ffffff">
                <a:alpha val="7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组合 65"/>
          <p:cNvGrpSpPr/>
          <p:nvPr/>
        </p:nvGrpSpPr>
        <p:grpSpPr>
          <a:xfrm>
            <a:off x="4149720" y="4938840"/>
            <a:ext cx="103320" cy="492120"/>
            <a:chOff x="4149720" y="4938840"/>
            <a:chExt cx="103320" cy="492120"/>
          </a:xfrm>
        </p:grpSpPr>
        <p:sp>
          <p:nvSpPr>
            <p:cNvPr id="326" name="任意多边形 42"/>
            <p:cNvSpPr/>
            <p:nvPr/>
          </p:nvSpPr>
          <p:spPr>
            <a:xfrm>
              <a:off x="4200480" y="4938840"/>
              <a:ext cx="52560" cy="406440"/>
            </a:xfrm>
            <a:custGeom>
              <a:avLst/>
              <a:gdLst/>
              <a:ahLst/>
              <a:rect l="l" t="t" r="r" b="b"/>
              <a:pathLst>
                <a:path w="51759" h="405442">
                  <a:moveTo>
                    <a:pt x="0" y="0"/>
                  </a:moveTo>
                  <a:lnTo>
                    <a:pt x="51759" y="405442"/>
                  </a:lnTo>
                </a:path>
              </a:pathLst>
            </a:custGeom>
            <a:noFill/>
            <a:ln w="19080">
              <a:solidFill>
                <a:srgbClr val="ffffff">
                  <a:alpha val="7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任意多边形 43"/>
            <p:cNvSpPr/>
            <p:nvPr/>
          </p:nvSpPr>
          <p:spPr>
            <a:xfrm>
              <a:off x="4149720" y="4973760"/>
              <a:ext cx="68400" cy="457200"/>
            </a:xfrm>
            <a:custGeom>
              <a:avLst/>
              <a:gdLst/>
              <a:ahLst/>
              <a:rect l="l" t="t" r="r" b="b"/>
              <a:pathLst>
                <a:path w="69011" h="457200">
                  <a:moveTo>
                    <a:pt x="0" y="0"/>
                  </a:moveTo>
                  <a:lnTo>
                    <a:pt x="69011" y="457200"/>
                  </a:lnTo>
                </a:path>
              </a:pathLst>
            </a:custGeom>
            <a:noFill/>
            <a:ln w="19080">
              <a:solidFill>
                <a:srgbClr val="ffffff">
                  <a:alpha val="7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组合 66"/>
          <p:cNvGrpSpPr/>
          <p:nvPr/>
        </p:nvGrpSpPr>
        <p:grpSpPr>
          <a:xfrm>
            <a:off x="2662200" y="4616280"/>
            <a:ext cx="1522440" cy="949320"/>
            <a:chOff x="2662200" y="4616280"/>
            <a:chExt cx="1522440" cy="949320"/>
          </a:xfrm>
        </p:grpSpPr>
        <p:sp>
          <p:nvSpPr>
            <p:cNvPr id="329" name="任意多边形 44"/>
            <p:cNvSpPr/>
            <p:nvPr/>
          </p:nvSpPr>
          <p:spPr>
            <a:xfrm>
              <a:off x="2822400" y="4632120"/>
              <a:ext cx="507960" cy="82440"/>
            </a:xfrm>
            <a:custGeom>
              <a:avLst/>
              <a:gdLst/>
              <a:ahLst/>
              <a:rect l="l" t="t" r="r" b="b"/>
              <a:pathLst>
                <a:path w="508959" h="86264">
                  <a:moveTo>
                    <a:pt x="0" y="0"/>
                  </a:moveTo>
                  <a:lnTo>
                    <a:pt x="508959" y="86264"/>
                  </a:lnTo>
                </a:path>
              </a:pathLst>
            </a:custGeom>
            <a:noFill/>
            <a:ln w="19080">
              <a:solidFill>
                <a:srgbClr val="ffffff">
                  <a:alpha val="7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任意多边形 45"/>
            <p:cNvSpPr/>
            <p:nvPr/>
          </p:nvSpPr>
          <p:spPr>
            <a:xfrm>
              <a:off x="2890800" y="5556240"/>
              <a:ext cx="1293840" cy="360"/>
            </a:xfrm>
            <a:custGeom>
              <a:avLst/>
              <a:gdLst/>
              <a:ahLst/>
              <a:rect l="l" t="t" r="r" b="b"/>
              <a:pathLst>
                <a:path w="1293962" h="0">
                  <a:moveTo>
                    <a:pt x="0" y="0"/>
                  </a:moveTo>
                  <a:lnTo>
                    <a:pt x="1293962" y="0"/>
                  </a:lnTo>
                </a:path>
              </a:pathLst>
            </a:custGeom>
            <a:noFill/>
            <a:ln w="19080">
              <a:solidFill>
                <a:srgbClr val="ffffff">
                  <a:alpha val="7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任意多边形 46"/>
            <p:cNvSpPr/>
            <p:nvPr/>
          </p:nvSpPr>
          <p:spPr>
            <a:xfrm>
              <a:off x="2662200" y="4616280"/>
              <a:ext cx="253800" cy="949320"/>
            </a:xfrm>
            <a:custGeom>
              <a:avLst/>
              <a:gdLst/>
              <a:ahLst/>
              <a:rect l="l" t="t" r="r" b="b"/>
              <a:pathLst>
                <a:path w="254480" h="948906">
                  <a:moveTo>
                    <a:pt x="254480" y="938842"/>
                  </a:moveTo>
                  <a:cubicBezTo>
                    <a:pt x="188344" y="943874"/>
                    <a:pt x="122209" y="948906"/>
                    <a:pt x="81952" y="938842"/>
                  </a:cubicBezTo>
                  <a:cubicBezTo>
                    <a:pt x="41695" y="928778"/>
                    <a:pt x="25880" y="908649"/>
                    <a:pt x="12940" y="878457"/>
                  </a:cubicBezTo>
                  <a:cubicBezTo>
                    <a:pt x="0" y="848265"/>
                    <a:pt x="4314" y="859767"/>
                    <a:pt x="4314" y="757688"/>
                  </a:cubicBezTo>
                  <a:cubicBezTo>
                    <a:pt x="4314" y="655609"/>
                    <a:pt x="10065" y="379563"/>
                    <a:pt x="12940" y="265982"/>
                  </a:cubicBezTo>
                  <a:cubicBezTo>
                    <a:pt x="15815" y="152401"/>
                    <a:pt x="14378" y="119333"/>
                    <a:pt x="21567" y="76201"/>
                  </a:cubicBezTo>
                  <a:cubicBezTo>
                    <a:pt x="28756" y="33069"/>
                    <a:pt x="18691" y="14378"/>
                    <a:pt x="56072" y="7189"/>
                  </a:cubicBezTo>
                  <a:cubicBezTo>
                    <a:pt x="93453" y="0"/>
                    <a:pt x="169653" y="16534"/>
                    <a:pt x="245853" y="33069"/>
                  </a:cubicBezTo>
                </a:path>
              </a:pathLst>
            </a:custGeom>
            <a:noFill/>
            <a:ln w="19080">
              <a:solidFill>
                <a:srgbClr val="ffffff">
                  <a:alpha val="7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任意多边形 47"/>
          <p:cNvSpPr/>
          <p:nvPr/>
        </p:nvSpPr>
        <p:spPr>
          <a:xfrm>
            <a:off x="2744640" y="3890880"/>
            <a:ext cx="719280" cy="673200"/>
          </a:xfrm>
          <a:custGeom>
            <a:avLst/>
            <a:gdLst/>
            <a:ahLst/>
            <a:rect l="l" t="t" r="r" b="b"/>
            <a:pathLst>
              <a:path w="718867" h="672861">
                <a:moveTo>
                  <a:pt x="54633" y="672861"/>
                </a:moveTo>
                <a:cubicBezTo>
                  <a:pt x="30191" y="643387"/>
                  <a:pt x="5750" y="613913"/>
                  <a:pt x="2875" y="586596"/>
                </a:cubicBezTo>
                <a:cubicBezTo>
                  <a:pt x="0" y="559279"/>
                  <a:pt x="10063" y="537714"/>
                  <a:pt x="37380" y="508959"/>
                </a:cubicBezTo>
                <a:cubicBezTo>
                  <a:pt x="64697" y="480204"/>
                  <a:pt x="166777" y="414068"/>
                  <a:pt x="166777" y="414068"/>
                </a:cubicBezTo>
                <a:lnTo>
                  <a:pt x="718867" y="0"/>
                </a:lnTo>
              </a:path>
            </a:pathLst>
          </a:custGeom>
          <a:noFill/>
          <a:ln w="19080">
            <a:solidFill>
              <a:srgbClr val="ffffff">
                <a:alpha val="7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任意多边形 48"/>
          <p:cNvSpPr/>
          <p:nvPr/>
        </p:nvSpPr>
        <p:spPr>
          <a:xfrm>
            <a:off x="3584520" y="3691080"/>
            <a:ext cx="216000" cy="96840"/>
          </a:xfrm>
          <a:custGeom>
            <a:avLst/>
            <a:gdLst/>
            <a:ahLst/>
            <a:rect l="l" t="t" r="r" b="b"/>
            <a:pathLst>
              <a:path w="215660" h="96328">
                <a:moveTo>
                  <a:pt x="0" y="96328"/>
                </a:moveTo>
                <a:cubicBezTo>
                  <a:pt x="40256" y="65416"/>
                  <a:pt x="80513" y="34505"/>
                  <a:pt x="103517" y="18690"/>
                </a:cubicBezTo>
                <a:cubicBezTo>
                  <a:pt x="126521" y="2875"/>
                  <a:pt x="122208" y="2876"/>
                  <a:pt x="138023" y="1438"/>
                </a:cubicBezTo>
                <a:cubicBezTo>
                  <a:pt x="153838" y="0"/>
                  <a:pt x="185469" y="5751"/>
                  <a:pt x="198408" y="10064"/>
                </a:cubicBezTo>
                <a:cubicBezTo>
                  <a:pt x="211347" y="14377"/>
                  <a:pt x="213503" y="20847"/>
                  <a:pt x="215660" y="27317"/>
                </a:cubicBezTo>
              </a:path>
            </a:pathLst>
          </a:custGeom>
          <a:noFill/>
          <a:ln w="19080">
            <a:solidFill>
              <a:srgbClr val="ffffff">
                <a:alpha val="7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任意多边形 49"/>
          <p:cNvSpPr/>
          <p:nvPr/>
        </p:nvSpPr>
        <p:spPr>
          <a:xfrm>
            <a:off x="2851200" y="4002120"/>
            <a:ext cx="388800" cy="360"/>
          </a:xfrm>
          <a:custGeom>
            <a:avLst/>
            <a:gdLst/>
            <a:ahLst/>
            <a:rect l="l" t="t" r="r" b="b"/>
            <a:pathLst>
              <a:path w="388188" h="0">
                <a:moveTo>
                  <a:pt x="388188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fffff">
                <a:alpha val="7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任意多边形 50"/>
          <p:cNvSpPr/>
          <p:nvPr/>
        </p:nvSpPr>
        <p:spPr>
          <a:xfrm>
            <a:off x="2886120" y="3502080"/>
            <a:ext cx="603360" cy="95040"/>
          </a:xfrm>
          <a:custGeom>
            <a:avLst/>
            <a:gdLst/>
            <a:ahLst/>
            <a:rect l="l" t="t" r="r" b="b"/>
            <a:pathLst>
              <a:path w="603849" h="94890">
                <a:moveTo>
                  <a:pt x="0" y="0"/>
                </a:moveTo>
                <a:lnTo>
                  <a:pt x="603849" y="94890"/>
                </a:lnTo>
              </a:path>
            </a:pathLst>
          </a:custGeom>
          <a:noFill/>
          <a:ln w="12600">
            <a:solidFill>
              <a:srgbClr val="ffffff">
                <a:alpha val="7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任意多边形 52"/>
          <p:cNvSpPr/>
          <p:nvPr/>
        </p:nvSpPr>
        <p:spPr>
          <a:xfrm>
            <a:off x="2739960" y="3487680"/>
            <a:ext cx="181080" cy="517680"/>
          </a:xfrm>
          <a:custGeom>
            <a:avLst/>
            <a:gdLst/>
            <a:ahLst/>
            <a:rect l="l" t="t" r="r" b="b"/>
            <a:pathLst>
              <a:path w="179717" h="517585">
                <a:moveTo>
                  <a:pt x="162464" y="23003"/>
                </a:moveTo>
                <a:cubicBezTo>
                  <a:pt x="118613" y="15095"/>
                  <a:pt x="74762" y="7188"/>
                  <a:pt x="50321" y="5750"/>
                </a:cubicBezTo>
                <a:cubicBezTo>
                  <a:pt x="25880" y="4312"/>
                  <a:pt x="23004" y="0"/>
                  <a:pt x="15815" y="14377"/>
                </a:cubicBezTo>
                <a:cubicBezTo>
                  <a:pt x="8626" y="28754"/>
                  <a:pt x="8627" y="27316"/>
                  <a:pt x="7189" y="92014"/>
                </a:cubicBezTo>
                <a:cubicBezTo>
                  <a:pt x="5751" y="156712"/>
                  <a:pt x="0" y="334991"/>
                  <a:pt x="7189" y="402565"/>
                </a:cubicBezTo>
                <a:cubicBezTo>
                  <a:pt x="14378" y="470139"/>
                  <a:pt x="35944" y="478765"/>
                  <a:pt x="50321" y="497456"/>
                </a:cubicBezTo>
                <a:cubicBezTo>
                  <a:pt x="64698" y="516147"/>
                  <a:pt x="71887" y="511834"/>
                  <a:pt x="93453" y="514709"/>
                </a:cubicBezTo>
                <a:cubicBezTo>
                  <a:pt x="115019" y="517585"/>
                  <a:pt x="147368" y="516147"/>
                  <a:pt x="179717" y="514709"/>
                </a:cubicBezTo>
              </a:path>
            </a:pathLst>
          </a:custGeom>
          <a:noFill/>
          <a:ln w="12600">
            <a:solidFill>
              <a:srgbClr val="ffffff">
                <a:alpha val="7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任意多边形 53"/>
          <p:cNvSpPr/>
          <p:nvPr/>
        </p:nvSpPr>
        <p:spPr>
          <a:xfrm>
            <a:off x="3429000" y="3589200"/>
            <a:ext cx="169920" cy="128880"/>
          </a:xfrm>
          <a:custGeom>
            <a:avLst/>
            <a:gdLst/>
            <a:ahLst/>
            <a:rect l="l" t="t" r="r" b="b"/>
            <a:pathLst>
              <a:path w="169653" h="129396">
                <a:moveTo>
                  <a:pt x="0" y="0"/>
                </a:moveTo>
                <a:cubicBezTo>
                  <a:pt x="51040" y="5751"/>
                  <a:pt x="102080" y="11502"/>
                  <a:pt x="129397" y="25879"/>
                </a:cubicBezTo>
                <a:cubicBezTo>
                  <a:pt x="156714" y="40256"/>
                  <a:pt x="158151" y="69011"/>
                  <a:pt x="163902" y="86264"/>
                </a:cubicBezTo>
                <a:cubicBezTo>
                  <a:pt x="169653" y="103517"/>
                  <a:pt x="166777" y="116456"/>
                  <a:pt x="163902" y="129396"/>
                </a:cubicBezTo>
              </a:path>
            </a:pathLst>
          </a:custGeom>
          <a:noFill/>
          <a:ln w="12600">
            <a:solidFill>
              <a:srgbClr val="ffffff">
                <a:alpha val="7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任意多边形 54"/>
          <p:cNvSpPr/>
          <p:nvPr/>
        </p:nvSpPr>
        <p:spPr>
          <a:xfrm>
            <a:off x="2763720" y="4813200"/>
            <a:ext cx="1320840" cy="665280"/>
          </a:xfrm>
          <a:custGeom>
            <a:avLst/>
            <a:gdLst/>
            <a:ahLst/>
            <a:rect l="l" t="t" r="r" b="b"/>
            <a:pathLst>
              <a:path w="1319842" h="664234">
                <a:moveTo>
                  <a:pt x="517585" y="0"/>
                </a:moveTo>
                <a:lnTo>
                  <a:pt x="0" y="258792"/>
                </a:lnTo>
                <a:lnTo>
                  <a:pt x="586596" y="664234"/>
                </a:lnTo>
                <a:lnTo>
                  <a:pt x="526211" y="422694"/>
                </a:lnTo>
                <a:lnTo>
                  <a:pt x="1319842" y="508958"/>
                </a:lnTo>
                <a:lnTo>
                  <a:pt x="1319842" y="319177"/>
                </a:lnTo>
                <a:lnTo>
                  <a:pt x="491706" y="207034"/>
                </a:lnTo>
                <a:lnTo>
                  <a:pt x="552091" y="112143"/>
                </a:lnTo>
                <a:lnTo>
                  <a:pt x="517585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任意多边形 56"/>
          <p:cNvSpPr/>
          <p:nvPr/>
        </p:nvSpPr>
        <p:spPr>
          <a:xfrm>
            <a:off x="2828880" y="3589200"/>
            <a:ext cx="708120" cy="362160"/>
          </a:xfrm>
          <a:custGeom>
            <a:avLst/>
            <a:gdLst/>
            <a:ahLst/>
            <a:rect l="l" t="t" r="r" b="b"/>
            <a:pathLst>
              <a:path w="707366" h="362309">
                <a:moveTo>
                  <a:pt x="336430" y="362309"/>
                </a:moveTo>
                <a:lnTo>
                  <a:pt x="0" y="155275"/>
                </a:lnTo>
                <a:lnTo>
                  <a:pt x="327804" y="0"/>
                </a:lnTo>
                <a:lnTo>
                  <a:pt x="301925" y="120769"/>
                </a:lnTo>
                <a:lnTo>
                  <a:pt x="707366" y="163902"/>
                </a:lnTo>
                <a:lnTo>
                  <a:pt x="595223" y="258792"/>
                </a:lnTo>
                <a:lnTo>
                  <a:pt x="293298" y="224286"/>
                </a:lnTo>
                <a:lnTo>
                  <a:pt x="336430" y="362309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任意多边形 63"/>
          <p:cNvSpPr/>
          <p:nvPr/>
        </p:nvSpPr>
        <p:spPr>
          <a:xfrm>
            <a:off x="3732120" y="1959120"/>
            <a:ext cx="1679760" cy="1620720"/>
          </a:xfrm>
          <a:custGeom>
            <a:avLst/>
            <a:gdLst/>
            <a:ahLst/>
            <a:rect l="l" t="t" r="r" b="b"/>
            <a:pathLst>
              <a:path w="1679276" h="1620328">
                <a:moveTo>
                  <a:pt x="546340" y="1620328"/>
                </a:moveTo>
                <a:cubicBezTo>
                  <a:pt x="387470" y="1544847"/>
                  <a:pt x="228600" y="1469366"/>
                  <a:pt x="140898" y="1421921"/>
                </a:cubicBezTo>
                <a:cubicBezTo>
                  <a:pt x="53196" y="1374476"/>
                  <a:pt x="40256" y="1368725"/>
                  <a:pt x="20128" y="1335657"/>
                </a:cubicBezTo>
                <a:cubicBezTo>
                  <a:pt x="0" y="1302589"/>
                  <a:pt x="12939" y="1289649"/>
                  <a:pt x="20128" y="1223513"/>
                </a:cubicBezTo>
                <a:cubicBezTo>
                  <a:pt x="27317" y="1157377"/>
                  <a:pt x="33069" y="1112807"/>
                  <a:pt x="63261" y="938841"/>
                </a:cubicBezTo>
                <a:cubicBezTo>
                  <a:pt x="93454" y="764875"/>
                  <a:pt x="165340" y="332117"/>
                  <a:pt x="201283" y="179717"/>
                </a:cubicBezTo>
                <a:cubicBezTo>
                  <a:pt x="237226" y="27317"/>
                  <a:pt x="247291" y="48883"/>
                  <a:pt x="278921" y="24441"/>
                </a:cubicBezTo>
                <a:cubicBezTo>
                  <a:pt x="310551" y="0"/>
                  <a:pt x="340743" y="4313"/>
                  <a:pt x="391064" y="33068"/>
                </a:cubicBezTo>
                <a:cubicBezTo>
                  <a:pt x="441385" y="61823"/>
                  <a:pt x="580845" y="196970"/>
                  <a:pt x="580845" y="196970"/>
                </a:cubicBezTo>
                <a:lnTo>
                  <a:pt x="1374476" y="878457"/>
                </a:lnTo>
                <a:cubicBezTo>
                  <a:pt x="1549880" y="1029419"/>
                  <a:pt x="1587261" y="1045234"/>
                  <a:pt x="1633268" y="1102743"/>
                </a:cubicBezTo>
                <a:cubicBezTo>
                  <a:pt x="1679276" y="1160252"/>
                  <a:pt x="1650521" y="1189007"/>
                  <a:pt x="1650521" y="1223513"/>
                </a:cubicBezTo>
                <a:cubicBezTo>
                  <a:pt x="1650521" y="1258019"/>
                  <a:pt x="1641894" y="1283898"/>
                  <a:pt x="1633268" y="1309777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67"/>
          <p:cNvSpPr/>
          <p:nvPr/>
        </p:nvSpPr>
        <p:spPr>
          <a:xfrm>
            <a:off x="571680" y="428760"/>
            <a:ext cx="27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左走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68"/>
          <p:cNvSpPr/>
          <p:nvPr/>
        </p:nvSpPr>
        <p:spPr>
          <a:xfrm>
            <a:off x="6572160" y="5408640"/>
            <a:ext cx="221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右走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69"/>
          <p:cNvSpPr/>
          <p:nvPr/>
        </p:nvSpPr>
        <p:spPr>
          <a:xfrm>
            <a:off x="571680" y="177840"/>
            <a:ext cx="3500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好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70"/>
          <p:cNvSpPr/>
          <p:nvPr/>
        </p:nvSpPr>
        <p:spPr>
          <a:xfrm>
            <a:off x="4643280" y="5200560"/>
            <a:ext cx="542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步该怎么走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fade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0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3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3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50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7" dur="3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5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3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" dur="3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5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3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3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52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5" dur="3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9" dur="3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5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3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3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53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0" dur="3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5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3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3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549" nodeType="after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51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5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5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56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65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68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6700"/>
                            </p:stCondLst>
                            <p:childTnLst>
                              <p:par>
                                <p:cTn id="5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5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8200"/>
                            </p:stCondLst>
                            <p:childTnLst>
                              <p:par>
                                <p:cTn id="62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8700"/>
                            </p:stCondLst>
                            <p:childTnLst>
                              <p:par>
                                <p:cTn id="62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10100"/>
                            </p:stCondLst>
                            <p:childTnLst>
                              <p:par>
                                <p:cTn id="63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直接连接符 3"/>
          <p:cNvSpPr/>
          <p:nvPr/>
        </p:nvSpPr>
        <p:spPr>
          <a:xfrm flipV="1">
            <a:off x="312840" y="2179800"/>
            <a:ext cx="1440" cy="3357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任意多边形 10"/>
          <p:cNvSpPr/>
          <p:nvPr/>
        </p:nvSpPr>
        <p:spPr>
          <a:xfrm>
            <a:off x="312840" y="1085760"/>
            <a:ext cx="1514520" cy="1123920"/>
          </a:xfrm>
          <a:custGeom>
            <a:avLst/>
            <a:gdLst/>
            <a:ahLst/>
            <a:rect l="l" t="t" r="r" b="b"/>
            <a:pathLst>
              <a:path w="1514475" h="1123950">
                <a:moveTo>
                  <a:pt x="0" y="1123950"/>
                </a:moveTo>
                <a:cubicBezTo>
                  <a:pt x="4762" y="1072356"/>
                  <a:pt x="9525" y="1020763"/>
                  <a:pt x="19050" y="971550"/>
                </a:cubicBezTo>
                <a:cubicBezTo>
                  <a:pt x="28575" y="922337"/>
                  <a:pt x="41275" y="877887"/>
                  <a:pt x="57150" y="828675"/>
                </a:cubicBezTo>
                <a:cubicBezTo>
                  <a:pt x="73025" y="779463"/>
                  <a:pt x="77787" y="741363"/>
                  <a:pt x="114300" y="676275"/>
                </a:cubicBezTo>
                <a:cubicBezTo>
                  <a:pt x="150813" y="611187"/>
                  <a:pt x="211138" y="509588"/>
                  <a:pt x="276225" y="438150"/>
                </a:cubicBezTo>
                <a:cubicBezTo>
                  <a:pt x="341313" y="366713"/>
                  <a:pt x="434975" y="296862"/>
                  <a:pt x="504825" y="247650"/>
                </a:cubicBezTo>
                <a:cubicBezTo>
                  <a:pt x="574675" y="198438"/>
                  <a:pt x="627063" y="173037"/>
                  <a:pt x="695325" y="142875"/>
                </a:cubicBezTo>
                <a:cubicBezTo>
                  <a:pt x="763587" y="112713"/>
                  <a:pt x="844550" y="85725"/>
                  <a:pt x="914400" y="66675"/>
                </a:cubicBezTo>
                <a:cubicBezTo>
                  <a:pt x="984250" y="47625"/>
                  <a:pt x="1069975" y="36512"/>
                  <a:pt x="1114425" y="28575"/>
                </a:cubicBezTo>
                <a:cubicBezTo>
                  <a:pt x="1158875" y="20638"/>
                  <a:pt x="1114425" y="23813"/>
                  <a:pt x="1181100" y="19050"/>
                </a:cubicBezTo>
                <a:cubicBezTo>
                  <a:pt x="1247775" y="14288"/>
                  <a:pt x="1381125" y="7144"/>
                  <a:pt x="1514475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直接连接符 12"/>
          <p:cNvSpPr/>
          <p:nvPr/>
        </p:nvSpPr>
        <p:spPr>
          <a:xfrm>
            <a:off x="1793880" y="1090440"/>
            <a:ext cx="216072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直接连接符 14"/>
          <p:cNvSpPr/>
          <p:nvPr/>
        </p:nvSpPr>
        <p:spPr>
          <a:xfrm>
            <a:off x="3930120" y="1090800"/>
            <a:ext cx="412560" cy="178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直接连接符 17"/>
          <p:cNvSpPr/>
          <p:nvPr/>
        </p:nvSpPr>
        <p:spPr>
          <a:xfrm flipH="1">
            <a:off x="4317480" y="1249200"/>
            <a:ext cx="10440" cy="1079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直接连接符 22"/>
          <p:cNvSpPr/>
          <p:nvPr/>
        </p:nvSpPr>
        <p:spPr>
          <a:xfrm flipH="1">
            <a:off x="2108160" y="1267920"/>
            <a:ext cx="2214720" cy="3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任意多边形 24"/>
          <p:cNvSpPr/>
          <p:nvPr/>
        </p:nvSpPr>
        <p:spPr>
          <a:xfrm>
            <a:off x="817560" y="1305000"/>
            <a:ext cx="1305000" cy="1276200"/>
          </a:xfrm>
          <a:custGeom>
            <a:avLst/>
            <a:gdLst/>
            <a:ahLst/>
            <a:rect l="l" t="t" r="r" b="b"/>
            <a:pathLst>
              <a:path w="1304925" h="1276350">
                <a:moveTo>
                  <a:pt x="1304925" y="0"/>
                </a:moveTo>
                <a:cubicBezTo>
                  <a:pt x="1243012" y="4762"/>
                  <a:pt x="1181100" y="9525"/>
                  <a:pt x="1114425" y="19050"/>
                </a:cubicBezTo>
                <a:cubicBezTo>
                  <a:pt x="1047750" y="28575"/>
                  <a:pt x="974725" y="36513"/>
                  <a:pt x="904875" y="57150"/>
                </a:cubicBezTo>
                <a:cubicBezTo>
                  <a:pt x="835025" y="77787"/>
                  <a:pt x="765175" y="104775"/>
                  <a:pt x="695325" y="142875"/>
                </a:cubicBezTo>
                <a:cubicBezTo>
                  <a:pt x="625475" y="180975"/>
                  <a:pt x="549275" y="234950"/>
                  <a:pt x="485775" y="285750"/>
                </a:cubicBezTo>
                <a:cubicBezTo>
                  <a:pt x="422275" y="336550"/>
                  <a:pt x="369887" y="384175"/>
                  <a:pt x="314325" y="447675"/>
                </a:cubicBezTo>
                <a:cubicBezTo>
                  <a:pt x="258763" y="511175"/>
                  <a:pt x="200025" y="581025"/>
                  <a:pt x="152400" y="666750"/>
                </a:cubicBezTo>
                <a:cubicBezTo>
                  <a:pt x="104775" y="752475"/>
                  <a:pt x="53975" y="860425"/>
                  <a:pt x="28575" y="962025"/>
                </a:cubicBezTo>
                <a:cubicBezTo>
                  <a:pt x="3175" y="1063625"/>
                  <a:pt x="1587" y="1169987"/>
                  <a:pt x="0" y="127635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直接连接符 26"/>
          <p:cNvSpPr/>
          <p:nvPr/>
        </p:nvSpPr>
        <p:spPr>
          <a:xfrm flipH="1" flipV="1">
            <a:off x="817920" y="2580840"/>
            <a:ext cx="32400" cy="3205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直接连接符 31"/>
          <p:cNvSpPr/>
          <p:nvPr/>
        </p:nvSpPr>
        <p:spPr>
          <a:xfrm>
            <a:off x="304200" y="5528520"/>
            <a:ext cx="550440" cy="263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直接连接符 33"/>
          <p:cNvSpPr/>
          <p:nvPr/>
        </p:nvSpPr>
        <p:spPr>
          <a:xfrm flipV="1">
            <a:off x="855720" y="5571720"/>
            <a:ext cx="928800" cy="214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直接连接符 35"/>
          <p:cNvSpPr/>
          <p:nvPr/>
        </p:nvSpPr>
        <p:spPr>
          <a:xfrm>
            <a:off x="1599120" y="2267280"/>
            <a:ext cx="3213720" cy="57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160" bIns="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直接连接符 37"/>
          <p:cNvSpPr/>
          <p:nvPr/>
        </p:nvSpPr>
        <p:spPr>
          <a:xfrm>
            <a:off x="1608120" y="2265480"/>
            <a:ext cx="185760" cy="3378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直接连接符 42"/>
          <p:cNvSpPr/>
          <p:nvPr/>
        </p:nvSpPr>
        <p:spPr>
          <a:xfrm flipV="1">
            <a:off x="1793880" y="5000760"/>
            <a:ext cx="3071880" cy="642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直接连接符 44"/>
          <p:cNvSpPr/>
          <p:nvPr/>
        </p:nvSpPr>
        <p:spPr>
          <a:xfrm>
            <a:off x="4793400" y="2309760"/>
            <a:ext cx="71640" cy="270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任意多边形 47"/>
          <p:cNvSpPr/>
          <p:nvPr/>
        </p:nvSpPr>
        <p:spPr>
          <a:xfrm>
            <a:off x="4160880" y="1390680"/>
            <a:ext cx="114120" cy="923760"/>
          </a:xfrm>
          <a:custGeom>
            <a:avLst/>
            <a:gdLst/>
            <a:ahLst/>
            <a:rect l="l" t="t" r="r" b="b"/>
            <a:pathLst>
              <a:path w="114300" h="923925">
                <a:moveTo>
                  <a:pt x="0" y="923925"/>
                </a:moveTo>
                <a:lnTo>
                  <a:pt x="85725" y="914400"/>
                </a:lnTo>
                <a:lnTo>
                  <a:pt x="114300" y="0"/>
                </a:lnTo>
                <a:lnTo>
                  <a:pt x="28575" y="76200"/>
                </a:lnTo>
                <a:lnTo>
                  <a:pt x="0" y="9239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任意多边形 48"/>
          <p:cNvSpPr/>
          <p:nvPr/>
        </p:nvSpPr>
        <p:spPr>
          <a:xfrm>
            <a:off x="874800" y="1355760"/>
            <a:ext cx="3413160" cy="1503360"/>
          </a:xfrm>
          <a:custGeom>
            <a:avLst/>
            <a:gdLst/>
            <a:ahLst/>
            <a:rect l="l" t="t" r="r" b="b"/>
            <a:pathLst>
              <a:path w="3413125" h="1503362">
                <a:moveTo>
                  <a:pt x="3409950" y="111125"/>
                </a:moveTo>
                <a:lnTo>
                  <a:pt x="3162300" y="111125"/>
                </a:lnTo>
                <a:lnTo>
                  <a:pt x="1657350" y="149225"/>
                </a:lnTo>
                <a:cubicBezTo>
                  <a:pt x="1314450" y="161925"/>
                  <a:pt x="1263650" y="157162"/>
                  <a:pt x="1104900" y="187325"/>
                </a:cubicBezTo>
                <a:cubicBezTo>
                  <a:pt x="946150" y="217488"/>
                  <a:pt x="830262" y="250825"/>
                  <a:pt x="704850" y="330200"/>
                </a:cubicBezTo>
                <a:cubicBezTo>
                  <a:pt x="579438" y="409575"/>
                  <a:pt x="441325" y="530225"/>
                  <a:pt x="352425" y="663575"/>
                </a:cubicBezTo>
                <a:cubicBezTo>
                  <a:pt x="263525" y="796925"/>
                  <a:pt x="206375" y="1000125"/>
                  <a:pt x="171450" y="1130300"/>
                </a:cubicBezTo>
                <a:cubicBezTo>
                  <a:pt x="136525" y="1260475"/>
                  <a:pt x="149225" y="1385888"/>
                  <a:pt x="142875" y="1444625"/>
                </a:cubicBezTo>
                <a:cubicBezTo>
                  <a:pt x="136525" y="1503362"/>
                  <a:pt x="153987" y="1476375"/>
                  <a:pt x="133350" y="1482725"/>
                </a:cubicBezTo>
                <a:cubicBezTo>
                  <a:pt x="112713" y="1489075"/>
                  <a:pt x="38100" y="1489075"/>
                  <a:pt x="19050" y="1482725"/>
                </a:cubicBezTo>
                <a:cubicBezTo>
                  <a:pt x="0" y="1476375"/>
                  <a:pt x="17463" y="1487487"/>
                  <a:pt x="19050" y="1444625"/>
                </a:cubicBezTo>
                <a:cubicBezTo>
                  <a:pt x="20637" y="1401763"/>
                  <a:pt x="17463" y="1311275"/>
                  <a:pt x="28575" y="1225550"/>
                </a:cubicBezTo>
                <a:cubicBezTo>
                  <a:pt x="39687" y="1139825"/>
                  <a:pt x="50800" y="1031875"/>
                  <a:pt x="85725" y="930275"/>
                </a:cubicBezTo>
                <a:cubicBezTo>
                  <a:pt x="120650" y="828675"/>
                  <a:pt x="171450" y="714375"/>
                  <a:pt x="238125" y="615950"/>
                </a:cubicBezTo>
                <a:cubicBezTo>
                  <a:pt x="304800" y="517525"/>
                  <a:pt x="398463" y="415925"/>
                  <a:pt x="485775" y="339725"/>
                </a:cubicBezTo>
                <a:cubicBezTo>
                  <a:pt x="573087" y="263525"/>
                  <a:pt x="660400" y="204787"/>
                  <a:pt x="762000" y="158750"/>
                </a:cubicBezTo>
                <a:cubicBezTo>
                  <a:pt x="863600" y="112713"/>
                  <a:pt x="949325" y="84138"/>
                  <a:pt x="1095375" y="63500"/>
                </a:cubicBezTo>
                <a:cubicBezTo>
                  <a:pt x="1241425" y="42863"/>
                  <a:pt x="1308100" y="42863"/>
                  <a:pt x="1638300" y="34925"/>
                </a:cubicBezTo>
                <a:cubicBezTo>
                  <a:pt x="1968500" y="26987"/>
                  <a:pt x="2795588" y="20637"/>
                  <a:pt x="3076575" y="15875"/>
                </a:cubicBezTo>
                <a:cubicBezTo>
                  <a:pt x="3357562" y="11113"/>
                  <a:pt x="3270250" y="0"/>
                  <a:pt x="3324225" y="6350"/>
                </a:cubicBezTo>
                <a:cubicBezTo>
                  <a:pt x="3378200" y="12700"/>
                  <a:pt x="3387725" y="36513"/>
                  <a:pt x="3400425" y="53975"/>
                </a:cubicBezTo>
                <a:cubicBezTo>
                  <a:pt x="3413125" y="71438"/>
                  <a:pt x="3406775" y="91281"/>
                  <a:pt x="3409950" y="1111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任意多边形 49"/>
          <p:cNvSpPr/>
          <p:nvPr/>
        </p:nvSpPr>
        <p:spPr>
          <a:xfrm>
            <a:off x="893880" y="2762280"/>
            <a:ext cx="152280" cy="2895480"/>
          </a:xfrm>
          <a:custGeom>
            <a:avLst/>
            <a:gdLst/>
            <a:ahLst/>
            <a:rect l="l" t="t" r="r" b="b"/>
            <a:pathLst>
              <a:path w="152400" h="2895600">
                <a:moveTo>
                  <a:pt x="0" y="19050"/>
                </a:moveTo>
                <a:lnTo>
                  <a:pt x="38100" y="2886075"/>
                </a:lnTo>
                <a:lnTo>
                  <a:pt x="114300" y="2895600"/>
                </a:lnTo>
                <a:lnTo>
                  <a:pt x="152400" y="2886075"/>
                </a:lnTo>
                <a:lnTo>
                  <a:pt x="133350" y="2438400"/>
                </a:lnTo>
                <a:lnTo>
                  <a:pt x="123825" y="76200"/>
                </a:lnTo>
                <a:lnTo>
                  <a:pt x="133350" y="0"/>
                </a:lnTo>
                <a:lnTo>
                  <a:pt x="0" y="190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任意多边形 50"/>
          <p:cNvSpPr/>
          <p:nvPr/>
        </p:nvSpPr>
        <p:spPr>
          <a:xfrm>
            <a:off x="1017720" y="5362560"/>
            <a:ext cx="771480" cy="295200"/>
          </a:xfrm>
          <a:custGeom>
            <a:avLst/>
            <a:gdLst/>
            <a:ahLst/>
            <a:rect l="l" t="t" r="r" b="b"/>
            <a:pathLst>
              <a:path w="771525" h="295275">
                <a:moveTo>
                  <a:pt x="9525" y="171450"/>
                </a:moveTo>
                <a:lnTo>
                  <a:pt x="762000" y="0"/>
                </a:lnTo>
                <a:lnTo>
                  <a:pt x="771525" y="123825"/>
                </a:lnTo>
                <a:lnTo>
                  <a:pt x="0" y="295275"/>
                </a:lnTo>
                <a:lnTo>
                  <a:pt x="9525" y="1714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直接连接符 52"/>
          <p:cNvSpPr/>
          <p:nvPr/>
        </p:nvSpPr>
        <p:spPr>
          <a:xfrm flipV="1">
            <a:off x="1812960" y="2571840"/>
            <a:ext cx="2857320" cy="25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直接连接符 57"/>
          <p:cNvSpPr/>
          <p:nvPr/>
        </p:nvSpPr>
        <p:spPr>
          <a:xfrm>
            <a:off x="4669560" y="2571840"/>
            <a:ext cx="71640" cy="2286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直接连接符 60"/>
          <p:cNvSpPr/>
          <p:nvPr/>
        </p:nvSpPr>
        <p:spPr>
          <a:xfrm>
            <a:off x="1812240" y="2581200"/>
            <a:ext cx="214200" cy="27147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直接连接符 62"/>
          <p:cNvSpPr/>
          <p:nvPr/>
        </p:nvSpPr>
        <p:spPr>
          <a:xfrm flipV="1">
            <a:off x="2008080" y="4857840"/>
            <a:ext cx="2737080" cy="4284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任意多边形 67"/>
          <p:cNvSpPr/>
          <p:nvPr/>
        </p:nvSpPr>
        <p:spPr>
          <a:xfrm>
            <a:off x="1998720" y="3219480"/>
            <a:ext cx="1305000" cy="324000"/>
          </a:xfrm>
          <a:custGeom>
            <a:avLst/>
            <a:gdLst/>
            <a:ahLst/>
            <a:rect l="l" t="t" r="r" b="b"/>
            <a:pathLst>
              <a:path w="1304925" h="323850">
                <a:moveTo>
                  <a:pt x="0" y="47625"/>
                </a:moveTo>
                <a:lnTo>
                  <a:pt x="1285875" y="0"/>
                </a:lnTo>
                <a:lnTo>
                  <a:pt x="1304925" y="257175"/>
                </a:lnTo>
                <a:lnTo>
                  <a:pt x="38100" y="323850"/>
                </a:lnTo>
                <a:lnTo>
                  <a:pt x="19050" y="304800"/>
                </a:lnTo>
                <a:lnTo>
                  <a:pt x="0" y="476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任意多边形 68"/>
          <p:cNvSpPr/>
          <p:nvPr/>
        </p:nvSpPr>
        <p:spPr>
          <a:xfrm>
            <a:off x="2036880" y="3705120"/>
            <a:ext cx="1276200" cy="362160"/>
          </a:xfrm>
          <a:custGeom>
            <a:avLst/>
            <a:gdLst/>
            <a:ahLst/>
            <a:rect l="l" t="t" r="r" b="b"/>
            <a:pathLst>
              <a:path w="1276350" h="361950">
                <a:moveTo>
                  <a:pt x="0" y="95250"/>
                </a:moveTo>
                <a:lnTo>
                  <a:pt x="1266825" y="0"/>
                </a:lnTo>
                <a:lnTo>
                  <a:pt x="1276350" y="247650"/>
                </a:lnTo>
                <a:lnTo>
                  <a:pt x="28575" y="361950"/>
                </a:lnTo>
                <a:lnTo>
                  <a:pt x="0" y="952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任意多边形 69"/>
          <p:cNvSpPr/>
          <p:nvPr/>
        </p:nvSpPr>
        <p:spPr>
          <a:xfrm>
            <a:off x="2065320" y="4162320"/>
            <a:ext cx="1266840" cy="419040"/>
          </a:xfrm>
          <a:custGeom>
            <a:avLst/>
            <a:gdLst/>
            <a:ahLst/>
            <a:rect l="l" t="t" r="r" b="b"/>
            <a:pathLst>
              <a:path w="1266825" h="419100">
                <a:moveTo>
                  <a:pt x="0" y="133350"/>
                </a:moveTo>
                <a:lnTo>
                  <a:pt x="1266825" y="0"/>
                </a:lnTo>
                <a:lnTo>
                  <a:pt x="1266825" y="238125"/>
                </a:lnTo>
                <a:lnTo>
                  <a:pt x="19050" y="419100"/>
                </a:lnTo>
                <a:lnTo>
                  <a:pt x="0" y="1333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椭圆 73"/>
          <p:cNvSpPr/>
          <p:nvPr/>
        </p:nvSpPr>
        <p:spPr>
          <a:xfrm>
            <a:off x="3508200" y="2971800"/>
            <a:ext cx="1071720" cy="15476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弧形 76"/>
          <p:cNvSpPr/>
          <p:nvPr/>
        </p:nvSpPr>
        <p:spPr>
          <a:xfrm>
            <a:off x="3865680" y="3214800"/>
            <a:ext cx="642960" cy="1000080"/>
          </a:xfrm>
          <a:custGeom>
            <a:avLst/>
            <a:gdLst/>
            <a:ahLst/>
            <a:rect l="l" t="t" r="r" b="b"/>
            <a:pathLst>
              <a:path stroke="0" w="642937" h="1000125">
                <a:moveTo>
                  <a:pt x="498910" y="83078"/>
                </a:moveTo>
                <a:cubicBezTo>
                  <a:pt x="600804" y="187997"/>
                  <a:pt x="655648" y="373707"/>
                  <a:pt x="640437" y="562310"/>
                </a:cubicBezTo>
                <a:lnTo>
                  <a:pt x="321469" y="500063"/>
                </a:lnTo>
                <a:lnTo>
                  <a:pt x="498910" y="83078"/>
                </a:lnTo>
                <a:close/>
              </a:path>
              <a:path fill="none" w="642937" h="1000125">
                <a:moveTo>
                  <a:pt x="498910" y="83078"/>
                </a:moveTo>
                <a:cubicBezTo>
                  <a:pt x="600804" y="187997"/>
                  <a:pt x="655648" y="373707"/>
                  <a:pt x="640437" y="56231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直接连接符 78"/>
          <p:cNvSpPr/>
          <p:nvPr/>
        </p:nvSpPr>
        <p:spPr>
          <a:xfrm flipH="1">
            <a:off x="4017960" y="3305880"/>
            <a:ext cx="355680" cy="489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直接连接符 81"/>
          <p:cNvSpPr/>
          <p:nvPr/>
        </p:nvSpPr>
        <p:spPr>
          <a:xfrm flipV="1">
            <a:off x="4017960" y="3766680"/>
            <a:ext cx="498600" cy="9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85"/>
          <p:cNvSpPr/>
          <p:nvPr/>
        </p:nvSpPr>
        <p:spPr>
          <a:xfrm>
            <a:off x="5643720" y="1514520"/>
            <a:ext cx="3500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真舍得舍弃其中的一环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86"/>
          <p:cNvSpPr/>
          <p:nvPr/>
        </p:nvSpPr>
        <p:spPr>
          <a:xfrm>
            <a:off x="5715000" y="235728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漂亮的模板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87"/>
          <p:cNvSpPr/>
          <p:nvPr/>
        </p:nvSpPr>
        <p:spPr>
          <a:xfrm>
            <a:off x="5857920" y="298764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精致的图片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88"/>
          <p:cNvSpPr/>
          <p:nvPr/>
        </p:nvSpPr>
        <p:spPr>
          <a:xfrm>
            <a:off x="6000840" y="363060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眼花缭乱的动画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89"/>
          <p:cNvSpPr/>
          <p:nvPr/>
        </p:nvSpPr>
        <p:spPr>
          <a:xfrm>
            <a:off x="6143760" y="424188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气的配乐与视频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36"/>
          <p:cNvSpPr/>
          <p:nvPr/>
        </p:nvSpPr>
        <p:spPr>
          <a:xfrm>
            <a:off x="4786200" y="97308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38"/>
          <p:cNvSpPr/>
          <p:nvPr/>
        </p:nvSpPr>
        <p:spPr>
          <a:xfrm>
            <a:off x="6357960" y="477360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还是久经雕琢的配文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fade/>
  </p:transition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0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0" dur="3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6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4" dur="3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6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8" dur="3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6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2" dur="3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6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3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0" dur="3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66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4" dur="3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6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3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6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2" dur="3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3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67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9" dur="3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3" dur="3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6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3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6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3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6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" dur="3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6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9" dur="3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3" dur="3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7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3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7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3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7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3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7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3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2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2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3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3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7300"/>
                            </p:stCondLst>
                            <p:childTnLst>
                              <p:par>
                                <p:cTn id="7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4" dur="3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7600"/>
                            </p:stCondLst>
                            <p:childTnLst>
                              <p:par>
                                <p:cTn id="7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3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1" dur="3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4" dur="3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7" dur="3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7900"/>
                            </p:stCondLst>
                            <p:childTnLst>
                              <p:par>
                                <p:cTn id="74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8400"/>
                            </p:stCondLst>
                            <p:childTnLst>
                              <p:par>
                                <p:cTn id="75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9400"/>
                            </p:stCondLst>
                            <p:childTnLst>
                              <p:par>
                                <p:cTn id="75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10400"/>
                            </p:stCondLst>
                            <p:childTnLst>
                              <p:par>
                                <p:cTn id="76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11400"/>
                            </p:stCondLst>
                            <p:childTnLst>
                              <p:par>
                                <p:cTn id="76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12400"/>
                            </p:stCondLst>
                            <p:childTnLst>
                              <p:par>
                                <p:cTn id="76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nodeType="afterEffect" fill="hold">
                            <p:stCondLst>
                              <p:cond delay="13400"/>
                            </p:stCondLst>
                            <p:childTnLst>
                              <p:par>
                                <p:cTn id="77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矩形 2"/>
          <p:cNvSpPr/>
          <p:nvPr/>
        </p:nvSpPr>
        <p:spPr>
          <a:xfrm rot="20760000">
            <a:off x="4373640" y="2952360"/>
            <a:ext cx="4154400" cy="323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圆角矩形 7"/>
          <p:cNvSpPr/>
          <p:nvPr/>
        </p:nvSpPr>
        <p:spPr>
          <a:xfrm rot="20760000">
            <a:off x="4997160" y="3808440"/>
            <a:ext cx="2643120" cy="357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8"/>
          <p:cNvSpPr/>
          <p:nvPr/>
        </p:nvSpPr>
        <p:spPr>
          <a:xfrm rot="20760000">
            <a:off x="5065200" y="379368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0000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00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00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00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任意多边形 11"/>
          <p:cNvSpPr/>
          <p:nvPr/>
        </p:nvSpPr>
        <p:spPr>
          <a:xfrm rot="20760000">
            <a:off x="4875120" y="5567400"/>
            <a:ext cx="3826080" cy="360"/>
          </a:xfrm>
          <a:custGeom>
            <a:avLst/>
            <a:gdLst/>
            <a:ahLst/>
            <a:rect l="l" t="t" r="r" b="b"/>
            <a:pathLst>
              <a:path w="3825849" h="0">
                <a:moveTo>
                  <a:pt x="0" y="0"/>
                </a:moveTo>
                <a:lnTo>
                  <a:pt x="3825849" y="0"/>
                </a:lnTo>
              </a:path>
            </a:pathLst>
          </a:custGeom>
          <a:noFill/>
          <a:ln cap="rnd" w="38160">
            <a:solidFill>
              <a:srgbClr val="0079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组合 66"/>
          <p:cNvGrpSpPr/>
          <p:nvPr/>
        </p:nvGrpSpPr>
        <p:grpSpPr>
          <a:xfrm>
            <a:off x="4508280" y="4298760"/>
            <a:ext cx="3855960" cy="976320"/>
            <a:chOff x="4508280" y="4298760"/>
            <a:chExt cx="3855960" cy="976320"/>
          </a:xfrm>
        </p:grpSpPr>
        <p:sp>
          <p:nvSpPr>
            <p:cNvPr id="387" name="TextBox 9"/>
            <p:cNvSpPr/>
            <p:nvPr/>
          </p:nvSpPr>
          <p:spPr>
            <a:xfrm rot="20760000">
              <a:off x="4522320" y="4726440"/>
              <a:ext cx="178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79c5"/>
                  </a:solidFill>
                  <a:latin typeface="微软雅黑"/>
                  <a:ea typeface="微软雅黑"/>
                </a:rPr>
                <a:t>拍摄场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任意多边形 13"/>
            <p:cNvSpPr/>
            <p:nvPr/>
          </p:nvSpPr>
          <p:spPr>
            <a:xfrm rot="20760000">
              <a:off x="5500080" y="4649760"/>
              <a:ext cx="2905200" cy="14040"/>
            </a:xfrm>
            <a:custGeom>
              <a:avLst/>
              <a:gdLst/>
              <a:ahLst/>
              <a:rect l="l" t="t" r="r" b="b"/>
              <a:pathLst>
                <a:path w="3825849" h="14285">
                  <a:moveTo>
                    <a:pt x="0" y="0"/>
                  </a:moveTo>
                  <a:lnTo>
                    <a:pt x="3825849" y="0"/>
                  </a:lnTo>
                </a:path>
              </a:pathLst>
            </a:custGeom>
            <a:noFill/>
            <a:ln cap="rnd" w="28440">
              <a:solidFill>
                <a:srgbClr val="0079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组合 67"/>
          <p:cNvGrpSpPr/>
          <p:nvPr/>
        </p:nvGrpSpPr>
        <p:grpSpPr>
          <a:xfrm>
            <a:off x="4606920" y="4635720"/>
            <a:ext cx="3858120" cy="1010160"/>
            <a:chOff x="4606920" y="4635720"/>
            <a:chExt cx="3858120" cy="1010160"/>
          </a:xfrm>
        </p:grpSpPr>
        <p:sp>
          <p:nvSpPr>
            <p:cNvPr id="390" name="任意多边形 12"/>
            <p:cNvSpPr/>
            <p:nvPr/>
          </p:nvSpPr>
          <p:spPr>
            <a:xfrm rot="20760000">
              <a:off x="5597280" y="4986000"/>
              <a:ext cx="2904840" cy="48960"/>
            </a:xfrm>
            <a:custGeom>
              <a:avLst/>
              <a:gdLst/>
              <a:ahLst/>
              <a:rect l="l" t="t" r="r" b="b"/>
              <a:pathLst>
                <a:path w="3825849" h="49072">
                  <a:moveTo>
                    <a:pt x="0" y="0"/>
                  </a:moveTo>
                  <a:lnTo>
                    <a:pt x="3825849" y="0"/>
                  </a:lnTo>
                </a:path>
              </a:pathLst>
            </a:custGeom>
            <a:noFill/>
            <a:ln cap="rnd" w="28440">
              <a:solidFill>
                <a:srgbClr val="0079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Box 14"/>
            <p:cNvSpPr/>
            <p:nvPr/>
          </p:nvSpPr>
          <p:spPr>
            <a:xfrm rot="20760000">
              <a:off x="4620960" y="5097600"/>
              <a:ext cx="1785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79c5"/>
                  </a:solidFill>
                  <a:latin typeface="微软雅黑"/>
                  <a:ea typeface="微软雅黑"/>
                </a:rPr>
                <a:t>执行导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组合 68"/>
          <p:cNvGrpSpPr/>
          <p:nvPr/>
        </p:nvGrpSpPr>
        <p:grpSpPr>
          <a:xfrm>
            <a:off x="4707000" y="4986360"/>
            <a:ext cx="3856680" cy="1017720"/>
            <a:chOff x="4707000" y="4986360"/>
            <a:chExt cx="3856680" cy="1017720"/>
          </a:xfrm>
        </p:grpSpPr>
        <p:sp>
          <p:nvSpPr>
            <p:cNvPr id="393" name="TextBox 10"/>
            <p:cNvSpPr/>
            <p:nvPr/>
          </p:nvSpPr>
          <p:spPr>
            <a:xfrm rot="20760000">
              <a:off x="4721040" y="5455800"/>
              <a:ext cx="1785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79c5"/>
                  </a:solidFill>
                  <a:latin typeface="微软雅黑"/>
                  <a:ea typeface="微软雅黑"/>
                </a:rPr>
                <a:t>后期制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任意多边形 15"/>
            <p:cNvSpPr/>
            <p:nvPr/>
          </p:nvSpPr>
          <p:spPr>
            <a:xfrm rot="20760000">
              <a:off x="5695560" y="5336640"/>
              <a:ext cx="2905200" cy="48960"/>
            </a:xfrm>
            <a:custGeom>
              <a:avLst/>
              <a:gdLst/>
              <a:ahLst/>
              <a:rect l="l" t="t" r="r" b="b"/>
              <a:pathLst>
                <a:path w="3825849" h="49227">
                  <a:moveTo>
                    <a:pt x="0" y="0"/>
                  </a:moveTo>
                  <a:lnTo>
                    <a:pt x="3825849" y="0"/>
                  </a:lnTo>
                </a:path>
              </a:pathLst>
            </a:custGeom>
            <a:noFill/>
            <a:ln cap="rnd" w="28440">
              <a:solidFill>
                <a:srgbClr val="0079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TextBox 16"/>
          <p:cNvSpPr/>
          <p:nvPr/>
        </p:nvSpPr>
        <p:spPr>
          <a:xfrm rot="20760000">
            <a:off x="4937040" y="5810040"/>
            <a:ext cx="200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9c5"/>
                </a:solidFill>
                <a:latin typeface="微软雅黑"/>
                <a:ea typeface="微软雅黑"/>
              </a:rPr>
              <a:t>发布日期</a:t>
            </a:r>
            <a:r>
              <a:rPr b="0" lang="en-US" sz="1400" spc="-1" strike="noStrike">
                <a:solidFill>
                  <a:srgbClr val="0079c5"/>
                </a:solidFill>
                <a:latin typeface="微软雅黑"/>
                <a:ea typeface="微软雅黑"/>
              </a:rPr>
              <a:t>:2008.11.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17"/>
          <p:cNvSpPr/>
          <p:nvPr/>
        </p:nvSpPr>
        <p:spPr>
          <a:xfrm rot="20760000">
            <a:off x="6838560" y="5367240"/>
            <a:ext cx="178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9c5"/>
                </a:solidFill>
                <a:latin typeface="微软雅黑"/>
                <a:ea typeface="微软雅黑"/>
              </a:rPr>
              <a:t>片长</a:t>
            </a:r>
            <a:r>
              <a:rPr b="0" lang="en-US" sz="1400" spc="-1" strike="noStrike">
                <a:solidFill>
                  <a:srgbClr val="0079c5"/>
                </a:solidFill>
                <a:latin typeface="微软雅黑"/>
                <a:ea typeface="微软雅黑"/>
              </a:rPr>
              <a:t>:4”53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组合 65"/>
          <p:cNvGrpSpPr/>
          <p:nvPr/>
        </p:nvGrpSpPr>
        <p:grpSpPr>
          <a:xfrm>
            <a:off x="4040640" y="2493000"/>
            <a:ext cx="4169160" cy="1559520"/>
            <a:chOff x="4040640" y="2493000"/>
            <a:chExt cx="4169160" cy="1559520"/>
          </a:xfrm>
        </p:grpSpPr>
        <p:sp>
          <p:nvSpPr>
            <p:cNvPr id="398" name="平行四边形 18"/>
            <p:cNvSpPr/>
            <p:nvPr/>
          </p:nvSpPr>
          <p:spPr>
            <a:xfrm rot="20760000">
              <a:off x="7507080" y="2562120"/>
              <a:ext cx="642960" cy="571680"/>
            </a:xfrm>
            <a:prstGeom prst="parallelogram">
              <a:avLst>
                <a:gd name="adj" fmla="val 48018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平行四边形 19"/>
            <p:cNvSpPr/>
            <p:nvPr/>
          </p:nvSpPr>
          <p:spPr>
            <a:xfrm rot="20760000">
              <a:off x="6822720" y="2738160"/>
              <a:ext cx="642960" cy="571680"/>
            </a:xfrm>
            <a:prstGeom prst="parallelogram">
              <a:avLst>
                <a:gd name="adj" fmla="val 48018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平行四边形 20"/>
            <p:cNvSpPr/>
            <p:nvPr/>
          </p:nvSpPr>
          <p:spPr>
            <a:xfrm rot="20760000">
              <a:off x="6133680" y="2909880"/>
              <a:ext cx="642960" cy="571680"/>
            </a:xfrm>
            <a:prstGeom prst="parallelogram">
              <a:avLst>
                <a:gd name="adj" fmla="val 48018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平行四边形 21"/>
            <p:cNvSpPr/>
            <p:nvPr/>
          </p:nvSpPr>
          <p:spPr>
            <a:xfrm rot="20760000">
              <a:off x="5457240" y="3076560"/>
              <a:ext cx="642960" cy="571680"/>
            </a:xfrm>
            <a:prstGeom prst="parallelogram">
              <a:avLst>
                <a:gd name="adj" fmla="val 48018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平行四边形 22"/>
            <p:cNvSpPr/>
            <p:nvPr/>
          </p:nvSpPr>
          <p:spPr>
            <a:xfrm rot="20760000">
              <a:off x="4100040" y="3411360"/>
              <a:ext cx="642960" cy="571680"/>
            </a:xfrm>
            <a:prstGeom prst="parallelogram">
              <a:avLst>
                <a:gd name="adj" fmla="val 48018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平行四边形 23"/>
            <p:cNvSpPr/>
            <p:nvPr/>
          </p:nvSpPr>
          <p:spPr>
            <a:xfrm rot="20760000">
              <a:off x="4774680" y="3249720"/>
              <a:ext cx="642960" cy="571680"/>
            </a:xfrm>
            <a:prstGeom prst="parallelogram">
              <a:avLst>
                <a:gd name="adj" fmla="val 48018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组合 58"/>
          <p:cNvGrpSpPr/>
          <p:nvPr/>
        </p:nvGrpSpPr>
        <p:grpSpPr>
          <a:xfrm>
            <a:off x="160560" y="1148400"/>
            <a:ext cx="7455240" cy="3983760"/>
            <a:chOff x="160560" y="1148400"/>
            <a:chExt cx="7455240" cy="3983760"/>
          </a:xfrm>
        </p:grpSpPr>
        <p:grpSp>
          <p:nvGrpSpPr>
            <p:cNvPr id="405" name="组合 48"/>
            <p:cNvGrpSpPr/>
            <p:nvPr/>
          </p:nvGrpSpPr>
          <p:grpSpPr>
            <a:xfrm>
              <a:off x="3800160" y="1148400"/>
              <a:ext cx="3815640" cy="2272680"/>
              <a:chOff x="3800160" y="1148400"/>
              <a:chExt cx="3815640" cy="2272680"/>
            </a:xfrm>
          </p:grpSpPr>
          <p:sp>
            <p:nvSpPr>
              <p:cNvPr id="406" name="矩形 31"/>
              <p:cNvSpPr/>
              <p:nvPr/>
            </p:nvSpPr>
            <p:spPr>
              <a:xfrm rot="19860000">
                <a:off x="3600720" y="2153880"/>
                <a:ext cx="4216320" cy="260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平行四边形 38"/>
              <p:cNvSpPr/>
              <p:nvPr/>
            </p:nvSpPr>
            <p:spPr>
              <a:xfrm flipH="1" rot="9060000">
                <a:off x="3822120" y="3018600"/>
                <a:ext cx="652680" cy="260280"/>
              </a:xfrm>
              <a:prstGeom prst="parallelogram">
                <a:avLst>
                  <a:gd name="adj" fmla="val 107130"/>
                </a:avLst>
              </a:prstGeom>
              <a:solidFill>
                <a:srgbClr val="0079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平行四边形 41"/>
              <p:cNvSpPr/>
              <p:nvPr/>
            </p:nvSpPr>
            <p:spPr>
              <a:xfrm flipH="1" rot="9060000">
                <a:off x="6936120" y="1293840"/>
                <a:ext cx="650880" cy="260280"/>
              </a:xfrm>
              <a:prstGeom prst="parallelogram">
                <a:avLst>
                  <a:gd name="adj" fmla="val 107101"/>
                </a:avLst>
              </a:prstGeom>
              <a:solidFill>
                <a:srgbClr val="0079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平行四边形 42"/>
              <p:cNvSpPr/>
              <p:nvPr/>
            </p:nvSpPr>
            <p:spPr>
              <a:xfrm flipH="1" rot="9060000">
                <a:off x="5682240" y="1986480"/>
                <a:ext cx="652680" cy="261000"/>
              </a:xfrm>
              <a:prstGeom prst="parallelogram">
                <a:avLst>
                  <a:gd name="adj" fmla="val 107136"/>
                </a:avLst>
              </a:prstGeom>
              <a:solidFill>
                <a:srgbClr val="0079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平行四边形 43"/>
              <p:cNvSpPr/>
              <p:nvPr/>
            </p:nvSpPr>
            <p:spPr>
              <a:xfrm flipH="1" rot="9060000">
                <a:off x="5066640" y="2329200"/>
                <a:ext cx="650880" cy="260280"/>
              </a:xfrm>
              <a:prstGeom prst="parallelogram">
                <a:avLst>
                  <a:gd name="adj" fmla="val 107101"/>
                </a:avLst>
              </a:prstGeom>
              <a:solidFill>
                <a:srgbClr val="0079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平行四边形 44"/>
              <p:cNvSpPr/>
              <p:nvPr/>
            </p:nvSpPr>
            <p:spPr>
              <a:xfrm flipH="1" rot="9060000">
                <a:off x="6309360" y="1639440"/>
                <a:ext cx="652680" cy="260280"/>
              </a:xfrm>
              <a:prstGeom prst="parallelogram">
                <a:avLst>
                  <a:gd name="adj" fmla="val 107130"/>
                </a:avLst>
              </a:prstGeom>
              <a:solidFill>
                <a:srgbClr val="0079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平行四边形 45"/>
              <p:cNvSpPr/>
              <p:nvPr/>
            </p:nvSpPr>
            <p:spPr>
              <a:xfrm flipH="1" rot="9060000">
                <a:off x="4438080" y="2677320"/>
                <a:ext cx="652680" cy="260280"/>
              </a:xfrm>
              <a:prstGeom prst="parallelogram">
                <a:avLst>
                  <a:gd name="adj" fmla="val 107130"/>
                </a:avLst>
              </a:prstGeom>
              <a:solidFill>
                <a:srgbClr val="0079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13" name="组合 50" descr=""/>
            <p:cNvPicPr/>
            <p:nvPr/>
          </p:nvPicPr>
          <p:blipFill>
            <a:blip r:embed="rId1"/>
            <a:stretch/>
          </p:blipFill>
          <p:spPr>
            <a:xfrm>
              <a:off x="160560" y="3983040"/>
              <a:ext cx="3977280" cy="11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4" name="TextBox 60"/>
          <p:cNvSpPr/>
          <p:nvPr/>
        </p:nvSpPr>
        <p:spPr>
          <a:xfrm rot="20760000">
            <a:off x="5771880" y="4338720"/>
            <a:ext cx="224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《</a:t>
            </a:r>
            <a:r>
              <a:rPr b="0" lang="zh-CN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幻灯传奇</a:t>
            </a:r>
            <a:r>
              <a:rPr b="0" lang="en-US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》</a:t>
            </a:r>
            <a:r>
              <a:rPr b="0" lang="zh-CN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第一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61"/>
          <p:cNvSpPr/>
          <p:nvPr/>
        </p:nvSpPr>
        <p:spPr>
          <a:xfrm rot="20760000">
            <a:off x="6151320" y="4611600"/>
            <a:ext cx="224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IdeaPPT</a:t>
            </a:r>
            <a:r>
              <a:rPr b="0" lang="zh-CN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工作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62"/>
          <p:cNvSpPr/>
          <p:nvPr/>
        </p:nvSpPr>
        <p:spPr>
          <a:xfrm rot="20760000">
            <a:off x="6276960" y="502128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IdeaPPT</a:t>
            </a:r>
            <a:r>
              <a:rPr b="0" lang="zh-CN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工作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69"/>
          <p:cNvSpPr/>
          <p:nvPr/>
        </p:nvSpPr>
        <p:spPr>
          <a:xfrm rot="20760000">
            <a:off x="5060520" y="3750840"/>
            <a:ext cx="290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2008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11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11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        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46"/>
          <p:cNvSpPr/>
          <p:nvPr/>
        </p:nvSpPr>
        <p:spPr>
          <a:xfrm>
            <a:off x="500040" y="500040"/>
            <a:ext cx="442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好的</a:t>
            </a:r>
            <a:r>
              <a:rPr b="0" lang="en-US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就如同一部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47"/>
          <p:cNvSpPr/>
          <p:nvPr/>
        </p:nvSpPr>
        <p:spPr>
          <a:xfrm>
            <a:off x="500040" y="1514520"/>
            <a:ext cx="514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需要内容、动作、媒体、色彩环环相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fade/>
  </p:transition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nodeType="clickEffect" fill="hold">
                      <p:stCondLst>
                        <p:cond delay="0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8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34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nodeType="afterEffect" fill="hold">
                            <p:stCondLst>
                              <p:cond delay="9600"/>
                            </p:stCondLst>
                            <p:childTnLst>
                              <p:par>
                                <p:cTn id="838" nodeType="after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900000">
                                      <p:cBhvr>
                                        <p:cTn id="839" dur="2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nodeType="afterEffect" fill="hold">
                            <p:stCondLst>
                              <p:cond delay="10300"/>
                            </p:stCondLst>
                            <p:childTnLst>
                              <p:par>
                                <p:cTn id="84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组合 104"/>
          <p:cNvGrpSpPr/>
          <p:nvPr/>
        </p:nvGrpSpPr>
        <p:grpSpPr>
          <a:xfrm>
            <a:off x="500040" y="-1300320"/>
            <a:ext cx="3286080" cy="9528480"/>
            <a:chOff x="500040" y="-1300320"/>
            <a:chExt cx="3286080" cy="9528480"/>
          </a:xfrm>
        </p:grpSpPr>
        <p:sp>
          <p:nvSpPr>
            <p:cNvPr id="421" name="矩形 2"/>
            <p:cNvSpPr/>
            <p:nvPr/>
          </p:nvSpPr>
          <p:spPr>
            <a:xfrm>
              <a:off x="500040" y="-142920"/>
              <a:ext cx="3286080" cy="71442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2" name="组合 37"/>
            <p:cNvGrpSpPr/>
            <p:nvPr/>
          </p:nvGrpSpPr>
          <p:grpSpPr>
            <a:xfrm>
              <a:off x="635400" y="-348120"/>
              <a:ext cx="198000" cy="7540920"/>
              <a:chOff x="635400" y="-348120"/>
              <a:chExt cx="198000" cy="7540920"/>
            </a:xfrm>
          </p:grpSpPr>
          <p:grpSp>
            <p:nvGrpSpPr>
              <p:cNvPr id="423" name="组合 18"/>
              <p:cNvGrpSpPr/>
              <p:nvPr/>
            </p:nvGrpSpPr>
            <p:grpSpPr>
              <a:xfrm>
                <a:off x="635400" y="-348120"/>
                <a:ext cx="198000" cy="2396160"/>
                <a:chOff x="635400" y="-348120"/>
                <a:chExt cx="198000" cy="2396160"/>
              </a:xfrm>
            </p:grpSpPr>
            <p:sp>
              <p:nvSpPr>
                <p:cNvPr id="424" name="圆角矩形 4"/>
                <p:cNvSpPr/>
                <p:nvPr/>
              </p:nvSpPr>
              <p:spPr>
                <a:xfrm>
                  <a:off x="635400" y="938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圆角矩形 5"/>
                <p:cNvSpPr/>
                <p:nvPr/>
              </p:nvSpPr>
              <p:spPr>
                <a:xfrm>
                  <a:off x="635400" y="126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圆角矩形 8"/>
                <p:cNvSpPr/>
                <p:nvPr/>
              </p:nvSpPr>
              <p:spPr>
                <a:xfrm>
                  <a:off x="635400" y="1581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圆角矩形 9"/>
                <p:cNvSpPr/>
                <p:nvPr/>
              </p:nvSpPr>
              <p:spPr>
                <a:xfrm>
                  <a:off x="635400" y="1903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圆角矩形 16"/>
                <p:cNvSpPr/>
                <p:nvPr/>
              </p:nvSpPr>
              <p:spPr>
                <a:xfrm>
                  <a:off x="635400" y="-34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圆角矩形 17"/>
                <p:cNvSpPr/>
                <p:nvPr/>
              </p:nvSpPr>
              <p:spPr>
                <a:xfrm>
                  <a:off x="635400" y="-2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圆角矩形 14"/>
                <p:cNvSpPr/>
                <p:nvPr/>
              </p:nvSpPr>
              <p:spPr>
                <a:xfrm>
                  <a:off x="635400" y="294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圆角矩形 15"/>
                <p:cNvSpPr/>
                <p:nvPr/>
              </p:nvSpPr>
              <p:spPr>
                <a:xfrm>
                  <a:off x="635400" y="617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2" name="组合 19"/>
              <p:cNvGrpSpPr/>
              <p:nvPr/>
            </p:nvGrpSpPr>
            <p:grpSpPr>
              <a:xfrm>
                <a:off x="635400" y="2224080"/>
                <a:ext cx="198000" cy="2396160"/>
                <a:chOff x="635400" y="2224080"/>
                <a:chExt cx="198000" cy="2396160"/>
              </a:xfrm>
            </p:grpSpPr>
            <p:sp>
              <p:nvSpPr>
                <p:cNvPr id="433" name="圆角矩形 20"/>
                <p:cNvSpPr/>
                <p:nvPr/>
              </p:nvSpPr>
              <p:spPr>
                <a:xfrm>
                  <a:off x="635400" y="351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圆角矩形 21"/>
                <p:cNvSpPr/>
                <p:nvPr/>
              </p:nvSpPr>
              <p:spPr>
                <a:xfrm>
                  <a:off x="635400" y="383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圆角矩形 22"/>
                <p:cNvSpPr/>
                <p:nvPr/>
              </p:nvSpPr>
              <p:spPr>
                <a:xfrm>
                  <a:off x="635400" y="4153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圆角矩形 23"/>
                <p:cNvSpPr/>
                <p:nvPr/>
              </p:nvSpPr>
              <p:spPr>
                <a:xfrm>
                  <a:off x="635400" y="4475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圆角矩形 24"/>
                <p:cNvSpPr/>
                <p:nvPr/>
              </p:nvSpPr>
              <p:spPr>
                <a:xfrm>
                  <a:off x="635400" y="22240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圆角矩形 25"/>
                <p:cNvSpPr/>
                <p:nvPr/>
              </p:nvSpPr>
              <p:spPr>
                <a:xfrm>
                  <a:off x="635400" y="25462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圆角矩形 26"/>
                <p:cNvSpPr/>
                <p:nvPr/>
              </p:nvSpPr>
              <p:spPr>
                <a:xfrm>
                  <a:off x="635400" y="2867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圆角矩形 27"/>
                <p:cNvSpPr/>
                <p:nvPr/>
              </p:nvSpPr>
              <p:spPr>
                <a:xfrm>
                  <a:off x="635400" y="3189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1" name="组合 28"/>
              <p:cNvGrpSpPr/>
              <p:nvPr/>
            </p:nvGrpSpPr>
            <p:grpSpPr>
              <a:xfrm>
                <a:off x="635400" y="4796640"/>
                <a:ext cx="198000" cy="2396160"/>
                <a:chOff x="635400" y="4796640"/>
                <a:chExt cx="198000" cy="2396160"/>
              </a:xfrm>
            </p:grpSpPr>
            <p:sp>
              <p:nvSpPr>
                <p:cNvPr id="442" name="圆角矩形 29"/>
                <p:cNvSpPr/>
                <p:nvPr/>
              </p:nvSpPr>
              <p:spPr>
                <a:xfrm>
                  <a:off x="635400" y="6082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圆角矩形 30"/>
                <p:cNvSpPr/>
                <p:nvPr/>
              </p:nvSpPr>
              <p:spPr>
                <a:xfrm>
                  <a:off x="635400" y="6405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圆角矩形 31"/>
                <p:cNvSpPr/>
                <p:nvPr/>
              </p:nvSpPr>
              <p:spPr>
                <a:xfrm>
                  <a:off x="635400" y="6726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圆角矩形 32"/>
                <p:cNvSpPr/>
                <p:nvPr/>
              </p:nvSpPr>
              <p:spPr>
                <a:xfrm>
                  <a:off x="635400" y="7048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圆角矩形 33"/>
                <p:cNvSpPr/>
                <p:nvPr/>
              </p:nvSpPr>
              <p:spPr>
                <a:xfrm>
                  <a:off x="635400" y="47966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圆角矩形 34"/>
                <p:cNvSpPr/>
                <p:nvPr/>
              </p:nvSpPr>
              <p:spPr>
                <a:xfrm>
                  <a:off x="635400" y="5118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圆角矩形 35"/>
                <p:cNvSpPr/>
                <p:nvPr/>
              </p:nvSpPr>
              <p:spPr>
                <a:xfrm>
                  <a:off x="635400" y="5439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圆角矩形 36"/>
                <p:cNvSpPr/>
                <p:nvPr/>
              </p:nvSpPr>
              <p:spPr>
                <a:xfrm>
                  <a:off x="635400" y="5762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0" name="组合 66"/>
            <p:cNvGrpSpPr/>
            <p:nvPr/>
          </p:nvGrpSpPr>
          <p:grpSpPr>
            <a:xfrm>
              <a:off x="3445560" y="-349560"/>
              <a:ext cx="198000" cy="7540920"/>
              <a:chOff x="3445560" y="-349560"/>
              <a:chExt cx="198000" cy="7540920"/>
            </a:xfrm>
          </p:grpSpPr>
          <p:grpSp>
            <p:nvGrpSpPr>
              <p:cNvPr id="451" name="组合 18"/>
              <p:cNvGrpSpPr/>
              <p:nvPr/>
            </p:nvGrpSpPr>
            <p:grpSpPr>
              <a:xfrm>
                <a:off x="3445560" y="-349560"/>
                <a:ext cx="198000" cy="2396160"/>
                <a:chOff x="3445560" y="-349560"/>
                <a:chExt cx="198000" cy="2396160"/>
              </a:xfrm>
            </p:grpSpPr>
            <p:sp>
              <p:nvSpPr>
                <p:cNvPr id="452" name="圆角矩形 4"/>
                <p:cNvSpPr/>
                <p:nvPr/>
              </p:nvSpPr>
              <p:spPr>
                <a:xfrm>
                  <a:off x="3445560" y="9367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圆角矩形 87"/>
                <p:cNvSpPr/>
                <p:nvPr/>
              </p:nvSpPr>
              <p:spPr>
                <a:xfrm>
                  <a:off x="3445560" y="1258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圆角矩形 88"/>
                <p:cNvSpPr/>
                <p:nvPr/>
              </p:nvSpPr>
              <p:spPr>
                <a:xfrm>
                  <a:off x="3445560" y="1580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圆角矩形 89"/>
                <p:cNvSpPr/>
                <p:nvPr/>
              </p:nvSpPr>
              <p:spPr>
                <a:xfrm>
                  <a:off x="3445560" y="1902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圆角矩形 90"/>
                <p:cNvSpPr/>
                <p:nvPr/>
              </p:nvSpPr>
              <p:spPr>
                <a:xfrm>
                  <a:off x="3445560" y="-349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圆角矩形 91"/>
                <p:cNvSpPr/>
                <p:nvPr/>
              </p:nvSpPr>
              <p:spPr>
                <a:xfrm>
                  <a:off x="3445560" y="-270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圆角矩形 92"/>
                <p:cNvSpPr/>
                <p:nvPr/>
              </p:nvSpPr>
              <p:spPr>
                <a:xfrm>
                  <a:off x="3445560" y="293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圆角矩形 93"/>
                <p:cNvSpPr/>
                <p:nvPr/>
              </p:nvSpPr>
              <p:spPr>
                <a:xfrm>
                  <a:off x="3445560" y="6159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0" name="组合 19"/>
              <p:cNvGrpSpPr/>
              <p:nvPr/>
            </p:nvGrpSpPr>
            <p:grpSpPr>
              <a:xfrm>
                <a:off x="3445560" y="2222640"/>
                <a:ext cx="198000" cy="2396160"/>
                <a:chOff x="3445560" y="2222640"/>
                <a:chExt cx="198000" cy="2396160"/>
              </a:xfrm>
            </p:grpSpPr>
            <p:sp>
              <p:nvSpPr>
                <p:cNvPr id="461" name="圆角矩形 78"/>
                <p:cNvSpPr/>
                <p:nvPr/>
              </p:nvSpPr>
              <p:spPr>
                <a:xfrm>
                  <a:off x="3445560" y="3507120"/>
                  <a:ext cx="198000" cy="1422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圆角矩形 79"/>
                <p:cNvSpPr/>
                <p:nvPr/>
              </p:nvSpPr>
              <p:spPr>
                <a:xfrm>
                  <a:off x="3445560" y="383328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圆角矩形 80"/>
                <p:cNvSpPr/>
                <p:nvPr/>
              </p:nvSpPr>
              <p:spPr>
                <a:xfrm>
                  <a:off x="3445560" y="41533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圆角矩形 81"/>
                <p:cNvSpPr/>
                <p:nvPr/>
              </p:nvSpPr>
              <p:spPr>
                <a:xfrm>
                  <a:off x="3445560" y="447480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圆角矩形 82"/>
                <p:cNvSpPr/>
                <p:nvPr/>
              </p:nvSpPr>
              <p:spPr>
                <a:xfrm>
                  <a:off x="3445560" y="222264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圆角矩形 83"/>
                <p:cNvSpPr/>
                <p:nvPr/>
              </p:nvSpPr>
              <p:spPr>
                <a:xfrm>
                  <a:off x="3445560" y="25441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圆角矩形 84"/>
                <p:cNvSpPr/>
                <p:nvPr/>
              </p:nvSpPr>
              <p:spPr>
                <a:xfrm>
                  <a:off x="3445560" y="286380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圆角矩形 85"/>
                <p:cNvSpPr/>
                <p:nvPr/>
              </p:nvSpPr>
              <p:spPr>
                <a:xfrm>
                  <a:off x="3445560" y="3187080"/>
                  <a:ext cx="198000" cy="1422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9" name="组合 28"/>
              <p:cNvGrpSpPr/>
              <p:nvPr/>
            </p:nvGrpSpPr>
            <p:grpSpPr>
              <a:xfrm>
                <a:off x="3445560" y="4795200"/>
                <a:ext cx="198000" cy="2396160"/>
                <a:chOff x="3445560" y="4795200"/>
                <a:chExt cx="198000" cy="2396160"/>
              </a:xfrm>
            </p:grpSpPr>
            <p:sp>
              <p:nvSpPr>
                <p:cNvPr id="470" name="圆角矩形 70"/>
                <p:cNvSpPr/>
                <p:nvPr/>
              </p:nvSpPr>
              <p:spPr>
                <a:xfrm>
                  <a:off x="3445560" y="6084000"/>
                  <a:ext cx="198000" cy="1447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圆角矩形 71"/>
                <p:cNvSpPr/>
                <p:nvPr/>
              </p:nvSpPr>
              <p:spPr>
                <a:xfrm>
                  <a:off x="3445560" y="6406920"/>
                  <a:ext cx="198000" cy="1447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圆角矩形 72"/>
                <p:cNvSpPr/>
                <p:nvPr/>
              </p:nvSpPr>
              <p:spPr>
                <a:xfrm>
                  <a:off x="3445560" y="6728400"/>
                  <a:ext cx="198000" cy="1447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圆角矩形 73"/>
                <p:cNvSpPr/>
                <p:nvPr/>
              </p:nvSpPr>
              <p:spPr>
                <a:xfrm>
                  <a:off x="3445560" y="7051680"/>
                  <a:ext cx="198000" cy="13968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圆角矩形 74"/>
                <p:cNvSpPr/>
                <p:nvPr/>
              </p:nvSpPr>
              <p:spPr>
                <a:xfrm>
                  <a:off x="3445560" y="4795200"/>
                  <a:ext cx="198000" cy="1447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圆角矩形 75"/>
                <p:cNvSpPr/>
                <p:nvPr/>
              </p:nvSpPr>
              <p:spPr>
                <a:xfrm>
                  <a:off x="3445560" y="5118120"/>
                  <a:ext cx="198000" cy="1447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圆角矩形 76"/>
                <p:cNvSpPr/>
                <p:nvPr/>
              </p:nvSpPr>
              <p:spPr>
                <a:xfrm>
                  <a:off x="3445560" y="5439600"/>
                  <a:ext cx="198000" cy="1447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圆角矩形 77"/>
                <p:cNvSpPr/>
                <p:nvPr/>
              </p:nvSpPr>
              <p:spPr>
                <a:xfrm>
                  <a:off x="3445560" y="5762520"/>
                  <a:ext cx="198000" cy="1447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8" name="圆角矩形 94"/>
            <p:cNvSpPr/>
            <p:nvPr/>
          </p:nvSpPr>
          <p:spPr>
            <a:xfrm>
              <a:off x="928440" y="658440"/>
              <a:ext cx="2428920" cy="172872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圆角矩形 95"/>
            <p:cNvSpPr/>
            <p:nvPr/>
          </p:nvSpPr>
          <p:spPr>
            <a:xfrm>
              <a:off x="928440" y="2593800"/>
              <a:ext cx="2428920" cy="172872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圆角矩形 96"/>
            <p:cNvSpPr/>
            <p:nvPr/>
          </p:nvSpPr>
          <p:spPr>
            <a:xfrm>
              <a:off x="928440" y="4546800"/>
              <a:ext cx="2428920" cy="172872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圆角矩形 97"/>
            <p:cNvSpPr/>
            <p:nvPr/>
          </p:nvSpPr>
          <p:spPr>
            <a:xfrm>
              <a:off x="928440" y="6499440"/>
              <a:ext cx="2428920" cy="172872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圆角矩形 98"/>
            <p:cNvSpPr/>
            <p:nvPr/>
          </p:nvSpPr>
          <p:spPr>
            <a:xfrm>
              <a:off x="928440" y="-1300320"/>
              <a:ext cx="2428920" cy="172872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TextBox 99"/>
          <p:cNvSpPr/>
          <p:nvPr/>
        </p:nvSpPr>
        <p:spPr>
          <a:xfrm rot="21051000">
            <a:off x="797400" y="93996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101"/>
          <p:cNvSpPr/>
          <p:nvPr/>
        </p:nvSpPr>
        <p:spPr>
          <a:xfrm rot="614400">
            <a:off x="767520" y="496404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直接连接符 105"/>
          <p:cNvSpPr/>
          <p:nvPr/>
        </p:nvSpPr>
        <p:spPr>
          <a:xfrm>
            <a:off x="928800" y="3451320"/>
            <a:ext cx="2519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直接连接符 109"/>
          <p:cNvSpPr/>
          <p:nvPr/>
        </p:nvSpPr>
        <p:spPr>
          <a:xfrm>
            <a:off x="2142360" y="2595600"/>
            <a:ext cx="1800" cy="172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组合 114"/>
          <p:cNvGrpSpPr/>
          <p:nvPr/>
        </p:nvGrpSpPr>
        <p:grpSpPr>
          <a:xfrm>
            <a:off x="1397160" y="2714760"/>
            <a:ext cx="1500120" cy="1500120"/>
            <a:chOff x="1397160" y="2714760"/>
            <a:chExt cx="1500120" cy="1500120"/>
          </a:xfrm>
        </p:grpSpPr>
        <p:sp>
          <p:nvSpPr>
            <p:cNvPr id="488" name="同心圆 112"/>
            <p:cNvSpPr/>
            <p:nvPr/>
          </p:nvSpPr>
          <p:spPr>
            <a:xfrm>
              <a:off x="1397160" y="2714760"/>
              <a:ext cx="1500120" cy="1500120"/>
            </a:xfrm>
            <a:custGeom>
              <a:avLst/>
              <a:gdLst/>
              <a:ahLst/>
              <a:rect l="l" t="t" r="r" b="b"/>
              <a:pathLst>
                <a:path w="1500198" h="1500198">
                  <a:moveTo>
                    <a:pt x="0" y="750099"/>
                  </a:moveTo>
                  <a:cubicBezTo>
                    <a:pt x="0" y="335831"/>
                    <a:pt x="335831" y="0"/>
                    <a:pt x="750099" y="0"/>
                  </a:cubicBezTo>
                  <a:cubicBezTo>
                    <a:pt x="1164367" y="0"/>
                    <a:pt x="1500198" y="335831"/>
                    <a:pt x="1500198" y="750099"/>
                  </a:cubicBezTo>
                  <a:cubicBezTo>
                    <a:pt x="1500198" y="1164367"/>
                    <a:pt x="1164367" y="1500198"/>
                    <a:pt x="750099" y="1500198"/>
                  </a:cubicBezTo>
                  <a:cubicBezTo>
                    <a:pt x="335831" y="1500198"/>
                    <a:pt x="0" y="1164367"/>
                    <a:pt x="0" y="750099"/>
                  </a:cubicBezTo>
                  <a:close/>
                  <a:moveTo>
                    <a:pt x="103994" y="750099"/>
                  </a:moveTo>
                  <a:cubicBezTo>
                    <a:pt x="103994" y="1106933"/>
                    <a:pt x="393265" y="1396204"/>
                    <a:pt x="750099" y="1396204"/>
                  </a:cubicBezTo>
                  <a:cubicBezTo>
                    <a:pt x="1106933" y="1396204"/>
                    <a:pt x="1396204" y="1106933"/>
                    <a:pt x="1396204" y="750099"/>
                  </a:cubicBezTo>
                  <a:cubicBezTo>
                    <a:pt x="1396204" y="393265"/>
                    <a:pt x="1106933" y="103994"/>
                    <a:pt x="750099" y="103994"/>
                  </a:cubicBezTo>
                  <a:cubicBezTo>
                    <a:pt x="393265" y="103994"/>
                    <a:pt x="103994" y="393265"/>
                    <a:pt x="103994" y="750099"/>
                  </a:cubicBezTo>
                  <a:close/>
                </a:path>
              </a:pathLst>
            </a:custGeom>
            <a:solidFill>
              <a:srgbClr val="0079c5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9" name="椭圆 113"/>
            <p:cNvGrpSpPr/>
            <p:nvPr/>
          </p:nvGrpSpPr>
          <p:grpSpPr>
            <a:xfrm>
              <a:off x="1505880" y="2816280"/>
              <a:ext cx="1286280" cy="1286280"/>
              <a:chOff x="1505880" y="2816280"/>
              <a:chExt cx="1286280" cy="1286280"/>
            </a:xfrm>
          </p:grpSpPr>
          <p:pic>
            <p:nvPicPr>
              <p:cNvPr id="490" name="椭圆 1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505880" y="2816280"/>
                <a:ext cx="1286280" cy="128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1" name="Text Box 73"/>
              <p:cNvSpPr/>
              <p:nvPr/>
            </p:nvSpPr>
            <p:spPr>
              <a:xfrm>
                <a:off x="1696680" y="3005640"/>
                <a:ext cx="909360" cy="9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2" name="圆角矩形 115"/>
          <p:cNvSpPr/>
          <p:nvPr/>
        </p:nvSpPr>
        <p:spPr>
          <a:xfrm>
            <a:off x="944640" y="2603520"/>
            <a:ext cx="2428920" cy="1727280"/>
          </a:xfrm>
          <a:prstGeom prst="roundRect">
            <a:avLst>
              <a:gd name="adj" fmla="val 6477"/>
            </a:avLst>
          </a:prstGeom>
          <a:solidFill>
            <a:srgbClr val="0079c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116"/>
          <p:cNvSpPr/>
          <p:nvPr/>
        </p:nvSpPr>
        <p:spPr>
          <a:xfrm>
            <a:off x="1674720" y="2643120"/>
            <a:ext cx="17859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任意多边形 108"/>
          <p:cNvSpPr/>
          <p:nvPr/>
        </p:nvSpPr>
        <p:spPr>
          <a:xfrm>
            <a:off x="6624720" y="3786120"/>
            <a:ext cx="2519280" cy="4680"/>
          </a:xfrm>
          <a:custGeom>
            <a:avLst/>
            <a:gdLst/>
            <a:ahLst/>
            <a:rect l="l" t="t" r="r" b="b"/>
            <a:pathLst>
              <a:path w="2585545" h="4762">
                <a:moveTo>
                  <a:pt x="0" y="0"/>
                </a:moveTo>
                <a:lnTo>
                  <a:pt x="2585545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110"/>
          <p:cNvSpPr/>
          <p:nvPr/>
        </p:nvSpPr>
        <p:spPr>
          <a:xfrm>
            <a:off x="6564240" y="31035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标定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nodeType="clickEffect" fill="hold">
                      <p:stCondLst>
                        <p:cond delay="0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853" nodeType="afterEffect" fill="hold" presetClass="entr" presetID="16" presetSubtype="2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8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8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866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2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2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2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2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875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9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84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6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888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894" nodeType="afterEffect" fill="hold" presetClass="exit" presetID="21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895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任意多边形 2"/>
          <p:cNvSpPr/>
          <p:nvPr/>
        </p:nvSpPr>
        <p:spPr>
          <a:xfrm>
            <a:off x="7688160" y="1855800"/>
            <a:ext cx="1241640" cy="5008680"/>
          </a:xfrm>
          <a:custGeom>
            <a:avLst/>
            <a:gdLst/>
            <a:ahLst/>
            <a:rect l="l" t="t" r="r" b="b"/>
            <a:pathLst>
              <a:path w="1241947" h="5008728">
                <a:moveTo>
                  <a:pt x="0" y="0"/>
                </a:moveTo>
                <a:cubicBezTo>
                  <a:pt x="83024" y="3412"/>
                  <a:pt x="166048" y="6824"/>
                  <a:pt x="245660" y="40943"/>
                </a:cubicBezTo>
                <a:cubicBezTo>
                  <a:pt x="325272" y="75062"/>
                  <a:pt x="413983" y="156949"/>
                  <a:pt x="477672" y="204716"/>
                </a:cubicBezTo>
                <a:cubicBezTo>
                  <a:pt x="541362" y="252483"/>
                  <a:pt x="589128" y="277504"/>
                  <a:pt x="627797" y="327546"/>
                </a:cubicBezTo>
                <a:cubicBezTo>
                  <a:pt x="666466" y="377588"/>
                  <a:pt x="691487" y="445827"/>
                  <a:pt x="709684" y="504967"/>
                </a:cubicBezTo>
                <a:cubicBezTo>
                  <a:pt x="727881" y="564107"/>
                  <a:pt x="727882" y="600502"/>
                  <a:pt x="736980" y="682388"/>
                </a:cubicBezTo>
                <a:cubicBezTo>
                  <a:pt x="746079" y="764275"/>
                  <a:pt x="759726" y="932597"/>
                  <a:pt x="764275" y="996286"/>
                </a:cubicBezTo>
                <a:cubicBezTo>
                  <a:pt x="768824" y="1059975"/>
                  <a:pt x="762000" y="998561"/>
                  <a:pt x="764275" y="1064525"/>
                </a:cubicBezTo>
                <a:cubicBezTo>
                  <a:pt x="766550" y="1130489"/>
                  <a:pt x="787021" y="1285164"/>
                  <a:pt x="777923" y="1392071"/>
                </a:cubicBezTo>
                <a:cubicBezTo>
                  <a:pt x="768825" y="1498978"/>
                  <a:pt x="741529" y="1612710"/>
                  <a:pt x="709684" y="1705970"/>
                </a:cubicBezTo>
                <a:cubicBezTo>
                  <a:pt x="677839" y="1799230"/>
                  <a:pt x="609600" y="1894763"/>
                  <a:pt x="586854" y="1951629"/>
                </a:cubicBezTo>
                <a:cubicBezTo>
                  <a:pt x="564108" y="2008495"/>
                  <a:pt x="550460" y="2001671"/>
                  <a:pt x="573206" y="2047164"/>
                </a:cubicBezTo>
                <a:cubicBezTo>
                  <a:pt x="595952" y="2092657"/>
                  <a:pt x="668741" y="2163170"/>
                  <a:pt x="723332" y="2224585"/>
                </a:cubicBezTo>
                <a:cubicBezTo>
                  <a:pt x="777923" y="2286000"/>
                  <a:pt x="850711" y="2329217"/>
                  <a:pt x="900753" y="2415653"/>
                </a:cubicBezTo>
                <a:cubicBezTo>
                  <a:pt x="950795" y="2502089"/>
                  <a:pt x="989464" y="2595349"/>
                  <a:pt x="1023583" y="2743200"/>
                </a:cubicBezTo>
                <a:cubicBezTo>
                  <a:pt x="1057702" y="2891051"/>
                  <a:pt x="1112293" y="3120788"/>
                  <a:pt x="1105469" y="3302758"/>
                </a:cubicBezTo>
                <a:cubicBezTo>
                  <a:pt x="1098645" y="3484728"/>
                  <a:pt x="991738" y="3714465"/>
                  <a:pt x="982639" y="3835020"/>
                </a:cubicBezTo>
                <a:cubicBezTo>
                  <a:pt x="973541" y="3955575"/>
                  <a:pt x="1044054" y="3980596"/>
                  <a:pt x="1050878" y="4026089"/>
                </a:cubicBezTo>
                <a:cubicBezTo>
                  <a:pt x="1057702" y="4071582"/>
                  <a:pt x="1016759" y="4076131"/>
                  <a:pt x="1023583" y="4107976"/>
                </a:cubicBezTo>
                <a:cubicBezTo>
                  <a:pt x="1030407" y="4139821"/>
                  <a:pt x="1087272" y="4187588"/>
                  <a:pt x="1091821" y="4217158"/>
                </a:cubicBezTo>
                <a:cubicBezTo>
                  <a:pt x="1096370" y="4246728"/>
                  <a:pt x="1048603" y="4251278"/>
                  <a:pt x="1050878" y="4285397"/>
                </a:cubicBezTo>
                <a:cubicBezTo>
                  <a:pt x="1053153" y="4319516"/>
                  <a:pt x="1096371" y="4385480"/>
                  <a:pt x="1105469" y="4421874"/>
                </a:cubicBezTo>
                <a:cubicBezTo>
                  <a:pt x="1114567" y="4458268"/>
                  <a:pt x="1100920" y="4481015"/>
                  <a:pt x="1105469" y="4503761"/>
                </a:cubicBezTo>
                <a:cubicBezTo>
                  <a:pt x="1110018" y="4526507"/>
                  <a:pt x="1128216" y="4524233"/>
                  <a:pt x="1132765" y="4558352"/>
                </a:cubicBezTo>
                <a:cubicBezTo>
                  <a:pt x="1137314" y="4592471"/>
                  <a:pt x="1116843" y="4658435"/>
                  <a:pt x="1132765" y="4708477"/>
                </a:cubicBezTo>
                <a:cubicBezTo>
                  <a:pt x="1148687" y="4758519"/>
                  <a:pt x="1214651" y="4815385"/>
                  <a:pt x="1228299" y="4858603"/>
                </a:cubicBezTo>
                <a:cubicBezTo>
                  <a:pt x="1241947" y="4901821"/>
                  <a:pt x="1216926" y="4942764"/>
                  <a:pt x="1214651" y="4967785"/>
                </a:cubicBezTo>
                <a:cubicBezTo>
                  <a:pt x="1212376" y="4992806"/>
                  <a:pt x="1214651" y="5008728"/>
                  <a:pt x="1214651" y="5008728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任意多边形 3"/>
          <p:cNvSpPr/>
          <p:nvPr/>
        </p:nvSpPr>
        <p:spPr>
          <a:xfrm>
            <a:off x="5477040" y="1870200"/>
            <a:ext cx="2251080" cy="3349440"/>
          </a:xfrm>
          <a:custGeom>
            <a:avLst/>
            <a:gdLst/>
            <a:ahLst/>
            <a:rect l="l" t="t" r="r" b="b"/>
            <a:pathLst>
              <a:path w="2251881" h="3350526">
                <a:moveTo>
                  <a:pt x="2251881" y="0"/>
                </a:moveTo>
                <a:cubicBezTo>
                  <a:pt x="2222310" y="0"/>
                  <a:pt x="2192740" y="1"/>
                  <a:pt x="2115403" y="27296"/>
                </a:cubicBezTo>
                <a:cubicBezTo>
                  <a:pt x="2038066" y="54591"/>
                  <a:pt x="1881117" y="75063"/>
                  <a:pt x="1787857" y="163773"/>
                </a:cubicBezTo>
                <a:cubicBezTo>
                  <a:pt x="1694597" y="252483"/>
                  <a:pt x="1587690" y="411707"/>
                  <a:pt x="1555845" y="559558"/>
                </a:cubicBezTo>
                <a:cubicBezTo>
                  <a:pt x="1524000" y="707409"/>
                  <a:pt x="1596788" y="964442"/>
                  <a:pt x="1596788" y="1050878"/>
                </a:cubicBezTo>
                <a:cubicBezTo>
                  <a:pt x="1596788" y="1137314"/>
                  <a:pt x="1564943" y="1048603"/>
                  <a:pt x="1555845" y="1078173"/>
                </a:cubicBezTo>
                <a:cubicBezTo>
                  <a:pt x="1546747" y="1107743"/>
                  <a:pt x="1528549" y="1166884"/>
                  <a:pt x="1542197" y="1228299"/>
                </a:cubicBezTo>
                <a:cubicBezTo>
                  <a:pt x="1555845" y="1289714"/>
                  <a:pt x="1610437" y="1392072"/>
                  <a:pt x="1637732" y="1446663"/>
                </a:cubicBezTo>
                <a:cubicBezTo>
                  <a:pt x="1665027" y="1501254"/>
                  <a:pt x="1680949" y="1535373"/>
                  <a:pt x="1705970" y="1555845"/>
                </a:cubicBezTo>
                <a:cubicBezTo>
                  <a:pt x="1730991" y="1576317"/>
                  <a:pt x="1762836" y="1535374"/>
                  <a:pt x="1787857" y="1569493"/>
                </a:cubicBezTo>
                <a:cubicBezTo>
                  <a:pt x="1812878" y="1603612"/>
                  <a:pt x="1862920" y="1690048"/>
                  <a:pt x="1856096" y="1760561"/>
                </a:cubicBezTo>
                <a:cubicBezTo>
                  <a:pt x="1849272" y="1831074"/>
                  <a:pt x="1771935" y="1956179"/>
                  <a:pt x="1746914" y="1992573"/>
                </a:cubicBezTo>
                <a:cubicBezTo>
                  <a:pt x="1721893" y="2028967"/>
                  <a:pt x="1760561" y="1953905"/>
                  <a:pt x="1705970" y="1978926"/>
                </a:cubicBezTo>
                <a:cubicBezTo>
                  <a:pt x="1651379" y="2003947"/>
                  <a:pt x="1494430" y="2104030"/>
                  <a:pt x="1419367" y="2142699"/>
                </a:cubicBezTo>
                <a:cubicBezTo>
                  <a:pt x="1344304" y="2181368"/>
                  <a:pt x="1301087" y="2197290"/>
                  <a:pt x="1255594" y="2210938"/>
                </a:cubicBezTo>
                <a:cubicBezTo>
                  <a:pt x="1210102" y="2224586"/>
                  <a:pt x="1196454" y="2204114"/>
                  <a:pt x="1146412" y="2224585"/>
                </a:cubicBezTo>
                <a:cubicBezTo>
                  <a:pt x="1096370" y="2245057"/>
                  <a:pt x="1012209" y="2274627"/>
                  <a:pt x="955343" y="2333767"/>
                </a:cubicBezTo>
                <a:cubicBezTo>
                  <a:pt x="898477" y="2392907"/>
                  <a:pt x="837063" y="2515737"/>
                  <a:pt x="805218" y="2579427"/>
                </a:cubicBezTo>
                <a:cubicBezTo>
                  <a:pt x="773373" y="2643117"/>
                  <a:pt x="780197" y="2670413"/>
                  <a:pt x="764275" y="2715905"/>
                </a:cubicBezTo>
                <a:cubicBezTo>
                  <a:pt x="748353" y="2761397"/>
                  <a:pt x="739254" y="2809164"/>
                  <a:pt x="709684" y="2852382"/>
                </a:cubicBezTo>
                <a:cubicBezTo>
                  <a:pt x="680114" y="2895600"/>
                  <a:pt x="625523" y="2938818"/>
                  <a:pt x="586854" y="2975212"/>
                </a:cubicBezTo>
                <a:cubicBezTo>
                  <a:pt x="548185" y="3011606"/>
                  <a:pt x="532263" y="3043452"/>
                  <a:pt x="477672" y="3070747"/>
                </a:cubicBezTo>
                <a:cubicBezTo>
                  <a:pt x="423081" y="3098042"/>
                  <a:pt x="313899" y="3098042"/>
                  <a:pt x="259308" y="3138985"/>
                </a:cubicBezTo>
                <a:cubicBezTo>
                  <a:pt x="204717" y="3179928"/>
                  <a:pt x="193344" y="3282287"/>
                  <a:pt x="150126" y="3316406"/>
                </a:cubicBezTo>
                <a:cubicBezTo>
                  <a:pt x="106908" y="3350526"/>
                  <a:pt x="53454" y="3347114"/>
                  <a:pt x="0" y="334370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任意多边形 4"/>
          <p:cNvSpPr/>
          <p:nvPr/>
        </p:nvSpPr>
        <p:spPr>
          <a:xfrm>
            <a:off x="4699080" y="1249200"/>
            <a:ext cx="1189080" cy="3978360"/>
          </a:xfrm>
          <a:custGeom>
            <a:avLst/>
            <a:gdLst/>
            <a:ahLst/>
            <a:rect l="l" t="t" r="r" b="b"/>
            <a:pathLst>
              <a:path w="1189630" h="3978323">
                <a:moveTo>
                  <a:pt x="791570" y="3978323"/>
                </a:moveTo>
                <a:cubicBezTo>
                  <a:pt x="742665" y="3823648"/>
                  <a:pt x="693761" y="3668973"/>
                  <a:pt x="709683" y="3555242"/>
                </a:cubicBezTo>
                <a:cubicBezTo>
                  <a:pt x="725605" y="3441511"/>
                  <a:pt x="825689" y="3389194"/>
                  <a:pt x="887104" y="3295934"/>
                </a:cubicBezTo>
                <a:cubicBezTo>
                  <a:pt x="948519" y="3202674"/>
                  <a:pt x="1028131" y="3107141"/>
                  <a:pt x="1078173" y="2995684"/>
                </a:cubicBezTo>
                <a:cubicBezTo>
                  <a:pt x="1128215" y="2884227"/>
                  <a:pt x="1189630" y="2779594"/>
                  <a:pt x="1187355" y="2627194"/>
                </a:cubicBezTo>
                <a:cubicBezTo>
                  <a:pt x="1185080" y="2474794"/>
                  <a:pt x="1125940" y="2179093"/>
                  <a:pt x="1064525" y="2081284"/>
                </a:cubicBezTo>
                <a:cubicBezTo>
                  <a:pt x="1003110" y="1983475"/>
                  <a:pt x="868907" y="2076734"/>
                  <a:pt x="818865" y="2040340"/>
                </a:cubicBezTo>
                <a:cubicBezTo>
                  <a:pt x="768823" y="2003946"/>
                  <a:pt x="818865" y="1967553"/>
                  <a:pt x="764274" y="1862920"/>
                </a:cubicBezTo>
                <a:cubicBezTo>
                  <a:pt x="709683" y="1758287"/>
                  <a:pt x="548185" y="1587689"/>
                  <a:pt x="491319" y="1412543"/>
                </a:cubicBezTo>
                <a:cubicBezTo>
                  <a:pt x="434453" y="1237397"/>
                  <a:pt x="454925" y="998561"/>
                  <a:pt x="423080" y="812042"/>
                </a:cubicBezTo>
                <a:cubicBezTo>
                  <a:pt x="391235" y="625523"/>
                  <a:pt x="350293" y="420806"/>
                  <a:pt x="300251" y="293427"/>
                </a:cubicBezTo>
                <a:cubicBezTo>
                  <a:pt x="250209" y="166048"/>
                  <a:pt x="172872" y="95534"/>
                  <a:pt x="122830" y="47767"/>
                </a:cubicBezTo>
                <a:cubicBezTo>
                  <a:pt x="72788" y="0"/>
                  <a:pt x="36394" y="3412"/>
                  <a:pt x="0" y="682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任意多边形 5"/>
          <p:cNvSpPr/>
          <p:nvPr/>
        </p:nvSpPr>
        <p:spPr>
          <a:xfrm>
            <a:off x="4011480" y="1236600"/>
            <a:ext cx="809640" cy="5407200"/>
          </a:xfrm>
          <a:custGeom>
            <a:avLst/>
            <a:gdLst/>
            <a:ahLst/>
            <a:rect l="l" t="t" r="r" b="b"/>
            <a:pathLst>
              <a:path w="809768" h="5406787">
                <a:moveTo>
                  <a:pt x="714233" y="4548"/>
                </a:moveTo>
                <a:cubicBezTo>
                  <a:pt x="672152" y="2274"/>
                  <a:pt x="630072" y="0"/>
                  <a:pt x="618699" y="45492"/>
                </a:cubicBezTo>
                <a:cubicBezTo>
                  <a:pt x="607326" y="90984"/>
                  <a:pt x="630072" y="175145"/>
                  <a:pt x="645994" y="277503"/>
                </a:cubicBezTo>
                <a:cubicBezTo>
                  <a:pt x="661916" y="379861"/>
                  <a:pt x="698311" y="486769"/>
                  <a:pt x="714233" y="659641"/>
                </a:cubicBezTo>
                <a:cubicBezTo>
                  <a:pt x="730156" y="832513"/>
                  <a:pt x="736980" y="1191903"/>
                  <a:pt x="741529" y="1314733"/>
                </a:cubicBezTo>
                <a:cubicBezTo>
                  <a:pt x="746078" y="1437563"/>
                  <a:pt x="759726" y="1369325"/>
                  <a:pt x="741529" y="1396620"/>
                </a:cubicBezTo>
                <a:cubicBezTo>
                  <a:pt x="723332" y="1423915"/>
                  <a:pt x="673290" y="1417091"/>
                  <a:pt x="632347" y="1478506"/>
                </a:cubicBezTo>
                <a:cubicBezTo>
                  <a:pt x="591404" y="1539921"/>
                  <a:pt x="534538" y="1699145"/>
                  <a:pt x="495869" y="1765109"/>
                </a:cubicBezTo>
                <a:cubicBezTo>
                  <a:pt x="457200" y="1831073"/>
                  <a:pt x="427630" y="1831074"/>
                  <a:pt x="400335" y="1874292"/>
                </a:cubicBezTo>
                <a:cubicBezTo>
                  <a:pt x="373040" y="1917510"/>
                  <a:pt x="363941" y="1990298"/>
                  <a:pt x="332096" y="2024417"/>
                </a:cubicBezTo>
                <a:cubicBezTo>
                  <a:pt x="300251" y="2058536"/>
                  <a:pt x="238836" y="2038065"/>
                  <a:pt x="209266" y="2079008"/>
                </a:cubicBezTo>
                <a:cubicBezTo>
                  <a:pt x="179696" y="2119951"/>
                  <a:pt x="184245" y="2220035"/>
                  <a:pt x="154675" y="2270077"/>
                </a:cubicBezTo>
                <a:cubicBezTo>
                  <a:pt x="125105" y="2320119"/>
                  <a:pt x="54591" y="2315570"/>
                  <a:pt x="31845" y="2379259"/>
                </a:cubicBezTo>
                <a:cubicBezTo>
                  <a:pt x="9099" y="2442948"/>
                  <a:pt x="0" y="2538483"/>
                  <a:pt x="18197" y="2652214"/>
                </a:cubicBezTo>
                <a:cubicBezTo>
                  <a:pt x="36394" y="2765945"/>
                  <a:pt x="84161" y="2920620"/>
                  <a:pt x="141027" y="3061647"/>
                </a:cubicBezTo>
                <a:cubicBezTo>
                  <a:pt x="197893" y="3202674"/>
                  <a:pt x="327547" y="3405115"/>
                  <a:pt x="359392" y="3498375"/>
                </a:cubicBezTo>
                <a:cubicBezTo>
                  <a:pt x="391237" y="3591635"/>
                  <a:pt x="348018" y="3568889"/>
                  <a:pt x="332096" y="3621205"/>
                </a:cubicBezTo>
                <a:cubicBezTo>
                  <a:pt x="316174" y="3673521"/>
                  <a:pt x="291152" y="3741761"/>
                  <a:pt x="263857" y="3812274"/>
                </a:cubicBezTo>
                <a:cubicBezTo>
                  <a:pt x="236562" y="3882787"/>
                  <a:pt x="193344" y="3928280"/>
                  <a:pt x="168323" y="4044286"/>
                </a:cubicBezTo>
                <a:cubicBezTo>
                  <a:pt x="143302" y="4160292"/>
                  <a:pt x="127380" y="4415049"/>
                  <a:pt x="113732" y="4508309"/>
                </a:cubicBezTo>
                <a:cubicBezTo>
                  <a:pt x="100084" y="4601569"/>
                  <a:pt x="84161" y="4560626"/>
                  <a:pt x="86436" y="4603844"/>
                </a:cubicBezTo>
                <a:cubicBezTo>
                  <a:pt x="88711" y="4647062"/>
                  <a:pt x="111458" y="4728948"/>
                  <a:pt x="127380" y="4767617"/>
                </a:cubicBezTo>
                <a:cubicBezTo>
                  <a:pt x="143302" y="4806286"/>
                  <a:pt x="166049" y="4804011"/>
                  <a:pt x="181971" y="4835856"/>
                </a:cubicBezTo>
                <a:cubicBezTo>
                  <a:pt x="197893" y="4867701"/>
                  <a:pt x="188795" y="4929116"/>
                  <a:pt x="222914" y="4958686"/>
                </a:cubicBezTo>
                <a:cubicBezTo>
                  <a:pt x="257033" y="4988256"/>
                  <a:pt x="334371" y="4965510"/>
                  <a:pt x="386687" y="5013277"/>
                </a:cubicBezTo>
                <a:cubicBezTo>
                  <a:pt x="439003" y="5061044"/>
                  <a:pt x="482221" y="5183874"/>
                  <a:pt x="536812" y="5245289"/>
                </a:cubicBezTo>
                <a:cubicBezTo>
                  <a:pt x="591403" y="5306704"/>
                  <a:pt x="668740" y="5356745"/>
                  <a:pt x="714233" y="5381766"/>
                </a:cubicBezTo>
                <a:cubicBezTo>
                  <a:pt x="759726" y="5406787"/>
                  <a:pt x="784747" y="5401100"/>
                  <a:pt x="809768" y="539541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任意多边形 6"/>
          <p:cNvSpPr/>
          <p:nvPr/>
        </p:nvSpPr>
        <p:spPr>
          <a:xfrm>
            <a:off x="4808520" y="5692680"/>
            <a:ext cx="1652760" cy="954360"/>
          </a:xfrm>
          <a:custGeom>
            <a:avLst/>
            <a:gdLst/>
            <a:ahLst/>
            <a:rect l="l" t="t" r="r" b="b"/>
            <a:pathLst>
              <a:path w="1653653" h="953069">
                <a:moveTo>
                  <a:pt x="0" y="953069"/>
                </a:moveTo>
                <a:cubicBezTo>
                  <a:pt x="95534" y="938283"/>
                  <a:pt x="191069" y="923498"/>
                  <a:pt x="286603" y="912125"/>
                </a:cubicBezTo>
                <a:cubicBezTo>
                  <a:pt x="382137" y="900752"/>
                  <a:pt x="466299" y="943970"/>
                  <a:pt x="573206" y="884830"/>
                </a:cubicBezTo>
                <a:cubicBezTo>
                  <a:pt x="680113" y="825690"/>
                  <a:pt x="850711" y="623248"/>
                  <a:pt x="928048" y="557284"/>
                </a:cubicBezTo>
                <a:cubicBezTo>
                  <a:pt x="1005385" y="491320"/>
                  <a:pt x="1005385" y="520890"/>
                  <a:pt x="1037230" y="489045"/>
                </a:cubicBezTo>
                <a:cubicBezTo>
                  <a:pt x="1069075" y="457200"/>
                  <a:pt x="1075898" y="402609"/>
                  <a:pt x="1119116" y="366215"/>
                </a:cubicBezTo>
                <a:cubicBezTo>
                  <a:pt x="1162334" y="329821"/>
                  <a:pt x="1239671" y="325272"/>
                  <a:pt x="1296537" y="270681"/>
                </a:cubicBezTo>
                <a:cubicBezTo>
                  <a:pt x="1353403" y="216090"/>
                  <a:pt x="1405719" y="77338"/>
                  <a:pt x="1460310" y="38669"/>
                </a:cubicBezTo>
                <a:cubicBezTo>
                  <a:pt x="1514901" y="0"/>
                  <a:pt x="1594513" y="43218"/>
                  <a:pt x="1624083" y="38669"/>
                </a:cubicBezTo>
                <a:cubicBezTo>
                  <a:pt x="1653653" y="34120"/>
                  <a:pt x="1645692" y="22746"/>
                  <a:pt x="1637731" y="11373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任意多边形 7"/>
          <p:cNvSpPr/>
          <p:nvPr/>
        </p:nvSpPr>
        <p:spPr>
          <a:xfrm>
            <a:off x="6318360" y="5745240"/>
            <a:ext cx="234720" cy="1119240"/>
          </a:xfrm>
          <a:custGeom>
            <a:avLst/>
            <a:gdLst/>
            <a:ahLst/>
            <a:rect l="l" t="t" r="r" b="b"/>
            <a:pathLst>
              <a:path w="234287" h="1119117">
                <a:moveTo>
                  <a:pt x="127379" y="0"/>
                </a:moveTo>
                <a:cubicBezTo>
                  <a:pt x="152400" y="6824"/>
                  <a:pt x="177421" y="13648"/>
                  <a:pt x="181970" y="40944"/>
                </a:cubicBezTo>
                <a:cubicBezTo>
                  <a:pt x="186519" y="68240"/>
                  <a:pt x="152400" y="131929"/>
                  <a:pt x="154675" y="163774"/>
                </a:cubicBezTo>
                <a:cubicBezTo>
                  <a:pt x="156950" y="195619"/>
                  <a:pt x="184245" y="188794"/>
                  <a:pt x="195618" y="232012"/>
                </a:cubicBezTo>
                <a:cubicBezTo>
                  <a:pt x="206991" y="275230"/>
                  <a:pt x="225189" y="366216"/>
                  <a:pt x="222914" y="423081"/>
                </a:cubicBezTo>
                <a:cubicBezTo>
                  <a:pt x="220639" y="479946"/>
                  <a:pt x="184245" y="532263"/>
                  <a:pt x="181970" y="573206"/>
                </a:cubicBezTo>
                <a:cubicBezTo>
                  <a:pt x="179695" y="614149"/>
                  <a:pt x="234287" y="602777"/>
                  <a:pt x="209266" y="668741"/>
                </a:cubicBezTo>
                <a:cubicBezTo>
                  <a:pt x="184245" y="734705"/>
                  <a:pt x="63690" y="912126"/>
                  <a:pt x="31845" y="968992"/>
                </a:cubicBezTo>
                <a:cubicBezTo>
                  <a:pt x="0" y="1025858"/>
                  <a:pt x="2275" y="984914"/>
                  <a:pt x="18197" y="1009935"/>
                </a:cubicBezTo>
                <a:cubicBezTo>
                  <a:pt x="34119" y="1034956"/>
                  <a:pt x="80749" y="1077036"/>
                  <a:pt x="127379" y="111911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8"/>
          <p:cNvSpPr/>
          <p:nvPr/>
        </p:nvSpPr>
        <p:spPr>
          <a:xfrm>
            <a:off x="500040" y="698400"/>
            <a:ext cx="3357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牢记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首要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原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9"/>
          <p:cNvSpPr/>
          <p:nvPr/>
        </p:nvSpPr>
        <p:spPr>
          <a:xfrm>
            <a:off x="515880" y="2003400"/>
            <a:ext cx="371484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明确幻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用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fade/>
  </p:transition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nodeType="clickEffect" fill="hold">
                      <p:stCondLst>
                        <p:cond delay="0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3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07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5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9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3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2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7" dur="1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29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5T16:34:34Z</dcterms:created>
  <dc:creator>Administrator</dc:creator>
  <dc:description/>
  <cp:keywords/>
  <dc:language>en-US</dc:language>
  <cp:lastModifiedBy>王玉清</cp:lastModifiedBy>
  <dcterms:modified xsi:type="dcterms:W3CDTF">2016-02-19T04:47:57Z</dcterms:modified>
  <cp:revision>81</cp:revision>
  <dc:subject>完美演绎·幻灯传奇</dc:subject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</Properties>
</file>