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01C-2F15-42AB-8C5C-494E90D5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C6D-4939-4B65-909D-BD002C4B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86B-A6C3-491B-928B-A05A7D04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D7A-1C5D-44F9-A3AC-2FED06A0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3A5-F448-4222-B041-2925E9E6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321-6E74-418E-ABBF-A5C7C86B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C29-6AFF-4FCB-9641-4FE11A2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CAF-30AA-4744-A7E9-12EF1174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121-AB27-4563-AC83-13D5A924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ED8-3A62-4B7E-B029-0DC35F6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9CC-201B-4C8F-85C9-4AA04EB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B5E-D9D6-45CA-95B7-F0CEC30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B6C3-2F47-468C-99C5-2F402B737E8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08A6-A7B0-442F-8258-4BDE9AA088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1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058920" cy="180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2" name="图片 82" descr=""/>
          <p:cNvPicPr/>
          <p:nvPr/>
        </p:nvPicPr>
        <p:blipFill>
          <a:blip r:embed="rId2"/>
          <a:stretch/>
        </p:blipFill>
        <p:spPr>
          <a:xfrm>
            <a:off x="257040" y="4803840"/>
            <a:ext cx="3883320" cy="1793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3" name="图片 83" descr=""/>
          <p:cNvPicPr/>
          <p:nvPr/>
        </p:nvPicPr>
        <p:blipFill>
          <a:blip r:embed="rId3"/>
          <a:stretch/>
        </p:blipFill>
        <p:spPr>
          <a:xfrm>
            <a:off x="3419640" y="771480"/>
            <a:ext cx="2692080" cy="1793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4" name="图片 84" descr=""/>
          <p:cNvPicPr/>
          <p:nvPr/>
        </p:nvPicPr>
        <p:blipFill>
          <a:blip r:embed="rId4"/>
          <a:stretch/>
        </p:blipFill>
        <p:spPr>
          <a:xfrm>
            <a:off x="5857920" y="4797360"/>
            <a:ext cx="2897280" cy="18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5" name="Picture 2" descr="F:\360云盘\02-个人资料\！PPT图片及版面资源\06-PPT精选插图\03-人物\2028-12042610493178.jpg"/>
          <p:cNvPicPr/>
          <p:nvPr/>
        </p:nvPicPr>
        <p:blipFill>
          <a:blip r:embed="rId5"/>
          <a:stretch/>
        </p:blipFill>
        <p:spPr>
          <a:xfrm>
            <a:off x="257040" y="2701800"/>
            <a:ext cx="2225880" cy="190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6" name="Picture 3" descr="F:\360云盘\04-待整理ing\pic\mh-awareness-training-comp.jpg"/>
          <p:cNvPicPr/>
          <p:nvPr/>
        </p:nvPicPr>
        <p:blipFill>
          <a:blip r:embed="rId6"/>
          <a:stretch/>
        </p:blipFill>
        <p:spPr>
          <a:xfrm>
            <a:off x="2593800" y="2701800"/>
            <a:ext cx="3119760" cy="190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grpSp>
        <p:nvGrpSpPr>
          <p:cNvPr id="47" name="组合 1"/>
          <p:cNvGrpSpPr/>
          <p:nvPr/>
        </p:nvGrpSpPr>
        <p:grpSpPr>
          <a:xfrm>
            <a:off x="5881680" y="2701800"/>
            <a:ext cx="2722680" cy="1905120"/>
            <a:chOff x="5881680" y="2701800"/>
            <a:chExt cx="2722680" cy="1905120"/>
          </a:xfrm>
        </p:grpSpPr>
        <p:sp>
          <p:nvSpPr>
            <p:cNvPr id="48" name="矩形 91"/>
            <p:cNvSpPr/>
            <p:nvPr/>
          </p:nvSpPr>
          <p:spPr>
            <a:xfrm>
              <a:off x="6657840" y="3654360"/>
              <a:ext cx="64800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2" descr="C:\Documents and Settings\t11318\桌面\bigstock_Group_study_5733878.JPG"/>
            <p:cNvPicPr/>
            <p:nvPr/>
          </p:nvPicPr>
          <p:blipFill>
            <a:blip r:embed="rId7"/>
            <a:stretch/>
          </p:blipFill>
          <p:spPr>
            <a:xfrm>
              <a:off x="5881680" y="2701800"/>
              <a:ext cx="2722680" cy="190512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</p:spPr>
        </p:pic>
      </p:grpSp>
      <p:pic>
        <p:nvPicPr>
          <p:cNvPr id="50" name="图片 89" descr=""/>
          <p:cNvPicPr/>
          <p:nvPr/>
        </p:nvPicPr>
        <p:blipFill>
          <a:blip r:embed="rId8"/>
          <a:stretch/>
        </p:blipFill>
        <p:spPr>
          <a:xfrm>
            <a:off x="6264360" y="765000"/>
            <a:ext cx="2706480" cy="180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1" name="图片 90" descr=""/>
          <p:cNvPicPr/>
          <p:nvPr/>
        </p:nvPicPr>
        <p:blipFill>
          <a:blip r:embed="rId9"/>
          <a:stretch/>
        </p:blipFill>
        <p:spPr>
          <a:xfrm>
            <a:off x="3397320" y="4676760"/>
            <a:ext cx="2405160" cy="195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人物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867-B6EB-48CD-AC37-BE8BF0151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28:54Z</dcterms:modified>
  <cp:revision>9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