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25D-D12D-4318-9A12-B1FF7B2D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583-A39C-4E57-AAFE-3970B771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54D-6F60-401D-9D6E-41B0A54C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167-C6B6-428A-AB72-05D717F0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D2D-3886-4768-AA44-AA870D13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AA4-79D4-4659-AB74-81F8ECCD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774-0645-4506-B816-10F41D82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128-F498-4860-903D-F7B1D58D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B78-B762-4AEF-8B1C-D1D9B44A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297-C63D-4AC8-90D8-04430355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CA3-9E45-465D-9D91-725FF438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49E-F596-4339-871C-DC5D53E8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5198-4890-4BB7-941C-A25D17F136B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27E0-DB6A-4DB5-A0C1-48D70E13E17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" descr=""/>
          <p:cNvPicPr/>
          <p:nvPr/>
        </p:nvPicPr>
        <p:blipFill>
          <a:blip r:embed="rId1"/>
          <a:srcRect l="0" t="11537" r="0" b="4068"/>
          <a:stretch/>
        </p:blipFill>
        <p:spPr>
          <a:xfrm>
            <a:off x="250920" y="765000"/>
            <a:ext cx="2905200" cy="3673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9" descr=""/>
          <p:cNvPicPr/>
          <p:nvPr/>
        </p:nvPicPr>
        <p:blipFill>
          <a:blip r:embed="rId2"/>
          <a:stretch/>
        </p:blipFill>
        <p:spPr>
          <a:xfrm>
            <a:off x="3276720" y="765000"/>
            <a:ext cx="2784240" cy="17672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0" descr=""/>
          <p:cNvPicPr/>
          <p:nvPr/>
        </p:nvPicPr>
        <p:blipFill>
          <a:blip r:embed="rId3"/>
          <a:stretch/>
        </p:blipFill>
        <p:spPr>
          <a:xfrm>
            <a:off x="6300720" y="2886120"/>
            <a:ext cx="2656080" cy="17668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21" descr=""/>
          <p:cNvPicPr/>
          <p:nvPr/>
        </p:nvPicPr>
        <p:blipFill>
          <a:blip r:embed="rId4"/>
          <a:stretch/>
        </p:blipFill>
        <p:spPr>
          <a:xfrm>
            <a:off x="3565440" y="3090960"/>
            <a:ext cx="2206800" cy="3606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44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2000" cy="494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8000" y="638172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A66-2CE4-4D7E-A5E9-D1F4160BD0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30:28Z</dcterms:modified>
  <cp:revision>10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