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798-1312-4D84-BD9E-1D0B841A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3FB-5489-411C-AAD8-EC28038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A09-F9EF-4269-AB81-D07D417B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305-115D-4CDD-8D04-67B38549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4DF0-00A7-4F84-944A-C8E6A944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4B21-D64A-4B88-8D77-38FF4574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00A-2AB7-4C9D-88BF-A1C1CFEA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A3AD-8FB2-4DC0-9E3A-1B671287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D55-F247-4273-B57E-CDEA928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14C-55B7-4EA0-ACD5-93F9EF3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79F-BE84-4413-9105-5B79669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4A5-2E04-4C6C-9DE2-759E231E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419-07AD-4E81-9544-E9F1F9D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8014-8523-48FE-BBC6-8300F01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B3B2-73BE-4FAC-B6E9-65C6D77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D78-601E-48C2-916B-435B6E9E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AE3C-A83B-4992-B814-37ABEF23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5E4-BC76-43D1-939F-492BD07E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EF2-DEFE-47E5-9FF2-0917B0AF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85C-8262-400A-8D4C-5A0D20A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9F5-AD97-4C5A-BF3A-B5166566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A84-F098-4382-A7C4-CCCAC8B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CA5-CD87-4A83-8B1B-9F36485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998-AA79-4646-A3DE-E8A92A6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FF255A-3034-4910-8292-A02E1CA4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B9FA9A-6D83-4485-B45A-0E701D98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2920" y="7164360"/>
            <a:ext cx="4606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7200" y="179280"/>
            <a:ext cx="3848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水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3240000" y="3769920"/>
            <a:ext cx="65883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页脚占位符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ACF-77BE-401D-9B2C-FEF683BEB2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2397240" y="2357280"/>
            <a:ext cx="6429240" cy="898560"/>
          </a:xfrm>
          <a:prstGeom prst="roundRect">
            <a:avLst>
              <a:gd name="adj" fmla="val 11741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2397240" y="368460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397240" y="5032440"/>
            <a:ext cx="6432480" cy="90324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300320" y="2351160"/>
            <a:ext cx="917280" cy="868320"/>
          </a:xfrm>
          <a:prstGeom prst="roundRect">
            <a:avLst>
              <a:gd name="adj" fmla="val 16667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300320" y="3697200"/>
            <a:ext cx="917280" cy="882720"/>
          </a:xfrm>
          <a:prstGeom prst="roundRect">
            <a:avLst>
              <a:gd name="adj" fmla="val 16667"/>
            </a:avLst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300320" y="5048280"/>
            <a:ext cx="917280" cy="906480"/>
          </a:xfrm>
          <a:prstGeom prst="roundRect">
            <a:avLst>
              <a:gd name="adj" fmla="val 16667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5"/>
          <p:cNvCxnSpPr>
            <a:stCxn id="102" idx="0"/>
            <a:endCxn id="100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"/>
          <p:cNvCxnSpPr>
            <a:stCxn id="100" idx="5"/>
            <a:endCxn id="101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>
            <a:off x="2482920" y="2286000"/>
            <a:ext cx="2581200" cy="15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7694640" y="421164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7104240" y="4989600"/>
            <a:ext cx="2492280" cy="237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"/>
          <p:cNvSpPr/>
          <p:nvPr/>
        </p:nvSpPr>
        <p:spPr>
          <a:xfrm>
            <a:off x="3827520" y="3894120"/>
            <a:ext cx="1168200" cy="1168560"/>
          </a:xfrm>
          <a:prstGeom prst="ellips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3575160" y="5456160"/>
            <a:ext cx="1168200" cy="1168560"/>
          </a:xfrm>
          <a:prstGeom prst="ellips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3575160" y="2360520"/>
            <a:ext cx="1168200" cy="1168560"/>
          </a:xfrm>
          <a:prstGeom prst="ellips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6"/>
          <p:cNvCxnSpPr>
            <a:stCxn id="114" idx="7"/>
            <a:endCxn id="117" idx="2"/>
          </p:cNvCxnSpPr>
          <p:nvPr/>
        </p:nvCxnSpPr>
        <p:spPr>
          <a:xfrm flipV="1">
            <a:off x="2616120" y="2944440"/>
            <a:ext cx="95976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7"/>
          <p:cNvCxnSpPr>
            <a:stCxn id="114" idx="5"/>
            <a:endCxn id="116" idx="2"/>
          </p:cNvCxnSpPr>
          <p:nvPr/>
        </p:nvCxnSpPr>
        <p:spPr>
          <a:xfrm>
            <a:off x="2616120" y="5082840"/>
            <a:ext cx="959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8"/>
          <p:cNvCxnSpPr>
            <a:stCxn id="114" idx="6"/>
            <a:endCxn id="115" idx="2"/>
          </p:cNvCxnSpPr>
          <p:nvPr/>
        </p:nvCxnSpPr>
        <p:spPr>
          <a:xfrm flipV="1">
            <a:off x="2863440" y="4478040"/>
            <a:ext cx="964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页脚占位符 1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2457360" y="221472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1233360" y="28987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233360" y="43038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3681360" y="28987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457360" y="36194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457360" y="50227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e2e2e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679920" y="430380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6245280" y="384984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9"/>
          <p:cNvCxnSpPr>
            <a:stCxn id="132" idx="2"/>
            <a:endCxn id="133" idx="2"/>
          </p:cNvCxnSpPr>
          <p:nvPr/>
        </p:nvCxnSpPr>
        <p:spPr>
          <a:xfrm>
            <a:off x="4427280" y="4952520"/>
            <a:ext cx="1819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Text Box 10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1"/>
          <p:cNvSpPr/>
          <p:nvPr/>
        </p:nvSpPr>
        <p:spPr>
          <a:xfrm>
            <a:off x="3882960" y="4218120"/>
            <a:ext cx="2400480" cy="2401920"/>
          </a:xfrm>
          <a:prstGeom prst="ellipse">
            <a:avLst/>
          </a:prstGeom>
          <a:solidFill>
            <a:srgbClr val="e2e2e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7353360" y="45007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01800" y="2617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65080" y="4903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2968560" y="2743200"/>
            <a:ext cx="2401920" cy="2401920"/>
          </a:xfrm>
          <a:prstGeom prst="ellipse">
            <a:avLst/>
          </a:prstGeom>
          <a:solidFill>
            <a:srgbClr val="d25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871560" y="485316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856040" y="2743200"/>
            <a:ext cx="2401920" cy="2401920"/>
          </a:xfrm>
          <a:prstGeom prst="ellipse">
            <a:avLst/>
          </a:prstGeom>
          <a:solidFill>
            <a:srgbClr val="b5ad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5738760" y="4730760"/>
            <a:ext cx="3618000" cy="733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"/>
          <p:cNvSpPr/>
          <p:nvPr/>
        </p:nvSpPr>
        <p:spPr>
          <a:xfrm>
            <a:off x="905040" y="2562120"/>
            <a:ext cx="4174920" cy="1166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页脚占位符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1"/>
          <p:cNvSpPr/>
          <p:nvPr/>
        </p:nvSpPr>
        <p:spPr>
          <a:xfrm>
            <a:off x="4307040" y="2187720"/>
            <a:ext cx="4682880" cy="111096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 flipV="1">
            <a:off x="1103400" y="5355360"/>
            <a:ext cx="4682880" cy="111132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4971960" y="3367080"/>
            <a:ext cx="3370320" cy="1079640"/>
          </a:xfrm>
          <a:prstGeom prst="pi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 flipV="1">
            <a:off x="1768320" y="4191840"/>
            <a:ext cx="3370320" cy="1079640"/>
          </a:xfrm>
          <a:prstGeom prst="pie">
            <a:avLst/>
          </a:prstGeom>
          <a:solidFill>
            <a:srgbClr val="d2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730600" y="457056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 flipV="1">
            <a:off x="5600880" y="453060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395440" y="2206800"/>
            <a:ext cx="2129040" cy="1928520"/>
          </a:xfrm>
          <a:prstGeom prst="triangle">
            <a:avLst>
              <a:gd name="adj" fmla="val 50023"/>
            </a:avLst>
          </a:prstGeom>
          <a:solidFill>
            <a:srgbClr val="b5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730600" y="575784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970600" y="503856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759040" y="348156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1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6720" y="1835280"/>
            <a:ext cx="56433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1" descr=""/>
          <p:cNvPicPr/>
          <p:nvPr/>
        </p:nvPicPr>
        <p:blipFill>
          <a:blip r:embed="rId2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62" name="AutoShape 2"/>
          <p:cNvCxnSpPr>
            <a:endCxn id="163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b5ad00"/>
            </a:solidFill>
            <a:miter/>
            <a:tailEnd len="med" type="triangle" w="med"/>
          </a:ln>
        </p:spPr>
      </p:cxnSp>
      <p:sp>
        <p:nvSpPr>
          <p:cNvPr id="163" name="Text Box 3"/>
          <p:cNvSpPr/>
          <p:nvPr/>
        </p:nvSpPr>
        <p:spPr>
          <a:xfrm>
            <a:off x="57697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 rot="16140000">
            <a:off x="8421120" y="447804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5"/>
          <p:cNvCxnSpPr>
            <a:stCxn id="164" idx="0"/>
            <a:endCxn id="164" idx="0"/>
          </p:cNvCxnSpPr>
          <p:nvPr/>
        </p:nvCxnSpPr>
        <p:spPr>
          <a:xfrm>
            <a:off x="8818560" y="46609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6"/>
          <p:cNvCxnSpPr>
            <a:endCxn id="164" idx="0"/>
          </p:cNvCxnSpPr>
          <p:nvPr/>
        </p:nvCxnSpPr>
        <p:spPr>
          <a:xfrm>
            <a:off x="8788320" y="4511160"/>
            <a:ext cx="30600" cy="150120"/>
          </a:xfrm>
          <a:prstGeom prst="straightConnector1">
            <a:avLst/>
          </a:prstGeom>
          <a:ln w="0">
            <a:noFill/>
          </a:ln>
        </p:spPr>
      </p:cxnSp>
      <p:sp>
        <p:nvSpPr>
          <p:cNvPr id="167" name="Text Box 7"/>
          <p:cNvSpPr/>
          <p:nvPr/>
        </p:nvSpPr>
        <p:spPr>
          <a:xfrm>
            <a:off x="2484360" y="252360"/>
            <a:ext cx="7236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0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34:3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License">
    <vt:lpwstr>&lt;a href="http://templates.services.openoffice.org/bsd-license"&gt;BSD&lt;/a&gt;</vt:lpwstr>
  </property>
</Properties>
</file>