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545-9E81-47C1-90F9-B8AE3DDB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03B-7347-40F1-8064-4F2C952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4282F-9FEE-464A-AE98-E859F73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7DC5B-9050-436E-A96D-5F92624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0C1D8-98D0-4E42-AFCA-77658434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E8DE-B7CE-4978-8063-D41563C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E736-2614-4FB6-9988-CC4B139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D1A2-E546-47DB-ACAC-CA09B71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CA51D-644F-43CA-A48D-8188CC5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8A0D6-F9EB-41BB-A0EA-DC9D7341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E3121-ABEB-4592-8178-6C2A9AF7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8492-ADF9-408E-A2F5-B13AD8A1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673-5C7F-48D4-8DC0-276BF85B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8F68F-E277-4E7D-AB40-2CE327D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6FDBC-4585-4522-94E1-DDD38FF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D0F1-B707-4113-92E1-4DF75FBE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EDF5C-E97E-47A3-AE9F-C30DD00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AE303-40D4-47DC-AEB2-936BB4F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EF80D-E874-4B0B-B5A9-0B6ABAE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7AC6-935C-4599-AB86-432109E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E4455-BAF3-4F87-A3E9-A9BB108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3DDD5-F468-46F9-AEAF-9F99C6EB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E82B0-5AD3-481F-B7AA-2494BE2F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090-0500-4451-A467-CF380331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489B4-4BE0-446B-A95A-8AD3B54F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EB1BD-BA36-4593-A857-90210900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AC0D-3327-4710-AB98-4BD84AE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75A6-4314-463F-AD34-D188DE25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691A-3478-46AA-B049-8A038A4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E0BE-52A5-4097-86B5-B76AE523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D9A07-1C79-4F52-B701-BECD778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BBE0-C93E-4B67-B3E1-D13F540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D3DC2-A17B-4435-9951-CDF857B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5EE5-7F11-4F12-BD2D-159F9C0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EEA5-B361-4BB2-A66A-98BA9700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EFF86-B85E-42DD-92D2-230D895F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1DFA-52B8-4423-B51A-354852FA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25AF-24C9-4089-BBC9-839726E3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B3217-8057-4422-B0FB-180F89E9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F97E7-4424-4246-9B9B-07AA221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D1D1C-F09C-49C4-83EB-9775B9CF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39CA1-EBB4-46A4-B4D3-22EA0FC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F8EF3-445F-4621-B213-205123D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03687-C9BD-4C1D-B67C-3BCD559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75954-1BE7-4CFE-A317-FB4B48D9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293-1A7D-4322-BAE7-EA3A7450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27985-AD80-4409-9A30-DD20486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8DAA-E2BA-444F-B504-37E2BEE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2C2C-8109-437D-947E-184843C7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972C9-FAEA-4506-943F-E72C6FA5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D5BA3-530D-48A6-9FD7-2151E3BD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EE14-A095-4E36-AB18-EF92381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6C2-C226-4718-9861-03047D1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17B8-7C3B-4CAE-82D0-6FE2CD02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5AEE-BF4D-4DAA-B5D4-A6B36EF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BE47-7F2C-47AD-874B-6294F07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9B5-A4B3-422B-9B0F-544916B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B6A-FC95-4D52-A08A-B51DD307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16D1-059D-43C2-A156-FFADCC8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47C-2319-4A68-B933-B6186F1F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7628-97FD-4980-A57A-719B9EDB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ABD-1BBF-41E4-A8A2-8FEA0D3D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18A8-976A-43EA-B7F4-FA88EDD9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B9A6-6DE1-4276-8806-52B2728D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4EA7-506B-43C6-9FB0-862489F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7799-44F3-4CDD-AA1A-74327F8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DF61-A8B5-45DE-90BA-E47734CB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996-68D2-493D-886E-14B27B8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296B-CAC3-463F-AD5A-43429500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0749-ADDB-4035-A387-1C902EF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AB09-D99F-4D68-825B-8899507F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39E1-0E75-4559-86A4-829ECFE4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8501-F23B-4562-AD6E-0B82DC8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7B62-B484-4D23-B95D-68504C59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F110-B348-4C50-A051-8259B5F8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A68F-F989-4576-B84B-026E61F1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5A91-7BB3-42BB-970D-5BD8D6E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E22A-B173-44CF-AB2D-C28DE75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096-FDE1-4FA7-A1A3-10E55E3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45D2-2DAF-4683-B5C4-BD7E58F5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04F6-8CE5-43F0-BA06-2EA52C1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415B-7F9F-4632-8AD6-DA77123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516A-095C-4210-960B-1C57D90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3D8C-33E2-482C-8046-FCC320B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14E8-6BCD-4464-A116-5E621EFA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6967-3F7E-4C82-AA9E-1DFE5F5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570B-EB70-49ED-A41B-C71308BF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DA0BC-B9C4-4E7C-891A-BDFE6C70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54D29-E174-414B-A8C0-57CF9451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9C9-9A6E-491F-A90F-8BC5AF2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250F-4CF8-4CFE-81F5-8406AC4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5D41-107F-494C-A004-20473C9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6BBE-D5D0-43B0-BFBE-BCC2AD2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7ADD-9079-41F1-9996-F889F939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C558-91CA-4193-A1CA-E405A53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11C4-8090-4CBE-ACA0-C2B0F79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B172-57F9-4230-88C5-7ADF1BF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DD0D-C64E-433E-8F16-5DEEC6A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2EAC-01CE-4CB1-9CC1-13F9F3AD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2C279-B1FE-4136-B15B-9D274B00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A78-AC66-486F-8A70-67CCEDEB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7DFE-178D-4278-BAF2-44334E2D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80D0-22D5-45B7-9D6F-14B4C60D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BE0F-B8D6-40F4-A852-DE40484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562F-BBEF-42B4-A3E3-0FE5CC6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E5EB-727D-49FB-955A-06021FE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6CE7-CFF0-4ABD-9DA4-6A47151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2282-535C-45BE-A09D-CE3FD5A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406B-FB5E-439C-95B9-83329F0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AC13-172E-4BFF-8E11-5007D45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D31F4-310F-46F8-B3FC-7A1A880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12B-9F40-4168-B9D5-84E2360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F6819-A755-4EB5-BDD4-1B5D6A7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1258-6FF5-4166-AD3B-BCF9CC3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994A-29EC-4D48-A683-5C11F8FF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CED2F-83CC-4E33-BC09-0AF3D559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BEA95-1318-4F41-8E0E-076B951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3B065-069C-45B4-9322-D50AE9B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35C4-B50D-4C4F-B476-87BD4BB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E40E1-FB59-435F-8C4D-C0F40BC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E630E-7195-44CD-88EB-A9ABCB8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E9D4D-B541-4443-A8CA-5D03DA1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EE1-4BCC-4352-A10C-704E9C0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D72E-4B9A-4F44-8CE6-C81B470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FC64-248A-4511-99D6-9B28D36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5033F-748C-4AB1-A3D0-A99E8A8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FF3E-3959-4067-9EBD-50E6F715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0867-5177-41F6-AB6A-444F0406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D15C-2337-4EC7-B2FD-574B3D48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6E6A-9C83-4CBE-A5B0-1486C25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4D293-EC5E-44AD-99C4-3309A46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FE3F3-7131-4A92-B1D6-F188932E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BDD4-6B0A-4A89-9EAA-2A762297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CEB-60D7-442A-A338-192A054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2D7A-691F-413A-AF93-7FA20F9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4C4A8-E343-4769-88FB-0437703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4DB2-2252-43F7-9543-3577D2D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95AC-4A10-4A19-BD17-9CF514F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6153-919C-4889-9B13-704313F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8B46E-0048-4709-9573-E4292902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0CF86-EE70-4A4D-BD81-BC3D8328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F54F-4387-4949-B235-1BF49F75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91690-F937-4CA9-AACA-3834CE5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F269E-D770-4F99-A353-00808B8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921-F5E0-4D45-BA0F-15911D82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9C9-8E29-4E54-A283-49EEE739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057-9DDB-4C23-828A-4690D51E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F1F1-023C-4F00-9A16-330A3389C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6CE-7010-4DDC-87CE-F340A6B3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798-4ED9-4C76-A359-B0D3889F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855-D7C5-4AF8-B279-DD1A8C732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E53B-1BF7-4EAC-A2FE-19A11050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5759-289D-4F13-81FD-47783F72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4B4-2A69-4A96-97FD-E07B6FBEC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62A8-8AFA-4B08-9832-085EC35E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468C-714F-43D0-B612-3453F7EE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5"/>
          <p:cNvSpPr/>
          <p:nvPr/>
        </p:nvSpPr>
        <p:spPr>
          <a:xfrm>
            <a:off x="8572680" y="2857680"/>
            <a:ext cx="3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隶书"/>
                <a:ea typeface="隶书"/>
              </a:rPr>
              <a:t>叶落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8" descr="雪7"/>
          <p:cNvPicPr/>
          <p:nvPr/>
        </p:nvPicPr>
        <p:blipFill>
          <a:blip r:embed="rId2"/>
          <a:stretch/>
        </p:blipFill>
        <p:spPr>
          <a:xfrm rot="20508000">
            <a:off x="-1714320" y="-1044360"/>
            <a:ext cx="6197760" cy="8969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5" descr="雪7"/>
          <p:cNvPicPr/>
          <p:nvPr/>
        </p:nvPicPr>
        <p:blipFill>
          <a:blip r:embed="rId3"/>
          <a:stretch/>
        </p:blipFill>
        <p:spPr>
          <a:xfrm rot="19999200">
            <a:off x="4610160" y="-1752480"/>
            <a:ext cx="5599080" cy="8947080"/>
          </a:xfrm>
          <a:prstGeom prst="rect">
            <a:avLst/>
          </a:prstGeom>
          <a:ln w="0">
            <a:noFill/>
          </a:ln>
        </p:spPr>
      </p:pic>
      <p:pic>
        <p:nvPicPr>
          <p:cNvPr id="543" name="矩形 8" descr=""/>
          <p:cNvPicPr/>
          <p:nvPr/>
        </p:nvPicPr>
        <p:blipFill>
          <a:blip r:embed="rId4"/>
          <a:stretch/>
        </p:blipFill>
        <p:spPr>
          <a:xfrm>
            <a:off x="0" y="4711680"/>
            <a:ext cx="252396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"/>
          <p:cNvSpPr/>
          <p:nvPr/>
        </p:nvSpPr>
        <p:spPr>
          <a:xfrm>
            <a:off x="2259360" y="4190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深蓝之韵唯美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未标题-3.png"/>
          <p:cNvPicPr/>
          <p:nvPr/>
        </p:nvPicPr>
        <p:blipFill>
          <a:blip r:embed="rId2"/>
          <a:stretch/>
        </p:blipFill>
        <p:spPr>
          <a:xfrm>
            <a:off x="8501040" y="-285840"/>
            <a:ext cx="9137520" cy="60962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" descr="未标题-1.png"/>
          <p:cNvPicPr/>
          <p:nvPr/>
        </p:nvPicPr>
        <p:blipFill>
          <a:blip r:embed="rId3"/>
          <a:stretch/>
        </p:blipFill>
        <p:spPr>
          <a:xfrm>
            <a:off x="285840" y="714240"/>
            <a:ext cx="4859280" cy="42148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3" descr="未标题-2.png"/>
          <p:cNvPicPr/>
          <p:nvPr/>
        </p:nvPicPr>
        <p:blipFill>
          <a:blip r:embed="rId4"/>
          <a:stretch/>
        </p:blipFill>
        <p:spPr>
          <a:xfrm>
            <a:off x="-1571760" y="2000160"/>
            <a:ext cx="4286520" cy="4286520"/>
          </a:xfrm>
          <a:prstGeom prst="rect">
            <a:avLst/>
          </a:prstGeom>
          <a:ln w="0">
            <a:noFill/>
          </a:ln>
        </p:spPr>
      </p:pic>
      <p:sp>
        <p:nvSpPr>
          <p:cNvPr id="5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-0.92934 -0.0074 E">
                                      <p:cBhvr>
                                        <p:cTn id="28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未标题-4.png"/>
          <p:cNvPicPr/>
          <p:nvPr/>
        </p:nvPicPr>
        <p:blipFill>
          <a:blip r:embed="rId2"/>
          <a:stretch/>
        </p:blipFill>
        <p:spPr>
          <a:xfrm>
            <a:off x="-928800" y="2286000"/>
            <a:ext cx="1284480" cy="19191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" descr="未标题-5.png"/>
          <p:cNvPicPr/>
          <p:nvPr/>
        </p:nvPicPr>
        <p:blipFill>
          <a:blip r:embed="rId3"/>
          <a:stretch/>
        </p:blipFill>
        <p:spPr>
          <a:xfrm>
            <a:off x="-1857240" y="2714760"/>
            <a:ext cx="1573200" cy="23526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3" descr="未标题-6.png"/>
          <p:cNvPicPr/>
          <p:nvPr/>
        </p:nvPicPr>
        <p:blipFill>
          <a:blip r:embed="rId4"/>
          <a:stretch/>
        </p:blipFill>
        <p:spPr>
          <a:xfrm>
            <a:off x="8358120" y="1432080"/>
            <a:ext cx="3095640" cy="4636800"/>
          </a:xfrm>
          <a:prstGeom prst="rect">
            <a:avLst/>
          </a:prstGeom>
          <a:ln w="0">
            <a:noFill/>
          </a:ln>
        </p:spPr>
      </p:pic>
      <p:sp>
        <p:nvSpPr>
          <p:cNvPr id="5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1.85185E-006 L 0.3658 -0.00463 E">
                                      <p:cBhvr>
                                        <p:cTn id="45" dur="3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26267 -0.0044 E">
                                      <p:cBhvr>
                                        <p:cTn id="47" dur="3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0.33923 0.00579 E">
                                      <p:cBhvr>
                                        <p:cTn id="49" dur="3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" descr="未标题-7.png"/>
          <p:cNvPicPr/>
          <p:nvPr/>
        </p:nvPicPr>
        <p:blipFill>
          <a:blip r:embed="rId2"/>
          <a:stretch/>
        </p:blipFill>
        <p:spPr>
          <a:xfrm>
            <a:off x="5214960" y="714240"/>
            <a:ext cx="3333600" cy="49914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" descr="未标题-7.png"/>
          <p:cNvPicPr/>
          <p:nvPr/>
        </p:nvPicPr>
        <p:blipFill>
          <a:blip r:embed="rId3"/>
          <a:stretch/>
        </p:blipFill>
        <p:spPr>
          <a:xfrm rot="20803800">
            <a:off x="4995360" y="407880"/>
            <a:ext cx="3333960" cy="49910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3" descr="未标题-7.png"/>
          <p:cNvPicPr/>
          <p:nvPr/>
        </p:nvPicPr>
        <p:blipFill>
          <a:blip r:embed="rId4"/>
          <a:stretch/>
        </p:blipFill>
        <p:spPr>
          <a:xfrm rot="20900400">
            <a:off x="4613400" y="214200"/>
            <a:ext cx="3333600" cy="49910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4" descr="未标题-7.png"/>
          <p:cNvPicPr/>
          <p:nvPr/>
        </p:nvPicPr>
        <p:blipFill>
          <a:blip r:embed="rId5"/>
          <a:stretch/>
        </p:blipFill>
        <p:spPr>
          <a:xfrm rot="20734200">
            <a:off x="4213080" y="-20520"/>
            <a:ext cx="3333960" cy="499104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未标题-7.png"/>
          <p:cNvPicPr/>
          <p:nvPr/>
        </p:nvPicPr>
        <p:blipFill>
          <a:blip r:embed="rId6"/>
          <a:stretch/>
        </p:blipFill>
        <p:spPr>
          <a:xfrm rot="20724600">
            <a:off x="3789000" y="-302760"/>
            <a:ext cx="3333600" cy="4991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6" descr="未标题-7.png"/>
          <p:cNvPicPr/>
          <p:nvPr/>
        </p:nvPicPr>
        <p:blipFill>
          <a:blip r:embed="rId7"/>
          <a:stretch/>
        </p:blipFill>
        <p:spPr>
          <a:xfrm rot="20368800">
            <a:off x="3483000" y="-502920"/>
            <a:ext cx="3333600" cy="49928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7" descr="未标题-7.png"/>
          <p:cNvPicPr/>
          <p:nvPr/>
        </p:nvPicPr>
        <p:blipFill>
          <a:blip r:embed="rId8"/>
          <a:stretch/>
        </p:blipFill>
        <p:spPr>
          <a:xfrm rot="20151600">
            <a:off x="3089160" y="-678960"/>
            <a:ext cx="3333960" cy="49910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8" descr="未标题-7.png"/>
          <p:cNvPicPr/>
          <p:nvPr/>
        </p:nvPicPr>
        <p:blipFill>
          <a:blip r:embed="rId9"/>
          <a:stretch/>
        </p:blipFill>
        <p:spPr>
          <a:xfrm rot="19288200">
            <a:off x="2676600" y="-785880"/>
            <a:ext cx="3333600" cy="49910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9" descr="未标题-7.png"/>
          <p:cNvPicPr/>
          <p:nvPr/>
        </p:nvPicPr>
        <p:blipFill>
          <a:blip r:embed="rId10"/>
          <a:stretch/>
        </p:blipFill>
        <p:spPr>
          <a:xfrm rot="18540600">
            <a:off x="2178720" y="-702360"/>
            <a:ext cx="3333600" cy="49928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0" descr="未标题-7.png"/>
          <p:cNvPicPr/>
          <p:nvPr/>
        </p:nvPicPr>
        <p:blipFill>
          <a:blip r:embed="rId11"/>
          <a:stretch/>
        </p:blipFill>
        <p:spPr>
          <a:xfrm rot="18098400">
            <a:off x="1689120" y="-552600"/>
            <a:ext cx="3333960" cy="4991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1" descr="未标题-7.png"/>
          <p:cNvPicPr/>
          <p:nvPr/>
        </p:nvPicPr>
        <p:blipFill>
          <a:blip r:embed="rId12"/>
          <a:stretch/>
        </p:blipFill>
        <p:spPr>
          <a:xfrm rot="17686200">
            <a:off x="1154880" y="-365760"/>
            <a:ext cx="3333600" cy="499284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2" descr="未标题-7.png"/>
          <p:cNvPicPr/>
          <p:nvPr/>
        </p:nvPicPr>
        <p:blipFill>
          <a:blip r:embed="rId13"/>
          <a:stretch/>
        </p:blipFill>
        <p:spPr>
          <a:xfrm rot="17541000">
            <a:off x="655560" y="-217440"/>
            <a:ext cx="3333600" cy="49914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3" descr="未标题-7.png"/>
          <p:cNvPicPr/>
          <p:nvPr/>
        </p:nvPicPr>
        <p:blipFill>
          <a:blip r:embed="rId14"/>
          <a:stretch/>
        </p:blipFill>
        <p:spPr>
          <a:xfrm rot="16879800">
            <a:off x="250560" y="-14400"/>
            <a:ext cx="3333960" cy="499104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14" descr="未标题-7.png"/>
          <p:cNvPicPr/>
          <p:nvPr/>
        </p:nvPicPr>
        <p:blipFill>
          <a:blip r:embed="rId15"/>
          <a:stretch/>
        </p:blipFill>
        <p:spPr>
          <a:xfrm rot="16555200">
            <a:off x="-182160" y="206280"/>
            <a:ext cx="3332160" cy="49924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5" descr="未标题-7.png"/>
          <p:cNvPicPr/>
          <p:nvPr/>
        </p:nvPicPr>
        <p:blipFill>
          <a:blip r:embed="rId16"/>
          <a:stretch/>
        </p:blipFill>
        <p:spPr>
          <a:xfrm>
            <a:off x="-1214280" y="1357200"/>
            <a:ext cx="4991040" cy="333396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17" descr="QsEarth.png"/>
          <p:cNvPicPr/>
          <p:nvPr/>
        </p:nvPicPr>
        <p:blipFill>
          <a:blip r:embed="rId17"/>
          <a:stretch/>
        </p:blipFill>
        <p:spPr>
          <a:xfrm>
            <a:off x="4000680" y="4657680"/>
            <a:ext cx="1271520" cy="1843200"/>
          </a:xfrm>
          <a:prstGeom prst="rect">
            <a:avLst/>
          </a:prstGeom>
          <a:ln w="0">
            <a:noFill/>
          </a:ln>
        </p:spPr>
      </p:pic>
      <p:sp>
        <p:nvSpPr>
          <p:cNvPr id="57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01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2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02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3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3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904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4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205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5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6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806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807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107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108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408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409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09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71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1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311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312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612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613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913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914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214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cp:keywords/>
  <dc:language>en-US</dc:language>
  <cp:lastModifiedBy>王玉清</cp:lastModifiedBy>
  <dcterms:modified xsi:type="dcterms:W3CDTF">2016-02-19T04:39:17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