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2C9-CA34-4035-B547-AA1FFB9D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7E4-3665-4F4A-95F6-1B2797C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4B523-8363-40E1-BDFD-B6946622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F8CAC-F719-4B77-A577-03251ABA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39DD8-5EF4-409F-BB1C-41B13E62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6765E-C557-488F-A8F4-15AB483E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3EC41-FCD5-4623-B7A5-64A2483D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383ED-3114-4FFF-92B3-D2D61ED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624EA-3082-473F-A282-E627624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9D2DE-6031-4FCF-9522-E1EEBFE9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D3B5-C179-4989-AF64-7D57CB9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9D094-9C83-477E-A99A-A6ABB9FA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A19-1DDE-4564-A65C-FE8D465C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3BAE9-F9BF-4368-A912-4EACCDAD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09F77-B88A-46E2-BE97-D6FBE21A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D81F6-CAB8-4A6E-BC61-84248C20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FFB5E-3C03-4AD3-863C-3CAB7E83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274B1-F6D8-4393-842E-65BF78B2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0BDBB-FD71-4687-A2FA-EE216126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87540-9225-4A87-A72B-891746A0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EF955-7F6C-4144-8FDF-D8A6E3D4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DC62E-39FD-46E6-87D2-DBF7AB5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DD13F-93A7-4671-9038-168C2895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E4A0-7804-4FC7-AFD6-5EF95098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C2C8C-15F6-4A54-9D18-7A23DE43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F8BEC-78BD-49DE-8270-7649622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DEEF-60FA-4CD5-993B-E02D1918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55EA9-0D33-4BDE-9912-10C9B62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C6A05-F184-4FC7-927A-48671B0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877DE-4162-4E29-8063-6E5B9313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0953F-A785-431B-8CE4-D584F2C7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25990-6D9F-44A6-95E0-1495F86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B1887-ABD6-47CD-846B-70F3E013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CFB57-6E80-472F-B779-29E498C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CB91-9AD3-4874-9DCB-42D3C9CD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67CD-1441-41F7-96D3-316B58B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3E7F-37DD-4C98-B577-0EC71152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D8A9-92A4-4763-B8F3-D91D643B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3C067-5557-4D7C-86F1-3BF989ED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D7C58-9062-4E6E-8FD8-98DE152F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E7EC5-802D-4FF4-9676-767E28AF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77C7C-5244-4EB5-AECE-11B482C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332CE-C815-4E29-B6A7-C9022A43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C60B8-CA51-4795-ACA8-FEF21FF2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DC294-99E9-4D03-BC18-92DD174F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D3B9-F941-4A5C-9E06-236303FD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73F7E-B144-4FF6-B9D9-66F2075B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23F18-6DE7-49EA-B833-537DE46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94E75-652C-4599-B97F-8A956DF5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499D6-E19D-4A4E-B15E-3E2325A4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56448-304D-4689-B3AC-C887EB09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A131D-A703-4475-8FDE-6396CF14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54AC5-0210-49B6-AA52-654D608D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138EE-06E1-4D9C-966B-FD84EC2C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08E4D-0A0F-4D8B-B42E-B3AA039F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5EA56-29AC-4302-BC0F-30E6B9C0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4C42-4CE6-4020-932E-D5449CCC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F3D2D-5875-4025-84CC-17A4B4C4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B4505-ECD3-41DB-9313-83E4F1EF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31F537-7329-431C-848A-AB1A77E6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44343-DF24-4E90-99F6-97044122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F1CE0-826B-40FD-B804-28B277D1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99C78-549A-47EE-8CB6-6CA1B04C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D4561B-38F6-4AD5-A7B7-F8E2E08A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4E4B-FB50-4D38-9ED6-079C6B27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9638-6CED-4EA3-AA00-C9853D3E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4308-CAFD-4565-8666-4527B12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0E0A-F7FC-459B-9EB8-B96A29E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A9F-9385-466C-94B7-2A4F03F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82E3-FF13-4AB4-84D8-77919B6F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3E22-0E3A-418A-A214-B08FA761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D86C-7A7D-48AF-9601-774D1931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E21F-06CE-4DCB-8A3A-D360DC4C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AEC-3883-43A5-9624-39BE47C6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6F60-5A4E-4AC1-8553-8A38D2A4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9E79-D14D-4644-9112-A1A51EF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47F1-3BB8-4FB3-95A4-A60788DF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DB0E7-7E21-428D-91D2-6BFF8DB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7E3A-095C-4820-AAC8-7529623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DF1-6D4E-4048-BCAB-2E3E05F6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402A3-8FDB-4596-AD96-939D8BB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8201-3FB9-4D74-90BA-3E71A47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1A62-89E9-47CD-AD20-4999A731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64342-747D-4067-AEB8-80E0A0A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E49F4-B4E7-437D-B9A9-E1984C85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669D-F127-4405-BC01-20372636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2E181-A9D9-4A0F-802F-37937EBB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F945-6025-4077-B50A-624625DA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052F-8F44-4EAD-94A5-3FEECD8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B42A-C089-4537-A229-AE6B88B9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7F0-471A-4890-8C55-2795D7E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2F6F1-EF63-411B-B0C8-3B80276D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3CB6F-77FA-41D7-A7E8-55FFE8E8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29DE-FFD3-4249-849A-FB4E9F02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0ECA-904E-4EB1-BF29-6ACFCB0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EE24-F084-4E05-91A9-9D11F653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63BB-7308-49A2-96F7-13AFEA56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0555-74FB-4702-8BC9-E798459F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74CF-0E2E-4F60-9C9D-52B6A490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602E7-7599-4486-BC18-0E54B20A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0770-0C6F-407D-84E8-7419ACAB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31E-C358-40BE-9B3D-E0CE9221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0977C-6326-4DBF-846E-4314D7CF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22CB4-F8E3-4351-9E65-EF0FF3F3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3702D-E2EF-4E4A-810D-D7D4F15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8203-1F8E-4215-A12F-60EA63D6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6EC34-F38B-483A-BEA6-F8D198A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79F60-5E85-4A7F-8868-3F896E0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18D44-572D-41EF-B2CA-BD970DF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42280-F82A-4FBE-9473-E83EA22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77E0-DEB5-415A-A8E4-5778B928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D8BE-DC97-46B3-BA10-0FBB2AD1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BAF-F56E-4137-A14C-543DD7D0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29FE-F0A1-4BAA-8207-3C6C8F8C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DB41-0654-4103-A76D-4692B114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8F436-E6AE-4F10-A173-5B20ADFD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C2F6C-A66A-4408-B0E8-7C92AE2D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2ED4-4481-4661-BA0E-AACC3B64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265EE-CB64-4212-A67A-96C095C2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D3887-CE6A-4EF2-85DE-EF8DFFB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A562-E0D6-420F-94A3-39BCFD2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B37DD-4C66-436E-AC63-3FBD1BC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02C5-A0ED-4C4D-B581-1AF1120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83C1-E1BE-44DE-907A-A8392781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672A6-E9CA-4210-A955-F3C358C6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F459E-324B-4340-9647-ABEBF3DF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9BB81-EFCF-4132-A576-83C11C2C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1F117-6A52-4CB4-A6F1-77DC8FED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3B3A5-13EA-4D8C-9589-2D6C6381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C8D35-6D30-49C7-ACB1-B71A7C7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A63B-6275-4CBA-9AB7-67225079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A64A0-0E7B-4461-AA63-7EF28AFD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B5F8C-88C2-40E9-8EA5-9AEFFE87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79C25-0686-4672-8447-67924333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941-64AC-4140-BA53-4F42C12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814F-9AFE-486C-83B4-85C22E68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8420E-AA1A-422B-ADC3-46F00DE2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82859-E2BC-4D52-9CE6-16891A96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3BBB-1F38-49F2-A86B-77752D18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7059-0039-4CA7-A919-D79FF581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A2462-09BD-4676-90EA-10DF18B2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2D804-4850-4855-A28D-5F461CA1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FF55-0A18-44F3-AFA3-8809600F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DA6A-8270-4E3A-BE7A-89A6A5A7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064B9-989F-4D78-B843-0689B3E0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F8A9-FFF5-46AC-8137-9903C15F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4A685-2819-43A5-AD98-7E94B4F7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3A1AD-918D-4B12-AF26-C332A2E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A2B02-0A4A-418E-A61C-A453A236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73D3C-A40F-46F6-9F8E-0F522C9A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459D2-8681-4555-AE78-CBA9A5B4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051FD-758B-4D35-9586-15E61558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41D0-93DB-4AE8-9C14-64E472DC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DAFA6-5AF1-4D09-BCC6-E5C1AFC9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7EF9E-BB7B-4C24-9553-C4FC7A2A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259C2-7400-4392-ADF1-183C48AD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35EE-2DB6-44C7-8F6D-AFFC864F3E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DB3D-9AED-4A4E-8EE5-03B0FEBE18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D208-2A4A-46B1-8F24-41EA4AE3CC6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1A0A-6195-4334-98EB-DB4FA2DC0C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098-691E-4BC5-9E6A-AB56ECE84DE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F2AD-C638-462F-B993-7172B3E114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049-8302-4177-A2ED-CE404646E0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ACCA-E67A-4134-B5D0-7422CC2F4A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69F-35A9-4B00-AD81-23C05C1506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CDB0-1C8D-4658-9E9E-AB722225EA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4AC-F3C2-42A5-BF87-CBB0C78D890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A1D6-9B70-4D97-BB75-AC6F597EC8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3372-202F-46E0-B3D2-1461DBD00CF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93E-1275-42AD-9318-1207605088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79FD-7712-4F13-9002-EDAAE4EC20C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7CBA-2559-48F6-A8A2-5E2CB959FCC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2637-F1B8-4788-9244-569B87DBB27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C89E-F491-46B6-A535-E86AEB42774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650-0DEF-435A-87F7-FCFBFE9EC10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9CCB-FEEF-47E0-9220-09B90C3522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5299-2745-48AC-A508-A5B05436ADE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F4F0-92D3-4B46-AB90-72FA35A636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AA63-EE15-46CB-A74B-56A60244E33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A08-5AE5-425A-8DE2-083B066372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80A-27C7-497B-B0FD-49203920E89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E6E-2121-47F3-A9FD-731325D21D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그림 3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5200920" cy="59911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4"/>
          <p:cNvSpPr/>
          <p:nvPr/>
        </p:nvSpPr>
        <p:spPr>
          <a:xfrm>
            <a:off x="1589040" y="2667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时尚丽人商务</a:t>
            </a:r>
            <a:r>
              <a:rPr b="0" lang="en-US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PPT</a:t>
            </a:r>
            <a:r>
              <a:rPr b="0" lang="zh-CN" sz="40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99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1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그림 1" descr=""/>
          <p:cNvPicPr/>
          <p:nvPr/>
        </p:nvPicPr>
        <p:blipFill>
          <a:blip r:embed="rId1"/>
          <a:stretch/>
        </p:blipFill>
        <p:spPr>
          <a:xfrm>
            <a:off x="5657760" y="566640"/>
            <a:ext cx="2952720" cy="57913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8"/>
          <p:cNvSpPr/>
          <p:nvPr/>
        </p:nvSpPr>
        <p:spPr>
          <a:xfrm>
            <a:off x="961200" y="2133720"/>
            <a:ext cx="530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T</a:t>
            </a:r>
            <a:r>
              <a:rPr b="0" lang="en-US" sz="7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4"/>
          <p:cNvSpPr/>
          <p:nvPr/>
        </p:nvSpPr>
        <p:spPr>
          <a:xfrm>
            <a:off x="6935760" y="-154080"/>
            <a:ext cx="218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I</a:t>
            </a:r>
            <a:r>
              <a:rPr b="0" lang="en-US" sz="5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nde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그림 1" descr=""/>
          <p:cNvPicPr/>
          <p:nvPr/>
        </p:nvPicPr>
        <p:blipFill>
          <a:blip r:embed="rId1"/>
          <a:stretch/>
        </p:blipFill>
        <p:spPr>
          <a:xfrm>
            <a:off x="5743440" y="2270160"/>
            <a:ext cx="3400560" cy="4362480"/>
          </a:xfrm>
          <a:prstGeom prst="rect">
            <a:avLst/>
          </a:prstGeom>
          <a:ln w="0">
            <a:noFill/>
          </a:ln>
        </p:spPr>
      </p:pic>
      <p:grpSp>
        <p:nvGrpSpPr>
          <p:cNvPr id="540" name="Group 5"/>
          <p:cNvGrpSpPr/>
          <p:nvPr/>
        </p:nvGrpSpPr>
        <p:grpSpPr>
          <a:xfrm>
            <a:off x="2377800" y="1388160"/>
            <a:ext cx="2983680" cy="1013040"/>
            <a:chOff x="2377800" y="1388160"/>
            <a:chExt cx="2983680" cy="1013040"/>
          </a:xfrm>
        </p:grpSpPr>
        <p:pic>
          <p:nvPicPr>
            <p:cNvPr id="541" name="그림 2" descr=""/>
            <p:cNvPicPr/>
            <p:nvPr/>
          </p:nvPicPr>
          <p:blipFill>
            <a:blip r:embed="rId2"/>
            <a:stretch/>
          </p:blipFill>
          <p:spPr>
            <a:xfrm rot="1275600">
              <a:off x="2482920" y="149292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TextBox 6"/>
            <p:cNvSpPr/>
            <p:nvPr/>
          </p:nvSpPr>
          <p:spPr>
            <a:xfrm>
              <a:off x="3191760" y="148428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8"/>
          <p:cNvGrpSpPr/>
          <p:nvPr/>
        </p:nvGrpSpPr>
        <p:grpSpPr>
          <a:xfrm>
            <a:off x="2378160" y="2589840"/>
            <a:ext cx="2983320" cy="1013040"/>
            <a:chOff x="2378160" y="2589840"/>
            <a:chExt cx="2983320" cy="1013040"/>
          </a:xfrm>
        </p:grpSpPr>
        <p:pic>
          <p:nvPicPr>
            <p:cNvPr id="544" name="그림 9" descr=""/>
            <p:cNvPicPr/>
            <p:nvPr/>
          </p:nvPicPr>
          <p:blipFill>
            <a:blip r:embed="rId3"/>
            <a:stretch/>
          </p:blipFill>
          <p:spPr>
            <a:xfrm rot="1275600">
              <a:off x="2482560" y="269460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10"/>
            <p:cNvSpPr/>
            <p:nvPr/>
          </p:nvSpPr>
          <p:spPr>
            <a:xfrm>
              <a:off x="3191760" y="268596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11"/>
          <p:cNvGrpSpPr/>
          <p:nvPr/>
        </p:nvGrpSpPr>
        <p:grpSpPr>
          <a:xfrm>
            <a:off x="2378160" y="3790080"/>
            <a:ext cx="2983320" cy="1013040"/>
            <a:chOff x="2378160" y="3790080"/>
            <a:chExt cx="2983320" cy="1013040"/>
          </a:xfrm>
        </p:grpSpPr>
        <p:pic>
          <p:nvPicPr>
            <p:cNvPr id="547" name="그림 12" descr=""/>
            <p:cNvPicPr/>
            <p:nvPr/>
          </p:nvPicPr>
          <p:blipFill>
            <a:blip r:embed="rId4"/>
            <a:stretch/>
          </p:blipFill>
          <p:spPr>
            <a:xfrm rot="1275600">
              <a:off x="2482560" y="389484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Box 13"/>
            <p:cNvSpPr/>
            <p:nvPr/>
          </p:nvSpPr>
          <p:spPr>
            <a:xfrm>
              <a:off x="3191760" y="388620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14"/>
          <p:cNvGrpSpPr/>
          <p:nvPr/>
        </p:nvGrpSpPr>
        <p:grpSpPr>
          <a:xfrm>
            <a:off x="2378160" y="4990320"/>
            <a:ext cx="2983320" cy="1013040"/>
            <a:chOff x="2378160" y="4990320"/>
            <a:chExt cx="2983320" cy="1013040"/>
          </a:xfrm>
        </p:grpSpPr>
        <p:pic>
          <p:nvPicPr>
            <p:cNvPr id="550" name="그림 15" descr=""/>
            <p:cNvPicPr/>
            <p:nvPr/>
          </p:nvPicPr>
          <p:blipFill>
            <a:blip r:embed="rId5"/>
            <a:stretch/>
          </p:blipFill>
          <p:spPr>
            <a:xfrm rot="1275600">
              <a:off x="2482560" y="5095080"/>
              <a:ext cx="713160" cy="71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16"/>
            <p:cNvSpPr/>
            <p:nvPr/>
          </p:nvSpPr>
          <p:spPr>
            <a:xfrm>
              <a:off x="3191760" y="5086440"/>
              <a:ext cx="216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d5ac2"/>
                  </a:solidFill>
                  <a:latin typeface="-윤고딕330"/>
                  <a:ea typeface="-윤고딕330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Cont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직사각형 17"/>
          <p:cNvSpPr/>
          <p:nvPr/>
        </p:nvSpPr>
        <p:spPr>
          <a:xfrm>
            <a:off x="0" y="1022400"/>
            <a:ext cx="9144000" cy="24768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54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58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62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4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66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74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78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179280" y="63943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직사각형 5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17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107640" y="-27360"/>
            <a:ext cx="1805760" cy="923400"/>
            <a:chOff x="107640" y="-27360"/>
            <a:chExt cx="1805760" cy="923400"/>
          </a:xfrm>
        </p:grpSpPr>
        <p:pic>
          <p:nvPicPr>
            <p:cNvPr id="587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212760" y="7740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Box 6"/>
            <p:cNvSpPr/>
            <p:nvPr/>
          </p:nvSpPr>
          <p:spPr>
            <a:xfrm>
              <a:off x="932400" y="549360"/>
              <a:ext cx="98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그림 3" descr=""/>
          <p:cNvPicPr/>
          <p:nvPr/>
        </p:nvPicPr>
        <p:blipFill>
          <a:blip r:embed="rId2"/>
          <a:stretch/>
        </p:blipFill>
        <p:spPr>
          <a:xfrm>
            <a:off x="8304120" y="5162400"/>
            <a:ext cx="839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Group 2"/>
          <p:cNvGrpSpPr/>
          <p:nvPr/>
        </p:nvGrpSpPr>
        <p:grpSpPr>
          <a:xfrm>
            <a:off x="5943240" y="3211200"/>
            <a:ext cx="3191400" cy="952560"/>
            <a:chOff x="5943240" y="3211200"/>
            <a:chExt cx="3191400" cy="952560"/>
          </a:xfrm>
        </p:grpSpPr>
        <p:pic>
          <p:nvPicPr>
            <p:cNvPr id="591" name="그림 2" descr=""/>
            <p:cNvPicPr/>
            <p:nvPr/>
          </p:nvPicPr>
          <p:blipFill>
            <a:blip r:embed="rId1"/>
            <a:stretch/>
          </p:blipFill>
          <p:spPr>
            <a:xfrm rot="1275600">
              <a:off x="6048360" y="3315960"/>
              <a:ext cx="713160" cy="71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Box 6"/>
            <p:cNvSpPr/>
            <p:nvPr/>
          </p:nvSpPr>
          <p:spPr>
            <a:xfrm>
              <a:off x="6671160" y="3460320"/>
              <a:ext cx="246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직사각형 8"/>
          <p:cNvSpPr/>
          <p:nvPr/>
        </p:nvSpPr>
        <p:spPr>
          <a:xfrm>
            <a:off x="4572000" y="4149720"/>
            <a:ext cx="4587840" cy="246240"/>
          </a:xfrm>
          <a:prstGeom prst="rect">
            <a:avLst/>
          </a:prstGeom>
          <a:solidFill>
            <a:srgbClr val="fd5ac2"/>
          </a:solidFill>
          <a:ln w="25560">
            <a:solidFill>
              <a:srgbClr val="fd5a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그림 1" descr=""/>
          <p:cNvPicPr/>
          <p:nvPr/>
        </p:nvPicPr>
        <p:blipFill>
          <a:blip r:embed="rId2"/>
          <a:stretch/>
        </p:blipFill>
        <p:spPr>
          <a:xfrm>
            <a:off x="4572000" y="1900080"/>
            <a:ext cx="1535040" cy="24130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4"/>
          <p:cNvSpPr/>
          <p:nvPr/>
        </p:nvSpPr>
        <p:spPr>
          <a:xfrm>
            <a:off x="6237360" y="2063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d5ac2"/>
                </a:solidFill>
                <a:latin typeface="-윤고딕330"/>
                <a:ea typeface="-윤고딕330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9:31:00Z</dcterms:created>
  <dc:creator>ppt宝藏</dc:creator>
  <dc:description/>
  <dc:language>en-US</dc:language>
  <cp:lastModifiedBy>a</cp:lastModifiedBy>
  <cp:lastPrinted>1899-12-30T00:00:00Z</cp:lastPrinted>
  <dcterms:modified xsi:type="dcterms:W3CDTF">2015-07-25T03:18:28Z</dcterms:modified>
  <cp:revision>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