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F7C-0370-45E4-BA3C-EA080D40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4E9-7799-432E-B6EF-44D7BB26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D6E-037D-483A-BDD9-9CFA4D0F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56C-6255-4580-8259-7FDEB634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1FE55-AE11-4A1F-A3F0-84BB9918A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BAB7C-475F-42DC-A5E0-9529F586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363E7-8175-4C62-A52F-670008F2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88D11-8B91-452F-9B7E-F507AB7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C8D60-B310-4443-8119-532BB823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A4183-2E5B-41DA-A73E-DB7798A8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FF6B7-729D-4F7C-BCF1-A4B33228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6F1-BB50-47FD-820F-D221EF5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AE889-2AE5-4953-9906-ACF4401F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D6CF3-DEBF-48F8-B018-EB03FEF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25687-94C6-43B9-89FD-725CD4E2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AB8F-91D4-48E8-9851-EE94232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702AA-459C-4EFF-838D-9D89396C8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F1B-E610-4A9E-989C-A9FFF7AC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2F0-1356-4D4D-9CDA-DFC0A286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070-044D-440D-B541-B7540D1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9C5-4259-4075-960B-244B76AE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FC5-80A7-4CEB-82EB-156A181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E4D-8D79-4930-91E1-E582E6F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01B-2814-4F14-8DB9-4A80E09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3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00409">
                  <a:alpha val="60392"/>
                </a:srgbClr>
              </a:gs>
              <a:gs pos="50000">
                <a:srgbClr val="023888">
                  <a:alpha val="60392"/>
                </a:srgbClr>
              </a:gs>
              <a:gs pos="100000">
                <a:srgbClr val="000409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2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00409">
                  <a:alpha val="80000"/>
                </a:srgbClr>
              </a:gs>
              <a:gs pos="50000">
                <a:srgbClr val="023888">
                  <a:alpha val="79215"/>
                </a:srgbClr>
              </a:gs>
              <a:gs pos="100000">
                <a:srgbClr val="00040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1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7" descr="bar_1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601F-1A03-4833-B8FE-A55EE656B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4" descr="bar_1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0276-8CE7-46CF-B067-DA7925DFA2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111040"/>
            <a:ext cx="8001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科技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200" y="2819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85840" y="493776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werPoint2002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Object 9"/>
          <p:cNvGraphicFramePr/>
          <p:nvPr/>
        </p:nvGraphicFramePr>
        <p:xfrm>
          <a:off x="1490760" y="1852560"/>
          <a:ext cx="60865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852560"/>
                    <a:ext cx="60865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270" name="Group 34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71" name="Freeform 5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446e"/>
                </a:gs>
                <a:gs pos="100000">
                  <a:srgbClr val="8793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545c94"/>
                </a:gs>
                <a:gs pos="100000">
                  <a:srgbClr val="8793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50000">
                  <a:srgbClr val="386e2f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d4b14"/>
                </a:gs>
                <a:gs pos="100000">
                  <a:srgbClr val="eba2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1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83f73"/>
                </a:gs>
                <a:gs pos="100000">
                  <a:srgbClr val="2f7a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 flipH="1">
              <a:off x="873000" y="5599080"/>
              <a:ext cx="1657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a5d49d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8793ed"/>
                </a:gs>
                <a:gs pos="50000">
                  <a:srgbClr val="bec4f5"/>
                </a:gs>
                <a:gs pos="100000">
                  <a:srgbClr val="8793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a5d49d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644512"/>
                </a:gs>
                <a:gs pos="100000">
                  <a:srgbClr val="eba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eba22b"/>
                </a:gs>
                <a:gs pos="50000">
                  <a:srgbClr val="f4cc8b"/>
                </a:gs>
                <a:gs pos="100000">
                  <a:srgbClr val="eba2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50000">
                  <a:srgbClr val="8eb7ee"/>
                </a:gs>
                <a:gs pos="100000">
                  <a:srgbClr val="2f7a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Text Box 32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3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08" name="Oval 11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Oval 13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793e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8793ed">
                  <a:alpha val="32156"/>
                </a:srgbClr>
              </a:gs>
              <a:gs pos="100000">
                <a:srgbClr val="3e446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95080"/>
              </a:gs>
              <a:gs pos="50000">
                <a:srgbClr val="8793ed"/>
              </a:gs>
              <a:gs pos="100000">
                <a:srgbClr val="495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6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565d97"/>
              </a:gs>
              <a:gs pos="100000">
                <a:srgbClr val="8793e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27" name="Oval 30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32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30" name="Oval 33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5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33" name="Oval 36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7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38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36" name="Oval 39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0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41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39" name="Oval 42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3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4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62120" y="2057400"/>
          <a:ext cx="7315200" cy="345456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3880"/>
                <a:gridCol w="1932120"/>
                <a:gridCol w="338040"/>
                <a:gridCol w="1795680"/>
              </a:tblGrid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5" name="Text Box 17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7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8" name="AutoShape 47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8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49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50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51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53" name="Oval 52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53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4"/>
            <p:cNvSpPr/>
            <p:nvPr/>
          </p:nvSpPr>
          <p:spPr>
            <a:xfrm>
              <a:off x="2003400" y="2201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55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56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Text Box 57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1320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59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60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1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2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63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65" name="Oval 64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65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66"/>
            <p:cNvSpPr/>
            <p:nvPr/>
          </p:nvSpPr>
          <p:spPr>
            <a:xfrm>
              <a:off x="6728040" y="2201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67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68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69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70"/>
          <p:cNvSpPr/>
          <p:nvPr/>
        </p:nvSpPr>
        <p:spPr>
          <a:xfrm>
            <a:off x="60451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71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72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74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75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76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77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78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79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80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81"/>
          <p:cNvSpPr/>
          <p:nvPr/>
        </p:nvSpPr>
        <p:spPr>
          <a:xfrm>
            <a:off x="3683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04920" y="635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793e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0" y="3205080"/>
            <a:ext cx="9143640" cy="147240"/>
            <a:chOff x="0" y="3205080"/>
            <a:chExt cx="9143640" cy="147240"/>
          </a:xfrm>
        </p:grpSpPr>
        <p:sp>
          <p:nvSpPr>
            <p:cNvPr id="386" name="Rectangle 4"/>
            <p:cNvSpPr/>
            <p:nvPr/>
          </p:nvSpPr>
          <p:spPr>
            <a:xfrm>
              <a:off x="0" y="320508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5"/>
            <p:cNvSpPr/>
            <p:nvPr/>
          </p:nvSpPr>
          <p:spPr>
            <a:xfrm>
              <a:off x="0" y="324540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6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389" name="Group 7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390" name="Freeform 8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393" name="Freeform 11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>
                  <a:gd name="textAreaLeft" fmla="*/ 0 w 1710720"/>
                  <a:gd name="textAreaRight" fmla="*/ 1711080 w 1710720"/>
                  <a:gd name="textAreaTop" fmla="*/ -360 h 378360"/>
                  <a:gd name="textAreaBottom" fmla="*/ 378360 h 378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 flipV="1" rot="3876600">
                <a:off x="6071040" y="4829040"/>
                <a:ext cx="268920" cy="30960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360 h 309600"/>
                  <a:gd name="textAreaBottom" fmla="*/ 310320 h 30960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3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396" name="Oval 14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5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460512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7"/>
            <p:cNvSpPr/>
            <p:nvPr/>
          </p:nvSpPr>
          <p:spPr>
            <a:xfrm>
              <a:off x="460512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8"/>
            <p:cNvSpPr/>
            <p:nvPr/>
          </p:nvSpPr>
          <p:spPr>
            <a:xfrm>
              <a:off x="465984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Group 19"/>
            <p:cNvGrpSpPr/>
            <p:nvPr/>
          </p:nvGrpSpPr>
          <p:grpSpPr>
            <a:xfrm>
              <a:off x="4675320" y="2828880"/>
              <a:ext cx="963000" cy="973080"/>
              <a:chOff x="4675320" y="2828880"/>
              <a:chExt cx="963000" cy="973080"/>
            </a:xfrm>
          </p:grpSpPr>
          <p:sp>
            <p:nvSpPr>
              <p:cNvPr id="402" name="Oval 20"/>
              <p:cNvSpPr/>
              <p:nvPr/>
            </p:nvSpPr>
            <p:spPr>
              <a:xfrm>
                <a:off x="467532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1"/>
              <p:cNvSpPr/>
              <p:nvPr/>
            </p:nvSpPr>
            <p:spPr>
              <a:xfrm>
                <a:off x="468720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2"/>
              <p:cNvSpPr/>
              <p:nvPr/>
            </p:nvSpPr>
            <p:spPr>
              <a:xfrm>
                <a:off x="469764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3"/>
              <p:cNvSpPr/>
              <p:nvPr/>
            </p:nvSpPr>
            <p:spPr>
              <a:xfrm>
                <a:off x="474984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24"/>
          <p:cNvGrpSpPr/>
          <p:nvPr/>
        </p:nvGrpSpPr>
        <p:grpSpPr>
          <a:xfrm>
            <a:off x="6910560" y="3561120"/>
            <a:ext cx="1512360" cy="2383200"/>
            <a:chOff x="6910560" y="3561120"/>
            <a:chExt cx="1512360" cy="2383200"/>
          </a:xfrm>
        </p:grpSpPr>
        <p:grpSp>
          <p:nvGrpSpPr>
            <p:cNvPr id="407" name="Group 25"/>
            <p:cNvGrpSpPr/>
            <p:nvPr/>
          </p:nvGrpSpPr>
          <p:grpSpPr>
            <a:xfrm>
              <a:off x="6910560" y="3719520"/>
              <a:ext cx="1401480" cy="2224800"/>
              <a:chOff x="6910560" y="3719520"/>
              <a:chExt cx="1401480" cy="2224800"/>
            </a:xfrm>
          </p:grpSpPr>
          <p:sp>
            <p:nvSpPr>
              <p:cNvPr id="408" name="Freeform 26"/>
              <p:cNvSpPr/>
              <p:nvPr/>
            </p:nvSpPr>
            <p:spPr>
              <a:xfrm rot="3876600">
                <a:off x="6496560" y="4585320"/>
                <a:ext cx="2228760" cy="493200"/>
              </a:xfrm>
              <a:custGeom>
                <a:avLst/>
                <a:gdLst>
                  <a:gd name="textAreaLeft" fmla="*/ 0 w 2228760"/>
                  <a:gd name="textAreaRight" fmla="*/ 2229120 w 2228760"/>
                  <a:gd name="textAreaTop" fmla="*/ 0 h 493200"/>
                  <a:gd name="textAreaBottom" fmla="*/ 493560 h 4932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7"/>
              <p:cNvSpPr/>
              <p:nvPr/>
            </p:nvSpPr>
            <p:spPr>
              <a:xfrm rot="3876600">
                <a:off x="7836120" y="5447160"/>
                <a:ext cx="350280" cy="40356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28"/>
            <p:cNvGrpSpPr/>
            <p:nvPr/>
          </p:nvGrpSpPr>
          <p:grpSpPr>
            <a:xfrm>
              <a:off x="7347960" y="3561120"/>
              <a:ext cx="1074960" cy="1707480"/>
              <a:chOff x="7347960" y="3561120"/>
              <a:chExt cx="1074960" cy="1707480"/>
            </a:xfrm>
          </p:grpSpPr>
          <p:sp>
            <p:nvSpPr>
              <p:cNvPr id="411" name="Freeform 29"/>
              <p:cNvSpPr/>
              <p:nvPr/>
            </p:nvSpPr>
            <p:spPr>
              <a:xfrm flipV="1" rot="3876600">
                <a:off x="7030080" y="4224960"/>
                <a:ext cx="1710360" cy="378360"/>
              </a:xfrm>
              <a:custGeom>
                <a:avLst/>
                <a:gdLst>
                  <a:gd name="textAreaLeft" fmla="*/ 0 w 1710360"/>
                  <a:gd name="textAreaRight" fmla="*/ 1710720 w 1710360"/>
                  <a:gd name="textAreaTop" fmla="*/ -360 h 378360"/>
                  <a:gd name="textAreaBottom" fmla="*/ 378360 h 378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30"/>
              <p:cNvSpPr/>
              <p:nvPr/>
            </p:nvSpPr>
            <p:spPr>
              <a:xfrm flipV="1" rot="3876600">
                <a:off x="8042760" y="4893840"/>
                <a:ext cx="268560" cy="309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360 h 309600"/>
                  <a:gd name="textAreaBottom" fmla="*/ 310320 h 30960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Oval 31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2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3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4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5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Group 36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19" name="Oval 37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38"/>
            <p:cNvSpPr/>
            <p:nvPr/>
          </p:nvSpPr>
          <p:spPr>
            <a:xfrm>
              <a:off x="6500880" y="2725920"/>
              <a:ext cx="113112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39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40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Group 41"/>
          <p:cNvGrpSpPr/>
          <p:nvPr/>
        </p:nvGrpSpPr>
        <p:grpSpPr>
          <a:xfrm>
            <a:off x="3130920" y="3496320"/>
            <a:ext cx="1511280" cy="2382840"/>
            <a:chOff x="3130920" y="3496320"/>
            <a:chExt cx="1511280" cy="2382840"/>
          </a:xfrm>
        </p:grpSpPr>
        <p:grpSp>
          <p:nvGrpSpPr>
            <p:cNvPr id="424" name="Group 42"/>
            <p:cNvGrpSpPr/>
            <p:nvPr/>
          </p:nvGrpSpPr>
          <p:grpSpPr>
            <a:xfrm>
              <a:off x="3130920" y="3654360"/>
              <a:ext cx="1400760" cy="2224800"/>
              <a:chOff x="3130920" y="3654360"/>
              <a:chExt cx="1400760" cy="2224800"/>
            </a:xfrm>
          </p:grpSpPr>
          <p:sp>
            <p:nvSpPr>
              <p:cNvPr id="425" name="Freeform 43"/>
              <p:cNvSpPr/>
              <p:nvPr/>
            </p:nvSpPr>
            <p:spPr>
              <a:xfrm rot="3876600">
                <a:off x="2716560" y="4520520"/>
                <a:ext cx="2229120" cy="49248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492480"/>
                  <a:gd name="textAreaBottom" fmla="*/ 492840 h 4924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44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45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428" name="Freeform 46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>
                  <a:gd name="textAreaLeft" fmla="*/ 0 w 1710720"/>
                  <a:gd name="textAreaRight" fmla="*/ 1711080 w 1710720"/>
                  <a:gd name="textAreaTop" fmla="*/ -360 h 377640"/>
                  <a:gd name="textAreaBottom" fmla="*/ 377640 h 37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47"/>
              <p:cNvSpPr/>
              <p:nvPr/>
            </p:nvSpPr>
            <p:spPr>
              <a:xfrm flipV="1" rot="3876600">
                <a:off x="4262040" y="4829400"/>
                <a:ext cx="268920" cy="30888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360 h 308880"/>
                  <a:gd name="textAreaBottom" fmla="*/ 309600 h 308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48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431" name="Oval 49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50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51"/>
            <p:cNvSpPr/>
            <p:nvPr/>
          </p:nvSpPr>
          <p:spPr>
            <a:xfrm>
              <a:off x="279540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52"/>
            <p:cNvSpPr/>
            <p:nvPr/>
          </p:nvSpPr>
          <p:spPr>
            <a:xfrm>
              <a:off x="279540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53"/>
            <p:cNvSpPr/>
            <p:nvPr/>
          </p:nvSpPr>
          <p:spPr>
            <a:xfrm>
              <a:off x="285012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54"/>
            <p:cNvGrpSpPr/>
            <p:nvPr/>
          </p:nvGrpSpPr>
          <p:grpSpPr>
            <a:xfrm>
              <a:off x="2865600" y="2828880"/>
              <a:ext cx="963000" cy="973080"/>
              <a:chOff x="2865600" y="2828880"/>
              <a:chExt cx="963000" cy="973080"/>
            </a:xfrm>
          </p:grpSpPr>
          <p:sp>
            <p:nvSpPr>
              <p:cNvPr id="437" name="Oval 55"/>
              <p:cNvSpPr/>
              <p:nvPr/>
            </p:nvSpPr>
            <p:spPr>
              <a:xfrm>
                <a:off x="286560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56"/>
              <p:cNvSpPr/>
              <p:nvPr/>
            </p:nvSpPr>
            <p:spPr>
              <a:xfrm>
                <a:off x="287748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Oval 57"/>
              <p:cNvSpPr/>
              <p:nvPr/>
            </p:nvSpPr>
            <p:spPr>
              <a:xfrm>
                <a:off x="288792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58"/>
              <p:cNvSpPr/>
              <p:nvPr/>
            </p:nvSpPr>
            <p:spPr>
              <a:xfrm>
                <a:off x="294012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59"/>
          <p:cNvGrpSpPr/>
          <p:nvPr/>
        </p:nvGrpSpPr>
        <p:grpSpPr>
          <a:xfrm>
            <a:off x="1379880" y="3496320"/>
            <a:ext cx="1511280" cy="2382840"/>
            <a:chOff x="1379880" y="3496320"/>
            <a:chExt cx="1511280" cy="2382840"/>
          </a:xfrm>
        </p:grpSpPr>
        <p:grpSp>
          <p:nvGrpSpPr>
            <p:cNvPr id="442" name="Group 60"/>
            <p:cNvGrpSpPr/>
            <p:nvPr/>
          </p:nvGrpSpPr>
          <p:grpSpPr>
            <a:xfrm>
              <a:off x="1379880" y="3654360"/>
              <a:ext cx="1400760" cy="2224800"/>
              <a:chOff x="1379880" y="3654360"/>
              <a:chExt cx="1400760" cy="2224800"/>
            </a:xfrm>
          </p:grpSpPr>
          <p:sp>
            <p:nvSpPr>
              <p:cNvPr id="443" name="Freeform 61"/>
              <p:cNvSpPr/>
              <p:nvPr/>
            </p:nvSpPr>
            <p:spPr>
              <a:xfrm rot="3876600">
                <a:off x="965520" y="4520520"/>
                <a:ext cx="2229120" cy="49248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492480"/>
                  <a:gd name="textAreaBottom" fmla="*/ 492840 h 4924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62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3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446" name="Freeform 64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>
                  <a:gd name="textAreaLeft" fmla="*/ 0 w 1710720"/>
                  <a:gd name="textAreaRight" fmla="*/ 1711080 w 1710720"/>
                  <a:gd name="textAreaTop" fmla="*/ -360 h 377640"/>
                  <a:gd name="textAreaBottom" fmla="*/ 377640 h 37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65"/>
              <p:cNvSpPr/>
              <p:nvPr/>
            </p:nvSpPr>
            <p:spPr>
              <a:xfrm flipV="1" rot="3876600">
                <a:off x="2511000" y="4829400"/>
                <a:ext cx="268920" cy="30888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360 h 308880"/>
                  <a:gd name="textAreaBottom" fmla="*/ 309600 h 308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66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449" name="Oval 67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68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69"/>
            <p:cNvSpPr/>
            <p:nvPr/>
          </p:nvSpPr>
          <p:spPr>
            <a:xfrm>
              <a:off x="104436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0"/>
            <p:cNvSpPr/>
            <p:nvPr/>
          </p:nvSpPr>
          <p:spPr>
            <a:xfrm>
              <a:off x="104436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71"/>
            <p:cNvSpPr/>
            <p:nvPr/>
          </p:nvSpPr>
          <p:spPr>
            <a:xfrm>
              <a:off x="109908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72"/>
            <p:cNvGrpSpPr/>
            <p:nvPr/>
          </p:nvGrpSpPr>
          <p:grpSpPr>
            <a:xfrm>
              <a:off x="1114560" y="2828880"/>
              <a:ext cx="963000" cy="973080"/>
              <a:chOff x="1114560" y="2828880"/>
              <a:chExt cx="963000" cy="973080"/>
            </a:xfrm>
          </p:grpSpPr>
          <p:sp>
            <p:nvSpPr>
              <p:cNvPr id="455" name="Oval 73"/>
              <p:cNvSpPr/>
              <p:nvPr/>
            </p:nvSpPr>
            <p:spPr>
              <a:xfrm>
                <a:off x="111456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74"/>
              <p:cNvSpPr/>
              <p:nvPr/>
            </p:nvSpPr>
            <p:spPr>
              <a:xfrm>
                <a:off x="112644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75"/>
              <p:cNvSpPr/>
              <p:nvPr/>
            </p:nvSpPr>
            <p:spPr>
              <a:xfrm>
                <a:off x="113688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76"/>
              <p:cNvSpPr/>
              <p:nvPr/>
            </p:nvSpPr>
            <p:spPr>
              <a:xfrm>
                <a:off x="118908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Text Box 77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8"/>
          <p:cNvSpPr/>
          <p:nvPr/>
        </p:nvSpPr>
        <p:spPr>
          <a:xfrm rot="3925800">
            <a:off x="1794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79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80"/>
          <p:cNvSpPr/>
          <p:nvPr/>
        </p:nvSpPr>
        <p:spPr>
          <a:xfrm rot="3925800">
            <a:off x="3540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1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82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83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84"/>
          <p:cNvSpPr/>
          <p:nvPr/>
        </p:nvSpPr>
        <p:spPr>
          <a:xfrm rot="3925800">
            <a:off x="7312680" y="4333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85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86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87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8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1" name="AutoShape 89"/>
          <p:cNvCxnSpPr>
            <a:stCxn id="467" idx="3"/>
            <a:endCxn id="468" idx="1"/>
          </p:cNvCxnSpPr>
          <p:nvPr/>
        </p:nvCxnSpPr>
        <p:spPr>
          <a:xfrm>
            <a:off x="1987560" y="220464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AutoShape 90"/>
          <p:cNvCxnSpPr>
            <a:stCxn id="468" idx="3"/>
            <a:endCxn id="469" idx="1"/>
          </p:cNvCxnSpPr>
          <p:nvPr/>
        </p:nvCxnSpPr>
        <p:spPr>
          <a:xfrm>
            <a:off x="3746160" y="2204640"/>
            <a:ext cx="981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3" name="AutoShape 91"/>
          <p:cNvCxnSpPr>
            <a:stCxn id="469" idx="3"/>
            <a:endCxn id="470" idx="1"/>
          </p:cNvCxnSpPr>
          <p:nvPr/>
        </p:nvCxnSpPr>
        <p:spPr>
          <a:xfrm>
            <a:off x="5495400" y="2204640"/>
            <a:ext cx="98820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4" name="Text Box 92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93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78" name="AutoShape 4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2f7ad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5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ab14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6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793e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AutoShape 7"/>
            <p:cNvSpPr/>
            <p:nvPr/>
          </p:nvSpPr>
          <p:spPr>
            <a:xfrm>
              <a:off x="128340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8793e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8"/>
            <p:cNvSpPr/>
            <p:nvPr/>
          </p:nvSpPr>
          <p:spPr>
            <a:xfrm>
              <a:off x="348588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5ab14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9"/>
            <p:cNvSpPr/>
            <p:nvPr/>
          </p:nvSpPr>
          <p:spPr>
            <a:xfrm>
              <a:off x="569736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2f7ad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492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494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Rectangle 14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00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06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35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522" name="Group 40"/>
          <p:cNvGrpSpPr/>
          <p:nvPr/>
        </p:nvGrpSpPr>
        <p:grpSpPr>
          <a:xfrm>
            <a:off x="1066680" y="1828800"/>
            <a:ext cx="6782040" cy="4006440"/>
            <a:chOff x="1066680" y="1828800"/>
            <a:chExt cx="6782040" cy="4006440"/>
          </a:xfrm>
        </p:grpSpPr>
        <p:sp>
          <p:nvSpPr>
            <p:cNvPr id="523" name="AutoShape 41"/>
            <p:cNvSpPr/>
            <p:nvPr/>
          </p:nvSpPr>
          <p:spPr>
            <a:xfrm>
              <a:off x="10666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4" name="Object 42"/>
            <p:cNvGraphicFramePr/>
            <p:nvPr/>
          </p:nvGraphicFramePr>
          <p:xfrm>
            <a:off x="1251360" y="244512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5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44512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6" name="AutoShape 43"/>
            <p:cNvSpPr/>
            <p:nvPr/>
          </p:nvSpPr>
          <p:spPr>
            <a:xfrm>
              <a:off x="137484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76d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44"/>
            <p:cNvSpPr/>
            <p:nvPr/>
          </p:nvSpPr>
          <p:spPr>
            <a:xfrm>
              <a:off x="14983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45"/>
            <p:cNvSpPr/>
            <p:nvPr/>
          </p:nvSpPr>
          <p:spPr>
            <a:xfrm>
              <a:off x="384084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46"/>
            <p:cNvSpPr/>
            <p:nvPr/>
          </p:nvSpPr>
          <p:spPr>
            <a:xfrm>
              <a:off x="451944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30" name="Object 47"/>
            <p:cNvGraphicFramePr/>
            <p:nvPr/>
          </p:nvGraphicFramePr>
          <p:xfrm>
            <a:off x="4704120" y="244512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1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44512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2" name="AutoShape 48"/>
            <p:cNvSpPr/>
            <p:nvPr/>
          </p:nvSpPr>
          <p:spPr>
            <a:xfrm>
              <a:off x="482760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a1dc"/>
                </a:gs>
                <a:gs pos="100000">
                  <a:srgbClr val="0633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49"/>
            <p:cNvSpPr/>
            <p:nvPr/>
          </p:nvSpPr>
          <p:spPr>
            <a:xfrm>
              <a:off x="495072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50"/>
            <p:cNvSpPr/>
            <p:nvPr/>
          </p:nvSpPr>
          <p:spPr>
            <a:xfrm>
              <a:off x="729360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Text Box 5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8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02388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rc 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rc 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rc 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rc 1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2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11a3f"/>
              </a:gs>
              <a:gs pos="100000">
                <a:srgbClr val="02388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21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2" name="Text Box 12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2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23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24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6" name="AutoShape 125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26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127"/>
          <p:cNvSpPr/>
          <p:nvPr/>
        </p:nvSpPr>
        <p:spPr>
          <a:xfrm>
            <a:off x="3012480" y="19051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28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sp>
          <p:nvSpPr>
            <p:cNvPr id="100" name="Line 129"/>
            <p:cNvSpPr/>
            <p:nvPr/>
          </p:nvSpPr>
          <p:spPr>
            <a:xfrm>
              <a:off x="2209680" y="3273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130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02" name="AutoShape 131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32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Text Box 133"/>
            <p:cNvSpPr/>
            <p:nvPr/>
          </p:nvSpPr>
          <p:spPr>
            <a:xfrm>
              <a:off x="3012480" y="28195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134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sp>
          <p:nvSpPr>
            <p:cNvPr id="106" name="Line 135"/>
            <p:cNvSpPr/>
            <p:nvPr/>
          </p:nvSpPr>
          <p:spPr>
            <a:xfrm>
              <a:off x="2209680" y="419076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136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08" name="AutoShape 137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138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5a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139"/>
            <p:cNvSpPr/>
            <p:nvPr/>
          </p:nvSpPr>
          <p:spPr>
            <a:xfrm>
              <a:off x="3012480" y="373680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140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sp>
          <p:nvSpPr>
            <p:cNvPr id="112" name="Line 141"/>
            <p:cNvSpPr/>
            <p:nvPr/>
          </p:nvSpPr>
          <p:spPr>
            <a:xfrm>
              <a:off x="2209680" y="51022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142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14" name="AutoShape 143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144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Text Box 145"/>
            <p:cNvSpPr/>
            <p:nvPr/>
          </p:nvSpPr>
          <p:spPr>
            <a:xfrm>
              <a:off x="3012480" y="46483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7"/>
          <p:cNvSpPr txBox="1"/>
          <p:nvPr/>
        </p:nvSpPr>
        <p:spPr>
          <a:xfrm>
            <a:off x="4572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2388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23888"/>
                  </a:gs>
                  <a:gs pos="100000">
                    <a:srgbClr val="2f7ad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609480" y="2819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885840" y="493776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79246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3" name="Freeform 4"/>
            <p:cNvSpPr/>
            <p:nvPr/>
          </p:nvSpPr>
          <p:spPr>
            <a:xfrm>
              <a:off x="1320840" y="2155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a0d297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6" name="Freeform 7"/>
            <p:cNvSpPr/>
            <p:nvPr/>
          </p:nvSpPr>
          <p:spPr>
            <a:xfrm>
              <a:off x="1320840" y="3298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793ed"/>
                </a:gs>
                <a:gs pos="50000">
                  <a:srgbClr val="bac1f5"/>
                </a:gs>
                <a:gs pos="100000">
                  <a:srgbClr val="8793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9" name="Freeform 10"/>
            <p:cNvSpPr/>
            <p:nvPr/>
          </p:nvSpPr>
          <p:spPr>
            <a:xfrm>
              <a:off x="1320840" y="4441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50000">
                  <a:srgbClr val="b9e9fa"/>
                </a:gs>
                <a:gs pos="100000">
                  <a:srgbClr val="85d9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32" name="Freeform 13"/>
            <p:cNvSpPr/>
            <p:nvPr/>
          </p:nvSpPr>
          <p:spPr>
            <a:xfrm>
              <a:off x="1320840" y="5584680"/>
              <a:ext cx="1520640" cy="20448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ba22b"/>
                </a:gs>
                <a:gs pos="50000">
                  <a:srgbClr val="f3c985"/>
                </a:gs>
                <a:gs pos="100000">
                  <a:srgbClr val="eba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4" name="AutoShape 15"/>
          <p:cNvCxnSpPr>
            <a:stCxn id="123" idx="11"/>
            <a:endCxn id="127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5" name="AutoShape 16"/>
          <p:cNvCxnSpPr>
            <a:stCxn id="126" idx="11"/>
            <a:endCxn id="130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6" name="AutoShape 17"/>
          <p:cNvCxnSpPr>
            <a:stCxn id="129" idx="11"/>
            <a:endCxn id="133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7" name="Line 18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3616200" y="1752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3616200" y="2895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616200" y="4038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3616200" y="5181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530680" y="3584520"/>
            <a:ext cx="1941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309680" y="35892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793ed"/>
              </a:gs>
              <a:gs pos="100000">
                <a:srgbClr val="d9dd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grpSp>
          <p:nvGrpSpPr>
            <p:cNvPr id="155" name="Group 12"/>
            <p:cNvGrpSpPr/>
            <p:nvPr/>
          </p:nvGrpSpPr>
          <p:grpSpPr>
            <a:xfrm>
              <a:off x="3016080" y="1888560"/>
              <a:ext cx="2827080" cy="1392120"/>
              <a:chOff x="3016080" y="1888560"/>
              <a:chExt cx="2827080" cy="1392120"/>
            </a:xfrm>
          </p:grpSpPr>
          <p:sp>
            <p:nvSpPr>
              <p:cNvPr id="156" name="Oval 13"/>
              <p:cNvSpPr/>
              <p:nvPr/>
            </p:nvSpPr>
            <p:spPr>
              <a:xfrm>
                <a:off x="304668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85d9f7"/>
                  </a:gs>
                  <a:gs pos="100000">
                    <a:srgbClr val="416a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14"/>
              <p:cNvSpPr/>
              <p:nvPr/>
            </p:nvSpPr>
            <p:spPr>
              <a:xfrm>
                <a:off x="3016080" y="18885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c9eefb"/>
                  </a:gs>
                  <a:gs pos="100000">
                    <a:srgbClr val="85d9f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Oval 15"/>
            <p:cNvSpPr/>
            <p:nvPr/>
          </p:nvSpPr>
          <p:spPr>
            <a:xfrm>
              <a:off x="3149280" y="17524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3182400" y="17596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3207600" y="17722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3331800" y="17978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Text Box 19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144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53341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34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5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36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7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8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40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1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176" name="Oval 42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43"/>
            <p:cNvSpPr/>
            <p:nvPr/>
          </p:nvSpPr>
          <p:spPr>
            <a:xfrm>
              <a:off x="12668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44"/>
            <p:cNvSpPr/>
            <p:nvPr/>
          </p:nvSpPr>
          <p:spPr>
            <a:xfrm>
              <a:off x="12801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45"/>
            <p:cNvSpPr/>
            <p:nvPr/>
          </p:nvSpPr>
          <p:spPr>
            <a:xfrm>
              <a:off x="13518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Oval 47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9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50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51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2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3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4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55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56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57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8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3589200" y="40528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3589200" y="3548160"/>
            <a:ext cx="1584360" cy="57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589200" y="30430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084560" y="326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084560" y="376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84560" y="4270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940120" y="2827440"/>
            <a:ext cx="504720" cy="19447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1066680" y="2322360"/>
            <a:ext cx="1729080" cy="29545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05">
                <a:moveTo>
                  <a:pt x="3600" y="0"/>
                </a:moveTo>
                <a:arcTo wR="3600" hR="3600" stAng="16200000" swAng="-5400000"/>
                <a:lnTo>
                  <a:pt x="0" y="33305"/>
                </a:lnTo>
                <a:arcTo wR="3600" hR="3600" stAng="10800000" swAng="-5400000"/>
                <a:lnTo>
                  <a:pt x="18000" y="3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13832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5967360" y="2322360"/>
            <a:ext cx="1728720" cy="2954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13">
                <a:moveTo>
                  <a:pt x="3600" y="0"/>
                </a:moveTo>
                <a:arcTo wR="3600" hR="3600" stAng="16200000" swAng="-5400000"/>
                <a:lnTo>
                  <a:pt x="0" y="33313"/>
                </a:lnTo>
                <a:arcTo wR="3600" hR="3600" stAng="10800000" swAng="-5400000"/>
                <a:lnTo>
                  <a:pt x="18000" y="36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03900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5321160" y="2827440"/>
            <a:ext cx="501840" cy="19447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767676">
                  <a:alpha val="1215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3124080" y="1828800"/>
            <a:ext cx="2595600" cy="50472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e446e"/>
              </a:gs>
              <a:gs pos="50000">
                <a:srgbClr val="8793ed"/>
              </a:gs>
              <a:gs pos="100000">
                <a:srgbClr val="3e446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3557520" y="2467080"/>
            <a:ext cx="1657440" cy="504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4062240" y="19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3154320" y="5276880"/>
            <a:ext cx="2594160" cy="576360"/>
          </a:xfrm>
          <a:prstGeom prst="can">
            <a:avLst>
              <a:gd name="adj" fmla="val 32032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4062240" y="5495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3537000" y="4700520"/>
            <a:ext cx="1658880" cy="4968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fffff">
                  <a:alpha val="1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04920" y="1676520"/>
            <a:ext cx="5867280" cy="4495680"/>
          </a:xfrm>
          <a:prstGeom prst="rightArrow">
            <a:avLst>
              <a:gd name="adj1" fmla="val 79306"/>
              <a:gd name="adj2" fmla="val 32325"/>
            </a:avLst>
          </a:prstGeom>
          <a:gradFill rotWithShape="0">
            <a:gsLst>
              <a:gs pos="0">
                <a:srgbClr val="023888"/>
              </a:gs>
              <a:gs pos="100000">
                <a:srgbClr val="2f7a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76c2e"/>
              </a:gs>
              <a:gs pos="50000">
                <a:srgbClr val="5ab14b"/>
              </a:gs>
              <a:gs pos="100000">
                <a:srgbClr val="376c2e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5990"/>
              </a:gs>
              <a:gs pos="50000">
                <a:srgbClr val="8793ed"/>
              </a:gs>
              <a:gs pos="100000">
                <a:srgbClr val="52599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621a"/>
              </a:gs>
              <a:gs pos="50000">
                <a:srgbClr val="eba22b"/>
              </a:gs>
              <a:gs pos="100000">
                <a:srgbClr val="8f621a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941560" y="3119400"/>
            <a:ext cx="474840" cy="546120"/>
          </a:xfrm>
          <a:custGeom>
            <a:avLst/>
            <a:gdLst>
              <a:gd name="textAreaLeft" fmla="*/ 0 w 474840"/>
              <a:gd name="textAreaRight" fmla="*/ 475200 w 474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508720" y="3119400"/>
            <a:ext cx="474480" cy="546120"/>
          </a:xfrm>
          <a:custGeom>
            <a:avLst/>
            <a:gdLst>
              <a:gd name="textAreaLeft" fmla="*/ 0 w 474480"/>
              <a:gd name="textAreaRight" fmla="*/ 474840 w 4744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793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793e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8793e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6181560" y="250200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495080"/>
              </a:gs>
              <a:gs pos="50000">
                <a:srgbClr val="8793ed"/>
              </a:gs>
              <a:gs pos="100000">
                <a:srgbClr val="495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6211800" y="2513160"/>
            <a:ext cx="1762200" cy="1779480"/>
          </a:xfrm>
          <a:prstGeom prst="ellipse">
            <a:avLst/>
          </a:prstGeom>
          <a:gradFill rotWithShape="0">
            <a:gsLst>
              <a:gs pos="0">
                <a:srgbClr val="565d97"/>
              </a:gs>
              <a:gs pos="100000">
                <a:srgbClr val="8793e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276960" y="2590920"/>
            <a:ext cx="15876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ba22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eba22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1047600" y="2495520"/>
            <a:ext cx="1762200" cy="1781280"/>
          </a:xfrm>
          <a:prstGeom prst="ellipse">
            <a:avLst/>
          </a:prstGeom>
          <a:gradFill rotWithShape="0">
            <a:gsLst>
              <a:gs pos="0">
                <a:srgbClr val="7f5817"/>
              </a:gs>
              <a:gs pos="50000">
                <a:srgbClr val="eba22b"/>
              </a:gs>
              <a:gs pos="100000">
                <a:srgbClr val="7f581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047600" y="2498760"/>
            <a:ext cx="1764000" cy="1781280"/>
          </a:xfrm>
          <a:prstGeom prst="ellipse">
            <a:avLst/>
          </a:prstGeom>
          <a:gradFill rotWithShape="0">
            <a:gsLst>
              <a:gs pos="0">
                <a:srgbClr val="95671b"/>
              </a:gs>
              <a:gs pos="100000">
                <a:srgbClr val="eba22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1135080" y="2584440"/>
            <a:ext cx="1585800" cy="1603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16"/>
          <p:cNvGrpSpPr/>
          <p:nvPr/>
        </p:nvGrpSpPr>
        <p:grpSpPr>
          <a:xfrm>
            <a:off x="1160640" y="2608200"/>
            <a:ext cx="1535040" cy="1552680"/>
            <a:chOff x="1160640" y="2608200"/>
            <a:chExt cx="1535040" cy="1552680"/>
          </a:xfrm>
        </p:grpSpPr>
        <p:sp>
          <p:nvSpPr>
            <p:cNvPr id="236" name="Oval 17"/>
            <p:cNvSpPr/>
            <p:nvPr/>
          </p:nvSpPr>
          <p:spPr>
            <a:xfrm>
              <a:off x="1160640" y="2608200"/>
              <a:ext cx="15350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8"/>
            <p:cNvSpPr/>
            <p:nvPr/>
          </p:nvSpPr>
          <p:spPr>
            <a:xfrm>
              <a:off x="1180080" y="2616840"/>
              <a:ext cx="14983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1195920" y="2631600"/>
              <a:ext cx="14245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127944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1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3614760" y="2502000"/>
            <a:ext cx="1763640" cy="17809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3616200" y="250524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3703680" y="2590920"/>
            <a:ext cx="15858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26"/>
          <p:cNvGrpSpPr/>
          <p:nvPr/>
        </p:nvGrpSpPr>
        <p:grpSpPr>
          <a:xfrm>
            <a:off x="3728880" y="2608200"/>
            <a:ext cx="1535400" cy="1552680"/>
            <a:chOff x="3728880" y="2608200"/>
            <a:chExt cx="1535400" cy="1552680"/>
          </a:xfrm>
        </p:grpSpPr>
        <p:sp>
          <p:nvSpPr>
            <p:cNvPr id="246" name="Oval 27"/>
            <p:cNvSpPr/>
            <p:nvPr/>
          </p:nvSpPr>
          <p:spPr>
            <a:xfrm>
              <a:off x="3728880" y="2608200"/>
              <a:ext cx="153540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8"/>
            <p:cNvSpPr/>
            <p:nvPr/>
          </p:nvSpPr>
          <p:spPr>
            <a:xfrm>
              <a:off x="3748320" y="2616840"/>
              <a:ext cx="149868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9"/>
            <p:cNvSpPr/>
            <p:nvPr/>
          </p:nvSpPr>
          <p:spPr>
            <a:xfrm>
              <a:off x="3764160" y="2631600"/>
              <a:ext cx="142488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30"/>
            <p:cNvSpPr/>
            <p:nvPr/>
          </p:nvSpPr>
          <p:spPr>
            <a:xfrm>
              <a:off x="384768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31"/>
          <p:cNvGrpSpPr/>
          <p:nvPr/>
        </p:nvGrpSpPr>
        <p:grpSpPr>
          <a:xfrm>
            <a:off x="6305400" y="2608200"/>
            <a:ext cx="1536840" cy="1552680"/>
            <a:chOff x="6305400" y="2608200"/>
            <a:chExt cx="1536840" cy="1552680"/>
          </a:xfrm>
        </p:grpSpPr>
        <p:sp>
          <p:nvSpPr>
            <p:cNvPr id="251" name="Oval 32"/>
            <p:cNvSpPr/>
            <p:nvPr/>
          </p:nvSpPr>
          <p:spPr>
            <a:xfrm>
              <a:off x="6305400" y="2608200"/>
              <a:ext cx="15368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33"/>
            <p:cNvSpPr/>
            <p:nvPr/>
          </p:nvSpPr>
          <p:spPr>
            <a:xfrm>
              <a:off x="6324840" y="2616840"/>
              <a:ext cx="15001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34"/>
            <p:cNvSpPr/>
            <p:nvPr/>
          </p:nvSpPr>
          <p:spPr>
            <a:xfrm>
              <a:off x="6340680" y="2631600"/>
              <a:ext cx="14263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35"/>
            <p:cNvSpPr/>
            <p:nvPr/>
          </p:nvSpPr>
          <p:spPr>
            <a:xfrm>
              <a:off x="6424200" y="2671200"/>
              <a:ext cx="126792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AutoShape 36"/>
          <p:cNvSpPr/>
          <p:nvPr/>
        </p:nvSpPr>
        <p:spPr>
          <a:xfrm>
            <a:off x="96048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37"/>
          <p:cNvSpPr/>
          <p:nvPr/>
        </p:nvSpPr>
        <p:spPr>
          <a:xfrm>
            <a:off x="352584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8"/>
          <p:cNvSpPr/>
          <p:nvPr/>
        </p:nvSpPr>
        <p:spPr>
          <a:xfrm>
            <a:off x="6108840" y="4768920"/>
            <a:ext cx="193176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1544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0"/>
          <p:cNvSpPr/>
          <p:nvPr/>
        </p:nvSpPr>
        <p:spPr>
          <a:xfrm>
            <a:off x="411912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6692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17600" y="6394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793e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18:53Z</dcterms:created>
  <dc:creator>ppt宝藏</dc:creator>
  <dc:description/>
  <dc:language>en-US</dc:language>
  <cp:lastModifiedBy>a</cp:lastModifiedBy>
  <dcterms:modified xsi:type="dcterms:W3CDTF">2015-07-25T07:24:14Z</dcterms:modified>
  <cp:revision>8</cp:revision>
  <dc:subject/>
  <dc:title>www.pptbz.com</dc:title>
</cp:coreProperties>
</file>