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A92-F46A-4BF7-8CAB-D8FBF07D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462-F06C-41DF-9409-4C638313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A53-5492-4C18-AA0D-3806691D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87A-DA38-4CD7-83A9-2A2E4B43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FBC-8FBE-4C2A-8B92-934C4AC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BEE-3B1F-4F6A-A468-48CCBB1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505-1646-4129-87A6-82BF058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74E-475B-4DCD-8BC0-291CED43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5C5-5591-418A-9B14-D8201BB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6C2-964A-4C12-99F6-C2717415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24D-9F3A-4B99-9AF1-F3129EA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E26-99DC-4A2F-B63E-66589FD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5CCB-882E-450C-9D11-13D1A61189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8112-32BB-4724-99C9-39DC069098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1492200" y="2570040"/>
            <a:ext cx="7508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c0c0c"/>
                </a:solidFill>
                <a:latin typeface="微软雅黑"/>
                <a:ea typeface="微软雅黑"/>
              </a:rPr>
              <a:t>商务市场动态分析报告</a:t>
            </a:r>
            <a:r>
              <a:rPr b="1" i="1" lang="en-US" sz="4000" spc="-1" strike="noStrike">
                <a:solidFill>
                  <a:srgbClr val="0c0c0c"/>
                </a:solidFill>
                <a:latin typeface="微软雅黑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c0c0c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44520" y="5280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36F6-05E7-4629-ADEB-EC2A54B2E6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7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5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0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5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0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A388-580F-4DE7-B1E6-FA6AA0F78E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97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2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06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09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2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498680" y="5394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5307-4427-46E0-A686-FD572B12EC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2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5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38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1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4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4C5-531B-416F-A292-7E823FBEE6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50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>Windows 用户</dc:creator>
  <dc:description/>
  <cp:keywords/>
  <dc:language>en-US</dc:language>
  <cp:lastModifiedBy>a</cp:lastModifiedBy>
  <dcterms:modified xsi:type="dcterms:W3CDTF">2015-07-25T02:07:4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