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012-1EBA-4D9C-BCBB-BF0E6158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BCD-0994-42CC-A34D-64D05B18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D3C-0F64-4F57-8DF4-0947F578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F34-78A2-4069-B673-61837D4D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1AF-937E-459C-ADEA-44A921AD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03D-D15A-46DC-BD66-3A145226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080-8845-4AA2-BC84-A55FE895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475-A58C-47C9-A6B3-8715F30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BE3-56D8-4F94-8030-63311F83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CC6-13CD-44AC-BF8C-CD02AD4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524-5428-4851-BF3E-2FF0B5D6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DE8-0AB7-496C-B207-11438F31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2B80D6-BFB9-4475-ADDA-85BEBDDB73B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7badhabits-1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1383840" y="272520"/>
            <a:ext cx="6375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商务演讲技巧总结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7badhabits-2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7badhabits-3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7badhabits-4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7badhabits-5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7badhabits-6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41200" y="65232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7badhabits-7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7badhabits-8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</TotalTime>
  <Application>LibreOffice/7.4.7.2$Linux_X86_64 LibreOffice_project/40$Build-2</Application>
  <AppVersion>15.0000</AppVersion>
  <Words>30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7T07:09:25Z</dcterms:created>
  <dc:creator>Administrator</dc:creator>
  <dc:description/>
  <dc:language>en-US</dc:language>
  <cp:lastModifiedBy>王玉清</cp:lastModifiedBy>
  <dcterms:modified xsi:type="dcterms:W3CDTF">2016-03-01T07:20:41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