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334-5F06-4C1B-9395-CE7736F362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A504-F2FF-4068-AF1D-826F369EDA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645-58AA-43B3-BFD7-FB2EBBAA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043-5A56-4791-AE94-63C4535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D5E-1DC5-4717-8B90-B4BC25B1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692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16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804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692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16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FDB-6F56-42D2-9E19-22A86B53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22FB-B471-4368-BD2F-231D5A35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EE81-9003-42F1-9787-DE085D3F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6B8-50A9-4938-AB10-1C8B127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0C4-670E-466C-8E41-CC96F7A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0183-CB0F-4CE9-83DE-A8F0426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3800"/>
            <a:ext cx="784836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2D8-4D7A-4D6C-989F-E8F696B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28D5-226B-4552-BBC1-AC08CFB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4D5-62FE-46F9-BD8C-7C85D22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E00-FBE3-4DB2-B31D-2B56C11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CDF-7A7E-4465-8A8D-D190216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49FB-94DF-4044-A60C-32DCD07C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F189-89E7-4C58-8A50-CED0B73B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8692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3616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804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8692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3616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F8BD-AF90-4783-8D61-1C43A89C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AFC-3154-4A59-8251-DF98151B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DF8-EB52-471E-B7B3-58CE950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409-5028-4815-803A-6CAF8229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3640" y="253800"/>
            <a:ext cx="784836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7C9-4C68-4516-B1DE-1512D12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BE0-8A78-4F11-AE8A-BBCF81C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610-854D-4700-8EAF-B0AE67ED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704-970E-4152-86DA-43C3D6F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组合 10" descr=""/>
          <p:cNvPicPr/>
          <p:nvPr/>
        </p:nvPicPr>
        <p:blipFill>
          <a:blip r:embed="rId2"/>
          <a:stretch/>
        </p:blipFill>
        <p:spPr>
          <a:xfrm>
            <a:off x="-66600" y="-19080"/>
            <a:ext cx="9266040" cy="137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58B-E9C0-44E9-A14E-69AA893560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NEW-TASK\PIC\T2\ch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ktangel 2"/>
          <p:cNvSpPr/>
          <p:nvPr/>
        </p:nvSpPr>
        <p:spPr>
          <a:xfrm>
            <a:off x="0" y="4859280"/>
            <a:ext cx="9144000" cy="159408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c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E67E-A590-4A84-B708-01EDD50F6E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498168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团队的链条商务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6920" y="5818320"/>
            <a:ext cx="74901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275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746600"/>
            <a:ext cx="4109760" cy="113832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3"/>
          <p:cNvGrpSpPr/>
          <p:nvPr/>
        </p:nvGrpSpPr>
        <p:grpSpPr>
          <a:xfrm>
            <a:off x="2776680" y="1766880"/>
            <a:ext cx="3471840" cy="3467160"/>
            <a:chOff x="2776680" y="1766880"/>
            <a:chExt cx="3471840" cy="3467160"/>
          </a:xfrm>
        </p:grpSpPr>
        <p:sp>
          <p:nvSpPr>
            <p:cNvPr id="279" name="Oval 6"/>
            <p:cNvSpPr/>
            <p:nvPr/>
          </p:nvSpPr>
          <p:spPr>
            <a:xfrm>
              <a:off x="2776680" y="1766880"/>
              <a:ext cx="3471840" cy="346716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2787480" y="1776240"/>
              <a:ext cx="3449880" cy="344808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4e4e4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3143160" y="2131920"/>
              <a:ext cx="2739960" cy="2738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3486240" y="2473200"/>
              <a:ext cx="2052720" cy="2054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b1b1b1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3809880" y="2798640"/>
              <a:ext cx="1408320" cy="140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"/>
            <p:cNvSpPr/>
            <p:nvPr/>
          </p:nvSpPr>
          <p:spPr>
            <a:xfrm flipV="1">
              <a:off x="4091040" y="3077280"/>
              <a:ext cx="846000" cy="84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e2e2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4395960" y="183024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7"/>
            <p:cNvSpPr/>
            <p:nvPr/>
          </p:nvSpPr>
          <p:spPr>
            <a:xfrm>
              <a:off x="4395960" y="21589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7"/>
            <p:cNvSpPr/>
            <p:nvPr/>
          </p:nvSpPr>
          <p:spPr>
            <a:xfrm>
              <a:off x="4395960" y="251784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7"/>
            <p:cNvSpPr/>
            <p:nvPr/>
          </p:nvSpPr>
          <p:spPr>
            <a:xfrm>
              <a:off x="4395960" y="2825640"/>
              <a:ext cx="264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4"/>
          <p:cNvGrpSpPr/>
          <p:nvPr/>
        </p:nvGrpSpPr>
        <p:grpSpPr>
          <a:xfrm>
            <a:off x="3753000" y="2886120"/>
            <a:ext cx="609480" cy="609480"/>
            <a:chOff x="3753000" y="2886120"/>
            <a:chExt cx="609480" cy="609480"/>
          </a:xfrm>
        </p:grpSpPr>
        <p:sp>
          <p:nvSpPr>
            <p:cNvPr id="290" name="Oval 15"/>
            <p:cNvSpPr/>
            <p:nvPr/>
          </p:nvSpPr>
          <p:spPr>
            <a:xfrm>
              <a:off x="3848040" y="2981520"/>
              <a:ext cx="4186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6"/>
            <p:cNvSpPr/>
            <p:nvPr/>
          </p:nvSpPr>
          <p:spPr>
            <a:xfrm>
              <a:off x="3968640" y="3102120"/>
              <a:ext cx="17748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7"/>
            <p:cNvSpPr/>
            <p:nvPr/>
          </p:nvSpPr>
          <p:spPr>
            <a:xfrm>
              <a:off x="3753000" y="28861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8"/>
          <p:cNvGrpSpPr/>
          <p:nvPr/>
        </p:nvGrpSpPr>
        <p:grpSpPr>
          <a:xfrm>
            <a:off x="4879800" y="2676600"/>
            <a:ext cx="609840" cy="609480"/>
            <a:chOff x="4879800" y="2676600"/>
            <a:chExt cx="609840" cy="609480"/>
          </a:xfrm>
        </p:grpSpPr>
        <p:sp>
          <p:nvSpPr>
            <p:cNvPr id="294" name="Oval 19"/>
            <p:cNvSpPr/>
            <p:nvPr/>
          </p:nvSpPr>
          <p:spPr>
            <a:xfrm>
              <a:off x="4975200" y="27720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095800" y="28926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"/>
            <p:cNvSpPr/>
            <p:nvPr/>
          </p:nvSpPr>
          <p:spPr>
            <a:xfrm>
              <a:off x="4879800" y="267660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2"/>
          <p:cNvGrpSpPr/>
          <p:nvPr/>
        </p:nvGrpSpPr>
        <p:grpSpPr>
          <a:xfrm>
            <a:off x="4260960" y="3370320"/>
            <a:ext cx="609480" cy="609480"/>
            <a:chOff x="4260960" y="3370320"/>
            <a:chExt cx="609480" cy="609480"/>
          </a:xfrm>
        </p:grpSpPr>
        <p:sp>
          <p:nvSpPr>
            <p:cNvPr id="298" name="Oval 23"/>
            <p:cNvSpPr/>
            <p:nvPr/>
          </p:nvSpPr>
          <p:spPr>
            <a:xfrm>
              <a:off x="4356000" y="3465720"/>
              <a:ext cx="4186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4"/>
            <p:cNvSpPr/>
            <p:nvPr/>
          </p:nvSpPr>
          <p:spPr>
            <a:xfrm>
              <a:off x="4476600" y="3586320"/>
              <a:ext cx="17748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5"/>
            <p:cNvSpPr/>
            <p:nvPr/>
          </p:nvSpPr>
          <p:spPr>
            <a:xfrm>
              <a:off x="4260960" y="33703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7"/>
          <p:cNvSpPr/>
          <p:nvPr/>
        </p:nvSpPr>
        <p:spPr>
          <a:xfrm>
            <a:off x="324000" y="1725480"/>
            <a:ext cx="2087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093080" y="1725480"/>
            <a:ext cx="174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99280" y="459252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9"/>
          <p:cNvGrpSpPr/>
          <p:nvPr/>
        </p:nvGrpSpPr>
        <p:grpSpPr>
          <a:xfrm>
            <a:off x="2106360" y="2061360"/>
            <a:ext cx="1954440" cy="1729080"/>
            <a:chOff x="2106360" y="2061360"/>
            <a:chExt cx="1954440" cy="1729080"/>
          </a:xfrm>
        </p:grpSpPr>
        <p:grpSp>
          <p:nvGrpSpPr>
            <p:cNvPr id="305" name="Group 30"/>
            <p:cNvGrpSpPr/>
            <p:nvPr/>
          </p:nvGrpSpPr>
          <p:grpSpPr>
            <a:xfrm>
              <a:off x="2106360" y="2061360"/>
              <a:ext cx="1865160" cy="1729080"/>
              <a:chOff x="2106360" y="2061360"/>
              <a:chExt cx="1865160" cy="1729080"/>
            </a:xfrm>
          </p:grpSpPr>
          <p:sp>
            <p:nvSpPr>
              <p:cNvPr id="306" name="Freeform 31"/>
              <p:cNvSpPr/>
              <p:nvPr/>
            </p:nvSpPr>
            <p:spPr>
              <a:xfrm rot="19522800">
                <a:off x="3014280" y="2623320"/>
                <a:ext cx="779040" cy="869400"/>
              </a:xfrm>
              <a:custGeom>
                <a:avLst/>
                <a:gdLst>
                  <a:gd name="textAreaLeft" fmla="*/ 0 w 779040"/>
                  <a:gd name="textAreaRight" fmla="*/ 779400 w 7790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1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2"/>
              <p:cNvSpPr/>
              <p:nvPr/>
            </p:nvSpPr>
            <p:spPr>
              <a:xfrm rot="19522800">
                <a:off x="2218680" y="2822400"/>
                <a:ext cx="1069200" cy="728640"/>
              </a:xfrm>
              <a:custGeom>
                <a:avLst/>
                <a:gdLst>
                  <a:gd name="textAreaLeft" fmla="*/ 0 w 1069200"/>
                  <a:gd name="textAreaRight" fmla="*/ 1069560 w 106920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3"/>
              <p:cNvSpPr/>
              <p:nvPr/>
            </p:nvSpPr>
            <p:spPr>
              <a:xfrm rot="19522800">
                <a:off x="2413800" y="2194200"/>
                <a:ext cx="816840" cy="1115280"/>
              </a:xfrm>
              <a:custGeom>
                <a:avLst/>
                <a:gdLst>
                  <a:gd name="textAreaLeft" fmla="*/ 0 w 816840"/>
                  <a:gd name="textAreaRight" fmla="*/ 817200 w 816840"/>
                  <a:gd name="textAreaTop" fmla="*/ 0 h 1115280"/>
                  <a:gd name="textAreaBottom" fmla="*/ 1115640 h 111528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4"/>
              <p:cNvSpPr/>
              <p:nvPr/>
            </p:nvSpPr>
            <p:spPr>
              <a:xfrm rot="19522800">
                <a:off x="2652480" y="2686320"/>
                <a:ext cx="640440" cy="88632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886320"/>
                  <a:gd name="textAreaBottom" fmla="*/ 886680 h 88632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5"/>
              <p:cNvSpPr/>
              <p:nvPr/>
            </p:nvSpPr>
            <p:spPr>
              <a:xfrm rot="19522800">
                <a:off x="2527920" y="2565000"/>
                <a:ext cx="926280" cy="67392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673920"/>
                  <a:gd name="textAreaBottom" fmla="*/ 674280 h 67392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3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6"/>
            <p:cNvGrpSpPr/>
            <p:nvPr/>
          </p:nvGrpSpPr>
          <p:grpSpPr>
            <a:xfrm>
              <a:off x="3672360" y="3019680"/>
              <a:ext cx="388440" cy="303480"/>
              <a:chOff x="3672360" y="3019680"/>
              <a:chExt cx="388440" cy="303480"/>
            </a:xfrm>
          </p:grpSpPr>
          <p:sp>
            <p:nvSpPr>
              <p:cNvPr id="312" name="Freeform 37"/>
              <p:cNvSpPr/>
              <p:nvPr/>
            </p:nvSpPr>
            <p:spPr>
              <a:xfrm rot="19522800">
                <a:off x="3905640" y="3121200"/>
                <a:ext cx="129960" cy="127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c00"/>
                  </a:gs>
                  <a:gs pos="100000">
                    <a:srgbClr val="fea501"/>
                  </a:gs>
                </a:gsLst>
                <a:lin ang="13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8"/>
              <p:cNvSpPr/>
              <p:nvPr/>
            </p:nvSpPr>
            <p:spPr>
              <a:xfrm rot="19522800">
                <a:off x="3713040" y="3064680"/>
                <a:ext cx="224640" cy="2134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9"/>
            <p:cNvGrpSpPr/>
            <p:nvPr/>
          </p:nvGrpSpPr>
          <p:grpSpPr>
            <a:xfrm>
              <a:off x="3688200" y="3075120"/>
              <a:ext cx="268560" cy="166680"/>
              <a:chOff x="3688200" y="3075120"/>
              <a:chExt cx="268560" cy="166680"/>
            </a:xfrm>
          </p:grpSpPr>
          <p:sp>
            <p:nvSpPr>
              <p:cNvPr id="315" name="Freeform 40"/>
              <p:cNvSpPr/>
              <p:nvPr/>
            </p:nvSpPr>
            <p:spPr>
              <a:xfrm rot="19522800">
                <a:off x="3732480" y="3110040"/>
                <a:ext cx="128160" cy="1040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1"/>
              <p:cNvSpPr/>
              <p:nvPr/>
            </p:nvSpPr>
            <p:spPr>
              <a:xfrm rot="19522800">
                <a:off x="3707280" y="3102840"/>
                <a:ext cx="133200" cy="1098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42"/>
              <p:cNvSpPr/>
              <p:nvPr/>
            </p:nvSpPr>
            <p:spPr>
              <a:xfrm rot="19522800">
                <a:off x="3755160" y="3116160"/>
                <a:ext cx="123480" cy="982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3"/>
              <p:cNvSpPr/>
              <p:nvPr/>
            </p:nvSpPr>
            <p:spPr>
              <a:xfrm rot="19522800">
                <a:off x="3821760" y="3134520"/>
                <a:ext cx="104400" cy="83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4"/>
              <p:cNvSpPr/>
              <p:nvPr/>
            </p:nvSpPr>
            <p:spPr>
              <a:xfrm rot="19522800">
                <a:off x="3803040" y="3128760"/>
                <a:ext cx="108000" cy="889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5"/>
              <p:cNvSpPr/>
              <p:nvPr/>
            </p:nvSpPr>
            <p:spPr>
              <a:xfrm rot="19522800">
                <a:off x="3841920" y="3138480"/>
                <a:ext cx="100080" cy="817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46"/>
          <p:cNvGrpSpPr/>
          <p:nvPr/>
        </p:nvGrpSpPr>
        <p:grpSpPr>
          <a:xfrm>
            <a:off x="5178240" y="1802160"/>
            <a:ext cx="1999440" cy="1701000"/>
            <a:chOff x="5178240" y="1802160"/>
            <a:chExt cx="1999440" cy="1701000"/>
          </a:xfrm>
        </p:grpSpPr>
        <p:grpSp>
          <p:nvGrpSpPr>
            <p:cNvPr id="322" name="Group 47"/>
            <p:cNvGrpSpPr/>
            <p:nvPr/>
          </p:nvGrpSpPr>
          <p:grpSpPr>
            <a:xfrm>
              <a:off x="5262840" y="1802160"/>
              <a:ext cx="1914840" cy="1701000"/>
              <a:chOff x="5262840" y="1802160"/>
              <a:chExt cx="1914840" cy="1701000"/>
            </a:xfrm>
          </p:grpSpPr>
          <p:sp>
            <p:nvSpPr>
              <p:cNvPr id="323" name="Freeform 48"/>
              <p:cNvSpPr/>
              <p:nvPr/>
            </p:nvSpPr>
            <p:spPr>
              <a:xfrm rot="7222800">
                <a:off x="5445360" y="2401920"/>
                <a:ext cx="779040" cy="869760"/>
              </a:xfrm>
              <a:custGeom>
                <a:avLst/>
                <a:gdLst>
                  <a:gd name="textAreaLeft" fmla="*/ 0 w 779040"/>
                  <a:gd name="textAreaRight" fmla="*/ 779400 w 7790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4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9"/>
              <p:cNvSpPr/>
              <p:nvPr/>
            </p:nvSpPr>
            <p:spPr>
              <a:xfrm rot="7222800">
                <a:off x="5833440" y="2083320"/>
                <a:ext cx="1069560" cy="728280"/>
              </a:xfrm>
              <a:custGeom>
                <a:avLst/>
                <a:gdLst>
                  <a:gd name="textAreaLeft" fmla="*/ 0 w 1069560"/>
                  <a:gd name="textAreaRight" fmla="*/ 1069920 w 1069560"/>
                  <a:gd name="textAreaTop" fmla="*/ 0 h 728280"/>
                  <a:gd name="textAreaBottom" fmla="*/ 728640 h 72828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0"/>
              <p:cNvSpPr/>
              <p:nvPr/>
            </p:nvSpPr>
            <p:spPr>
              <a:xfrm rot="7222800">
                <a:off x="6081480" y="2311920"/>
                <a:ext cx="817200" cy="111420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114200"/>
                  <a:gd name="textAreaBottom" fmla="*/ 1114560 h 111420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1"/>
              <p:cNvSpPr/>
              <p:nvPr/>
            </p:nvSpPr>
            <p:spPr>
              <a:xfrm rot="7222800">
                <a:off x="5874840" y="2145960"/>
                <a:ext cx="639360" cy="887040"/>
              </a:xfrm>
              <a:custGeom>
                <a:avLst/>
                <a:gdLst>
                  <a:gd name="textAreaLeft" fmla="*/ 0 w 639360"/>
                  <a:gd name="textAreaRight" fmla="*/ 639360 w 6393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52"/>
              <p:cNvSpPr/>
              <p:nvPr/>
            </p:nvSpPr>
            <p:spPr>
              <a:xfrm rot="7222800">
                <a:off x="5810760" y="2466720"/>
                <a:ext cx="925200" cy="674280"/>
              </a:xfrm>
              <a:custGeom>
                <a:avLst/>
                <a:gdLst>
                  <a:gd name="textAreaLeft" fmla="*/ 0 w 925200"/>
                  <a:gd name="textAreaRight" fmla="*/ 925560 w 925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7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53"/>
            <p:cNvGrpSpPr/>
            <p:nvPr/>
          </p:nvGrpSpPr>
          <p:grpSpPr>
            <a:xfrm>
              <a:off x="5178240" y="2761560"/>
              <a:ext cx="375120" cy="302040"/>
              <a:chOff x="5178240" y="2761560"/>
              <a:chExt cx="375120" cy="302040"/>
            </a:xfrm>
          </p:grpSpPr>
          <p:sp>
            <p:nvSpPr>
              <p:cNvPr id="329" name="Freeform 54"/>
              <p:cNvSpPr/>
              <p:nvPr/>
            </p:nvSpPr>
            <p:spPr>
              <a:xfrm rot="7222800">
                <a:off x="5201280" y="2897280"/>
                <a:ext cx="129960" cy="1281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c00"/>
                  </a:gs>
                  <a:gs pos="100000">
                    <a:srgbClr val="fea501"/>
                  </a:gs>
                </a:gsLst>
                <a:lin ang="17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55"/>
              <p:cNvSpPr/>
              <p:nvPr/>
            </p:nvSpPr>
            <p:spPr>
              <a:xfrm rot="7222800">
                <a:off x="5291640" y="2805480"/>
                <a:ext cx="225000" cy="2138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6"/>
            <p:cNvGrpSpPr/>
            <p:nvPr/>
          </p:nvGrpSpPr>
          <p:grpSpPr>
            <a:xfrm>
              <a:off x="5280480" y="2818440"/>
              <a:ext cx="255960" cy="177480"/>
              <a:chOff x="5280480" y="2818440"/>
              <a:chExt cx="255960" cy="177480"/>
            </a:xfrm>
          </p:grpSpPr>
          <p:sp>
            <p:nvSpPr>
              <p:cNvPr id="332" name="Freeform 57"/>
              <p:cNvSpPr/>
              <p:nvPr/>
            </p:nvSpPr>
            <p:spPr>
              <a:xfrm rot="7222800">
                <a:off x="5371560" y="2855160"/>
                <a:ext cx="126360" cy="10440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8"/>
              <p:cNvSpPr/>
              <p:nvPr/>
            </p:nvSpPr>
            <p:spPr>
              <a:xfrm rot="7222800">
                <a:off x="5389200" y="2848680"/>
                <a:ext cx="132840" cy="1090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9"/>
              <p:cNvSpPr/>
              <p:nvPr/>
            </p:nvSpPr>
            <p:spPr>
              <a:xfrm rot="7222800">
                <a:off x="5352840" y="2863800"/>
                <a:ext cx="121680" cy="98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0"/>
              <p:cNvSpPr/>
              <p:nvPr/>
            </p:nvSpPr>
            <p:spPr>
              <a:xfrm rot="7222800">
                <a:off x="5306400" y="2887200"/>
                <a:ext cx="104400" cy="82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82080"/>
                  <a:gd name="textAreaBottom" fmla="*/ 82080 h 8208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1"/>
              <p:cNvSpPr/>
              <p:nvPr/>
            </p:nvSpPr>
            <p:spPr>
              <a:xfrm rot="7222800">
                <a:off x="5320080" y="2877480"/>
                <a:ext cx="107640" cy="885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62"/>
              <p:cNvSpPr/>
              <p:nvPr/>
            </p:nvSpPr>
            <p:spPr>
              <a:xfrm rot="7222800">
                <a:off x="5291280" y="2890800"/>
                <a:ext cx="99360" cy="824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63"/>
          <p:cNvGrpSpPr/>
          <p:nvPr/>
        </p:nvGrpSpPr>
        <p:grpSpPr>
          <a:xfrm>
            <a:off x="4561560" y="3672720"/>
            <a:ext cx="1553040" cy="1597320"/>
            <a:chOff x="4561560" y="3672720"/>
            <a:chExt cx="1553040" cy="1597320"/>
          </a:xfrm>
        </p:grpSpPr>
        <p:grpSp>
          <p:nvGrpSpPr>
            <p:cNvPr id="339" name="Group 64"/>
            <p:cNvGrpSpPr/>
            <p:nvPr/>
          </p:nvGrpSpPr>
          <p:grpSpPr>
            <a:xfrm>
              <a:off x="4620240" y="3725280"/>
              <a:ext cx="1494360" cy="1544760"/>
              <a:chOff x="4620240" y="3725280"/>
              <a:chExt cx="1494360" cy="1544760"/>
            </a:xfrm>
          </p:grpSpPr>
          <p:sp>
            <p:nvSpPr>
              <p:cNvPr id="340" name="Freeform 65"/>
              <p:cNvSpPr/>
              <p:nvPr/>
            </p:nvSpPr>
            <p:spPr>
              <a:xfrm rot="10843800">
                <a:off x="4625640" y="3729960"/>
                <a:ext cx="755640" cy="8445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0505"/>
                  </a:gs>
                  <a:gs pos="100000">
                    <a:srgbClr val="4f0202"/>
                  </a:gs>
                </a:gsLst>
                <a:lin ang="10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66"/>
              <p:cNvSpPr/>
              <p:nvPr/>
            </p:nvSpPr>
            <p:spPr>
              <a:xfrm rot="10843800">
                <a:off x="5071680" y="4061520"/>
                <a:ext cx="1038240" cy="708120"/>
              </a:xfrm>
              <a:custGeom>
                <a:avLst/>
                <a:gdLst>
                  <a:gd name="textAreaLeft" fmla="*/ 0 w 1038240"/>
                  <a:gd name="textAreaRight" fmla="*/ 1038600 w 103824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67"/>
              <p:cNvSpPr/>
              <p:nvPr/>
            </p:nvSpPr>
            <p:spPr>
              <a:xfrm rot="10843800">
                <a:off x="4896000" y="4182480"/>
                <a:ext cx="792000" cy="10825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1082520"/>
                  <a:gd name="textAreaBottom" fmla="*/ 1082880 h 108252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8"/>
              <p:cNvSpPr/>
              <p:nvPr/>
            </p:nvSpPr>
            <p:spPr>
              <a:xfrm rot="10843800">
                <a:off x="5075280" y="3908160"/>
                <a:ext cx="620640" cy="86040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0505"/>
                  </a:gs>
                  <a:gs pos="100000">
                    <a:srgbClr val="5b0202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69"/>
              <p:cNvSpPr/>
              <p:nvPr/>
            </p:nvSpPr>
            <p:spPr>
              <a:xfrm rot="10843800">
                <a:off x="4794120" y="4179240"/>
                <a:ext cx="898560" cy="655560"/>
              </a:xfrm>
              <a:custGeom>
                <a:avLst/>
                <a:gdLst>
                  <a:gd name="textAreaLeft" fmla="*/ 0 w 898560"/>
                  <a:gd name="textAreaRight" fmla="*/ 898920 w 89856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0303"/>
                  </a:gs>
                  <a:gs pos="100000">
                    <a:srgbClr val="320101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70"/>
            <p:cNvGrpSpPr/>
            <p:nvPr/>
          </p:nvGrpSpPr>
          <p:grpSpPr>
            <a:xfrm>
              <a:off x="4561560" y="3672720"/>
              <a:ext cx="281520" cy="262440"/>
              <a:chOff x="4561560" y="3672720"/>
              <a:chExt cx="281520" cy="262440"/>
            </a:xfrm>
          </p:grpSpPr>
          <p:sp>
            <p:nvSpPr>
              <p:cNvPr id="346" name="Freeform 71"/>
              <p:cNvSpPr/>
              <p:nvPr/>
            </p:nvSpPr>
            <p:spPr>
              <a:xfrm rot="10843800">
                <a:off x="4562280" y="3673080"/>
                <a:ext cx="127080" cy="1252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66"/>
                  </a:gs>
                  <a:gs pos="100000">
                    <a:srgbClr val="dddddd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72"/>
              <p:cNvSpPr/>
              <p:nvPr/>
            </p:nvSpPr>
            <p:spPr>
              <a:xfrm rot="10843800">
                <a:off x="4624200" y="3725640"/>
                <a:ext cx="217440" cy="2080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73"/>
            <p:cNvGrpSpPr/>
            <p:nvPr/>
          </p:nvGrpSpPr>
          <p:grpSpPr>
            <a:xfrm>
              <a:off x="4633200" y="3744360"/>
              <a:ext cx="198360" cy="175320"/>
              <a:chOff x="4633200" y="3744360"/>
              <a:chExt cx="198360" cy="175320"/>
            </a:xfrm>
          </p:grpSpPr>
          <p:sp>
            <p:nvSpPr>
              <p:cNvPr id="349" name="Freeform 74"/>
              <p:cNvSpPr/>
              <p:nvPr/>
            </p:nvSpPr>
            <p:spPr>
              <a:xfrm rot="10843800">
                <a:off x="4687560" y="3799800"/>
                <a:ext cx="123840" cy="1000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75"/>
              <p:cNvSpPr/>
              <p:nvPr/>
            </p:nvSpPr>
            <p:spPr>
              <a:xfrm rot="10843800">
                <a:off x="4700160" y="3812400"/>
                <a:ext cx="130320" cy="10620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76"/>
              <p:cNvSpPr/>
              <p:nvPr/>
            </p:nvSpPr>
            <p:spPr>
              <a:xfrm rot="10843800">
                <a:off x="4674600" y="3790440"/>
                <a:ext cx="120600" cy="950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77"/>
              <p:cNvSpPr/>
              <p:nvPr/>
            </p:nvSpPr>
            <p:spPr>
              <a:xfrm rot="10843800">
                <a:off x="4646880" y="3753720"/>
                <a:ext cx="101520" cy="8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78"/>
              <p:cNvSpPr/>
              <p:nvPr/>
            </p:nvSpPr>
            <p:spPr>
              <a:xfrm rot="10843800">
                <a:off x="4654080" y="3765240"/>
                <a:ext cx="106200" cy="856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9"/>
              <p:cNvSpPr/>
              <p:nvPr/>
            </p:nvSpPr>
            <p:spPr>
              <a:xfrm rot="10843800">
                <a:off x="4633560" y="3744720"/>
                <a:ext cx="96840" cy="79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35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타원 21"/>
          <p:cNvSpPr/>
          <p:nvPr/>
        </p:nvSpPr>
        <p:spPr>
          <a:xfrm>
            <a:off x="4714920" y="5927760"/>
            <a:ext cx="4714920" cy="5000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C:\Documents and Settings\HANA\바탕 화면\그림3.png"/>
          <p:cNvPicPr/>
          <p:nvPr/>
        </p:nvPicPr>
        <p:blipFill>
          <a:blip r:embed="rId1"/>
          <a:srcRect l="0" t="0" r="0" b="46450"/>
          <a:stretch/>
        </p:blipFill>
        <p:spPr>
          <a:xfrm rot="8171400">
            <a:off x="5148000" y="3647880"/>
            <a:ext cx="4230720" cy="2261880"/>
          </a:xfrm>
          <a:prstGeom prst="rect">
            <a:avLst/>
          </a:prstGeom>
          <a:ln w="0">
            <a:noFill/>
          </a:ln>
        </p:spPr>
      </p:pic>
      <p:sp>
        <p:nvSpPr>
          <p:cNvPr id="361" name="타원 10"/>
          <p:cNvSpPr/>
          <p:nvPr/>
        </p:nvSpPr>
        <p:spPr>
          <a:xfrm rot="18984000">
            <a:off x="4392360" y="3249360"/>
            <a:ext cx="4195800" cy="14270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타원 11"/>
          <p:cNvSpPr/>
          <p:nvPr/>
        </p:nvSpPr>
        <p:spPr>
          <a:xfrm rot="18984000">
            <a:off x="4549320" y="3327480"/>
            <a:ext cx="3903840" cy="128880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타원 12"/>
          <p:cNvSpPr/>
          <p:nvPr/>
        </p:nvSpPr>
        <p:spPr>
          <a:xfrm rot="18984000">
            <a:off x="4716360" y="3398400"/>
            <a:ext cx="3535560" cy="11606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타원 13"/>
          <p:cNvSpPr/>
          <p:nvPr/>
        </p:nvSpPr>
        <p:spPr>
          <a:xfrm rot="18984000">
            <a:off x="4901760" y="3466800"/>
            <a:ext cx="3132360" cy="998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타원 15"/>
          <p:cNvSpPr/>
          <p:nvPr/>
        </p:nvSpPr>
        <p:spPr>
          <a:xfrm rot="18984000">
            <a:off x="5189040" y="3541320"/>
            <a:ext cx="2522520" cy="814320"/>
          </a:xfrm>
          <a:prstGeom prst="ellipse">
            <a:avLst/>
          </a:prstGeom>
          <a:gradFill rotWithShape="0">
            <a:gsLst>
              <a:gs pos="0">
                <a:srgbClr val="1a2e7b"/>
              </a:gs>
              <a:gs pos="100000">
                <a:srgbClr val="8298b8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타원 16"/>
          <p:cNvSpPr/>
          <p:nvPr/>
        </p:nvSpPr>
        <p:spPr>
          <a:xfrm rot="18984000">
            <a:off x="5506560" y="3604680"/>
            <a:ext cx="1901880" cy="6541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자유형 19"/>
          <p:cNvSpPr/>
          <p:nvPr/>
        </p:nvSpPr>
        <p:spPr>
          <a:xfrm rot="2707200">
            <a:off x="5998320" y="3231360"/>
            <a:ext cx="738000" cy="1247760"/>
          </a:xfrm>
          <a:custGeom>
            <a:avLst/>
            <a:gdLst/>
            <a:ahLst/>
            <a:rect l="l" t="t" r="r" b="b"/>
            <a:pathLst>
              <a:path w="739004" h="1247110">
                <a:moveTo>
                  <a:pt x="597029" y="1201435"/>
                </a:moveTo>
                <a:cubicBezTo>
                  <a:pt x="490877" y="1247110"/>
                  <a:pt x="184579" y="1058554"/>
                  <a:pt x="102089" y="915677"/>
                </a:cubicBezTo>
                <a:cubicBezTo>
                  <a:pt x="19599" y="772800"/>
                  <a:pt x="0" y="520997"/>
                  <a:pt x="102090" y="344173"/>
                </a:cubicBezTo>
                <a:cubicBezTo>
                  <a:pt x="204180" y="167349"/>
                  <a:pt x="490377" y="0"/>
                  <a:pt x="597028" y="58422"/>
                </a:cubicBezTo>
                <a:cubicBezTo>
                  <a:pt x="703180" y="107998"/>
                  <a:pt x="739004" y="451128"/>
                  <a:pt x="739004" y="641630"/>
                </a:cubicBezTo>
                <a:cubicBezTo>
                  <a:pt x="739004" y="832132"/>
                  <a:pt x="703182" y="1155761"/>
                  <a:pt x="597029" y="1201435"/>
                </a:cubicBezTo>
                <a:close/>
              </a:path>
            </a:pathLst>
          </a:custGeom>
          <a:gradFill rotWithShape="0">
            <a:gsLst>
              <a:gs pos="0">
                <a:srgbClr val="920000"/>
              </a:gs>
              <a:gs pos="100000">
                <a:srgbClr val="ff2929"/>
              </a:gs>
            </a:gsLst>
            <a:lin ang="8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8"/>
          <p:cNvSpPr/>
          <p:nvPr/>
        </p:nvSpPr>
        <p:spPr>
          <a:xfrm rot="19143600">
            <a:off x="5942160" y="3538080"/>
            <a:ext cx="766440" cy="500040"/>
          </a:xfrm>
          <a:prstGeom prst="ellipse">
            <a:avLst/>
          </a:prstGeom>
          <a:gradFill rotWithShape="0">
            <a:gsLst>
              <a:gs pos="0">
                <a:srgbClr val="ffeaa7">
                  <a:alpha val="45098"/>
                </a:srgbClr>
              </a:gs>
              <a:gs pos="100000">
                <a:srgbClr val="c0c0c0">
                  <a:alpha val="0"/>
                </a:srgbClr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직선 화살표 연결선 25"/>
          <p:cNvCxnSpPr/>
          <p:nvPr/>
        </p:nvCxnSpPr>
        <p:spPr>
          <a:xfrm>
            <a:off x="3642840" y="1643040"/>
            <a:ext cx="2429640" cy="20008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70" name="직사각형 28"/>
          <p:cNvSpPr/>
          <p:nvPr/>
        </p:nvSpPr>
        <p:spPr>
          <a:xfrm>
            <a:off x="428760" y="1643040"/>
            <a:ext cx="3214440" cy="3571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사각형 29"/>
          <p:cNvSpPr/>
          <p:nvPr/>
        </p:nvSpPr>
        <p:spPr>
          <a:xfrm>
            <a:off x="428760" y="2000160"/>
            <a:ext cx="3214440" cy="121464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직사각형 30"/>
          <p:cNvSpPr/>
          <p:nvPr/>
        </p:nvSpPr>
        <p:spPr>
          <a:xfrm>
            <a:off x="428760" y="4071960"/>
            <a:ext cx="3214440" cy="357120"/>
          </a:xfrm>
          <a:prstGeom prst="rect">
            <a:avLst/>
          </a:prstGeom>
          <a:solidFill>
            <a:srgbClr val="558ed5"/>
          </a:solidFill>
          <a:ln w="3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직사각형 31"/>
          <p:cNvSpPr/>
          <p:nvPr/>
        </p:nvSpPr>
        <p:spPr>
          <a:xfrm>
            <a:off x="428760" y="4429080"/>
            <a:ext cx="3214440" cy="121464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직선 화살표 연결선 32"/>
          <p:cNvCxnSpPr>
            <a:endCxn id="365" idx="2"/>
          </p:cNvCxnSpPr>
          <p:nvPr/>
        </p:nvCxnSpPr>
        <p:spPr>
          <a:xfrm flipV="1">
            <a:off x="3642840" y="4817520"/>
            <a:ext cx="1894680" cy="826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37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6"/>
          <p:cNvSpPr/>
          <p:nvPr/>
        </p:nvSpPr>
        <p:spPr>
          <a:xfrm>
            <a:off x="7211880" y="226224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6600960" y="2619360"/>
            <a:ext cx="222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298440" y="2261880"/>
            <a:ext cx="15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403360" y="5291280"/>
            <a:ext cx="4287960" cy="664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6"/>
          <p:cNvSpPr/>
          <p:nvPr/>
        </p:nvSpPr>
        <p:spPr>
          <a:xfrm rot="3600000">
            <a:off x="3701880" y="3108240"/>
            <a:ext cx="1841400" cy="278136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794" h="1200">
                <a:moveTo>
                  <a:pt x="688" y="9"/>
                </a:moveTo>
                <a:cubicBezTo>
                  <a:pt x="602" y="59"/>
                  <a:pt x="602" y="59"/>
                  <a:pt x="602" y="59"/>
                </a:cubicBezTo>
                <a:cubicBezTo>
                  <a:pt x="601" y="58"/>
                  <a:pt x="600" y="58"/>
                  <a:pt x="598" y="57"/>
                </a:cubicBezTo>
                <a:cubicBezTo>
                  <a:pt x="593" y="53"/>
                  <a:pt x="590" y="45"/>
                  <a:pt x="592" y="40"/>
                </a:cubicBezTo>
                <a:cubicBezTo>
                  <a:pt x="594" y="33"/>
                  <a:pt x="593" y="25"/>
                  <a:pt x="589" y="19"/>
                </a:cubicBezTo>
                <a:cubicBezTo>
                  <a:pt x="581" y="5"/>
                  <a:pt x="563" y="0"/>
                  <a:pt x="548" y="8"/>
                </a:cubicBezTo>
                <a:cubicBezTo>
                  <a:pt x="534" y="17"/>
                  <a:pt x="529" y="35"/>
                  <a:pt x="537" y="49"/>
                </a:cubicBezTo>
                <a:cubicBezTo>
                  <a:pt x="540" y="56"/>
                  <a:pt x="546" y="60"/>
                  <a:pt x="553" y="62"/>
                </a:cubicBezTo>
                <a:cubicBezTo>
                  <a:pt x="553" y="62"/>
                  <a:pt x="553" y="62"/>
                  <a:pt x="553" y="62"/>
                </a:cubicBezTo>
                <a:cubicBezTo>
                  <a:pt x="559" y="63"/>
                  <a:pt x="564" y="69"/>
                  <a:pt x="565" y="76"/>
                </a:cubicBezTo>
                <a:cubicBezTo>
                  <a:pt x="565" y="78"/>
                  <a:pt x="565" y="79"/>
                  <a:pt x="565" y="80"/>
                </a:cubicBezTo>
                <a:cubicBezTo>
                  <a:pt x="477" y="131"/>
                  <a:pt x="477" y="131"/>
                  <a:pt x="477" y="131"/>
                </a:cubicBezTo>
                <a:cubicBezTo>
                  <a:pt x="524" y="212"/>
                  <a:pt x="551" y="306"/>
                  <a:pt x="551" y="406"/>
                </a:cubicBezTo>
                <a:cubicBezTo>
                  <a:pt x="551" y="507"/>
                  <a:pt x="524" y="601"/>
                  <a:pt x="477" y="681"/>
                </a:cubicBezTo>
                <a:cubicBezTo>
                  <a:pt x="382" y="846"/>
                  <a:pt x="204" y="957"/>
                  <a:pt x="0" y="957"/>
                </a:cubicBezTo>
                <a:cubicBezTo>
                  <a:pt x="0" y="1047"/>
                  <a:pt x="0" y="1047"/>
                  <a:pt x="0" y="1047"/>
                </a:cubicBezTo>
                <a:cubicBezTo>
                  <a:pt x="0" y="1058"/>
                  <a:pt x="0" y="1058"/>
                  <a:pt x="0" y="1058"/>
                </a:cubicBezTo>
                <a:cubicBezTo>
                  <a:pt x="2" y="1058"/>
                  <a:pt x="3" y="1059"/>
                  <a:pt x="4" y="1060"/>
                </a:cubicBezTo>
                <a:cubicBezTo>
                  <a:pt x="10" y="1063"/>
                  <a:pt x="18" y="1061"/>
                  <a:pt x="22" y="1056"/>
                </a:cubicBezTo>
                <a:cubicBezTo>
                  <a:pt x="22" y="1056"/>
                  <a:pt x="22" y="1056"/>
                  <a:pt x="22" y="1056"/>
                </a:cubicBezTo>
                <a:cubicBezTo>
                  <a:pt x="27" y="1052"/>
                  <a:pt x="34" y="1049"/>
                  <a:pt x="42" y="1049"/>
                </a:cubicBezTo>
                <a:cubicBezTo>
                  <a:pt x="58" y="1049"/>
                  <a:pt x="71" y="1063"/>
                  <a:pt x="71" y="1079"/>
                </a:cubicBezTo>
                <a:cubicBezTo>
                  <a:pt x="71" y="1096"/>
                  <a:pt x="58" y="1110"/>
                  <a:pt x="42" y="1110"/>
                </a:cubicBezTo>
                <a:cubicBezTo>
                  <a:pt x="34" y="1110"/>
                  <a:pt x="27" y="1107"/>
                  <a:pt x="22" y="1102"/>
                </a:cubicBezTo>
                <a:cubicBezTo>
                  <a:pt x="18" y="1097"/>
                  <a:pt x="10" y="1096"/>
                  <a:pt x="4" y="1099"/>
                </a:cubicBezTo>
                <a:cubicBezTo>
                  <a:pt x="3" y="1099"/>
                  <a:pt x="2" y="1100"/>
                  <a:pt x="0" y="110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200"/>
                  <a:pt x="0" y="1200"/>
                  <a:pt x="0" y="1200"/>
                </a:cubicBezTo>
                <a:cubicBezTo>
                  <a:pt x="294" y="1200"/>
                  <a:pt x="551" y="1040"/>
                  <a:pt x="688" y="803"/>
                </a:cubicBezTo>
                <a:cubicBezTo>
                  <a:pt x="755" y="686"/>
                  <a:pt x="794" y="551"/>
                  <a:pt x="794" y="406"/>
                </a:cubicBezTo>
                <a:cubicBezTo>
                  <a:pt x="794" y="262"/>
                  <a:pt x="755" y="126"/>
                  <a:pt x="688" y="9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"/>
          <p:cNvSpPr/>
          <p:nvPr/>
        </p:nvSpPr>
        <p:spPr>
          <a:xfrm rot="3600000">
            <a:off x="2733840" y="1605600"/>
            <a:ext cx="2003400" cy="276084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2760840"/>
              <a:gd name="textAreaBottom" fmla="*/ 2761200 h 2760840"/>
            </a:gdLst>
            <a:ahLst/>
            <a:rect l="textAreaLeft" t="textAreaTop" r="textAreaRight" b="textAreaBottom"/>
            <a:pathLst>
              <a:path w="864" h="1191">
                <a:moveTo>
                  <a:pt x="835" y="1040"/>
                </a:moveTo>
                <a:cubicBezTo>
                  <a:pt x="827" y="1040"/>
                  <a:pt x="820" y="1043"/>
                  <a:pt x="815" y="1047"/>
                </a:cubicBezTo>
                <a:cubicBezTo>
                  <a:pt x="815" y="1047"/>
                  <a:pt x="815" y="1047"/>
                  <a:pt x="815" y="1047"/>
                </a:cubicBezTo>
                <a:cubicBezTo>
                  <a:pt x="811" y="1052"/>
                  <a:pt x="803" y="1054"/>
                  <a:pt x="797" y="1051"/>
                </a:cubicBezTo>
                <a:cubicBezTo>
                  <a:pt x="796" y="1050"/>
                  <a:pt x="795" y="1049"/>
                  <a:pt x="793" y="1049"/>
                </a:cubicBezTo>
                <a:cubicBezTo>
                  <a:pt x="793" y="1038"/>
                  <a:pt x="793" y="1038"/>
                  <a:pt x="793" y="1038"/>
                </a:cubicBezTo>
                <a:cubicBezTo>
                  <a:pt x="793" y="948"/>
                  <a:pt x="793" y="948"/>
                  <a:pt x="793" y="948"/>
                </a:cubicBezTo>
                <a:cubicBezTo>
                  <a:pt x="590" y="948"/>
                  <a:pt x="412" y="837"/>
                  <a:pt x="317" y="672"/>
                </a:cubicBezTo>
                <a:cubicBezTo>
                  <a:pt x="270" y="592"/>
                  <a:pt x="243" y="498"/>
                  <a:pt x="243" y="397"/>
                </a:cubicBezTo>
                <a:cubicBezTo>
                  <a:pt x="243" y="297"/>
                  <a:pt x="270" y="203"/>
                  <a:pt x="317" y="122"/>
                </a:cubicBezTo>
                <a:cubicBezTo>
                  <a:pt x="231" y="73"/>
                  <a:pt x="231" y="73"/>
                  <a:pt x="231" y="73"/>
                </a:cubicBezTo>
                <a:cubicBezTo>
                  <a:pt x="230" y="73"/>
                  <a:pt x="229" y="74"/>
                  <a:pt x="228" y="75"/>
                </a:cubicBezTo>
                <a:cubicBezTo>
                  <a:pt x="222" y="79"/>
                  <a:pt x="219" y="86"/>
                  <a:pt x="221" y="92"/>
                </a:cubicBezTo>
                <a:cubicBezTo>
                  <a:pt x="221" y="92"/>
                  <a:pt x="221" y="92"/>
                  <a:pt x="221" y="92"/>
                </a:cubicBezTo>
                <a:cubicBezTo>
                  <a:pt x="223" y="99"/>
                  <a:pt x="222" y="106"/>
                  <a:pt x="218" y="113"/>
                </a:cubicBezTo>
                <a:cubicBezTo>
                  <a:pt x="210" y="127"/>
                  <a:pt x="192" y="131"/>
                  <a:pt x="177" y="123"/>
                </a:cubicBezTo>
                <a:cubicBezTo>
                  <a:pt x="163" y="115"/>
                  <a:pt x="158" y="96"/>
                  <a:pt x="166" y="82"/>
                </a:cubicBezTo>
                <a:cubicBezTo>
                  <a:pt x="169" y="76"/>
                  <a:pt x="175" y="71"/>
                  <a:pt x="182" y="69"/>
                </a:cubicBezTo>
                <a:cubicBezTo>
                  <a:pt x="188" y="68"/>
                  <a:pt x="193" y="62"/>
                  <a:pt x="194" y="55"/>
                </a:cubicBezTo>
                <a:cubicBezTo>
                  <a:pt x="194" y="54"/>
                  <a:pt x="194" y="52"/>
                  <a:pt x="194" y="51"/>
                </a:cubicBezTo>
                <a:cubicBezTo>
                  <a:pt x="106" y="0"/>
                  <a:pt x="106" y="0"/>
                  <a:pt x="106" y="0"/>
                </a:cubicBezTo>
                <a:cubicBezTo>
                  <a:pt x="38" y="117"/>
                  <a:pt x="0" y="253"/>
                  <a:pt x="0" y="397"/>
                </a:cubicBezTo>
                <a:cubicBezTo>
                  <a:pt x="0" y="542"/>
                  <a:pt x="38" y="677"/>
                  <a:pt x="106" y="794"/>
                </a:cubicBezTo>
                <a:cubicBezTo>
                  <a:pt x="243" y="1031"/>
                  <a:pt x="500" y="1191"/>
                  <a:pt x="793" y="1191"/>
                </a:cubicBezTo>
                <a:cubicBezTo>
                  <a:pt x="793" y="1099"/>
                  <a:pt x="793" y="1099"/>
                  <a:pt x="793" y="1099"/>
                </a:cubicBezTo>
                <a:cubicBezTo>
                  <a:pt x="793" y="1092"/>
                  <a:pt x="793" y="1092"/>
                  <a:pt x="793" y="1092"/>
                </a:cubicBezTo>
                <a:cubicBezTo>
                  <a:pt x="795" y="1091"/>
                  <a:pt x="796" y="1090"/>
                  <a:pt x="797" y="1090"/>
                </a:cubicBezTo>
                <a:cubicBezTo>
                  <a:pt x="803" y="1087"/>
                  <a:pt x="811" y="1088"/>
                  <a:pt x="815" y="1093"/>
                </a:cubicBezTo>
                <a:cubicBezTo>
                  <a:pt x="820" y="1098"/>
                  <a:pt x="827" y="1101"/>
                  <a:pt x="835" y="1101"/>
                </a:cubicBezTo>
                <a:cubicBezTo>
                  <a:pt x="851" y="1101"/>
                  <a:pt x="864" y="1087"/>
                  <a:pt x="864" y="1070"/>
                </a:cubicBezTo>
                <a:cubicBezTo>
                  <a:pt x="864" y="1054"/>
                  <a:pt x="851" y="1040"/>
                  <a:pt x="835" y="1040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"/>
          <p:cNvSpPr/>
          <p:nvPr/>
        </p:nvSpPr>
        <p:spPr>
          <a:xfrm rot="3600000">
            <a:off x="4019400" y="2255760"/>
            <a:ext cx="3190680" cy="1219320"/>
          </a:xfrm>
          <a:custGeom>
            <a:avLst/>
            <a:gdLst>
              <a:gd name="textAreaLeft" fmla="*/ 0 w 3190680"/>
              <a:gd name="textAreaRight" fmla="*/ 3191040 w 31906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375" h="527">
                <a:moveTo>
                  <a:pt x="1164" y="518"/>
                </a:moveTo>
                <a:cubicBezTo>
                  <a:pt x="1252" y="467"/>
                  <a:pt x="1252" y="467"/>
                  <a:pt x="1252" y="467"/>
                </a:cubicBezTo>
                <a:cubicBezTo>
                  <a:pt x="1252" y="466"/>
                  <a:pt x="1252" y="465"/>
                  <a:pt x="1252" y="463"/>
                </a:cubicBezTo>
                <a:cubicBezTo>
                  <a:pt x="1251" y="456"/>
                  <a:pt x="1246" y="450"/>
                  <a:pt x="1240" y="449"/>
                </a:cubicBezTo>
                <a:cubicBezTo>
                  <a:pt x="1240" y="449"/>
                  <a:pt x="1240" y="449"/>
                  <a:pt x="1240" y="449"/>
                </a:cubicBezTo>
                <a:cubicBezTo>
                  <a:pt x="1233" y="447"/>
                  <a:pt x="1227" y="443"/>
                  <a:pt x="1224" y="436"/>
                </a:cubicBezTo>
                <a:cubicBezTo>
                  <a:pt x="1216" y="422"/>
                  <a:pt x="1221" y="404"/>
                  <a:pt x="1235" y="395"/>
                </a:cubicBezTo>
                <a:cubicBezTo>
                  <a:pt x="1250" y="387"/>
                  <a:pt x="1268" y="392"/>
                  <a:pt x="1276" y="406"/>
                </a:cubicBezTo>
                <a:cubicBezTo>
                  <a:pt x="1280" y="412"/>
                  <a:pt x="1281" y="420"/>
                  <a:pt x="1279" y="427"/>
                </a:cubicBezTo>
                <a:cubicBezTo>
                  <a:pt x="1277" y="432"/>
                  <a:pt x="1280" y="440"/>
                  <a:pt x="1285" y="444"/>
                </a:cubicBezTo>
                <a:cubicBezTo>
                  <a:pt x="1287" y="445"/>
                  <a:pt x="1288" y="445"/>
                  <a:pt x="1289" y="446"/>
                </a:cubicBezTo>
                <a:cubicBezTo>
                  <a:pt x="1375" y="396"/>
                  <a:pt x="1375" y="396"/>
                  <a:pt x="1375" y="396"/>
                </a:cubicBezTo>
                <a:cubicBezTo>
                  <a:pt x="1238" y="159"/>
                  <a:pt x="981" y="0"/>
                  <a:pt x="687" y="0"/>
                </a:cubicBezTo>
                <a:cubicBezTo>
                  <a:pt x="394" y="0"/>
                  <a:pt x="137" y="159"/>
                  <a:pt x="0" y="396"/>
                </a:cubicBezTo>
                <a:cubicBezTo>
                  <a:pt x="88" y="447"/>
                  <a:pt x="88" y="447"/>
                  <a:pt x="88" y="447"/>
                </a:cubicBezTo>
                <a:cubicBezTo>
                  <a:pt x="88" y="448"/>
                  <a:pt x="88" y="450"/>
                  <a:pt x="88" y="451"/>
                </a:cubicBezTo>
                <a:cubicBezTo>
                  <a:pt x="87" y="458"/>
                  <a:pt x="82" y="464"/>
                  <a:pt x="76" y="465"/>
                </a:cubicBezTo>
                <a:cubicBezTo>
                  <a:pt x="69" y="467"/>
                  <a:pt x="63" y="472"/>
                  <a:pt x="60" y="478"/>
                </a:cubicBezTo>
                <a:cubicBezTo>
                  <a:pt x="52" y="492"/>
                  <a:pt x="57" y="511"/>
                  <a:pt x="71" y="519"/>
                </a:cubicBezTo>
                <a:cubicBezTo>
                  <a:pt x="86" y="527"/>
                  <a:pt x="104" y="523"/>
                  <a:pt x="112" y="509"/>
                </a:cubicBezTo>
                <a:cubicBezTo>
                  <a:pt x="116" y="502"/>
                  <a:pt x="117" y="495"/>
                  <a:pt x="115" y="488"/>
                </a:cubicBezTo>
                <a:cubicBezTo>
                  <a:pt x="115" y="488"/>
                  <a:pt x="115" y="488"/>
                  <a:pt x="115" y="488"/>
                </a:cubicBezTo>
                <a:cubicBezTo>
                  <a:pt x="113" y="482"/>
                  <a:pt x="116" y="475"/>
                  <a:pt x="122" y="471"/>
                </a:cubicBezTo>
                <a:cubicBezTo>
                  <a:pt x="123" y="470"/>
                  <a:pt x="124" y="469"/>
                  <a:pt x="125" y="469"/>
                </a:cubicBezTo>
                <a:cubicBezTo>
                  <a:pt x="211" y="518"/>
                  <a:pt x="211" y="518"/>
                  <a:pt x="211" y="518"/>
                </a:cubicBezTo>
                <a:cubicBezTo>
                  <a:pt x="306" y="354"/>
                  <a:pt x="484" y="243"/>
                  <a:pt x="687" y="243"/>
                </a:cubicBezTo>
                <a:cubicBezTo>
                  <a:pt x="891" y="243"/>
                  <a:pt x="1069" y="354"/>
                  <a:pt x="1164" y="518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"/>
          <p:cNvSpPr/>
          <p:nvPr/>
        </p:nvSpPr>
        <p:spPr>
          <a:xfrm rot="7200000">
            <a:off x="4496400" y="2107080"/>
            <a:ext cx="1282680" cy="19447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550" h="836">
                <a:moveTo>
                  <a:pt x="550" y="132"/>
                </a:moveTo>
                <a:cubicBezTo>
                  <a:pt x="549" y="131"/>
                  <a:pt x="548" y="131"/>
                  <a:pt x="547" y="130"/>
                </a:cubicBezTo>
                <a:cubicBezTo>
                  <a:pt x="540" y="127"/>
                  <a:pt x="533" y="129"/>
                  <a:pt x="529" y="133"/>
                </a:cubicBezTo>
                <a:cubicBezTo>
                  <a:pt x="529" y="133"/>
                  <a:pt x="529" y="133"/>
                  <a:pt x="529" y="133"/>
                </a:cubicBezTo>
                <a:cubicBezTo>
                  <a:pt x="523" y="138"/>
                  <a:pt x="517" y="141"/>
                  <a:pt x="509" y="141"/>
                </a:cubicBezTo>
                <a:cubicBezTo>
                  <a:pt x="493" y="141"/>
                  <a:pt x="480" y="127"/>
                  <a:pt x="480" y="111"/>
                </a:cubicBezTo>
                <a:cubicBezTo>
                  <a:pt x="480" y="94"/>
                  <a:pt x="493" y="80"/>
                  <a:pt x="509" y="80"/>
                </a:cubicBezTo>
                <a:cubicBezTo>
                  <a:pt x="517" y="80"/>
                  <a:pt x="524" y="83"/>
                  <a:pt x="529" y="88"/>
                </a:cubicBezTo>
                <a:cubicBezTo>
                  <a:pt x="533" y="93"/>
                  <a:pt x="540" y="94"/>
                  <a:pt x="547" y="91"/>
                </a:cubicBezTo>
                <a:cubicBezTo>
                  <a:pt x="548" y="91"/>
                  <a:pt x="549" y="90"/>
                  <a:pt x="550" y="89"/>
                </a:cubicBezTo>
                <a:cubicBezTo>
                  <a:pt x="550" y="82"/>
                  <a:pt x="550" y="82"/>
                  <a:pt x="550" y="82"/>
                </a:cubicBezTo>
                <a:cubicBezTo>
                  <a:pt x="550" y="0"/>
                  <a:pt x="550" y="0"/>
                  <a:pt x="550" y="0"/>
                </a:cubicBezTo>
                <a:cubicBezTo>
                  <a:pt x="246" y="0"/>
                  <a:pt x="0" y="246"/>
                  <a:pt x="0" y="550"/>
                </a:cubicBezTo>
                <a:cubicBezTo>
                  <a:pt x="0" y="651"/>
                  <a:pt x="27" y="745"/>
                  <a:pt x="74" y="825"/>
                </a:cubicBezTo>
                <a:cubicBezTo>
                  <a:pt x="153" y="780"/>
                  <a:pt x="153" y="780"/>
                  <a:pt x="153" y="780"/>
                </a:cubicBezTo>
                <a:cubicBezTo>
                  <a:pt x="158" y="784"/>
                  <a:pt x="160" y="791"/>
                  <a:pt x="158" y="796"/>
                </a:cubicBezTo>
                <a:cubicBezTo>
                  <a:pt x="157" y="803"/>
                  <a:pt x="158" y="810"/>
                  <a:pt x="161" y="817"/>
                </a:cubicBezTo>
                <a:cubicBezTo>
                  <a:pt x="170" y="831"/>
                  <a:pt x="188" y="836"/>
                  <a:pt x="202" y="827"/>
                </a:cubicBezTo>
                <a:cubicBezTo>
                  <a:pt x="217" y="819"/>
                  <a:pt x="222" y="801"/>
                  <a:pt x="214" y="786"/>
                </a:cubicBezTo>
                <a:cubicBezTo>
                  <a:pt x="210" y="780"/>
                  <a:pt x="204" y="776"/>
                  <a:pt x="198" y="773"/>
                </a:cubicBezTo>
                <a:cubicBezTo>
                  <a:pt x="198" y="773"/>
                  <a:pt x="198" y="773"/>
                  <a:pt x="198" y="773"/>
                </a:cubicBezTo>
                <a:cubicBezTo>
                  <a:pt x="192" y="772"/>
                  <a:pt x="187" y="767"/>
                  <a:pt x="186" y="761"/>
                </a:cubicBezTo>
                <a:cubicBezTo>
                  <a:pt x="266" y="714"/>
                  <a:pt x="266" y="714"/>
                  <a:pt x="266" y="714"/>
                </a:cubicBezTo>
                <a:cubicBezTo>
                  <a:pt x="238" y="666"/>
                  <a:pt x="222" y="610"/>
                  <a:pt x="222" y="550"/>
                </a:cubicBezTo>
                <a:cubicBezTo>
                  <a:pt x="222" y="369"/>
                  <a:pt x="369" y="222"/>
                  <a:pt x="550" y="222"/>
                </a:cubicBezTo>
                <a:cubicBezTo>
                  <a:pt x="550" y="143"/>
                  <a:pt x="550" y="143"/>
                  <a:pt x="550" y="143"/>
                </a:cubicBezTo>
                <a:lnTo>
                  <a:pt x="550" y="132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 rot="7200000">
            <a:off x="3824280" y="3163680"/>
            <a:ext cx="1447560" cy="19209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621" h="826">
                <a:moveTo>
                  <a:pt x="70" y="0"/>
                </a:moveTo>
                <a:cubicBezTo>
                  <a:pt x="70" y="82"/>
                  <a:pt x="70" y="82"/>
                  <a:pt x="70" y="82"/>
                </a:cubicBezTo>
                <a:cubicBezTo>
                  <a:pt x="70" y="89"/>
                  <a:pt x="70" y="89"/>
                  <a:pt x="70" y="89"/>
                </a:cubicBezTo>
                <a:cubicBezTo>
                  <a:pt x="69" y="90"/>
                  <a:pt x="68" y="91"/>
                  <a:pt x="67" y="91"/>
                </a:cubicBezTo>
                <a:cubicBezTo>
                  <a:pt x="60" y="94"/>
                  <a:pt x="53" y="93"/>
                  <a:pt x="49" y="88"/>
                </a:cubicBezTo>
                <a:cubicBezTo>
                  <a:pt x="44" y="83"/>
                  <a:pt x="37" y="80"/>
                  <a:pt x="29" y="80"/>
                </a:cubicBezTo>
                <a:cubicBezTo>
                  <a:pt x="13" y="80"/>
                  <a:pt x="0" y="94"/>
                  <a:pt x="0" y="111"/>
                </a:cubicBezTo>
                <a:cubicBezTo>
                  <a:pt x="0" y="127"/>
                  <a:pt x="13" y="141"/>
                  <a:pt x="29" y="141"/>
                </a:cubicBezTo>
                <a:cubicBezTo>
                  <a:pt x="37" y="141"/>
                  <a:pt x="43" y="138"/>
                  <a:pt x="49" y="133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3" y="129"/>
                  <a:pt x="60" y="127"/>
                  <a:pt x="67" y="130"/>
                </a:cubicBezTo>
                <a:cubicBezTo>
                  <a:pt x="68" y="131"/>
                  <a:pt x="69" y="131"/>
                  <a:pt x="70" y="132"/>
                </a:cubicBezTo>
                <a:cubicBezTo>
                  <a:pt x="70" y="143"/>
                  <a:pt x="70" y="143"/>
                  <a:pt x="70" y="143"/>
                </a:cubicBezTo>
                <a:cubicBezTo>
                  <a:pt x="70" y="222"/>
                  <a:pt x="70" y="222"/>
                  <a:pt x="70" y="222"/>
                </a:cubicBezTo>
                <a:cubicBezTo>
                  <a:pt x="70" y="222"/>
                  <a:pt x="70" y="222"/>
                  <a:pt x="70" y="222"/>
                </a:cubicBezTo>
                <a:cubicBezTo>
                  <a:pt x="252" y="222"/>
                  <a:pt x="398" y="369"/>
                  <a:pt x="398" y="550"/>
                </a:cubicBezTo>
                <a:cubicBezTo>
                  <a:pt x="398" y="610"/>
                  <a:pt x="382" y="666"/>
                  <a:pt x="354" y="714"/>
                </a:cubicBezTo>
                <a:cubicBezTo>
                  <a:pt x="433" y="759"/>
                  <a:pt x="433" y="759"/>
                  <a:pt x="433" y="759"/>
                </a:cubicBezTo>
                <a:cubicBezTo>
                  <a:pt x="434" y="759"/>
                  <a:pt x="435" y="758"/>
                  <a:pt x="436" y="758"/>
                </a:cubicBezTo>
                <a:cubicBezTo>
                  <a:pt x="442" y="753"/>
                  <a:pt x="445" y="746"/>
                  <a:pt x="443" y="740"/>
                </a:cubicBezTo>
                <a:cubicBezTo>
                  <a:pt x="443" y="740"/>
                  <a:pt x="443" y="740"/>
                  <a:pt x="443" y="740"/>
                </a:cubicBezTo>
                <a:cubicBezTo>
                  <a:pt x="441" y="733"/>
                  <a:pt x="442" y="726"/>
                  <a:pt x="446" y="720"/>
                </a:cubicBezTo>
                <a:cubicBezTo>
                  <a:pt x="454" y="705"/>
                  <a:pt x="472" y="701"/>
                  <a:pt x="487" y="709"/>
                </a:cubicBezTo>
                <a:cubicBezTo>
                  <a:pt x="501" y="717"/>
                  <a:pt x="506" y="736"/>
                  <a:pt x="498" y="750"/>
                </a:cubicBezTo>
                <a:cubicBezTo>
                  <a:pt x="494" y="756"/>
                  <a:pt x="489" y="761"/>
                  <a:pt x="482" y="763"/>
                </a:cubicBezTo>
                <a:cubicBezTo>
                  <a:pt x="476" y="764"/>
                  <a:pt x="471" y="770"/>
                  <a:pt x="470" y="777"/>
                </a:cubicBezTo>
                <a:cubicBezTo>
                  <a:pt x="470" y="778"/>
                  <a:pt x="470" y="780"/>
                  <a:pt x="470" y="781"/>
                </a:cubicBezTo>
                <a:cubicBezTo>
                  <a:pt x="547" y="826"/>
                  <a:pt x="547" y="826"/>
                  <a:pt x="547" y="826"/>
                </a:cubicBezTo>
                <a:cubicBezTo>
                  <a:pt x="594" y="745"/>
                  <a:pt x="621" y="651"/>
                  <a:pt x="621" y="550"/>
                </a:cubicBezTo>
                <a:cubicBezTo>
                  <a:pt x="621" y="246"/>
                  <a:pt x="374" y="0"/>
                  <a:pt x="70" y="0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1"/>
          <p:cNvSpPr/>
          <p:nvPr/>
        </p:nvSpPr>
        <p:spPr>
          <a:xfrm rot="7200000">
            <a:off x="2733120" y="2606400"/>
            <a:ext cx="2217600" cy="93204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953" h="400">
                <a:moveTo>
                  <a:pt x="876" y="80"/>
                </a:moveTo>
                <a:cubicBezTo>
                  <a:pt x="876" y="79"/>
                  <a:pt x="876" y="77"/>
                  <a:pt x="876" y="76"/>
                </a:cubicBezTo>
                <a:cubicBezTo>
                  <a:pt x="877" y="69"/>
                  <a:pt x="882" y="63"/>
                  <a:pt x="888" y="62"/>
                </a:cubicBezTo>
                <a:cubicBezTo>
                  <a:pt x="895" y="60"/>
                  <a:pt x="900" y="55"/>
                  <a:pt x="904" y="49"/>
                </a:cubicBezTo>
                <a:cubicBezTo>
                  <a:pt x="912" y="35"/>
                  <a:pt x="907" y="16"/>
                  <a:pt x="893" y="8"/>
                </a:cubicBezTo>
                <a:cubicBezTo>
                  <a:pt x="878" y="0"/>
                  <a:pt x="860" y="4"/>
                  <a:pt x="852" y="19"/>
                </a:cubicBezTo>
                <a:cubicBezTo>
                  <a:pt x="848" y="25"/>
                  <a:pt x="847" y="32"/>
                  <a:pt x="849" y="39"/>
                </a:cubicBezTo>
                <a:cubicBezTo>
                  <a:pt x="849" y="39"/>
                  <a:pt x="849" y="39"/>
                  <a:pt x="849" y="39"/>
                </a:cubicBezTo>
                <a:cubicBezTo>
                  <a:pt x="851" y="45"/>
                  <a:pt x="848" y="52"/>
                  <a:pt x="842" y="57"/>
                </a:cubicBezTo>
                <a:cubicBezTo>
                  <a:pt x="841" y="57"/>
                  <a:pt x="840" y="58"/>
                  <a:pt x="839" y="58"/>
                </a:cubicBezTo>
                <a:cubicBezTo>
                  <a:pt x="760" y="13"/>
                  <a:pt x="760" y="13"/>
                  <a:pt x="760" y="13"/>
                </a:cubicBezTo>
                <a:cubicBezTo>
                  <a:pt x="704" y="111"/>
                  <a:pt x="598" y="177"/>
                  <a:pt x="476" y="177"/>
                </a:cubicBezTo>
                <a:cubicBezTo>
                  <a:pt x="355" y="177"/>
                  <a:pt x="249" y="111"/>
                  <a:pt x="192" y="13"/>
                </a:cubicBezTo>
                <a:cubicBezTo>
                  <a:pt x="112" y="60"/>
                  <a:pt x="112" y="60"/>
                  <a:pt x="112" y="60"/>
                </a:cubicBezTo>
                <a:cubicBezTo>
                  <a:pt x="113" y="66"/>
                  <a:pt x="118" y="71"/>
                  <a:pt x="124" y="72"/>
                </a:cubicBezTo>
                <a:cubicBezTo>
                  <a:pt x="124" y="72"/>
                  <a:pt x="124" y="72"/>
                  <a:pt x="124" y="72"/>
                </a:cubicBezTo>
                <a:cubicBezTo>
                  <a:pt x="130" y="75"/>
                  <a:pt x="136" y="79"/>
                  <a:pt x="140" y="85"/>
                </a:cubicBezTo>
                <a:cubicBezTo>
                  <a:pt x="148" y="100"/>
                  <a:pt x="143" y="118"/>
                  <a:pt x="128" y="126"/>
                </a:cubicBezTo>
                <a:cubicBezTo>
                  <a:pt x="114" y="135"/>
                  <a:pt x="96" y="130"/>
                  <a:pt x="87" y="116"/>
                </a:cubicBezTo>
                <a:cubicBezTo>
                  <a:pt x="84" y="109"/>
                  <a:pt x="83" y="102"/>
                  <a:pt x="84" y="95"/>
                </a:cubicBezTo>
                <a:cubicBezTo>
                  <a:pt x="86" y="90"/>
                  <a:pt x="84" y="83"/>
                  <a:pt x="79" y="79"/>
                </a:cubicBezTo>
                <a:cubicBezTo>
                  <a:pt x="0" y="124"/>
                  <a:pt x="0" y="124"/>
                  <a:pt x="0" y="124"/>
                </a:cubicBezTo>
                <a:cubicBezTo>
                  <a:pt x="95" y="289"/>
                  <a:pt x="273" y="400"/>
                  <a:pt x="476" y="400"/>
                </a:cubicBezTo>
                <a:cubicBezTo>
                  <a:pt x="680" y="400"/>
                  <a:pt x="858" y="289"/>
                  <a:pt x="953" y="125"/>
                </a:cubicBezTo>
                <a:lnTo>
                  <a:pt x="876" y="8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3870360" y="2803680"/>
            <a:ext cx="1360440" cy="1355400"/>
          </a:xfrm>
          <a:prstGeom prst="ellipse">
            <a:avLst/>
          </a:pr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3841920" y="314640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357120" y="2131920"/>
            <a:ext cx="287496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 flipH="1">
            <a:off x="5914800" y="2131920"/>
            <a:ext cx="288900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5"/>
          <p:cNvSpPr/>
          <p:nvPr/>
        </p:nvSpPr>
        <p:spPr>
          <a:xfrm>
            <a:off x="298440" y="2619360"/>
            <a:ext cx="222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7211880" y="47545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6443640" y="5111640"/>
            <a:ext cx="2386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 flipH="1">
            <a:off x="6109920" y="4641840"/>
            <a:ext cx="269388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3713040"/>
            <a:ext cx="9144000" cy="1676160"/>
            <a:chOff x="0" y="3713040"/>
            <a:chExt cx="9144000" cy="1676160"/>
          </a:xfrm>
        </p:grpSpPr>
        <p:sp>
          <p:nvSpPr>
            <p:cNvPr id="399" name="Rectangle 3"/>
            <p:cNvSpPr/>
            <p:nvPr/>
          </p:nvSpPr>
          <p:spPr>
            <a:xfrm>
              <a:off x="0" y="409248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 flipV="1">
              <a:off x="0" y="37126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Freeform 2"/>
          <p:cNvSpPr/>
          <p:nvPr/>
        </p:nvSpPr>
        <p:spPr>
          <a:xfrm>
            <a:off x="412920" y="1906560"/>
            <a:ext cx="2244600" cy="3826080"/>
          </a:xfrm>
          <a:custGeom>
            <a:avLst/>
            <a:gdLst>
              <a:gd name="textAreaLeft" fmla="*/ 0 w 2244600"/>
              <a:gd name="textAreaRight" fmla="*/ 2244960 w 2244600"/>
              <a:gd name="textAreaTop" fmla="*/ 0 h 3826080"/>
              <a:gd name="textAreaBottom" fmla="*/ 3826440 h 3826080"/>
            </a:gdLst>
            <a:ahLst/>
            <a:rect l="textAreaLeft" t="textAreaTop" r="textAreaRight" b="textAreaBottom"/>
            <a:pathLst>
              <a:path w="1414" h="2410">
                <a:moveTo>
                  <a:pt x="0" y="706"/>
                </a:moveTo>
                <a:lnTo>
                  <a:pt x="409" y="0"/>
                </a:lnTo>
                <a:lnTo>
                  <a:pt x="1414" y="2"/>
                </a:lnTo>
                <a:lnTo>
                  <a:pt x="1411" y="2410"/>
                </a:lnTo>
                <a:lnTo>
                  <a:pt x="0" y="7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657520" y="1916280"/>
            <a:ext cx="6143760" cy="36180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657520" y="2278080"/>
            <a:ext cx="6143760" cy="344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"/>
          <p:cNvGrpSpPr/>
          <p:nvPr/>
        </p:nvGrpSpPr>
        <p:grpSpPr>
          <a:xfrm>
            <a:off x="52560" y="1730880"/>
            <a:ext cx="1976040" cy="1937880"/>
            <a:chOff x="52560" y="1730880"/>
            <a:chExt cx="1976040" cy="1937880"/>
          </a:xfrm>
        </p:grpSpPr>
        <p:grpSp>
          <p:nvGrpSpPr>
            <p:cNvPr id="405" name="Group 6"/>
            <p:cNvGrpSpPr/>
            <p:nvPr/>
          </p:nvGrpSpPr>
          <p:grpSpPr>
            <a:xfrm>
              <a:off x="52560" y="1730880"/>
              <a:ext cx="1976040" cy="1937880"/>
              <a:chOff x="52560" y="1730880"/>
              <a:chExt cx="1976040" cy="1937880"/>
            </a:xfrm>
          </p:grpSpPr>
          <p:grpSp>
            <p:nvGrpSpPr>
              <p:cNvPr id="406" name="Group 7"/>
              <p:cNvGrpSpPr/>
              <p:nvPr/>
            </p:nvGrpSpPr>
            <p:grpSpPr>
              <a:xfrm>
                <a:off x="52560" y="1730880"/>
                <a:ext cx="1976040" cy="1937880"/>
                <a:chOff x="52560" y="1730880"/>
                <a:chExt cx="1976040" cy="1937880"/>
              </a:xfrm>
            </p:grpSpPr>
            <p:sp>
              <p:nvSpPr>
                <p:cNvPr id="407" name="Freeform 8"/>
                <p:cNvSpPr/>
                <p:nvPr/>
              </p:nvSpPr>
              <p:spPr>
                <a:xfrm rot="3600000">
                  <a:off x="724680" y="2508120"/>
                  <a:ext cx="741240" cy="111960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1119600"/>
                    <a:gd name="textAreaBottom" fmla="*/ 1119600 h 1119600"/>
                  </a:gdLst>
                  <a:ahLst/>
                  <a:rect l="textAreaLeft" t="textAreaTop" r="textAreaRight" b="textAreaBottom"/>
                  <a:pathLst>
                    <a:path w="794" h="1200">
                      <a:moveTo>
                        <a:pt x="688" y="9"/>
                      </a:moveTo>
                      <a:cubicBezTo>
                        <a:pt x="602" y="59"/>
                        <a:pt x="602" y="59"/>
                        <a:pt x="602" y="59"/>
                      </a:cubicBezTo>
                      <a:cubicBezTo>
                        <a:pt x="601" y="58"/>
                        <a:pt x="600" y="58"/>
                        <a:pt x="598" y="57"/>
                      </a:cubicBezTo>
                      <a:cubicBezTo>
                        <a:pt x="593" y="53"/>
                        <a:pt x="590" y="45"/>
                        <a:pt x="592" y="40"/>
                      </a:cubicBezTo>
                      <a:cubicBezTo>
                        <a:pt x="594" y="33"/>
                        <a:pt x="593" y="25"/>
                        <a:pt x="589" y="19"/>
                      </a:cubicBezTo>
                      <a:cubicBezTo>
                        <a:pt x="581" y="5"/>
                        <a:pt x="563" y="0"/>
                        <a:pt x="548" y="8"/>
                      </a:cubicBezTo>
                      <a:cubicBezTo>
                        <a:pt x="534" y="17"/>
                        <a:pt x="529" y="35"/>
                        <a:pt x="537" y="49"/>
                      </a:cubicBezTo>
                      <a:cubicBezTo>
                        <a:pt x="540" y="56"/>
                        <a:pt x="546" y="60"/>
                        <a:pt x="553" y="62"/>
                      </a:cubicBezTo>
                      <a:cubicBezTo>
                        <a:pt x="553" y="62"/>
                        <a:pt x="553" y="62"/>
                        <a:pt x="553" y="62"/>
                      </a:cubicBezTo>
                      <a:cubicBezTo>
                        <a:pt x="559" y="63"/>
                        <a:pt x="564" y="69"/>
                        <a:pt x="565" y="76"/>
                      </a:cubicBezTo>
                      <a:cubicBezTo>
                        <a:pt x="565" y="78"/>
                        <a:pt x="565" y="79"/>
                        <a:pt x="565" y="80"/>
                      </a:cubicBezTo>
                      <a:cubicBezTo>
                        <a:pt x="477" y="131"/>
                        <a:pt x="477" y="131"/>
                        <a:pt x="477" y="131"/>
                      </a:cubicBezTo>
                      <a:cubicBezTo>
                        <a:pt x="524" y="212"/>
                        <a:pt x="551" y="306"/>
                        <a:pt x="551" y="406"/>
                      </a:cubicBezTo>
                      <a:cubicBezTo>
                        <a:pt x="551" y="507"/>
                        <a:pt x="524" y="601"/>
                        <a:pt x="477" y="681"/>
                      </a:cubicBezTo>
                      <a:cubicBezTo>
                        <a:pt x="382" y="846"/>
                        <a:pt x="204" y="957"/>
                        <a:pt x="0" y="957"/>
                      </a:cubicBezTo>
                      <a:cubicBezTo>
                        <a:pt x="0" y="1047"/>
                        <a:pt x="0" y="1047"/>
                        <a:pt x="0" y="1047"/>
                      </a:cubicBezTo>
                      <a:cubicBezTo>
                        <a:pt x="0" y="1058"/>
                        <a:pt x="0" y="1058"/>
                        <a:pt x="0" y="1058"/>
                      </a:cubicBezTo>
                      <a:cubicBezTo>
                        <a:pt x="2" y="1058"/>
                        <a:pt x="3" y="1059"/>
                        <a:pt x="4" y="1060"/>
                      </a:cubicBezTo>
                      <a:cubicBezTo>
                        <a:pt x="10" y="1063"/>
                        <a:pt x="18" y="1061"/>
                        <a:pt x="22" y="1056"/>
                      </a:cubicBezTo>
                      <a:cubicBezTo>
                        <a:pt x="22" y="1056"/>
                        <a:pt x="22" y="1056"/>
                        <a:pt x="22" y="1056"/>
                      </a:cubicBezTo>
                      <a:cubicBezTo>
                        <a:pt x="27" y="1052"/>
                        <a:pt x="34" y="1049"/>
                        <a:pt x="42" y="1049"/>
                      </a:cubicBezTo>
                      <a:cubicBezTo>
                        <a:pt x="58" y="1049"/>
                        <a:pt x="71" y="1063"/>
                        <a:pt x="71" y="1079"/>
                      </a:cubicBezTo>
                      <a:cubicBezTo>
                        <a:pt x="71" y="1096"/>
                        <a:pt x="58" y="1110"/>
                        <a:pt x="42" y="1110"/>
                      </a:cubicBezTo>
                      <a:cubicBezTo>
                        <a:pt x="34" y="1110"/>
                        <a:pt x="27" y="1107"/>
                        <a:pt x="22" y="1102"/>
                      </a:cubicBezTo>
                      <a:cubicBezTo>
                        <a:pt x="18" y="1097"/>
                        <a:pt x="10" y="1096"/>
                        <a:pt x="4" y="1099"/>
                      </a:cubicBezTo>
                      <a:cubicBezTo>
                        <a:pt x="3" y="1099"/>
                        <a:pt x="2" y="1100"/>
                        <a:pt x="0" y="1101"/>
                      </a:cubicBezTo>
                      <a:cubicBezTo>
                        <a:pt x="0" y="1108"/>
                        <a:pt x="0" y="1108"/>
                        <a:pt x="0" y="1108"/>
                      </a:cubicBezTo>
                      <a:cubicBezTo>
                        <a:pt x="0" y="1200"/>
                        <a:pt x="0" y="1200"/>
                        <a:pt x="0" y="1200"/>
                      </a:cubicBezTo>
                      <a:cubicBezTo>
                        <a:pt x="294" y="1200"/>
                        <a:pt x="551" y="1040"/>
                        <a:pt x="688" y="803"/>
                      </a:cubicBezTo>
                      <a:cubicBezTo>
                        <a:pt x="755" y="686"/>
                        <a:pt x="794" y="551"/>
                        <a:pt x="794" y="406"/>
                      </a:cubicBezTo>
                      <a:cubicBezTo>
                        <a:pt x="794" y="262"/>
                        <a:pt x="755" y="126"/>
                        <a:pt x="688" y="9"/>
                      </a:cubicBezTo>
                      <a:close/>
                    </a:path>
                  </a:pathLst>
                </a:custGeom>
                <a:solidFill>
                  <a:srgbClr val="9f9f9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"/>
                <p:cNvSpPr/>
                <p:nvPr/>
              </p:nvSpPr>
              <p:spPr>
                <a:xfrm rot="3600000">
                  <a:off x="331920" y="1902240"/>
                  <a:ext cx="806400" cy="1110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110600"/>
                    <a:gd name="textAreaBottom" fmla="*/ 1110960 h 1110600"/>
                  </a:gdLst>
                  <a:ahLst/>
                  <a:rect l="textAreaLeft" t="textAreaTop" r="textAreaRight" b="textAreaBottom"/>
                  <a:pathLst>
                    <a:path w="864" h="1191">
                      <a:moveTo>
                        <a:pt x="835" y="1040"/>
                      </a:moveTo>
                      <a:cubicBezTo>
                        <a:pt x="827" y="1040"/>
                        <a:pt x="820" y="1043"/>
                        <a:pt x="815" y="1047"/>
                      </a:cubicBezTo>
                      <a:cubicBezTo>
                        <a:pt x="815" y="1047"/>
                        <a:pt x="815" y="1047"/>
                        <a:pt x="815" y="1047"/>
                      </a:cubicBezTo>
                      <a:cubicBezTo>
                        <a:pt x="811" y="1052"/>
                        <a:pt x="803" y="1054"/>
                        <a:pt x="797" y="1051"/>
                      </a:cubicBezTo>
                      <a:cubicBezTo>
                        <a:pt x="796" y="1050"/>
                        <a:pt x="795" y="1049"/>
                        <a:pt x="793" y="1049"/>
                      </a:cubicBezTo>
                      <a:cubicBezTo>
                        <a:pt x="793" y="1038"/>
                        <a:pt x="793" y="1038"/>
                        <a:pt x="793" y="1038"/>
                      </a:cubicBezTo>
                      <a:cubicBezTo>
                        <a:pt x="793" y="948"/>
                        <a:pt x="793" y="948"/>
                        <a:pt x="793" y="948"/>
                      </a:cubicBezTo>
                      <a:cubicBezTo>
                        <a:pt x="590" y="948"/>
                        <a:pt x="412" y="837"/>
                        <a:pt x="317" y="672"/>
                      </a:cubicBezTo>
                      <a:cubicBezTo>
                        <a:pt x="270" y="592"/>
                        <a:pt x="243" y="498"/>
                        <a:pt x="243" y="397"/>
                      </a:cubicBezTo>
                      <a:cubicBezTo>
                        <a:pt x="243" y="297"/>
                        <a:pt x="270" y="203"/>
                        <a:pt x="317" y="122"/>
                      </a:cubicBezTo>
                      <a:cubicBezTo>
                        <a:pt x="231" y="73"/>
                        <a:pt x="231" y="73"/>
                        <a:pt x="231" y="73"/>
                      </a:cubicBezTo>
                      <a:cubicBezTo>
                        <a:pt x="230" y="73"/>
                        <a:pt x="229" y="74"/>
                        <a:pt x="228" y="75"/>
                      </a:cubicBezTo>
                      <a:cubicBezTo>
                        <a:pt x="222" y="79"/>
                        <a:pt x="219" y="86"/>
                        <a:pt x="221" y="92"/>
                      </a:cubicBezTo>
                      <a:cubicBezTo>
                        <a:pt x="221" y="92"/>
                        <a:pt x="221" y="92"/>
                        <a:pt x="221" y="92"/>
                      </a:cubicBezTo>
                      <a:cubicBezTo>
                        <a:pt x="223" y="99"/>
                        <a:pt x="222" y="106"/>
                        <a:pt x="218" y="113"/>
                      </a:cubicBezTo>
                      <a:cubicBezTo>
                        <a:pt x="210" y="127"/>
                        <a:pt x="192" y="131"/>
                        <a:pt x="177" y="123"/>
                      </a:cubicBezTo>
                      <a:cubicBezTo>
                        <a:pt x="163" y="115"/>
                        <a:pt x="158" y="96"/>
                        <a:pt x="166" y="82"/>
                      </a:cubicBezTo>
                      <a:cubicBezTo>
                        <a:pt x="169" y="76"/>
                        <a:pt x="175" y="71"/>
                        <a:pt x="182" y="69"/>
                      </a:cubicBezTo>
                      <a:cubicBezTo>
                        <a:pt x="188" y="68"/>
                        <a:pt x="193" y="62"/>
                        <a:pt x="194" y="55"/>
                      </a:cubicBezTo>
                      <a:cubicBezTo>
                        <a:pt x="194" y="54"/>
                        <a:pt x="194" y="52"/>
                        <a:pt x="194" y="51"/>
                      </a:cubicBezTo>
                      <a:cubicBezTo>
                        <a:pt x="106" y="0"/>
                        <a:pt x="106" y="0"/>
                        <a:pt x="106" y="0"/>
                      </a:cubicBezTo>
                      <a:cubicBezTo>
                        <a:pt x="38" y="117"/>
                        <a:pt x="0" y="253"/>
                        <a:pt x="0" y="397"/>
                      </a:cubicBezTo>
                      <a:cubicBezTo>
                        <a:pt x="0" y="542"/>
                        <a:pt x="38" y="677"/>
                        <a:pt x="106" y="794"/>
                      </a:cubicBezTo>
                      <a:cubicBezTo>
                        <a:pt x="243" y="1031"/>
                        <a:pt x="500" y="1191"/>
                        <a:pt x="793" y="1191"/>
                      </a:cubicBezTo>
                      <a:cubicBezTo>
                        <a:pt x="793" y="1099"/>
                        <a:pt x="793" y="1099"/>
                        <a:pt x="793" y="1099"/>
                      </a:cubicBezTo>
                      <a:cubicBezTo>
                        <a:pt x="793" y="1092"/>
                        <a:pt x="793" y="1092"/>
                        <a:pt x="793" y="1092"/>
                      </a:cubicBezTo>
                      <a:cubicBezTo>
                        <a:pt x="795" y="1091"/>
                        <a:pt x="796" y="1090"/>
                        <a:pt x="797" y="1090"/>
                      </a:cubicBezTo>
                      <a:cubicBezTo>
                        <a:pt x="803" y="1087"/>
                        <a:pt x="811" y="1088"/>
                        <a:pt x="815" y="1093"/>
                      </a:cubicBezTo>
                      <a:cubicBezTo>
                        <a:pt x="820" y="1098"/>
                        <a:pt x="827" y="1101"/>
                        <a:pt x="835" y="1101"/>
                      </a:cubicBezTo>
                      <a:cubicBezTo>
                        <a:pt x="851" y="1101"/>
                        <a:pt x="864" y="1087"/>
                        <a:pt x="864" y="1070"/>
                      </a:cubicBezTo>
                      <a:cubicBezTo>
                        <a:pt x="864" y="1054"/>
                        <a:pt x="851" y="1040"/>
                        <a:pt x="835" y="104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0000"/>
                    </a:gs>
                    <a:gs pos="100000">
                      <a:srgbClr val="ff0000"/>
                    </a:gs>
                  </a:gsLst>
                  <a:lin ang="27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0"/>
                <p:cNvSpPr/>
                <p:nvPr/>
              </p:nvSpPr>
              <p:spPr>
                <a:xfrm rot="3600000">
                  <a:off x="852840" y="2163960"/>
                  <a:ext cx="1284120" cy="490680"/>
                </a:xfrm>
                <a:custGeom>
                  <a:avLst/>
                  <a:gdLst>
                    <a:gd name="textAreaLeft" fmla="*/ 0 w 1284120"/>
                    <a:gd name="textAreaRight" fmla="*/ 1284480 w 1284120"/>
                    <a:gd name="textAreaTop" fmla="*/ 0 h 490680"/>
                    <a:gd name="textAreaBottom" fmla="*/ 491040 h 490680"/>
                  </a:gdLst>
                  <a:ahLst/>
                  <a:rect l="textAreaLeft" t="textAreaTop" r="textAreaRight" b="textAreaBottom"/>
                  <a:pathLst>
                    <a:path w="1375" h="527">
                      <a:moveTo>
                        <a:pt x="1164" y="518"/>
                      </a:moveTo>
                      <a:cubicBezTo>
                        <a:pt x="1252" y="467"/>
                        <a:pt x="1252" y="467"/>
                        <a:pt x="1252" y="467"/>
                      </a:cubicBezTo>
                      <a:cubicBezTo>
                        <a:pt x="1252" y="466"/>
                        <a:pt x="1252" y="465"/>
                        <a:pt x="1252" y="463"/>
                      </a:cubicBezTo>
                      <a:cubicBezTo>
                        <a:pt x="1251" y="456"/>
                        <a:pt x="1246" y="450"/>
                        <a:pt x="1240" y="449"/>
                      </a:cubicBezTo>
                      <a:cubicBezTo>
                        <a:pt x="1240" y="449"/>
                        <a:pt x="1240" y="449"/>
                        <a:pt x="1240" y="449"/>
                      </a:cubicBezTo>
                      <a:cubicBezTo>
                        <a:pt x="1233" y="447"/>
                        <a:pt x="1227" y="443"/>
                        <a:pt x="1224" y="436"/>
                      </a:cubicBezTo>
                      <a:cubicBezTo>
                        <a:pt x="1216" y="422"/>
                        <a:pt x="1221" y="404"/>
                        <a:pt x="1235" y="395"/>
                      </a:cubicBezTo>
                      <a:cubicBezTo>
                        <a:pt x="1250" y="387"/>
                        <a:pt x="1268" y="392"/>
                        <a:pt x="1276" y="406"/>
                      </a:cubicBezTo>
                      <a:cubicBezTo>
                        <a:pt x="1280" y="412"/>
                        <a:pt x="1281" y="420"/>
                        <a:pt x="1279" y="427"/>
                      </a:cubicBezTo>
                      <a:cubicBezTo>
                        <a:pt x="1277" y="432"/>
                        <a:pt x="1280" y="440"/>
                        <a:pt x="1285" y="444"/>
                      </a:cubicBezTo>
                      <a:cubicBezTo>
                        <a:pt x="1287" y="445"/>
                        <a:pt x="1288" y="445"/>
                        <a:pt x="1289" y="446"/>
                      </a:cubicBezTo>
                      <a:cubicBezTo>
                        <a:pt x="1375" y="396"/>
                        <a:pt x="1375" y="396"/>
                        <a:pt x="1375" y="396"/>
                      </a:cubicBezTo>
                      <a:cubicBezTo>
                        <a:pt x="1238" y="159"/>
                        <a:pt x="981" y="0"/>
                        <a:pt x="687" y="0"/>
                      </a:cubicBezTo>
                      <a:cubicBezTo>
                        <a:pt x="394" y="0"/>
                        <a:pt x="137" y="159"/>
                        <a:pt x="0" y="396"/>
                      </a:cubicBezTo>
                      <a:cubicBezTo>
                        <a:pt x="88" y="447"/>
                        <a:pt x="88" y="447"/>
                        <a:pt x="88" y="447"/>
                      </a:cubicBezTo>
                      <a:cubicBezTo>
                        <a:pt x="88" y="448"/>
                        <a:pt x="88" y="450"/>
                        <a:pt x="88" y="451"/>
                      </a:cubicBezTo>
                      <a:cubicBezTo>
                        <a:pt x="87" y="458"/>
                        <a:pt x="82" y="464"/>
                        <a:pt x="76" y="465"/>
                      </a:cubicBezTo>
                      <a:cubicBezTo>
                        <a:pt x="69" y="467"/>
                        <a:pt x="63" y="472"/>
                        <a:pt x="60" y="478"/>
                      </a:cubicBezTo>
                      <a:cubicBezTo>
                        <a:pt x="52" y="492"/>
                        <a:pt x="57" y="511"/>
                        <a:pt x="71" y="519"/>
                      </a:cubicBezTo>
                      <a:cubicBezTo>
                        <a:pt x="86" y="527"/>
                        <a:pt x="104" y="523"/>
                        <a:pt x="112" y="509"/>
                      </a:cubicBezTo>
                      <a:cubicBezTo>
                        <a:pt x="116" y="502"/>
                        <a:pt x="117" y="495"/>
                        <a:pt x="115" y="488"/>
                      </a:cubicBezTo>
                      <a:cubicBezTo>
                        <a:pt x="115" y="488"/>
                        <a:pt x="115" y="488"/>
                        <a:pt x="115" y="488"/>
                      </a:cubicBezTo>
                      <a:cubicBezTo>
                        <a:pt x="113" y="482"/>
                        <a:pt x="116" y="475"/>
                        <a:pt x="122" y="471"/>
                      </a:cubicBezTo>
                      <a:cubicBezTo>
                        <a:pt x="123" y="470"/>
                        <a:pt x="124" y="469"/>
                        <a:pt x="125" y="469"/>
                      </a:cubicBezTo>
                      <a:cubicBezTo>
                        <a:pt x="211" y="518"/>
                        <a:pt x="211" y="518"/>
                        <a:pt x="211" y="518"/>
                      </a:cubicBezTo>
                      <a:cubicBezTo>
                        <a:pt x="306" y="354"/>
                        <a:pt x="484" y="243"/>
                        <a:pt x="687" y="243"/>
                      </a:cubicBezTo>
                      <a:cubicBezTo>
                        <a:pt x="891" y="243"/>
                        <a:pt x="1069" y="354"/>
                        <a:pt x="1164" y="518"/>
                      </a:cubicBezTo>
                      <a:close/>
                    </a:path>
                  </a:pathLst>
                </a:custGeom>
                <a:solidFill>
                  <a:srgbClr val="9f9f9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11"/>
              <p:cNvGrpSpPr/>
              <p:nvPr/>
            </p:nvGrpSpPr>
            <p:grpSpPr>
              <a:xfrm>
                <a:off x="393840" y="2011680"/>
                <a:ext cx="1376640" cy="1352160"/>
                <a:chOff x="393840" y="2011680"/>
                <a:chExt cx="1376640" cy="1352160"/>
              </a:xfrm>
            </p:grpSpPr>
            <p:sp>
              <p:nvSpPr>
                <p:cNvPr id="411" name="Freeform 12"/>
                <p:cNvSpPr/>
                <p:nvPr/>
              </p:nvSpPr>
              <p:spPr>
                <a:xfrm rot="7200000">
                  <a:off x="1042920" y="2103480"/>
                  <a:ext cx="517320" cy="78408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784080"/>
                    <a:gd name="textAreaBottom" fmla="*/ 784440 h 784080"/>
                  </a:gdLst>
                  <a:ahLst/>
                  <a:rect l="textAreaLeft" t="textAreaTop" r="textAreaRight" b="textAreaBottom"/>
                  <a:pathLst>
                    <a:path w="550" h="836">
                      <a:moveTo>
                        <a:pt x="550" y="132"/>
                      </a:moveTo>
                      <a:cubicBezTo>
                        <a:pt x="549" y="131"/>
                        <a:pt x="548" y="131"/>
                        <a:pt x="547" y="130"/>
                      </a:cubicBezTo>
                      <a:cubicBezTo>
                        <a:pt x="540" y="127"/>
                        <a:pt x="533" y="129"/>
                        <a:pt x="529" y="133"/>
                      </a:cubicBezTo>
                      <a:cubicBezTo>
                        <a:pt x="529" y="133"/>
                        <a:pt x="529" y="133"/>
                        <a:pt x="529" y="133"/>
                      </a:cubicBezTo>
                      <a:cubicBezTo>
                        <a:pt x="523" y="138"/>
                        <a:pt x="517" y="141"/>
                        <a:pt x="509" y="141"/>
                      </a:cubicBezTo>
                      <a:cubicBezTo>
                        <a:pt x="493" y="141"/>
                        <a:pt x="480" y="127"/>
                        <a:pt x="480" y="111"/>
                      </a:cubicBezTo>
                      <a:cubicBezTo>
                        <a:pt x="480" y="94"/>
                        <a:pt x="493" y="80"/>
                        <a:pt x="509" y="80"/>
                      </a:cubicBezTo>
                      <a:cubicBezTo>
                        <a:pt x="517" y="80"/>
                        <a:pt x="524" y="83"/>
                        <a:pt x="529" y="88"/>
                      </a:cubicBezTo>
                      <a:cubicBezTo>
                        <a:pt x="533" y="93"/>
                        <a:pt x="540" y="94"/>
                        <a:pt x="547" y="91"/>
                      </a:cubicBezTo>
                      <a:cubicBezTo>
                        <a:pt x="548" y="91"/>
                        <a:pt x="549" y="90"/>
                        <a:pt x="550" y="89"/>
                      </a:cubicBezTo>
                      <a:cubicBezTo>
                        <a:pt x="550" y="82"/>
                        <a:pt x="550" y="82"/>
                        <a:pt x="550" y="82"/>
                      </a:cubicBezTo>
                      <a:cubicBezTo>
                        <a:pt x="550" y="0"/>
                        <a:pt x="550" y="0"/>
                        <a:pt x="550" y="0"/>
                      </a:cubicBezTo>
                      <a:cubicBezTo>
                        <a:pt x="246" y="0"/>
                        <a:pt x="0" y="246"/>
                        <a:pt x="0" y="550"/>
                      </a:cubicBezTo>
                      <a:cubicBezTo>
                        <a:pt x="0" y="651"/>
                        <a:pt x="27" y="745"/>
                        <a:pt x="74" y="825"/>
                      </a:cubicBezTo>
                      <a:cubicBezTo>
                        <a:pt x="153" y="780"/>
                        <a:pt x="153" y="780"/>
                        <a:pt x="153" y="780"/>
                      </a:cubicBezTo>
                      <a:cubicBezTo>
                        <a:pt x="158" y="784"/>
                        <a:pt x="160" y="791"/>
                        <a:pt x="158" y="796"/>
                      </a:cubicBezTo>
                      <a:cubicBezTo>
                        <a:pt x="157" y="803"/>
                        <a:pt x="158" y="810"/>
                        <a:pt x="161" y="817"/>
                      </a:cubicBezTo>
                      <a:cubicBezTo>
                        <a:pt x="170" y="831"/>
                        <a:pt x="188" y="836"/>
                        <a:pt x="202" y="827"/>
                      </a:cubicBezTo>
                      <a:cubicBezTo>
                        <a:pt x="217" y="819"/>
                        <a:pt x="222" y="801"/>
                        <a:pt x="214" y="786"/>
                      </a:cubicBezTo>
                      <a:cubicBezTo>
                        <a:pt x="210" y="780"/>
                        <a:pt x="204" y="776"/>
                        <a:pt x="198" y="773"/>
                      </a:cubicBezTo>
                      <a:cubicBezTo>
                        <a:pt x="198" y="773"/>
                        <a:pt x="198" y="773"/>
                        <a:pt x="198" y="773"/>
                      </a:cubicBezTo>
                      <a:cubicBezTo>
                        <a:pt x="192" y="772"/>
                        <a:pt x="187" y="767"/>
                        <a:pt x="186" y="761"/>
                      </a:cubicBezTo>
                      <a:cubicBezTo>
                        <a:pt x="266" y="714"/>
                        <a:pt x="266" y="714"/>
                        <a:pt x="266" y="714"/>
                      </a:cubicBezTo>
                      <a:cubicBezTo>
                        <a:pt x="238" y="666"/>
                        <a:pt x="222" y="610"/>
                        <a:pt x="222" y="550"/>
                      </a:cubicBezTo>
                      <a:cubicBezTo>
                        <a:pt x="222" y="369"/>
                        <a:pt x="369" y="222"/>
                        <a:pt x="550" y="222"/>
                      </a:cubicBezTo>
                      <a:cubicBezTo>
                        <a:pt x="550" y="143"/>
                        <a:pt x="550" y="143"/>
                        <a:pt x="550" y="143"/>
                      </a:cubicBezTo>
                      <a:lnTo>
                        <a:pt x="550" y="132"/>
                      </a:ln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3"/>
                <p:cNvSpPr/>
                <p:nvPr/>
              </p:nvSpPr>
              <p:spPr>
                <a:xfrm rot="7200000">
                  <a:off x="771840" y="2530080"/>
                  <a:ext cx="583920" cy="77436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621" h="826">
                      <a:moveTo>
                        <a:pt x="70" y="0"/>
                      </a:moveTo>
                      <a:cubicBezTo>
                        <a:pt x="70" y="82"/>
                        <a:pt x="70" y="82"/>
                        <a:pt x="70" y="82"/>
                      </a:cubicBezTo>
                      <a:cubicBezTo>
                        <a:pt x="70" y="89"/>
                        <a:pt x="70" y="89"/>
                        <a:pt x="70" y="89"/>
                      </a:cubicBezTo>
                      <a:cubicBezTo>
                        <a:pt x="69" y="90"/>
                        <a:pt x="68" y="91"/>
                        <a:pt x="67" y="91"/>
                      </a:cubicBezTo>
                      <a:cubicBezTo>
                        <a:pt x="60" y="94"/>
                        <a:pt x="53" y="93"/>
                        <a:pt x="49" y="88"/>
                      </a:cubicBezTo>
                      <a:cubicBezTo>
                        <a:pt x="44" y="83"/>
                        <a:pt x="37" y="80"/>
                        <a:pt x="29" y="80"/>
                      </a:cubicBezTo>
                      <a:cubicBezTo>
                        <a:pt x="13" y="80"/>
                        <a:pt x="0" y="94"/>
                        <a:pt x="0" y="111"/>
                      </a:cubicBezTo>
                      <a:cubicBezTo>
                        <a:pt x="0" y="127"/>
                        <a:pt x="13" y="141"/>
                        <a:pt x="29" y="141"/>
                      </a:cubicBezTo>
                      <a:cubicBezTo>
                        <a:pt x="37" y="141"/>
                        <a:pt x="43" y="138"/>
                        <a:pt x="49" y="133"/>
                      </a:cubicBezTo>
                      <a:cubicBezTo>
                        <a:pt x="49" y="133"/>
                        <a:pt x="49" y="133"/>
                        <a:pt x="49" y="133"/>
                      </a:cubicBezTo>
                      <a:cubicBezTo>
                        <a:pt x="53" y="129"/>
                        <a:pt x="60" y="127"/>
                        <a:pt x="67" y="130"/>
                      </a:cubicBezTo>
                      <a:cubicBezTo>
                        <a:pt x="68" y="131"/>
                        <a:pt x="69" y="131"/>
                        <a:pt x="70" y="132"/>
                      </a:cubicBezTo>
                      <a:cubicBezTo>
                        <a:pt x="70" y="143"/>
                        <a:pt x="70" y="143"/>
                        <a:pt x="70" y="143"/>
                      </a:cubicBezTo>
                      <a:cubicBezTo>
                        <a:pt x="70" y="222"/>
                        <a:pt x="70" y="222"/>
                        <a:pt x="70" y="222"/>
                      </a:cubicBezTo>
                      <a:cubicBezTo>
                        <a:pt x="70" y="222"/>
                        <a:pt x="70" y="222"/>
                        <a:pt x="70" y="222"/>
                      </a:cubicBezTo>
                      <a:cubicBezTo>
                        <a:pt x="252" y="222"/>
                        <a:pt x="398" y="369"/>
                        <a:pt x="398" y="550"/>
                      </a:cubicBezTo>
                      <a:cubicBezTo>
                        <a:pt x="398" y="610"/>
                        <a:pt x="382" y="666"/>
                        <a:pt x="354" y="714"/>
                      </a:cubicBezTo>
                      <a:cubicBezTo>
                        <a:pt x="433" y="759"/>
                        <a:pt x="433" y="759"/>
                        <a:pt x="433" y="759"/>
                      </a:cubicBezTo>
                      <a:cubicBezTo>
                        <a:pt x="434" y="759"/>
                        <a:pt x="435" y="758"/>
                        <a:pt x="436" y="758"/>
                      </a:cubicBezTo>
                      <a:cubicBezTo>
                        <a:pt x="442" y="753"/>
                        <a:pt x="445" y="746"/>
                        <a:pt x="443" y="740"/>
                      </a:cubicBezTo>
                      <a:cubicBezTo>
                        <a:pt x="443" y="740"/>
                        <a:pt x="443" y="740"/>
                        <a:pt x="443" y="740"/>
                      </a:cubicBezTo>
                      <a:cubicBezTo>
                        <a:pt x="441" y="733"/>
                        <a:pt x="442" y="726"/>
                        <a:pt x="446" y="720"/>
                      </a:cubicBezTo>
                      <a:cubicBezTo>
                        <a:pt x="454" y="705"/>
                        <a:pt x="472" y="701"/>
                        <a:pt x="487" y="709"/>
                      </a:cubicBezTo>
                      <a:cubicBezTo>
                        <a:pt x="501" y="717"/>
                        <a:pt x="506" y="736"/>
                        <a:pt x="498" y="750"/>
                      </a:cubicBezTo>
                      <a:cubicBezTo>
                        <a:pt x="494" y="756"/>
                        <a:pt x="489" y="761"/>
                        <a:pt x="482" y="763"/>
                      </a:cubicBezTo>
                      <a:cubicBezTo>
                        <a:pt x="476" y="764"/>
                        <a:pt x="471" y="770"/>
                        <a:pt x="470" y="777"/>
                      </a:cubicBezTo>
                      <a:cubicBezTo>
                        <a:pt x="470" y="778"/>
                        <a:pt x="470" y="780"/>
                        <a:pt x="470" y="781"/>
                      </a:cubicBezTo>
                      <a:cubicBezTo>
                        <a:pt x="547" y="826"/>
                        <a:pt x="547" y="826"/>
                        <a:pt x="547" y="826"/>
                      </a:cubicBezTo>
                      <a:cubicBezTo>
                        <a:pt x="594" y="745"/>
                        <a:pt x="621" y="651"/>
                        <a:pt x="621" y="550"/>
                      </a:cubicBezTo>
                      <a:cubicBezTo>
                        <a:pt x="621" y="246"/>
                        <a:pt x="374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4"/>
                <p:cNvSpPr/>
                <p:nvPr/>
              </p:nvSpPr>
              <p:spPr>
                <a:xfrm rot="7200000">
                  <a:off x="332640" y="2304720"/>
                  <a:ext cx="894240" cy="375840"/>
                </a:xfrm>
                <a:custGeom>
                  <a:avLst/>
                  <a:gdLst>
                    <a:gd name="textAreaLeft" fmla="*/ 0 w 894240"/>
                    <a:gd name="textAreaRight" fmla="*/ 894600 w 894240"/>
                    <a:gd name="textAreaTop" fmla="*/ 0 h 375840"/>
                    <a:gd name="textAreaBottom" fmla="*/ 376200 h 375840"/>
                  </a:gdLst>
                  <a:ahLst/>
                  <a:rect l="textAreaLeft" t="textAreaTop" r="textAreaRight" b="textAreaBottom"/>
                  <a:pathLst>
                    <a:path w="953" h="400">
                      <a:moveTo>
                        <a:pt x="876" y="80"/>
                      </a:moveTo>
                      <a:cubicBezTo>
                        <a:pt x="876" y="79"/>
                        <a:pt x="876" y="77"/>
                        <a:pt x="876" y="76"/>
                      </a:cubicBezTo>
                      <a:cubicBezTo>
                        <a:pt x="877" y="69"/>
                        <a:pt x="882" y="63"/>
                        <a:pt x="888" y="62"/>
                      </a:cubicBezTo>
                      <a:cubicBezTo>
                        <a:pt x="895" y="60"/>
                        <a:pt x="900" y="55"/>
                        <a:pt x="904" y="49"/>
                      </a:cubicBezTo>
                      <a:cubicBezTo>
                        <a:pt x="912" y="35"/>
                        <a:pt x="907" y="16"/>
                        <a:pt x="893" y="8"/>
                      </a:cubicBezTo>
                      <a:cubicBezTo>
                        <a:pt x="878" y="0"/>
                        <a:pt x="860" y="4"/>
                        <a:pt x="852" y="19"/>
                      </a:cubicBezTo>
                      <a:cubicBezTo>
                        <a:pt x="848" y="25"/>
                        <a:pt x="847" y="32"/>
                        <a:pt x="849" y="39"/>
                      </a:cubicBezTo>
                      <a:cubicBezTo>
                        <a:pt x="849" y="39"/>
                        <a:pt x="849" y="39"/>
                        <a:pt x="849" y="39"/>
                      </a:cubicBezTo>
                      <a:cubicBezTo>
                        <a:pt x="851" y="45"/>
                        <a:pt x="848" y="52"/>
                        <a:pt x="842" y="57"/>
                      </a:cubicBezTo>
                      <a:cubicBezTo>
                        <a:pt x="841" y="57"/>
                        <a:pt x="840" y="58"/>
                        <a:pt x="839" y="58"/>
                      </a:cubicBezTo>
                      <a:cubicBezTo>
                        <a:pt x="760" y="13"/>
                        <a:pt x="760" y="13"/>
                        <a:pt x="760" y="13"/>
                      </a:cubicBezTo>
                      <a:cubicBezTo>
                        <a:pt x="704" y="111"/>
                        <a:pt x="598" y="177"/>
                        <a:pt x="476" y="177"/>
                      </a:cubicBezTo>
                      <a:cubicBezTo>
                        <a:pt x="355" y="177"/>
                        <a:pt x="249" y="111"/>
                        <a:pt x="192" y="13"/>
                      </a:cubicBezTo>
                      <a:cubicBezTo>
                        <a:pt x="112" y="60"/>
                        <a:pt x="112" y="60"/>
                        <a:pt x="112" y="60"/>
                      </a:cubicBezTo>
                      <a:cubicBezTo>
                        <a:pt x="113" y="66"/>
                        <a:pt x="118" y="71"/>
                        <a:pt x="124" y="72"/>
                      </a:cubicBezTo>
                      <a:cubicBezTo>
                        <a:pt x="124" y="72"/>
                        <a:pt x="124" y="72"/>
                        <a:pt x="124" y="72"/>
                      </a:cubicBezTo>
                      <a:cubicBezTo>
                        <a:pt x="130" y="75"/>
                        <a:pt x="136" y="79"/>
                        <a:pt x="140" y="85"/>
                      </a:cubicBezTo>
                      <a:cubicBezTo>
                        <a:pt x="148" y="100"/>
                        <a:pt x="143" y="118"/>
                        <a:pt x="128" y="126"/>
                      </a:cubicBezTo>
                      <a:cubicBezTo>
                        <a:pt x="114" y="135"/>
                        <a:pt x="96" y="130"/>
                        <a:pt x="87" y="116"/>
                      </a:cubicBezTo>
                      <a:cubicBezTo>
                        <a:pt x="84" y="109"/>
                        <a:pt x="83" y="102"/>
                        <a:pt x="84" y="95"/>
                      </a:cubicBezTo>
                      <a:cubicBezTo>
                        <a:pt x="86" y="90"/>
                        <a:pt x="84" y="83"/>
                        <a:pt x="79" y="79"/>
                      </a:cubicBezTo>
                      <a:cubicBezTo>
                        <a:pt x="0" y="124"/>
                        <a:pt x="0" y="124"/>
                        <a:pt x="0" y="124"/>
                      </a:cubicBezTo>
                      <a:cubicBezTo>
                        <a:pt x="95" y="289"/>
                        <a:pt x="273" y="400"/>
                        <a:pt x="476" y="400"/>
                      </a:cubicBezTo>
                      <a:cubicBezTo>
                        <a:pt x="680" y="400"/>
                        <a:pt x="858" y="289"/>
                        <a:pt x="953" y="125"/>
                      </a:cubicBezTo>
                      <a:lnTo>
                        <a:pt x="876" y="80"/>
                      </a:ln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4" name="Oval 15"/>
            <p:cNvSpPr/>
            <p:nvPr/>
          </p:nvSpPr>
          <p:spPr>
            <a:xfrm>
              <a:off x="790560" y="2384280"/>
              <a:ext cx="547920" cy="545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45"/>
          <p:cNvSpPr/>
          <p:nvPr/>
        </p:nvSpPr>
        <p:spPr>
          <a:xfrm>
            <a:off x="870120" y="2538360"/>
            <a:ext cx="44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1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Gruppieren 29" descr=""/>
          <p:cNvPicPr/>
          <p:nvPr/>
        </p:nvPicPr>
        <p:blipFill>
          <a:blip r:embed="rId1"/>
          <a:stretch/>
        </p:blipFill>
        <p:spPr>
          <a:xfrm>
            <a:off x="2139840" y="1633680"/>
            <a:ext cx="5419800" cy="4127400"/>
          </a:xfrm>
          <a:prstGeom prst="rect">
            <a:avLst/>
          </a:prstGeom>
          <a:ln w="0">
            <a:noFill/>
          </a:ln>
        </p:spPr>
      </p:pic>
      <p:sp>
        <p:nvSpPr>
          <p:cNvPr id="421" name="Gerade Verbindung 16"/>
          <p:cNvSpPr/>
          <p:nvPr/>
        </p:nvSpPr>
        <p:spPr>
          <a:xfrm>
            <a:off x="324000" y="2822400"/>
            <a:ext cx="270036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24000" y="236700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0000" anchor="b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Gerade Verbindung 19"/>
          <p:cNvSpPr/>
          <p:nvPr/>
        </p:nvSpPr>
        <p:spPr>
          <a:xfrm>
            <a:off x="324000" y="4146480"/>
            <a:ext cx="226836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24000" y="414648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Gerade Verbindung 22"/>
          <p:cNvSpPr/>
          <p:nvPr/>
        </p:nvSpPr>
        <p:spPr>
          <a:xfrm>
            <a:off x="6705720" y="2822400"/>
            <a:ext cx="211428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6939000" y="2367000"/>
            <a:ext cx="18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0000" anchor="b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Gerade Verbindung 25"/>
          <p:cNvSpPr/>
          <p:nvPr/>
        </p:nvSpPr>
        <p:spPr>
          <a:xfrm>
            <a:off x="6624720" y="4146480"/>
            <a:ext cx="219528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6948360" y="4146480"/>
            <a:ext cx="18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31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Freeform 7"/>
          <p:cNvSpPr/>
          <p:nvPr/>
        </p:nvSpPr>
        <p:spPr>
          <a:xfrm>
            <a:off x="2808360" y="1916280"/>
            <a:ext cx="2152440" cy="1763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>
            <a:off x="4572000" y="1916280"/>
            <a:ext cx="1763640" cy="215100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"/>
          <p:cNvSpPr/>
          <p:nvPr/>
        </p:nvSpPr>
        <p:spPr>
          <a:xfrm>
            <a:off x="2808360" y="3290760"/>
            <a:ext cx="1763640" cy="215136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_color1"/>
          <p:cNvSpPr/>
          <p:nvPr/>
        </p:nvSpPr>
        <p:spPr>
          <a:xfrm>
            <a:off x="4184640" y="3679920"/>
            <a:ext cx="2151000" cy="1762200"/>
          </a:xfrm>
          <a:prstGeom prst="pie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6527880" y="191628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24000" y="191628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24000" y="427356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6527880" y="427356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4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"/>
          <p:cNvGrpSpPr/>
          <p:nvPr/>
        </p:nvGrpSpPr>
        <p:grpSpPr>
          <a:xfrm>
            <a:off x="2868480" y="2075040"/>
            <a:ext cx="3684600" cy="4171320"/>
            <a:chOff x="2868480" y="2075040"/>
            <a:chExt cx="3684600" cy="4171320"/>
          </a:xfrm>
        </p:grpSpPr>
        <p:pic>
          <p:nvPicPr>
            <p:cNvPr id="446" name="Picture 27" descr=""/>
            <p:cNvPicPr/>
            <p:nvPr/>
          </p:nvPicPr>
          <p:blipFill>
            <a:blip r:embed="rId1"/>
            <a:stretch/>
          </p:blipFill>
          <p:spPr>
            <a:xfrm>
              <a:off x="2868480" y="5294160"/>
              <a:ext cx="36846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Freeform 15"/>
            <p:cNvSpPr/>
            <p:nvPr/>
          </p:nvSpPr>
          <p:spPr>
            <a:xfrm>
              <a:off x="2914560" y="2075040"/>
              <a:ext cx="3638520" cy="314280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2914560" y="2075040"/>
              <a:ext cx="3638520" cy="314280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86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7"/>
            <p:cNvSpPr/>
            <p:nvPr/>
          </p:nvSpPr>
          <p:spPr>
            <a:xfrm>
              <a:off x="3311280" y="2500200"/>
              <a:ext cx="2840040" cy="246816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3311280" y="2503080"/>
              <a:ext cx="2840040" cy="2468520"/>
            </a:xfrm>
            <a:custGeom>
              <a:avLst/>
              <a:gdLst/>
              <a:ahLst/>
              <a:rect l="l" t="t" r="r" b="b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9"/>
            <p:cNvSpPr/>
            <p:nvPr/>
          </p:nvSpPr>
          <p:spPr>
            <a:xfrm>
              <a:off x="4546440" y="2971440"/>
              <a:ext cx="371520" cy="1244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20" h="2437">
                  <a:moveTo>
                    <a:pt x="339" y="0"/>
                  </a:moveTo>
                  <a:cubicBezTo>
                    <a:pt x="445" y="0"/>
                    <a:pt x="551" y="42"/>
                    <a:pt x="614" y="106"/>
                  </a:cubicBezTo>
                  <a:cubicBezTo>
                    <a:pt x="678" y="191"/>
                    <a:pt x="720" y="297"/>
                    <a:pt x="720" y="424"/>
                  </a:cubicBezTo>
                  <a:cubicBezTo>
                    <a:pt x="710" y="795"/>
                    <a:pt x="607" y="1996"/>
                    <a:pt x="551" y="2331"/>
                  </a:cubicBezTo>
                  <a:cubicBezTo>
                    <a:pt x="508" y="2416"/>
                    <a:pt x="445" y="2437"/>
                    <a:pt x="381" y="2437"/>
                  </a:cubicBezTo>
                  <a:cubicBezTo>
                    <a:pt x="339" y="2437"/>
                    <a:pt x="339" y="2437"/>
                    <a:pt x="339" y="2437"/>
                  </a:cubicBezTo>
                  <a:cubicBezTo>
                    <a:pt x="254" y="2437"/>
                    <a:pt x="212" y="2418"/>
                    <a:pt x="169" y="2331"/>
                  </a:cubicBezTo>
                  <a:cubicBezTo>
                    <a:pt x="113" y="1996"/>
                    <a:pt x="10" y="795"/>
                    <a:pt x="0" y="424"/>
                  </a:cubicBezTo>
                  <a:cubicBezTo>
                    <a:pt x="0" y="297"/>
                    <a:pt x="42" y="191"/>
                    <a:pt x="106" y="106"/>
                  </a:cubicBezTo>
                  <a:cubicBezTo>
                    <a:pt x="169" y="42"/>
                    <a:pt x="254" y="0"/>
                    <a:pt x="36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20" descr=""/>
            <p:cNvPicPr/>
            <p:nvPr/>
          </p:nvPicPr>
          <p:blipFill>
            <a:blip r:embed="rId2"/>
            <a:stretch/>
          </p:blipFill>
          <p:spPr>
            <a:xfrm>
              <a:off x="3449520" y="2125440"/>
              <a:ext cx="2060280" cy="21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Oval 21"/>
            <p:cNvSpPr/>
            <p:nvPr/>
          </p:nvSpPr>
          <p:spPr>
            <a:xfrm>
              <a:off x="4582800" y="4412880"/>
              <a:ext cx="301680" cy="3013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1613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23"/>
          <p:cNvSpPr/>
          <p:nvPr/>
        </p:nvSpPr>
        <p:spPr>
          <a:xfrm rot="18000000">
            <a:off x="1672560" y="3151800"/>
            <a:ext cx="3279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 flipH="1" rot="3600000">
            <a:off x="4547520" y="3151080"/>
            <a:ext cx="327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5"/>
          <p:cNvSpPr/>
          <p:nvPr/>
        </p:nvSpPr>
        <p:spPr>
          <a:xfrm flipH="1">
            <a:off x="3075120" y="5541840"/>
            <a:ext cx="327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8"/>
          <p:cNvGrpSpPr/>
          <p:nvPr/>
        </p:nvGrpSpPr>
        <p:grpSpPr>
          <a:xfrm>
            <a:off x="324000" y="1773360"/>
            <a:ext cx="2476440" cy="1904760"/>
            <a:chOff x="324000" y="1773360"/>
            <a:chExt cx="2476440" cy="1904760"/>
          </a:xfrm>
        </p:grpSpPr>
        <p:sp>
          <p:nvSpPr>
            <p:cNvPr id="458" name="AutoShape 42"/>
            <p:cNvSpPr/>
            <p:nvPr/>
          </p:nvSpPr>
          <p:spPr>
            <a:xfrm>
              <a:off x="324000" y="1773360"/>
              <a:ext cx="2476440" cy="1904760"/>
            </a:xfrm>
            <a:prstGeom prst="foldedCorner">
              <a:avLst>
                <a:gd name="adj" fmla="val 9166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3"/>
            <p:cNvSpPr/>
            <p:nvPr/>
          </p:nvSpPr>
          <p:spPr>
            <a:xfrm>
              <a:off x="371520" y="183024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4"/>
            <p:cNvSpPr/>
            <p:nvPr/>
          </p:nvSpPr>
          <p:spPr>
            <a:xfrm>
              <a:off x="371520" y="2127240"/>
              <a:ext cx="237168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17171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6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uppieren 12"/>
          <p:cNvGrpSpPr/>
          <p:nvPr/>
        </p:nvGrpSpPr>
        <p:grpSpPr>
          <a:xfrm>
            <a:off x="5329080" y="1546200"/>
            <a:ext cx="2913120" cy="5311800"/>
            <a:chOff x="5329080" y="1546200"/>
            <a:chExt cx="2913120" cy="5311800"/>
          </a:xfrm>
        </p:grpSpPr>
        <p:sp>
          <p:nvSpPr>
            <p:cNvPr id="466" name="Rectangle 66"/>
            <p:cNvSpPr/>
            <p:nvPr/>
          </p:nvSpPr>
          <p:spPr>
            <a:xfrm>
              <a:off x="6692040" y="3992040"/>
              <a:ext cx="195120" cy="2865960"/>
            </a:xfrm>
            <a:prstGeom prst="rect">
              <a:avLst/>
            </a:prstGeom>
            <a:gradFill rotWithShape="0">
              <a:gsLst>
                <a:gs pos="0">
                  <a:srgbClr val="7d7d7d"/>
                </a:gs>
                <a:gs pos="50000">
                  <a:srgbClr val="dddddd"/>
                </a:gs>
                <a:gs pos="100000">
                  <a:srgbClr val="7d7d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5329080" y="1564560"/>
              <a:ext cx="2913120" cy="29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7"/>
            <p:cNvSpPr/>
            <p:nvPr/>
          </p:nvSpPr>
          <p:spPr>
            <a:xfrm>
              <a:off x="5333760" y="1570680"/>
              <a:ext cx="2903760" cy="2905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9"/>
            <p:cNvSpPr/>
            <p:nvPr/>
          </p:nvSpPr>
          <p:spPr>
            <a:xfrm>
              <a:off x="5406840" y="1645560"/>
              <a:ext cx="2756160" cy="2756160"/>
            </a:xfrm>
            <a:prstGeom prst="ellipse">
              <a:avLst/>
            </a:prstGeom>
            <a:noFill/>
            <a:ln w="73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uppieren 20"/>
            <p:cNvGrpSpPr/>
            <p:nvPr/>
          </p:nvGrpSpPr>
          <p:grpSpPr>
            <a:xfrm>
              <a:off x="5852160" y="2107800"/>
              <a:ext cx="1866960" cy="1922760"/>
              <a:chOff x="5852160" y="2107800"/>
              <a:chExt cx="1866960" cy="1922760"/>
            </a:xfrm>
          </p:grpSpPr>
          <p:sp>
            <p:nvSpPr>
              <p:cNvPr id="471" name="Freeform 45"/>
              <p:cNvSpPr/>
              <p:nvPr/>
            </p:nvSpPr>
            <p:spPr>
              <a:xfrm>
                <a:off x="6759360" y="2107800"/>
                <a:ext cx="959760" cy="1922760"/>
              </a:xfrm>
              <a:custGeom>
                <a:avLst/>
                <a:gdLst>
                  <a:gd name="textAreaLeft" fmla="*/ 0 w 959760"/>
                  <a:gd name="textAreaRight" fmla="*/ 960120 w 959760"/>
                  <a:gd name="textAreaTop" fmla="*/ 0 h 1922760"/>
                  <a:gd name="textAreaBottom" fmla="*/ 1923120 h 1922760"/>
                </a:gdLst>
                <a:ahLst/>
                <a:rect l="textAreaLeft" t="textAreaTop" r="textAreaRight" b="textAreaBottom"/>
                <a:pathLst>
                  <a:path w="294" h="589">
                    <a:moveTo>
                      <a:pt x="207" y="435"/>
                    </a:moveTo>
                    <a:lnTo>
                      <a:pt x="207" y="0"/>
                    </a:lnTo>
                    <a:lnTo>
                      <a:pt x="88" y="0"/>
                    </a:lnTo>
                    <a:lnTo>
                      <a:pt x="88" y="435"/>
                    </a:lnTo>
                    <a:lnTo>
                      <a:pt x="0" y="377"/>
                    </a:lnTo>
                    <a:lnTo>
                      <a:pt x="0" y="491"/>
                    </a:lnTo>
                    <a:lnTo>
                      <a:pt x="148" y="589"/>
                    </a:lnTo>
                    <a:lnTo>
                      <a:pt x="294" y="491"/>
                    </a:lnTo>
                    <a:lnTo>
                      <a:pt x="294" y="377"/>
                    </a:lnTo>
                    <a:lnTo>
                      <a:pt x="207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6"/>
              <p:cNvSpPr/>
              <p:nvPr/>
            </p:nvSpPr>
            <p:spPr>
              <a:xfrm>
                <a:off x="5852160" y="2107800"/>
                <a:ext cx="600480" cy="1198080"/>
              </a:xfrm>
              <a:custGeom>
                <a:avLst/>
                <a:gdLst>
                  <a:gd name="textAreaLeft" fmla="*/ 0 w 600480"/>
                  <a:gd name="textAreaRight" fmla="*/ 600840 w 600480"/>
                  <a:gd name="textAreaTop" fmla="*/ 0 h 1198080"/>
                  <a:gd name="textAreaBottom" fmla="*/ 1198440 h 1198080"/>
                </a:gdLst>
                <a:ahLst/>
                <a:rect l="textAreaLeft" t="textAreaTop" r="textAreaRight" b="textAreaBottom"/>
                <a:pathLst>
                  <a:path w="184" h="367">
                    <a:moveTo>
                      <a:pt x="56" y="95"/>
                    </a:moveTo>
                    <a:lnTo>
                      <a:pt x="56" y="367"/>
                    </a:lnTo>
                    <a:lnTo>
                      <a:pt x="130" y="367"/>
                    </a:lnTo>
                    <a:lnTo>
                      <a:pt x="130" y="95"/>
                    </a:lnTo>
                    <a:lnTo>
                      <a:pt x="184" y="133"/>
                    </a:lnTo>
                    <a:lnTo>
                      <a:pt x="184" y="61"/>
                    </a:lnTo>
                    <a:lnTo>
                      <a:pt x="92" y="0"/>
                    </a:lnTo>
                    <a:lnTo>
                      <a:pt x="0" y="61"/>
                    </a:lnTo>
                    <a:lnTo>
                      <a:pt x="0" y="133"/>
                    </a:lnTo>
                    <a:lnTo>
                      <a:pt x="56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3" name="Picture 39" descr=""/>
            <p:cNvPicPr/>
            <p:nvPr/>
          </p:nvPicPr>
          <p:blipFill>
            <a:blip r:embed="rId1"/>
            <a:stretch/>
          </p:blipFill>
          <p:spPr>
            <a:xfrm>
              <a:off x="5336640" y="1546200"/>
              <a:ext cx="2717640" cy="175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Line 6"/>
          <p:cNvSpPr/>
          <p:nvPr/>
        </p:nvSpPr>
        <p:spPr>
          <a:xfrm>
            <a:off x="836640" y="2181240"/>
            <a:ext cx="360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468360" y="1555920"/>
            <a:ext cx="4262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1916280"/>
            <a:ext cx="426240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79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"/>
          <p:cNvGrpSpPr/>
          <p:nvPr/>
        </p:nvGrpSpPr>
        <p:grpSpPr>
          <a:xfrm>
            <a:off x="938160" y="1924200"/>
            <a:ext cx="3083040" cy="4933440"/>
            <a:chOff x="938160" y="1924200"/>
            <a:chExt cx="3083040" cy="4933440"/>
          </a:xfrm>
        </p:grpSpPr>
        <p:grpSp>
          <p:nvGrpSpPr>
            <p:cNvPr id="482" name="Group 47"/>
            <p:cNvGrpSpPr/>
            <p:nvPr/>
          </p:nvGrpSpPr>
          <p:grpSpPr>
            <a:xfrm>
              <a:off x="2376360" y="4844880"/>
              <a:ext cx="204840" cy="2012760"/>
              <a:chOff x="2376360" y="4844880"/>
              <a:chExt cx="204840" cy="2012760"/>
            </a:xfrm>
          </p:grpSpPr>
          <p:sp>
            <p:nvSpPr>
              <p:cNvPr id="483" name="Rectangle 48"/>
              <p:cNvSpPr/>
              <p:nvPr/>
            </p:nvSpPr>
            <p:spPr>
              <a:xfrm>
                <a:off x="2376360" y="4844880"/>
                <a:ext cx="43200" cy="2012760"/>
              </a:xfrm>
              <a:prstGeom prst="rect">
                <a:avLst/>
              </a:prstGeom>
              <a:gradFill rotWithShape="0">
                <a:gsLst>
                  <a:gs pos="0">
                    <a:srgbClr val="a5a5a5"/>
                  </a:gs>
                  <a:gs pos="50000">
                    <a:srgbClr val="eaeaea"/>
                  </a:gs>
                  <a:gs pos="100000">
                    <a:srgbClr val="a5a5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9"/>
              <p:cNvSpPr/>
              <p:nvPr/>
            </p:nvSpPr>
            <p:spPr>
              <a:xfrm>
                <a:off x="2417760" y="4844880"/>
                <a:ext cx="127080" cy="20127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6c6c6c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50"/>
              <p:cNvSpPr/>
              <p:nvPr/>
            </p:nvSpPr>
            <p:spPr>
              <a:xfrm>
                <a:off x="2538360" y="4844880"/>
                <a:ext cx="42840" cy="2012760"/>
              </a:xfrm>
              <a:prstGeom prst="rect">
                <a:avLst/>
              </a:prstGeom>
              <a:gradFill rotWithShape="0">
                <a:gsLst>
                  <a:gs pos="0">
                    <a:srgbClr val="a5a5a5"/>
                  </a:gs>
                  <a:gs pos="50000">
                    <a:srgbClr val="eaeaea"/>
                  </a:gs>
                  <a:gs pos="100000">
                    <a:srgbClr val="a5a5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Freeform 52"/>
            <p:cNvSpPr/>
            <p:nvPr/>
          </p:nvSpPr>
          <p:spPr>
            <a:xfrm>
              <a:off x="938160" y="1924200"/>
              <a:ext cx="3083040" cy="308268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2680"/>
                <a:gd name="textAreaBottom" fmla="*/ 3083040 h 308268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51"/>
            <p:cNvGrpSpPr/>
            <p:nvPr/>
          </p:nvGrpSpPr>
          <p:grpSpPr>
            <a:xfrm>
              <a:off x="938160" y="1924200"/>
              <a:ext cx="3083040" cy="3082680"/>
              <a:chOff x="938160" y="1924200"/>
              <a:chExt cx="3083040" cy="3082680"/>
            </a:xfrm>
          </p:grpSpPr>
          <p:sp>
            <p:nvSpPr>
              <p:cNvPr id="488" name="Freeform 52"/>
              <p:cNvSpPr/>
              <p:nvPr/>
            </p:nvSpPr>
            <p:spPr>
              <a:xfrm>
                <a:off x="938160" y="1924200"/>
                <a:ext cx="3083040" cy="308268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2680"/>
                  <a:gd name="textAreaBottom" fmla="*/ 3083040 h 308268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3"/>
              <p:cNvSpPr/>
              <p:nvPr/>
            </p:nvSpPr>
            <p:spPr>
              <a:xfrm>
                <a:off x="1011240" y="1996920"/>
                <a:ext cx="2936880" cy="293652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520"/>
                  <a:gd name="textAreaBottom" fmla="*/ 2936880 h 293652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54"/>
              <p:cNvSpPr/>
              <p:nvPr/>
            </p:nvSpPr>
            <p:spPr>
              <a:xfrm>
                <a:off x="1836720" y="293184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55"/>
              <p:cNvSpPr/>
              <p:nvPr/>
            </p:nvSpPr>
            <p:spPr>
              <a:xfrm>
                <a:off x="1158840" y="2919240"/>
                <a:ext cx="609840" cy="10425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1042560"/>
                  <a:gd name="textAreaBottom" fmla="*/ 1042920 h 104256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56"/>
              <p:cNvSpPr/>
              <p:nvPr/>
            </p:nvSpPr>
            <p:spPr>
              <a:xfrm>
                <a:off x="3230640" y="2936880"/>
                <a:ext cx="550800" cy="10425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2560"/>
                  <a:gd name="textAreaBottom" fmla="*/ 1042920 h 104256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57"/>
              <p:cNvSpPr/>
              <p:nvPr/>
            </p:nvSpPr>
            <p:spPr>
              <a:xfrm>
                <a:off x="2475000" y="2916000"/>
                <a:ext cx="595440" cy="1063440"/>
              </a:xfrm>
              <a:custGeom>
                <a:avLst/>
                <a:gdLst>
                  <a:gd name="textAreaLeft" fmla="*/ 0 w 595440"/>
                  <a:gd name="textAreaRight" fmla="*/ 595440 w 595440"/>
                  <a:gd name="textAreaTop" fmla="*/ 0 h 1063440"/>
                  <a:gd name="textAreaBottom" fmla="*/ 1063800 h 106344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58"/>
              <p:cNvGrpSpPr/>
              <p:nvPr/>
            </p:nvGrpSpPr>
            <p:grpSpPr>
              <a:xfrm>
                <a:off x="2430720" y="4662360"/>
                <a:ext cx="97920" cy="99360"/>
                <a:chOff x="2430720" y="4662360"/>
                <a:chExt cx="97920" cy="99360"/>
              </a:xfrm>
            </p:grpSpPr>
            <p:sp>
              <p:nvSpPr>
                <p:cNvPr id="495" name="Oval 59"/>
                <p:cNvSpPr/>
                <p:nvPr/>
              </p:nvSpPr>
              <p:spPr>
                <a:xfrm>
                  <a:off x="2430720" y="4662360"/>
                  <a:ext cx="9792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60"/>
                <p:cNvSpPr/>
                <p:nvPr/>
              </p:nvSpPr>
              <p:spPr>
                <a:xfrm>
                  <a:off x="2452320" y="4686480"/>
                  <a:ext cx="54720" cy="5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61"/>
              <p:cNvGrpSpPr/>
              <p:nvPr/>
            </p:nvGrpSpPr>
            <p:grpSpPr>
              <a:xfrm>
                <a:off x="2430720" y="2128680"/>
                <a:ext cx="97920" cy="99360"/>
                <a:chOff x="2430720" y="2128680"/>
                <a:chExt cx="97920" cy="99360"/>
              </a:xfrm>
            </p:grpSpPr>
            <p:sp>
              <p:nvSpPr>
                <p:cNvPr id="498" name="Oval 62"/>
                <p:cNvSpPr/>
                <p:nvPr/>
              </p:nvSpPr>
              <p:spPr>
                <a:xfrm>
                  <a:off x="2430720" y="2128680"/>
                  <a:ext cx="9792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63"/>
                <p:cNvSpPr/>
                <p:nvPr/>
              </p:nvSpPr>
              <p:spPr>
                <a:xfrm>
                  <a:off x="2452320" y="2152800"/>
                  <a:ext cx="54720" cy="5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965160" y="1990800"/>
                <a:ext cx="2610000" cy="168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1" name="Line 6"/>
          <p:cNvSpPr/>
          <p:nvPr/>
        </p:nvSpPr>
        <p:spPr>
          <a:xfrm>
            <a:off x="4941720" y="2181240"/>
            <a:ext cx="3602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4572000" y="1555920"/>
            <a:ext cx="4262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572000" y="1916280"/>
            <a:ext cx="426240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06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29"/>
          <p:cNvGrpSpPr/>
          <p:nvPr/>
        </p:nvGrpSpPr>
        <p:grpSpPr>
          <a:xfrm>
            <a:off x="900000" y="5261040"/>
            <a:ext cx="4386240" cy="1247760"/>
            <a:chOff x="900000" y="5261040"/>
            <a:chExt cx="4386240" cy="1247760"/>
          </a:xfrm>
        </p:grpSpPr>
        <p:sp>
          <p:nvSpPr>
            <p:cNvPr id="509" name="Freeform 4"/>
            <p:cNvSpPr/>
            <p:nvPr/>
          </p:nvSpPr>
          <p:spPr>
            <a:xfrm>
              <a:off x="900000" y="5261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>
              <a:off x="3093840" y="5261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Freeform 6"/>
          <p:cNvSpPr/>
          <p:nvPr/>
        </p:nvSpPr>
        <p:spPr>
          <a:xfrm>
            <a:off x="3095640" y="3489480"/>
            <a:ext cx="1085760" cy="1936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"/>
          <p:cNvSpPr/>
          <p:nvPr/>
        </p:nvSpPr>
        <p:spPr>
          <a:xfrm flipH="1">
            <a:off x="3095640" y="3489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0"/>
          <p:cNvSpPr/>
          <p:nvPr/>
        </p:nvSpPr>
        <p:spPr>
          <a:xfrm>
            <a:off x="900000" y="3606840"/>
            <a:ext cx="2194200" cy="204480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1"/>
          <p:cNvSpPr/>
          <p:nvPr/>
        </p:nvSpPr>
        <p:spPr>
          <a:xfrm>
            <a:off x="3094200" y="3606840"/>
            <a:ext cx="2192040" cy="2044800"/>
          </a:xfrm>
          <a:custGeom>
            <a:avLst/>
            <a:gdLst>
              <a:gd name="textAreaLeft" fmla="*/ 0 w 2192040"/>
              <a:gd name="textAreaRight" fmla="*/ 2192400 w 219204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2"/>
          <p:cNvSpPr/>
          <p:nvPr/>
        </p:nvSpPr>
        <p:spPr>
          <a:xfrm>
            <a:off x="2039760" y="1790640"/>
            <a:ext cx="1054440" cy="1854360"/>
          </a:xfrm>
          <a:custGeom>
            <a:avLst/>
            <a:gdLst>
              <a:gd name="textAreaLeft" fmla="*/ 0 w 1054440"/>
              <a:gd name="textAreaRight" fmla="*/ 1054800 w 105444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3"/>
          <p:cNvSpPr/>
          <p:nvPr/>
        </p:nvSpPr>
        <p:spPr>
          <a:xfrm>
            <a:off x="3094200" y="1793880"/>
            <a:ext cx="1052280" cy="18511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851120"/>
              <a:gd name="textAreaBottom" fmla="*/ 1851480 h 1851120"/>
            </a:gdLst>
            <a:ahLst/>
            <a:rect l="textAreaLeft" t="textAreaTop" r="textAreaRight" b="textAreaBottom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4"/>
          <p:cNvSpPr/>
          <p:nvPr/>
        </p:nvSpPr>
        <p:spPr>
          <a:xfrm>
            <a:off x="900000" y="4879800"/>
            <a:ext cx="2194200" cy="77184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5"/>
          <p:cNvSpPr/>
          <p:nvPr/>
        </p:nvSpPr>
        <p:spPr>
          <a:xfrm>
            <a:off x="3094200" y="4879800"/>
            <a:ext cx="2192040" cy="771840"/>
          </a:xfrm>
          <a:custGeom>
            <a:avLst/>
            <a:gdLst>
              <a:gd name="textAreaLeft" fmla="*/ 0 w 2192040"/>
              <a:gd name="textAreaRight" fmla="*/ 2192400 w 219204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6"/>
          <p:cNvSpPr/>
          <p:nvPr/>
        </p:nvSpPr>
        <p:spPr>
          <a:xfrm>
            <a:off x="1946160" y="3522600"/>
            <a:ext cx="2291040" cy="2811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7"/>
          <p:cNvSpPr/>
          <p:nvPr/>
        </p:nvSpPr>
        <p:spPr>
          <a:xfrm>
            <a:off x="2039760" y="3273480"/>
            <a:ext cx="1054440" cy="371520"/>
          </a:xfrm>
          <a:custGeom>
            <a:avLst/>
            <a:gdLst>
              <a:gd name="textAreaLeft" fmla="*/ 0 w 1054440"/>
              <a:gd name="textAreaRight" fmla="*/ 1054800 w 105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8"/>
          <p:cNvSpPr/>
          <p:nvPr/>
        </p:nvSpPr>
        <p:spPr>
          <a:xfrm>
            <a:off x="3094200" y="3273480"/>
            <a:ext cx="1052280" cy="3715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6704640" y="396252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6145920" y="2276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5068800" y="4498920"/>
            <a:ext cx="22957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2"/>
          <p:cNvSpPr/>
          <p:nvPr/>
        </p:nvSpPr>
        <p:spPr>
          <a:xfrm>
            <a:off x="3919680" y="28162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3568680"/>
            <a:ext cx="9144000" cy="1676160"/>
            <a:chOff x="0" y="3568680"/>
            <a:chExt cx="9144000" cy="1676160"/>
          </a:xfrm>
        </p:grpSpPr>
        <p:sp>
          <p:nvSpPr>
            <p:cNvPr id="96" name="Rectangle 3"/>
            <p:cNvSpPr/>
            <p:nvPr/>
          </p:nvSpPr>
          <p:spPr>
            <a:xfrm>
              <a:off x="0" y="3948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 flipV="1">
              <a:off x="0" y="3568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99" name="组合 4"/>
          <p:cNvGrpSpPr/>
          <p:nvPr/>
        </p:nvGrpSpPr>
        <p:grpSpPr>
          <a:xfrm>
            <a:off x="1973160" y="1608120"/>
            <a:ext cx="6561360" cy="743040"/>
            <a:chOff x="1973160" y="1608120"/>
            <a:chExt cx="6561360" cy="743040"/>
          </a:xfrm>
        </p:grpSpPr>
        <p:sp>
          <p:nvSpPr>
            <p:cNvPr id="100" name="Parallelogram 6"/>
            <p:cNvSpPr/>
            <p:nvPr/>
          </p:nvSpPr>
          <p:spPr>
            <a:xfrm>
              <a:off x="1973160" y="1618920"/>
              <a:ext cx="1041480" cy="722520"/>
            </a:xfrm>
            <a:prstGeom prst="parallelogram">
              <a:avLst>
                <a:gd name="adj" fmla="val 28128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2300400" y="168948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arallelogram 8"/>
            <p:cNvSpPr/>
            <p:nvPr/>
          </p:nvSpPr>
          <p:spPr>
            <a:xfrm>
              <a:off x="2955600" y="160812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ktangel 76"/>
            <p:cNvSpPr/>
            <p:nvPr/>
          </p:nvSpPr>
          <p:spPr>
            <a:xfrm>
              <a:off x="3300120" y="1792800"/>
              <a:ext cx="47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9"/>
          <p:cNvGrpSpPr/>
          <p:nvPr/>
        </p:nvGrpSpPr>
        <p:grpSpPr>
          <a:xfrm>
            <a:off x="1744560" y="2476440"/>
            <a:ext cx="6561360" cy="743040"/>
            <a:chOff x="1744560" y="2476440"/>
            <a:chExt cx="6561360" cy="743040"/>
          </a:xfrm>
        </p:grpSpPr>
        <p:sp>
          <p:nvSpPr>
            <p:cNvPr id="105" name="Parallelogram 11"/>
            <p:cNvSpPr/>
            <p:nvPr/>
          </p:nvSpPr>
          <p:spPr>
            <a:xfrm>
              <a:off x="1744560" y="2489040"/>
              <a:ext cx="1041480" cy="721080"/>
            </a:xfrm>
            <a:prstGeom prst="parallelogram">
              <a:avLst>
                <a:gd name="adj" fmla="val 28124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2071800" y="255852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arallelogram 13"/>
            <p:cNvSpPr/>
            <p:nvPr/>
          </p:nvSpPr>
          <p:spPr>
            <a:xfrm>
              <a:off x="2727000" y="247644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ktangel 76"/>
            <p:cNvSpPr/>
            <p:nvPr/>
          </p:nvSpPr>
          <p:spPr>
            <a:xfrm>
              <a:off x="3071520" y="2662200"/>
              <a:ext cx="47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1498680" y="3344760"/>
            <a:ext cx="6559560" cy="743040"/>
            <a:chOff x="1498680" y="3344760"/>
            <a:chExt cx="6559560" cy="743040"/>
          </a:xfrm>
        </p:grpSpPr>
        <p:sp>
          <p:nvSpPr>
            <p:cNvPr id="110" name="Parallelogram 16"/>
            <p:cNvSpPr/>
            <p:nvPr/>
          </p:nvSpPr>
          <p:spPr>
            <a:xfrm>
              <a:off x="1498680" y="3355560"/>
              <a:ext cx="1041120" cy="722520"/>
            </a:xfrm>
            <a:prstGeom prst="parallelogram">
              <a:avLst>
                <a:gd name="adj" fmla="val 2811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"/>
            <p:cNvSpPr/>
            <p:nvPr/>
          </p:nvSpPr>
          <p:spPr>
            <a:xfrm>
              <a:off x="1825920" y="342684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arallelogram 18"/>
            <p:cNvSpPr/>
            <p:nvPr/>
          </p:nvSpPr>
          <p:spPr>
            <a:xfrm>
              <a:off x="2481120" y="3344760"/>
              <a:ext cx="5577120" cy="743040"/>
            </a:xfrm>
            <a:prstGeom prst="parallelogram">
              <a:avLst>
                <a:gd name="adj" fmla="val 24985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ktangel 76"/>
            <p:cNvSpPr/>
            <p:nvPr/>
          </p:nvSpPr>
          <p:spPr>
            <a:xfrm>
              <a:off x="2823840" y="3530160"/>
              <a:ext cx="47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9"/>
          <p:cNvGrpSpPr/>
          <p:nvPr/>
        </p:nvGrpSpPr>
        <p:grpSpPr>
          <a:xfrm>
            <a:off x="1260360" y="4205160"/>
            <a:ext cx="6561360" cy="743040"/>
            <a:chOff x="1260360" y="4205160"/>
            <a:chExt cx="6561360" cy="743040"/>
          </a:xfrm>
        </p:grpSpPr>
        <p:sp>
          <p:nvSpPr>
            <p:cNvPr id="115" name="Parallelogram 21"/>
            <p:cNvSpPr/>
            <p:nvPr/>
          </p:nvSpPr>
          <p:spPr>
            <a:xfrm>
              <a:off x="1260360" y="4215960"/>
              <a:ext cx="1041480" cy="722520"/>
            </a:xfrm>
            <a:prstGeom prst="parallelogram">
              <a:avLst>
                <a:gd name="adj" fmla="val 28128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7"/>
            <p:cNvSpPr/>
            <p:nvPr/>
          </p:nvSpPr>
          <p:spPr>
            <a:xfrm>
              <a:off x="1587600" y="428652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arallelogram 23"/>
            <p:cNvSpPr/>
            <p:nvPr/>
          </p:nvSpPr>
          <p:spPr>
            <a:xfrm>
              <a:off x="2242800" y="420516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ktangel 76"/>
            <p:cNvSpPr/>
            <p:nvPr/>
          </p:nvSpPr>
          <p:spPr>
            <a:xfrm>
              <a:off x="2585880" y="4389840"/>
              <a:ext cx="47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4"/>
          <p:cNvGrpSpPr/>
          <p:nvPr/>
        </p:nvGrpSpPr>
        <p:grpSpPr>
          <a:xfrm>
            <a:off x="1022400" y="5062680"/>
            <a:ext cx="6561000" cy="742680"/>
            <a:chOff x="1022400" y="5062680"/>
            <a:chExt cx="6561000" cy="742680"/>
          </a:xfrm>
        </p:grpSpPr>
        <p:sp>
          <p:nvSpPr>
            <p:cNvPr id="120" name="Parallelogram 26"/>
            <p:cNvSpPr/>
            <p:nvPr/>
          </p:nvSpPr>
          <p:spPr>
            <a:xfrm>
              <a:off x="1022400" y="5075280"/>
              <a:ext cx="1041120" cy="720720"/>
            </a:xfrm>
            <a:prstGeom prst="parallelogram">
              <a:avLst>
                <a:gd name="adj" fmla="val 2812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7"/>
            <p:cNvSpPr/>
            <p:nvPr/>
          </p:nvSpPr>
          <p:spPr>
            <a:xfrm>
              <a:off x="1349640" y="514476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arallelogram 28"/>
            <p:cNvSpPr/>
            <p:nvPr/>
          </p:nvSpPr>
          <p:spPr>
            <a:xfrm>
              <a:off x="2004840" y="5062680"/>
              <a:ext cx="5578560" cy="742680"/>
            </a:xfrm>
            <a:prstGeom prst="parallelogram">
              <a:avLst>
                <a:gd name="adj" fmla="val 2500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ktangel 76"/>
            <p:cNvSpPr/>
            <p:nvPr/>
          </p:nvSpPr>
          <p:spPr>
            <a:xfrm>
              <a:off x="2349360" y="5248440"/>
              <a:ext cx="474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2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Freeform 3"/>
          <p:cNvSpPr/>
          <p:nvPr/>
        </p:nvSpPr>
        <p:spPr>
          <a:xfrm>
            <a:off x="3166920" y="3273480"/>
            <a:ext cx="1086120" cy="1936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316656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971640" y="3994200"/>
            <a:ext cx="2197080" cy="144144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8"/>
          <p:cNvSpPr/>
          <p:nvPr/>
        </p:nvSpPr>
        <p:spPr>
          <a:xfrm>
            <a:off x="3168720" y="3994200"/>
            <a:ext cx="2189160" cy="144144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971640" y="4664160"/>
            <a:ext cx="2197080" cy="77148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3168720" y="4664160"/>
            <a:ext cx="2189160" cy="77148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728720" y="2782800"/>
            <a:ext cx="1440000" cy="13161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2"/>
          <p:cNvSpPr/>
          <p:nvPr/>
        </p:nvSpPr>
        <p:spPr>
          <a:xfrm>
            <a:off x="2494080" y="1574640"/>
            <a:ext cx="674640" cy="1181160"/>
          </a:xfrm>
          <a:custGeom>
            <a:avLst/>
            <a:gdLst>
              <a:gd name="textAreaLeft" fmla="*/ 0 w 674640"/>
              <a:gd name="textAreaRight" fmla="*/ 675000 w 674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3"/>
          <p:cNvSpPr/>
          <p:nvPr/>
        </p:nvSpPr>
        <p:spPr>
          <a:xfrm>
            <a:off x="3168720" y="1577880"/>
            <a:ext cx="666720" cy="1177920"/>
          </a:xfrm>
          <a:custGeom>
            <a:avLst/>
            <a:gdLst>
              <a:gd name="textAreaLeft" fmla="*/ 0 w 666720"/>
              <a:gd name="textAreaRight" fmla="*/ 667080 w 66672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168720" y="2917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3168720" y="2755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>
            <a:off x="3168720" y="2782800"/>
            <a:ext cx="1431720" cy="131616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solidFill>
            <a:srgbClr val="ff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3168720" y="40989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8"/>
          <p:cNvSpPr/>
          <p:nvPr/>
        </p:nvSpPr>
        <p:spPr>
          <a:xfrm>
            <a:off x="3168720" y="4259160"/>
            <a:ext cx="360" cy="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9"/>
          <p:cNvSpPr/>
          <p:nvPr/>
        </p:nvSpPr>
        <p:spPr>
          <a:xfrm>
            <a:off x="1638360" y="3911760"/>
            <a:ext cx="3056040" cy="347400"/>
          </a:xfrm>
          <a:custGeom>
            <a:avLst/>
            <a:gdLst>
              <a:gd name="textAreaLeft" fmla="*/ 0 w 3056040"/>
              <a:gd name="textAreaRight" fmla="*/ 3056400 w 305604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0"/>
          <p:cNvSpPr/>
          <p:nvPr/>
        </p:nvSpPr>
        <p:spPr>
          <a:xfrm>
            <a:off x="1739880" y="3605040"/>
            <a:ext cx="1428840" cy="49392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1"/>
          <p:cNvSpPr/>
          <p:nvPr/>
        </p:nvSpPr>
        <p:spPr>
          <a:xfrm>
            <a:off x="3168720" y="3605040"/>
            <a:ext cx="1431720" cy="49392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2"/>
          <p:cNvSpPr/>
          <p:nvPr/>
        </p:nvSpPr>
        <p:spPr>
          <a:xfrm>
            <a:off x="2400480" y="2703600"/>
            <a:ext cx="1528560" cy="21420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3"/>
          <p:cNvSpPr/>
          <p:nvPr/>
        </p:nvSpPr>
        <p:spPr>
          <a:xfrm>
            <a:off x="2494080" y="2519280"/>
            <a:ext cx="674640" cy="236520"/>
          </a:xfrm>
          <a:custGeom>
            <a:avLst/>
            <a:gdLst>
              <a:gd name="textAreaLeft" fmla="*/ 0 w 674640"/>
              <a:gd name="textAreaRight" fmla="*/ 675000 w 6746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4"/>
          <p:cNvSpPr/>
          <p:nvPr/>
        </p:nvSpPr>
        <p:spPr>
          <a:xfrm>
            <a:off x="3168720" y="2519280"/>
            <a:ext cx="666720" cy="236520"/>
          </a:xfrm>
          <a:custGeom>
            <a:avLst/>
            <a:gdLst>
              <a:gd name="textAreaLeft" fmla="*/ 0 w 666720"/>
              <a:gd name="textAreaRight" fmla="*/ 667080 w 6667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40"/>
          <p:cNvGrpSpPr/>
          <p:nvPr/>
        </p:nvGrpSpPr>
        <p:grpSpPr>
          <a:xfrm>
            <a:off x="971640" y="5045040"/>
            <a:ext cx="4386240" cy="1247760"/>
            <a:chOff x="971640" y="5045040"/>
            <a:chExt cx="4386240" cy="1247760"/>
          </a:xfrm>
        </p:grpSpPr>
        <p:sp>
          <p:nvSpPr>
            <p:cNvPr id="551" name="Freeform 26"/>
            <p:cNvSpPr/>
            <p:nvPr/>
          </p:nvSpPr>
          <p:spPr>
            <a:xfrm>
              <a:off x="971640" y="5045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7"/>
            <p:cNvSpPr/>
            <p:nvPr/>
          </p:nvSpPr>
          <p:spPr>
            <a:xfrm>
              <a:off x="3165480" y="5045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28"/>
          <p:cNvSpPr/>
          <p:nvPr/>
        </p:nvSpPr>
        <p:spPr>
          <a:xfrm>
            <a:off x="5527440" y="1574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9"/>
          <p:cNvSpPr/>
          <p:nvPr/>
        </p:nvSpPr>
        <p:spPr>
          <a:xfrm>
            <a:off x="6208560" y="27320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0"/>
          <p:cNvSpPr/>
          <p:nvPr/>
        </p:nvSpPr>
        <p:spPr>
          <a:xfrm>
            <a:off x="3622680" y="21128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1"/>
          <p:cNvSpPr/>
          <p:nvPr/>
        </p:nvSpPr>
        <p:spPr>
          <a:xfrm>
            <a:off x="4419720" y="3271680"/>
            <a:ext cx="3016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5183280" y="3898800"/>
            <a:ext cx="36590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3"/>
          <p:cNvSpPr/>
          <p:nvPr/>
        </p:nvSpPr>
        <p:spPr>
          <a:xfrm>
            <a:off x="5126040" y="4446720"/>
            <a:ext cx="2309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61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Freeform 3"/>
          <p:cNvSpPr/>
          <p:nvPr/>
        </p:nvSpPr>
        <p:spPr>
          <a:xfrm>
            <a:off x="2664000" y="3273480"/>
            <a:ext cx="1085760" cy="1936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 flipH="1">
            <a:off x="266400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7"/>
          <p:cNvSpPr/>
          <p:nvPr/>
        </p:nvSpPr>
        <p:spPr>
          <a:xfrm>
            <a:off x="2664000" y="4295880"/>
            <a:ext cx="2187360" cy="113976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8"/>
          <p:cNvSpPr/>
          <p:nvPr/>
        </p:nvSpPr>
        <p:spPr>
          <a:xfrm>
            <a:off x="2664000" y="4675320"/>
            <a:ext cx="2190600" cy="76032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471600" y="4295880"/>
            <a:ext cx="2192400" cy="11397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0"/>
          <p:cNvSpPr/>
          <p:nvPr/>
        </p:nvSpPr>
        <p:spPr>
          <a:xfrm>
            <a:off x="1038240" y="3389400"/>
            <a:ext cx="1625760" cy="104616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664000" y="3389400"/>
            <a:ext cx="1623960" cy="104616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1611360" y="2478240"/>
            <a:ext cx="1052640" cy="94932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3"/>
          <p:cNvSpPr/>
          <p:nvPr/>
        </p:nvSpPr>
        <p:spPr>
          <a:xfrm>
            <a:off x="2664000" y="2478240"/>
            <a:ext cx="1050840" cy="9493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2187720" y="1574640"/>
            <a:ext cx="476280" cy="841680"/>
          </a:xfrm>
          <a:custGeom>
            <a:avLst/>
            <a:gdLst>
              <a:gd name="textAreaLeft" fmla="*/ 0 w 476280"/>
              <a:gd name="textAreaRight" fmla="*/ 476640 w 47628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664000" y="1574640"/>
            <a:ext cx="482400" cy="841680"/>
          </a:xfrm>
          <a:custGeom>
            <a:avLst/>
            <a:gdLst>
              <a:gd name="textAreaLeft" fmla="*/ 0 w 482400"/>
              <a:gd name="textAreaRight" fmla="*/ 482760 w 48240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6"/>
          <p:cNvSpPr/>
          <p:nvPr/>
        </p:nvSpPr>
        <p:spPr>
          <a:xfrm>
            <a:off x="468360" y="4675320"/>
            <a:ext cx="2195640" cy="76032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947880" y="4216320"/>
            <a:ext cx="3430440" cy="37800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1521000" y="3305160"/>
            <a:ext cx="2284200" cy="28116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9"/>
          <p:cNvSpPr/>
          <p:nvPr/>
        </p:nvSpPr>
        <p:spPr>
          <a:xfrm>
            <a:off x="2093760" y="2395440"/>
            <a:ext cx="1143000" cy="184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20"/>
          <p:cNvSpPr/>
          <p:nvPr/>
        </p:nvSpPr>
        <p:spPr>
          <a:xfrm>
            <a:off x="2664000" y="3389400"/>
            <a:ext cx="1141200" cy="19692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1"/>
          <p:cNvSpPr/>
          <p:nvPr/>
        </p:nvSpPr>
        <p:spPr>
          <a:xfrm flipH="1">
            <a:off x="2664000" y="3389400"/>
            <a:ext cx="114120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2"/>
          <p:cNvSpPr/>
          <p:nvPr/>
        </p:nvSpPr>
        <p:spPr>
          <a:xfrm>
            <a:off x="1038240" y="3871800"/>
            <a:ext cx="1625760" cy="56376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3"/>
          <p:cNvSpPr/>
          <p:nvPr/>
        </p:nvSpPr>
        <p:spPr>
          <a:xfrm>
            <a:off x="2664000" y="3871800"/>
            <a:ext cx="1623960" cy="56376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24"/>
          <p:cNvSpPr/>
          <p:nvPr/>
        </p:nvSpPr>
        <p:spPr>
          <a:xfrm>
            <a:off x="1611360" y="3062160"/>
            <a:ext cx="1052640" cy="362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25"/>
          <p:cNvSpPr/>
          <p:nvPr/>
        </p:nvSpPr>
        <p:spPr>
          <a:xfrm>
            <a:off x="2664000" y="3062160"/>
            <a:ext cx="1050840" cy="3621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26"/>
          <p:cNvSpPr/>
          <p:nvPr/>
        </p:nvSpPr>
        <p:spPr>
          <a:xfrm>
            <a:off x="2187720" y="2252520"/>
            <a:ext cx="476280" cy="163800"/>
          </a:xfrm>
          <a:custGeom>
            <a:avLst/>
            <a:gdLst>
              <a:gd name="textAreaLeft" fmla="*/ 0 w 476280"/>
              <a:gd name="textAreaRight" fmla="*/ 476640 w 47628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27"/>
          <p:cNvSpPr/>
          <p:nvPr/>
        </p:nvSpPr>
        <p:spPr>
          <a:xfrm>
            <a:off x="2664000" y="2252520"/>
            <a:ext cx="482400" cy="163800"/>
          </a:xfrm>
          <a:custGeom>
            <a:avLst/>
            <a:gdLst>
              <a:gd name="textAreaLeft" fmla="*/ 0 w 482400"/>
              <a:gd name="textAreaRight" fmla="*/ 482760 w 48240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5"/>
          <p:cNvGrpSpPr/>
          <p:nvPr/>
        </p:nvGrpSpPr>
        <p:grpSpPr>
          <a:xfrm>
            <a:off x="468360" y="5045040"/>
            <a:ext cx="4386240" cy="1247760"/>
            <a:chOff x="468360" y="5045040"/>
            <a:chExt cx="4386240" cy="1247760"/>
          </a:xfrm>
        </p:grpSpPr>
        <p:sp>
          <p:nvSpPr>
            <p:cNvPr id="587" name="Freeform 29"/>
            <p:cNvSpPr/>
            <p:nvPr/>
          </p:nvSpPr>
          <p:spPr>
            <a:xfrm>
              <a:off x="468360" y="5045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0"/>
            <p:cNvSpPr/>
            <p:nvPr/>
          </p:nvSpPr>
          <p:spPr>
            <a:xfrm>
              <a:off x="2662200" y="5045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31"/>
          <p:cNvSpPr/>
          <p:nvPr/>
        </p:nvSpPr>
        <p:spPr>
          <a:xfrm>
            <a:off x="5095800" y="1574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3747960" y="2395440"/>
            <a:ext cx="39434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6263280" y="327672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3146400" y="2101680"/>
            <a:ext cx="3786120" cy="180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5"/>
          <p:cNvSpPr/>
          <p:nvPr/>
        </p:nvSpPr>
        <p:spPr>
          <a:xfrm>
            <a:off x="3714840" y="2922480"/>
            <a:ext cx="3217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6"/>
          <p:cNvSpPr/>
          <p:nvPr/>
        </p:nvSpPr>
        <p:spPr>
          <a:xfrm>
            <a:off x="4287960" y="3768840"/>
            <a:ext cx="26445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5094360" y="4229280"/>
            <a:ext cx="3676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8"/>
          <p:cNvSpPr/>
          <p:nvPr/>
        </p:nvSpPr>
        <p:spPr>
          <a:xfrm>
            <a:off x="4851360" y="4748040"/>
            <a:ext cx="2081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811080" y="6359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600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ctangle 445"/>
          <p:cNvSpPr/>
          <p:nvPr/>
        </p:nvSpPr>
        <p:spPr>
          <a:xfrm>
            <a:off x="293760" y="3186000"/>
            <a:ext cx="14126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entagon 104"/>
          <p:cNvSpPr/>
          <p:nvPr/>
        </p:nvSpPr>
        <p:spPr>
          <a:xfrm>
            <a:off x="7311960" y="3186000"/>
            <a:ext cx="1457280" cy="45720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8" y="0"/>
                </a:lnTo>
                <a:lnTo>
                  <a:pt x="21600" y="10800"/>
                </a:lnTo>
                <a:lnTo>
                  <a:pt x="188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45"/>
          <p:cNvSpPr/>
          <p:nvPr/>
        </p:nvSpPr>
        <p:spPr>
          <a:xfrm>
            <a:off x="1700280" y="3186000"/>
            <a:ext cx="14126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46"/>
          <p:cNvSpPr/>
          <p:nvPr/>
        </p:nvSpPr>
        <p:spPr>
          <a:xfrm>
            <a:off x="3098880" y="3186000"/>
            <a:ext cx="1414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47"/>
          <p:cNvSpPr/>
          <p:nvPr/>
        </p:nvSpPr>
        <p:spPr>
          <a:xfrm>
            <a:off x="4498920" y="3186000"/>
            <a:ext cx="1414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48"/>
          <p:cNvSpPr/>
          <p:nvPr/>
        </p:nvSpPr>
        <p:spPr>
          <a:xfrm>
            <a:off x="5905440" y="3186000"/>
            <a:ext cx="1414440" cy="45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45"/>
          <p:cNvSpPr/>
          <p:nvPr/>
        </p:nvSpPr>
        <p:spPr>
          <a:xfrm>
            <a:off x="1884240" y="3279600"/>
            <a:ext cx="10321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8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46"/>
          <p:cNvSpPr/>
          <p:nvPr/>
        </p:nvSpPr>
        <p:spPr>
          <a:xfrm>
            <a:off x="3124080" y="3279600"/>
            <a:ext cx="1111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9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47"/>
          <p:cNvSpPr/>
          <p:nvPr/>
        </p:nvSpPr>
        <p:spPr>
          <a:xfrm>
            <a:off x="4506840" y="327960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0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45"/>
          <p:cNvSpPr/>
          <p:nvPr/>
        </p:nvSpPr>
        <p:spPr>
          <a:xfrm>
            <a:off x="642960" y="3279600"/>
            <a:ext cx="10033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8"/>
          <p:cNvSpPr/>
          <p:nvPr/>
        </p:nvSpPr>
        <p:spPr>
          <a:xfrm>
            <a:off x="7315200" y="3279600"/>
            <a:ext cx="914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2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ktangel 82"/>
          <p:cNvSpPr/>
          <p:nvPr/>
        </p:nvSpPr>
        <p:spPr>
          <a:xfrm>
            <a:off x="304920" y="1770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7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Nedadgående pil 90"/>
          <p:cNvSpPr/>
          <p:nvPr/>
        </p:nvSpPr>
        <p:spPr>
          <a:xfrm>
            <a:off x="898560" y="2730600"/>
            <a:ext cx="250920" cy="53820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ktangel 91"/>
          <p:cNvSpPr/>
          <p:nvPr/>
        </p:nvSpPr>
        <p:spPr>
          <a:xfrm>
            <a:off x="2830680" y="1770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9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Nedadgående pil 92"/>
          <p:cNvSpPr/>
          <p:nvPr/>
        </p:nvSpPr>
        <p:spPr>
          <a:xfrm>
            <a:off x="3522600" y="2730600"/>
            <a:ext cx="249480" cy="5382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ktangel 93"/>
          <p:cNvSpPr/>
          <p:nvPr/>
        </p:nvSpPr>
        <p:spPr>
          <a:xfrm>
            <a:off x="5638680" y="173664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1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Nedadgående pil 94"/>
          <p:cNvSpPr/>
          <p:nvPr/>
        </p:nvSpPr>
        <p:spPr>
          <a:xfrm>
            <a:off x="6330960" y="2697120"/>
            <a:ext cx="249120" cy="5382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ktangel 95"/>
          <p:cNvSpPr/>
          <p:nvPr/>
        </p:nvSpPr>
        <p:spPr>
          <a:xfrm>
            <a:off x="1370160" y="415908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Nedadgående pil 96"/>
          <p:cNvSpPr/>
          <p:nvPr/>
        </p:nvSpPr>
        <p:spPr>
          <a:xfrm rot="10800000">
            <a:off x="2149560" y="3551400"/>
            <a:ext cx="249120" cy="5378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ktangel 98"/>
          <p:cNvSpPr/>
          <p:nvPr/>
        </p:nvSpPr>
        <p:spPr>
          <a:xfrm>
            <a:off x="4189320" y="418140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Nedadgående pil 99"/>
          <p:cNvSpPr/>
          <p:nvPr/>
        </p:nvSpPr>
        <p:spPr>
          <a:xfrm rot="10800000">
            <a:off x="4968360" y="3571560"/>
            <a:ext cx="249480" cy="5382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ktangel 100"/>
          <p:cNvSpPr/>
          <p:nvPr/>
        </p:nvSpPr>
        <p:spPr>
          <a:xfrm>
            <a:off x="6856560" y="4164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2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Nedadgående pil 40"/>
          <p:cNvSpPr/>
          <p:nvPr/>
        </p:nvSpPr>
        <p:spPr>
          <a:xfrm rot="10800000">
            <a:off x="7635960" y="3553920"/>
            <a:ext cx="249120" cy="5382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48"/>
          <p:cNvSpPr/>
          <p:nvPr/>
        </p:nvSpPr>
        <p:spPr>
          <a:xfrm>
            <a:off x="5943600" y="3279600"/>
            <a:ext cx="1020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1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3519360"/>
            <a:ext cx="9144000" cy="1676160"/>
            <a:chOff x="0" y="3519360"/>
            <a:chExt cx="9144000" cy="1676160"/>
          </a:xfrm>
        </p:grpSpPr>
        <p:sp>
          <p:nvSpPr>
            <p:cNvPr id="628" name="Rectangle 3"/>
            <p:cNvSpPr/>
            <p:nvPr/>
          </p:nvSpPr>
          <p:spPr>
            <a:xfrm>
              <a:off x="0" y="389880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"/>
            <p:cNvSpPr/>
            <p:nvPr/>
          </p:nvSpPr>
          <p:spPr>
            <a:xfrm flipV="1">
              <a:off x="0" y="35190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Rectangle 445"/>
          <p:cNvSpPr/>
          <p:nvPr/>
        </p:nvSpPr>
        <p:spPr>
          <a:xfrm>
            <a:off x="38088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45"/>
          <p:cNvSpPr/>
          <p:nvPr/>
        </p:nvSpPr>
        <p:spPr>
          <a:xfrm>
            <a:off x="1073160" y="3522600"/>
            <a:ext cx="7030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45"/>
          <p:cNvSpPr/>
          <p:nvPr/>
        </p:nvSpPr>
        <p:spPr>
          <a:xfrm>
            <a:off x="1766880" y="3522600"/>
            <a:ext cx="703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45"/>
          <p:cNvSpPr/>
          <p:nvPr/>
        </p:nvSpPr>
        <p:spPr>
          <a:xfrm>
            <a:off x="247320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45"/>
          <p:cNvSpPr/>
          <p:nvPr/>
        </p:nvSpPr>
        <p:spPr>
          <a:xfrm>
            <a:off x="3166920" y="3522600"/>
            <a:ext cx="7048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45"/>
          <p:cNvSpPr/>
          <p:nvPr/>
        </p:nvSpPr>
        <p:spPr>
          <a:xfrm>
            <a:off x="3873600" y="3522600"/>
            <a:ext cx="703080" cy="457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45"/>
          <p:cNvSpPr/>
          <p:nvPr/>
        </p:nvSpPr>
        <p:spPr>
          <a:xfrm>
            <a:off x="4575240" y="3522600"/>
            <a:ext cx="7048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5"/>
          <p:cNvSpPr/>
          <p:nvPr/>
        </p:nvSpPr>
        <p:spPr>
          <a:xfrm>
            <a:off x="527364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45"/>
          <p:cNvSpPr/>
          <p:nvPr/>
        </p:nvSpPr>
        <p:spPr>
          <a:xfrm>
            <a:off x="5967360" y="3522600"/>
            <a:ext cx="704880" cy="4572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45"/>
          <p:cNvSpPr/>
          <p:nvPr/>
        </p:nvSpPr>
        <p:spPr>
          <a:xfrm>
            <a:off x="667368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45"/>
          <p:cNvSpPr/>
          <p:nvPr/>
        </p:nvSpPr>
        <p:spPr>
          <a:xfrm>
            <a:off x="7367760" y="3522600"/>
            <a:ext cx="70452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45"/>
          <p:cNvSpPr/>
          <p:nvPr/>
        </p:nvSpPr>
        <p:spPr>
          <a:xfrm>
            <a:off x="8059680" y="3522600"/>
            <a:ext cx="703440" cy="45720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 flipV="1">
            <a:off x="53352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2"/>
          <p:cNvSpPr/>
          <p:nvPr/>
        </p:nvSpPr>
        <p:spPr>
          <a:xfrm>
            <a:off x="565200" y="138744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1676520" y="404028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536400" y="4842000"/>
            <a:ext cx="10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7"/>
          <p:cNvSpPr/>
          <p:nvPr/>
        </p:nvSpPr>
        <p:spPr>
          <a:xfrm flipV="1">
            <a:off x="188928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192096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7"/>
          <p:cNvSpPr/>
          <p:nvPr/>
        </p:nvSpPr>
        <p:spPr>
          <a:xfrm flipV="1">
            <a:off x="330516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3336840" y="1386000"/>
            <a:ext cx="10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 flipV="1">
            <a:off x="4660920" y="14950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4692600" y="138600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612792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615960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 flipV="1">
            <a:off x="7483320" y="14950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2"/>
          <p:cNvSpPr/>
          <p:nvPr/>
        </p:nvSpPr>
        <p:spPr>
          <a:xfrm>
            <a:off x="751536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3048120" y="403236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1908000" y="483408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4467240" y="404820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2"/>
          <p:cNvSpPr/>
          <p:nvPr/>
        </p:nvSpPr>
        <p:spPr>
          <a:xfrm>
            <a:off x="3325680" y="4849920"/>
            <a:ext cx="10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5838840" y="404028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2"/>
          <p:cNvSpPr/>
          <p:nvPr/>
        </p:nvSpPr>
        <p:spPr>
          <a:xfrm>
            <a:off x="4697280" y="4842000"/>
            <a:ext cx="10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7254720" y="404640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114960" y="484812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8626320" y="40384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2"/>
          <p:cNvSpPr/>
          <p:nvPr/>
        </p:nvSpPr>
        <p:spPr>
          <a:xfrm>
            <a:off x="7486560" y="484020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二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66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5"/>
          <p:cNvSpPr/>
          <p:nvPr/>
        </p:nvSpPr>
        <p:spPr>
          <a:xfrm>
            <a:off x="314280" y="239220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314280" y="318456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314280" y="397656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314280" y="476892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314280" y="160020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314280" y="556092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6817680" y="176832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5481000" y="253692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4687200" y="333360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3558600" y="412596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595440" y="1778040"/>
            <a:ext cx="98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626400" y="256212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8"/>
          <p:cNvSpPr/>
          <p:nvPr/>
        </p:nvSpPr>
        <p:spPr>
          <a:xfrm>
            <a:off x="626400" y="334656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626400" y="413064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0"/>
          <p:cNvSpPr/>
          <p:nvPr/>
        </p:nvSpPr>
        <p:spPr>
          <a:xfrm>
            <a:off x="626400" y="491652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0"/>
          <p:cNvSpPr/>
          <p:nvPr/>
        </p:nvSpPr>
        <p:spPr>
          <a:xfrm>
            <a:off x="3410640" y="493380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38"/>
          <p:cNvGrpSpPr/>
          <p:nvPr/>
        </p:nvGrpSpPr>
        <p:grpSpPr>
          <a:xfrm>
            <a:off x="6334200" y="4067280"/>
            <a:ext cx="2476440" cy="1904760"/>
            <a:chOff x="6334200" y="4067280"/>
            <a:chExt cx="2476440" cy="1904760"/>
          </a:xfrm>
        </p:grpSpPr>
        <p:sp>
          <p:nvSpPr>
            <p:cNvPr id="687" name="AutoShape 42"/>
            <p:cNvSpPr/>
            <p:nvPr/>
          </p:nvSpPr>
          <p:spPr>
            <a:xfrm>
              <a:off x="6334200" y="4067280"/>
              <a:ext cx="2476440" cy="1904760"/>
            </a:xfrm>
            <a:prstGeom prst="foldedCorner">
              <a:avLst>
                <a:gd name="adj" fmla="val 9166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3"/>
            <p:cNvSpPr/>
            <p:nvPr/>
          </p:nvSpPr>
          <p:spPr>
            <a:xfrm>
              <a:off x="6381720" y="412416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4"/>
            <p:cNvSpPr/>
            <p:nvPr/>
          </p:nvSpPr>
          <p:spPr>
            <a:xfrm>
              <a:off x="6381720" y="4421160"/>
              <a:ext cx="237168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17171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矩形 43"/>
          <p:cNvSpPr/>
          <p:nvPr/>
        </p:nvSpPr>
        <p:spPr>
          <a:xfrm>
            <a:off x="2111400" y="1792440"/>
            <a:ext cx="4692600" cy="395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4"/>
          <p:cNvSpPr/>
          <p:nvPr/>
        </p:nvSpPr>
        <p:spPr>
          <a:xfrm>
            <a:off x="2111400" y="2573280"/>
            <a:ext cx="324000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5"/>
          <p:cNvSpPr/>
          <p:nvPr/>
        </p:nvSpPr>
        <p:spPr>
          <a:xfrm>
            <a:off x="2111400" y="3362400"/>
            <a:ext cx="253188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46"/>
          <p:cNvSpPr/>
          <p:nvPr/>
        </p:nvSpPr>
        <p:spPr>
          <a:xfrm>
            <a:off x="2111400" y="4165560"/>
            <a:ext cx="145260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47"/>
          <p:cNvSpPr/>
          <p:nvPr/>
        </p:nvSpPr>
        <p:spPr>
          <a:xfrm>
            <a:off x="2111400" y="4962600"/>
            <a:ext cx="130824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3639960"/>
            <a:ext cx="9144000" cy="1676160"/>
            <a:chOff x="0" y="3639960"/>
            <a:chExt cx="9144000" cy="1676160"/>
          </a:xfrm>
        </p:grpSpPr>
        <p:sp>
          <p:nvSpPr>
            <p:cNvPr id="697" name="Rectangle 3"/>
            <p:cNvSpPr/>
            <p:nvPr/>
          </p:nvSpPr>
          <p:spPr>
            <a:xfrm>
              <a:off x="0" y="401940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"/>
            <p:cNvSpPr/>
            <p:nvPr/>
          </p:nvSpPr>
          <p:spPr>
            <a:xfrm flipV="1">
              <a:off x="0" y="36396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ktangel 35"/>
          <p:cNvSpPr/>
          <p:nvPr/>
        </p:nvSpPr>
        <p:spPr>
          <a:xfrm>
            <a:off x="6597720" y="57546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ktangel 36"/>
          <p:cNvSpPr/>
          <p:nvPr/>
        </p:nvSpPr>
        <p:spPr>
          <a:xfrm>
            <a:off x="5568840" y="5742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ktangel 37"/>
          <p:cNvSpPr/>
          <p:nvPr/>
        </p:nvSpPr>
        <p:spPr>
          <a:xfrm>
            <a:off x="4570560" y="574200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ktangel 38"/>
          <p:cNvSpPr/>
          <p:nvPr/>
        </p:nvSpPr>
        <p:spPr>
          <a:xfrm>
            <a:off x="3546360" y="57420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ktangel 39"/>
          <p:cNvSpPr/>
          <p:nvPr/>
        </p:nvSpPr>
        <p:spPr>
          <a:xfrm>
            <a:off x="2549520" y="57546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ktangel 40"/>
          <p:cNvSpPr/>
          <p:nvPr/>
        </p:nvSpPr>
        <p:spPr>
          <a:xfrm>
            <a:off x="1565280" y="5742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ktangel 27"/>
          <p:cNvSpPr/>
          <p:nvPr/>
        </p:nvSpPr>
        <p:spPr>
          <a:xfrm>
            <a:off x="1414440" y="2154240"/>
            <a:ext cx="9716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ktangel 29"/>
          <p:cNvSpPr/>
          <p:nvPr/>
        </p:nvSpPr>
        <p:spPr>
          <a:xfrm>
            <a:off x="242100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ktangel 30"/>
          <p:cNvSpPr/>
          <p:nvPr/>
        </p:nvSpPr>
        <p:spPr>
          <a:xfrm>
            <a:off x="3414600" y="2154240"/>
            <a:ext cx="9716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ktangel 31"/>
          <p:cNvSpPr/>
          <p:nvPr/>
        </p:nvSpPr>
        <p:spPr>
          <a:xfrm>
            <a:off x="4433760" y="2154240"/>
            <a:ext cx="97020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ktangel 32"/>
          <p:cNvSpPr/>
          <p:nvPr/>
        </p:nvSpPr>
        <p:spPr>
          <a:xfrm>
            <a:off x="545148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ktangel 33"/>
          <p:cNvSpPr/>
          <p:nvPr/>
        </p:nvSpPr>
        <p:spPr>
          <a:xfrm>
            <a:off x="647064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Venstre-opadgående pil 347"/>
          <p:cNvSpPr/>
          <p:nvPr/>
        </p:nvSpPr>
        <p:spPr>
          <a:xfrm flipH="1">
            <a:off x="1131840" y="1574640"/>
            <a:ext cx="7099200" cy="4259520"/>
          </a:xfrm>
          <a:custGeom>
            <a:avLst/>
            <a:gdLst/>
            <a:ahLst/>
            <a:rect l="l" t="t" r="r" b="b"/>
            <a:pathLst>
              <a:path w="7099300" h="4259263">
                <a:moveTo>
                  <a:pt x="0" y="4083526"/>
                </a:moveTo>
                <a:lnTo>
                  <a:pt x="223995" y="3907789"/>
                </a:lnTo>
                <a:lnTo>
                  <a:pt x="223995" y="4018061"/>
                </a:lnTo>
                <a:lnTo>
                  <a:pt x="6858098" y="4018061"/>
                </a:lnTo>
                <a:lnTo>
                  <a:pt x="6858098" y="223995"/>
                </a:lnTo>
                <a:lnTo>
                  <a:pt x="6747826" y="223995"/>
                </a:lnTo>
                <a:lnTo>
                  <a:pt x="6923563" y="0"/>
                </a:lnTo>
                <a:lnTo>
                  <a:pt x="7099300" y="223995"/>
                </a:lnTo>
                <a:lnTo>
                  <a:pt x="6989028" y="223995"/>
                </a:lnTo>
                <a:lnTo>
                  <a:pt x="6989028" y="4148991"/>
                </a:lnTo>
                <a:lnTo>
                  <a:pt x="223995" y="4148991"/>
                </a:lnTo>
                <a:lnTo>
                  <a:pt x="223995" y="4259263"/>
                </a:lnTo>
                <a:lnTo>
                  <a:pt x="0" y="4083526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4b8d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Kombinationstegning 34"/>
          <p:cNvSpPr/>
          <p:nvPr/>
        </p:nvSpPr>
        <p:spPr>
          <a:xfrm>
            <a:off x="1400040" y="2489040"/>
            <a:ext cx="6073920" cy="2651400"/>
          </a:xfrm>
          <a:custGeom>
            <a:avLst/>
            <a:gdLst>
              <a:gd name="textAreaLeft" fmla="*/ 0 w 6073920"/>
              <a:gd name="textAreaRight" fmla="*/ 6074280 w 6073920"/>
              <a:gd name="textAreaTop" fmla="*/ 0 h 2651400"/>
              <a:gd name="textAreaBottom" fmla="*/ 2651760 h 2651400"/>
            </a:gdLst>
            <a:ahLst/>
            <a:rect l="textAreaLeft" t="textAreaTop" r="textAreaRight" b="textAreaBottom"/>
            <a:pathLst>
              <a:path w="6766560" h="3070860">
                <a:moveTo>
                  <a:pt x="0" y="2926080"/>
                </a:moveTo>
                <a:cubicBezTo>
                  <a:pt x="1250950" y="2998470"/>
                  <a:pt x="2501900" y="3070860"/>
                  <a:pt x="3368040" y="2895600"/>
                </a:cubicBezTo>
                <a:cubicBezTo>
                  <a:pt x="4234180" y="2720340"/>
                  <a:pt x="4630420" y="2357120"/>
                  <a:pt x="5196840" y="1874520"/>
                </a:cubicBezTo>
                <a:cubicBezTo>
                  <a:pt x="5763260" y="1391920"/>
                  <a:pt x="6264910" y="695960"/>
                  <a:pt x="6766560" y="0"/>
                </a:cubicBezTo>
              </a:path>
            </a:pathLst>
          </a:custGeom>
          <a:noFill/>
          <a:ln w="15228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Ellipse 49"/>
          <p:cNvSpPr/>
          <p:nvPr/>
        </p:nvSpPr>
        <p:spPr>
          <a:xfrm>
            <a:off x="3681360" y="4803840"/>
            <a:ext cx="4698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Ellipse 50"/>
          <p:cNvSpPr/>
          <p:nvPr/>
        </p:nvSpPr>
        <p:spPr>
          <a:xfrm>
            <a:off x="5707080" y="4003560"/>
            <a:ext cx="471600" cy="4701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Ellipse 51"/>
          <p:cNvSpPr/>
          <p:nvPr/>
        </p:nvSpPr>
        <p:spPr>
          <a:xfrm>
            <a:off x="1670040" y="4716360"/>
            <a:ext cx="4698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Ellipse 73"/>
          <p:cNvSpPr/>
          <p:nvPr/>
        </p:nvSpPr>
        <p:spPr>
          <a:xfrm>
            <a:off x="2670120" y="4794120"/>
            <a:ext cx="469800" cy="4701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Ellipse 74"/>
          <p:cNvSpPr/>
          <p:nvPr/>
        </p:nvSpPr>
        <p:spPr>
          <a:xfrm>
            <a:off x="4687920" y="4564080"/>
            <a:ext cx="4716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llipse 75"/>
          <p:cNvSpPr/>
          <p:nvPr/>
        </p:nvSpPr>
        <p:spPr>
          <a:xfrm>
            <a:off x="6724800" y="2921040"/>
            <a:ext cx="469800" cy="4698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ktangel 48"/>
          <p:cNvSpPr/>
          <p:nvPr/>
        </p:nvSpPr>
        <p:spPr>
          <a:xfrm rot="16200000">
            <a:off x="-434520" y="353160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单击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entagon 25"/>
          <p:cNvSpPr/>
          <p:nvPr/>
        </p:nvSpPr>
        <p:spPr>
          <a:xfrm rot="900000">
            <a:off x="4181400" y="3710160"/>
            <a:ext cx="1486080" cy="48564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9" y="0"/>
                </a:lnTo>
                <a:lnTo>
                  <a:pt x="21600" y="10800"/>
                </a:lnTo>
                <a:lnTo>
                  <a:pt x="1806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800000"/>
          </a:gradFill>
          <a:ln cap="rnd" w="889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kstboks 27"/>
          <p:cNvSpPr/>
          <p:nvPr/>
        </p:nvSpPr>
        <p:spPr>
          <a:xfrm rot="840000">
            <a:off x="4287960" y="37717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"/>
          <p:cNvGrpSpPr/>
          <p:nvPr/>
        </p:nvGrpSpPr>
        <p:grpSpPr>
          <a:xfrm>
            <a:off x="1506600" y="2276640"/>
            <a:ext cx="2476440" cy="1228680"/>
            <a:chOff x="1506600" y="2276640"/>
            <a:chExt cx="2476440" cy="1228680"/>
          </a:xfrm>
        </p:grpSpPr>
        <p:sp>
          <p:nvSpPr>
            <p:cNvPr id="723" name="AutoShape 47"/>
            <p:cNvSpPr/>
            <p:nvPr/>
          </p:nvSpPr>
          <p:spPr>
            <a:xfrm>
              <a:off x="1506600" y="2276640"/>
              <a:ext cx="2476440" cy="1228680"/>
            </a:xfrm>
            <a:prstGeom prst="foldedCorner">
              <a:avLst>
                <a:gd name="adj" fmla="val 9550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48"/>
            <p:cNvSpPr/>
            <p:nvPr/>
          </p:nvSpPr>
          <p:spPr>
            <a:xfrm>
              <a:off x="1554120" y="233352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49"/>
            <p:cNvSpPr/>
            <p:nvPr/>
          </p:nvSpPr>
          <p:spPr>
            <a:xfrm>
              <a:off x="1554120" y="2568600"/>
              <a:ext cx="23716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0" y="3568680"/>
            <a:ext cx="9144000" cy="1676160"/>
            <a:chOff x="0" y="3568680"/>
            <a:chExt cx="9144000" cy="1676160"/>
          </a:xfrm>
        </p:grpSpPr>
        <p:sp>
          <p:nvSpPr>
            <p:cNvPr id="728" name="Rectangle 3"/>
            <p:cNvSpPr/>
            <p:nvPr/>
          </p:nvSpPr>
          <p:spPr>
            <a:xfrm>
              <a:off x="0" y="3948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4"/>
            <p:cNvSpPr/>
            <p:nvPr/>
          </p:nvSpPr>
          <p:spPr>
            <a:xfrm flipV="1">
              <a:off x="0" y="3568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31"/>
          <p:cNvGrpSpPr/>
          <p:nvPr/>
        </p:nvGrpSpPr>
        <p:grpSpPr>
          <a:xfrm>
            <a:off x="539640" y="1790640"/>
            <a:ext cx="3996000" cy="4014720"/>
            <a:chOff x="539640" y="1790640"/>
            <a:chExt cx="3996000" cy="4014720"/>
          </a:xfrm>
        </p:grpSpPr>
        <p:grpSp>
          <p:nvGrpSpPr>
            <p:cNvPr id="731" name="Freeform 6"/>
            <p:cNvGrpSpPr/>
            <p:nvPr/>
          </p:nvGrpSpPr>
          <p:grpSpPr>
            <a:xfrm>
              <a:off x="539640" y="1790640"/>
              <a:ext cx="3996000" cy="4014720"/>
              <a:chOff x="539640" y="1790640"/>
              <a:chExt cx="3996000" cy="4014720"/>
            </a:xfrm>
          </p:grpSpPr>
          <p:pic>
            <p:nvPicPr>
              <p:cNvPr id="732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1790640"/>
                <a:ext cx="3996000" cy="40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 rot="5400000">
                <a:off x="551160" y="1822320"/>
                <a:ext cx="3970080" cy="39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upper 14"/>
            <p:cNvGrpSpPr/>
            <p:nvPr/>
          </p:nvGrpSpPr>
          <p:grpSpPr>
            <a:xfrm>
              <a:off x="946800" y="2182680"/>
              <a:ext cx="3162240" cy="3187080"/>
              <a:chOff x="946800" y="2182680"/>
              <a:chExt cx="3162240" cy="3187080"/>
            </a:xfrm>
          </p:grpSpPr>
          <p:sp>
            <p:nvSpPr>
              <p:cNvPr id="735" name="Freeform 8"/>
              <p:cNvSpPr/>
              <p:nvPr/>
            </p:nvSpPr>
            <p:spPr>
              <a:xfrm rot="5400000">
                <a:off x="1756800" y="1372320"/>
                <a:ext cx="1542240" cy="3162240"/>
              </a:xfrm>
              <a:custGeom>
                <a:avLst/>
                <a:gdLst/>
                <a:ahLst/>
                <a:rect l="l" t="t" r="r" b="b"/>
                <a:pathLst>
                  <a:path w="227" h="468">
                    <a:moveTo>
                      <a:pt x="0" y="234"/>
                    </a:moveTo>
                    <a:cubicBezTo>
                      <a:pt x="0" y="361"/>
                      <a:pt x="101" y="465"/>
                      <a:pt x="227" y="468"/>
                    </a:cubicBezTo>
                    <a:cubicBezTo>
                      <a:pt x="227" y="357"/>
                      <a:pt x="227" y="357"/>
                      <a:pt x="227" y="357"/>
                    </a:cubicBezTo>
                    <a:cubicBezTo>
                      <a:pt x="163" y="354"/>
                      <a:pt x="111" y="300"/>
                      <a:pt x="111" y="234"/>
                    </a:cubicBezTo>
                    <a:cubicBezTo>
                      <a:pt x="111" y="169"/>
                      <a:pt x="163" y="115"/>
                      <a:pt x="227" y="112"/>
                    </a:cubicBezTo>
                    <a:cubicBezTo>
                      <a:pt x="227" y="0"/>
                      <a:pt x="227" y="0"/>
                      <a:pt x="227" y="0"/>
                    </a:cubicBezTo>
                    <a:cubicBezTo>
                      <a:pt x="101" y="4"/>
                      <a:pt x="0" y="107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e6e6e"/>
                  </a:gs>
                  <a:gs pos="100000">
                    <a:srgbClr val="bfbfbf"/>
                  </a:gs>
                </a:gsLst>
                <a:lin ang="0"/>
              </a:gradFill>
              <a:ln w="3240">
                <a:solidFill>
                  <a:srgbClr val="c4bd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9"/>
              <p:cNvSpPr/>
              <p:nvPr/>
            </p:nvSpPr>
            <p:spPr>
              <a:xfrm rot="5400000">
                <a:off x="1756800" y="3017520"/>
                <a:ext cx="1542240" cy="3162240"/>
              </a:xfrm>
              <a:custGeom>
                <a:avLst/>
                <a:gdLst/>
                <a:ahLst/>
                <a:rect l="l" t="t" r="r" b="b"/>
                <a:pathLst>
                  <a:path w="227" h="468">
                    <a:moveTo>
                      <a:pt x="115" y="234"/>
                    </a:moveTo>
                    <a:cubicBezTo>
                      <a:pt x="115" y="300"/>
                      <a:pt x="64" y="353"/>
                      <a:pt x="0" y="357"/>
                    </a:cubicBezTo>
                    <a:cubicBezTo>
                      <a:pt x="0" y="468"/>
                      <a:pt x="0" y="468"/>
                      <a:pt x="0" y="468"/>
                    </a:cubicBezTo>
                    <a:cubicBezTo>
                      <a:pt x="126" y="465"/>
                      <a:pt x="227" y="361"/>
                      <a:pt x="227" y="234"/>
                    </a:cubicBezTo>
                    <a:cubicBezTo>
                      <a:pt x="227" y="108"/>
                      <a:pt x="126" y="4"/>
                      <a:pt x="0" y="0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64" y="115"/>
                      <a:pt x="115" y="169"/>
                      <a:pt x="115" y="234"/>
                    </a:cubicBezTo>
                    <a:close/>
                  </a:path>
                </a:pathLst>
              </a:custGeom>
              <a:solidFill>
                <a:srgbClr val="558ed5"/>
              </a:solidFill>
              <a:ln w="3240">
                <a:solidFill>
                  <a:srgbClr val="c4bd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Ellipse 18"/>
            <p:cNvSpPr/>
            <p:nvPr/>
          </p:nvSpPr>
          <p:spPr>
            <a:xfrm>
              <a:off x="1394280" y="2269800"/>
              <a:ext cx="2341800" cy="1739160"/>
            </a:xfrm>
            <a:prstGeom prst="ellipse">
              <a:avLst/>
            </a:prstGeom>
            <a:gradFill rotWithShape="0">
              <a:gsLst>
                <a:gs pos="0">
                  <a:srgbClr val="8eb4e3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upper 13"/>
            <p:cNvGrpSpPr/>
            <p:nvPr/>
          </p:nvGrpSpPr>
          <p:grpSpPr>
            <a:xfrm>
              <a:off x="1801440" y="3048840"/>
              <a:ext cx="1447200" cy="1454400"/>
              <a:chOff x="1801440" y="3048840"/>
              <a:chExt cx="1447200" cy="1454400"/>
            </a:xfrm>
          </p:grpSpPr>
          <p:sp>
            <p:nvSpPr>
              <p:cNvPr id="739" name="Ellipse 11"/>
              <p:cNvSpPr/>
              <p:nvPr/>
            </p:nvSpPr>
            <p:spPr>
              <a:xfrm>
                <a:off x="1801440" y="3048840"/>
                <a:ext cx="1447200" cy="1454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c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Ellipse 12"/>
              <p:cNvSpPr/>
              <p:nvPr/>
            </p:nvSpPr>
            <p:spPr>
              <a:xfrm>
                <a:off x="1983240" y="3105360"/>
                <a:ext cx="1061640" cy="788760"/>
              </a:xfrm>
              <a:prstGeom prst="ellipse">
                <a:avLst/>
              </a:prstGeom>
              <a:gradFill rotWithShape="0">
                <a:gsLst>
                  <a:gs pos="0">
                    <a:srgbClr val="8eb4e3">
                      <a:alpha val="0"/>
                    </a:srgbClr>
                  </a:gs>
                  <a:gs pos="100000">
                    <a:srgbClr val="ffffff">
                      <a:alpha val="77254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TextBox 24"/>
            <p:cNvSpPr/>
            <p:nvPr/>
          </p:nvSpPr>
          <p:spPr>
            <a:xfrm>
              <a:off x="1995840" y="1794960"/>
              <a:ext cx="100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kstboks 23"/>
            <p:cNvSpPr/>
            <p:nvPr/>
          </p:nvSpPr>
          <p:spPr>
            <a:xfrm>
              <a:off x="1798200" y="35744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Box 23"/>
            <p:cNvSpPr/>
            <p:nvPr/>
          </p:nvSpPr>
          <p:spPr>
            <a:xfrm>
              <a:off x="2053080" y="242496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Box 25"/>
            <p:cNvSpPr/>
            <p:nvPr/>
          </p:nvSpPr>
          <p:spPr>
            <a:xfrm>
              <a:off x="2038680" y="4853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"/>
          <p:cNvSpPr/>
          <p:nvPr/>
        </p:nvSpPr>
        <p:spPr>
          <a:xfrm>
            <a:off x="4818240" y="2205000"/>
            <a:ext cx="4074840" cy="36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4818240" y="1844640"/>
            <a:ext cx="407484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4818240" y="1844640"/>
            <a:ext cx="4074840" cy="36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组合 7"/>
          <p:cNvGrpSpPr/>
          <p:nvPr/>
        </p:nvGrpSpPr>
        <p:grpSpPr>
          <a:xfrm>
            <a:off x="-20520" y="-100080"/>
            <a:ext cx="9180360" cy="6958080"/>
            <a:chOff x="-20520" y="-100080"/>
            <a:chExt cx="9180360" cy="6958080"/>
          </a:xfrm>
        </p:grpSpPr>
        <p:sp>
          <p:nvSpPr>
            <p:cNvPr id="750" name="矩形 14"/>
            <p:cNvSpPr/>
            <p:nvPr/>
          </p:nvSpPr>
          <p:spPr>
            <a:xfrm>
              <a:off x="-2880" y="-100080"/>
              <a:ext cx="9144000" cy="41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ktangel 11"/>
            <p:cNvSpPr/>
            <p:nvPr/>
          </p:nvSpPr>
          <p:spPr>
            <a:xfrm>
              <a:off x="-20520" y="3860640"/>
              <a:ext cx="9180360" cy="2997360"/>
            </a:xfrm>
            <a:prstGeom prst="rect">
              <a:avLst/>
            </a:prstGeom>
            <a:gradFill rotWithShape="0">
              <a:gsLst>
                <a:gs pos="0">
                  <a:srgbClr val="f50736"/>
                </a:gs>
                <a:gs pos="100000">
                  <a:srgbClr val="c00000"/>
                </a:gs>
              </a:gsLst>
              <a:lin ang="27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hteck 9"/>
            <p:cNvSpPr/>
            <p:nvPr/>
          </p:nvSpPr>
          <p:spPr>
            <a:xfrm flipH="1" rot="10800000">
              <a:off x="-2880" y="3716280"/>
              <a:ext cx="9144000" cy="179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itel 1"/>
          <p:cNvSpPr/>
          <p:nvPr/>
        </p:nvSpPr>
        <p:spPr>
          <a:xfrm>
            <a:off x="1835280" y="2030400"/>
            <a:ext cx="5715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7f7f7f"/>
                </a:solidFill>
                <a:latin typeface="Arial"/>
                <a:ea typeface="Arial"/>
              </a:rPr>
              <a:t>THANK YOU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3495600"/>
            <a:ext cx="9144000" cy="1676160"/>
            <a:chOff x="0" y="3495600"/>
            <a:chExt cx="9144000" cy="1676160"/>
          </a:xfrm>
        </p:grpSpPr>
        <p:sp>
          <p:nvSpPr>
            <p:cNvPr id="125" name="Rectangle 3"/>
            <p:cNvSpPr/>
            <p:nvPr/>
          </p:nvSpPr>
          <p:spPr>
            <a:xfrm>
              <a:off x="0" y="38750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 flipV="1">
              <a:off x="0" y="349524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4656240" y="2131920"/>
            <a:ext cx="4163760" cy="360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2131920"/>
            <a:ext cx="4074840" cy="360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656240" y="1771560"/>
            <a:ext cx="416376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4000" y="1771560"/>
            <a:ext cx="407484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656240" y="1771560"/>
            <a:ext cx="4163760" cy="360360"/>
          </a:xfrm>
          <a:prstGeom prst="rect">
            <a:avLst/>
          </a:prstGeom>
          <a:solidFill>
            <a:srgbClr val="ffc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24000" y="1771560"/>
            <a:ext cx="4074840" cy="36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5"/>
          <p:cNvGrpSpPr/>
          <p:nvPr/>
        </p:nvGrpSpPr>
        <p:grpSpPr>
          <a:xfrm>
            <a:off x="3713040" y="1650960"/>
            <a:ext cx="568440" cy="568440"/>
            <a:chOff x="3713040" y="1650960"/>
            <a:chExt cx="568440" cy="568440"/>
          </a:xfrm>
        </p:grpSpPr>
        <p:sp>
          <p:nvSpPr>
            <p:cNvPr id="134" name="Oval 27"/>
            <p:cNvSpPr/>
            <p:nvPr/>
          </p:nvSpPr>
          <p:spPr>
            <a:xfrm>
              <a:off x="3713040" y="1650960"/>
              <a:ext cx="568440" cy="56844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>
              <a:off x="3838680" y="1785960"/>
              <a:ext cx="317520" cy="298440"/>
            </a:xfrm>
            <a:prstGeom prst="plus">
              <a:avLst>
                <a:gd name="adj" fmla="val 3430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9"/>
            <p:cNvSpPr/>
            <p:nvPr/>
          </p:nvSpPr>
          <p:spPr>
            <a:xfrm>
              <a:off x="3840120" y="1671840"/>
              <a:ext cx="314280" cy="22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e3e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1"/>
          <p:cNvGrpSpPr/>
          <p:nvPr/>
        </p:nvGrpSpPr>
        <p:grpSpPr>
          <a:xfrm>
            <a:off x="8126280" y="1650960"/>
            <a:ext cx="565200" cy="565200"/>
            <a:chOff x="8126280" y="1650960"/>
            <a:chExt cx="565200" cy="565200"/>
          </a:xfrm>
        </p:grpSpPr>
        <p:sp>
          <p:nvSpPr>
            <p:cNvPr id="138" name="Oval 32"/>
            <p:cNvSpPr/>
            <p:nvPr/>
          </p:nvSpPr>
          <p:spPr>
            <a:xfrm>
              <a:off x="8126280" y="1650960"/>
              <a:ext cx="565200" cy="5652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8252280" y="1887840"/>
              <a:ext cx="312480" cy="9216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4"/>
            <p:cNvSpPr/>
            <p:nvPr/>
          </p:nvSpPr>
          <p:spPr>
            <a:xfrm>
              <a:off x="8253360" y="1671480"/>
              <a:ext cx="311040" cy="21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e3e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4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5062680" y="1555920"/>
            <a:ext cx="3757320" cy="360360"/>
          </a:xfrm>
          <a:prstGeom prst="rect">
            <a:avLst/>
          </a:prstGeom>
          <a:solidFill>
            <a:srgbClr val="7f7f7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24000" y="1555920"/>
            <a:ext cx="3757320" cy="360360"/>
          </a:xfrm>
          <a:prstGeom prst="rect">
            <a:avLst/>
          </a:prstGeom>
          <a:solidFill>
            <a:srgbClr val="7f7f7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062680" y="1916280"/>
            <a:ext cx="3757320" cy="26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44000" tIns="216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324000" y="1916280"/>
            <a:ext cx="3757320" cy="26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44000" tIns="216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1"/>
          <p:cNvSpPr/>
          <p:nvPr/>
        </p:nvSpPr>
        <p:spPr>
          <a:xfrm flipH="1">
            <a:off x="382500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gradFill rotWithShape="0">
            <a:gsLst>
              <a:gs pos="0">
                <a:srgbClr val="e9e9e9"/>
              </a:gs>
              <a:gs pos="100000">
                <a:srgbClr val="b2b2b2"/>
              </a:gs>
            </a:gsLst>
            <a:lin ang="0"/>
          </a:gra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463536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gradFill rotWithShape="0">
            <a:gsLst>
              <a:gs pos="0">
                <a:srgbClr val="e9e9e9"/>
              </a:gs>
              <a:gs pos="100000">
                <a:srgbClr val="b2b2b2"/>
              </a:gs>
            </a:gsLst>
            <a:lin ang="0"/>
          </a:gra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826920" y="4741920"/>
            <a:ext cx="802656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ctr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 rot="16200000">
            <a:off x="23760" y="5046120"/>
            <a:ext cx="1019160" cy="419040"/>
          </a:xfrm>
          <a:prstGeom prst="rect">
            <a:avLst/>
          </a:prstGeom>
          <a:solidFill>
            <a:srgbClr val="ff0000"/>
          </a:solidFill>
          <a:ln w="12600">
            <a:solidFill>
              <a:srgbClr val="9f9f9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1"/>
          <p:cNvSpPr/>
          <p:nvPr/>
        </p:nvSpPr>
        <p:spPr>
          <a:xfrm flipH="1">
            <a:off x="382500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463536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5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324000" y="1725480"/>
            <a:ext cx="2711160" cy="97164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216240" y="1725480"/>
            <a:ext cx="2711520" cy="97164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08840" y="1725480"/>
            <a:ext cx="2711160" cy="971640"/>
          </a:xfrm>
          <a:prstGeom prst="rect">
            <a:avLst/>
          </a:prstGeom>
          <a:solidFill>
            <a:srgbClr val="ff66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24000" y="2697120"/>
            <a:ext cx="271116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216240" y="2697120"/>
            <a:ext cx="271152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108840" y="2697120"/>
            <a:ext cx="271116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6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108000" y="1927080"/>
            <a:ext cx="5675040" cy="4474800"/>
            <a:chOff x="108000" y="1927080"/>
            <a:chExt cx="5675040" cy="4474800"/>
          </a:xfrm>
        </p:grpSpPr>
        <p:grpSp>
          <p:nvGrpSpPr>
            <p:cNvPr id="170" name="Group 47"/>
            <p:cNvGrpSpPr/>
            <p:nvPr/>
          </p:nvGrpSpPr>
          <p:grpSpPr>
            <a:xfrm>
              <a:off x="941400" y="4849560"/>
              <a:ext cx="4841640" cy="1552320"/>
              <a:chOff x="941400" y="4849560"/>
              <a:chExt cx="4841640" cy="155232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1894320" y="4849560"/>
                <a:ext cx="3888720" cy="825480"/>
              </a:xfrm>
              <a:custGeom>
                <a:avLst/>
                <a:gdLst>
                  <a:gd name="textAreaLeft" fmla="*/ 0 w 3888720"/>
                  <a:gd name="textAreaRight" fmla="*/ 3889080 w 3888720"/>
                  <a:gd name="textAreaTop" fmla="*/ 0 h 825480"/>
                  <a:gd name="textAreaBottom" fmla="*/ 825840 h 825480"/>
                </a:gdLst>
                <a:ahLst/>
                <a:rect l="textAreaLeft" t="textAreaTop" r="textAreaRight" b="textAreaBottom"/>
                <a:pathLst>
                  <a:path w="1678" h="1010">
                    <a:moveTo>
                      <a:pt x="1162" y="936"/>
                    </a:moveTo>
                    <a:cubicBezTo>
                      <a:pt x="1222" y="836"/>
                      <a:pt x="1371" y="388"/>
                      <a:pt x="985" y="252"/>
                    </a:cubicBezTo>
                    <a:cubicBezTo>
                      <a:pt x="471" y="122"/>
                      <a:pt x="116" y="637"/>
                      <a:pt x="116" y="637"/>
                    </a:cubicBezTo>
                    <a:cubicBezTo>
                      <a:pt x="116" y="637"/>
                      <a:pt x="116" y="637"/>
                      <a:pt x="0" y="603"/>
                    </a:cubicBezTo>
                    <a:cubicBezTo>
                      <a:pt x="272" y="215"/>
                      <a:pt x="727" y="0"/>
                      <a:pt x="1077" y="63"/>
                    </a:cubicBezTo>
                    <a:cubicBezTo>
                      <a:pt x="1416" y="123"/>
                      <a:pt x="1678" y="452"/>
                      <a:pt x="1422" y="1010"/>
                    </a:cubicBezTo>
                    <a:cubicBezTo>
                      <a:pt x="1357" y="994"/>
                      <a:pt x="1209" y="950"/>
                      <a:pt x="1162" y="936"/>
                    </a:cubicBezTo>
                    <a:close/>
                  </a:path>
                </a:pathLst>
              </a:custGeom>
              <a:solidFill>
                <a:srgbClr val="b4b4b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9"/>
              <p:cNvSpPr/>
              <p:nvPr/>
            </p:nvSpPr>
            <p:spPr>
              <a:xfrm>
                <a:off x="941400" y="5389920"/>
                <a:ext cx="4127760" cy="1011960"/>
              </a:xfrm>
              <a:custGeom>
                <a:avLst/>
                <a:gdLst>
                  <a:gd name="textAreaLeft" fmla="*/ 0 w 4127760"/>
                  <a:gd name="textAreaRight" fmla="*/ 4128120 w 4127760"/>
                  <a:gd name="textAreaTop" fmla="*/ 0 h 1011960"/>
                  <a:gd name="textAreaBottom" fmla="*/ 1012320 h 1011960"/>
                </a:gdLst>
                <a:ahLst/>
                <a:rect l="textAreaLeft" t="textAreaTop" r="textAreaRight" b="textAreaBottom"/>
                <a:pathLst>
                  <a:path w="1781" h="1235">
                    <a:moveTo>
                      <a:pt x="487" y="36"/>
                    </a:moveTo>
                    <a:cubicBezTo>
                      <a:pt x="412" y="169"/>
                      <a:pt x="208" y="597"/>
                      <a:pt x="609" y="785"/>
                    </a:cubicBezTo>
                    <a:cubicBezTo>
                      <a:pt x="830" y="873"/>
                      <a:pt x="1204" y="807"/>
                      <a:pt x="1523" y="363"/>
                    </a:cubicBezTo>
                    <a:cubicBezTo>
                      <a:pt x="1586" y="379"/>
                      <a:pt x="1709" y="419"/>
                      <a:pt x="1781" y="444"/>
                    </a:cubicBezTo>
                    <a:cubicBezTo>
                      <a:pt x="1502" y="949"/>
                      <a:pt x="806" y="1235"/>
                      <a:pt x="452" y="998"/>
                    </a:cubicBezTo>
                    <a:cubicBezTo>
                      <a:pt x="0" y="701"/>
                      <a:pt x="278" y="135"/>
                      <a:pt x="372" y="0"/>
                    </a:cubicBezTo>
                    <a:cubicBezTo>
                      <a:pt x="430" y="17"/>
                      <a:pt x="411" y="11"/>
                      <a:pt x="487" y="36"/>
                    </a:cubicBezTo>
                    <a:close/>
                  </a:path>
                </a:pathLst>
              </a:custGeom>
              <a:solidFill>
                <a:srgbClr val="b4b4b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80"/>
            <p:cNvGrpSpPr/>
            <p:nvPr/>
          </p:nvGrpSpPr>
          <p:grpSpPr>
            <a:xfrm>
              <a:off x="108000" y="3408120"/>
              <a:ext cx="4227480" cy="2886120"/>
              <a:chOff x="108000" y="3408120"/>
              <a:chExt cx="4227480" cy="2886120"/>
            </a:xfrm>
          </p:grpSpPr>
          <p:sp>
            <p:nvSpPr>
              <p:cNvPr id="174" name="Freeform 51"/>
              <p:cNvSpPr/>
              <p:nvPr/>
            </p:nvSpPr>
            <p:spPr>
              <a:xfrm>
                <a:off x="108000" y="3408120"/>
                <a:ext cx="4125960" cy="2862360"/>
              </a:xfrm>
              <a:custGeom>
                <a:avLst/>
                <a:gdLst>
                  <a:gd name="textAreaLeft" fmla="*/ 0 w 4125960"/>
                  <a:gd name="textAreaRight" fmla="*/ 4126320 w 4125960"/>
                  <a:gd name="textAreaTop" fmla="*/ 0 h 2862360"/>
                  <a:gd name="textAreaBottom" fmla="*/ 2862720 h 2862360"/>
                </a:gdLst>
                <a:ahLst/>
                <a:rect l="textAreaLeft" t="textAreaTop" r="textAreaRight" b="textAreaBottom"/>
                <a:pathLst>
                  <a:path w="1781" h="1235">
                    <a:moveTo>
                      <a:pt x="487" y="36"/>
                    </a:moveTo>
                    <a:cubicBezTo>
                      <a:pt x="412" y="169"/>
                      <a:pt x="208" y="597"/>
                      <a:pt x="609" y="785"/>
                    </a:cubicBezTo>
                    <a:cubicBezTo>
                      <a:pt x="830" y="873"/>
                      <a:pt x="1204" y="807"/>
                      <a:pt x="1523" y="363"/>
                    </a:cubicBezTo>
                    <a:cubicBezTo>
                      <a:pt x="1586" y="379"/>
                      <a:pt x="1709" y="419"/>
                      <a:pt x="1781" y="444"/>
                    </a:cubicBezTo>
                    <a:cubicBezTo>
                      <a:pt x="1502" y="949"/>
                      <a:pt x="806" y="1235"/>
                      <a:pt x="452" y="998"/>
                    </a:cubicBezTo>
                    <a:cubicBezTo>
                      <a:pt x="0" y="701"/>
                      <a:pt x="278" y="135"/>
                      <a:pt x="372" y="0"/>
                    </a:cubicBezTo>
                    <a:cubicBezTo>
                      <a:pt x="430" y="17"/>
                      <a:pt x="411" y="11"/>
                      <a:pt x="487" y="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17171"/>
                  </a:gs>
                  <a:gs pos="50000">
                    <a:srgbClr val="f6f6f6"/>
                  </a:gs>
                  <a:gs pos="100000">
                    <a:srgbClr val="7171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2"/>
              <p:cNvSpPr/>
              <p:nvPr/>
            </p:nvSpPr>
            <p:spPr>
              <a:xfrm>
                <a:off x="1295280" y="4433760"/>
                <a:ext cx="3040200" cy="1860480"/>
              </a:xfrm>
              <a:custGeom>
                <a:avLst/>
                <a:gdLst>
                  <a:gd name="textAreaLeft" fmla="*/ 0 w 3040200"/>
                  <a:gd name="textAreaRight" fmla="*/ 3040560 w 3040200"/>
                  <a:gd name="textAreaTop" fmla="*/ 0 h 1860480"/>
                  <a:gd name="textAreaBottom" fmla="*/ 1860840 h 1860480"/>
                </a:gdLst>
                <a:ahLst/>
                <a:rect l="textAreaLeft" t="textAreaTop" r="textAreaRight" b="textAreaBottom"/>
                <a:pathLst>
                  <a:path w="1312" h="803">
                    <a:moveTo>
                      <a:pt x="0" y="589"/>
                    </a:moveTo>
                    <a:cubicBezTo>
                      <a:pt x="0" y="589"/>
                      <a:pt x="399" y="803"/>
                      <a:pt x="989" y="335"/>
                    </a:cubicBezTo>
                    <a:cubicBezTo>
                      <a:pt x="1163" y="189"/>
                      <a:pt x="1267" y="0"/>
                      <a:pt x="1267" y="0"/>
                    </a:cubicBezTo>
                    <a:cubicBezTo>
                      <a:pt x="1312" y="63"/>
                      <a:pt x="1312" y="63"/>
                      <a:pt x="1312" y="63"/>
                    </a:cubicBezTo>
                    <a:cubicBezTo>
                      <a:pt x="1312" y="63"/>
                      <a:pt x="999" y="633"/>
                      <a:pt x="400" y="678"/>
                    </a:cubicBezTo>
                    <a:cubicBezTo>
                      <a:pt x="148" y="694"/>
                      <a:pt x="0" y="589"/>
                      <a:pt x="0" y="5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565656"/>
                  </a:gs>
                  <a:gs pos="100000">
                    <a:srgbClr val="c1c1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3"/>
              <p:cNvSpPr/>
              <p:nvPr/>
            </p:nvSpPr>
            <p:spPr>
              <a:xfrm>
                <a:off x="762120" y="3492360"/>
                <a:ext cx="617400" cy="165420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654200"/>
                  <a:gd name="textAreaBottom" fmla="*/ 1654560 h 1654200"/>
                </a:gdLst>
                <a:ahLst/>
                <a:rect l="textAreaLeft" t="textAreaTop" r="textAreaRight" b="textAreaBottom"/>
                <a:pathLst>
                  <a:path w="267" h="714">
                    <a:moveTo>
                      <a:pt x="205" y="0"/>
                    </a:moveTo>
                    <a:cubicBezTo>
                      <a:pt x="205" y="0"/>
                      <a:pt x="254" y="45"/>
                      <a:pt x="261" y="50"/>
                    </a:cubicBezTo>
                    <a:cubicBezTo>
                      <a:pt x="267" y="61"/>
                      <a:pt x="0" y="424"/>
                      <a:pt x="264" y="714"/>
                    </a:cubicBezTo>
                    <a:cubicBezTo>
                      <a:pt x="69" y="593"/>
                      <a:pt x="85" y="409"/>
                      <a:pt x="87" y="363"/>
                    </a:cubicBezTo>
                    <a:cubicBezTo>
                      <a:pt x="88" y="197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3a3a3"/>
                  </a:gs>
                  <a:gs pos="50000">
                    <a:srgbClr val="525252"/>
                  </a:gs>
                  <a:gs pos="100000">
                    <a:srgbClr val="a3a3a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79"/>
            <p:cNvGrpSpPr/>
            <p:nvPr/>
          </p:nvGrpSpPr>
          <p:grpSpPr>
            <a:xfrm>
              <a:off x="1058760" y="1927080"/>
              <a:ext cx="3891240" cy="2492280"/>
              <a:chOff x="1058760" y="1927080"/>
              <a:chExt cx="3891240" cy="2492280"/>
            </a:xfrm>
          </p:grpSpPr>
          <p:sp>
            <p:nvSpPr>
              <p:cNvPr id="178" name="Freeform 55"/>
              <p:cNvSpPr/>
              <p:nvPr/>
            </p:nvSpPr>
            <p:spPr>
              <a:xfrm>
                <a:off x="1058760" y="1927080"/>
                <a:ext cx="3891240" cy="2338200"/>
              </a:xfrm>
              <a:custGeom>
                <a:avLst/>
                <a:gdLst>
                  <a:gd name="textAreaLeft" fmla="*/ 0 w 3891240"/>
                  <a:gd name="textAreaRight" fmla="*/ 3891600 w 3891240"/>
                  <a:gd name="textAreaTop" fmla="*/ 0 h 2338200"/>
                  <a:gd name="textAreaBottom" fmla="*/ 2338560 h 2338200"/>
                </a:gdLst>
                <a:ahLst/>
                <a:rect l="textAreaLeft" t="textAreaTop" r="textAreaRight" b="textAreaBottom"/>
                <a:pathLst>
                  <a:path w="1678" h="1010">
                    <a:moveTo>
                      <a:pt x="1162" y="936"/>
                    </a:moveTo>
                    <a:cubicBezTo>
                      <a:pt x="1222" y="836"/>
                      <a:pt x="1371" y="388"/>
                      <a:pt x="985" y="252"/>
                    </a:cubicBezTo>
                    <a:cubicBezTo>
                      <a:pt x="471" y="122"/>
                      <a:pt x="116" y="637"/>
                      <a:pt x="116" y="637"/>
                    </a:cubicBezTo>
                    <a:cubicBezTo>
                      <a:pt x="116" y="637"/>
                      <a:pt x="116" y="637"/>
                      <a:pt x="0" y="603"/>
                    </a:cubicBezTo>
                    <a:cubicBezTo>
                      <a:pt x="272" y="215"/>
                      <a:pt x="727" y="0"/>
                      <a:pt x="1077" y="63"/>
                    </a:cubicBezTo>
                    <a:cubicBezTo>
                      <a:pt x="1416" y="123"/>
                      <a:pt x="1678" y="452"/>
                      <a:pt x="1422" y="1010"/>
                    </a:cubicBezTo>
                    <a:cubicBezTo>
                      <a:pt x="1357" y="994"/>
                      <a:pt x="1209" y="950"/>
                      <a:pt x="1162" y="936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6"/>
              <p:cNvSpPr/>
              <p:nvPr/>
            </p:nvSpPr>
            <p:spPr>
              <a:xfrm>
                <a:off x="4356000" y="2806560"/>
                <a:ext cx="414360" cy="1612800"/>
              </a:xfrm>
              <a:custGeom>
                <a:avLst/>
                <a:gdLst>
                  <a:gd name="textAreaLeft" fmla="*/ 0 w 414360"/>
                  <a:gd name="textAreaRight" fmla="*/ 414720 w 414360"/>
                  <a:gd name="textAreaTop" fmla="*/ 0 h 1612800"/>
                  <a:gd name="textAreaBottom" fmla="*/ 1613160 h 1612800"/>
                </a:gdLst>
                <a:ahLst/>
                <a:rect l="textAreaLeft" t="textAreaTop" r="textAreaRight" b="textAreaBottom"/>
                <a:pathLst>
                  <a:path w="179" h="696">
                    <a:moveTo>
                      <a:pt x="0" y="630"/>
                    </a:moveTo>
                    <a:cubicBezTo>
                      <a:pt x="19" y="659"/>
                      <a:pt x="42" y="696"/>
                      <a:pt x="42" y="696"/>
                    </a:cubicBezTo>
                    <a:cubicBezTo>
                      <a:pt x="42" y="696"/>
                      <a:pt x="134" y="518"/>
                      <a:pt x="139" y="315"/>
                    </a:cubicBezTo>
                    <a:cubicBezTo>
                      <a:pt x="146" y="172"/>
                      <a:pt x="91" y="63"/>
                      <a:pt x="91" y="63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179" y="245"/>
                      <a:pt x="0" y="6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f0000"/>
                  </a:gs>
                  <a:gs pos="100000">
                    <a:srgbClr val="db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7"/>
              <p:cNvSpPr/>
              <p:nvPr/>
            </p:nvSpPr>
            <p:spPr>
              <a:xfrm>
                <a:off x="1327320" y="2207880"/>
                <a:ext cx="2549520" cy="1311480"/>
              </a:xfrm>
              <a:custGeom>
                <a:avLst/>
                <a:gdLst>
                  <a:gd name="textAreaLeft" fmla="*/ 0 w 2549520"/>
                  <a:gd name="textAreaRight" fmla="*/ 2549880 w 2549520"/>
                  <a:gd name="textAreaTop" fmla="*/ 0 h 1311480"/>
                  <a:gd name="textAreaBottom" fmla="*/ 1311840 h 1311480"/>
                </a:gdLst>
                <a:ahLst/>
                <a:rect l="textAreaLeft" t="textAreaTop" r="textAreaRight" b="textAreaBottom"/>
                <a:pathLst>
                  <a:path w="1100" h="565">
                    <a:moveTo>
                      <a:pt x="869" y="130"/>
                    </a:moveTo>
                    <a:cubicBezTo>
                      <a:pt x="355" y="0"/>
                      <a:pt x="0" y="515"/>
                      <a:pt x="0" y="515"/>
                    </a:cubicBezTo>
                    <a:cubicBezTo>
                      <a:pt x="0" y="515"/>
                      <a:pt x="0" y="515"/>
                      <a:pt x="54" y="565"/>
                    </a:cubicBezTo>
                    <a:cubicBezTo>
                      <a:pt x="279" y="285"/>
                      <a:pt x="580" y="120"/>
                      <a:pt x="866" y="186"/>
                    </a:cubicBezTo>
                    <a:cubicBezTo>
                      <a:pt x="1050" y="226"/>
                      <a:pt x="1100" y="347"/>
                      <a:pt x="1100" y="347"/>
                    </a:cubicBezTo>
                    <a:cubicBezTo>
                      <a:pt x="1084" y="303"/>
                      <a:pt x="1043" y="192"/>
                      <a:pt x="869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f0000"/>
                  </a:gs>
                  <a:gs pos="100000">
                    <a:srgbClr val="db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3753000" y="4095720"/>
                <a:ext cx="698400" cy="323640"/>
              </a:xfrm>
              <a:custGeom>
                <a:avLst/>
                <a:gdLst>
                  <a:gd name="textAreaLeft" fmla="*/ 0 w 698400"/>
                  <a:gd name="textAreaRight" fmla="*/ 698760 w 698400"/>
                  <a:gd name="textAreaTop" fmla="*/ 0 h 323640"/>
                  <a:gd name="textAreaBottom" fmla="*/ 323640 h 323640"/>
                </a:gdLst>
                <a:ahLst/>
                <a:rect l="textAreaLeft" t="textAreaTop" r="textAreaRight" b="textAreaBottom"/>
                <a:pathLst>
                  <a:path w="469" h="218">
                    <a:moveTo>
                      <a:pt x="0" y="0"/>
                    </a:moveTo>
                    <a:lnTo>
                      <a:pt x="404" y="115"/>
                    </a:lnTo>
                    <a:lnTo>
                      <a:pt x="469" y="218"/>
                    </a:lnTo>
                    <a:lnTo>
                      <a:pt x="73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9"/>
              <p:cNvSpPr/>
              <p:nvPr/>
            </p:nvSpPr>
            <p:spPr>
              <a:xfrm>
                <a:off x="1058760" y="3323880"/>
                <a:ext cx="395280" cy="19548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64" h="131">
                    <a:moveTo>
                      <a:pt x="180" y="53"/>
                    </a:moveTo>
                    <a:lnTo>
                      <a:pt x="264" y="131"/>
                    </a:lnTo>
                    <a:lnTo>
                      <a:pt x="83" y="78"/>
                    </a:lnTo>
                    <a:lnTo>
                      <a:pt x="0" y="0"/>
                    </a:lnTo>
                    <a:lnTo>
                      <a:pt x="180" y="5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Line 16"/>
          <p:cNvSpPr/>
          <p:nvPr/>
        </p:nvSpPr>
        <p:spPr>
          <a:xfrm flipH="1">
            <a:off x="1798920" y="4375440"/>
            <a:ext cx="410400" cy="66456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2711520" y="2832120"/>
            <a:ext cx="340920" cy="615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908720" y="3691080"/>
            <a:ext cx="127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5197320" y="1771560"/>
            <a:ext cx="3713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197320" y="2131920"/>
            <a:ext cx="3713400" cy="168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197320" y="3968640"/>
            <a:ext cx="3713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197320" y="4329000"/>
            <a:ext cx="3713400" cy="168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92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4"/>
          <p:cNvSpPr/>
          <p:nvPr/>
        </p:nvSpPr>
        <p:spPr>
          <a:xfrm>
            <a:off x="324000" y="2131920"/>
            <a:ext cx="2374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391440" y="2131920"/>
            <a:ext cx="243504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"/>
          <p:cNvSpPr/>
          <p:nvPr/>
        </p:nvSpPr>
        <p:spPr>
          <a:xfrm>
            <a:off x="3759120" y="1762200"/>
            <a:ext cx="1606680" cy="235404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54040"/>
              <a:gd name="textAreaBottom" fmla="*/ 2354400 h 2354040"/>
            </a:gdLst>
            <a:ahLst/>
            <a:rect l="textAreaLeft" t="textAreaTop" r="textAreaRight" b="textAreaBottom"/>
            <a:pathLst>
              <a:path w="1012" h="1483">
                <a:moveTo>
                  <a:pt x="0" y="542"/>
                </a:moveTo>
                <a:cubicBezTo>
                  <a:pt x="0" y="827"/>
                  <a:pt x="230" y="1058"/>
                  <a:pt x="513" y="1058"/>
                </a:cubicBezTo>
                <a:cubicBezTo>
                  <a:pt x="684" y="1226"/>
                  <a:pt x="989" y="1483"/>
                  <a:pt x="1012" y="1463"/>
                </a:cubicBezTo>
                <a:cubicBezTo>
                  <a:pt x="1012" y="1463"/>
                  <a:pt x="933" y="1105"/>
                  <a:pt x="653" y="938"/>
                </a:cubicBezTo>
                <a:cubicBezTo>
                  <a:pt x="349" y="780"/>
                  <a:pt x="334" y="725"/>
                  <a:pt x="318" y="615"/>
                </a:cubicBezTo>
                <a:cubicBezTo>
                  <a:pt x="300" y="471"/>
                  <a:pt x="424" y="323"/>
                  <a:pt x="541" y="251"/>
                </a:cubicBezTo>
                <a:cubicBezTo>
                  <a:pt x="658" y="179"/>
                  <a:pt x="626" y="0"/>
                  <a:pt x="454" y="27"/>
                </a:cubicBezTo>
                <a:cubicBezTo>
                  <a:pt x="259" y="45"/>
                  <a:pt x="4" y="198"/>
                  <a:pt x="0" y="54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f3f3f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3759120" y="1805040"/>
            <a:ext cx="2420640" cy="3279240"/>
            <a:chOff x="3759120" y="1805040"/>
            <a:chExt cx="2420640" cy="3279240"/>
          </a:xfrm>
        </p:grpSpPr>
        <p:sp>
          <p:nvSpPr>
            <p:cNvPr id="198" name="Freeform 6"/>
            <p:cNvSpPr/>
            <p:nvPr/>
          </p:nvSpPr>
          <p:spPr>
            <a:xfrm flipH="1" flipV="1">
              <a:off x="3774960" y="2729880"/>
              <a:ext cx="1606320" cy="2354040"/>
            </a:xfrm>
            <a:custGeom>
              <a:avLst/>
              <a:gdLst>
                <a:gd name="textAreaLeft" fmla="*/ 360 w 1606320"/>
                <a:gd name="textAreaRight" fmla="*/ 1607040 w 1606320"/>
                <a:gd name="textAreaTop" fmla="*/ -360 h 2354040"/>
                <a:gd name="textAreaBottom" fmla="*/ 2354040 h 2354040"/>
              </a:gdLst>
              <a:ahLst/>
              <a:rect l="textAreaLeft" t="textAreaTop" r="textAreaRight" b="textAreaBottom"/>
              <a:pathLst>
                <a:path w="1012" h="1483">
                  <a:moveTo>
                    <a:pt x="0" y="542"/>
                  </a:moveTo>
                  <a:cubicBezTo>
                    <a:pt x="0" y="827"/>
                    <a:pt x="230" y="1058"/>
                    <a:pt x="513" y="1058"/>
                  </a:cubicBezTo>
                  <a:cubicBezTo>
                    <a:pt x="684" y="1226"/>
                    <a:pt x="989" y="1483"/>
                    <a:pt x="1012" y="1463"/>
                  </a:cubicBezTo>
                  <a:cubicBezTo>
                    <a:pt x="1012" y="1463"/>
                    <a:pt x="933" y="1105"/>
                    <a:pt x="653" y="938"/>
                  </a:cubicBezTo>
                  <a:cubicBezTo>
                    <a:pt x="349" y="780"/>
                    <a:pt x="334" y="725"/>
                    <a:pt x="318" y="615"/>
                  </a:cubicBezTo>
                  <a:cubicBezTo>
                    <a:pt x="300" y="471"/>
                    <a:pt x="424" y="323"/>
                    <a:pt x="541" y="251"/>
                  </a:cubicBezTo>
                  <a:cubicBezTo>
                    <a:pt x="658" y="179"/>
                    <a:pt x="626" y="0"/>
                    <a:pt x="454" y="27"/>
                  </a:cubicBezTo>
                  <a:cubicBezTo>
                    <a:pt x="259" y="45"/>
                    <a:pt x="4" y="198"/>
                    <a:pt x="0" y="5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3f3f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3759120" y="1805040"/>
              <a:ext cx="2420640" cy="323856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849" h="1133">
                  <a:moveTo>
                    <a:pt x="283" y="0"/>
                  </a:moveTo>
                  <a:cubicBezTo>
                    <a:pt x="595" y="0"/>
                    <a:pt x="849" y="253"/>
                    <a:pt x="849" y="567"/>
                  </a:cubicBezTo>
                  <a:cubicBezTo>
                    <a:pt x="849" y="880"/>
                    <a:pt x="595" y="1133"/>
                    <a:pt x="283" y="1133"/>
                  </a:cubicBezTo>
                  <a:cubicBezTo>
                    <a:pt x="283" y="1133"/>
                    <a:pt x="283" y="1133"/>
                    <a:pt x="283" y="1133"/>
                  </a:cubicBezTo>
                  <a:cubicBezTo>
                    <a:pt x="439" y="1133"/>
                    <a:pt x="566" y="1007"/>
                    <a:pt x="566" y="851"/>
                  </a:cubicBezTo>
                  <a:cubicBezTo>
                    <a:pt x="566" y="694"/>
                    <a:pt x="439" y="567"/>
                    <a:pt x="283" y="567"/>
                  </a:cubicBezTo>
                  <a:cubicBezTo>
                    <a:pt x="127" y="567"/>
                    <a:pt x="0" y="440"/>
                    <a:pt x="0" y="283"/>
                  </a:cubicBezTo>
                  <a:cubicBezTo>
                    <a:pt x="0" y="127"/>
                    <a:pt x="127" y="0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449440" y="4905360"/>
            <a:ext cx="43909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Freeform 4"/>
          <p:cNvSpPr/>
          <p:nvPr/>
        </p:nvSpPr>
        <p:spPr>
          <a:xfrm>
            <a:off x="2960640" y="180504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566" y="1133"/>
                </a:moveTo>
                <a:cubicBezTo>
                  <a:pt x="254" y="1133"/>
                  <a:pt x="0" y="880"/>
                  <a:pt x="0" y="567"/>
                </a:cubicBezTo>
                <a:cubicBezTo>
                  <a:pt x="0" y="253"/>
                  <a:pt x="254" y="0"/>
                  <a:pt x="566" y="0"/>
                </a:cubicBezTo>
                <a:cubicBezTo>
                  <a:pt x="566" y="0"/>
                  <a:pt x="566" y="0"/>
                  <a:pt x="566" y="0"/>
                </a:cubicBezTo>
                <a:cubicBezTo>
                  <a:pt x="410" y="0"/>
                  <a:pt x="283" y="126"/>
                  <a:pt x="283" y="282"/>
                </a:cubicBezTo>
                <a:cubicBezTo>
                  <a:pt x="283" y="439"/>
                  <a:pt x="410" y="566"/>
                  <a:pt x="566" y="566"/>
                </a:cubicBezTo>
                <a:cubicBezTo>
                  <a:pt x="722" y="566"/>
                  <a:pt x="849" y="693"/>
                  <a:pt x="849" y="850"/>
                </a:cubicBezTo>
                <a:cubicBezTo>
                  <a:pt x="849" y="1006"/>
                  <a:pt x="722" y="1133"/>
                  <a:pt x="566" y="1133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222222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449440" y="4905360"/>
            <a:ext cx="4390920" cy="71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3"/>
          <p:cNvSpPr/>
          <p:nvPr/>
        </p:nvSpPr>
        <p:spPr>
          <a:xfrm>
            <a:off x="3247920" y="3673440"/>
            <a:ext cx="197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3759120" y="180504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283" y="0"/>
                </a:moveTo>
                <a:cubicBezTo>
                  <a:pt x="595" y="0"/>
                  <a:pt x="849" y="253"/>
                  <a:pt x="849" y="567"/>
                </a:cubicBezTo>
                <a:cubicBezTo>
                  <a:pt x="849" y="880"/>
                  <a:pt x="595" y="1133"/>
                  <a:pt x="283" y="1133"/>
                </a:cubicBezTo>
                <a:cubicBezTo>
                  <a:pt x="283" y="1133"/>
                  <a:pt x="283" y="1133"/>
                  <a:pt x="283" y="1133"/>
                </a:cubicBezTo>
                <a:cubicBezTo>
                  <a:pt x="439" y="1133"/>
                  <a:pt x="566" y="1007"/>
                  <a:pt x="566" y="851"/>
                </a:cubicBezTo>
                <a:cubicBezTo>
                  <a:pt x="566" y="694"/>
                  <a:pt x="439" y="567"/>
                  <a:pt x="283" y="567"/>
                </a:cubicBezTo>
                <a:cubicBezTo>
                  <a:pt x="127" y="567"/>
                  <a:pt x="0" y="440"/>
                  <a:pt x="0" y="283"/>
                </a:cubicBezTo>
                <a:cubicBezTo>
                  <a:pt x="0" y="127"/>
                  <a:pt x="127" y="0"/>
                  <a:pt x="283" y="0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234040" y="218124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172040" y="2859120"/>
            <a:ext cx="1695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808440" y="1846440"/>
            <a:ext cx="1555560" cy="871200"/>
          </a:xfrm>
          <a:prstGeom prst="ellipse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68360" y="6294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3618000"/>
            <a:ext cx="9144000" cy="1676160"/>
            <a:chOff x="0" y="3618000"/>
            <a:chExt cx="9144000" cy="1676160"/>
          </a:xfrm>
        </p:grpSpPr>
        <p:sp>
          <p:nvSpPr>
            <p:cNvPr id="211" name="Rectangle 3"/>
            <p:cNvSpPr/>
            <p:nvPr/>
          </p:nvSpPr>
          <p:spPr>
            <a:xfrm>
              <a:off x="0" y="39974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 flipV="1">
              <a:off x="0" y="361764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Freeform 2"/>
          <p:cNvSpPr/>
          <p:nvPr/>
        </p:nvSpPr>
        <p:spPr>
          <a:xfrm>
            <a:off x="1309680" y="2027160"/>
            <a:ext cx="1606680" cy="235440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54400"/>
              <a:gd name="textAreaBottom" fmla="*/ 2354760 h 2354400"/>
            </a:gdLst>
            <a:ahLst/>
            <a:rect l="textAreaLeft" t="textAreaTop" r="textAreaRight" b="textAreaBottom"/>
            <a:pathLst>
              <a:path w="1012" h="1483">
                <a:moveTo>
                  <a:pt x="0" y="542"/>
                </a:moveTo>
                <a:cubicBezTo>
                  <a:pt x="0" y="827"/>
                  <a:pt x="230" y="1058"/>
                  <a:pt x="513" y="1058"/>
                </a:cubicBezTo>
                <a:cubicBezTo>
                  <a:pt x="684" y="1226"/>
                  <a:pt x="989" y="1483"/>
                  <a:pt x="1012" y="1463"/>
                </a:cubicBezTo>
                <a:cubicBezTo>
                  <a:pt x="1012" y="1463"/>
                  <a:pt x="933" y="1105"/>
                  <a:pt x="653" y="938"/>
                </a:cubicBezTo>
                <a:cubicBezTo>
                  <a:pt x="349" y="780"/>
                  <a:pt x="334" y="725"/>
                  <a:pt x="318" y="615"/>
                </a:cubicBezTo>
                <a:cubicBezTo>
                  <a:pt x="300" y="471"/>
                  <a:pt x="424" y="323"/>
                  <a:pt x="541" y="251"/>
                </a:cubicBezTo>
                <a:cubicBezTo>
                  <a:pt x="658" y="179"/>
                  <a:pt x="626" y="0"/>
                  <a:pt x="454" y="27"/>
                </a:cubicBezTo>
                <a:cubicBezTo>
                  <a:pt x="259" y="45"/>
                  <a:pt x="4" y="198"/>
                  <a:pt x="0" y="54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f3f3f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1309680" y="2070000"/>
            <a:ext cx="2420640" cy="3279240"/>
            <a:chOff x="1309680" y="2070000"/>
            <a:chExt cx="2420640" cy="3279240"/>
          </a:xfrm>
        </p:grpSpPr>
        <p:sp>
          <p:nvSpPr>
            <p:cNvPr id="215" name="Freeform 4"/>
            <p:cNvSpPr/>
            <p:nvPr/>
          </p:nvSpPr>
          <p:spPr>
            <a:xfrm flipH="1" flipV="1">
              <a:off x="1325160" y="2994840"/>
              <a:ext cx="1606320" cy="2354040"/>
            </a:xfrm>
            <a:custGeom>
              <a:avLst/>
              <a:gdLst>
                <a:gd name="textAreaLeft" fmla="*/ 360 w 1606320"/>
                <a:gd name="textAreaRight" fmla="*/ 1607040 w 1606320"/>
                <a:gd name="textAreaTop" fmla="*/ -360 h 2354040"/>
                <a:gd name="textAreaBottom" fmla="*/ 2354040 h 2354040"/>
              </a:gdLst>
              <a:ahLst/>
              <a:rect l="textAreaLeft" t="textAreaTop" r="textAreaRight" b="textAreaBottom"/>
              <a:pathLst>
                <a:path w="1012" h="1483">
                  <a:moveTo>
                    <a:pt x="0" y="542"/>
                  </a:moveTo>
                  <a:cubicBezTo>
                    <a:pt x="0" y="827"/>
                    <a:pt x="230" y="1058"/>
                    <a:pt x="513" y="1058"/>
                  </a:cubicBezTo>
                  <a:cubicBezTo>
                    <a:pt x="684" y="1226"/>
                    <a:pt x="989" y="1483"/>
                    <a:pt x="1012" y="1463"/>
                  </a:cubicBezTo>
                  <a:cubicBezTo>
                    <a:pt x="1012" y="1463"/>
                    <a:pt x="933" y="1105"/>
                    <a:pt x="653" y="938"/>
                  </a:cubicBezTo>
                  <a:cubicBezTo>
                    <a:pt x="349" y="780"/>
                    <a:pt x="334" y="725"/>
                    <a:pt x="318" y="615"/>
                  </a:cubicBezTo>
                  <a:cubicBezTo>
                    <a:pt x="300" y="471"/>
                    <a:pt x="424" y="323"/>
                    <a:pt x="541" y="251"/>
                  </a:cubicBezTo>
                  <a:cubicBezTo>
                    <a:pt x="658" y="179"/>
                    <a:pt x="626" y="0"/>
                    <a:pt x="454" y="27"/>
                  </a:cubicBezTo>
                  <a:cubicBezTo>
                    <a:pt x="259" y="45"/>
                    <a:pt x="4" y="198"/>
                    <a:pt x="0" y="5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3f3f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1309680" y="2070000"/>
              <a:ext cx="2420640" cy="323856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849" h="1133">
                  <a:moveTo>
                    <a:pt x="283" y="0"/>
                  </a:moveTo>
                  <a:cubicBezTo>
                    <a:pt x="595" y="0"/>
                    <a:pt x="849" y="253"/>
                    <a:pt x="849" y="567"/>
                  </a:cubicBezTo>
                  <a:cubicBezTo>
                    <a:pt x="849" y="880"/>
                    <a:pt x="595" y="1133"/>
                    <a:pt x="283" y="1133"/>
                  </a:cubicBezTo>
                  <a:cubicBezTo>
                    <a:pt x="283" y="1133"/>
                    <a:pt x="283" y="1133"/>
                    <a:pt x="283" y="1133"/>
                  </a:cubicBezTo>
                  <a:cubicBezTo>
                    <a:pt x="439" y="1133"/>
                    <a:pt x="566" y="1007"/>
                    <a:pt x="566" y="851"/>
                  </a:cubicBezTo>
                  <a:cubicBezTo>
                    <a:pt x="566" y="694"/>
                    <a:pt x="439" y="567"/>
                    <a:pt x="283" y="567"/>
                  </a:cubicBezTo>
                  <a:cubicBezTo>
                    <a:pt x="127" y="567"/>
                    <a:pt x="0" y="440"/>
                    <a:pt x="0" y="283"/>
                  </a:cubicBezTo>
                  <a:cubicBezTo>
                    <a:pt x="0" y="127"/>
                    <a:pt x="127" y="0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b7b7b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5170320"/>
            <a:ext cx="4390920" cy="714600"/>
          </a:xfrm>
          <a:prstGeom prst="rect">
            <a:avLst/>
          </a:prstGeom>
          <a:ln w="0">
            <a:noFill/>
          </a:ln>
        </p:spPr>
      </p:pic>
      <p:sp>
        <p:nvSpPr>
          <p:cNvPr id="218" name="Freeform 4"/>
          <p:cNvSpPr/>
          <p:nvPr/>
        </p:nvSpPr>
        <p:spPr>
          <a:xfrm>
            <a:off x="511200" y="207000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566" y="1133"/>
                </a:moveTo>
                <a:cubicBezTo>
                  <a:pt x="254" y="1133"/>
                  <a:pt x="0" y="880"/>
                  <a:pt x="0" y="567"/>
                </a:cubicBezTo>
                <a:cubicBezTo>
                  <a:pt x="0" y="253"/>
                  <a:pt x="254" y="0"/>
                  <a:pt x="566" y="0"/>
                </a:cubicBezTo>
                <a:cubicBezTo>
                  <a:pt x="566" y="0"/>
                  <a:pt x="566" y="0"/>
                  <a:pt x="566" y="0"/>
                </a:cubicBezTo>
                <a:cubicBezTo>
                  <a:pt x="410" y="0"/>
                  <a:pt x="283" y="126"/>
                  <a:pt x="283" y="282"/>
                </a:cubicBezTo>
                <a:cubicBezTo>
                  <a:pt x="283" y="439"/>
                  <a:pt x="410" y="566"/>
                  <a:pt x="566" y="566"/>
                </a:cubicBezTo>
                <a:cubicBezTo>
                  <a:pt x="722" y="566"/>
                  <a:pt x="849" y="693"/>
                  <a:pt x="849" y="850"/>
                </a:cubicBezTo>
                <a:cubicBezTo>
                  <a:pt x="849" y="1006"/>
                  <a:pt x="722" y="1133"/>
                  <a:pt x="566" y="1133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222222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38200" y="5665680"/>
            <a:ext cx="34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5267160" y="24462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5170320"/>
            <a:ext cx="4390920" cy="7146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957920" y="1820880"/>
            <a:ext cx="387648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957920" y="2181240"/>
            <a:ext cx="3876480" cy="34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217600" y="1514520"/>
            <a:ext cx="197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2414520" y="1933560"/>
            <a:ext cx="1684440" cy="0"/>
          </a:xfrm>
          <a:prstGeom prst="line">
            <a:avLst/>
          </a:prstGeom>
          <a:ln w="28440">
            <a:solidFill>
              <a:srgbClr val="9f9f9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3633840"/>
            <a:ext cx="9144000" cy="1676160"/>
            <a:chOff x="0" y="3633840"/>
            <a:chExt cx="9144000" cy="1676160"/>
          </a:xfrm>
        </p:grpSpPr>
        <p:sp>
          <p:nvSpPr>
            <p:cNvPr id="228" name="Rectangle 3"/>
            <p:cNvSpPr/>
            <p:nvPr/>
          </p:nvSpPr>
          <p:spPr>
            <a:xfrm>
              <a:off x="0" y="401328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"/>
            <p:cNvSpPr/>
            <p:nvPr/>
          </p:nvSpPr>
          <p:spPr>
            <a:xfrm flipV="1">
              <a:off x="0" y="36334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479520" y="5027760"/>
            <a:ext cx="4110120" cy="1137960"/>
          </a:xfrm>
          <a:prstGeom prst="rect">
            <a:avLst/>
          </a:prstGeom>
          <a:ln w="0">
            <a:noFill/>
          </a:ln>
        </p:spPr>
      </p:pic>
      <p:sp>
        <p:nvSpPr>
          <p:cNvPr id="231" name="Oval 6"/>
          <p:cNvSpPr/>
          <p:nvPr/>
        </p:nvSpPr>
        <p:spPr>
          <a:xfrm>
            <a:off x="709560" y="1932120"/>
            <a:ext cx="3700440" cy="37004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733320" y="1955880"/>
            <a:ext cx="3652920" cy="365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1006560" y="2228760"/>
            <a:ext cx="3105000" cy="310536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e4e4e4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9"/>
          <p:cNvSpPr/>
          <p:nvPr/>
        </p:nvSpPr>
        <p:spPr>
          <a:xfrm>
            <a:off x="1327320" y="2549520"/>
            <a:ext cx="2465280" cy="246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635120" y="2857680"/>
            <a:ext cx="1847880" cy="184752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100000">
                <a:srgbClr val="b1b1b1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927080" y="3149640"/>
            <a:ext cx="1266840" cy="126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 flipV="1">
            <a:off x="2179800" y="3402000"/>
            <a:ext cx="761760" cy="76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7"/>
          <p:cNvSpPr/>
          <p:nvPr/>
        </p:nvSpPr>
        <p:spPr>
          <a:xfrm>
            <a:off x="2454120" y="19828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608880" y="192240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6608880" y="221760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6608880" y="251316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6608880" y="280656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6608880" y="310212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6608880" y="339552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7"/>
          <p:cNvSpPr/>
          <p:nvPr/>
        </p:nvSpPr>
        <p:spPr>
          <a:xfrm>
            <a:off x="2454120" y="22780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7"/>
          <p:cNvSpPr/>
          <p:nvPr/>
        </p:nvSpPr>
        <p:spPr>
          <a:xfrm>
            <a:off x="2454120" y="258300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2454120" y="28972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7"/>
          <p:cNvSpPr/>
          <p:nvPr/>
        </p:nvSpPr>
        <p:spPr>
          <a:xfrm>
            <a:off x="2454120" y="317340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2454120" y="3457440"/>
            <a:ext cx="238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2722680" y="210024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2722680" y="239220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2722680" y="268596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2722680" y="297828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>
            <a:off x="2722680" y="327168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2722680" y="356544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8"/>
          <p:cNvGrpSpPr/>
          <p:nvPr/>
        </p:nvGrpSpPr>
        <p:grpSpPr>
          <a:xfrm>
            <a:off x="2552040" y="2919960"/>
            <a:ext cx="1846800" cy="1499040"/>
            <a:chOff x="2552040" y="2919960"/>
            <a:chExt cx="1846800" cy="1499040"/>
          </a:xfrm>
        </p:grpSpPr>
        <p:grpSp>
          <p:nvGrpSpPr>
            <p:cNvPr id="257" name="Group 29"/>
            <p:cNvGrpSpPr/>
            <p:nvPr/>
          </p:nvGrpSpPr>
          <p:grpSpPr>
            <a:xfrm>
              <a:off x="2706120" y="2919960"/>
              <a:ext cx="1692720" cy="1499040"/>
              <a:chOff x="2706120" y="2919960"/>
              <a:chExt cx="1692720" cy="1499040"/>
            </a:xfrm>
          </p:grpSpPr>
          <p:sp>
            <p:nvSpPr>
              <p:cNvPr id="258" name="Freeform 71"/>
              <p:cNvSpPr/>
              <p:nvPr/>
            </p:nvSpPr>
            <p:spPr>
              <a:xfrm rot="7522200">
                <a:off x="2892960" y="3350880"/>
                <a:ext cx="644400" cy="79092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790920"/>
                  <a:gd name="textAreaBottom" fmla="*/ 791280 h 79092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4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2"/>
              <p:cNvSpPr/>
              <p:nvPr/>
            </p:nvSpPr>
            <p:spPr>
              <a:xfrm rot="7522200">
                <a:off x="3255480" y="3141000"/>
                <a:ext cx="885240" cy="66348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63480"/>
                  <a:gd name="textAreaBottom" fmla="*/ 663480 h 66348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11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3"/>
              <p:cNvSpPr/>
              <p:nvPr/>
            </p:nvSpPr>
            <p:spPr>
              <a:xfrm rot="7522200">
                <a:off x="3451320" y="3341880"/>
                <a:ext cx="675720" cy="1014840"/>
              </a:xfrm>
              <a:custGeom>
                <a:avLst/>
                <a:gdLst>
                  <a:gd name="textAreaLeft" fmla="*/ 0 w 675720"/>
                  <a:gd name="textAreaRight" fmla="*/ 676080 w 675720"/>
                  <a:gd name="textAreaTop" fmla="*/ 0 h 1014840"/>
                  <a:gd name="textAreaBottom" fmla="*/ 1015200 h 101484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lnTo>
                      <a:pt x="126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9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4"/>
              <p:cNvSpPr/>
              <p:nvPr/>
            </p:nvSpPr>
            <p:spPr>
              <a:xfrm rot="7522200">
                <a:off x="3276000" y="3175200"/>
                <a:ext cx="529560" cy="8064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11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5"/>
              <p:cNvSpPr/>
              <p:nvPr/>
            </p:nvSpPr>
            <p:spPr>
              <a:xfrm rot="7522200">
                <a:off x="3219480" y="3456000"/>
                <a:ext cx="767520" cy="613440"/>
              </a:xfrm>
              <a:custGeom>
                <a:avLst/>
                <a:gdLst>
                  <a:gd name="textAreaLeft" fmla="*/ 0 w 767520"/>
                  <a:gd name="textAreaRight" fmla="*/ 767880 w 767520"/>
                  <a:gd name="textAreaTop" fmla="*/ 0 h 613440"/>
                  <a:gd name="textAreaBottom" fmla="*/ 613800 h 61344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6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6"/>
            <p:cNvGrpSpPr/>
            <p:nvPr/>
          </p:nvGrpSpPr>
          <p:grpSpPr>
            <a:xfrm>
              <a:off x="2552040" y="3650040"/>
              <a:ext cx="323280" cy="254160"/>
              <a:chOff x="2552040" y="3650040"/>
              <a:chExt cx="323280" cy="254160"/>
            </a:xfrm>
          </p:grpSpPr>
          <p:sp>
            <p:nvSpPr>
              <p:cNvPr id="264" name="Freeform 77"/>
              <p:cNvSpPr/>
              <p:nvPr/>
            </p:nvSpPr>
            <p:spPr>
              <a:xfrm rot="7521600">
                <a:off x="2577600" y="3740400"/>
                <a:ext cx="100800" cy="115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8"/>
              <p:cNvSpPr/>
              <p:nvPr/>
            </p:nvSpPr>
            <p:spPr>
              <a:xfrm rot="7521600">
                <a:off x="2658960" y="3680640"/>
                <a:ext cx="174600" cy="192600"/>
              </a:xfrm>
              <a:custGeom>
                <a:avLst/>
                <a:gdLst>
                  <a:gd name="textAreaLeft" fmla="*/ 0 w 174600"/>
                  <a:gd name="textAreaRight" fmla="*/ 174600 w 1746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79"/>
            <p:cNvGrpSpPr/>
            <p:nvPr/>
          </p:nvGrpSpPr>
          <p:grpSpPr>
            <a:xfrm>
              <a:off x="2639160" y="3697200"/>
              <a:ext cx="229320" cy="146520"/>
              <a:chOff x="2639160" y="3697200"/>
              <a:chExt cx="229320" cy="146520"/>
            </a:xfrm>
          </p:grpSpPr>
          <p:sp>
            <p:nvSpPr>
              <p:cNvPr id="267" name="Freeform 80"/>
              <p:cNvSpPr/>
              <p:nvPr/>
            </p:nvSpPr>
            <p:spPr>
              <a:xfrm rot="7522200">
                <a:off x="2724120" y="3725280"/>
                <a:ext cx="105120" cy="946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1"/>
              <p:cNvSpPr/>
              <p:nvPr/>
            </p:nvSpPr>
            <p:spPr>
              <a:xfrm rot="7522200">
                <a:off x="2741400" y="3720240"/>
                <a:ext cx="109080" cy="997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2"/>
              <p:cNvSpPr/>
              <p:nvPr/>
            </p:nvSpPr>
            <p:spPr>
              <a:xfrm rot="7522200">
                <a:off x="2707920" y="3730680"/>
                <a:ext cx="101160" cy="89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lnTo>
                      <a:pt x="5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3"/>
              <p:cNvSpPr/>
              <p:nvPr/>
            </p:nvSpPr>
            <p:spPr>
              <a:xfrm rot="7522200">
                <a:off x="2665800" y="3743280"/>
                <a:ext cx="85680" cy="7560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lnTo>
                      <a:pt x="4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4"/>
              <p:cNvSpPr/>
              <p:nvPr/>
            </p:nvSpPr>
            <p:spPr>
              <a:xfrm rot="7522200">
                <a:off x="2679120" y="3737880"/>
                <a:ext cx="88560" cy="810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lnTo>
                      <a:pt x="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5"/>
              <p:cNvSpPr/>
              <p:nvPr/>
            </p:nvSpPr>
            <p:spPr>
              <a:xfrm rot="7522200">
                <a:off x="2652120" y="3745800"/>
                <a:ext cx="82080" cy="741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lnTo>
                      <a:pt x="4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7:19:33Z</dcterms:created>
  <dc:creator>Administrator</dc:creator>
  <dc:description/>
  <dc:language>en-US</dc:language>
  <cp:lastModifiedBy>a</cp:lastModifiedBy>
  <dcterms:modified xsi:type="dcterms:W3CDTF">2015-07-25T02:08:01Z</dcterms:modified>
  <cp:revision>28</cp:revision>
  <dc:subject/>
  <dc:title>猪猪PPT模板——奇异果</dc:title>
</cp:coreProperties>
</file>