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E37B04-5B25-419B-86A8-7A31982E60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82755C-62BD-4F5B-8197-428C7E4D62B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F205D6-28F1-4ACE-B0E9-A9AEC73C151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7D04AC-09B2-47B6-933C-3BA7705CDC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FBB33B-D163-4726-A513-002D29BDE4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1506FF-86A7-4F5D-BC7A-D9031CAC2B6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424D57-0155-40EB-82E3-B8DD506C11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8B6D14-5F7F-4A68-9CF8-42232CC7DC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BB92D-6ACF-4685-B565-5D111A0689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934-889C-4C9A-8011-2D746B2B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24F-02F0-48F8-BF58-E312C5E2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5DF41-0B96-46E3-9A75-54C653F8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68835-6D48-4785-A179-659951F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2DE96-031E-41BB-AD7C-6572761C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8E838-8BDC-49FC-85D8-08CD3220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771DA-16BB-4328-9C9B-E2B2808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5ABC4-B46B-4AE6-898E-748DAEA7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3CBB9-00ED-4188-BC37-64F452B4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33542-272B-40AF-9FC0-DF8AD171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EF1B7-2C28-4068-8DE9-24CEB39E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C0118-C9E3-449C-9C65-D275CF35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5E6-BD85-4D2A-B682-204C6148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792D2-C8C2-4C08-B2F0-0D9F2C8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140AB-99A6-41C7-AEB6-007BB054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E2563-9C40-41B9-BDD2-D87DF54C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A5752-1A5F-402C-B458-9AA62B3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5FD62-91EA-49A7-8A6C-45BE2A1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E8BBE-7E1E-4C59-9F2D-7052462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9480-9E6C-470D-A847-2B40C950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BEDB-EBC3-4B7B-95D7-AE5418B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B8469-7F6C-49BC-881D-0C5ED79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536D1-DD28-4E7D-8AC7-1AF4D37B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9F5-9FA5-40C9-A7C2-D57FD84A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3261-9862-4960-B9C3-5B579C96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86D65-8C43-4F8A-9B1F-CE0909A4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86985-536F-4D47-BA27-1ED8A37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6BD2-6C0D-4FB5-967B-779CB9B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19D97-A8F7-4B78-9EEC-0C20E539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F7F7B-27C9-4C6F-9014-44D775A9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E49BB-26ED-4119-A5AB-FD2EE2D9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FC910-0E66-48B5-A8A2-D4203C9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12C1F-37A2-491D-94D2-92EEAE78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2A811-0B10-4C23-8908-8857CE8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2158-E654-4F4C-A76F-DC962E1E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39144-25E6-4456-B2BC-641C5C85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C559C-6E04-426A-A9A3-B874C8EB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327EB-CE33-4FC3-953B-1F2CC2BF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604DD-9F3F-4E2A-8D75-96C41E54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CD56A-AE7A-4B78-8E5B-3EDD6FFF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86A89B-F27D-4786-83A5-1950791D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B1626-421B-4645-83A0-D1D3B78F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672E9-2A89-4900-8479-6845B305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6E9D4-EDC6-4FB6-9902-005809D0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E2DE2-DDAE-46E3-A24B-8DEF3E93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33C-2523-46E4-8DFA-817ACEF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1DEB8-E7EF-46E1-9795-71D3ACA2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48216-FB40-481B-8D91-76A3A8C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E2616-BDFC-48F6-9021-6EE290B5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51B89-AA24-4F2D-95A1-FEA1F1FF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B66F0-C285-4BE5-A537-B483C4C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CCB7B-1EDC-46EA-A9EC-C40BF260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14752-6126-40C2-9B7C-8D4D8B01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A937A-32E0-45C8-A794-B3792413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BC7DB-970B-460E-957B-7209C06D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B96986-B4CD-462A-832C-421D872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56A-2C53-46AE-B087-BE9CC370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91295-CDEB-4567-8B7B-F7A6319F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9F656-D4F6-4C93-884B-163397C8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B475C-D6C9-46DD-A022-8A80DF1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59079-B077-46B1-87E7-D9BF2A4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6F43D-FD53-4696-BAF6-6D4CF61C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13DE6-0A5C-4171-9136-EE41B51B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1EEC9-8D8F-4513-A138-02930D22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9F4F2-15CF-4A75-9DBB-544037B0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6E841-FCB1-41EF-8399-66C6FC42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A0AD9-1C2E-45BD-B785-C2BC1757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1A7-2BD4-428D-A225-808EBAD7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B9168-2E6E-4A75-BABE-8A09311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2CC0E2-8FC6-4157-A68D-433607F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27F69-0D03-45BE-8B5B-86A67CF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DEDC4-183D-4197-B9B9-7B0EACE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29D4B-55D0-4EDA-8DD9-5F6CFCD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E76AB-0984-4B1E-9BFF-42076AC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86553-6F08-48D8-9AFB-1B603C1A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197FA-AFB2-4CFB-A4DD-7A47605D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D6CAE-02D9-49CB-B795-56F9892D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93AE99-6B91-4F1E-B77F-909F407D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774-66F6-4B07-8D17-6467A5A2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49C8C-8B3F-426D-90A4-2F61BCE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79798-36C7-4A03-91F4-860A8A6B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4A732-F7B9-42AD-A23A-9504790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0B032-B6D9-4693-AD22-84214F1F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11ADED-2E7A-4FA5-B0D3-ED49254C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70A95-A221-4CBB-B5ED-E784C64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4F33F-D2C6-4B30-847D-DE2736D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16EAD-757A-49AC-8CE6-CBF56C9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4E6F1-E8E2-4375-B57E-9F2E44D3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521D9-9EBA-45E9-BD6D-F99B0D4B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2FE7-E49B-4D6D-AD9B-784D4C5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6D0FC-54A2-44A3-A40F-58F4E4D0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4E97F-701A-4FB2-898A-A99D7753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C67767-BD73-47EB-A8F7-6467CCF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45E76-80E3-4F57-B4E7-E941922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A54DD3-D97F-48BF-93DF-FD113847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43682-1CB9-4993-B04F-624A4995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151C70-D35C-4FD4-9D2E-E074525E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26CB1-02F4-40A9-BF9C-5FD6D24F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78CC1C-81EB-48F7-ADA2-CA8D7E2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FDDF4-7D32-4971-A9B7-299F4F7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262-AFBC-494F-ABC0-48A42670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58BC6-6E24-4473-BDCF-9DA112B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99D08D-276A-4AD6-88A1-4216866C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A1224-DEED-49EA-A006-B082D24B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551CB-23FE-4243-8494-7FEA24C9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4DC2E-7317-4212-853A-A063214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EBE52-4856-480E-913A-C7E075A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B51AA7-6B20-401F-AE4D-664AB49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48E116-B3AB-42FB-9DA4-62CCF392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E0699F-4930-4FBB-AF31-0CA860F5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2A326E-6F29-4842-A76E-D4D3A92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906-19F2-4412-AB06-FDCBBC0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5CC-930B-41C0-8968-89BEFB00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7A8D2-6512-4423-BBD8-3AD4B11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27344-A4C1-417E-8416-899295B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C034FF-2B28-4717-BE41-D98D7452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29D95-16ED-4545-94E3-45859430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161C79-81D7-4935-8894-A0D31C9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B80872-10B6-419C-86E7-DC89A0D7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632F1-9F9A-4F58-A934-99D1F6A0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1A675-A3F5-4C32-BA63-5AF47CE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117FF-A30E-475C-A69E-ED1CC7C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07119-AB9E-416A-B416-061319CC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B2B5-0E00-4FAA-83D8-1E8D5B49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2BFAB-65B7-4B2E-A650-97F8BB23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FDDE1-BD51-4908-A9FB-AB83254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DF798-76DC-4BEF-BA2D-6DBF796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AA7C5-F360-491F-8C3A-04744E9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98906-EEBB-47DE-86F7-C38F724E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DB91B-1343-43B4-916E-C9CFF852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6C5EC9-0900-498B-931C-8E84289F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C82596-9498-4164-BFD9-E8C84219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CF792E-174A-4439-8AB8-03384518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DC411-B7A9-4549-B943-708CC44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97B4-3FA1-4262-854B-2F47676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94D94-0985-4921-945A-BDC8F35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FC9C4-ED54-481C-BB01-88A93FC0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E9158-7C44-4223-97A4-38B6D479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55826-CCDB-4D29-A61B-50432E7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E1F5D-2812-4F9E-A6E3-A2D6690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9EA56-A3A3-4CF7-AAF9-F26C4747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9AC92-3DF7-4313-9607-C5171304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46037-0A01-46A8-A25B-C50ABEEF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85916-BCD5-4D8D-BF00-E63EAE39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2C365E-65AE-4432-BD62-6C7886F5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6305-FC21-4FBF-ADAE-3E443811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ADB757-9ECF-49B6-98B6-F8133AC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D4601-D705-4F76-86DA-977A4196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CE6C1-D80A-44A0-B72E-94CBE8F0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5F6ED-DC1F-470B-B079-423CE476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85984B-20B7-4981-B4A0-0F07984B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30580-91BE-4850-9F91-ACB0008F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C9A9E-3328-4857-AA01-C32D6AD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A81F4F-B38E-4554-9604-AD567767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2290AE-1EBA-4037-902A-027B6EA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9FE31-FD89-4FE1-A7F0-0675932D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F05-AD0E-46F0-9645-51CA89B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8A435-C378-41FF-9355-65C9A034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6EC6F-03E0-4A8C-B6A1-41C55808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2F358-AD55-4D13-AE2D-611A75A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E362D9-C5D2-4465-832E-7F1E280E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E83AA-5022-4694-AB82-657713D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68D96-4EDA-4AEE-8918-32ED2A5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50346-1AB7-446F-8796-2013CAF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D43F1-B7E7-48DB-9D21-C6BC7D72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D5C14-884E-4EC0-9DCE-6C23489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ECC9F-96B3-4F17-B2B9-7B32679E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6C1D-1F67-481A-B768-D6DC7589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B58DD-C576-4DC5-8996-8665CDF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6821F-9132-4AF9-8761-2FFC9AF0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6FF4C-5D71-4964-A1EB-2AA3A32D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764187-0825-40E9-BA31-D2B94405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D79DAD-3B77-4771-A133-5AC66C76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E6615-1D55-47B5-9EFD-9AF2F387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DB6AF-FFA1-47F0-A459-65180726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85DA65-123A-460B-BFD6-B9617B4A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999779-65F6-472D-8D8C-FDF53A4D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16AE3-3497-46DB-AEB4-2E28DFE9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E006-68F7-4656-95AA-E9E367E6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2E3A07-89E0-49BC-8D35-7CD4CDF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CE7AF1-1A55-4C52-AF0F-39E6063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81E4E-66D2-4BA1-B583-BC8B9E51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A5308-377F-4D41-B82C-7EF76B1E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A14A4-C20A-4E5E-97D0-0B9854C3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9A345-7CB9-4B71-A272-237CEBB6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C048E3-13B2-4F06-84E6-8C71CC9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E5E7C8-5146-4A0C-BAAF-D1332BA2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12452-95E7-4852-9728-81217AE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5BBA8A-5954-489B-B0A4-D9181ACC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377A-DC5B-467D-BF05-51CD5174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D963F2-8D1B-4A04-93D7-099889B1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6F41E-FE0E-43CC-8651-DC87D8F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86EF52-B7D2-49D9-8260-62533BC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7B5D50-4FFC-4B38-9238-0FCAD159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CB55C4-D781-4E26-A3C4-E7B15A0C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8F6551-BE7E-44C5-A3C7-0B3B0BC9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7B940-36DD-4BE6-A180-4FC94189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D564-D053-48AB-873B-50F23984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EC91-0C5A-4666-B054-5BA69752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CD5-ADD6-4373-82AD-75CE655C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54A6-5CA6-46A9-B746-C8469FB4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0EBC-FEC1-4257-BC8D-5D689A2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13D3-4A6C-493B-BA80-3CE7428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149B-6140-4565-BE81-1ADE38B9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FEF9B-4D44-4693-A158-6178F1E0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1C80-7E60-487D-8C19-5F1114DA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DCCA-A677-4707-952B-81935C7A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4EC9-9126-4FE1-B3F0-BDF7D890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D64E-3F43-48A6-B132-9E416507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D821-75E9-4EDE-8C03-A341B56E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968-1207-4639-9923-201D41A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BC722-24C0-430B-BAED-3C4C872E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BED61-22B2-4694-915A-4A5F39B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9D83-8AFA-40ED-9020-32BFA937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EAD2A-8212-4D34-895D-0F8F415F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C025-047C-4E58-9F25-0E2D02FF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8B273-AA4A-4577-A2F4-CF35F5E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53AB-025B-44F0-B23D-C366B198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42EA1-C7C1-4A2B-949E-25E8CEBE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1998-EA73-4E01-9F46-FE2A29C3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D09B5-C296-4BA9-AD77-01B7F15F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1D9-4F63-45B7-8F39-8F2DEACD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D451D-EDE0-48E8-BFF1-12C4666E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B1F22-9298-4293-B221-E595C3A6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C756-2303-465A-866D-F2B794C5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941E-B747-4236-BEFB-D25B7801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1307C-2F09-4845-8761-9391929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9B7C5-EAAA-49FC-97FD-A427F07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B3235-1D12-4EC8-918B-90C6806C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6ED4-33E1-409D-86BD-FBABF0B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8C74-8833-4666-87F2-7591317F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2F5F0-A7FC-42E5-AF90-75B0337A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B1E-5D44-499A-8008-A0EA65AD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CE1A-30EB-463B-83E5-AAACCF32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15D4B-14E4-4A9A-8D94-09CB8951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C033D-70F4-4768-974F-D37AA75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1C99D-F751-481A-9497-14EDB15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56F3B-4301-43D0-A351-94DE8E1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0ACDA-D1DE-40FE-9A17-73D654A2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00D32-E112-422E-9355-C8A7482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2083-52A7-4312-88A1-BD5C7F6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CC9DC-9BF9-484C-B0CA-A1B817B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1937-1035-4AE9-B4F6-4BF0007E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07D-56D1-4088-A77F-B01B44BB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BDAE-16D2-42D9-B0C8-BF7A102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FE057-5686-4238-87CC-65676DFC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FBB0D-4D83-45C5-973D-10463862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15B9-C9B6-4536-A831-EE7291F4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1A1F-7059-4560-AD56-740A8127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A778-5042-472F-A065-DA5CD99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A670-F37E-468D-A535-919BCDAC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ACC92-8287-4F22-B41A-8C22F7CA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0F9A3-819F-46B5-8A91-253F57B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CFD4F-C964-45F0-9BC3-8BDD8457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4238-8FC1-49DD-BADF-39A9ACE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B6CC6-61FD-4E08-A0C5-47EC7A70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8DBC-6F81-4965-9597-E562CB6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849E-B8B1-4CC2-980F-B814F6B9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1E96-D22E-4D9B-8F95-1812808A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460DC-22DC-455C-9821-E20AB94D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985DB-4F2D-4F5F-9EC0-2ACDA785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55F27-40A5-44C6-9FD7-84A15586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D8FF7-D32C-4FAB-979E-10BF1783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5A44-D6EF-4D96-8DD3-482667A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137EA-D8FA-4862-9556-E7578B7B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4B1-313D-41EC-9521-8A87E319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AC2F0-3247-4A3D-82CC-E4EBC9C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D0ED9-1DBA-4B75-844B-342037B8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1CCE-CA9C-435B-9410-D7DA52E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1A7B-1CF9-4983-8A18-12AC7389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61AE7-8FF4-4392-BDDB-E85B786E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3809C-5AD5-45DE-AAA7-C81C829C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D98D-3566-4852-B531-39C27FBB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5A21E-6880-4674-9CB6-D648CA3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1F704-849A-495D-A9CE-16A0C36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AFE3C-B3EB-4EC2-B28A-DAF69EFE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7D58FA82-CF1B-4034-AD01-83546D0329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B78ADC-E95E-458E-BCE8-6CDAA393A6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E0A6E8-B3E4-4DB6-B0D6-ECABDAA83E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B67023-C246-46C2-A4DD-4092739FED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FC3228-9BE0-4950-AC8D-1469A9D98E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2EEA02-0FF7-4A1E-888B-2B782AFC84B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13FB37-D12C-4545-8198-3167EAAD38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C219EB-D53F-45CD-B801-1DA588F377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4741D3-1933-485E-8EB2-D38B22B44F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AD050C-6F89-4C2D-A1EA-D250382D7F3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222BF1-50E8-4FE3-ABF4-44E0CDCBBD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B628-58F1-4F54-9A92-F1974EB6F0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D0626-3183-49E4-92BD-85149597561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D3798B-C812-4AE7-B170-70F675EAEE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53B0EB-523A-4F13-8C46-4C3E0DCE7C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27BC0E-7F1E-4B6A-A6AD-A48B7AA92C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5B3392-66F1-436C-B6ED-4B5725DBA3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751581-DE5C-4885-A07D-D5E43EECE9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6FFEED-729F-436D-A41A-1C81B6CD6A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DEBFD3-33DC-42F5-9703-292392D91E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19A1B5-A9A5-4ACF-9C32-6D7EF9815D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E49C12-469B-4198-994C-28CF5E3121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FDC377-FCEA-455B-90CA-A46BC0F6D5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3" descr=""/>
          <p:cNvPicPr/>
          <p:nvPr/>
        </p:nvPicPr>
        <p:blipFill>
          <a:blip r:embed="rId1"/>
          <a:stretch/>
        </p:blipFill>
        <p:spPr>
          <a:xfrm>
            <a:off x="-627120" y="627120"/>
            <a:ext cx="10510920" cy="5175360"/>
          </a:xfrm>
          <a:prstGeom prst="rect">
            <a:avLst/>
          </a:prstGeom>
          <a:ln w="0">
            <a:noFill/>
          </a:ln>
        </p:spPr>
      </p:pic>
      <p:sp>
        <p:nvSpPr>
          <p:cNvPr id="951" name="矩形 1"/>
          <p:cNvSpPr/>
          <p:nvPr/>
        </p:nvSpPr>
        <p:spPr>
          <a:xfrm>
            <a:off x="2506680" y="27288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推广方案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12"/>
          <p:cNvSpPr/>
          <p:nvPr/>
        </p:nvSpPr>
        <p:spPr>
          <a:xfrm>
            <a:off x="385560" y="4587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规模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1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082" name="椭圆 14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圆角矩形 15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圆角矩形 16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圆角矩形 17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圆角矩形 18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圆角矩形 19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等腰三角形 21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90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091" name="矩形 3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24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3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佳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品质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0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01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09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10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2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完美配套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20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28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29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1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超高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性价比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3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4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0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151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23"/>
          <p:cNvSpPr/>
          <p:nvPr/>
        </p:nvSpPr>
        <p:spPr>
          <a:xfrm>
            <a:off x="469800" y="1781280"/>
            <a:ext cx="561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升值潜力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159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168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0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矩形 9"/>
          <p:cNvSpPr/>
          <p:nvPr/>
        </p:nvSpPr>
        <p:spPr>
          <a:xfrm>
            <a:off x="0" y="2556000"/>
            <a:ext cx="9144000" cy="82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文本框 6"/>
          <p:cNvSpPr/>
          <p:nvPr/>
        </p:nvSpPr>
        <p:spPr>
          <a:xfrm>
            <a:off x="1995840" y="25704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找出</a:t>
            </a: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的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矩形 17"/>
          <p:cNvSpPr/>
          <p:nvPr/>
        </p:nvSpPr>
        <p:spPr>
          <a:xfrm>
            <a:off x="3697200" y="98748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核心价值</a:t>
            </a:r>
            <a:r>
              <a:rPr b="0" lang="zh-CN" sz="2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（</a:t>
            </a: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VELUE</a:t>
            </a:r>
            <a:r>
              <a:rPr b="0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矩形 1"/>
          <p:cNvSpPr/>
          <p:nvPr/>
        </p:nvSpPr>
        <p:spPr>
          <a:xfrm>
            <a:off x="2389320" y="2706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兰亭特黑_GBK"/>
                <a:ea typeface="方正兰亭特黑_GBK"/>
              </a:rPr>
              <a:t>满足客户根本需求，才能掌握核心价值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矩形 7"/>
          <p:cNvSpPr/>
          <p:nvPr/>
        </p:nvSpPr>
        <p:spPr>
          <a:xfrm>
            <a:off x="3780000" y="156384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矩形 5"/>
          <p:cNvSpPr/>
          <p:nvPr/>
        </p:nvSpPr>
        <p:spPr>
          <a:xfrm>
            <a:off x="718560" y="933480"/>
            <a:ext cx="21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客户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矩形 11"/>
          <p:cNvSpPr/>
          <p:nvPr/>
        </p:nvSpPr>
        <p:spPr>
          <a:xfrm>
            <a:off x="2065320" y="3244680"/>
            <a:ext cx="51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CLI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圆角矩形 21"/>
          <p:cNvSpPr/>
          <p:nvPr/>
        </p:nvSpPr>
        <p:spPr>
          <a:xfrm>
            <a:off x="201600" y="2273400"/>
            <a:ext cx="8748720" cy="2065320"/>
          </a:xfrm>
          <a:prstGeom prst="roundRect">
            <a:avLst>
              <a:gd name="adj" fmla="val 2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文本框 6"/>
          <p:cNvSpPr/>
          <p:nvPr/>
        </p:nvSpPr>
        <p:spPr>
          <a:xfrm>
            <a:off x="1358640" y="2570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购房理由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矩形 7"/>
          <p:cNvSpPr/>
          <p:nvPr/>
        </p:nvSpPr>
        <p:spPr>
          <a:xfrm>
            <a:off x="254160" y="1924200"/>
            <a:ext cx="8638920" cy="56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矩形 5"/>
          <p:cNvSpPr/>
          <p:nvPr/>
        </p:nvSpPr>
        <p:spPr>
          <a:xfrm>
            <a:off x="2868120" y="771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问卷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8" name=""/>
          <p:cNvGraphicFramePr/>
          <p:nvPr/>
        </p:nvGraphicFramePr>
        <p:xfrm>
          <a:off x="290520" y="2300400"/>
          <a:ext cx="8575560" cy="1890720"/>
        </p:xfrm>
        <a:graphic>
          <a:graphicData uri="http://schemas.openxmlformats.org/drawingml/2006/table">
            <a:tbl>
              <a:tblPr/>
              <a:tblGrid>
                <a:gridCol w="606240"/>
                <a:gridCol w="804960"/>
                <a:gridCol w="733680"/>
                <a:gridCol w="741240"/>
                <a:gridCol w="722160"/>
                <a:gridCol w="1413000"/>
                <a:gridCol w="882720"/>
                <a:gridCol w="639720"/>
                <a:gridCol w="677880"/>
                <a:gridCol w="655560"/>
                <a:gridCol w="698400"/>
              </a:tblGrid>
              <a:tr h="519120">
                <a:tc grid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问题买房自住，主要是出于什么考虑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扩大住房面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子女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父母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自己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自然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生活配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上班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孩子上学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周末过去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所占比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9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文本框 6"/>
          <p:cNvSpPr/>
          <p:nvPr/>
        </p:nvSpPr>
        <p:spPr>
          <a:xfrm>
            <a:off x="1413360" y="25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说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矩形 7"/>
          <p:cNvSpPr/>
          <p:nvPr/>
        </p:nvSpPr>
        <p:spPr>
          <a:xfrm>
            <a:off x="3745080" y="185112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矩形 5"/>
          <p:cNvSpPr/>
          <p:nvPr/>
        </p:nvSpPr>
        <p:spPr>
          <a:xfrm>
            <a:off x="792360" y="700200"/>
            <a:ext cx="23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听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在说话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矩形 6"/>
          <p:cNvSpPr/>
          <p:nvPr/>
        </p:nvSpPr>
        <p:spPr>
          <a:xfrm>
            <a:off x="3924360" y="55548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对乡镇人群人性最根本的诉求追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当初为何想买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6" name="组合 1"/>
          <p:cNvGrpSpPr/>
          <p:nvPr/>
        </p:nvGrpSpPr>
        <p:grpSpPr>
          <a:xfrm>
            <a:off x="4510080" y="2689200"/>
            <a:ext cx="5027760" cy="1312920"/>
            <a:chOff x="4510080" y="2689200"/>
            <a:chExt cx="5027760" cy="1312920"/>
          </a:xfrm>
        </p:grpSpPr>
        <p:sp>
          <p:nvSpPr>
            <p:cNvPr id="1197" name="剪去单角的矩形 15"/>
            <p:cNvSpPr/>
            <p:nvPr/>
          </p:nvSpPr>
          <p:spPr>
            <a:xfrm flipH="1">
              <a:off x="5436360" y="2733480"/>
              <a:ext cx="3706920" cy="1257480"/>
            </a:xfrm>
            <a:custGeom>
              <a:avLst/>
              <a:gdLst/>
              <a:ahLst/>
              <a:rect l="l" t="t" r="r" b="b"/>
              <a:pathLst>
                <a:path w="3706813" h="1258299">
                  <a:moveTo>
                    <a:pt x="0" y="0"/>
                  </a:moveTo>
                  <a:lnTo>
                    <a:pt x="3407413" y="0"/>
                  </a:lnTo>
                  <a:lnTo>
                    <a:pt x="3706813" y="299400"/>
                  </a:lnTo>
                  <a:lnTo>
                    <a:pt x="3706813" y="1258299"/>
                  </a:lnTo>
                  <a:lnTo>
                    <a:pt x="0" y="1258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矩形 8"/>
            <p:cNvSpPr/>
            <p:nvPr/>
          </p:nvSpPr>
          <p:spPr>
            <a:xfrm>
              <a:off x="4510080" y="2689200"/>
              <a:ext cx="502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客户不是单一的群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必须抓住所有群体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共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9" name="矩形 12"/>
          <p:cNvSpPr/>
          <p:nvPr/>
        </p:nvSpPr>
        <p:spPr>
          <a:xfrm>
            <a:off x="471600" y="710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在严重同质化的市场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我们必须给客户解答一个问题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14" descr=""/>
          <p:cNvPicPr/>
          <p:nvPr/>
        </p:nvPicPr>
        <p:blipFill>
          <a:blip r:embed="rId1"/>
          <a:stretch/>
        </p:blipFill>
        <p:spPr>
          <a:xfrm>
            <a:off x="230040" y="2287440"/>
            <a:ext cx="5154840" cy="266868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矩形 2"/>
          <p:cNvSpPr/>
          <p:nvPr/>
        </p:nvSpPr>
        <p:spPr>
          <a:xfrm>
            <a:off x="1619280" y="1914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客户渴望加入他们，找到组织，加入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的生活符号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矩形 3"/>
          <p:cNvSpPr/>
          <p:nvPr/>
        </p:nvSpPr>
        <p:spPr>
          <a:xfrm>
            <a:off x="1631520" y="879480"/>
            <a:ext cx="43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这就是被归纳概括的</a:t>
            </a:r>
            <a:r>
              <a:rPr b="1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幸福的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直接连接符 5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文本框 6"/>
          <p:cNvSpPr/>
          <p:nvPr/>
        </p:nvSpPr>
        <p:spPr>
          <a:xfrm>
            <a:off x="18388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定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矩形 1"/>
          <p:cNvSpPr/>
          <p:nvPr/>
        </p:nvSpPr>
        <p:spPr>
          <a:xfrm>
            <a:off x="1578600" y="2868480"/>
            <a:ext cx="54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新</a:t>
            </a:r>
            <a:r>
              <a:rPr b="1" lang="en-US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xxxxxxx</a:t>
            </a: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社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矩形 8"/>
          <p:cNvSpPr/>
          <p:nvPr/>
        </p:nvSpPr>
        <p:spPr>
          <a:xfrm>
            <a:off x="412920" y="2500200"/>
            <a:ext cx="799272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矩形 9"/>
          <p:cNvSpPr/>
          <p:nvPr/>
        </p:nvSpPr>
        <p:spPr>
          <a:xfrm>
            <a:off x="423720" y="4192560"/>
            <a:ext cx="799308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0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8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组合 1"/>
          <p:cNvGrpSpPr/>
          <p:nvPr/>
        </p:nvGrpSpPr>
        <p:grpSpPr>
          <a:xfrm>
            <a:off x="2252520" y="1606680"/>
            <a:ext cx="4608720" cy="1346400"/>
            <a:chOff x="2252520" y="1606680"/>
            <a:chExt cx="4608720" cy="1346400"/>
          </a:xfrm>
        </p:grpSpPr>
        <p:sp>
          <p:nvSpPr>
            <p:cNvPr id="954" name="Text Box 2"/>
            <p:cNvSpPr/>
            <p:nvPr/>
          </p:nvSpPr>
          <p:spPr>
            <a:xfrm>
              <a:off x="2252520" y="2225520"/>
              <a:ext cx="4608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定位提案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&amp; 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广告推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Text Box 3"/>
            <p:cNvSpPr/>
            <p:nvPr/>
          </p:nvSpPr>
          <p:spPr>
            <a:xfrm>
              <a:off x="2550960" y="2676600"/>
              <a:ext cx="40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Positioning proposal &amp; advertis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矩形 2"/>
            <p:cNvSpPr/>
            <p:nvPr/>
          </p:nvSpPr>
          <p:spPr>
            <a:xfrm>
              <a:off x="3701880" y="1606680"/>
              <a:ext cx="171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【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xxxx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5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推广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矩形 11"/>
          <p:cNvSpPr/>
          <p:nvPr/>
        </p:nvSpPr>
        <p:spPr>
          <a:xfrm>
            <a:off x="600120" y="3305160"/>
            <a:ext cx="79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SPREA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矩形 5"/>
          <p:cNvSpPr/>
          <p:nvPr/>
        </p:nvSpPr>
        <p:spPr>
          <a:xfrm>
            <a:off x="1130760" y="843120"/>
            <a:ext cx="663156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一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你</a:t>
            </a:r>
            <a:r>
              <a:rPr b="1" lang="en-US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</a:t>
            </a: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矩形 5"/>
          <p:cNvSpPr/>
          <p:nvPr/>
        </p:nvSpPr>
        <p:spPr>
          <a:xfrm>
            <a:off x="1045800" y="700200"/>
            <a:ext cx="544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二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矩形 5"/>
          <p:cNvSpPr/>
          <p:nvPr/>
        </p:nvSpPr>
        <p:spPr>
          <a:xfrm>
            <a:off x="1122480" y="700200"/>
            <a:ext cx="590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三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8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9" name="组合 1"/>
          <p:cNvGrpSpPr/>
          <p:nvPr/>
        </p:nvGrpSpPr>
        <p:grpSpPr>
          <a:xfrm>
            <a:off x="1187280" y="1422360"/>
            <a:ext cx="8483760" cy="2293920"/>
            <a:chOff x="1187280" y="1422360"/>
            <a:chExt cx="8483760" cy="2293920"/>
          </a:xfrm>
        </p:grpSpPr>
        <p:sp>
          <p:nvSpPr>
            <p:cNvPr id="1230" name="圆角矩形 6"/>
            <p:cNvSpPr/>
            <p:nvPr/>
          </p:nvSpPr>
          <p:spPr>
            <a:xfrm>
              <a:off x="3419280" y="2360520"/>
              <a:ext cx="6251760" cy="32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b0f0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1" name="Picture 12" descr=""/>
            <p:cNvPicPr/>
            <p:nvPr/>
          </p:nvPicPr>
          <p:blipFill>
            <a:blip r:embed="rId1"/>
            <a:stretch/>
          </p:blipFill>
          <p:spPr>
            <a:xfrm>
              <a:off x="1187280" y="1422360"/>
              <a:ext cx="223236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TextBox 8"/>
            <p:cNvSpPr/>
            <p:nvPr/>
          </p:nvSpPr>
          <p:spPr>
            <a:xfrm>
              <a:off x="3670200" y="1976400"/>
              <a:ext cx="453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5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Skycea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Box 1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市场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矩形 2"/>
          <p:cNvSpPr/>
          <p:nvPr/>
        </p:nvSpPr>
        <p:spPr>
          <a:xfrm>
            <a:off x="2065320" y="324468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1298880" y="2570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区位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3" name="组合 34"/>
          <p:cNvGrpSpPr/>
          <p:nvPr/>
        </p:nvGrpSpPr>
        <p:grpSpPr>
          <a:xfrm>
            <a:off x="1817640" y="700200"/>
            <a:ext cx="5256360" cy="3946320"/>
            <a:chOff x="1817640" y="700200"/>
            <a:chExt cx="5256360" cy="3946320"/>
          </a:xfrm>
        </p:grpSpPr>
        <p:pic>
          <p:nvPicPr>
            <p:cNvPr id="964" name="Picture 24" descr="夹江卫星地图"/>
            <p:cNvPicPr/>
            <p:nvPr/>
          </p:nvPicPr>
          <p:blipFill>
            <a:blip r:embed="rId1"/>
            <a:stretch/>
          </p:blipFill>
          <p:spPr>
            <a:xfrm>
              <a:off x="1817640" y="734040"/>
              <a:ext cx="5256360" cy="391248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965" name="椭圆 2"/>
            <p:cNvSpPr/>
            <p:nvPr/>
          </p:nvSpPr>
          <p:spPr>
            <a:xfrm>
              <a:off x="3159720" y="2165760"/>
              <a:ext cx="956520" cy="956160"/>
            </a:xfrm>
            <a:prstGeom prst="ellipse">
              <a:avLst/>
            </a:prstGeom>
            <a:solidFill>
              <a:srgbClr val="c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TextBox 3"/>
            <p:cNvSpPr/>
            <p:nvPr/>
          </p:nvSpPr>
          <p:spPr>
            <a:xfrm>
              <a:off x="3174480" y="2428560"/>
              <a:ext cx="122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商业生活区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老城区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五角星 4"/>
            <p:cNvSpPr/>
            <p:nvPr/>
          </p:nvSpPr>
          <p:spPr>
            <a:xfrm>
              <a:off x="3506760" y="2846520"/>
              <a:ext cx="255600" cy="253800"/>
            </a:xfrm>
            <a:custGeom>
              <a:avLst/>
              <a:gdLst/>
              <a:ahLst/>
              <a:rect l="l" t="t" r="r" b="b"/>
              <a:pathLst>
                <a:path w="255605" h="254026">
                  <a:moveTo>
                    <a:pt x="0" y="97029"/>
                  </a:moveTo>
                  <a:lnTo>
                    <a:pt x="97633" y="97030"/>
                  </a:lnTo>
                  <a:lnTo>
                    <a:pt x="127803" y="0"/>
                  </a:lnTo>
                  <a:lnTo>
                    <a:pt x="157972" y="97030"/>
                  </a:lnTo>
                  <a:lnTo>
                    <a:pt x="255605" y="97029"/>
                  </a:lnTo>
                  <a:lnTo>
                    <a:pt x="176618" y="156996"/>
                  </a:lnTo>
                  <a:lnTo>
                    <a:pt x="206789" y="254025"/>
                  </a:lnTo>
                  <a:lnTo>
                    <a:pt x="127803" y="194057"/>
                  </a:lnTo>
                  <a:lnTo>
                    <a:pt x="48816" y="254025"/>
                  </a:lnTo>
                  <a:lnTo>
                    <a:pt x="78987" y="156996"/>
                  </a:lnTo>
                  <a:lnTo>
                    <a:pt x="0" y="97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椭圆 25"/>
            <p:cNvSpPr/>
            <p:nvPr/>
          </p:nvSpPr>
          <p:spPr>
            <a:xfrm>
              <a:off x="2792160" y="3061440"/>
              <a:ext cx="1530000" cy="1530000"/>
            </a:xfrm>
            <a:prstGeom prst="ellipse">
              <a:avLst/>
            </a:pr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椭圆 26"/>
            <p:cNvSpPr/>
            <p:nvPr/>
          </p:nvSpPr>
          <p:spPr>
            <a:xfrm>
              <a:off x="4594320" y="2439720"/>
              <a:ext cx="1083240" cy="108288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椭圆 27"/>
            <p:cNvSpPr/>
            <p:nvPr/>
          </p:nvSpPr>
          <p:spPr>
            <a:xfrm>
              <a:off x="5202000" y="2922840"/>
              <a:ext cx="1440000" cy="14400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椭圆 28"/>
            <p:cNvSpPr/>
            <p:nvPr/>
          </p:nvSpPr>
          <p:spPr>
            <a:xfrm>
              <a:off x="4464720" y="1093320"/>
              <a:ext cx="1123920" cy="112392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椭圆 29"/>
            <p:cNvSpPr/>
            <p:nvPr/>
          </p:nvSpPr>
          <p:spPr>
            <a:xfrm>
              <a:off x="5513400" y="700200"/>
              <a:ext cx="1041840" cy="104184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泪滴形 8"/>
            <p:cNvSpPr/>
            <p:nvPr/>
          </p:nvSpPr>
          <p:spPr>
            <a:xfrm rot="7954800">
              <a:off x="4045320" y="197388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1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7" y="0"/>
                    <a:pt x="151663" y="-16765"/>
                    <a:pt x="192169" y="-50296"/>
                  </a:cubicBezTo>
                  <a:cubicBezTo>
                    <a:pt x="158257" y="-10245"/>
                    <a:pt x="141301" y="29805"/>
                    <a:pt x="141301" y="69855"/>
                  </a:cubicBezTo>
                  <a:cubicBezTo>
                    <a:pt x="141301" y="108435"/>
                    <a:pt x="109669" y="139710"/>
                    <a:pt x="70650" y="139710"/>
                  </a:cubicBezTo>
                  <a:cubicBezTo>
                    <a:pt x="31631" y="139710"/>
                    <a:pt x="-1" y="108435"/>
                    <a:pt x="-1" y="69855"/>
                  </a:cubicBezTo>
                  <a:lnTo>
                    <a:pt x="0" y="698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泪滴形 30"/>
            <p:cNvSpPr/>
            <p:nvPr/>
          </p:nvSpPr>
          <p:spPr>
            <a:xfrm rot="7954800">
              <a:off x="4260960" y="35715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泪滴形 31"/>
            <p:cNvSpPr/>
            <p:nvPr/>
          </p:nvSpPr>
          <p:spPr>
            <a:xfrm rot="7954800">
              <a:off x="4413240" y="30873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1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7" y="0"/>
                    <a:pt x="151663" y="-16956"/>
                    <a:pt x="192169" y="-50867"/>
                  </a:cubicBezTo>
                  <a:cubicBezTo>
                    <a:pt x="158257" y="-10362"/>
                    <a:pt x="141301" y="30144"/>
                    <a:pt x="141301" y="70649"/>
                  </a:cubicBezTo>
                  <a:cubicBezTo>
                    <a:pt x="141301" y="109667"/>
                    <a:pt x="109669" y="141298"/>
                    <a:pt x="70650" y="141298"/>
                  </a:cubicBezTo>
                  <a:cubicBezTo>
                    <a:pt x="31631" y="141298"/>
                    <a:pt x="-1" y="109667"/>
                    <a:pt x="-1" y="70649"/>
                  </a:cubicBezTo>
                  <a:lnTo>
                    <a:pt x="0" y="70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泪滴形 32"/>
            <p:cNvSpPr/>
            <p:nvPr/>
          </p:nvSpPr>
          <p:spPr>
            <a:xfrm rot="7954800">
              <a:off x="3463920" y="429228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泪滴形 33"/>
            <p:cNvSpPr/>
            <p:nvPr/>
          </p:nvSpPr>
          <p:spPr>
            <a:xfrm rot="7954800">
              <a:off x="4739400" y="264852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2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8" y="0"/>
                    <a:pt x="151664" y="-16765"/>
                    <a:pt x="192171" y="-50296"/>
                  </a:cubicBezTo>
                  <a:cubicBezTo>
                    <a:pt x="158258" y="-10245"/>
                    <a:pt x="141302" y="29805"/>
                    <a:pt x="141302" y="69855"/>
                  </a:cubicBezTo>
                  <a:cubicBezTo>
                    <a:pt x="141302" y="108435"/>
                    <a:pt x="109670" y="139710"/>
                    <a:pt x="70651" y="139710"/>
                  </a:cubicBezTo>
                  <a:cubicBezTo>
                    <a:pt x="31632" y="139710"/>
                    <a:pt x="0" y="108435"/>
                    <a:pt x="0" y="69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8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矩形 9"/>
          <p:cNvSpPr/>
          <p:nvPr/>
        </p:nvSpPr>
        <p:spPr>
          <a:xfrm>
            <a:off x="-23760" y="2860560"/>
            <a:ext cx="9167760" cy="1079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6"/>
          <p:cNvSpPr/>
          <p:nvPr/>
        </p:nvSpPr>
        <p:spPr>
          <a:xfrm>
            <a:off x="133704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愿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1"/>
          <p:cNvSpPr/>
          <p:nvPr/>
        </p:nvSpPr>
        <p:spPr>
          <a:xfrm>
            <a:off x="309600" y="302436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打造“不走寻常路”的品牌风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5"/>
          <p:cNvSpPr/>
          <p:nvPr/>
        </p:nvSpPr>
        <p:spPr>
          <a:xfrm>
            <a:off x="700200" y="1203480"/>
            <a:ext cx="850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   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们需要的是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什么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7"/>
          <p:cNvSpPr/>
          <p:nvPr/>
        </p:nvSpPr>
        <p:spPr>
          <a:xfrm>
            <a:off x="531720" y="3506760"/>
            <a:ext cx="5985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8"/>
          <p:cNvSpPr/>
          <p:nvPr/>
        </p:nvSpPr>
        <p:spPr>
          <a:xfrm>
            <a:off x="684360" y="3003480"/>
            <a:ext cx="4270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矩形 2"/>
          <p:cNvSpPr/>
          <p:nvPr/>
        </p:nvSpPr>
        <p:spPr>
          <a:xfrm>
            <a:off x="393840" y="1919160"/>
            <a:ext cx="43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感染力、号召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崭新推广语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触动人心的感性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思维的导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5" name="组合 1"/>
          <p:cNvGrpSpPr/>
          <p:nvPr/>
        </p:nvGrpSpPr>
        <p:grpSpPr>
          <a:xfrm>
            <a:off x="5219640" y="2066760"/>
            <a:ext cx="4125960" cy="1930680"/>
            <a:chOff x="5219640" y="2066760"/>
            <a:chExt cx="4125960" cy="1930680"/>
          </a:xfrm>
        </p:grpSpPr>
        <p:grpSp>
          <p:nvGrpSpPr>
            <p:cNvPr id="996" name="组合 32"/>
            <p:cNvGrpSpPr/>
            <p:nvPr/>
          </p:nvGrpSpPr>
          <p:grpSpPr>
            <a:xfrm>
              <a:off x="5724360" y="2153160"/>
              <a:ext cx="3621240" cy="1676880"/>
              <a:chOff x="5724360" y="2153160"/>
              <a:chExt cx="3621240" cy="1676880"/>
            </a:xfrm>
          </p:grpSpPr>
          <p:sp>
            <p:nvSpPr>
              <p:cNvPr id="997" name="剪去单角的矩形 29"/>
              <p:cNvSpPr/>
              <p:nvPr/>
            </p:nvSpPr>
            <p:spPr>
              <a:xfrm>
                <a:off x="5724360" y="2153160"/>
                <a:ext cx="3240360" cy="1676880"/>
              </a:xfrm>
              <a:custGeom>
                <a:avLst/>
                <a:gdLst/>
                <a:ahLst/>
                <a:rect l="l" t="t" r="r" b="b"/>
                <a:pathLst>
                  <a:path w="3241107" h="1677083">
                    <a:moveTo>
                      <a:pt x="0" y="0"/>
                    </a:moveTo>
                    <a:lnTo>
                      <a:pt x="2758375" y="0"/>
                    </a:lnTo>
                    <a:lnTo>
                      <a:pt x="3241107" y="482732"/>
                    </a:lnTo>
                    <a:lnTo>
                      <a:pt x="3241107" y="1677083"/>
                    </a:lnTo>
                    <a:lnTo>
                      <a:pt x="0" y="16770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矩形 4"/>
              <p:cNvSpPr/>
              <p:nvPr/>
            </p:nvSpPr>
            <p:spPr>
              <a:xfrm>
                <a:off x="5925600" y="2329200"/>
                <a:ext cx="3420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不走寻常路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  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品牌风格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9" name="直接连接符 26"/>
            <p:cNvSpPr/>
            <p:nvPr/>
          </p:nvSpPr>
          <p:spPr>
            <a:xfrm>
              <a:off x="5219640" y="2066760"/>
              <a:ext cx="0" cy="193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00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8"/>
          <p:cNvSpPr/>
          <p:nvPr/>
        </p:nvSpPr>
        <p:spPr>
          <a:xfrm>
            <a:off x="322200" y="4792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8" name="Picture 15" descr="http://img.ea3w.com/165_500x375/164103.jpg"/>
          <p:cNvPicPr/>
          <p:nvPr/>
        </p:nvPicPr>
        <p:blipFill>
          <a:blip r:embed="rId1"/>
          <a:stretch/>
        </p:blipFill>
        <p:spPr>
          <a:xfrm>
            <a:off x="6084720" y="2021040"/>
            <a:ext cx="2533680" cy="1900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09" name="Picture 17" descr="http://i1.cvimage.cn/c/thump/2010/06/24/9b2f8af42363e4df466a9eb69e4fc811_3__337_100.jpg"/>
          <p:cNvPicPr/>
          <p:nvPr/>
        </p:nvPicPr>
        <p:blipFill>
          <a:blip r:embed="rId2"/>
          <a:srcRect l="-729" t="0" r="740" b="22086"/>
          <a:stretch/>
        </p:blipFill>
        <p:spPr>
          <a:xfrm>
            <a:off x="252360" y="1995480"/>
            <a:ext cx="2340000" cy="19368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10" name="Picture 2" descr="http://www.cuec.net.cn/uploadfiles/201022714142594878.jpg"/>
          <p:cNvPicPr/>
          <p:nvPr/>
        </p:nvPicPr>
        <p:blipFill>
          <a:blip r:embed="rId3"/>
          <a:stretch/>
        </p:blipFill>
        <p:spPr>
          <a:xfrm>
            <a:off x="3059280" y="2009880"/>
            <a:ext cx="2535120" cy="1922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1011" name="Picture 7" descr=""/>
          <p:cNvPicPr/>
          <p:nvPr/>
        </p:nvPicPr>
        <p:blipFill>
          <a:blip r:embed="rId4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12"/>
          <p:cNvSpPr/>
          <p:nvPr/>
        </p:nvSpPr>
        <p:spPr>
          <a:xfrm>
            <a:off x="-36360" y="1695600"/>
            <a:ext cx="532908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6"/>
          <p:cNvSpPr/>
          <p:nvPr/>
        </p:nvSpPr>
        <p:spPr>
          <a:xfrm>
            <a:off x="1954080" y="2570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如何打造“不走寻常路”的品牌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539640" y="949320"/>
            <a:ext cx="850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How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to do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矩形 13"/>
          <p:cNvSpPr/>
          <p:nvPr/>
        </p:nvSpPr>
        <p:spPr>
          <a:xfrm>
            <a:off x="5619240" y="4842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矩形 14"/>
          <p:cNvSpPr/>
          <p:nvPr/>
        </p:nvSpPr>
        <p:spPr>
          <a:xfrm>
            <a:off x="6465960" y="1695600"/>
            <a:ext cx="27144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9" name="组合 6"/>
          <p:cNvGrpSpPr/>
          <p:nvPr/>
        </p:nvGrpSpPr>
        <p:grpSpPr>
          <a:xfrm>
            <a:off x="-11160" y="2054160"/>
            <a:ext cx="8753400" cy="3240000"/>
            <a:chOff x="-11160" y="2054160"/>
            <a:chExt cx="8753400" cy="3240000"/>
          </a:xfrm>
        </p:grpSpPr>
        <p:sp>
          <p:nvSpPr>
            <p:cNvPr id="1020" name="矩形 7"/>
            <p:cNvSpPr/>
            <p:nvPr/>
          </p:nvSpPr>
          <p:spPr>
            <a:xfrm>
              <a:off x="393120" y="3456000"/>
              <a:ext cx="4459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1" name="矩形 8"/>
            <p:cNvSpPr/>
            <p:nvPr/>
          </p:nvSpPr>
          <p:spPr>
            <a:xfrm>
              <a:off x="506880" y="3149640"/>
              <a:ext cx="3182040" cy="7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22" name="组合 1"/>
            <p:cNvGrpSpPr/>
            <p:nvPr/>
          </p:nvGrpSpPr>
          <p:grpSpPr>
            <a:xfrm>
              <a:off x="-11160" y="2440080"/>
              <a:ext cx="5665320" cy="2653560"/>
              <a:chOff x="-11160" y="2440080"/>
              <a:chExt cx="5665320" cy="2653560"/>
            </a:xfrm>
          </p:grpSpPr>
          <p:sp>
            <p:nvSpPr>
              <p:cNvPr id="1023" name="矩形 15"/>
              <p:cNvSpPr/>
              <p:nvPr/>
            </p:nvSpPr>
            <p:spPr>
              <a:xfrm>
                <a:off x="-11160" y="2523960"/>
                <a:ext cx="5469120" cy="1518840"/>
              </a:xfrm>
              <a:custGeom>
                <a:avLst/>
                <a:gdLst/>
                <a:ahLst/>
                <a:rect l="l" t="t" r="r" b="b"/>
                <a:pathLst>
                  <a:path w="7339012" h="2267556">
                    <a:moveTo>
                      <a:pt x="0" y="12700"/>
                    </a:moveTo>
                    <a:lnTo>
                      <a:pt x="5967412" y="0"/>
                    </a:lnTo>
                    <a:lnTo>
                      <a:pt x="7339012" y="2267556"/>
                    </a:lnTo>
                    <a:lnTo>
                      <a:pt x="0" y="2267556"/>
                    </a:lnTo>
                    <a:lnTo>
                      <a:pt x="0" y="127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矩形 10"/>
              <p:cNvSpPr/>
              <p:nvPr/>
            </p:nvSpPr>
            <p:spPr>
              <a:xfrm>
                <a:off x="77400" y="2440080"/>
                <a:ext cx="557676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品牌核心价值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VELU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句核心传播语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SLOGEN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具延展性的画面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IMAG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25" name="矩形 16" descr=""/>
            <p:cNvPicPr/>
            <p:nvPr/>
          </p:nvPicPr>
          <p:blipFill>
            <a:blip r:embed="rId1"/>
            <a:stretch/>
          </p:blipFill>
          <p:spPr>
            <a:xfrm>
              <a:off x="4590000" y="2054160"/>
              <a:ext cx="4152240" cy="32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文本框 6"/>
          <p:cNvSpPr/>
          <p:nvPr/>
        </p:nvSpPr>
        <p:spPr>
          <a:xfrm>
            <a:off x="2121480" y="2570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核心价值在哪里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组合 14"/>
          <p:cNvGrpSpPr/>
          <p:nvPr/>
        </p:nvGrpSpPr>
        <p:grpSpPr>
          <a:xfrm>
            <a:off x="1212840" y="874800"/>
            <a:ext cx="1359000" cy="1301760"/>
            <a:chOff x="1212840" y="874800"/>
            <a:chExt cx="1359000" cy="1301760"/>
          </a:xfrm>
        </p:grpSpPr>
        <p:sp>
          <p:nvSpPr>
            <p:cNvPr id="1031" name="椭圆 13"/>
            <p:cNvSpPr/>
            <p:nvPr/>
          </p:nvSpPr>
          <p:spPr>
            <a:xfrm>
              <a:off x="1232640" y="8748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矩形 9"/>
            <p:cNvSpPr/>
            <p:nvPr/>
          </p:nvSpPr>
          <p:spPr>
            <a:xfrm>
              <a:off x="1212840" y="1090080"/>
              <a:ext cx="135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高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差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3" name="组合 2047"/>
          <p:cNvGrpSpPr/>
          <p:nvPr/>
        </p:nvGrpSpPr>
        <p:grpSpPr>
          <a:xfrm>
            <a:off x="4834080" y="871560"/>
            <a:ext cx="1301760" cy="1300320"/>
            <a:chOff x="4834080" y="871560"/>
            <a:chExt cx="1301760" cy="1300320"/>
          </a:xfrm>
        </p:grpSpPr>
        <p:sp>
          <p:nvSpPr>
            <p:cNvPr id="1034" name="椭圆 27"/>
            <p:cNvSpPr/>
            <p:nvPr/>
          </p:nvSpPr>
          <p:spPr>
            <a:xfrm>
              <a:off x="4834080" y="871560"/>
              <a:ext cx="1301760" cy="130032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矩形 6"/>
            <p:cNvSpPr/>
            <p:nvPr/>
          </p:nvSpPr>
          <p:spPr>
            <a:xfrm>
              <a:off x="5019480" y="10774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广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6" name="组合 15"/>
          <p:cNvGrpSpPr/>
          <p:nvPr/>
        </p:nvGrpSpPr>
        <p:grpSpPr>
          <a:xfrm>
            <a:off x="6597720" y="900000"/>
            <a:ext cx="1301760" cy="1301760"/>
            <a:chOff x="6597720" y="900000"/>
            <a:chExt cx="1301760" cy="1301760"/>
          </a:xfrm>
        </p:grpSpPr>
        <p:sp>
          <p:nvSpPr>
            <p:cNvPr id="1037" name="椭圆 30"/>
            <p:cNvSpPr/>
            <p:nvPr/>
          </p:nvSpPr>
          <p:spPr>
            <a:xfrm>
              <a:off x="6597720" y="9000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矩形 7"/>
            <p:cNvSpPr/>
            <p:nvPr/>
          </p:nvSpPr>
          <p:spPr>
            <a:xfrm>
              <a:off x="6786000" y="1084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强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感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2048"/>
          <p:cNvGrpSpPr/>
          <p:nvPr/>
        </p:nvGrpSpPr>
        <p:grpSpPr>
          <a:xfrm>
            <a:off x="3019320" y="868320"/>
            <a:ext cx="1301760" cy="1301760"/>
            <a:chOff x="3019320" y="868320"/>
            <a:chExt cx="1301760" cy="1301760"/>
          </a:xfrm>
        </p:grpSpPr>
        <p:sp>
          <p:nvSpPr>
            <p:cNvPr id="1040" name="椭圆 28"/>
            <p:cNvSpPr/>
            <p:nvPr/>
          </p:nvSpPr>
          <p:spPr>
            <a:xfrm>
              <a:off x="3019320" y="86832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矩形 5"/>
            <p:cNvSpPr/>
            <p:nvPr/>
          </p:nvSpPr>
          <p:spPr>
            <a:xfrm>
              <a:off x="3228480" y="1085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产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匹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2" name="空心弧 2049"/>
          <p:cNvGrpSpPr/>
          <p:nvPr/>
        </p:nvGrpSpPr>
        <p:grpSpPr>
          <a:xfrm>
            <a:off x="2859120" y="2955960"/>
            <a:ext cx="3413160" cy="1744560"/>
            <a:chOff x="2859120" y="2955960"/>
            <a:chExt cx="3413160" cy="1744560"/>
          </a:xfrm>
        </p:grpSpPr>
        <p:pic>
          <p:nvPicPr>
            <p:cNvPr id="1043" name="空心弧 2049" descr=""/>
            <p:cNvPicPr/>
            <p:nvPr/>
          </p:nvPicPr>
          <p:blipFill>
            <a:blip r:embed="rId1"/>
            <a:stretch/>
          </p:blipFill>
          <p:spPr>
            <a:xfrm>
              <a:off x="2859120" y="2955960"/>
              <a:ext cx="34131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2886120" y="2989440"/>
              <a:ext cx="335592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5" name="组合 2055"/>
          <p:cNvGrpSpPr/>
          <p:nvPr/>
        </p:nvGrpSpPr>
        <p:grpSpPr>
          <a:xfrm>
            <a:off x="2771640" y="3922560"/>
            <a:ext cx="449280" cy="449280"/>
            <a:chOff x="2771640" y="3922560"/>
            <a:chExt cx="449280" cy="449280"/>
          </a:xfrm>
        </p:grpSpPr>
        <p:grpSp>
          <p:nvGrpSpPr>
            <p:cNvPr id="1046" name="组合 2053"/>
            <p:cNvGrpSpPr/>
            <p:nvPr/>
          </p:nvGrpSpPr>
          <p:grpSpPr>
            <a:xfrm>
              <a:off x="2771640" y="3922560"/>
              <a:ext cx="449280" cy="449280"/>
              <a:chOff x="2771640" y="3922560"/>
              <a:chExt cx="449280" cy="449280"/>
            </a:xfrm>
          </p:grpSpPr>
          <p:sp>
            <p:nvSpPr>
              <p:cNvPr id="1047" name="椭圆 2052"/>
              <p:cNvSpPr/>
              <p:nvPr/>
            </p:nvSpPr>
            <p:spPr>
              <a:xfrm>
                <a:off x="2784960" y="3944880"/>
                <a:ext cx="422280" cy="42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同心圆 2051"/>
              <p:cNvSpPr/>
              <p:nvPr/>
            </p:nvSpPr>
            <p:spPr>
              <a:xfrm>
                <a:off x="2771640" y="392256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9" name="TextBox 2054"/>
            <p:cNvSpPr/>
            <p:nvPr/>
          </p:nvSpPr>
          <p:spPr>
            <a:xfrm>
              <a:off x="2820960" y="39816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0" name="组合 41"/>
          <p:cNvGrpSpPr/>
          <p:nvPr/>
        </p:nvGrpSpPr>
        <p:grpSpPr>
          <a:xfrm>
            <a:off x="3736800" y="2903400"/>
            <a:ext cx="449280" cy="451080"/>
            <a:chOff x="3736800" y="2903400"/>
            <a:chExt cx="449280" cy="451080"/>
          </a:xfrm>
        </p:grpSpPr>
        <p:grpSp>
          <p:nvGrpSpPr>
            <p:cNvPr id="1051" name="组合 42"/>
            <p:cNvGrpSpPr/>
            <p:nvPr/>
          </p:nvGrpSpPr>
          <p:grpSpPr>
            <a:xfrm>
              <a:off x="3736800" y="2903400"/>
              <a:ext cx="449280" cy="451080"/>
              <a:chOff x="3736800" y="2903400"/>
              <a:chExt cx="449280" cy="451080"/>
            </a:xfrm>
          </p:grpSpPr>
          <p:sp>
            <p:nvSpPr>
              <p:cNvPr id="1052" name="椭圆 44"/>
              <p:cNvSpPr/>
              <p:nvPr/>
            </p:nvSpPr>
            <p:spPr>
              <a:xfrm>
                <a:off x="3750120" y="2921040"/>
                <a:ext cx="42228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同心圆 45"/>
              <p:cNvSpPr/>
              <p:nvPr/>
            </p:nvSpPr>
            <p:spPr>
              <a:xfrm>
                <a:off x="3736800" y="290340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4" name="TextBox 43"/>
            <p:cNvSpPr/>
            <p:nvPr/>
          </p:nvSpPr>
          <p:spPr>
            <a:xfrm>
              <a:off x="3786120" y="29628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5" name="组合 46"/>
          <p:cNvGrpSpPr/>
          <p:nvPr/>
        </p:nvGrpSpPr>
        <p:grpSpPr>
          <a:xfrm>
            <a:off x="5000760" y="2903400"/>
            <a:ext cx="450720" cy="451080"/>
            <a:chOff x="5000760" y="2903400"/>
            <a:chExt cx="450720" cy="451080"/>
          </a:xfrm>
        </p:grpSpPr>
        <p:grpSp>
          <p:nvGrpSpPr>
            <p:cNvPr id="1056" name="组合 47"/>
            <p:cNvGrpSpPr/>
            <p:nvPr/>
          </p:nvGrpSpPr>
          <p:grpSpPr>
            <a:xfrm>
              <a:off x="5000760" y="2903400"/>
              <a:ext cx="450720" cy="451080"/>
              <a:chOff x="5000760" y="2903400"/>
              <a:chExt cx="450720" cy="451080"/>
            </a:xfrm>
          </p:grpSpPr>
          <p:sp>
            <p:nvSpPr>
              <p:cNvPr id="1057" name="椭圆 49"/>
              <p:cNvSpPr/>
              <p:nvPr/>
            </p:nvSpPr>
            <p:spPr>
              <a:xfrm>
                <a:off x="5014080" y="2921040"/>
                <a:ext cx="42372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同心圆 50"/>
              <p:cNvSpPr/>
              <p:nvPr/>
            </p:nvSpPr>
            <p:spPr>
              <a:xfrm>
                <a:off x="5000760" y="2903400"/>
                <a:ext cx="45072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9" name="TextBox 48"/>
            <p:cNvSpPr/>
            <p:nvPr/>
          </p:nvSpPr>
          <p:spPr>
            <a:xfrm>
              <a:off x="5039280" y="296280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51"/>
          <p:cNvGrpSpPr/>
          <p:nvPr/>
        </p:nvGrpSpPr>
        <p:grpSpPr>
          <a:xfrm>
            <a:off x="5878440" y="3878280"/>
            <a:ext cx="451080" cy="450720"/>
            <a:chOff x="5878440" y="3878280"/>
            <a:chExt cx="451080" cy="450720"/>
          </a:xfrm>
        </p:grpSpPr>
        <p:grpSp>
          <p:nvGrpSpPr>
            <p:cNvPr id="1061" name="组合 52"/>
            <p:cNvGrpSpPr/>
            <p:nvPr/>
          </p:nvGrpSpPr>
          <p:grpSpPr>
            <a:xfrm>
              <a:off x="5878440" y="3878280"/>
              <a:ext cx="451080" cy="450720"/>
              <a:chOff x="5878440" y="3878280"/>
              <a:chExt cx="451080" cy="450720"/>
            </a:xfrm>
          </p:grpSpPr>
          <p:sp>
            <p:nvSpPr>
              <p:cNvPr id="1062" name="椭圆 54"/>
              <p:cNvSpPr/>
              <p:nvPr/>
            </p:nvSpPr>
            <p:spPr>
              <a:xfrm>
                <a:off x="5885640" y="3894480"/>
                <a:ext cx="424080" cy="423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同心圆 55"/>
              <p:cNvSpPr/>
              <p:nvPr/>
            </p:nvSpPr>
            <p:spPr>
              <a:xfrm>
                <a:off x="5878440" y="3878280"/>
                <a:ext cx="451080" cy="45072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4" name="TextBox 53"/>
            <p:cNvSpPr/>
            <p:nvPr/>
          </p:nvSpPr>
          <p:spPr>
            <a:xfrm>
              <a:off x="5916960" y="393768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5" name="直接连接符 2058"/>
          <p:cNvSpPr/>
          <p:nvPr/>
        </p:nvSpPr>
        <p:spPr>
          <a:xfrm>
            <a:off x="1874880" y="23018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直接连接符 60"/>
          <p:cNvSpPr/>
          <p:nvPr/>
        </p:nvSpPr>
        <p:spPr>
          <a:xfrm>
            <a:off x="3699000" y="2293920"/>
            <a:ext cx="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直接连接符 64"/>
          <p:cNvSpPr/>
          <p:nvPr/>
        </p:nvSpPr>
        <p:spPr>
          <a:xfrm>
            <a:off x="5477040" y="2293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直接连接符 66"/>
          <p:cNvSpPr/>
          <p:nvPr/>
        </p:nvSpPr>
        <p:spPr>
          <a:xfrm>
            <a:off x="7257960" y="229392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直接连接符 67"/>
          <p:cNvSpPr/>
          <p:nvPr/>
        </p:nvSpPr>
        <p:spPr>
          <a:xfrm>
            <a:off x="1870200" y="3367080"/>
            <a:ext cx="825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直接连接符 69"/>
          <p:cNvSpPr/>
          <p:nvPr/>
        </p:nvSpPr>
        <p:spPr>
          <a:xfrm flipH="1">
            <a:off x="6443640" y="3368520"/>
            <a:ext cx="81432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直接连接符 80"/>
          <p:cNvSpPr/>
          <p:nvPr/>
        </p:nvSpPr>
        <p:spPr>
          <a:xfrm>
            <a:off x="3699000" y="2637000"/>
            <a:ext cx="263520" cy="19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直接连接符 83"/>
          <p:cNvSpPr/>
          <p:nvPr/>
        </p:nvSpPr>
        <p:spPr>
          <a:xfrm flipH="1">
            <a:off x="5230440" y="2635200"/>
            <a:ext cx="2509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35"/>
          <p:cNvSpPr/>
          <p:nvPr/>
        </p:nvSpPr>
        <p:spPr>
          <a:xfrm>
            <a:off x="3925080" y="38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4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1:44:58Z</dcterms:created>
  <dc:creator>zxy</dc:creator>
  <dc:description/>
  <dc:language>en-US</dc:language>
  <cp:lastModifiedBy>王玉清</cp:lastModifiedBy>
  <dcterms:modified xsi:type="dcterms:W3CDTF">2016-02-24T03:28:05Z</dcterms:modified>
  <cp:revision>90</cp:revision>
  <dc:subject/>
  <dc:title>PowerPoint 演示文稿</dc:title>
</cp:coreProperties>
</file>