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FAC-602C-4308-B232-F40E04A0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06B-75E2-4466-84B5-283122E5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433-6554-4FBA-AA3D-46C78352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EBD-10D1-4773-8A5B-18490060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5B8-E2F2-40A6-B32A-266F5D46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CF6-BABD-47C2-8F0B-D2BF420A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75F-2E49-4627-9231-39ABFCBB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C99-EA4D-432C-B643-55A8702B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D1A-F429-4731-838E-BD4E25A0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577-DE23-4F1A-93AB-DBCAAC5E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FDF-16A8-492C-9F08-851E83F3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A95-1353-471A-BA10-3619858B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1AD9-0814-4CB2-A160-3D582C2F01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357720" y="19162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3640680" y="284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3711960" y="370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671560" y="-27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糖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3071880" y="3714840"/>
            <a:ext cx="56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4357800" y="3786120"/>
            <a:ext cx="42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4"/>
          <p:cNvSpPr/>
          <p:nvPr/>
        </p:nvSpPr>
        <p:spPr>
          <a:xfrm flipH="1">
            <a:off x="1714680" y="3714840"/>
            <a:ext cx="42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121176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"/>
          <p:cNvSpPr/>
          <p:nvPr/>
        </p:nvSpPr>
        <p:spPr>
          <a:xfrm>
            <a:off x="68551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50695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283560" y="5059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51408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4854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47120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4854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1711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4283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6642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D66-E0C7-492C-A7EF-99455F6077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45:0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