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EE4-75D4-4A39-9552-75D4DDFB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D84-E52F-4CA8-AC7A-7741042E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64A-DE12-47BE-B376-D9DDF74A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91E-0BA9-4CB4-87BE-F7928251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CCF-A190-421D-9B86-A20A46DB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93E-1E14-42E7-B25C-BE24B90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9D8-773E-4B97-B0D1-3C1D6091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0EF-4614-4632-9E2B-E93EF9D4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F2D-2740-45AD-B25A-628B6D5F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363-241F-4518-ABEC-7921DD9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F05-430A-4836-A4DD-ED4C70E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0DF-BA26-4DEB-8827-F041C7D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A0A1-B944-4CD3-8320-A2607A1219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DBEF-6904-4CAE-832B-5013E26C8F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1.pn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66600" y="419256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3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3" descr=""/>
          <p:cNvPicPr/>
          <p:nvPr/>
        </p:nvPicPr>
        <p:blipFill>
          <a:blip r:embed="rId9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0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标题 1"/>
          <p:cNvSpPr/>
          <p:nvPr/>
        </p:nvSpPr>
        <p:spPr>
          <a:xfrm>
            <a:off x="2824200" y="2125800"/>
            <a:ext cx="6313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童年人生通用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484200" y="5386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8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3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5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6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80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2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3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7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9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90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4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6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7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5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2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120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122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124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26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141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3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144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6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147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9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50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57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64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74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189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190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1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192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8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200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201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03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11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12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14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6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23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30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37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45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249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253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257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 Box 4"/>
          <p:cNvSpPr/>
          <p:nvPr/>
        </p:nvSpPr>
        <p:spPr>
          <a:xfrm>
            <a:off x="345960" y="52261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62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69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6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284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5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6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7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288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290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292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297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304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cp:keywords/>
  <dc:language>en-US</dc:language>
  <cp:lastModifiedBy>王玉清</cp:lastModifiedBy>
  <cp:lastPrinted>1899-12-30T00:00:00Z</cp:lastPrinted>
  <dcterms:modified xsi:type="dcterms:W3CDTF">2016-02-21T03:53:26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