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3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  <p:custShowLst>
    <p:custShow name="自定义放映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268B-DF9F-4F6B-AFBD-C81FFD5A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33C-E622-451D-B426-30E686D6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AA6-640C-448C-9A81-8E4C88C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812-23A9-40A5-AC10-CF25FE0A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A7CE-DC8C-4E71-A8A8-30B4FC9C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8DBE-D11D-4AFB-91F2-F12B28E8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A84C-67E7-461B-A1B7-E16529A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7B4F-4DBC-4119-B44A-E526B272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62EA-F798-4C86-9062-BEE88564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D9E5-C3E6-4A9B-BDBA-78940606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AE48-464E-4D87-800F-B00994CB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2EA-C2DB-44B3-8829-F96EAA35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9033-CC68-45B7-9D07-93AF155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3114-EFBD-4B45-A00E-CB723A2D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002E-90B0-4D7F-87F2-27E0126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1CE-BD2C-4023-ACDC-79063A76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654-1CFC-4049-940A-33081758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E0B1-EBEE-4BC0-9075-653F9F6F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770-01A6-4D0B-AD97-7C079CB5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4ED-9A0C-4599-B9E3-E274FBAD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A73D-0C5C-47D4-B42D-8C7615D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C27-D432-4755-80E6-6B2A989F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067-4A9E-4338-891E-07D744B4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5D3-43D3-481A-8126-55249A1D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7904-4CBF-4A69-A6D2-7E2524D440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4" descr="035.png"/>
          <p:cNvPicPr/>
          <p:nvPr/>
        </p:nvPicPr>
        <p:blipFill>
          <a:blip r:embed="rId3"/>
          <a:stretch/>
        </p:blipFill>
        <p:spPr>
          <a:xfrm>
            <a:off x="8286840" y="6421320"/>
            <a:ext cx="85716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B6DE-CD86-4EF2-8490-CFB50D5128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900000" y="1484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To Save The Earth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动态</a:t>
            </a: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Earth Song.mp3" descr=""/>
          <p:cNvPicPr/>
          <p:nvPr/>
        </p:nvPicPr>
        <p:blipFill>
          <a:blip r:embed="rId1"/>
          <a:stretch/>
        </p:blipFill>
        <p:spPr>
          <a:xfrm>
            <a:off x="42876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8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5" descr="6117-000491.jpg"/>
          <p:cNvPicPr/>
          <p:nvPr/>
        </p:nvPicPr>
        <p:blipFill>
          <a:blip r:embed="rId1"/>
          <a:srcRect l="0" t="0" r="0" b="787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8" descr=""/>
          <p:cNvPicPr/>
          <p:nvPr/>
        </p:nvPicPr>
        <p:blipFill>
          <a:blip r:embed="rId2"/>
          <a:stretch/>
        </p:blipFill>
        <p:spPr>
          <a:xfrm>
            <a:off x="109440" y="5810400"/>
            <a:ext cx="7034400" cy="858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extBox 4" descr=""/>
          <p:cNvPicPr/>
          <p:nvPr/>
        </p:nvPicPr>
        <p:blipFill>
          <a:blip r:embed="rId1"/>
          <a:stretch/>
        </p:blipFill>
        <p:spPr>
          <a:xfrm>
            <a:off x="426960" y="2706840"/>
            <a:ext cx="8577360" cy="1218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4" descr="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Box 4" descr=""/>
          <p:cNvPicPr/>
          <p:nvPr/>
        </p:nvPicPr>
        <p:blipFill>
          <a:blip r:embed="rId1"/>
          <a:stretch/>
        </p:blipFill>
        <p:spPr>
          <a:xfrm>
            <a:off x="2932200" y="3687840"/>
            <a:ext cx="3425760" cy="1208160"/>
          </a:xfrm>
          <a:prstGeom prst="rect">
            <a:avLst/>
          </a:prstGeom>
          <a:ln w="0">
            <a:noFill/>
          </a:ln>
        </p:spPr>
      </p:pic>
      <p:pic>
        <p:nvPicPr>
          <p:cNvPr id="127" name="矩形 2" descr=""/>
          <p:cNvPicPr/>
          <p:nvPr/>
        </p:nvPicPr>
        <p:blipFill>
          <a:blip r:embed="rId2"/>
          <a:stretch/>
        </p:blipFill>
        <p:spPr>
          <a:xfrm>
            <a:off x="2932200" y="2335320"/>
            <a:ext cx="3267000" cy="120636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3" descr=""/>
          <p:cNvPicPr/>
          <p:nvPr/>
        </p:nvPicPr>
        <p:blipFill>
          <a:blip r:embed="rId3"/>
          <a:stretch/>
        </p:blipFill>
        <p:spPr>
          <a:xfrm>
            <a:off x="2932200" y="3011400"/>
            <a:ext cx="3529080" cy="121284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" descr=""/>
          <p:cNvPicPr/>
          <p:nvPr/>
        </p:nvPicPr>
        <p:blipFill>
          <a:blip r:embed="rId4"/>
          <a:stretch/>
        </p:blipFill>
        <p:spPr>
          <a:xfrm>
            <a:off x="884160" y="725400"/>
            <a:ext cx="2212920" cy="2036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2384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786120" y="2643120"/>
            <a:ext cx="2071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8" descr="035.png"/>
          <p:cNvPicPr/>
          <p:nvPr/>
        </p:nvPicPr>
        <p:blipFill>
          <a:blip r:embed="rId2"/>
          <a:stretch/>
        </p:blipFill>
        <p:spPr>
          <a:xfrm>
            <a:off x="4286160" y="2857680"/>
            <a:ext cx="703440" cy="35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许多LOGO副本"/>
          <p:cNvPicPr/>
          <p:nvPr/>
        </p:nvPicPr>
        <p:blipFill>
          <a:blip r:embed="rId3"/>
          <a:stretch/>
        </p:blipFill>
        <p:spPr>
          <a:xfrm>
            <a:off x="3929040" y="2928960"/>
            <a:ext cx="1352520" cy="328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8"/>
          <p:cNvSpPr/>
          <p:nvPr/>
        </p:nvSpPr>
        <p:spPr>
          <a:xfrm>
            <a:off x="353880" y="934920"/>
            <a:ext cx="5718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Earth,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希腊语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Gaia,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有大地母亲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428760" y="5268960"/>
            <a:ext cx="8429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太阳系八大行星之一，按离太阳由近及远的次序为第三颗。它有一个天然卫星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月球，二者组成一个天体系统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地月系。地球大约有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46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亿年的历史。地球的寿命还有两亿年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27760" y="587520"/>
            <a:ext cx="59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地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714240" y="169056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但是近些年来，由于工业化污染的日益严重，我们的地球正在遭受着前所未有的破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在人类的自私与贪欲面前，地球承受着严重的环境灾难。我们把一个满是创伤的地球交给下一代，我们应该感到惭愧与内疚。一代人的环境意识代表着这代人的环境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保护环境，人人有责。让我们共同创造一片蔚蓝的天空、一方清澈的水、一片净土、一个语花香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712960" y="4869000"/>
            <a:ext cx="36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华文细黑"/>
                <a:ea typeface="华文细黑"/>
              </a:rPr>
              <a:t>请爱护我们共同的家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00412158039487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62866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全球的陆地可以分为七大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: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亚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非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欧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大洋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南美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北美洲和南极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5" descr=""/>
          <p:cNvPicPr/>
          <p:nvPr/>
        </p:nvPicPr>
        <p:blipFill>
          <a:blip r:embed="rId2"/>
          <a:stretch/>
        </p:blipFill>
        <p:spPr>
          <a:xfrm>
            <a:off x="-152280" y="5619600"/>
            <a:ext cx="6913440" cy="897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285840" y="60688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细黑"/>
                <a:ea typeface="华文细黑"/>
              </a:rPr>
              <a:t>浩瀚的海洋蕴藏着极为丰富的生物，在全球生物多样性中占有重要地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矩形 4" descr=""/>
          <p:cNvPicPr/>
          <p:nvPr/>
        </p:nvPicPr>
        <p:blipFill>
          <a:blip r:embed="rId1"/>
          <a:stretch/>
        </p:blipFill>
        <p:spPr>
          <a:xfrm>
            <a:off x="66600" y="5443560"/>
            <a:ext cx="691380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" descr="200265753-001.jpg"/>
          <p:cNvPicPr/>
          <p:nvPr/>
        </p:nvPicPr>
        <p:blipFill>
          <a:blip r:embed="rId2"/>
          <a:srcRect l="0" t="0" r="0" b="9053"/>
          <a:stretch/>
        </p:blipFill>
        <p:spPr>
          <a:xfrm>
            <a:off x="0" y="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wl2_132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526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8" descr=""/>
          <p:cNvPicPr/>
          <p:nvPr/>
        </p:nvPicPr>
        <p:blipFill>
          <a:blip r:embed="rId3"/>
          <a:stretch/>
        </p:blipFill>
        <p:spPr>
          <a:xfrm>
            <a:off x="-23760" y="6010200"/>
            <a:ext cx="8680320" cy="8668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1151640" y="5729400"/>
            <a:ext cx="292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但是近些年来，由于工业化污染的日益严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" descr="1副本.jpg"/>
          <p:cNvPicPr/>
          <p:nvPr/>
        </p:nvPicPr>
        <p:blipFill>
          <a:blip r:embed="rId1"/>
          <a:srcRect l="0" t="0" r="1612" b="15780"/>
          <a:stretch/>
        </p:blipFill>
        <p:spPr>
          <a:xfrm>
            <a:off x="0" y="0"/>
            <a:ext cx="9144000" cy="559116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8" descr=""/>
          <p:cNvPicPr/>
          <p:nvPr/>
        </p:nvPicPr>
        <p:blipFill>
          <a:blip r:embed="rId2"/>
          <a:stretch/>
        </p:blipFill>
        <p:spPr>
          <a:xfrm>
            <a:off x="36360" y="6040440"/>
            <a:ext cx="8680680" cy="8604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725400" y="5786280"/>
            <a:ext cx="155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环境恶化速度在加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4" descr="SO001558.jpg"/>
          <p:cNvPicPr/>
          <p:nvPr/>
        </p:nvPicPr>
        <p:blipFill>
          <a:blip r:embed="rId1"/>
          <a:srcRect l="0" t="0" r="0" b="787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8" descr=""/>
          <p:cNvPicPr/>
          <p:nvPr/>
        </p:nvPicPr>
        <p:blipFill>
          <a:blip r:embed="rId2"/>
          <a:stretch/>
        </p:blipFill>
        <p:spPr>
          <a:xfrm>
            <a:off x="36360" y="6040440"/>
            <a:ext cx="8680680" cy="860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3086640" y="5786280"/>
            <a:ext cx="29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现代战争科技日趋先进，但带来的污染也是不可估量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" descr="dv1282017.jpg"/>
          <p:cNvPicPr/>
          <p:nvPr/>
        </p:nvPicPr>
        <p:blipFill>
          <a:blip r:embed="rId1"/>
          <a:srcRect l="0" t="13562" r="0" b="9917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8" descr=""/>
          <p:cNvPicPr/>
          <p:nvPr/>
        </p:nvPicPr>
        <p:blipFill>
          <a:blip r:embed="rId2"/>
          <a:stretch/>
        </p:blipFill>
        <p:spPr>
          <a:xfrm>
            <a:off x="109440" y="5632560"/>
            <a:ext cx="5748480" cy="860400"/>
          </a:xfrm>
          <a:prstGeom prst="rect">
            <a:avLst/>
          </a:prstGeom>
          <a:ln w="0">
            <a:noFill/>
          </a:ln>
        </p:spPr>
      </p:pic>
      <p:sp>
        <p:nvSpPr>
          <p:cNvPr id="110" name="矩形 6"/>
          <p:cNvSpPr/>
          <p:nvPr/>
        </p:nvSpPr>
        <p:spPr>
          <a:xfrm>
            <a:off x="3232800" y="6286680"/>
            <a:ext cx="29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核污染在当今已是不可避免，未来会怎样，我们都很茫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09440" y="649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4" descr="05_1111555.jpg"/>
          <p:cNvPicPr/>
          <p:nvPr/>
        </p:nvPicPr>
        <p:blipFill>
          <a:blip r:embed="rId1"/>
          <a:srcRect l="0" t="0" r="0" b="859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8" descr=""/>
          <p:cNvPicPr/>
          <p:nvPr/>
        </p:nvPicPr>
        <p:blipFill>
          <a:blip r:embed="rId2"/>
          <a:stretch/>
        </p:blipFill>
        <p:spPr>
          <a:xfrm>
            <a:off x="109440" y="5632560"/>
            <a:ext cx="5748480" cy="860400"/>
          </a:xfrm>
          <a:prstGeom prst="rect">
            <a:avLst/>
          </a:prstGeom>
          <a:ln w="0">
            <a:noFill/>
          </a:ln>
        </p:spPr>
      </p:pic>
      <p:sp>
        <p:nvSpPr>
          <p:cNvPr id="114" name="矩形 6"/>
          <p:cNvSpPr/>
          <p:nvPr/>
        </p:nvSpPr>
        <p:spPr>
          <a:xfrm>
            <a:off x="2193840" y="6272280"/>
            <a:ext cx="29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谁也不知道他们的未来是什么颜色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7:42:09Z</dcterms:created>
  <dc:creator>Administrator</dc:creator>
  <dc:description/>
  <cp:keywords/>
  <dc:language>en-US</dc:language>
  <cp:lastModifiedBy>王玉清</cp:lastModifiedBy>
  <dcterms:modified xsi:type="dcterms:W3CDTF">2016-02-19T07:10:00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