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F596-7CBF-4D93-A0F5-8CF5D9C2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E210-5B2F-45A3-ACC5-1F9C7205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71CC-8946-471C-9E95-F728D44B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715-FF4C-4C68-93CC-3D72334A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007B-FD46-4A18-A5B5-A724D884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9906-DAF1-434C-9A39-6F1DC2EC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F6C3-CD3F-49F4-A294-E37DDD84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E66B-F724-4AE4-9F58-69F236B5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E55C-64D1-40B9-B42A-B1662C17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D2A3-973E-4560-A5CF-A9D3C053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0A3D-D154-4765-AB2C-A0C98059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C270-1664-4B2E-961B-20629F4D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8D7A-C17C-405E-9656-B2006026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F888-DF4F-42C8-8AA3-AC3DCEFA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0ABD-211B-402C-95B0-23E3BB69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5843-1A09-4A6D-BCBF-A7F7F767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188C-0C56-40F4-BE8E-1EE24C21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541A-C254-4A2B-86C7-45BAD437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0C3B-BE66-4E26-B63A-C88E8322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9642-3179-4188-AB3B-1506571E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E676-E0B1-4973-B77E-B6BEC4D2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123-25FF-4DD6-BF87-D981A357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D47-6239-4C08-817B-B46DABBE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772-0AE5-41CC-BA46-9371A455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7B4031-C6B6-4300-8566-DEC76B82FD5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0D29CD-9C5D-4C7D-ABE0-AEC0B7F11E9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presentationload.com/" TargetMode="External"/><Relationship Id="rId3" Type="http://schemas.openxmlformats.org/officeDocument/2006/relationships/hyperlink" Target="http://slideshop.com/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440" cy="131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84" name="图片 3" descr=""/>
          <p:cNvPicPr/>
          <p:nvPr/>
        </p:nvPicPr>
        <p:blipFill>
          <a:blip r:embed="rId1"/>
          <a:srcRect l="24581" t="0" r="0" b="0"/>
          <a:stretch/>
        </p:blipFill>
        <p:spPr>
          <a:xfrm>
            <a:off x="-28800" y="0"/>
            <a:ext cx="9146520" cy="5163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251640" y="1060200"/>
            <a:ext cx="8784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处理更具创意的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种方法通用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432360" y="47638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pca00605000075"/>
          <p:cNvPicPr/>
          <p:nvPr/>
        </p:nvPicPr>
        <p:blipFill>
          <a:blip r:embed="rId1"/>
          <a:srcRect l="6714" t="0" r="5001" b="0"/>
          <a:stretch/>
        </p:blipFill>
        <p:spPr>
          <a:xfrm>
            <a:off x="0" y="-2052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1547640" y="2049120"/>
            <a:ext cx="2654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788000" y="995400"/>
            <a:ext cx="3024000" cy="28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1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便笺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2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异形剪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3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电影胶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PART4</a:t>
            </a:r>
            <a:r>
              <a:rPr b="1" lang="zh-CN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：格子罗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5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蒙版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6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全图型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7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剪贴画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://hiphotos.baidu.com/pptworld/pic/item/8b732b18a6ea172043a9add8.jpg"/>
          <p:cNvPicPr/>
          <p:nvPr/>
        </p:nvPicPr>
        <p:blipFill>
          <a:blip r:embed="rId1"/>
          <a:stretch/>
        </p:blipFill>
        <p:spPr>
          <a:xfrm>
            <a:off x="899640" y="1059480"/>
            <a:ext cx="6912360" cy="2638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0" y="12348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格子罗列】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899640" y="3887640"/>
            <a:ext cx="705636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zh-CN" sz="1600" spc="-1" strike="noStrike">
                <a:solidFill>
                  <a:srgbClr val="558ed5"/>
                </a:solidFill>
                <a:latin typeface="微软雅黑"/>
                <a:ea typeface="微软雅黑"/>
              </a:rPr>
              <a:t>左图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页面等分成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份，红蓝黄绿四色“性格“配以其中，其他以图片填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zh-CN" sz="1600" spc="-1" strike="noStrike">
                <a:solidFill>
                  <a:srgbClr val="558ed5"/>
                </a:solidFill>
                <a:latin typeface="微软雅黑"/>
                <a:ea typeface="微软雅黑"/>
              </a:rPr>
              <a:t>右图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面分成两部分，接近等分吧。图片可以在左边也可以在右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hiphotos.baidu.com/pptworld/pic/item/cbb66e0224a309123912bbd8.jpg"/>
          <p:cNvPicPr/>
          <p:nvPr/>
        </p:nvPicPr>
        <p:blipFill>
          <a:blip r:embed="rId1"/>
          <a:stretch/>
        </p:blipFill>
        <p:spPr>
          <a:xfrm>
            <a:off x="827640" y="843480"/>
            <a:ext cx="7543800" cy="28800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0" y="12348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格子罗列】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827640" y="3867840"/>
            <a:ext cx="741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558ed5"/>
                </a:solidFill>
                <a:latin typeface="微软雅黑"/>
                <a:ea typeface="微软雅黑"/>
              </a:rPr>
              <a:t>左图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个需要特别说明一点，这完全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实现，配以线条和相应的色块，可以随意更换图片调节线条的粗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右图类似，不赘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pca00605000075"/>
          <p:cNvPicPr/>
          <p:nvPr/>
        </p:nvPicPr>
        <p:blipFill>
          <a:blip r:embed="rId1"/>
          <a:srcRect l="6714" t="0" r="5001" b="0"/>
          <a:stretch/>
        </p:blipFill>
        <p:spPr>
          <a:xfrm>
            <a:off x="0" y="-2052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1547640" y="2049120"/>
            <a:ext cx="2654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788000" y="995400"/>
            <a:ext cx="3024000" cy="28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1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便笺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2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异形剪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3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电影胶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4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格子罗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PART5</a:t>
            </a:r>
            <a:r>
              <a:rPr b="1" lang="zh-CN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：蒙版效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6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全图型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7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剪贴画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http://hiphotos.baidu.com/pptworld/pic/item/20ad1fd740513e4a07088bd8.jpg"/>
          <p:cNvPicPr/>
          <p:nvPr/>
        </p:nvPicPr>
        <p:blipFill>
          <a:blip r:embed="rId1"/>
          <a:stretch/>
        </p:blipFill>
        <p:spPr>
          <a:xfrm>
            <a:off x="727560" y="843480"/>
            <a:ext cx="7732440" cy="2952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0" y="12348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蒙版效果】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727560" y="3926520"/>
            <a:ext cx="78764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558ed5"/>
                </a:solidFill>
                <a:latin typeface="微软雅黑"/>
                <a:ea typeface="微软雅黑"/>
              </a:rPr>
              <a:t>左图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拉一条渐变的矩形色块，调整矩形一边的透明度。如果有多张图片，随意罗列到一边，不需要刻意整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558ed5"/>
                </a:solidFill>
                <a:latin typeface="微软雅黑"/>
                <a:ea typeface="微软雅黑"/>
              </a:rPr>
              <a:t>右图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样是画一条矩形，只是简单调整了矩形的透明度，隐约能看到底图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pca00605000075"/>
          <p:cNvPicPr/>
          <p:nvPr/>
        </p:nvPicPr>
        <p:blipFill>
          <a:blip r:embed="rId1"/>
          <a:srcRect l="6714" t="0" r="5001" b="0"/>
          <a:stretch/>
        </p:blipFill>
        <p:spPr>
          <a:xfrm>
            <a:off x="0" y="-2052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1547640" y="2049120"/>
            <a:ext cx="2654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788000" y="995400"/>
            <a:ext cx="3024000" cy="28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1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便笺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2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异形剪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3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电影胶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4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格子罗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5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蒙版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PART6</a:t>
            </a:r>
            <a:r>
              <a:rPr b="1" lang="zh-CN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：全图型展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7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剪贴画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2"/>
          <p:cNvSpPr/>
          <p:nvPr/>
        </p:nvSpPr>
        <p:spPr>
          <a:xfrm>
            <a:off x="432360" y="47638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hiphotos.baidu.com/pptworld/pic/item/cd2ef6076cbbaa1e020881d8.jpg"/>
          <p:cNvPicPr/>
          <p:nvPr/>
        </p:nvPicPr>
        <p:blipFill>
          <a:blip r:embed="rId1"/>
          <a:stretch/>
        </p:blipFill>
        <p:spPr>
          <a:xfrm>
            <a:off x="971640" y="789480"/>
            <a:ext cx="7308720" cy="27900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0" y="12348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全图型展示】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971640" y="3847320"/>
            <a:ext cx="73087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图型的展示就不罗嗦了，主要是品质高的符合课件主题的图片比较难找。这种主要是</a:t>
            </a:r>
            <a:r>
              <a:rPr b="1" lang="zh-CN" sz="2000" spc="-1" strike="noStrike">
                <a:solidFill>
                  <a:srgbClr val="558ed5"/>
                </a:solidFill>
                <a:latin typeface="微软雅黑"/>
                <a:ea typeface="微软雅黑"/>
              </a:rPr>
              <a:t>以图片为载体，配以文字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这样出来的效果视觉冲击力会比较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pca00605000075"/>
          <p:cNvPicPr/>
          <p:nvPr/>
        </p:nvPicPr>
        <p:blipFill>
          <a:blip r:embed="rId1"/>
          <a:srcRect l="6714" t="0" r="5001" b="0"/>
          <a:stretch/>
        </p:blipFill>
        <p:spPr>
          <a:xfrm>
            <a:off x="0" y="-2052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1547640" y="2049120"/>
            <a:ext cx="2654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788000" y="995400"/>
            <a:ext cx="3024000" cy="28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1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便笺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2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异形剪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3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电影胶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4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格子罗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5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蒙版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6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全图型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PART7</a:t>
            </a:r>
            <a:r>
              <a:rPr b="1" lang="zh-CN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：剪贴画效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hiphotos.baidu.com/pptworld/pic/item/0b35fb261ffe5766918f9dd8.jpg"/>
          <p:cNvPicPr/>
          <p:nvPr/>
        </p:nvPicPr>
        <p:blipFill>
          <a:blip r:embed="rId1"/>
          <a:stretch/>
        </p:blipFill>
        <p:spPr>
          <a:xfrm>
            <a:off x="755640" y="843480"/>
            <a:ext cx="7543800" cy="28800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>
            <a:off x="0" y="12348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剪贴画效果】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1187640" y="3867840"/>
            <a:ext cx="669636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软自带有很多的剪贴画效果，只要下载来稍微编辑下即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软简笔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pca00605000075"/>
          <p:cNvPicPr/>
          <p:nvPr/>
        </p:nvPicPr>
        <p:blipFill>
          <a:blip r:embed="rId1"/>
          <a:srcRect l="6714" t="0" r="5001" b="0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547640" y="2049120"/>
            <a:ext cx="2654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788000" y="995400"/>
            <a:ext cx="3024000" cy="27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PART1</a:t>
            </a:r>
            <a:r>
              <a:rPr b="1" lang="zh-CN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：便笺效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2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异形剪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3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电影胶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4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格子罗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5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蒙版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6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全图型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7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剪贴画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hiphotos.baidu.com/pptworld/pic/item/bae1073cebf27165baa167df.jpg"/>
          <p:cNvPicPr/>
          <p:nvPr/>
        </p:nvPicPr>
        <p:blipFill>
          <a:blip r:embed="rId1"/>
          <a:stretch/>
        </p:blipFill>
        <p:spPr>
          <a:xfrm>
            <a:off x="1259640" y="762480"/>
            <a:ext cx="6624360" cy="2529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0" y="12348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便笺效果】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259640" y="3435840"/>
            <a:ext cx="33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558ed5"/>
                </a:solidFill>
                <a:latin typeface="微软雅黑"/>
                <a:ea typeface="微软雅黑"/>
              </a:rPr>
              <a:t>左图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图片做些阴影效果，背景是个虚化的矩形边框，可以自行调节阴影的颜色和透明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4572000" y="3435840"/>
            <a:ext cx="33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558ed5"/>
                </a:solidFill>
                <a:latin typeface="微软雅黑"/>
                <a:ea typeface="微软雅黑"/>
              </a:rPr>
              <a:t>右图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胶带的效果还不错，也可以换成图钉之类的作为点缀，会使图片更加的活泼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接连接符 7"/>
          <p:cNvCxnSpPr/>
          <p:nvPr/>
        </p:nvCxnSpPr>
        <p:spPr>
          <a:xfrm>
            <a:off x="4572000" y="3435840"/>
            <a:ext cx="360" cy="122868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prstDash val="sysDash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hiphotos.baidu.com/pptworld/pic/item/13634e89f41127f1a4c272df.jpg"/>
          <p:cNvPicPr/>
          <p:nvPr/>
        </p:nvPicPr>
        <p:blipFill>
          <a:blip r:embed="rId1"/>
          <a:stretch/>
        </p:blipFill>
        <p:spPr>
          <a:xfrm>
            <a:off x="1201680" y="943200"/>
            <a:ext cx="6466320" cy="246852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0" y="12348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便笺效果】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1475640" y="3579840"/>
            <a:ext cx="604836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时可以多积累些这样的效果备用，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阴影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邮票边框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，这样做起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时候也会比较的得心应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hiphotos.baidu.com/pptworld/pic/item/5ce2c9dbabe599beb6fd48df.jpg"/>
          <p:cNvPicPr/>
          <p:nvPr/>
        </p:nvPicPr>
        <p:blipFill>
          <a:blip r:embed="rId1"/>
          <a:srcRect l="0" t="0" r="50000" b="0"/>
          <a:stretch/>
        </p:blipFill>
        <p:spPr>
          <a:xfrm>
            <a:off x="2166840" y="771480"/>
            <a:ext cx="2980800" cy="227628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0" y="12348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便笺效果】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292000" y="2139840"/>
            <a:ext cx="331200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圆形边框，不规则的正方形等的图片处理，图片看起来会比正常的图片小，但没关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要保留住图片的有用信息，能看懂即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hiphotos.baidu.com/pptworld/pic/item/5ce2c9dbabe599beb6fd48df.jpg"/>
          <p:cNvPicPr/>
          <p:nvPr/>
        </p:nvPicPr>
        <p:blipFill>
          <a:blip r:embed="rId2"/>
          <a:srcRect l="49611" t="0" r="0" b="0"/>
          <a:stretch/>
        </p:blipFill>
        <p:spPr>
          <a:xfrm>
            <a:off x="653040" y="2715840"/>
            <a:ext cx="30042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pca00605000075"/>
          <p:cNvPicPr/>
          <p:nvPr/>
        </p:nvPicPr>
        <p:blipFill>
          <a:blip r:embed="rId1"/>
          <a:srcRect l="6714" t="0" r="5001" b="0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547640" y="2049120"/>
            <a:ext cx="2654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788000" y="995400"/>
            <a:ext cx="302400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1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便笺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PART2</a:t>
            </a:r>
            <a:r>
              <a:rPr b="1" lang="zh-CN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：异形剪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3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电影胶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4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格子罗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5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蒙版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6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全图型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7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剪贴画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hiphotos.baidu.com/pptworld/pic/item/1f7797b2370ae2c2d9335adf.jpg"/>
          <p:cNvPicPr/>
          <p:nvPr/>
        </p:nvPicPr>
        <p:blipFill>
          <a:blip r:embed="rId1"/>
          <a:stretch/>
        </p:blipFill>
        <p:spPr>
          <a:xfrm>
            <a:off x="395640" y="1197000"/>
            <a:ext cx="5962320" cy="22762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0" y="12348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异形剪纸】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395640" y="3651840"/>
            <a:ext cx="59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左图：泰国电影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初恋这件小事》，蛮温馨和纯情，虽然有些不切实际的浪漫。简单的裁剪了下男女主角，配以杂乱的感悟，效果还不错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直接连接符 8"/>
          <p:cNvCxnSpPr/>
          <p:nvPr/>
        </p:nvCxnSpPr>
        <p:spPr>
          <a:xfrm>
            <a:off x="6475320" y="3385080"/>
            <a:ext cx="855720" cy="1440"/>
          </a:xfrm>
          <a:prstGeom prst="straightConnector1">
            <a:avLst/>
          </a:prstGeom>
          <a:ln cap="rnd" w="76200">
            <a:solidFill>
              <a:srgbClr val="91c6f7"/>
            </a:solidFill>
            <a:round/>
          </a:ln>
        </p:spPr>
      </p:cxnSp>
      <p:sp>
        <p:nvSpPr>
          <p:cNvPr id="109" name="椭圆 10"/>
          <p:cNvSpPr/>
          <p:nvPr/>
        </p:nvSpPr>
        <p:spPr>
          <a:xfrm>
            <a:off x="6407280" y="3309840"/>
            <a:ext cx="151560" cy="152280"/>
          </a:xfrm>
          <a:prstGeom prst="ellipse">
            <a:avLst/>
          </a:prstGeom>
          <a:solidFill>
            <a:srgbClr val="ffff00"/>
          </a:solidFill>
          <a:ln w="76200">
            <a:solidFill>
              <a:srgbClr val="91c6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  <a:ea typeface="华文细黑"/>
            </a:endParaRPr>
          </a:p>
        </p:txBody>
      </p:sp>
      <p:grpSp>
        <p:nvGrpSpPr>
          <p:cNvPr id="110" name="组合 57"/>
          <p:cNvGrpSpPr/>
          <p:nvPr/>
        </p:nvGrpSpPr>
        <p:grpSpPr>
          <a:xfrm>
            <a:off x="7244640" y="2970000"/>
            <a:ext cx="151560" cy="492120"/>
            <a:chOff x="7244640" y="2970000"/>
            <a:chExt cx="151560" cy="492120"/>
          </a:xfrm>
        </p:grpSpPr>
        <p:cxnSp>
          <p:nvCxnSpPr>
            <p:cNvPr id="111" name="直接连接符 12"/>
            <p:cNvCxnSpPr/>
            <p:nvPr/>
          </p:nvCxnSpPr>
          <p:spPr>
            <a:xfrm flipV="1">
              <a:off x="7331760" y="2970000"/>
              <a:ext cx="1080" cy="414720"/>
            </a:xfrm>
            <a:prstGeom prst="straightConnector1">
              <a:avLst/>
            </a:prstGeom>
            <a:ln cap="rnd" w="76200">
              <a:solidFill>
                <a:srgbClr val="91c6f7"/>
              </a:solidFill>
              <a:round/>
            </a:ln>
          </p:spPr>
        </p:cxnSp>
        <p:sp>
          <p:nvSpPr>
            <p:cNvPr id="112" name="椭圆 13"/>
            <p:cNvSpPr/>
            <p:nvPr/>
          </p:nvSpPr>
          <p:spPr>
            <a:xfrm>
              <a:off x="7244640" y="3310560"/>
              <a:ext cx="151560" cy="151560"/>
            </a:xfrm>
            <a:prstGeom prst="ellipse">
              <a:avLst/>
            </a:prstGeom>
            <a:solidFill>
              <a:srgbClr val="ffffff"/>
            </a:solidFill>
            <a:ln w="76200">
              <a:solidFill>
                <a:srgbClr val="91c6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华文细黑"/>
                <a:ea typeface="华文细黑"/>
              </a:endParaRPr>
            </a:p>
          </p:txBody>
        </p:sp>
      </p:grpSp>
      <p:cxnSp>
        <p:nvCxnSpPr>
          <p:cNvPr id="113" name="直接连接符 15"/>
          <p:cNvCxnSpPr/>
          <p:nvPr/>
        </p:nvCxnSpPr>
        <p:spPr>
          <a:xfrm>
            <a:off x="7343280" y="2979360"/>
            <a:ext cx="856080" cy="1080"/>
          </a:xfrm>
          <a:prstGeom prst="straightConnector1">
            <a:avLst/>
          </a:prstGeom>
          <a:ln cap="rnd" w="76200">
            <a:solidFill>
              <a:srgbClr val="91c6f7"/>
            </a:solidFill>
            <a:round/>
          </a:ln>
        </p:spPr>
      </p:cxnSp>
      <p:sp>
        <p:nvSpPr>
          <p:cNvPr id="114" name="椭圆 17"/>
          <p:cNvSpPr/>
          <p:nvPr/>
        </p:nvSpPr>
        <p:spPr>
          <a:xfrm>
            <a:off x="7244640" y="2897280"/>
            <a:ext cx="151560" cy="152280"/>
          </a:xfrm>
          <a:prstGeom prst="ellipse">
            <a:avLst/>
          </a:prstGeom>
          <a:solidFill>
            <a:srgbClr val="ffff00"/>
          </a:solidFill>
          <a:ln w="76200">
            <a:solidFill>
              <a:srgbClr val="91c6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  <a:ea typeface="华文细黑"/>
            </a:endParaRPr>
          </a:p>
        </p:txBody>
      </p:sp>
      <p:grpSp>
        <p:nvGrpSpPr>
          <p:cNvPr id="115" name="组合 60"/>
          <p:cNvGrpSpPr/>
          <p:nvPr/>
        </p:nvGrpSpPr>
        <p:grpSpPr>
          <a:xfrm>
            <a:off x="8119440" y="2554920"/>
            <a:ext cx="151560" cy="494640"/>
            <a:chOff x="8119440" y="2554920"/>
            <a:chExt cx="151560" cy="494640"/>
          </a:xfrm>
        </p:grpSpPr>
        <p:cxnSp>
          <p:nvCxnSpPr>
            <p:cNvPr id="116" name="直接连接符 19"/>
            <p:cNvCxnSpPr/>
            <p:nvPr/>
          </p:nvCxnSpPr>
          <p:spPr>
            <a:xfrm flipV="1">
              <a:off x="8200800" y="2554920"/>
              <a:ext cx="1080" cy="415440"/>
            </a:xfrm>
            <a:prstGeom prst="straightConnector1">
              <a:avLst/>
            </a:prstGeom>
            <a:ln cap="rnd" w="76200">
              <a:solidFill>
                <a:srgbClr val="91c6f7"/>
              </a:solidFill>
              <a:round/>
            </a:ln>
          </p:spPr>
        </p:cxnSp>
        <p:sp>
          <p:nvSpPr>
            <p:cNvPr id="117" name="椭圆 20"/>
            <p:cNvSpPr/>
            <p:nvPr/>
          </p:nvSpPr>
          <p:spPr>
            <a:xfrm>
              <a:off x="8119440" y="2898000"/>
              <a:ext cx="151560" cy="151560"/>
            </a:xfrm>
            <a:prstGeom prst="ellipse">
              <a:avLst/>
            </a:prstGeom>
            <a:solidFill>
              <a:srgbClr val="ffffff"/>
            </a:solidFill>
            <a:ln w="76200">
              <a:solidFill>
                <a:srgbClr val="91c6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华文细黑"/>
                <a:ea typeface="华文细黑"/>
              </a:endParaRPr>
            </a:p>
          </p:txBody>
        </p:sp>
      </p:grpSp>
      <p:cxnSp>
        <p:nvCxnSpPr>
          <p:cNvPr id="118" name="直接连接符 22"/>
          <p:cNvCxnSpPr/>
          <p:nvPr/>
        </p:nvCxnSpPr>
        <p:spPr>
          <a:xfrm>
            <a:off x="8200800" y="2554920"/>
            <a:ext cx="855720" cy="1080"/>
          </a:xfrm>
          <a:prstGeom prst="straightConnector1">
            <a:avLst/>
          </a:prstGeom>
          <a:ln cap="rnd" w="76200">
            <a:solidFill>
              <a:srgbClr val="91c6f7"/>
            </a:solidFill>
            <a:round/>
          </a:ln>
        </p:spPr>
      </p:cxnSp>
      <p:sp>
        <p:nvSpPr>
          <p:cNvPr id="119" name="椭圆 24"/>
          <p:cNvSpPr/>
          <p:nvPr/>
        </p:nvSpPr>
        <p:spPr>
          <a:xfrm>
            <a:off x="8119440" y="2479320"/>
            <a:ext cx="151560" cy="151560"/>
          </a:xfrm>
          <a:prstGeom prst="ellipse">
            <a:avLst/>
          </a:prstGeom>
          <a:solidFill>
            <a:srgbClr val="ffff00"/>
          </a:solidFill>
          <a:ln w="76200">
            <a:solidFill>
              <a:srgbClr val="91c6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  <a:ea typeface="华文细黑"/>
            </a:endParaRPr>
          </a:p>
        </p:txBody>
      </p:sp>
      <p:sp>
        <p:nvSpPr>
          <p:cNvPr id="120" name="椭圆 27"/>
          <p:cNvSpPr/>
          <p:nvPr/>
        </p:nvSpPr>
        <p:spPr>
          <a:xfrm>
            <a:off x="8956800" y="2479320"/>
            <a:ext cx="151560" cy="151560"/>
          </a:xfrm>
          <a:prstGeom prst="ellipse">
            <a:avLst/>
          </a:prstGeom>
          <a:solidFill>
            <a:srgbClr val="ffffff"/>
          </a:solidFill>
          <a:ln w="76200">
            <a:solidFill>
              <a:srgbClr val="91c6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ffffff"/>
              </a:solidFill>
              <a:latin typeface="华文细黑"/>
              <a:ea typeface="华文细黑"/>
            </a:endParaRPr>
          </a:p>
        </p:txBody>
      </p:sp>
      <p:sp>
        <p:nvSpPr>
          <p:cNvPr id="121" name="TextBox 4096"/>
          <p:cNvSpPr/>
          <p:nvPr/>
        </p:nvSpPr>
        <p:spPr>
          <a:xfrm>
            <a:off x="6631200" y="2994480"/>
            <a:ext cx="53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4098"/>
          <p:cNvSpPr/>
          <p:nvPr/>
        </p:nvSpPr>
        <p:spPr>
          <a:xfrm>
            <a:off x="7216920" y="2283840"/>
            <a:ext cx="10674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修剪相应的轮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4099"/>
          <p:cNvSpPr/>
          <p:nvPr/>
        </p:nvSpPr>
        <p:spPr>
          <a:xfrm>
            <a:off x="8454240" y="213156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432360" y="47638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pca00605000075"/>
          <p:cNvPicPr/>
          <p:nvPr/>
        </p:nvPicPr>
        <p:blipFill>
          <a:blip r:embed="rId1"/>
          <a:srcRect l="6714" t="0" r="5001" b="0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1547640" y="2049120"/>
            <a:ext cx="2654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788000" y="995400"/>
            <a:ext cx="302400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1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便笺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2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异形剪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PART3</a:t>
            </a:r>
            <a:r>
              <a:rPr b="1" lang="zh-CN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：电影胶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4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格子罗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5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蒙版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6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全图型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7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剪贴画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"/>
          <p:cNvSpPr/>
          <p:nvPr/>
        </p:nvSpPr>
        <p:spPr>
          <a:xfrm>
            <a:off x="0" y="12348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电影胶片】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://hiphotos.baidu.com/pptworld/pic/item/f2d61a031b81046a4bfb51df.jpg"/>
          <p:cNvPicPr/>
          <p:nvPr/>
        </p:nvPicPr>
        <p:blipFill>
          <a:blip r:embed="rId1"/>
          <a:stretch/>
        </p:blipFill>
        <p:spPr>
          <a:xfrm>
            <a:off x="899640" y="843480"/>
            <a:ext cx="7128360" cy="27212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899640" y="3679560"/>
            <a:ext cx="71283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影胶片的处理效果适合展示一些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事物背景、项目展示 “等。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presentationload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slideshop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提供了一些类似电影胶片的效果，大多都是可编辑的，可根据图片的数量自行手动调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  <Words>756</Words>
  <Paragraphs>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韦宇教</dc:creator>
  <dc:description/>
  <dc:language>en-US</dc:language>
  <cp:lastModifiedBy>王玉清</cp:lastModifiedBy>
  <dcterms:modified xsi:type="dcterms:W3CDTF">2016-02-24T03:17:56Z</dcterms:modified>
  <cp:revision>20</cp:revision>
  <dc:subject/>
  <dc:title>让你的图片处理更具创意的7种方法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18</vt:r8>
  </property>
</Properties>
</file>