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3797-A4F6-4709-973C-D094076DF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1875-9B72-4E06-989E-E6EA1AAEDC1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D123-DA62-47A3-B614-76DC3DB652E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49B-EDEF-42B3-8061-D5E9AA8E8DF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0DAC-3642-4311-8382-3D989E5B42E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9315-0A6A-452C-A8DB-8D1869CC540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E118-61F1-4046-821E-A9FA3D25BED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AAE6-275E-458E-8241-6E432DB2375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444-35D1-40AD-B938-DA466B2246DF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406D-0ABF-4772-BA76-CA95AF61E4B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E09-174D-40C6-98E4-A733A23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E3C-DE44-4102-8F70-6B188FB9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634-3B23-43C6-9B2A-8EB416BB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FA6-8B6B-4E62-855D-60830748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2235-3AF7-436C-BC76-3AAA4FE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92FF4-DDB6-4377-B87F-79CF8EB8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B0B6C-1A5A-45B1-BB7E-67E0C536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104D-AE6A-4937-939E-07DD71E7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01E11-D2F6-4D60-B4F4-54C4E93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EC012-2E8B-485C-AB02-E9934E0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029F1-8B36-491A-B2CD-4B54E6E0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66A-BF1F-4763-B8AB-06954C6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6E56D-ED88-4D8D-8904-C4CE142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6C4DF-5AFA-42A7-B81E-B704F9E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DCD09-D929-405E-9614-C479C7D6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CCC2-F686-4104-B8E8-76F24DEE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BE5B9-7954-434E-AF1C-C8B8648B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A66D-87E6-404F-BB52-88479A3A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C0EC-8D13-4D33-9E3E-A25F421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62AD-B9DB-48AB-9CBB-731A1B12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243F-91BF-48FF-BA72-280C3743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A709-33A7-4CDB-A162-AF782F11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7E1-0320-4C48-8D83-1A498E2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4521-0C3F-4988-96F5-7B11D757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3357-E091-45A7-B3C2-2C1B5E2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C490-0411-41F3-A8DC-04AEAF21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2FA2B-D588-4016-8C89-5DF822C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24EC-BF63-4197-923D-7682D9F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A6526-75D8-44C2-8881-9E253C45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D441-D91C-4BE3-B9FE-A10872A7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9F074-FDE0-4EE2-9860-59F62AB8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91C30-D4CB-4081-8B6A-13E9467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7CD31-1E48-434D-B02B-CC54635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650-5C42-4E39-B6BD-86BA39D9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5A580-43AB-4329-8500-C7B97A7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8B30E-F50F-4773-B18A-DDB9207F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30BE3-811C-4458-8C02-D95547E5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3F12FF-39DA-4FEB-99D8-C129FFC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411BB-7A1A-46DD-A637-6A9DDB3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BE4A8-0E89-446F-BAF8-3BAFDA8F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D253F-39E3-46D1-AF0C-ECF635F3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C3E67-1574-40D7-82E3-CD2CDB67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AB8DE-0E77-414C-AED8-DCA00699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BBA-E17C-4CEB-A54C-DACE8372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2FD-3062-47D6-ABA3-E35C5034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F92-B36E-4C32-A26C-786017E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B03-A6D4-49D4-B1CE-5FAF662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B3D-62AA-430E-B360-BD6467A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8AB-C0F8-45F1-A9B3-304BFD5856A9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F6D0-109D-4ACE-95F2-360AF3738F2D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44d26"/>
                </a:solidFill>
                <a:latin typeface="Constantia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4d26"/>
                </a:solidFill>
                <a:latin typeface="Constantia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华文新魏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9B8-02F4-42A3-9B80-2E2C11FE9F82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华文新魏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50BF-C108-4586-AB26-BDEE9D11BAB5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fac9"/>
                </a:solidFill>
                <a:latin typeface="Constantia"/>
                <a:ea typeface="华文新魏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fac9"/>
                </a:solidFill>
                <a:latin typeface="Constantia"/>
                <a:ea typeface="华文新魏"/>
              </a:rPr>
              <a:t>您的姓名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陈述讨论的目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身份验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陈述将要讨论的主要构想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的详细信息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支持信息和示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与听众的关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的详细信息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支持信息和示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与听众的关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的详细信息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支持信息和示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此主题与听众的关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64008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给出一个例子或真实生活中的趣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如果恰当，引发与听众境遇上的共鸣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添加一个明确的陈述，概述您对这个主题的感受或想法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概述您希望听众记住的重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概述听众需要做出的行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  <a:ea typeface="华文新魏"/>
              </a:rPr>
              <a:t>概述您随后将要做出的行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20:51:19Z</dcterms:created>
  <dc:creator/>
  <dc:description/>
  <dc:language>en-US</dc:language>
  <cp:lastModifiedBy/>
  <dcterms:modified xsi:type="dcterms:W3CDTF">2015-07-25T06:42:55Z</dcterms:modified>
  <cp:revision>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79712052</vt:lpwstr>
  </property>
</Properties>
</file>