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04A-70FF-4C7B-B07D-F9905D10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995-CEB6-4CEE-9C03-5C873AF8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400-D268-43C2-969E-81BCD65D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7B6-3C7F-4754-B62A-CE466C49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F60-C22F-4FF2-942E-B7CD49A9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662-E00C-4F92-8937-32B204D9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CCC-3A1A-48D9-90BD-100A19FE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357-7997-4D11-98C3-0C30B660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3E6-7ED4-41AA-85DA-0E5B3F8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6FD-B273-449C-BD20-836E03D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6A3-E3B9-4D84-82D6-9F0C30C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681-52CF-4903-ABD0-3EF4983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BEF41A-C561-465B-95FB-D14A3C0011D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257360"/>
            <a:ext cx="12191760" cy="106560"/>
          </a:xfrm>
          <a:prstGeom prst="rect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文本框 25"/>
          <p:cNvSpPr/>
          <p:nvPr/>
        </p:nvSpPr>
        <p:spPr>
          <a:xfrm>
            <a:off x="10440720" y="6395400"/>
            <a:ext cx="1833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制作：</a:t>
            </a:r>
            <a:r>
              <a:rPr b="0" lang="en-US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秦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6"/>
          <p:cNvSpPr/>
          <p:nvPr/>
        </p:nvSpPr>
        <p:spPr>
          <a:xfrm>
            <a:off x="10440720" y="6021360"/>
            <a:ext cx="1833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指导：</a:t>
            </a:r>
            <a:r>
              <a:rPr b="0" lang="en-US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秋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2589480"/>
            <a:ext cx="12191760" cy="1599840"/>
          </a:xfrm>
          <a:prstGeom prst="rect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0040" y="719280"/>
            <a:ext cx="102276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乌合之众读书笔记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52680" y="3184920"/>
            <a:ext cx="3222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大众心理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0"/>
          <p:cNvSpPr/>
          <p:nvPr/>
        </p:nvSpPr>
        <p:spPr>
          <a:xfrm>
            <a:off x="4206960" y="2750760"/>
            <a:ext cx="45360" cy="1276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252680" y="2923560"/>
            <a:ext cx="3717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A Study of the Popular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252680" y="3611160"/>
            <a:ext cx="40910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]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古斯塔夫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勒庞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cover_bd4c595beccb6c1d85a8eda420104858.jpg"/>
          <p:cNvPicPr/>
          <p:nvPr/>
        </p:nvPicPr>
        <p:blipFill>
          <a:blip r:embed="rId1"/>
          <a:stretch/>
        </p:blipFill>
        <p:spPr>
          <a:xfrm>
            <a:off x="8739000" y="1679760"/>
            <a:ext cx="2329560" cy="3249000"/>
          </a:xfrm>
          <a:prstGeom prst="rect">
            <a:avLst/>
          </a:prstGeom>
          <a:ln w="0">
            <a:noFill/>
          </a:ln>
        </p:spPr>
      </p:pic>
      <p:sp>
        <p:nvSpPr>
          <p:cNvPr id="51" name="椭圆形标注 1"/>
          <p:cNvSpPr/>
          <p:nvPr/>
        </p:nvSpPr>
        <p:spPr>
          <a:xfrm>
            <a:off x="3540960" y="1733400"/>
            <a:ext cx="1170720" cy="662040"/>
          </a:xfrm>
          <a:prstGeom prst="wedgeEllipseCallout">
            <a:avLst>
              <a:gd name="adj1" fmla="val -46860"/>
              <a:gd name="adj2" fmla="val 10637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737880" y="1828800"/>
            <a:ext cx="817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摘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121320" y="556920"/>
            <a:ext cx="11948760" cy="60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8"/>
          <p:cNvSpPr/>
          <p:nvPr/>
        </p:nvSpPr>
        <p:spPr>
          <a:xfrm>
            <a:off x="0" y="3960720"/>
            <a:ext cx="12191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像暂时聚合的一群乌鸦，比喻临时杂凑的、毫无组织纪律的一群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-360" y="1689120"/>
            <a:ext cx="1219284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4507560" y="2161080"/>
            <a:ext cx="3203640" cy="2303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7" name="图片 1" descr=""/>
          <p:cNvPicPr/>
          <p:nvPr/>
        </p:nvPicPr>
        <p:blipFill>
          <a:blip r:embed="rId2"/>
          <a:srcRect l="5412" t="0" r="5236" b="0"/>
          <a:stretch/>
        </p:blipFill>
        <p:spPr>
          <a:xfrm>
            <a:off x="8332560" y="2161080"/>
            <a:ext cx="3203640" cy="2303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8" name="图片 4" descr=""/>
          <p:cNvPicPr/>
          <p:nvPr/>
        </p:nvPicPr>
        <p:blipFill>
          <a:blip r:embed="rId3"/>
          <a:srcRect l="10123" t="0" r="15552" b="0"/>
          <a:stretch/>
        </p:blipFill>
        <p:spPr>
          <a:xfrm>
            <a:off x="682560" y="2161080"/>
            <a:ext cx="3203640" cy="2303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9" name="图片 3" descr=""/>
          <p:cNvPicPr/>
          <p:nvPr/>
        </p:nvPicPr>
        <p:blipFill>
          <a:blip r:embed="rId4"/>
          <a:stretch/>
        </p:blipFill>
        <p:spPr>
          <a:xfrm>
            <a:off x="-360" y="684000"/>
            <a:ext cx="12192840" cy="963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" descr=""/>
          <p:cNvPicPr/>
          <p:nvPr/>
        </p:nvPicPr>
        <p:blipFill>
          <a:blip r:embed="rId5"/>
          <a:stretch/>
        </p:blipFill>
        <p:spPr>
          <a:xfrm>
            <a:off x="657720" y="4503240"/>
            <a:ext cx="108759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6"/>
          <p:cNvSpPr/>
          <p:nvPr/>
        </p:nvSpPr>
        <p:spPr>
          <a:xfrm>
            <a:off x="5293800" y="2320920"/>
            <a:ext cx="78411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1800" spc="-1" strike="noStrike">
                <a:solidFill>
                  <a:srgbClr val="fefe00"/>
                </a:solidFill>
                <a:latin typeface="微软雅黑"/>
                <a:ea typeface="微软雅黑"/>
              </a:rPr>
              <a:t>群体之中</a:t>
            </a:r>
            <a:r>
              <a:rPr b="1" lang="zh-CN" sz="118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"/>
          <p:cNvSpPr/>
          <p:nvPr/>
        </p:nvSpPr>
        <p:spPr>
          <a:xfrm>
            <a:off x="-191160" y="3780360"/>
            <a:ext cx="10058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那些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傻瓜、低能儿和心怀妒忌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9"/>
          <p:cNvSpPr/>
          <p:nvPr/>
        </p:nvSpPr>
        <p:spPr>
          <a:xfrm>
            <a:off x="2711160" y="4610160"/>
            <a:ext cx="10055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才能够</a:t>
            </a:r>
            <a:r>
              <a:rPr b="1" lang="zh-CN" sz="6000" spc="-1" strike="noStrike">
                <a:solidFill>
                  <a:srgbClr val="fefe00"/>
                </a:solidFill>
                <a:latin typeface="微软雅黑"/>
                <a:ea typeface="微软雅黑"/>
              </a:rPr>
              <a:t>摆脱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自己卑微无能的</a:t>
            </a:r>
            <a:r>
              <a:rPr b="1" lang="zh-CN" sz="9600" spc="-1" strike="noStrike">
                <a:solidFill>
                  <a:srgbClr val="fefe00"/>
                </a:solidFill>
                <a:latin typeface="微软雅黑"/>
                <a:ea typeface="微软雅黑"/>
              </a:rPr>
              <a:t>感觉</a:t>
            </a:r>
            <a:r>
              <a:rPr b="1" lang="zh-CN" sz="88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-191160" y="1036800"/>
            <a:ext cx="867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只要是群体产物，不管他是什么性质的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5109480" y="1333800"/>
            <a:ext cx="7254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900" spc="-1" strike="noStrike">
                <a:solidFill>
                  <a:srgbClr val="fefe00"/>
                </a:solidFill>
                <a:latin typeface="微软雅黑"/>
                <a:ea typeface="微软雅黑"/>
              </a:rPr>
              <a:t>都比独处的个体的产物要</a:t>
            </a:r>
            <a:r>
              <a:rPr b="1" lang="zh-CN" sz="5400" spc="-1" strike="noStrike">
                <a:solidFill>
                  <a:srgbClr val="fefe00"/>
                </a:solidFill>
                <a:latin typeface="微软雅黑"/>
                <a:ea typeface="微软雅黑"/>
              </a:rPr>
              <a:t>低劣得多</a:t>
            </a:r>
            <a:r>
              <a:rPr b="1" lang="zh-CN" sz="54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"/>
          <p:cNvSpPr/>
          <p:nvPr/>
        </p:nvSpPr>
        <p:spPr>
          <a:xfrm>
            <a:off x="595440" y="2212560"/>
            <a:ext cx="5131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只有身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6"/>
          <p:cNvSpPr/>
          <p:nvPr/>
        </p:nvSpPr>
        <p:spPr>
          <a:xfrm>
            <a:off x="0" y="3649680"/>
            <a:ext cx="11165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他就会意识到</a:t>
            </a:r>
            <a:r>
              <a:rPr b="1" lang="zh-CN" sz="9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人数</a:t>
            </a: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赋予他的</a:t>
            </a:r>
            <a:r>
              <a:rPr b="1" lang="zh-CN" sz="7200" spc="-1" strike="noStrike">
                <a:solidFill>
                  <a:srgbClr val="fefe00"/>
                </a:solidFill>
                <a:latin typeface="微软雅黑"/>
                <a:ea typeface="微软雅黑"/>
              </a:rPr>
              <a:t>力量</a:t>
            </a:r>
            <a:r>
              <a:rPr b="1" lang="zh-CN" sz="60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"/>
          <p:cNvSpPr/>
          <p:nvPr/>
        </p:nvSpPr>
        <p:spPr>
          <a:xfrm>
            <a:off x="0" y="1022040"/>
            <a:ext cx="2341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孤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"/>
          <p:cNvSpPr/>
          <p:nvPr/>
        </p:nvSpPr>
        <p:spPr>
          <a:xfrm>
            <a:off x="6015960" y="3497040"/>
            <a:ext cx="617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但是在成为群体的一员的时候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-769320" y="2230920"/>
            <a:ext cx="1038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即使受到这样做的</a:t>
            </a: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诱惑</a:t>
            </a:r>
            <a:r>
              <a:rPr b="1" lang="zh-CN" sz="6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"/>
          <p:cNvSpPr/>
          <p:nvPr/>
        </p:nvSpPr>
        <p:spPr>
          <a:xfrm>
            <a:off x="1812600" y="1202040"/>
            <a:ext cx="4138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的个人很清楚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3224520" y="1851840"/>
            <a:ext cx="917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在他孤身一个人的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他不能焚烧宫殿或者洗劫商店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945000" y="4824360"/>
            <a:ext cx="1127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足以让他生出杀人劫掠的念头，并且会立刻屈从于这种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诱惑</a:t>
            </a:r>
            <a:r>
              <a:rPr b="1" lang="zh-CN" sz="6000" spc="-1" strike="noStrike">
                <a:solidFill>
                  <a:srgbClr val="fefe00"/>
                </a:solidFill>
                <a:latin typeface="方正正中黑简体"/>
                <a:ea typeface="方正正中黑简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6"/>
          <p:cNvSpPr/>
          <p:nvPr/>
        </p:nvSpPr>
        <p:spPr>
          <a:xfrm>
            <a:off x="192600" y="2088360"/>
            <a:ext cx="1199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成千上万孤立的个人也会获得一个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心理群体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"/>
          <p:cNvSpPr/>
          <p:nvPr/>
        </p:nvSpPr>
        <p:spPr>
          <a:xfrm>
            <a:off x="-577440" y="3091680"/>
            <a:ext cx="8253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在这种情况下</a:t>
            </a:r>
            <a:r>
              <a:rPr b="1" lang="zh-CN" sz="88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0" y="947520"/>
            <a:ext cx="80848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700" spc="-1" strike="noStrike">
                <a:solidFill>
                  <a:srgbClr val="fefe00"/>
                </a:solidFill>
                <a:latin typeface="微软雅黑"/>
                <a:ea typeface="微软雅黑"/>
              </a:rPr>
              <a:t>有时在某种               的感情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-2261880" y="4975920"/>
            <a:ext cx="11189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从而立刻获得</a:t>
            </a: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群体行为</a:t>
            </a: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特有的属性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"/>
          <p:cNvSpPr/>
          <p:nvPr/>
        </p:nvSpPr>
        <p:spPr>
          <a:xfrm>
            <a:off x="1427760" y="4109760"/>
            <a:ext cx="11694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一个偶然事件就足以使他们</a:t>
            </a: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闻风而动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聚集在一起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2"/>
          <p:cNvSpPr/>
          <p:nvPr/>
        </p:nvSpPr>
        <p:spPr>
          <a:xfrm>
            <a:off x="2918160" y="822240"/>
            <a:ext cx="349668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狂暴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"/>
          <p:cNvSpPr/>
          <p:nvPr/>
        </p:nvSpPr>
        <p:spPr>
          <a:xfrm>
            <a:off x="5511240" y="1739520"/>
            <a:ext cx="7064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譬如国家大事</a:t>
            </a:r>
            <a:r>
              <a:rPr b="1" lang="en-US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——的影响下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7960" y="63237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6"/>
          <p:cNvSpPr/>
          <p:nvPr/>
        </p:nvSpPr>
        <p:spPr>
          <a:xfrm>
            <a:off x="3290400" y="964440"/>
            <a:ext cx="4348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对所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"/>
          <p:cNvSpPr/>
          <p:nvPr/>
        </p:nvSpPr>
        <p:spPr>
          <a:xfrm>
            <a:off x="5528880" y="857520"/>
            <a:ext cx="74102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0" spc="-1" strike="noStrike">
                <a:solidFill>
                  <a:srgbClr val="fefe00"/>
                </a:solidFill>
                <a:latin typeface="微软雅黑"/>
                <a:ea typeface="微软雅黑"/>
              </a:rPr>
              <a:t>民族而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-619920" y="1819080"/>
            <a:ext cx="1343196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追求</a:t>
            </a:r>
            <a:r>
              <a:rPr b="1" lang="zh-CN" sz="11000" spc="-1" strike="noStrike">
                <a:solidFill>
                  <a:srgbClr val="fefe00"/>
                </a:solidFill>
                <a:latin typeface="微软雅黑"/>
                <a:ea typeface="微软雅黑"/>
              </a:rPr>
              <a:t>理想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可以使其从野蛮状态走到文明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"/>
          <p:cNvSpPr/>
          <p:nvPr/>
        </p:nvSpPr>
        <p:spPr>
          <a:xfrm>
            <a:off x="2201040" y="3429360"/>
            <a:ext cx="10009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一旦这个理想变得落后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失去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优秀品质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时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404640" y="5009400"/>
            <a:ext cx="119858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是一个生命循环的过程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任何一个民族都</a:t>
            </a: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必须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要经历的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5"/>
          <p:cNvSpPr/>
          <p:nvPr/>
        </p:nvSpPr>
        <p:spPr>
          <a:xfrm>
            <a:off x="-124920" y="4502520"/>
            <a:ext cx="7996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zh-CN" sz="6000" spc="-1" strike="noStrike">
                <a:solidFill>
                  <a:srgbClr val="fefe00"/>
                </a:solidFill>
                <a:latin typeface="微软雅黑"/>
                <a:ea typeface="微软雅黑"/>
              </a:rPr>
              <a:t>就会走向衰落甚至灭亡</a:t>
            </a:r>
            <a:r>
              <a:rPr b="1" lang="zh-CN" sz="60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6"/>
          <p:cNvSpPr/>
          <p:nvPr/>
        </p:nvSpPr>
        <p:spPr>
          <a:xfrm>
            <a:off x="3400920" y="4794120"/>
            <a:ext cx="9608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是目前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个时代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的主要特征之一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3947760"/>
            <a:ext cx="11944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efe00"/>
                </a:solidFill>
                <a:latin typeface="微软雅黑"/>
                <a:ea typeface="微软雅黑"/>
              </a:rPr>
              <a:t>群体的</a:t>
            </a: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无意识行为</a:t>
            </a:r>
            <a:r>
              <a:rPr b="1" lang="zh-CN" sz="40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代替了个人的有意识行为</a:t>
            </a:r>
            <a:r>
              <a:rPr b="1" lang="zh-CN" sz="40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6367320" y="1015920"/>
            <a:ext cx="59673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600" spc="-1" strike="noStrike">
                <a:solidFill>
                  <a:srgbClr val="fefe00"/>
                </a:solidFill>
                <a:latin typeface="微软雅黑"/>
                <a:ea typeface="微软雅黑"/>
              </a:rPr>
              <a:t>在各民族的生活中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"/>
          <p:cNvSpPr/>
          <p:nvPr/>
        </p:nvSpPr>
        <p:spPr>
          <a:xfrm>
            <a:off x="-313920" y="1485360"/>
            <a:ext cx="12234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有组织的群体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历来起着重要的作用</a:t>
            </a:r>
            <a:r>
              <a:rPr b="1" lang="zh-CN" sz="44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2"/>
          <p:cNvSpPr/>
          <p:nvPr/>
        </p:nvSpPr>
        <p:spPr>
          <a:xfrm>
            <a:off x="825120" y="2439360"/>
            <a:ext cx="121024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然而</a:t>
            </a:r>
            <a:r>
              <a:rPr b="1" lang="zh-CN" sz="40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种作用从来没有像现在这样</a:t>
            </a:r>
            <a:r>
              <a:rPr b="1" lang="zh-CN" sz="11500" spc="-1" strike="noStrike">
                <a:solidFill>
                  <a:srgbClr val="fefe00"/>
                </a:solidFill>
                <a:latin typeface="微软雅黑"/>
                <a:ea typeface="微软雅黑"/>
              </a:rPr>
              <a:t>重要</a:t>
            </a:r>
            <a:r>
              <a:rPr b="1" lang="zh-CN" sz="9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-360" y="1361880"/>
            <a:ext cx="12192840" cy="49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  <Words>341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2:00:59Z</dcterms:created>
  <dc:creator>admin</dc:creator>
  <dc:description/>
  <dc:language>en-US</dc:language>
  <cp:lastModifiedBy>王玉清</cp:lastModifiedBy>
  <dcterms:modified xsi:type="dcterms:W3CDTF">2016-02-23T03:06:15Z</dcterms:modified>
  <cp:revision>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