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FAE-5977-455D-B485-7B2186E8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829152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989520"/>
            <a:ext cx="829152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7D3-5269-42C1-A899-4E8D46FB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989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989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B03-50DC-4927-B2E1-6BC51EF0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550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550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989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989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989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F75-F4FD-4697-A94A-09A6E96C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4C61-DF9C-4FCE-A81D-98A14069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550520"/>
            <a:ext cx="829152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8BDD-5357-40F9-88E7-E9A4BA01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829152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F5B0-C3C5-497F-B713-FE111654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81B8-D9F2-4F31-A50D-A2661CA6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9D71-30B1-4DA0-B9F2-1E1162E6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1920" y="47160"/>
            <a:ext cx="7118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5957-D079-414F-B68F-DE55DADC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989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A968-41BE-44A1-BD83-986D6D3F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550520"/>
            <a:ext cx="829152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47A-9C6C-430D-AAAD-BD4204E2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760" y="3989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8378-2597-47E3-ABB7-BEE41C45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989520"/>
            <a:ext cx="829152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36A9-C488-4F43-8D73-E50C1F39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829152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989520"/>
            <a:ext cx="829152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4E2B-C451-4973-9B9B-01AE951F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989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760" y="3989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E122-93F4-427F-B831-5BA812B0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720" y="1550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400" y="1550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989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720" y="3989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400" y="3989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0316-6B10-4884-BB74-D1C850E1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829152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820-7DA9-4A8A-B84F-11C9F60C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3C9-288C-4842-A66A-DE7EA626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BE6-CF18-422D-9E4F-A200E108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1920" y="47160"/>
            <a:ext cx="7118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66E6-7D8B-4AFC-9634-2B30BCBF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989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8FD-487F-4FF0-A015-C8CDD462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989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A6D-8B1A-429C-A80F-E29032ED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989520"/>
            <a:ext cx="829152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3B4-B254-4031-AB42-D0A6B941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648c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894A-0B0B-4454-8062-F83637579D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9040" y="1550520"/>
            <a:ext cx="829152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55648c"/>
              </a:buClr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a39ec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648c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9040" y="1550520"/>
            <a:ext cx="829152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55648c"/>
              </a:buClr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a39ec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20BB-DCAA-48A7-AFF5-AA9C925F00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600" y="6489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 Black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 Black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3463200" y="58428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网络科技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648c"/>
                </a:solidFill>
                <a:latin typeface="Arial Black"/>
              </a:rPr>
              <a:t>使用规范说明</a:t>
            </a: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 Black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B53-A54C-474E-88BE-7AB5336373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7:04:52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fileid">
    <vt:lpwstr>528824</vt:lpwstr>
  </property>
  <property fmtid="{D5CDD505-2E9C-101B-9397-08002B2CF9AE}" pid="4" name="name">
    <vt:lpwstr>A000120140929A70PWBG.ppt</vt:lpwstr>
  </property>
  <property fmtid="{D5CDD505-2E9C-101B-9397-08002B2CF9AE}" pid="5" name="关键字">
    <vt:lpwstr>PPT背景模板 商业科技 标屏 灰 灰色 网络 IT 水珠 科技 V2003</vt:lpwstr>
  </property>
  <property fmtid="{D5CDD505-2E9C-101B-9397-08002B2CF9AE}" pid="6" name="标题">
    <vt:lpwstr>水珠型网络科技_A000120140929A70PWBG</vt:lpwstr>
  </property>
  <property fmtid="{D5CDD505-2E9C-101B-9397-08002B2CF9AE}" pid="7" name="模板文件">
    <vt:lpwstr>A000120140929A70PWBG.ppt</vt:lpwstr>
  </property>
</Properties>
</file>