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png" ContentType="image/png"/>
  <Override PartName="/ppt/media/image22.png" ContentType="image/png"/>
  <Override PartName="/ppt/media/hdphoto4.wdp" ContentType="image/vnd.ms-photo"/>
  <Override PartName="/ppt/media/image14.png" ContentType="image/png"/>
  <Override PartName="/ppt/media/image10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hdphoto3.wdp" ContentType="image/vnd.ms-photo"/>
  <Override PartName="/ppt/media/image13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3.png" ContentType="image/png"/>
  <Override PartName="/ppt/media/image29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1.png" ContentType="image/png"/>
  <Override PartName="/ppt/media/image9.jpeg" ContentType="image/jpeg"/>
  <Override PartName="/ppt/media/hdphoto1.wdp" ContentType="image/vnd.ms-photo"/>
  <Override PartName="/ppt/media/image16.png" ContentType="image/png"/>
  <Override PartName="/ppt/media/hdphoto5.wdp" ContentType="image/vnd.ms-photo"/>
  <Override PartName="/ppt/media/image15.png" ContentType="image/png"/>
  <Override PartName="/ppt/media/image12.png" ContentType="image/png"/>
  <Override PartName="/ppt/media/hdphoto2.wdp" ContentType="image/vnd.ms-photo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EDED4F-52EE-434F-8A36-CCD6E4ECF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04CB0F-CC06-4D41-B5DF-03F53035BAD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647F-421E-4C9F-800A-7B88F147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FAAD-3B3E-4A6F-BE65-32D3936E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2C3A-E6F6-4FE3-A847-E5A5AE5B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A7B2-E351-434F-A436-1061FD41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B459-9CF9-4E25-98E5-A46E77BD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B1CB-0404-4F5D-B18C-5F13B2E4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F655-7C77-4E7A-B49F-A5B9FC4F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10A2-99A5-46F2-8464-524C14C4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8D06-1423-4F8D-97A9-B659993B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34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F9AE-2118-49B4-B3A9-DE9F2A4D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56D5-C3CB-4454-A941-1FB98A32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4770-8748-4B8A-BAB1-9F2847FE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0148-9B12-4144-89AB-8A878261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F058-CE42-49B1-9A89-4AB87335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7661-5FA2-42FC-BC1F-3500D496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32EA-AA94-4E80-9381-180C3D41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00EC-FA4A-4A9C-8A87-037EF6EF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C8086-9418-4A78-9779-B2D488B7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69BF3-FB18-4A20-B21F-28D06EC5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020C3-64A4-4D37-9561-48CCD321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B2651-3AA4-4778-BED8-C679B62B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22A1A-A3D4-4A94-8988-712EDEF3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DBC5-F799-4884-B94A-B469465B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234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E0DD1-F8BF-454D-AF5D-0CCE191D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384FC-0C55-41F5-9B00-DFDFED35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2F321-62CF-432A-A9DB-BE3D931C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52D73-742E-414A-8F19-DB27401D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A06F2-6391-4000-BF8E-6D30E73D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569BD-5E1A-4D03-9EB4-9FA2D5E6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4E69A-1FED-4155-8B62-732745E4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0A573-66C6-4A41-9EF7-C673A710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55D0C-F076-4078-8F0E-F2325731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89B5F-1A40-406B-ADEF-0139F38A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C6B-B5C5-4629-BC13-3A95B9DA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CFCB8-9F7D-4771-974D-F66F247F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12170-0F7A-4992-9CA2-A783AE94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234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0ACB4-A4CD-4D67-8DA6-C4255E6C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34C8C-1EFB-4370-889E-9BB84D9C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56647-FE64-4EAF-AB38-CEE5098C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73824-24E1-47F8-93B9-593FDABF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4BCA5-AF91-4EA0-B3A2-52684084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F110A-9EE9-4C7F-8A63-739021F3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EEE5C-B5D1-4845-B752-AFB6DEED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2B500-F2D3-41CA-8EA6-BB0EFCE6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379-F150-4FBC-8F6A-0F0A87A9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BF85C-A185-45AD-8135-3617A8F5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569AE-8B20-409F-BF72-E150294B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8AD3C-9C44-4622-9520-B5CDEC53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33FCD-76C4-4617-8E2E-D9ADD28F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1234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0EBC0-AC66-4993-A719-6BAB9C78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7716B-92F3-4F90-A7E6-D123D896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0A86A-B42F-46F0-9636-A3766D1E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CF7C4-32B1-4906-B590-351064CF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CC9D8-8D05-43D6-B7E0-F304D299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D297A-0CD3-40A9-A60E-9A6E4A6C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34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14A-BDE2-4EA0-9120-BBE53E6F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3F021-D438-4FA5-B639-3623CFDF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42ADB-37BB-4EE6-8F45-5B494900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3BFA2-FFEB-4A38-B264-7B5DDA84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4CC90-ECDE-4FD0-BBF5-5D44433C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CAEB0-138A-449C-961C-14EEED2A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D0439-8B7A-4B81-A4E2-484AA21C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234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E6904-D90F-48D2-A2C1-7FAE6235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E1AB0-62B4-4630-8B32-8EC28DBF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384FA-BDBA-477B-B689-E3FA0D1F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3A448-9E9D-401A-BFBC-147E2DDF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9A29-F129-4F43-8051-36B8FBB1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C06AF-0D8E-4C2F-83D0-08C167FB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3D648-0597-4982-9495-9F24FA97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B11DB-592B-4412-AA70-64DD4689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8A39-3D75-4C06-AFDA-3110A29D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FDC-9C45-46BE-9CE4-B868DC42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1C9CA0-5B03-4E82-8743-278C26694EA8}" type="slidenum"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0" y="0"/>
            <a:ext cx="9143640" cy="1119960"/>
          </a:xfrm>
          <a:prstGeom prst="rect">
            <a:avLst/>
          </a:prstGeom>
          <a:pattFill prst="lgGrid">
            <a:fgClr>
              <a:srgbClr val="f2dcdb"/>
            </a:fgClr>
            <a:bgClr>
              <a:srgbClr val="f2f2f2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Impact"/>
              <a:ea typeface="微软雅黑"/>
            </a:endParaRPr>
          </a:p>
        </p:txBody>
      </p:sp>
      <p:sp>
        <p:nvSpPr>
          <p:cNvPr id="42" name="弦形 7"/>
          <p:cNvSpPr/>
          <p:nvPr/>
        </p:nvSpPr>
        <p:spPr>
          <a:xfrm rot="7980000">
            <a:off x="8494560" y="864360"/>
            <a:ext cx="511560" cy="511560"/>
          </a:xfrm>
          <a:prstGeom prst="chord">
            <a:avLst>
              <a:gd name="adj1" fmla="val 2700000"/>
              <a:gd name="adj2" fmla="val 13754864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Impact"/>
              <a:ea typeface="微软雅黑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 </a:t>
            </a:r>
            <a:fld id="{BAF9BB31-476E-4508-87B7-3101A391B8CC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5"/>
          <p:cNvSpPr/>
          <p:nvPr/>
        </p:nvSpPr>
        <p:spPr>
          <a:xfrm>
            <a:off x="0" y="0"/>
            <a:ext cx="9143640" cy="1119960"/>
          </a:xfrm>
          <a:prstGeom prst="rect">
            <a:avLst/>
          </a:prstGeom>
          <a:pattFill prst="lgGrid">
            <a:fgClr>
              <a:srgbClr val="f2dcdb"/>
            </a:fgClr>
            <a:bgClr>
              <a:srgbClr val="f2f2f2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Impact"/>
              <a:ea typeface="微软雅黑"/>
            </a:endParaRPr>
          </a:p>
        </p:txBody>
      </p:sp>
      <p:sp>
        <p:nvSpPr>
          <p:cNvPr id="85" name="弦形 7"/>
          <p:cNvSpPr/>
          <p:nvPr/>
        </p:nvSpPr>
        <p:spPr>
          <a:xfrm rot="7980000">
            <a:off x="8494560" y="864360"/>
            <a:ext cx="511560" cy="511560"/>
          </a:xfrm>
          <a:prstGeom prst="chord">
            <a:avLst>
              <a:gd name="adj1" fmla="val 2700000"/>
              <a:gd name="adj2" fmla="val 13754864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Impact"/>
              <a:ea typeface="微软雅黑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 </a:t>
            </a:r>
            <a:fld id="{B4F0F559-A6A0-452C-B394-52964D15CA98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5"/>
          <p:cNvSpPr/>
          <p:nvPr/>
        </p:nvSpPr>
        <p:spPr>
          <a:xfrm>
            <a:off x="0" y="0"/>
            <a:ext cx="9143640" cy="1119960"/>
          </a:xfrm>
          <a:prstGeom prst="rect">
            <a:avLst/>
          </a:prstGeom>
          <a:pattFill prst="lgGrid">
            <a:fgClr>
              <a:srgbClr val="f2dcdb"/>
            </a:fgClr>
            <a:bgClr>
              <a:srgbClr val="f2f2f2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Impact"/>
              <a:ea typeface="微软雅黑"/>
            </a:endParaRPr>
          </a:p>
        </p:txBody>
      </p:sp>
      <p:sp>
        <p:nvSpPr>
          <p:cNvPr id="128" name="弦形 7"/>
          <p:cNvSpPr/>
          <p:nvPr/>
        </p:nvSpPr>
        <p:spPr>
          <a:xfrm rot="7980000">
            <a:off x="8494560" y="864360"/>
            <a:ext cx="511560" cy="511560"/>
          </a:xfrm>
          <a:prstGeom prst="chord">
            <a:avLst>
              <a:gd name="adj1" fmla="val 2700000"/>
              <a:gd name="adj2" fmla="val 13754864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Impact"/>
              <a:ea typeface="微软雅黑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11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2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 </a:t>
            </a:r>
            <a:fld id="{C91C4C6A-C5B5-4958-BC49-6F935F6A4C72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5"/>
          <p:cNvSpPr/>
          <p:nvPr/>
        </p:nvSpPr>
        <p:spPr>
          <a:xfrm>
            <a:off x="0" y="0"/>
            <a:ext cx="9143640" cy="1119960"/>
          </a:xfrm>
          <a:prstGeom prst="rect">
            <a:avLst/>
          </a:prstGeom>
          <a:pattFill prst="lgGrid">
            <a:fgClr>
              <a:srgbClr val="f2dcdb"/>
            </a:fgClr>
            <a:bgClr>
              <a:srgbClr val="f2f2f2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Impact"/>
              <a:ea typeface="微软雅黑"/>
            </a:endParaRPr>
          </a:p>
        </p:txBody>
      </p:sp>
      <p:sp>
        <p:nvSpPr>
          <p:cNvPr id="171" name="弦形 7"/>
          <p:cNvSpPr/>
          <p:nvPr/>
        </p:nvSpPr>
        <p:spPr>
          <a:xfrm rot="7980000">
            <a:off x="8494560" y="864360"/>
            <a:ext cx="511560" cy="511560"/>
          </a:xfrm>
          <a:prstGeom prst="chord">
            <a:avLst>
              <a:gd name="adj1" fmla="val 2700000"/>
              <a:gd name="adj2" fmla="val 13754864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Impact"/>
              <a:ea typeface="微软雅黑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4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5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 </a:t>
            </a:r>
            <a:fld id="{1D585AA6-16D5-42F9-94DC-243CBA443087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5"/>
          <p:cNvSpPr/>
          <p:nvPr/>
        </p:nvSpPr>
        <p:spPr>
          <a:xfrm>
            <a:off x="0" y="0"/>
            <a:ext cx="9143640" cy="1119960"/>
          </a:xfrm>
          <a:prstGeom prst="rect">
            <a:avLst/>
          </a:prstGeom>
          <a:pattFill prst="lgGrid">
            <a:fgClr>
              <a:srgbClr val="f2dcdb"/>
            </a:fgClr>
            <a:bgClr>
              <a:srgbClr val="f2f2f2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Impact"/>
              <a:ea typeface="微软雅黑"/>
            </a:endParaRPr>
          </a:p>
        </p:txBody>
      </p:sp>
      <p:sp>
        <p:nvSpPr>
          <p:cNvPr id="214" name="弦形 7"/>
          <p:cNvSpPr/>
          <p:nvPr/>
        </p:nvSpPr>
        <p:spPr>
          <a:xfrm rot="7980000">
            <a:off x="8494560" y="864360"/>
            <a:ext cx="511560" cy="511560"/>
          </a:xfrm>
          <a:prstGeom prst="chord">
            <a:avLst>
              <a:gd name="adj1" fmla="val 2700000"/>
              <a:gd name="adj2" fmla="val 13754864"/>
            </a:avLst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Impact"/>
              <a:ea typeface="微软雅黑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7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8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 </a:t>
            </a:r>
            <a:fld id="{882426F9-388E-4ED9-B021-39719D0621E1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400" indent="-307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820800" indent="-307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2" marL="1231200" indent="-273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3" marL="1641600" indent="-205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20520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24624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2872800" indent="-205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microsoft.com/office/2007/relationships/hdphoto" Target="../media/hdphoto2.wdp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microsoft.com/office/2007/relationships/hdphoto" Target="../media/hdphoto3.wdp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microsoft.com/office/2007/relationships/hdphoto" Target="../media/hdphoto4.wdp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microsoft.com/office/2007/relationships/hdphoto" Target="../media/hdphoto5.wdp"/><Relationship Id="rId6" Type="http://schemas.openxmlformats.org/officeDocument/2006/relationships/image" Target="../media/image29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microsoft.com/office/2007/relationships/hdphoto" Target="../media/hdphoto1.wdp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7"/>
          <p:cNvSpPr/>
          <p:nvPr/>
        </p:nvSpPr>
        <p:spPr>
          <a:xfrm>
            <a:off x="6948360" y="0"/>
            <a:ext cx="2195280" cy="5143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Impact"/>
              <a:ea typeface="微软雅黑"/>
            </a:endParaRPr>
          </a:p>
        </p:txBody>
      </p:sp>
      <p:grpSp>
        <p:nvGrpSpPr>
          <p:cNvPr id="263" name="组合 8"/>
          <p:cNvGrpSpPr/>
          <p:nvPr/>
        </p:nvGrpSpPr>
        <p:grpSpPr>
          <a:xfrm>
            <a:off x="468000" y="363960"/>
            <a:ext cx="4720320" cy="4914000"/>
            <a:chOff x="468000" y="363960"/>
            <a:chExt cx="4720320" cy="4914000"/>
          </a:xfrm>
        </p:grpSpPr>
        <p:sp>
          <p:nvSpPr>
            <p:cNvPr id="264" name="TextBox 3"/>
            <p:cNvSpPr txBox="1"/>
            <p:nvPr/>
          </p:nvSpPr>
          <p:spPr>
            <a:xfrm>
              <a:off x="2529000" y="1546920"/>
              <a:ext cx="2305800" cy="133632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Stop">
                <a:avLst>
                  <a:gd name="adj" fmla="val 125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400" spc="-1" strike="noStrike">
                  <a:ln w="0">
                    <a:noFill/>
                  </a:ln>
                  <a:solidFill>
                    <a:srgbClr val="262626"/>
                  </a:solidFill>
                  <a:latin typeface="Impact"/>
                  <a:ea typeface="微软雅黑"/>
                </a:rPr>
                <a:t>MBTI</a:t>
              </a:r>
              <a:endParaRPr b="0" lang="en-US" sz="4400" spc="-1" strike="noStrike">
                <a:ln w="0">
                  <a:noFill/>
                </a:ln>
                <a:solidFill>
                  <a:srgbClr val="262626"/>
                </a:solidFill>
                <a:latin typeface="Arial"/>
              </a:endParaRPr>
            </a:p>
          </p:txBody>
        </p:sp>
        <p:pic>
          <p:nvPicPr>
            <p:cNvPr id="265" name="图片 5" descr=""/>
            <p:cNvPicPr/>
            <p:nvPr/>
          </p:nvPicPr>
          <p:blipFill>
            <a:blip r:embed="rId1"/>
            <a:srcRect l="0" t="0" r="36816" b="6824"/>
            <a:stretch/>
          </p:blipFill>
          <p:spPr>
            <a:xfrm flipH="1">
              <a:off x="468000" y="363960"/>
              <a:ext cx="4720320" cy="491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椭圆 10"/>
          <p:cNvSpPr/>
          <p:nvPr/>
        </p:nvSpPr>
        <p:spPr>
          <a:xfrm>
            <a:off x="6651720" y="4155840"/>
            <a:ext cx="688320" cy="688320"/>
          </a:xfrm>
          <a:prstGeom prst="ellipse">
            <a:avLst/>
          </a:prstGeom>
          <a:solidFill>
            <a:srgbClr val="00206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行楷简体"/>
                <a:ea typeface="方正行楷简体"/>
              </a:rPr>
              <a:t>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6548040" y="650160"/>
            <a:ext cx="399600" cy="29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262626"/>
                </a:solidFill>
                <a:latin typeface="Impact"/>
                <a:ea typeface="微软雅黑"/>
              </a:rPr>
              <a:t>应芳萍   </a:t>
            </a:r>
            <a:r>
              <a:rPr b="0" lang="en-US" sz="1400" spc="-1" strike="noStrike">
                <a:solidFill>
                  <a:srgbClr val="262626"/>
                </a:solidFill>
                <a:latin typeface="Impact"/>
                <a:ea typeface="微软雅黑"/>
              </a:rPr>
              <a:t>JOYCE   </a:t>
            </a:r>
            <a:r>
              <a:rPr b="0" lang="zh-CN" sz="1400" spc="-1" strike="noStrike">
                <a:solidFill>
                  <a:srgbClr val="262626"/>
                </a:solidFill>
                <a:latin typeface="Impact"/>
                <a:ea typeface="微软雅黑"/>
              </a:rPr>
              <a:t>启迪学堂特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"/>
          <p:cNvSpPr/>
          <p:nvPr/>
        </p:nvSpPr>
        <p:spPr>
          <a:xfrm>
            <a:off x="1782000" y="55800"/>
            <a:ext cx="528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262626"/>
                </a:solidFill>
                <a:latin typeface="华康俪金黑W8"/>
                <a:ea typeface="华康俪金黑W8"/>
              </a:rPr>
              <a:t>性格放大镜通用</a:t>
            </a:r>
            <a:r>
              <a:rPr b="0" lang="en-US" sz="4000" spc="-1" strike="noStrike">
                <a:solidFill>
                  <a:srgbClr val="262626"/>
                </a:solidFill>
                <a:latin typeface="华康俪金黑W8"/>
                <a:ea typeface="华康俪金黑W8"/>
              </a:rPr>
              <a:t>PPT</a:t>
            </a:r>
            <a:r>
              <a:rPr b="0" lang="zh-CN" sz="4000" spc="-1" strike="noStrike">
                <a:solidFill>
                  <a:srgbClr val="262626"/>
                </a:solidFill>
                <a:latin typeface="华康俪金黑W8"/>
                <a:ea typeface="华康俪金黑W8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2"/>
          <p:cNvSpPr/>
          <p:nvPr/>
        </p:nvSpPr>
        <p:spPr>
          <a:xfrm>
            <a:off x="287280" y="47905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EST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劣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ldNum" idx="28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9D8209D-9068-4C19-996F-6307E9AD17DD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100000" contrast="-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17240" y="1486080"/>
            <a:ext cx="2138400" cy="3649680"/>
          </a:xfrm>
          <a:prstGeom prst="rect">
            <a:avLst/>
          </a:prstGeom>
          <a:ln w="0">
            <a:noFill/>
          </a:ln>
        </p:spPr>
      </p:pic>
      <p:grpSp>
        <p:nvGrpSpPr>
          <p:cNvPr id="386" name="组合 8"/>
          <p:cNvGrpSpPr/>
          <p:nvPr/>
        </p:nvGrpSpPr>
        <p:grpSpPr>
          <a:xfrm>
            <a:off x="2821320" y="1419480"/>
            <a:ext cx="6070680" cy="1063080"/>
            <a:chOff x="2821320" y="1419480"/>
            <a:chExt cx="6070680" cy="1063080"/>
          </a:xfrm>
        </p:grpSpPr>
        <p:sp>
          <p:nvSpPr>
            <p:cNvPr id="387" name="矩形 5"/>
            <p:cNvSpPr/>
            <p:nvPr/>
          </p:nvSpPr>
          <p:spPr>
            <a:xfrm>
              <a:off x="2821320" y="1419480"/>
              <a:ext cx="1001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团队方面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6"/>
            <p:cNvSpPr/>
            <p:nvPr/>
          </p:nvSpPr>
          <p:spPr>
            <a:xfrm>
              <a:off x="4049640" y="1419480"/>
              <a:ext cx="484236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不喜欢参与式的管理，认为团队妨碍有效的工作，工作最好由个人独立完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管理风格比较突兀、直接、不合常规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89" name="直接连接符 7"/>
          <p:cNvCxnSpPr/>
          <p:nvPr/>
        </p:nvCxnSpPr>
        <p:spPr>
          <a:xfrm>
            <a:off x="2555640" y="3096000"/>
            <a:ext cx="6372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grpSp>
        <p:nvGrpSpPr>
          <p:cNvPr id="390" name="组合 4"/>
          <p:cNvGrpSpPr/>
          <p:nvPr/>
        </p:nvGrpSpPr>
        <p:grpSpPr>
          <a:xfrm>
            <a:off x="2821320" y="3202920"/>
            <a:ext cx="5836320" cy="1063080"/>
            <a:chOff x="2821320" y="3202920"/>
            <a:chExt cx="5836320" cy="1063080"/>
          </a:xfrm>
        </p:grpSpPr>
        <p:sp>
          <p:nvSpPr>
            <p:cNvPr id="391" name="矩形 9"/>
            <p:cNvSpPr/>
            <p:nvPr/>
          </p:nvSpPr>
          <p:spPr>
            <a:xfrm>
              <a:off x="2821320" y="3202920"/>
              <a:ext cx="1001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个人方面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10"/>
            <p:cNvSpPr/>
            <p:nvPr/>
          </p:nvSpPr>
          <p:spPr>
            <a:xfrm>
              <a:off x="4049640" y="3202920"/>
              <a:ext cx="460800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喜欢刺激，对工作和管理，一旦兴趣消除，耐心也就到头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讨厌的三件事情：规定、行政工作和文书工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3" name="直接连接符 14"/>
          <p:cNvCxnSpPr/>
          <p:nvPr/>
        </p:nvCxnSpPr>
        <p:spPr>
          <a:xfrm>
            <a:off x="2555640" y="4803840"/>
            <a:ext cx="6372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ISFP — </a:t>
            </a:r>
            <a:r>
              <a:rPr b="0" lang="zh-CN" sz="3600" spc="-1" strike="noStrike">
                <a:solidFill>
                  <a:srgbClr val="c00000"/>
                </a:solidFill>
                <a:latin typeface="华康俪金黑W8"/>
                <a:ea typeface="华康俪金黑W8"/>
              </a:rPr>
              <a:t>行动胜于语言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166104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346680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6"/>
          <p:cNvSpPr/>
          <p:nvPr/>
        </p:nvSpPr>
        <p:spPr>
          <a:xfrm>
            <a:off x="527868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7"/>
          <p:cNvSpPr/>
          <p:nvPr/>
        </p:nvSpPr>
        <p:spPr>
          <a:xfrm>
            <a:off x="718704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8"/>
          <p:cNvSpPr/>
          <p:nvPr/>
        </p:nvSpPr>
        <p:spPr>
          <a:xfrm>
            <a:off x="250992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9"/>
          <p:cNvSpPr/>
          <p:nvPr/>
        </p:nvSpPr>
        <p:spPr>
          <a:xfrm>
            <a:off x="435204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0"/>
          <p:cNvSpPr/>
          <p:nvPr/>
        </p:nvSpPr>
        <p:spPr>
          <a:xfrm>
            <a:off x="619416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1"/>
          <p:cNvSpPr/>
          <p:nvPr/>
        </p:nvSpPr>
        <p:spPr>
          <a:xfrm>
            <a:off x="611640" y="3200760"/>
            <a:ext cx="189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I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关注世界多于外部世界，追求自己内心世界的有序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2"/>
          <p:cNvSpPr/>
          <p:nvPr/>
        </p:nvSpPr>
        <p:spPr>
          <a:xfrm>
            <a:off x="2832480" y="4076640"/>
            <a:ext cx="2077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S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关注可以触摸的、直接的、实实在在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4"/>
          <p:cNvSpPr/>
          <p:nvPr/>
        </p:nvSpPr>
        <p:spPr>
          <a:xfrm>
            <a:off x="4212000" y="3180960"/>
            <a:ext cx="2058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F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决策过程中情感方面的因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5"/>
          <p:cNvSpPr/>
          <p:nvPr/>
        </p:nvSpPr>
        <p:spPr>
          <a:xfrm>
            <a:off x="6456960" y="4076640"/>
            <a:ext cx="2197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P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非常开放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曲线连接符 17"/>
          <p:cNvCxnSpPr>
            <a:stCxn id="396" idx="2"/>
            <a:endCxn id="403" idx="1"/>
          </p:cNvCxnSpPr>
          <p:nvPr/>
        </p:nvCxnSpPr>
        <p:spPr>
          <a:xfrm flipV="1" rot="10800000">
            <a:off x="2832120" y="2959200"/>
            <a:ext cx="922320" cy="140976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407" name="曲线连接符 18"/>
          <p:cNvCxnSpPr>
            <a:endCxn id="402" idx="0"/>
          </p:cNvCxnSpPr>
          <p:nvPr/>
        </p:nvCxnSpPr>
        <p:spPr>
          <a:xfrm flipV="1" rot="10800000">
            <a:off x="1560600" y="2886480"/>
            <a:ext cx="311400" cy="31428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408" name="曲线连接符 21"/>
          <p:cNvCxnSpPr>
            <a:endCxn id="404" idx="0"/>
          </p:cNvCxnSpPr>
          <p:nvPr/>
        </p:nvCxnSpPr>
        <p:spPr>
          <a:xfrm flipV="1" rot="10800000">
            <a:off x="5240880" y="2824920"/>
            <a:ext cx="109440" cy="35568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409" name="曲线连接符 24"/>
          <p:cNvCxnSpPr>
            <a:stCxn id="398" idx="2"/>
            <a:endCxn id="405" idx="1"/>
          </p:cNvCxnSpPr>
          <p:nvPr/>
        </p:nvCxnSpPr>
        <p:spPr>
          <a:xfrm flipV="1" rot="10800000">
            <a:off x="6456960" y="2959200"/>
            <a:ext cx="1018440" cy="128664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sp>
        <p:nvSpPr>
          <p:cNvPr id="410" name="PlaceHolder 2"/>
          <p:cNvSpPr>
            <a:spLocks noGrp="1"/>
          </p:cNvSpPr>
          <p:nvPr>
            <p:ph type="sldNum" idx="29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1079A15-866C-4C16-A6F9-5ED1F2458EAE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ISF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优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ldNum" idx="30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13513E4-D978-41ED-A5ED-8AC690710A78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组合 17"/>
          <p:cNvGrpSpPr/>
          <p:nvPr/>
        </p:nvGrpSpPr>
        <p:grpSpPr>
          <a:xfrm>
            <a:off x="3223800" y="1434240"/>
            <a:ext cx="3018240" cy="645840"/>
            <a:chOff x="3223800" y="1434240"/>
            <a:chExt cx="3018240" cy="645840"/>
          </a:xfrm>
        </p:grpSpPr>
        <p:pic>
          <p:nvPicPr>
            <p:cNvPr id="414" name="图片 4" descr=""/>
            <p:cNvPicPr/>
            <p:nvPr/>
          </p:nvPicPr>
          <p:blipFill>
            <a:blip r:embed="rId1"/>
            <a:stretch/>
          </p:blipFill>
          <p:spPr>
            <a:xfrm>
              <a:off x="3223800" y="1444320"/>
              <a:ext cx="860760" cy="6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矩形 8"/>
            <p:cNvSpPr/>
            <p:nvPr/>
          </p:nvSpPr>
          <p:spPr>
            <a:xfrm>
              <a:off x="4460760" y="1434240"/>
              <a:ext cx="17812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1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注重细节，立即行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6" name="直接连接符 10"/>
          <p:cNvCxnSpPr/>
          <p:nvPr/>
        </p:nvCxnSpPr>
        <p:spPr>
          <a:xfrm>
            <a:off x="2915640" y="2210400"/>
            <a:ext cx="5976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grpSp>
        <p:nvGrpSpPr>
          <p:cNvPr id="417" name="组合 18"/>
          <p:cNvGrpSpPr/>
          <p:nvPr/>
        </p:nvGrpSpPr>
        <p:grpSpPr>
          <a:xfrm>
            <a:off x="3239640" y="2340720"/>
            <a:ext cx="3143880" cy="645840"/>
            <a:chOff x="3239640" y="2340720"/>
            <a:chExt cx="3143880" cy="645840"/>
          </a:xfrm>
        </p:grpSpPr>
        <p:pic>
          <p:nvPicPr>
            <p:cNvPr id="418" name="图片 6" descr=""/>
            <p:cNvPicPr/>
            <p:nvPr/>
          </p:nvPicPr>
          <p:blipFill>
            <a:blip r:embed="rId2"/>
            <a:stretch/>
          </p:blipFill>
          <p:spPr>
            <a:xfrm>
              <a:off x="3239640" y="2366280"/>
              <a:ext cx="780120" cy="62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矩形 11"/>
            <p:cNvSpPr/>
            <p:nvPr/>
          </p:nvSpPr>
          <p:spPr>
            <a:xfrm>
              <a:off x="5731560" y="2340720"/>
              <a:ext cx="6519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2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谨慎、亲和的风格是组织中必须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19"/>
          <p:cNvGrpSpPr/>
          <p:nvPr/>
        </p:nvGrpSpPr>
        <p:grpSpPr>
          <a:xfrm>
            <a:off x="3272400" y="3246840"/>
            <a:ext cx="5691600" cy="1276920"/>
            <a:chOff x="3272400" y="3246840"/>
            <a:chExt cx="5691600" cy="1276920"/>
          </a:xfrm>
        </p:grpSpPr>
        <p:pic>
          <p:nvPicPr>
            <p:cNvPr id="421" name="图片 5" descr=""/>
            <p:cNvPicPr/>
            <p:nvPr/>
          </p:nvPicPr>
          <p:blipFill>
            <a:blip r:embed="rId3"/>
            <a:stretch/>
          </p:blipFill>
          <p:spPr>
            <a:xfrm>
              <a:off x="3272400" y="3786480"/>
              <a:ext cx="747360" cy="73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矩形 12"/>
            <p:cNvSpPr/>
            <p:nvPr/>
          </p:nvSpPr>
          <p:spPr>
            <a:xfrm>
              <a:off x="4114800" y="3246840"/>
              <a:ext cx="4849200" cy="12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3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人际方面的天生优势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支持和帮助他人；为看似僵化的项目和人际找到解决方案；双赢的谈判；分步骤的进行某个项目；用有效的沟通方式解决问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23" name="直接连接符 14"/>
          <p:cNvCxnSpPr/>
          <p:nvPr/>
        </p:nvCxnSpPr>
        <p:spPr>
          <a:xfrm>
            <a:off x="2915640" y="3116880"/>
            <a:ext cx="5976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cxnSp>
        <p:nvCxnSpPr>
          <p:cNvPr id="424" name="直接连接符 15"/>
          <p:cNvCxnSpPr/>
          <p:nvPr/>
        </p:nvCxnSpPr>
        <p:spPr>
          <a:xfrm>
            <a:off x="2915640" y="4947840"/>
            <a:ext cx="5976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pic>
        <p:nvPicPr>
          <p:cNvPr id="425" name="图片 21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5">
                    <a14:imgEffect>
                      <a14:brightnessContrast bright="-100000" contrast="-10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360" y="1232640"/>
            <a:ext cx="2915280" cy="39103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9"/>
          <p:cNvSpPr/>
          <p:nvPr/>
        </p:nvSpPr>
        <p:spPr>
          <a:xfrm>
            <a:off x="17280" y="47718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ISF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劣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Num" idx="31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3AFB77B-1A1B-4BFD-B64E-58C3DFD04BB2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100000" contrast="-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17240" y="1486080"/>
            <a:ext cx="2138400" cy="3649680"/>
          </a:xfrm>
          <a:prstGeom prst="rect">
            <a:avLst/>
          </a:prstGeom>
          <a:ln w="0">
            <a:noFill/>
          </a:ln>
        </p:spPr>
      </p:pic>
      <p:grpSp>
        <p:nvGrpSpPr>
          <p:cNvPr id="430" name="组合 8"/>
          <p:cNvGrpSpPr/>
          <p:nvPr/>
        </p:nvGrpSpPr>
        <p:grpSpPr>
          <a:xfrm>
            <a:off x="2821320" y="1419480"/>
            <a:ext cx="6070680" cy="1063080"/>
            <a:chOff x="2821320" y="1419480"/>
            <a:chExt cx="6070680" cy="1063080"/>
          </a:xfrm>
        </p:grpSpPr>
        <p:sp>
          <p:nvSpPr>
            <p:cNvPr id="431" name="矩形 5"/>
            <p:cNvSpPr/>
            <p:nvPr/>
          </p:nvSpPr>
          <p:spPr>
            <a:xfrm>
              <a:off x="2821320" y="1419480"/>
              <a:ext cx="1001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团队方面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6"/>
            <p:cNvSpPr/>
            <p:nvPr/>
          </p:nvSpPr>
          <p:spPr>
            <a:xfrm>
              <a:off x="4049640" y="1419480"/>
              <a:ext cx="484236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喜欢无为的管理方式，用关系做工作接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反感例行公事和照章办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33" name="直接连接符 7"/>
          <p:cNvCxnSpPr/>
          <p:nvPr/>
        </p:nvCxnSpPr>
        <p:spPr>
          <a:xfrm>
            <a:off x="2555640" y="2526840"/>
            <a:ext cx="6372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grpSp>
        <p:nvGrpSpPr>
          <p:cNvPr id="434" name="组合 4"/>
          <p:cNvGrpSpPr/>
          <p:nvPr/>
        </p:nvGrpSpPr>
        <p:grpSpPr>
          <a:xfrm>
            <a:off x="2821320" y="2632680"/>
            <a:ext cx="5836320" cy="1063080"/>
            <a:chOff x="2821320" y="2632680"/>
            <a:chExt cx="5836320" cy="1063080"/>
          </a:xfrm>
        </p:grpSpPr>
        <p:sp>
          <p:nvSpPr>
            <p:cNvPr id="435" name="矩形 9"/>
            <p:cNvSpPr/>
            <p:nvPr/>
          </p:nvSpPr>
          <p:spPr>
            <a:xfrm>
              <a:off x="2821320" y="2632680"/>
              <a:ext cx="1001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个人方面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矩形 10"/>
            <p:cNvSpPr/>
            <p:nvPr/>
          </p:nvSpPr>
          <p:spPr>
            <a:xfrm>
              <a:off x="4049640" y="2632680"/>
              <a:ext cx="460800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缺乏注意力，会失去对高生产力的兴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不擅于解决系统和根本的问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37" name="直接连接符 14"/>
          <p:cNvCxnSpPr/>
          <p:nvPr/>
        </p:nvCxnSpPr>
        <p:spPr>
          <a:xfrm>
            <a:off x="2555640" y="3734640"/>
            <a:ext cx="6372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grpSp>
        <p:nvGrpSpPr>
          <p:cNvPr id="438" name="组合 12"/>
          <p:cNvGrpSpPr/>
          <p:nvPr/>
        </p:nvGrpSpPr>
        <p:grpSpPr>
          <a:xfrm>
            <a:off x="2821320" y="3840480"/>
            <a:ext cx="5836320" cy="638280"/>
            <a:chOff x="2821320" y="3840480"/>
            <a:chExt cx="5836320" cy="638280"/>
          </a:xfrm>
        </p:grpSpPr>
        <p:sp>
          <p:nvSpPr>
            <p:cNvPr id="439" name="矩形 13"/>
            <p:cNvSpPr/>
            <p:nvPr/>
          </p:nvSpPr>
          <p:spPr>
            <a:xfrm>
              <a:off x="2821320" y="3840480"/>
              <a:ext cx="1001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压力方面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15"/>
            <p:cNvSpPr/>
            <p:nvPr/>
          </p:nvSpPr>
          <p:spPr>
            <a:xfrm>
              <a:off x="4049640" y="3840480"/>
              <a:ext cx="460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对高业绩和高要求被强加时，压力会导致他们生病、沮丧，甚至是严重的抑郁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41" name="直接连接符 16"/>
          <p:cNvCxnSpPr/>
          <p:nvPr/>
        </p:nvCxnSpPr>
        <p:spPr>
          <a:xfrm>
            <a:off x="2555640" y="4947840"/>
            <a:ext cx="6372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ISTP — </a:t>
            </a:r>
            <a:r>
              <a:rPr b="0" lang="zh-CN" sz="3600" spc="-1" strike="noStrike">
                <a:solidFill>
                  <a:srgbClr val="c00000"/>
                </a:solidFill>
                <a:latin typeface="华康俪金黑W8"/>
                <a:ea typeface="华康俪金黑W8"/>
              </a:rPr>
              <a:t>干起来吧！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3" name="TextBox 4"/>
          <p:cNvSpPr/>
          <p:nvPr/>
        </p:nvSpPr>
        <p:spPr>
          <a:xfrm>
            <a:off x="166104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346680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6"/>
          <p:cNvSpPr/>
          <p:nvPr/>
        </p:nvSpPr>
        <p:spPr>
          <a:xfrm>
            <a:off x="527868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7"/>
          <p:cNvSpPr/>
          <p:nvPr/>
        </p:nvSpPr>
        <p:spPr>
          <a:xfrm>
            <a:off x="718704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8"/>
          <p:cNvSpPr/>
          <p:nvPr/>
        </p:nvSpPr>
        <p:spPr>
          <a:xfrm>
            <a:off x="250992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9"/>
          <p:cNvSpPr/>
          <p:nvPr/>
        </p:nvSpPr>
        <p:spPr>
          <a:xfrm>
            <a:off x="435204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0"/>
          <p:cNvSpPr/>
          <p:nvPr/>
        </p:nvSpPr>
        <p:spPr>
          <a:xfrm>
            <a:off x="619416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1"/>
          <p:cNvSpPr/>
          <p:nvPr/>
        </p:nvSpPr>
        <p:spPr>
          <a:xfrm>
            <a:off x="899640" y="3200760"/>
            <a:ext cx="17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I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内向，很难被人读懂，不喜欢抛头露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2"/>
          <p:cNvSpPr/>
          <p:nvPr/>
        </p:nvSpPr>
        <p:spPr>
          <a:xfrm>
            <a:off x="2832480" y="4076640"/>
            <a:ext cx="2077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S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对实际事物的喜欢，对现在的关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4"/>
          <p:cNvSpPr/>
          <p:nvPr/>
        </p:nvSpPr>
        <p:spPr>
          <a:xfrm>
            <a:off x="4212000" y="3180960"/>
            <a:ext cx="2058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T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做出的决定客观公正，个人感情色彩，建立在分析的基础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5"/>
          <p:cNvSpPr/>
          <p:nvPr/>
        </p:nvSpPr>
        <p:spPr>
          <a:xfrm>
            <a:off x="6456960" y="4076640"/>
            <a:ext cx="2197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P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日常生活中是即兴的、灵活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4" name="曲线连接符 17"/>
          <p:cNvCxnSpPr>
            <a:stCxn id="444" idx="2"/>
            <a:endCxn id="451" idx="1"/>
          </p:cNvCxnSpPr>
          <p:nvPr/>
        </p:nvCxnSpPr>
        <p:spPr>
          <a:xfrm flipV="1" rot="10800000">
            <a:off x="2832120" y="2959200"/>
            <a:ext cx="922320" cy="140976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455" name="曲线连接符 18"/>
          <p:cNvCxnSpPr>
            <a:endCxn id="450" idx="0"/>
          </p:cNvCxnSpPr>
          <p:nvPr/>
        </p:nvCxnSpPr>
        <p:spPr>
          <a:xfrm flipV="1" rot="10800000">
            <a:off x="1763640" y="2886480"/>
            <a:ext cx="108360" cy="31428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456" name="曲线连接符 21"/>
          <p:cNvCxnSpPr>
            <a:endCxn id="452" idx="0"/>
          </p:cNvCxnSpPr>
          <p:nvPr/>
        </p:nvCxnSpPr>
        <p:spPr>
          <a:xfrm flipV="1" rot="10800000">
            <a:off x="5240880" y="2824920"/>
            <a:ext cx="109440" cy="35568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457" name="曲线连接符 24"/>
          <p:cNvCxnSpPr>
            <a:stCxn id="446" idx="2"/>
            <a:endCxn id="453" idx="1"/>
          </p:cNvCxnSpPr>
          <p:nvPr/>
        </p:nvCxnSpPr>
        <p:spPr>
          <a:xfrm flipV="1" rot="10800000">
            <a:off x="6456960" y="2959200"/>
            <a:ext cx="1018440" cy="140976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sp>
        <p:nvSpPr>
          <p:cNvPr id="458" name="PlaceHolder 2"/>
          <p:cNvSpPr>
            <a:spLocks noGrp="1"/>
          </p:cNvSpPr>
          <p:nvPr>
            <p:ph type="sldNum" idx="32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617C1BE-789E-4953-A296-90E559F9E969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IST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优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ldNum" idx="33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F7636B5-874F-4561-BC09-8FB3BB0D0C35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组合 17"/>
          <p:cNvGrpSpPr/>
          <p:nvPr/>
        </p:nvGrpSpPr>
        <p:grpSpPr>
          <a:xfrm>
            <a:off x="3120840" y="1434240"/>
            <a:ext cx="3570120" cy="653040"/>
            <a:chOff x="3120840" y="1434240"/>
            <a:chExt cx="3570120" cy="653040"/>
          </a:xfrm>
        </p:grpSpPr>
        <p:pic>
          <p:nvPicPr>
            <p:cNvPr id="462" name="图片 4" descr=""/>
            <p:cNvPicPr/>
            <p:nvPr/>
          </p:nvPicPr>
          <p:blipFill>
            <a:blip r:embed="rId1"/>
            <a:stretch/>
          </p:blipFill>
          <p:spPr>
            <a:xfrm>
              <a:off x="3120840" y="1493640"/>
              <a:ext cx="55080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矩形 8"/>
            <p:cNvSpPr/>
            <p:nvPr/>
          </p:nvSpPr>
          <p:spPr>
            <a:xfrm>
              <a:off x="4498200" y="1434240"/>
              <a:ext cx="21927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1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感官敏感，追求准确和完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64" name="直接连接符 10"/>
          <p:cNvCxnSpPr/>
          <p:nvPr/>
        </p:nvCxnSpPr>
        <p:spPr>
          <a:xfrm>
            <a:off x="2772360" y="2162520"/>
            <a:ext cx="5976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grpSp>
        <p:nvGrpSpPr>
          <p:cNvPr id="465" name="组合 18"/>
          <p:cNvGrpSpPr/>
          <p:nvPr/>
        </p:nvGrpSpPr>
        <p:grpSpPr>
          <a:xfrm>
            <a:off x="3104640" y="2329920"/>
            <a:ext cx="4704120" cy="638280"/>
            <a:chOff x="3104640" y="2329920"/>
            <a:chExt cx="4704120" cy="638280"/>
          </a:xfrm>
        </p:grpSpPr>
        <p:pic>
          <p:nvPicPr>
            <p:cNvPr id="466" name="图片 6" descr=""/>
            <p:cNvPicPr/>
            <p:nvPr/>
          </p:nvPicPr>
          <p:blipFill>
            <a:blip r:embed="rId2"/>
            <a:stretch/>
          </p:blipFill>
          <p:spPr>
            <a:xfrm>
              <a:off x="3104640" y="2531520"/>
              <a:ext cx="56700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矩形 11"/>
            <p:cNvSpPr/>
            <p:nvPr/>
          </p:nvSpPr>
          <p:spPr>
            <a:xfrm>
              <a:off x="4793040" y="2329920"/>
              <a:ext cx="3015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2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能及时完成工作，喜欢能自我发挥的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组合 19"/>
          <p:cNvGrpSpPr/>
          <p:nvPr/>
        </p:nvGrpSpPr>
        <p:grpSpPr>
          <a:xfrm>
            <a:off x="3100680" y="3310560"/>
            <a:ext cx="4159080" cy="638280"/>
            <a:chOff x="3100680" y="3310560"/>
            <a:chExt cx="4159080" cy="638280"/>
          </a:xfrm>
        </p:grpSpPr>
        <p:pic>
          <p:nvPicPr>
            <p:cNvPr id="469" name="图片 5" descr=""/>
            <p:cNvPicPr/>
            <p:nvPr/>
          </p:nvPicPr>
          <p:blipFill>
            <a:blip r:embed="rId3"/>
            <a:stretch/>
          </p:blipFill>
          <p:spPr>
            <a:xfrm>
              <a:off x="3100680" y="3473280"/>
              <a:ext cx="612360" cy="3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矩形 12"/>
            <p:cNvSpPr/>
            <p:nvPr/>
          </p:nvSpPr>
          <p:spPr>
            <a:xfrm>
              <a:off x="4655520" y="3310560"/>
              <a:ext cx="26042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3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冷静的思考，迅速务实地解决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组合 20"/>
          <p:cNvGrpSpPr/>
          <p:nvPr/>
        </p:nvGrpSpPr>
        <p:grpSpPr>
          <a:xfrm>
            <a:off x="3144240" y="4206240"/>
            <a:ext cx="3192480" cy="652680"/>
            <a:chOff x="3144240" y="4206240"/>
            <a:chExt cx="3192480" cy="652680"/>
          </a:xfrm>
        </p:grpSpPr>
        <p:pic>
          <p:nvPicPr>
            <p:cNvPr id="472" name="图片 7" descr=""/>
            <p:cNvPicPr/>
            <p:nvPr/>
          </p:nvPicPr>
          <p:blipFill>
            <a:blip r:embed="rId4"/>
            <a:stretch/>
          </p:blipFill>
          <p:spPr>
            <a:xfrm>
              <a:off x="3144240" y="4206240"/>
              <a:ext cx="54324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矩形 13"/>
            <p:cNvSpPr/>
            <p:nvPr/>
          </p:nvSpPr>
          <p:spPr>
            <a:xfrm>
              <a:off x="4418280" y="4212720"/>
              <a:ext cx="19184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4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擅于收集各种技术信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74" name="直接连接符 14"/>
          <p:cNvCxnSpPr/>
          <p:nvPr/>
        </p:nvCxnSpPr>
        <p:spPr>
          <a:xfrm>
            <a:off x="2772360" y="3143160"/>
            <a:ext cx="5976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cxnSp>
        <p:nvCxnSpPr>
          <p:cNvPr id="475" name="直接连接符 15"/>
          <p:cNvCxnSpPr/>
          <p:nvPr/>
        </p:nvCxnSpPr>
        <p:spPr>
          <a:xfrm>
            <a:off x="2772360" y="4038840"/>
            <a:ext cx="5976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cxnSp>
        <p:nvCxnSpPr>
          <p:cNvPr id="476" name="直接连接符 16"/>
          <p:cNvCxnSpPr/>
          <p:nvPr/>
        </p:nvCxnSpPr>
        <p:spPr>
          <a:xfrm>
            <a:off x="2772360" y="4947840"/>
            <a:ext cx="5976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pic>
        <p:nvPicPr>
          <p:cNvPr id="477" name="图片 21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-100000" contrast="-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7640" y="1512000"/>
            <a:ext cx="2466000" cy="36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IST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劣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Num" idx="34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2187007-E85E-41B3-9D1B-7C775CCB6351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100000" contrast="-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17240" y="1486080"/>
            <a:ext cx="2138400" cy="3649680"/>
          </a:xfrm>
          <a:prstGeom prst="rect">
            <a:avLst/>
          </a:prstGeom>
          <a:ln w="0">
            <a:noFill/>
          </a:ln>
        </p:spPr>
      </p:pic>
      <p:grpSp>
        <p:nvGrpSpPr>
          <p:cNvPr id="481" name="组合 8"/>
          <p:cNvGrpSpPr/>
          <p:nvPr/>
        </p:nvGrpSpPr>
        <p:grpSpPr>
          <a:xfrm>
            <a:off x="2821320" y="1419480"/>
            <a:ext cx="6070680" cy="1063080"/>
            <a:chOff x="2821320" y="1419480"/>
            <a:chExt cx="6070680" cy="1063080"/>
          </a:xfrm>
        </p:grpSpPr>
        <p:sp>
          <p:nvSpPr>
            <p:cNvPr id="482" name="矩形 5"/>
            <p:cNvSpPr/>
            <p:nvPr/>
          </p:nvSpPr>
          <p:spPr>
            <a:xfrm>
              <a:off x="2821320" y="1419480"/>
              <a:ext cx="1001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团队方面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6"/>
            <p:cNvSpPr/>
            <p:nvPr/>
          </p:nvSpPr>
          <p:spPr>
            <a:xfrm>
              <a:off x="4049640" y="1419480"/>
              <a:ext cx="484236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不喜欢参与式的管理，认为团队妨碍有效的工作，工作最好由个人独立完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管理风格比较突兀、直接、不合常规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84" name="直接连接符 7"/>
          <p:cNvCxnSpPr/>
          <p:nvPr/>
        </p:nvCxnSpPr>
        <p:spPr>
          <a:xfrm>
            <a:off x="2555640" y="3096000"/>
            <a:ext cx="6372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grpSp>
        <p:nvGrpSpPr>
          <p:cNvPr id="485" name="组合 4"/>
          <p:cNvGrpSpPr/>
          <p:nvPr/>
        </p:nvGrpSpPr>
        <p:grpSpPr>
          <a:xfrm>
            <a:off x="2821320" y="3202920"/>
            <a:ext cx="5836320" cy="1063080"/>
            <a:chOff x="2821320" y="3202920"/>
            <a:chExt cx="5836320" cy="1063080"/>
          </a:xfrm>
        </p:grpSpPr>
        <p:sp>
          <p:nvSpPr>
            <p:cNvPr id="486" name="矩形 9"/>
            <p:cNvSpPr/>
            <p:nvPr/>
          </p:nvSpPr>
          <p:spPr>
            <a:xfrm>
              <a:off x="2821320" y="3202920"/>
              <a:ext cx="1001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个人方面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10"/>
            <p:cNvSpPr/>
            <p:nvPr/>
          </p:nvSpPr>
          <p:spPr>
            <a:xfrm>
              <a:off x="4049640" y="3202920"/>
              <a:ext cx="460800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喜欢刺激，对工作和管理，一旦兴趣消除，耐心也就到头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讨厌的三件事情：规定、行政工作和文书工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88" name="直接连接符 14"/>
          <p:cNvCxnSpPr/>
          <p:nvPr/>
        </p:nvCxnSpPr>
        <p:spPr>
          <a:xfrm>
            <a:off x="2555640" y="4803840"/>
            <a:ext cx="6372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ESF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快乐工作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0" name="TextBox 4"/>
          <p:cNvSpPr/>
          <p:nvPr/>
        </p:nvSpPr>
        <p:spPr>
          <a:xfrm>
            <a:off x="166104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5"/>
          <p:cNvSpPr/>
          <p:nvPr/>
        </p:nvSpPr>
        <p:spPr>
          <a:xfrm>
            <a:off x="346680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527868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7"/>
          <p:cNvSpPr/>
          <p:nvPr/>
        </p:nvSpPr>
        <p:spPr>
          <a:xfrm>
            <a:off x="718704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8"/>
          <p:cNvSpPr/>
          <p:nvPr/>
        </p:nvSpPr>
        <p:spPr>
          <a:xfrm>
            <a:off x="250992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9"/>
          <p:cNvSpPr/>
          <p:nvPr/>
        </p:nvSpPr>
        <p:spPr>
          <a:xfrm>
            <a:off x="435204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0"/>
          <p:cNvSpPr/>
          <p:nvPr/>
        </p:nvSpPr>
        <p:spPr>
          <a:xfrm>
            <a:off x="619416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11"/>
          <p:cNvSpPr/>
          <p:nvPr/>
        </p:nvSpPr>
        <p:spPr>
          <a:xfrm>
            <a:off x="611640" y="3200760"/>
            <a:ext cx="189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I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关注世界多于外部世界，追求自己内心世界的有序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12"/>
          <p:cNvSpPr/>
          <p:nvPr/>
        </p:nvSpPr>
        <p:spPr>
          <a:xfrm>
            <a:off x="2832480" y="4076640"/>
            <a:ext cx="2077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S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关注可以触摸的、直接的、实实在在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4"/>
          <p:cNvSpPr/>
          <p:nvPr/>
        </p:nvSpPr>
        <p:spPr>
          <a:xfrm>
            <a:off x="4212000" y="3180960"/>
            <a:ext cx="2058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F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决策过程中情感方面的因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5"/>
          <p:cNvSpPr/>
          <p:nvPr/>
        </p:nvSpPr>
        <p:spPr>
          <a:xfrm>
            <a:off x="6456960" y="4076640"/>
            <a:ext cx="2197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P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非常开放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1" name="曲线连接符 17"/>
          <p:cNvCxnSpPr>
            <a:stCxn id="491" idx="2"/>
            <a:endCxn id="498" idx="1"/>
          </p:cNvCxnSpPr>
          <p:nvPr/>
        </p:nvCxnSpPr>
        <p:spPr>
          <a:xfrm flipV="1" rot="10800000">
            <a:off x="2832120" y="2959200"/>
            <a:ext cx="922320" cy="140976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502" name="曲线连接符 18"/>
          <p:cNvCxnSpPr>
            <a:endCxn id="497" idx="0"/>
          </p:cNvCxnSpPr>
          <p:nvPr/>
        </p:nvCxnSpPr>
        <p:spPr>
          <a:xfrm flipV="1" rot="10800000">
            <a:off x="1560600" y="2886480"/>
            <a:ext cx="311400" cy="31428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503" name="曲线连接符 21"/>
          <p:cNvCxnSpPr>
            <a:endCxn id="499" idx="0"/>
          </p:cNvCxnSpPr>
          <p:nvPr/>
        </p:nvCxnSpPr>
        <p:spPr>
          <a:xfrm flipV="1" rot="10800000">
            <a:off x="5240880" y="2824920"/>
            <a:ext cx="109440" cy="35568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504" name="曲线连接符 24"/>
          <p:cNvCxnSpPr>
            <a:stCxn id="493" idx="2"/>
            <a:endCxn id="500" idx="1"/>
          </p:cNvCxnSpPr>
          <p:nvPr/>
        </p:nvCxnSpPr>
        <p:spPr>
          <a:xfrm flipV="1" rot="10800000">
            <a:off x="6456960" y="2959200"/>
            <a:ext cx="1018440" cy="128664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sp>
        <p:nvSpPr>
          <p:cNvPr id="505" name="PlaceHolder 2"/>
          <p:cNvSpPr>
            <a:spLocks noGrp="1"/>
          </p:cNvSpPr>
          <p:nvPr>
            <p:ph type="sldNum" idx="35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52B9E57-7C98-4BDE-9CD3-14DB0A36C457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ESF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优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ldNum" idx="36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5180A9B-75FF-40CD-BDB0-F6824A7C8257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组合 17"/>
          <p:cNvGrpSpPr/>
          <p:nvPr/>
        </p:nvGrpSpPr>
        <p:grpSpPr>
          <a:xfrm>
            <a:off x="2627640" y="1307880"/>
            <a:ext cx="3737160" cy="645840"/>
            <a:chOff x="2627640" y="1307880"/>
            <a:chExt cx="3737160" cy="645840"/>
          </a:xfrm>
        </p:grpSpPr>
        <p:pic>
          <p:nvPicPr>
            <p:cNvPr id="509" name="图片 4" descr=""/>
            <p:cNvPicPr/>
            <p:nvPr/>
          </p:nvPicPr>
          <p:blipFill>
            <a:blip r:embed="rId1"/>
            <a:stretch/>
          </p:blipFill>
          <p:spPr>
            <a:xfrm>
              <a:off x="2627640" y="1317960"/>
              <a:ext cx="826920" cy="6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矩形 8"/>
            <p:cNvSpPr/>
            <p:nvPr/>
          </p:nvSpPr>
          <p:spPr>
            <a:xfrm>
              <a:off x="4034880" y="1307880"/>
              <a:ext cx="23299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1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工作环境中多个项目齐头并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11" name="直接连接符 10"/>
          <p:cNvCxnSpPr/>
          <p:nvPr/>
        </p:nvCxnSpPr>
        <p:spPr>
          <a:xfrm>
            <a:off x="2483640" y="2130480"/>
            <a:ext cx="6228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grpSp>
        <p:nvGrpSpPr>
          <p:cNvPr id="512" name="组合 18"/>
          <p:cNvGrpSpPr/>
          <p:nvPr/>
        </p:nvGrpSpPr>
        <p:grpSpPr>
          <a:xfrm>
            <a:off x="2747160" y="2306880"/>
            <a:ext cx="3631320" cy="646200"/>
            <a:chOff x="2747160" y="2306880"/>
            <a:chExt cx="3631320" cy="646200"/>
          </a:xfrm>
        </p:grpSpPr>
        <p:pic>
          <p:nvPicPr>
            <p:cNvPr id="513" name="图片 6" descr=""/>
            <p:cNvPicPr/>
            <p:nvPr/>
          </p:nvPicPr>
          <p:blipFill>
            <a:blip r:embed="rId2"/>
            <a:stretch/>
          </p:blipFill>
          <p:spPr>
            <a:xfrm>
              <a:off x="2747160" y="2332800"/>
              <a:ext cx="538920" cy="62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矩形 11"/>
            <p:cNvSpPr/>
            <p:nvPr/>
          </p:nvSpPr>
          <p:spPr>
            <a:xfrm>
              <a:off x="4048560" y="2306880"/>
              <a:ext cx="23299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2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认同每个人的差异和工作步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19"/>
          <p:cNvGrpSpPr/>
          <p:nvPr/>
        </p:nvGrpSpPr>
        <p:grpSpPr>
          <a:xfrm>
            <a:off x="2659320" y="3305880"/>
            <a:ext cx="5043600" cy="520200"/>
            <a:chOff x="2659320" y="3305880"/>
            <a:chExt cx="5043600" cy="520200"/>
          </a:xfrm>
        </p:grpSpPr>
        <p:pic>
          <p:nvPicPr>
            <p:cNvPr id="516" name="图片 5" descr=""/>
            <p:cNvPicPr/>
            <p:nvPr/>
          </p:nvPicPr>
          <p:blipFill>
            <a:blip r:embed="rId3"/>
            <a:stretch/>
          </p:blipFill>
          <p:spPr>
            <a:xfrm>
              <a:off x="2659320" y="3350880"/>
              <a:ext cx="747360" cy="47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矩形 12"/>
            <p:cNvSpPr/>
            <p:nvPr/>
          </p:nvSpPr>
          <p:spPr>
            <a:xfrm>
              <a:off x="3501720" y="3305880"/>
              <a:ext cx="42012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3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在面对最后期限带来压力的正面态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18" name="直接连接符 14"/>
          <p:cNvCxnSpPr/>
          <p:nvPr/>
        </p:nvCxnSpPr>
        <p:spPr>
          <a:xfrm>
            <a:off x="2483640" y="3129480"/>
            <a:ext cx="6228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cxnSp>
        <p:nvCxnSpPr>
          <p:cNvPr id="519" name="直接连接符 15"/>
          <p:cNvCxnSpPr/>
          <p:nvPr/>
        </p:nvCxnSpPr>
        <p:spPr>
          <a:xfrm>
            <a:off x="2483640" y="4002480"/>
            <a:ext cx="6228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pic>
        <p:nvPicPr>
          <p:cNvPr id="520" name="图片 21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5">
                    <a14:imgEffect>
                      <a14:brightnessContrast bright="-100000" contrast="-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90080" y="1226880"/>
            <a:ext cx="2077200" cy="3910320"/>
          </a:xfrm>
          <a:prstGeom prst="rect">
            <a:avLst/>
          </a:prstGeom>
          <a:ln w="0">
            <a:noFill/>
          </a:ln>
        </p:spPr>
      </p:pic>
      <p:grpSp>
        <p:nvGrpSpPr>
          <p:cNvPr id="521" name="组合 16"/>
          <p:cNvGrpSpPr/>
          <p:nvPr/>
        </p:nvGrpSpPr>
        <p:grpSpPr>
          <a:xfrm>
            <a:off x="2721240" y="4179240"/>
            <a:ext cx="5809320" cy="520200"/>
            <a:chOff x="2721240" y="4179240"/>
            <a:chExt cx="5809320" cy="520200"/>
          </a:xfrm>
        </p:grpSpPr>
        <p:pic>
          <p:nvPicPr>
            <p:cNvPr id="522" name="图片 20" descr=""/>
            <p:cNvPicPr/>
            <p:nvPr/>
          </p:nvPicPr>
          <p:blipFill>
            <a:blip r:embed="rId6"/>
            <a:stretch/>
          </p:blipFill>
          <p:spPr>
            <a:xfrm>
              <a:off x="2721240" y="4224240"/>
              <a:ext cx="623520" cy="47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矩形 22"/>
            <p:cNvSpPr/>
            <p:nvPr/>
          </p:nvSpPr>
          <p:spPr>
            <a:xfrm>
              <a:off x="3501720" y="4179240"/>
              <a:ext cx="50288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4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为大家提供高昂的情绪和力量，一起奔向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24" name="直接连接符 23"/>
          <p:cNvCxnSpPr/>
          <p:nvPr/>
        </p:nvCxnSpPr>
        <p:spPr>
          <a:xfrm>
            <a:off x="2483640" y="4875840"/>
            <a:ext cx="6228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sp>
        <p:nvSpPr>
          <p:cNvPr id="525" name="Text Box 9"/>
          <p:cNvSpPr/>
          <p:nvPr/>
        </p:nvSpPr>
        <p:spPr>
          <a:xfrm>
            <a:off x="17280" y="47718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ESF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劣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ldNum" idx="37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AD3B5CB-C323-4B2E-BF78-EC4FCCE918DB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100000" contrast="-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17240" y="1486080"/>
            <a:ext cx="2138400" cy="3649680"/>
          </a:xfrm>
          <a:prstGeom prst="rect">
            <a:avLst/>
          </a:prstGeom>
          <a:ln w="0">
            <a:noFill/>
          </a:ln>
        </p:spPr>
      </p:pic>
      <p:grpSp>
        <p:nvGrpSpPr>
          <p:cNvPr id="529" name="组合 8"/>
          <p:cNvGrpSpPr/>
          <p:nvPr/>
        </p:nvGrpSpPr>
        <p:grpSpPr>
          <a:xfrm>
            <a:off x="2821320" y="2344680"/>
            <a:ext cx="6070680" cy="1063080"/>
            <a:chOff x="2821320" y="2344680"/>
            <a:chExt cx="6070680" cy="1063080"/>
          </a:xfrm>
        </p:grpSpPr>
        <p:sp>
          <p:nvSpPr>
            <p:cNvPr id="530" name="矩形 5"/>
            <p:cNvSpPr/>
            <p:nvPr/>
          </p:nvSpPr>
          <p:spPr>
            <a:xfrm>
              <a:off x="2821320" y="2344680"/>
              <a:ext cx="1001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团队方面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6"/>
            <p:cNvSpPr/>
            <p:nvPr/>
          </p:nvSpPr>
          <p:spPr>
            <a:xfrm>
              <a:off x="4049640" y="2344680"/>
              <a:ext cx="484236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过多的参与事情，容易引发负面的情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对程序的蔑视对组织秩序的不尊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32" name="直接连接符 7"/>
          <p:cNvCxnSpPr/>
          <p:nvPr/>
        </p:nvCxnSpPr>
        <p:spPr>
          <a:xfrm>
            <a:off x="2555640" y="3451680"/>
            <a:ext cx="6372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grpSp>
        <p:nvGrpSpPr>
          <p:cNvPr id="533" name="组合 4"/>
          <p:cNvGrpSpPr/>
          <p:nvPr/>
        </p:nvGrpSpPr>
        <p:grpSpPr>
          <a:xfrm>
            <a:off x="2821320" y="3557520"/>
            <a:ext cx="5836320" cy="1063080"/>
            <a:chOff x="2821320" y="3557520"/>
            <a:chExt cx="5836320" cy="1063080"/>
          </a:xfrm>
        </p:grpSpPr>
        <p:sp>
          <p:nvSpPr>
            <p:cNvPr id="534" name="矩形 9"/>
            <p:cNvSpPr/>
            <p:nvPr/>
          </p:nvSpPr>
          <p:spPr>
            <a:xfrm>
              <a:off x="2821320" y="3557520"/>
              <a:ext cx="10011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个人方面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矩形 10"/>
            <p:cNvSpPr/>
            <p:nvPr/>
          </p:nvSpPr>
          <p:spPr>
            <a:xfrm>
              <a:off x="4049640" y="3557520"/>
              <a:ext cx="460800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难以掌控长期目标和程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</a:pPr>
              <a:r>
                <a:rPr b="0" lang="zh-CN" sz="16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不分场合，太爱开玩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36" name="直接连接符 14"/>
          <p:cNvCxnSpPr/>
          <p:nvPr/>
        </p:nvCxnSpPr>
        <p:spPr>
          <a:xfrm>
            <a:off x="2555640" y="4659840"/>
            <a:ext cx="6372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标题 1"/>
          <p:cNvSpPr/>
          <p:nvPr/>
        </p:nvSpPr>
        <p:spPr>
          <a:xfrm>
            <a:off x="457200" y="418320"/>
            <a:ext cx="8229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404040"/>
                </a:solidFill>
                <a:latin typeface="Impact"/>
                <a:ea typeface="华康俪金黑W8"/>
              </a:rPr>
              <a:t>四种气质类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7"/>
          <p:cNvGrpSpPr/>
          <p:nvPr/>
        </p:nvGrpSpPr>
        <p:grpSpPr>
          <a:xfrm>
            <a:off x="1007640" y="1575000"/>
            <a:ext cx="7128360" cy="3084480"/>
            <a:chOff x="1007640" y="1575000"/>
            <a:chExt cx="7128360" cy="3084480"/>
          </a:xfrm>
        </p:grpSpPr>
        <p:sp>
          <p:nvSpPr>
            <p:cNvPr id="272" name="矩形 2"/>
            <p:cNvSpPr/>
            <p:nvPr/>
          </p:nvSpPr>
          <p:spPr>
            <a:xfrm>
              <a:off x="1007640" y="1575000"/>
              <a:ext cx="3528000" cy="151164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法主义者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维护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egalist/Guard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3"/>
            <p:cNvSpPr/>
            <p:nvPr/>
          </p:nvSpPr>
          <p:spPr>
            <a:xfrm>
              <a:off x="4608000" y="1575000"/>
              <a:ext cx="3528000" cy="1511640"/>
            </a:xfrm>
            <a:prstGeom prst="rect">
              <a:avLst/>
            </a:prstGeom>
            <a:solidFill>
              <a:srgbClr val="008a3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通情者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理想主义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mpathist/Ideali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5"/>
            <p:cNvSpPr/>
            <p:nvPr/>
          </p:nvSpPr>
          <p:spPr>
            <a:xfrm>
              <a:off x="1007640" y="3147840"/>
              <a:ext cx="3528000" cy="151164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现实主义者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匠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ealist/Artisa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矩形 6"/>
            <p:cNvSpPr/>
            <p:nvPr/>
          </p:nvSpPr>
          <p:spPr>
            <a:xfrm>
              <a:off x="4608000" y="3147840"/>
              <a:ext cx="3528000" cy="151164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理性主义者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tionalist/Analy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图片 8" descr=""/>
          <p:cNvPicPr/>
          <p:nvPr/>
        </p:nvPicPr>
        <p:blipFill>
          <a:blip r:embed="rId1"/>
          <a:srcRect l="0" t="0" r="0" b="3667"/>
          <a:stretch/>
        </p:blipFill>
        <p:spPr>
          <a:xfrm flipH="1">
            <a:off x="108000" y="3804120"/>
            <a:ext cx="1308600" cy="109836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9" descr=""/>
          <p:cNvPicPr/>
          <p:nvPr/>
        </p:nvPicPr>
        <p:blipFill>
          <a:blip r:embed="rId2"/>
          <a:stretch/>
        </p:blipFill>
        <p:spPr>
          <a:xfrm flipH="1">
            <a:off x="7564680" y="1086120"/>
            <a:ext cx="860400" cy="97776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10" descr=""/>
          <p:cNvPicPr/>
          <p:nvPr/>
        </p:nvPicPr>
        <p:blipFill>
          <a:blip r:embed="rId3"/>
          <a:stretch/>
        </p:blipFill>
        <p:spPr>
          <a:xfrm>
            <a:off x="7674120" y="3919320"/>
            <a:ext cx="750600" cy="95652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11" descr=""/>
          <p:cNvPicPr/>
          <p:nvPr/>
        </p:nvPicPr>
        <p:blipFill>
          <a:blip r:embed="rId4"/>
          <a:srcRect l="0" t="0" r="57103" b="0"/>
          <a:stretch/>
        </p:blipFill>
        <p:spPr>
          <a:xfrm flipH="1">
            <a:off x="586440" y="1086120"/>
            <a:ext cx="821160" cy="10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3"/>
          <p:cNvSpPr/>
          <p:nvPr/>
        </p:nvSpPr>
        <p:spPr>
          <a:xfrm>
            <a:off x="408240" y="2491200"/>
            <a:ext cx="287640" cy="224028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战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矩形 4"/>
          <p:cNvSpPr/>
          <p:nvPr/>
        </p:nvSpPr>
        <p:spPr>
          <a:xfrm>
            <a:off x="811800" y="2995560"/>
            <a:ext cx="287640" cy="173628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后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5"/>
          <p:cNvSpPr/>
          <p:nvPr/>
        </p:nvSpPr>
        <p:spPr>
          <a:xfrm>
            <a:off x="1215720" y="3219480"/>
            <a:ext cx="287640" cy="151200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战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6"/>
          <p:cNvSpPr/>
          <p:nvPr/>
        </p:nvSpPr>
        <p:spPr>
          <a:xfrm>
            <a:off x="1619640" y="3443760"/>
            <a:ext cx="287640" cy="1288080"/>
          </a:xfrm>
          <a:prstGeom prst="rect">
            <a:avLst/>
          </a:prstGeom>
          <a:solidFill>
            <a:srgbClr val="008a3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交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直接连接符 7"/>
          <p:cNvCxnSpPr/>
          <p:nvPr/>
        </p:nvCxnSpPr>
        <p:spPr>
          <a:xfrm>
            <a:off x="323280" y="4731840"/>
            <a:ext cx="828036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285" name="矩形 8"/>
          <p:cNvSpPr/>
          <p:nvPr/>
        </p:nvSpPr>
        <p:spPr>
          <a:xfrm>
            <a:off x="2411640" y="3443760"/>
            <a:ext cx="287640" cy="128808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战术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2819880" y="3219480"/>
            <a:ext cx="287640" cy="151200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后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11"/>
          <p:cNvSpPr/>
          <p:nvPr/>
        </p:nvSpPr>
        <p:spPr>
          <a:xfrm>
            <a:off x="3227760" y="2995560"/>
            <a:ext cx="287640" cy="17362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战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2"/>
          <p:cNvSpPr/>
          <p:nvPr/>
        </p:nvSpPr>
        <p:spPr>
          <a:xfrm>
            <a:off x="3636000" y="2491200"/>
            <a:ext cx="287640" cy="2240280"/>
          </a:xfrm>
          <a:prstGeom prst="rect">
            <a:avLst/>
          </a:prstGeom>
          <a:solidFill>
            <a:srgbClr val="008a3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交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3"/>
          <p:cNvSpPr/>
          <p:nvPr/>
        </p:nvSpPr>
        <p:spPr>
          <a:xfrm>
            <a:off x="5087520" y="2491200"/>
            <a:ext cx="287640" cy="22402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战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4"/>
          <p:cNvSpPr/>
          <p:nvPr/>
        </p:nvSpPr>
        <p:spPr>
          <a:xfrm>
            <a:off x="5491440" y="2995560"/>
            <a:ext cx="287640" cy="1736280"/>
          </a:xfrm>
          <a:prstGeom prst="rect">
            <a:avLst/>
          </a:prstGeom>
          <a:solidFill>
            <a:srgbClr val="008a3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交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15"/>
          <p:cNvSpPr/>
          <p:nvPr/>
        </p:nvSpPr>
        <p:spPr>
          <a:xfrm>
            <a:off x="5895360" y="3219480"/>
            <a:ext cx="287640" cy="15120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战术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矩形 16"/>
          <p:cNvSpPr/>
          <p:nvPr/>
        </p:nvSpPr>
        <p:spPr>
          <a:xfrm>
            <a:off x="6299280" y="3443760"/>
            <a:ext cx="287640" cy="128808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后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17"/>
          <p:cNvSpPr/>
          <p:nvPr/>
        </p:nvSpPr>
        <p:spPr>
          <a:xfrm>
            <a:off x="7091280" y="3443760"/>
            <a:ext cx="287640" cy="12880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战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18"/>
          <p:cNvSpPr/>
          <p:nvPr/>
        </p:nvSpPr>
        <p:spPr>
          <a:xfrm>
            <a:off x="7499520" y="3219480"/>
            <a:ext cx="287640" cy="1512000"/>
          </a:xfrm>
          <a:prstGeom prst="rect">
            <a:avLst/>
          </a:prstGeom>
          <a:solidFill>
            <a:srgbClr val="008a3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交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9"/>
          <p:cNvSpPr/>
          <p:nvPr/>
        </p:nvSpPr>
        <p:spPr>
          <a:xfrm>
            <a:off x="7907400" y="2995560"/>
            <a:ext cx="287640" cy="173628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战术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矩形 20"/>
          <p:cNvSpPr/>
          <p:nvPr/>
        </p:nvSpPr>
        <p:spPr>
          <a:xfrm>
            <a:off x="8315640" y="2491200"/>
            <a:ext cx="287640" cy="224028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后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1"/>
          <p:cNvSpPr/>
          <p:nvPr/>
        </p:nvSpPr>
        <p:spPr>
          <a:xfrm>
            <a:off x="565200" y="1749960"/>
            <a:ext cx="589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c00000"/>
                </a:solidFill>
                <a:latin typeface="Impact"/>
                <a:ea typeface="微软雅黑"/>
              </a:rPr>
              <a:t>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22"/>
          <p:cNvSpPr/>
          <p:nvPr/>
        </p:nvSpPr>
        <p:spPr>
          <a:xfrm>
            <a:off x="2961000" y="1749960"/>
            <a:ext cx="633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8a3e"/>
                </a:solidFill>
                <a:latin typeface="Impact"/>
                <a:ea typeface="微软雅黑"/>
              </a:rPr>
              <a:t>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3"/>
          <p:cNvSpPr/>
          <p:nvPr/>
        </p:nvSpPr>
        <p:spPr>
          <a:xfrm>
            <a:off x="5371920" y="1749960"/>
            <a:ext cx="647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75000"/>
                  </a:schemeClr>
                </a:solidFill>
                <a:latin typeface="Impact"/>
                <a:ea typeface="微软雅黑"/>
              </a:rPr>
              <a:t>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4"/>
          <p:cNvSpPr/>
          <p:nvPr/>
        </p:nvSpPr>
        <p:spPr>
          <a:xfrm>
            <a:off x="7819920" y="1749960"/>
            <a:ext cx="473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70c0"/>
                </a:solidFill>
                <a:latin typeface="Impact"/>
                <a:ea typeface="微软雅黑"/>
              </a:rPr>
              <a:t>S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标题 1"/>
          <p:cNvSpPr/>
          <p:nvPr/>
        </p:nvSpPr>
        <p:spPr>
          <a:xfrm>
            <a:off x="457200" y="418320"/>
            <a:ext cx="8229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404040"/>
                </a:solidFill>
                <a:latin typeface="Impact"/>
                <a:ea typeface="华康俪金黑W8"/>
              </a:rPr>
              <a:t>四大气质类型之智能描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图片 7" descr=""/>
          <p:cNvPicPr/>
          <p:nvPr/>
        </p:nvPicPr>
        <p:blipFill>
          <a:blip r:embed="rId1"/>
          <a:srcRect l="0" t="0" r="0" b="3651"/>
          <a:stretch/>
        </p:blipFill>
        <p:spPr>
          <a:xfrm flipH="1">
            <a:off x="252000" y="1851840"/>
            <a:ext cx="3889080" cy="32641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c00000"/>
                </a:solidFill>
                <a:latin typeface="Impact"/>
                <a:ea typeface="华康俪金黑W8"/>
              </a:rPr>
              <a:t>SP</a:t>
            </a: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典型代表 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Num" idx="22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 </a:t>
            </a:r>
            <a:fld id="{EEDCCDA6-3643-42D8-96DC-E772779C8F4B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6"/>
          <p:cNvSpPr/>
          <p:nvPr/>
        </p:nvSpPr>
        <p:spPr>
          <a:xfrm>
            <a:off x="4428000" y="2003400"/>
            <a:ext cx="43920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1" lang="zh-CN" sz="3200" spc="-1" strike="noStrike">
                <a:solidFill>
                  <a:srgbClr val="c00000"/>
                </a:solidFill>
                <a:latin typeface="Impact"/>
                <a:ea typeface="微软雅黑"/>
              </a:rPr>
              <a:t>变色龙</a:t>
            </a:r>
            <a:r>
              <a:rPr b="0" lang="zh-CN" sz="1800" spc="-1" strike="noStrike">
                <a:solidFill>
                  <a:srgbClr val="808080"/>
                </a:solidFill>
                <a:latin typeface="Impact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808080"/>
                </a:solidFill>
                <a:latin typeface="Impact"/>
                <a:ea typeface="微软雅黑"/>
              </a:rPr>
              <a:t>chameleon</a:t>
            </a:r>
            <a:r>
              <a:rPr b="0" lang="zh-CN" sz="1800" spc="-1" strike="noStrike">
                <a:solidFill>
                  <a:srgbClr val="808080"/>
                </a:solidFill>
                <a:latin typeface="Impact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404040"/>
                </a:solidFill>
                <a:latin typeface="Impact"/>
                <a:ea typeface="微软雅黑"/>
              </a:rPr>
              <a:t>变色龙是爬行动物，是非常奇特的动物，它有适于树栖生活的种种特征和行为颜色变化决定於环境因素，如光线、温度以及情绪，变色既有利于隐藏自己，又有利于捕捉猎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c00000"/>
                </a:solidFill>
                <a:latin typeface="Impact"/>
                <a:ea typeface="华康俪金黑W8"/>
              </a:rPr>
              <a:t>SP </a:t>
            </a: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天才的艺术家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307" name="组合 9"/>
          <p:cNvGrpSpPr/>
          <p:nvPr/>
        </p:nvGrpSpPr>
        <p:grpSpPr>
          <a:xfrm>
            <a:off x="280800" y="1677240"/>
            <a:ext cx="2433960" cy="3104280"/>
            <a:chOff x="280800" y="1677240"/>
            <a:chExt cx="2433960" cy="3104280"/>
          </a:xfrm>
        </p:grpSpPr>
        <p:sp>
          <p:nvSpPr>
            <p:cNvPr id="308" name="矩形 2"/>
            <p:cNvSpPr/>
            <p:nvPr/>
          </p:nvSpPr>
          <p:spPr>
            <a:xfrm rot="21013800">
              <a:off x="504360" y="1825200"/>
              <a:ext cx="1986120" cy="280800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c00000"/>
                </a:solidFill>
                <a:latin typeface="Impact"/>
                <a:ea typeface="微软雅黑"/>
              </a:endParaRPr>
            </a:p>
          </p:txBody>
        </p:sp>
        <p:pic>
          <p:nvPicPr>
            <p:cNvPr id="309" name="图片 7" descr=""/>
            <p:cNvPicPr/>
            <p:nvPr/>
          </p:nvPicPr>
          <p:blipFill>
            <a:blip r:embed="rId1"/>
            <a:stretch/>
          </p:blipFill>
          <p:spPr>
            <a:xfrm rot="21013800">
              <a:off x="610200" y="2033640"/>
              <a:ext cx="1704600" cy="19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Box 8"/>
            <p:cNvSpPr/>
            <p:nvPr/>
          </p:nvSpPr>
          <p:spPr>
            <a:xfrm rot="21013800">
              <a:off x="859680" y="4121280"/>
              <a:ext cx="16398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刘德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10"/>
          <p:cNvGrpSpPr/>
          <p:nvPr/>
        </p:nvGrpSpPr>
        <p:grpSpPr>
          <a:xfrm>
            <a:off x="2339640" y="1839600"/>
            <a:ext cx="2440440" cy="3108240"/>
            <a:chOff x="2339640" y="1839600"/>
            <a:chExt cx="2440440" cy="3108240"/>
          </a:xfrm>
        </p:grpSpPr>
        <p:sp>
          <p:nvSpPr>
            <p:cNvPr id="312" name="矩形 11"/>
            <p:cNvSpPr/>
            <p:nvPr/>
          </p:nvSpPr>
          <p:spPr>
            <a:xfrm rot="595200">
              <a:off x="2566440" y="1989360"/>
              <a:ext cx="1986120" cy="280800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c00000"/>
                </a:solidFill>
                <a:latin typeface="Impact"/>
                <a:ea typeface="微软雅黑"/>
              </a:endParaRPr>
            </a:p>
          </p:txBody>
        </p:sp>
        <p:pic>
          <p:nvPicPr>
            <p:cNvPr id="313" name="图片 12" descr=""/>
            <p:cNvPicPr/>
            <p:nvPr/>
          </p:nvPicPr>
          <p:blipFill>
            <a:blip r:embed="rId2"/>
            <a:stretch/>
          </p:blipFill>
          <p:spPr>
            <a:xfrm rot="595200">
              <a:off x="2748960" y="2294280"/>
              <a:ext cx="1692360" cy="179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Box 13"/>
            <p:cNvSpPr/>
            <p:nvPr/>
          </p:nvSpPr>
          <p:spPr>
            <a:xfrm rot="595200">
              <a:off x="2554560" y="4285080"/>
              <a:ext cx="16398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迈克尔 </a:t>
              </a:r>
              <a:r>
                <a:rPr b="1" lang="en-US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· </a:t>
              </a:r>
              <a:r>
                <a:rPr b="1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乔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14"/>
          <p:cNvGrpSpPr/>
          <p:nvPr/>
        </p:nvGrpSpPr>
        <p:grpSpPr>
          <a:xfrm>
            <a:off x="4424400" y="1501920"/>
            <a:ext cx="2437560" cy="3106800"/>
            <a:chOff x="4424400" y="1501920"/>
            <a:chExt cx="2437560" cy="3106800"/>
          </a:xfrm>
        </p:grpSpPr>
        <p:sp>
          <p:nvSpPr>
            <p:cNvPr id="316" name="矩形 15"/>
            <p:cNvSpPr/>
            <p:nvPr/>
          </p:nvSpPr>
          <p:spPr>
            <a:xfrm rot="21008400">
              <a:off x="4650120" y="1651320"/>
              <a:ext cx="1986120" cy="280800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c00000"/>
                </a:solidFill>
                <a:latin typeface="Impact"/>
                <a:ea typeface="微软雅黑"/>
              </a:endParaRPr>
            </a:p>
          </p:txBody>
        </p:sp>
        <p:pic>
          <p:nvPicPr>
            <p:cNvPr id="317" name="图片 16" descr=""/>
            <p:cNvPicPr/>
            <p:nvPr/>
          </p:nvPicPr>
          <p:blipFill>
            <a:blip r:embed="rId3"/>
            <a:stretch/>
          </p:blipFill>
          <p:spPr>
            <a:xfrm rot="21008400">
              <a:off x="4757040" y="1944000"/>
              <a:ext cx="1701720" cy="181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Box 17"/>
            <p:cNvSpPr/>
            <p:nvPr/>
          </p:nvSpPr>
          <p:spPr>
            <a:xfrm rot="21008400">
              <a:off x="5007240" y="3947040"/>
              <a:ext cx="16398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玛丽莲 </a:t>
              </a:r>
              <a:r>
                <a:rPr b="0" lang="en-US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· </a:t>
              </a:r>
              <a:r>
                <a:rPr b="0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梦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18"/>
          <p:cNvGrpSpPr/>
          <p:nvPr/>
        </p:nvGrpSpPr>
        <p:grpSpPr>
          <a:xfrm>
            <a:off x="6643440" y="1741320"/>
            <a:ext cx="2323080" cy="3035520"/>
            <a:chOff x="6643440" y="1741320"/>
            <a:chExt cx="2323080" cy="3035520"/>
          </a:xfrm>
        </p:grpSpPr>
        <p:sp>
          <p:nvSpPr>
            <p:cNvPr id="320" name="矩形 19"/>
            <p:cNvSpPr/>
            <p:nvPr/>
          </p:nvSpPr>
          <p:spPr>
            <a:xfrm rot="433200">
              <a:off x="6811560" y="1854720"/>
              <a:ext cx="1986120" cy="280800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c00000"/>
                </a:solidFill>
                <a:latin typeface="Impact"/>
                <a:ea typeface="微软雅黑"/>
              </a:endParaRPr>
            </a:p>
          </p:txBody>
        </p:sp>
        <p:pic>
          <p:nvPicPr>
            <p:cNvPr id="321" name="图片 20" descr=""/>
            <p:cNvPicPr/>
            <p:nvPr/>
          </p:nvPicPr>
          <p:blipFill>
            <a:blip r:embed="rId4"/>
            <a:stretch/>
          </p:blipFill>
          <p:spPr>
            <a:xfrm rot="433200">
              <a:off x="6978240" y="2142360"/>
              <a:ext cx="1704960" cy="182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Box 21"/>
            <p:cNvSpPr/>
            <p:nvPr/>
          </p:nvSpPr>
          <p:spPr>
            <a:xfrm rot="433200">
              <a:off x="6658920" y="4153680"/>
              <a:ext cx="1954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帕布洛 </a:t>
              </a:r>
              <a:r>
                <a:rPr b="0" lang="en-US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· </a:t>
              </a:r>
              <a:r>
                <a:rPr b="0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毕加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2"/>
          <p:cNvSpPr>
            <a:spLocks noGrp="1"/>
          </p:cNvSpPr>
          <p:nvPr>
            <p:ph type="sldNum" idx="23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00BEA6F-6A14-49C4-AB19-BF6FFE9B9794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NF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交际角色变体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Num" idx="24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 </a:t>
            </a:r>
            <a:fld id="{53218374-ED08-4758-B947-707CB9AF7742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矩形 3"/>
          <p:cNvSpPr/>
          <p:nvPr/>
        </p:nvSpPr>
        <p:spPr>
          <a:xfrm>
            <a:off x="408240" y="2139480"/>
            <a:ext cx="287640" cy="224028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倡导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矩形 4"/>
          <p:cNvSpPr/>
          <p:nvPr/>
        </p:nvSpPr>
        <p:spPr>
          <a:xfrm>
            <a:off x="811800" y="2643840"/>
            <a:ext cx="287640" cy="17362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手艺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5"/>
          <p:cNvSpPr/>
          <p:nvPr/>
        </p:nvSpPr>
        <p:spPr>
          <a:xfrm>
            <a:off x="1215720" y="2867760"/>
            <a:ext cx="287640" cy="151200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表演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6"/>
          <p:cNvSpPr/>
          <p:nvPr/>
        </p:nvSpPr>
        <p:spPr>
          <a:xfrm>
            <a:off x="1619640" y="3092040"/>
            <a:ext cx="287640" cy="128808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创作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直接连接符 7"/>
          <p:cNvCxnSpPr/>
          <p:nvPr/>
        </p:nvCxnSpPr>
        <p:spPr>
          <a:xfrm>
            <a:off x="323280" y="4380120"/>
            <a:ext cx="8280360" cy="360"/>
          </a:xfrm>
          <a:prstGeom prst="straightConnector1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331" name="矩形 8"/>
          <p:cNvSpPr/>
          <p:nvPr/>
        </p:nvSpPr>
        <p:spPr>
          <a:xfrm>
            <a:off x="2411640" y="3092040"/>
            <a:ext cx="287640" cy="128808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倡导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9"/>
          <p:cNvSpPr/>
          <p:nvPr/>
        </p:nvSpPr>
        <p:spPr>
          <a:xfrm>
            <a:off x="2819880" y="2867760"/>
            <a:ext cx="287640" cy="151200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手艺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11"/>
          <p:cNvSpPr/>
          <p:nvPr/>
        </p:nvSpPr>
        <p:spPr>
          <a:xfrm>
            <a:off x="3227760" y="2643840"/>
            <a:ext cx="287640" cy="17362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表演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12"/>
          <p:cNvSpPr/>
          <p:nvPr/>
        </p:nvSpPr>
        <p:spPr>
          <a:xfrm>
            <a:off x="3636000" y="2139480"/>
            <a:ext cx="287640" cy="224028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创造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矩形 13"/>
          <p:cNvSpPr/>
          <p:nvPr/>
        </p:nvSpPr>
        <p:spPr>
          <a:xfrm>
            <a:off x="5087520" y="2139480"/>
            <a:ext cx="287640" cy="224028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手艺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矩形 14"/>
          <p:cNvSpPr/>
          <p:nvPr/>
        </p:nvSpPr>
        <p:spPr>
          <a:xfrm>
            <a:off x="5491440" y="2643840"/>
            <a:ext cx="287640" cy="17362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倡导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5"/>
          <p:cNvSpPr/>
          <p:nvPr/>
        </p:nvSpPr>
        <p:spPr>
          <a:xfrm>
            <a:off x="5895360" y="2867760"/>
            <a:ext cx="287640" cy="151200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创作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16"/>
          <p:cNvSpPr/>
          <p:nvPr/>
        </p:nvSpPr>
        <p:spPr>
          <a:xfrm>
            <a:off x="6299280" y="3092040"/>
            <a:ext cx="287640" cy="128808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表演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7"/>
          <p:cNvSpPr/>
          <p:nvPr/>
        </p:nvSpPr>
        <p:spPr>
          <a:xfrm>
            <a:off x="7091280" y="3092040"/>
            <a:ext cx="287640" cy="128808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手艺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8"/>
          <p:cNvSpPr/>
          <p:nvPr/>
        </p:nvSpPr>
        <p:spPr>
          <a:xfrm>
            <a:off x="7499520" y="2867760"/>
            <a:ext cx="287640" cy="151200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倡导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9"/>
          <p:cNvSpPr/>
          <p:nvPr/>
        </p:nvSpPr>
        <p:spPr>
          <a:xfrm>
            <a:off x="7907400" y="2643840"/>
            <a:ext cx="287640" cy="17362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Impact"/>
                <a:ea typeface="微软雅黑"/>
              </a:rPr>
              <a:t>创作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20"/>
          <p:cNvSpPr/>
          <p:nvPr/>
        </p:nvSpPr>
        <p:spPr>
          <a:xfrm>
            <a:off x="8315640" y="2139480"/>
            <a:ext cx="287640" cy="224028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表演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矩形 21"/>
          <p:cNvSpPr/>
          <p:nvPr/>
        </p:nvSpPr>
        <p:spPr>
          <a:xfrm>
            <a:off x="656280" y="4515840"/>
            <a:ext cx="870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  <a:ea typeface="微软雅黑"/>
              </a:rPr>
              <a:t>ES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22"/>
          <p:cNvSpPr/>
          <p:nvPr/>
        </p:nvSpPr>
        <p:spPr>
          <a:xfrm>
            <a:off x="2761560" y="4515840"/>
            <a:ext cx="79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  <a:ea typeface="微软雅黑"/>
              </a:rPr>
              <a:t>IS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23"/>
          <p:cNvSpPr/>
          <p:nvPr/>
        </p:nvSpPr>
        <p:spPr>
          <a:xfrm>
            <a:off x="5528880" y="4515840"/>
            <a:ext cx="804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  <a:ea typeface="微软雅黑"/>
              </a:rPr>
              <a:t>IS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4"/>
          <p:cNvSpPr/>
          <p:nvPr/>
        </p:nvSpPr>
        <p:spPr>
          <a:xfrm>
            <a:off x="7560000" y="4515840"/>
            <a:ext cx="859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  <a:ea typeface="微软雅黑"/>
              </a:rPr>
              <a:t>ES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7280" y="47718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位置图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Num" idx="25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 </a:t>
            </a:r>
            <a:fld id="{420122A7-B435-4EB3-9DC1-DFA321842921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表格 3"/>
          <p:cNvGraphicFramePr/>
          <p:nvPr/>
        </p:nvGraphicFramePr>
        <p:xfrm>
          <a:off x="539640" y="1275480"/>
          <a:ext cx="8208720" cy="3600000"/>
        </p:xfrm>
        <a:graphic>
          <a:graphicData uri="http://schemas.openxmlformats.org/drawingml/2006/table">
            <a:tbl>
              <a:tblPr/>
              <a:tblGrid>
                <a:gridCol w="2052000"/>
                <a:gridCol w="2052000"/>
                <a:gridCol w="2052000"/>
                <a:gridCol w="2052000"/>
              </a:tblGrid>
              <a:tr h="900000"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ST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SF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NF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NT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ln>
                            <a:solidFill>
                              <a:srgbClr val="808080"/>
                            </a:solidFill>
                          </a:ln>
                          <a:solidFill>
                            <a:srgbClr val="ffffff"/>
                          </a:solidFill>
                          <a:latin typeface="Impact"/>
                          <a:ea typeface="微软雅黑"/>
                        </a:rPr>
                        <a:t>IST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ln>
                            <a:solidFill>
                              <a:srgbClr val="808080"/>
                            </a:solidFill>
                          </a:ln>
                          <a:solidFill>
                            <a:srgbClr val="ffffff"/>
                          </a:solidFill>
                          <a:latin typeface="Impact"/>
                          <a:ea typeface="微软雅黑"/>
                        </a:rPr>
                        <a:t>ISF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NF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ln>
                            <a:solidFill>
                              <a:srgbClr val="808080"/>
                            </a:solidFill>
                          </a:ln>
                          <a:solidFill>
                            <a:srgbClr val="ffffff"/>
                          </a:solidFill>
                          <a:latin typeface="Impact"/>
                          <a:ea typeface="微软雅黑"/>
                        </a:rPr>
                        <a:t>EST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ln>
                            <a:solidFill>
                              <a:srgbClr val="808080"/>
                            </a:solidFill>
                          </a:ln>
                          <a:solidFill>
                            <a:srgbClr val="ffffff"/>
                          </a:solidFill>
                          <a:latin typeface="Impact"/>
                          <a:ea typeface="微软雅黑"/>
                        </a:rPr>
                        <a:t>ESF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NF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ST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SF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NF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267840" rIns="26784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NT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7840" marR="267840">
                    <a:lnL w="12240">
                      <a:solidFill>
                        <a:srgbClr val="a6a6a6"/>
                      </a:solidFill>
                    </a:lnL>
                    <a:lnR w="12240">
                      <a:solidFill>
                        <a:srgbClr val="a6a6a6"/>
                      </a:solidFill>
                    </a:lnR>
                    <a:lnT w="12240">
                      <a:solidFill>
                        <a:srgbClr val="a6a6a6"/>
                      </a:solidFill>
                    </a:lnT>
                    <a:lnB w="1224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ESTP — </a:t>
            </a:r>
            <a:r>
              <a:rPr b="0" lang="zh-CN" sz="3600" spc="-1" strike="noStrike">
                <a:solidFill>
                  <a:srgbClr val="c00000"/>
                </a:solidFill>
                <a:latin typeface="华康俪金黑W8"/>
                <a:ea typeface="华康俪金黑W8"/>
              </a:rPr>
              <a:t>活在这一刻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166104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346680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6"/>
          <p:cNvSpPr/>
          <p:nvPr/>
        </p:nvSpPr>
        <p:spPr>
          <a:xfrm>
            <a:off x="527868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7"/>
          <p:cNvSpPr/>
          <p:nvPr/>
        </p:nvSpPr>
        <p:spPr>
          <a:xfrm>
            <a:off x="7187040" y="1851840"/>
            <a:ext cx="575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8"/>
          <p:cNvSpPr/>
          <p:nvPr/>
        </p:nvSpPr>
        <p:spPr>
          <a:xfrm>
            <a:off x="250992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9"/>
          <p:cNvSpPr/>
          <p:nvPr/>
        </p:nvSpPr>
        <p:spPr>
          <a:xfrm>
            <a:off x="435204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0"/>
          <p:cNvSpPr/>
          <p:nvPr/>
        </p:nvSpPr>
        <p:spPr>
          <a:xfrm>
            <a:off x="6194160" y="2082600"/>
            <a:ext cx="7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1"/>
          <p:cNvSpPr/>
          <p:nvPr/>
        </p:nvSpPr>
        <p:spPr>
          <a:xfrm>
            <a:off x="755640" y="3200760"/>
            <a:ext cx="1872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E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喜欢外部的人、事以及发生的一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2"/>
          <p:cNvSpPr/>
          <p:nvPr/>
        </p:nvSpPr>
        <p:spPr>
          <a:xfrm>
            <a:off x="2627640" y="4076640"/>
            <a:ext cx="228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S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偏好第一手、脚踏实地的方式感知世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4"/>
          <p:cNvSpPr/>
          <p:nvPr/>
        </p:nvSpPr>
        <p:spPr>
          <a:xfrm>
            <a:off x="4212000" y="3180960"/>
            <a:ext cx="2058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T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做出不带个人好恶的符合逻辑的决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5"/>
          <p:cNvSpPr/>
          <p:nvPr/>
        </p:nvSpPr>
        <p:spPr>
          <a:xfrm>
            <a:off x="6456960" y="4076640"/>
            <a:ext cx="2197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P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即兴的、灵活的对周围事物不断做出回应的生活方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曲线连接符 17"/>
          <p:cNvCxnSpPr>
            <a:stCxn id="353" idx="2"/>
            <a:endCxn id="360" idx="1"/>
          </p:cNvCxnSpPr>
          <p:nvPr/>
        </p:nvCxnSpPr>
        <p:spPr>
          <a:xfrm flipV="1" rot="10800000">
            <a:off x="2627640" y="2959200"/>
            <a:ext cx="1127160" cy="140976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364" name="曲线连接符 18"/>
          <p:cNvCxnSpPr>
            <a:endCxn id="359" idx="0"/>
          </p:cNvCxnSpPr>
          <p:nvPr/>
        </p:nvCxnSpPr>
        <p:spPr>
          <a:xfrm flipV="1" rot="10800000">
            <a:off x="1691640" y="2886480"/>
            <a:ext cx="180360" cy="31428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365" name="曲线连接符 21"/>
          <p:cNvCxnSpPr>
            <a:endCxn id="361" idx="0"/>
          </p:cNvCxnSpPr>
          <p:nvPr/>
        </p:nvCxnSpPr>
        <p:spPr>
          <a:xfrm flipV="1" rot="10800000">
            <a:off x="5240880" y="2824920"/>
            <a:ext cx="109440" cy="35568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cxnSp>
        <p:nvCxnSpPr>
          <p:cNvPr id="366" name="曲线连接符 24"/>
          <p:cNvCxnSpPr>
            <a:stCxn id="355" idx="2"/>
            <a:endCxn id="362" idx="1"/>
          </p:cNvCxnSpPr>
          <p:nvPr/>
        </p:nvCxnSpPr>
        <p:spPr>
          <a:xfrm flipV="1" rot="10800000">
            <a:off x="6456960" y="2959200"/>
            <a:ext cx="1018440" cy="1532880"/>
          </a:xfrm>
          <a:prstGeom prst="curvedConnector2">
            <a:avLst/>
          </a:prstGeom>
          <a:ln>
            <a:solidFill>
              <a:srgbClr val="000000">
                <a:lumMod val="50000"/>
                <a:lumOff val="50000"/>
              </a:srgbClr>
            </a:solidFill>
            <a:round/>
            <a:tailEnd len="med" type="arrow" w="med"/>
          </a:ln>
        </p:spPr>
      </p:cxnSp>
      <p:sp>
        <p:nvSpPr>
          <p:cNvPr id="367" name="PlaceHolder 2"/>
          <p:cNvSpPr>
            <a:spLocks noGrp="1"/>
          </p:cNvSpPr>
          <p:nvPr>
            <p:ph type="sldNum" idx="26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5BB3478-E18F-4AD7-AA0A-F7B16B4908A5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EST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  <a:ea typeface="华康俪金黑W8"/>
              </a:rPr>
              <a:t>优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ldNum" idx="27"/>
          </p:nvPr>
        </p:nvSpPr>
        <p:spPr>
          <a:xfrm>
            <a:off x="8462880" y="929880"/>
            <a:ext cx="5738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Impac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576264C-0F1C-40AF-B8EC-B0E12D1F1585}" type="slidenum"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组合 17"/>
          <p:cNvGrpSpPr/>
          <p:nvPr/>
        </p:nvGrpSpPr>
        <p:grpSpPr>
          <a:xfrm>
            <a:off x="4020480" y="2199240"/>
            <a:ext cx="3386160" cy="638280"/>
            <a:chOff x="4020480" y="2199240"/>
            <a:chExt cx="3386160" cy="638280"/>
          </a:xfrm>
        </p:grpSpPr>
        <p:pic>
          <p:nvPicPr>
            <p:cNvPr id="371" name="图片 4" descr=""/>
            <p:cNvPicPr/>
            <p:nvPr/>
          </p:nvPicPr>
          <p:blipFill>
            <a:blip r:embed="rId1"/>
            <a:stretch/>
          </p:blipFill>
          <p:spPr>
            <a:xfrm>
              <a:off x="4020480" y="2279880"/>
              <a:ext cx="55080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矩形 8"/>
            <p:cNvSpPr/>
            <p:nvPr/>
          </p:nvSpPr>
          <p:spPr>
            <a:xfrm>
              <a:off x="5351040" y="2199240"/>
              <a:ext cx="20556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1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对现实现刻的欣赏和投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3" name="直接连接符 10"/>
          <p:cNvCxnSpPr/>
          <p:nvPr/>
        </p:nvCxnSpPr>
        <p:spPr>
          <a:xfrm>
            <a:off x="3672360" y="2927520"/>
            <a:ext cx="4500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grpSp>
        <p:nvGrpSpPr>
          <p:cNvPr id="374" name="组合 18"/>
          <p:cNvGrpSpPr/>
          <p:nvPr/>
        </p:nvGrpSpPr>
        <p:grpSpPr>
          <a:xfrm>
            <a:off x="4088160" y="3094920"/>
            <a:ext cx="3332160" cy="638280"/>
            <a:chOff x="4088160" y="3094920"/>
            <a:chExt cx="3332160" cy="638280"/>
          </a:xfrm>
        </p:grpSpPr>
        <p:pic>
          <p:nvPicPr>
            <p:cNvPr id="375" name="图片 6" descr=""/>
            <p:cNvPicPr/>
            <p:nvPr/>
          </p:nvPicPr>
          <p:blipFill>
            <a:blip r:embed="rId2"/>
            <a:stretch/>
          </p:blipFill>
          <p:spPr>
            <a:xfrm>
              <a:off x="4088160" y="3296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矩形 11"/>
            <p:cNvSpPr/>
            <p:nvPr/>
          </p:nvSpPr>
          <p:spPr>
            <a:xfrm>
              <a:off x="5364720" y="3094920"/>
              <a:ext cx="20556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2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能突破阻碍生产力的常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19"/>
          <p:cNvGrpSpPr/>
          <p:nvPr/>
        </p:nvGrpSpPr>
        <p:grpSpPr>
          <a:xfrm>
            <a:off x="4109760" y="4075560"/>
            <a:ext cx="2209680" cy="638280"/>
            <a:chOff x="4109760" y="4075560"/>
            <a:chExt cx="2209680" cy="638280"/>
          </a:xfrm>
        </p:grpSpPr>
        <p:pic>
          <p:nvPicPr>
            <p:cNvPr id="378" name="图片 5" descr=""/>
            <p:cNvPicPr/>
            <p:nvPr/>
          </p:nvPicPr>
          <p:blipFill>
            <a:blip r:embed="rId3"/>
            <a:stretch/>
          </p:blipFill>
          <p:spPr>
            <a:xfrm>
              <a:off x="4109760" y="4238280"/>
              <a:ext cx="394200" cy="3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矩形 12"/>
            <p:cNvSpPr/>
            <p:nvPr/>
          </p:nvSpPr>
          <p:spPr>
            <a:xfrm>
              <a:off x="5086800" y="4075560"/>
              <a:ext cx="12326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3.  </a:t>
              </a:r>
              <a:r>
                <a:rPr b="0" lang="zh-CN" sz="1800" spc="-1" strike="noStrike">
                  <a:solidFill>
                    <a:srgbClr val="404040"/>
                  </a:solidFill>
                  <a:latin typeface="Impact"/>
                  <a:ea typeface="微软雅黑"/>
                </a:rPr>
                <a:t>实干的风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80" name="直接连接符 14"/>
          <p:cNvCxnSpPr/>
          <p:nvPr/>
        </p:nvCxnSpPr>
        <p:spPr>
          <a:xfrm>
            <a:off x="3672360" y="3908160"/>
            <a:ext cx="4500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cxnSp>
        <p:nvCxnSpPr>
          <p:cNvPr id="381" name="直接连接符 15"/>
          <p:cNvCxnSpPr/>
          <p:nvPr/>
        </p:nvCxnSpPr>
        <p:spPr>
          <a:xfrm>
            <a:off x="3672360" y="4803840"/>
            <a:ext cx="4500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dash"/>
            <a:round/>
          </a:ln>
        </p:spPr>
      </p:cxnSp>
      <p:pic>
        <p:nvPicPr>
          <p:cNvPr id="382" name="图片 21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5">
                    <a14:imgEffect>
                      <a14:brightnessContrast bright="-100000" contrast="-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827640" y="1458000"/>
            <a:ext cx="2604960" cy="36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4_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5_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2_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6_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  <Words>919</Words>
  <Paragraphs>20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4:50Z</dcterms:created>
  <dc:creator>www.pptbz.com</dc:creator>
  <dc:description/>
  <dc:language>en-US</dc:language>
  <cp:lastModifiedBy>王玉清</cp:lastModifiedBy>
  <dcterms:modified xsi:type="dcterms:W3CDTF">2016-03-06T03:32:57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9)</vt:lpwstr>
  </property>
  <property fmtid="{D5CDD505-2E9C-101B-9397-08002B2CF9AE}" pid="4" name="Slides">
    <vt:r8>19</vt:r8>
  </property>
</Properties>
</file>