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F65-ED34-4A45-BB3C-61DBDEFA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5F4-7E2A-4BEE-B06D-0E3528C4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44B-F6D6-4795-B8C2-841467EE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24D-B902-4536-9968-72F4FA6E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101-CF40-46C8-8750-A42B3EC3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A2B-EB2E-4DDA-8A21-347443A0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5C3-E21D-4343-9FCD-C448F8BB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ABE-F6F2-468D-9CA1-B72E6F1A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7A0-708F-4055-91D7-CBF19F96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8A06-68C8-4F1F-86F4-E11A8FFD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AD3-A86C-4C77-9A10-00E69F47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DEE-B5D0-4E49-9B43-3DA54331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845781-DAD5-416B-96EC-9FD8D066928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任意多边形 32"/>
          <p:cNvSpPr/>
          <p:nvPr/>
        </p:nvSpPr>
        <p:spPr>
          <a:xfrm>
            <a:off x="4055760" y="3702240"/>
            <a:ext cx="3966120" cy="725760"/>
          </a:xfrm>
          <a:custGeom>
            <a:avLst/>
            <a:gdLst>
              <a:gd name="textAreaLeft" fmla="*/ 0 w 3966120"/>
              <a:gd name="textAreaRight" fmla="*/ 3966480 w 3966120"/>
              <a:gd name="textAreaTop" fmla="*/ 0 h 725760"/>
              <a:gd name="textAreaBottom" fmla="*/ 726120 h 725760"/>
            </a:gdLst>
            <a:ahLst/>
            <a:rect l="textAreaLeft" t="textAreaTop" r="textAreaRight" b="textAreaBottom"/>
            <a:pathLst>
              <a:path w="3966367" h="726217">
                <a:moveTo>
                  <a:pt x="133773" y="0"/>
                </a:moveTo>
                <a:lnTo>
                  <a:pt x="3858152" y="0"/>
                </a:lnTo>
                <a:cubicBezTo>
                  <a:pt x="3880829" y="0"/>
                  <a:pt x="3902970" y="2298"/>
                  <a:pt x="3924353" y="6674"/>
                </a:cubicBezTo>
                <a:lnTo>
                  <a:pt x="3966367" y="19716"/>
                </a:lnTo>
                <a:lnTo>
                  <a:pt x="3966367" y="293303"/>
                </a:lnTo>
                <a:cubicBezTo>
                  <a:pt x="3966367" y="532395"/>
                  <a:pt x="3772545" y="726217"/>
                  <a:pt x="3533453" y="726217"/>
                </a:cubicBezTo>
                <a:lnTo>
                  <a:pt x="432914" y="726217"/>
                </a:lnTo>
                <a:cubicBezTo>
                  <a:pt x="193822" y="726217"/>
                  <a:pt x="0" y="532395"/>
                  <a:pt x="0" y="293303"/>
                </a:cubicBezTo>
                <a:lnTo>
                  <a:pt x="0" y="29023"/>
                </a:lnTo>
                <a:lnTo>
                  <a:pt x="5913" y="25814"/>
                </a:lnTo>
                <a:cubicBezTo>
                  <a:pt x="45212" y="9192"/>
                  <a:pt x="88419" y="0"/>
                  <a:pt x="133773" y="0"/>
                </a:cubicBezTo>
                <a:close/>
              </a:path>
            </a:pathLst>
          </a:custGeom>
          <a:gradFill rotWithShape="0">
            <a:gsLst>
              <a:gs pos="0">
                <a:srgbClr val="74b349"/>
              </a:gs>
              <a:gs pos="100000">
                <a:srgbClr val="a9d18e"/>
              </a:gs>
            </a:gsLst>
            <a:lin ang="16200000"/>
          </a:gra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任意多边形 31"/>
          <p:cNvSpPr/>
          <p:nvPr/>
        </p:nvSpPr>
        <p:spPr>
          <a:xfrm>
            <a:off x="4055760" y="1767600"/>
            <a:ext cx="3966120" cy="1899720"/>
          </a:xfrm>
          <a:custGeom>
            <a:avLst/>
            <a:gdLst>
              <a:gd name="textAreaLeft" fmla="*/ 0 w 3966120"/>
              <a:gd name="textAreaRight" fmla="*/ 3966480 w 3966120"/>
              <a:gd name="textAreaTop" fmla="*/ 0 h 1899720"/>
              <a:gd name="textAreaBottom" fmla="*/ 1900080 h 1899720"/>
            </a:gdLst>
            <a:ahLst/>
            <a:rect l="textAreaLeft" t="textAreaTop" r="textAreaRight" b="textAreaBottom"/>
            <a:pathLst>
              <a:path w="3966367" h="1900236">
                <a:moveTo>
                  <a:pt x="432914" y="0"/>
                </a:moveTo>
                <a:lnTo>
                  <a:pt x="3533453" y="0"/>
                </a:lnTo>
                <a:cubicBezTo>
                  <a:pt x="3772545" y="0"/>
                  <a:pt x="3966367" y="193822"/>
                  <a:pt x="3966367" y="432914"/>
                </a:cubicBezTo>
                <a:lnTo>
                  <a:pt x="3966367" y="1890929"/>
                </a:lnTo>
                <a:lnTo>
                  <a:pt x="3924353" y="1877887"/>
                </a:lnTo>
                <a:cubicBezTo>
                  <a:pt x="3902970" y="1873511"/>
                  <a:pt x="3880829" y="1871213"/>
                  <a:pt x="3858152" y="1871213"/>
                </a:cubicBezTo>
                <a:lnTo>
                  <a:pt x="133773" y="1871213"/>
                </a:lnTo>
                <a:cubicBezTo>
                  <a:pt x="88419" y="1871213"/>
                  <a:pt x="45212" y="1880405"/>
                  <a:pt x="5913" y="1897027"/>
                </a:cubicBezTo>
                <a:lnTo>
                  <a:pt x="0" y="1900236"/>
                </a:lnTo>
                <a:lnTo>
                  <a:pt x="0" y="432914"/>
                </a:lnTo>
                <a:cubicBezTo>
                  <a:pt x="0" y="193822"/>
                  <a:pt x="193822" y="0"/>
                  <a:pt x="432914" y="0"/>
                </a:cubicBezTo>
                <a:close/>
              </a:path>
            </a:pathLst>
          </a:custGeom>
          <a:noFill/>
          <a:ln w="15875">
            <a:solidFill>
              <a:srgbClr val="5b9bd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文本框 22"/>
          <p:cNvSpPr/>
          <p:nvPr/>
        </p:nvSpPr>
        <p:spPr>
          <a:xfrm>
            <a:off x="3703320" y="1553400"/>
            <a:ext cx="500148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600" spc="-1" strike="noStrike">
                <a:solidFill>
                  <a:srgbClr val="ffffff"/>
                </a:solidFill>
                <a:latin typeface="Zag Regular"/>
                <a:ea typeface="Microsoft JhengHei"/>
              </a:rPr>
              <a:t>2015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9"/>
          <p:cNvSpPr/>
          <p:nvPr/>
        </p:nvSpPr>
        <p:spPr>
          <a:xfrm>
            <a:off x="10053360" y="5269320"/>
            <a:ext cx="1345680" cy="13456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3938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椭圆 10"/>
          <p:cNvSpPr/>
          <p:nvPr/>
        </p:nvSpPr>
        <p:spPr>
          <a:xfrm>
            <a:off x="3480120" y="294624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椭圆 11"/>
          <p:cNvSpPr/>
          <p:nvPr/>
        </p:nvSpPr>
        <p:spPr>
          <a:xfrm>
            <a:off x="8356680" y="207648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椭圆 12"/>
          <p:cNvSpPr/>
          <p:nvPr/>
        </p:nvSpPr>
        <p:spPr>
          <a:xfrm>
            <a:off x="1476360" y="2334240"/>
            <a:ext cx="478800" cy="478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椭圆 13"/>
          <p:cNvSpPr/>
          <p:nvPr/>
        </p:nvSpPr>
        <p:spPr>
          <a:xfrm>
            <a:off x="587520" y="5269320"/>
            <a:ext cx="1162800" cy="1162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412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椭圆 23"/>
          <p:cNvSpPr/>
          <p:nvPr/>
        </p:nvSpPr>
        <p:spPr>
          <a:xfrm>
            <a:off x="8534520" y="85716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椭圆 24"/>
          <p:cNvSpPr/>
          <p:nvPr/>
        </p:nvSpPr>
        <p:spPr>
          <a:xfrm>
            <a:off x="5806440" y="138420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椭圆 25"/>
          <p:cNvSpPr/>
          <p:nvPr/>
        </p:nvSpPr>
        <p:spPr>
          <a:xfrm>
            <a:off x="3098880" y="425448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文本框 26"/>
          <p:cNvSpPr/>
          <p:nvPr/>
        </p:nvSpPr>
        <p:spPr>
          <a:xfrm>
            <a:off x="2922480" y="3711600"/>
            <a:ext cx="6232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星空背景个人工作总结报告通用</a:t>
            </a:r>
            <a:r>
              <a:rPr b="1" lang="en-US" sz="4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47"/>
          <p:cNvSpPr/>
          <p:nvPr/>
        </p:nvSpPr>
        <p:spPr>
          <a:xfrm>
            <a:off x="2559960" y="2446200"/>
            <a:ext cx="6818400" cy="691920"/>
          </a:xfrm>
          <a:custGeom>
            <a:avLst/>
            <a:gdLst>
              <a:gd name="textAreaLeft" fmla="*/ 0 w 6818400"/>
              <a:gd name="textAreaRight" fmla="*/ 6818760 w 6818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任意多边形 48"/>
          <p:cNvSpPr/>
          <p:nvPr/>
        </p:nvSpPr>
        <p:spPr>
          <a:xfrm>
            <a:off x="2559960" y="3398400"/>
            <a:ext cx="6818400" cy="691920"/>
          </a:xfrm>
          <a:custGeom>
            <a:avLst/>
            <a:gdLst>
              <a:gd name="textAreaLeft" fmla="*/ 0 w 6818400"/>
              <a:gd name="textAreaRight" fmla="*/ 6818760 w 6818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任意多边形 49"/>
          <p:cNvSpPr/>
          <p:nvPr/>
        </p:nvSpPr>
        <p:spPr>
          <a:xfrm>
            <a:off x="2559960" y="4350600"/>
            <a:ext cx="6818400" cy="691920"/>
          </a:xfrm>
          <a:custGeom>
            <a:avLst/>
            <a:gdLst>
              <a:gd name="textAreaLeft" fmla="*/ 0 w 6818400"/>
              <a:gd name="textAreaRight" fmla="*/ 6818760 w 6818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任意多边形 50"/>
          <p:cNvSpPr/>
          <p:nvPr/>
        </p:nvSpPr>
        <p:spPr>
          <a:xfrm>
            <a:off x="2559960" y="5302440"/>
            <a:ext cx="6818400" cy="691920"/>
          </a:xfrm>
          <a:custGeom>
            <a:avLst/>
            <a:gdLst>
              <a:gd name="textAreaLeft" fmla="*/ 0 w 6818400"/>
              <a:gd name="textAreaRight" fmla="*/ 6818760 w 6818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任意多边形 46"/>
          <p:cNvSpPr/>
          <p:nvPr/>
        </p:nvSpPr>
        <p:spPr>
          <a:xfrm>
            <a:off x="2559960" y="1494000"/>
            <a:ext cx="6818400" cy="691920"/>
          </a:xfrm>
          <a:custGeom>
            <a:avLst/>
            <a:gdLst>
              <a:gd name="textAreaLeft" fmla="*/ 0 w 6818400"/>
              <a:gd name="textAreaRight" fmla="*/ 6818760 w 6818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椭圆 9"/>
          <p:cNvSpPr/>
          <p:nvPr/>
        </p:nvSpPr>
        <p:spPr>
          <a:xfrm>
            <a:off x="10053360" y="5269320"/>
            <a:ext cx="1345680" cy="13456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3938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3480120" y="294624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椭圆 11"/>
          <p:cNvSpPr/>
          <p:nvPr/>
        </p:nvSpPr>
        <p:spPr>
          <a:xfrm>
            <a:off x="8356680" y="207648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椭圆 12"/>
          <p:cNvSpPr/>
          <p:nvPr/>
        </p:nvSpPr>
        <p:spPr>
          <a:xfrm>
            <a:off x="1476360" y="2334240"/>
            <a:ext cx="478800" cy="478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椭圆 13"/>
          <p:cNvSpPr/>
          <p:nvPr/>
        </p:nvSpPr>
        <p:spPr>
          <a:xfrm>
            <a:off x="11034360" y="609480"/>
            <a:ext cx="495000" cy="4950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椭圆 23"/>
          <p:cNvSpPr/>
          <p:nvPr/>
        </p:nvSpPr>
        <p:spPr>
          <a:xfrm>
            <a:off x="8534520" y="85716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椭圆 24"/>
          <p:cNvSpPr/>
          <p:nvPr/>
        </p:nvSpPr>
        <p:spPr>
          <a:xfrm>
            <a:off x="5806440" y="138420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椭圆 25"/>
          <p:cNvSpPr/>
          <p:nvPr/>
        </p:nvSpPr>
        <p:spPr>
          <a:xfrm>
            <a:off x="3098880" y="425448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任意多边形 14"/>
          <p:cNvSpPr/>
          <p:nvPr/>
        </p:nvSpPr>
        <p:spPr>
          <a:xfrm>
            <a:off x="4055760" y="-865080"/>
            <a:ext cx="3966120" cy="1899720"/>
          </a:xfrm>
          <a:custGeom>
            <a:avLst/>
            <a:gdLst>
              <a:gd name="textAreaLeft" fmla="*/ 0 w 3966120"/>
              <a:gd name="textAreaRight" fmla="*/ 3966480 w 3966120"/>
              <a:gd name="textAreaTop" fmla="*/ 0 h 1899720"/>
              <a:gd name="textAreaBottom" fmla="*/ 1900080 h 1899720"/>
            </a:gdLst>
            <a:ahLst/>
            <a:rect l="textAreaLeft" t="textAreaTop" r="textAreaRight" b="textAreaBottom"/>
            <a:pathLst>
              <a:path w="3966367" h="1900236">
                <a:moveTo>
                  <a:pt x="432914" y="0"/>
                </a:moveTo>
                <a:lnTo>
                  <a:pt x="3533453" y="0"/>
                </a:lnTo>
                <a:cubicBezTo>
                  <a:pt x="3772545" y="0"/>
                  <a:pt x="3966367" y="193822"/>
                  <a:pt x="3966367" y="432914"/>
                </a:cubicBezTo>
                <a:lnTo>
                  <a:pt x="3966367" y="1890929"/>
                </a:lnTo>
                <a:lnTo>
                  <a:pt x="3924353" y="1877887"/>
                </a:lnTo>
                <a:cubicBezTo>
                  <a:pt x="3902970" y="1873511"/>
                  <a:pt x="3880829" y="1871213"/>
                  <a:pt x="3858152" y="1871213"/>
                </a:cubicBezTo>
                <a:lnTo>
                  <a:pt x="133773" y="1871213"/>
                </a:lnTo>
                <a:cubicBezTo>
                  <a:pt x="88419" y="1871213"/>
                  <a:pt x="45212" y="1880405"/>
                  <a:pt x="5913" y="1897027"/>
                </a:cubicBezTo>
                <a:lnTo>
                  <a:pt x="0" y="1900236"/>
                </a:lnTo>
                <a:lnTo>
                  <a:pt x="0" y="432914"/>
                </a:lnTo>
                <a:cubicBezTo>
                  <a:pt x="0" y="193822"/>
                  <a:pt x="193822" y="0"/>
                  <a:pt x="432914" y="0"/>
                </a:cubicBezTo>
                <a:close/>
              </a:path>
            </a:pathLst>
          </a:custGeom>
          <a:noFill/>
          <a:ln w="15875"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" name="文本框 15"/>
          <p:cNvSpPr/>
          <p:nvPr/>
        </p:nvSpPr>
        <p:spPr>
          <a:xfrm>
            <a:off x="5673960" y="2109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9"/>
          <p:cNvSpPr/>
          <p:nvPr/>
        </p:nvSpPr>
        <p:spPr>
          <a:xfrm>
            <a:off x="4103280" y="2599200"/>
            <a:ext cx="1704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星空背景个人工作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5"/>
          <p:cNvSpPr/>
          <p:nvPr/>
        </p:nvSpPr>
        <p:spPr>
          <a:xfrm>
            <a:off x="4207320" y="3551400"/>
            <a:ext cx="2009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星空背景个人工作总结报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9"/>
          <p:cNvSpPr/>
          <p:nvPr/>
        </p:nvSpPr>
        <p:spPr>
          <a:xfrm>
            <a:off x="4207320" y="4503600"/>
            <a:ext cx="2009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星空背景个人工作总结报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3"/>
          <p:cNvSpPr/>
          <p:nvPr/>
        </p:nvSpPr>
        <p:spPr>
          <a:xfrm>
            <a:off x="4207320" y="5456160"/>
            <a:ext cx="2009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星空背景个人工作总结报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1"/>
          <p:cNvSpPr/>
          <p:nvPr/>
        </p:nvSpPr>
        <p:spPr>
          <a:xfrm>
            <a:off x="587520" y="5269320"/>
            <a:ext cx="1162800" cy="1162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412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任意多边形 53"/>
          <p:cNvSpPr/>
          <p:nvPr/>
        </p:nvSpPr>
        <p:spPr>
          <a:xfrm>
            <a:off x="2559960" y="149400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2697840" y="145548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54"/>
          <p:cNvSpPr/>
          <p:nvPr/>
        </p:nvSpPr>
        <p:spPr>
          <a:xfrm>
            <a:off x="2559960" y="244620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文本框 55"/>
          <p:cNvSpPr/>
          <p:nvPr/>
        </p:nvSpPr>
        <p:spPr>
          <a:xfrm>
            <a:off x="2697840" y="240732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56"/>
          <p:cNvSpPr/>
          <p:nvPr/>
        </p:nvSpPr>
        <p:spPr>
          <a:xfrm>
            <a:off x="2559960" y="339840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" name="文本框 57"/>
          <p:cNvSpPr/>
          <p:nvPr/>
        </p:nvSpPr>
        <p:spPr>
          <a:xfrm>
            <a:off x="2697840" y="335952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58"/>
          <p:cNvSpPr/>
          <p:nvPr/>
        </p:nvSpPr>
        <p:spPr>
          <a:xfrm>
            <a:off x="2559960" y="435060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文本框 59"/>
          <p:cNvSpPr/>
          <p:nvPr/>
        </p:nvSpPr>
        <p:spPr>
          <a:xfrm>
            <a:off x="2697840" y="431172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60"/>
          <p:cNvSpPr/>
          <p:nvPr/>
        </p:nvSpPr>
        <p:spPr>
          <a:xfrm>
            <a:off x="2559960" y="530244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文本框 61"/>
          <p:cNvSpPr/>
          <p:nvPr/>
        </p:nvSpPr>
        <p:spPr>
          <a:xfrm>
            <a:off x="2697840" y="526392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任意多边形 50"/>
          <p:cNvSpPr/>
          <p:nvPr/>
        </p:nvSpPr>
        <p:spPr>
          <a:xfrm>
            <a:off x="1715760" y="2946240"/>
            <a:ext cx="8736480" cy="767520"/>
          </a:xfrm>
          <a:custGeom>
            <a:avLst/>
            <a:gdLst>
              <a:gd name="textAreaLeft" fmla="*/ 0 w 8736480"/>
              <a:gd name="textAreaRight" fmla="*/ 8736840 w 8736480"/>
              <a:gd name="textAreaTop" fmla="*/ 0 h 767520"/>
              <a:gd name="textAreaBottom" fmla="*/ 767880 h 7675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椭圆 9"/>
          <p:cNvSpPr/>
          <p:nvPr/>
        </p:nvSpPr>
        <p:spPr>
          <a:xfrm>
            <a:off x="10053360" y="5269320"/>
            <a:ext cx="1345680" cy="13456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3938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椭圆 10"/>
          <p:cNvSpPr/>
          <p:nvPr/>
        </p:nvSpPr>
        <p:spPr>
          <a:xfrm>
            <a:off x="3480120" y="294624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椭圆 11"/>
          <p:cNvSpPr/>
          <p:nvPr/>
        </p:nvSpPr>
        <p:spPr>
          <a:xfrm>
            <a:off x="8356680" y="207648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椭圆 12"/>
          <p:cNvSpPr/>
          <p:nvPr/>
        </p:nvSpPr>
        <p:spPr>
          <a:xfrm>
            <a:off x="1476360" y="2334240"/>
            <a:ext cx="478800" cy="478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椭圆 13"/>
          <p:cNvSpPr/>
          <p:nvPr/>
        </p:nvSpPr>
        <p:spPr>
          <a:xfrm>
            <a:off x="11034360" y="609480"/>
            <a:ext cx="495000" cy="4950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椭圆 23"/>
          <p:cNvSpPr/>
          <p:nvPr/>
        </p:nvSpPr>
        <p:spPr>
          <a:xfrm>
            <a:off x="8534520" y="85716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椭圆 24"/>
          <p:cNvSpPr/>
          <p:nvPr/>
        </p:nvSpPr>
        <p:spPr>
          <a:xfrm>
            <a:off x="5806440" y="138420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椭圆 25"/>
          <p:cNvSpPr/>
          <p:nvPr/>
        </p:nvSpPr>
        <p:spPr>
          <a:xfrm>
            <a:off x="3098880" y="425448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文本框 15"/>
          <p:cNvSpPr/>
          <p:nvPr/>
        </p:nvSpPr>
        <p:spPr>
          <a:xfrm>
            <a:off x="3980880" y="3063600"/>
            <a:ext cx="2741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星空背景个人工作总结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31"/>
          <p:cNvSpPr/>
          <p:nvPr/>
        </p:nvSpPr>
        <p:spPr>
          <a:xfrm>
            <a:off x="552600" y="5452560"/>
            <a:ext cx="1162800" cy="1162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412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任意多边形 55"/>
          <p:cNvSpPr/>
          <p:nvPr/>
        </p:nvSpPr>
        <p:spPr>
          <a:xfrm>
            <a:off x="1721520" y="2946240"/>
            <a:ext cx="919800" cy="762840"/>
          </a:xfrm>
          <a:custGeom>
            <a:avLst/>
            <a:gdLst>
              <a:gd name="textAreaLeft" fmla="*/ 0 w 919800"/>
              <a:gd name="textAreaRight" fmla="*/ 920160 w 919800"/>
              <a:gd name="textAreaTop" fmla="*/ 0 h 762840"/>
              <a:gd name="textAreaBottom" fmla="*/ 763200 h 76284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文本框 56"/>
          <p:cNvSpPr/>
          <p:nvPr/>
        </p:nvSpPr>
        <p:spPr>
          <a:xfrm>
            <a:off x="1833480" y="2909520"/>
            <a:ext cx="514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任意多边形 14"/>
          <p:cNvSpPr/>
          <p:nvPr/>
        </p:nvSpPr>
        <p:spPr>
          <a:xfrm>
            <a:off x="1715760" y="690840"/>
            <a:ext cx="8736480" cy="767520"/>
          </a:xfrm>
          <a:custGeom>
            <a:avLst/>
            <a:gdLst>
              <a:gd name="textAreaLeft" fmla="*/ 0 w 8736480"/>
              <a:gd name="textAreaRight" fmla="*/ 8736840 w 8736480"/>
              <a:gd name="textAreaTop" fmla="*/ 0 h 767520"/>
              <a:gd name="textAreaBottom" fmla="*/ 767880 h 7675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椭圆 9"/>
          <p:cNvSpPr/>
          <p:nvPr/>
        </p:nvSpPr>
        <p:spPr>
          <a:xfrm>
            <a:off x="10053360" y="5269320"/>
            <a:ext cx="1345680" cy="13456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3938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椭圆 10"/>
          <p:cNvSpPr/>
          <p:nvPr/>
        </p:nvSpPr>
        <p:spPr>
          <a:xfrm>
            <a:off x="3480120" y="294624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椭圆 11"/>
          <p:cNvSpPr/>
          <p:nvPr/>
        </p:nvSpPr>
        <p:spPr>
          <a:xfrm>
            <a:off x="8356680" y="207648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椭圆 12"/>
          <p:cNvSpPr/>
          <p:nvPr/>
        </p:nvSpPr>
        <p:spPr>
          <a:xfrm>
            <a:off x="1476360" y="2334240"/>
            <a:ext cx="478800" cy="478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椭圆 13"/>
          <p:cNvSpPr/>
          <p:nvPr/>
        </p:nvSpPr>
        <p:spPr>
          <a:xfrm>
            <a:off x="11034360" y="609480"/>
            <a:ext cx="495000" cy="4950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椭圆 23"/>
          <p:cNvSpPr/>
          <p:nvPr/>
        </p:nvSpPr>
        <p:spPr>
          <a:xfrm>
            <a:off x="8534520" y="85716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椭圆 24"/>
          <p:cNvSpPr/>
          <p:nvPr/>
        </p:nvSpPr>
        <p:spPr>
          <a:xfrm>
            <a:off x="5806440" y="138420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椭圆 25"/>
          <p:cNvSpPr/>
          <p:nvPr/>
        </p:nvSpPr>
        <p:spPr>
          <a:xfrm>
            <a:off x="3098880" y="425448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文本框 15"/>
          <p:cNvSpPr/>
          <p:nvPr/>
        </p:nvSpPr>
        <p:spPr>
          <a:xfrm>
            <a:off x="3408480" y="830520"/>
            <a:ext cx="2741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星空背景个人工作总结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31"/>
          <p:cNvSpPr/>
          <p:nvPr/>
        </p:nvSpPr>
        <p:spPr>
          <a:xfrm>
            <a:off x="552600" y="5452560"/>
            <a:ext cx="1162800" cy="1162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412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任意多边形 16"/>
          <p:cNvSpPr/>
          <p:nvPr/>
        </p:nvSpPr>
        <p:spPr>
          <a:xfrm>
            <a:off x="1097640" y="2632320"/>
            <a:ext cx="2293200" cy="3262320"/>
          </a:xfrm>
          <a:custGeom>
            <a:avLst/>
            <a:gdLst>
              <a:gd name="textAreaLeft" fmla="*/ 0 w 2293200"/>
              <a:gd name="textAreaRight" fmla="*/ 2293560 w 2293200"/>
              <a:gd name="textAreaTop" fmla="*/ 0 h 3262320"/>
              <a:gd name="textAreaBottom" fmla="*/ 3262680 h 32623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任意多边形 17"/>
          <p:cNvSpPr/>
          <p:nvPr/>
        </p:nvSpPr>
        <p:spPr>
          <a:xfrm>
            <a:off x="1305720" y="207072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文本框 18"/>
          <p:cNvSpPr/>
          <p:nvPr/>
        </p:nvSpPr>
        <p:spPr>
          <a:xfrm>
            <a:off x="1443600" y="203184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45"/>
          <p:cNvSpPr/>
          <p:nvPr/>
        </p:nvSpPr>
        <p:spPr>
          <a:xfrm>
            <a:off x="3714480" y="2632320"/>
            <a:ext cx="2293200" cy="3262320"/>
          </a:xfrm>
          <a:custGeom>
            <a:avLst/>
            <a:gdLst>
              <a:gd name="textAreaLeft" fmla="*/ 0 w 2293200"/>
              <a:gd name="textAreaRight" fmla="*/ 2293560 w 2293200"/>
              <a:gd name="textAreaTop" fmla="*/ 0 h 3262320"/>
              <a:gd name="textAreaBottom" fmla="*/ 3262680 h 32623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任意多边形 47"/>
          <p:cNvSpPr/>
          <p:nvPr/>
        </p:nvSpPr>
        <p:spPr>
          <a:xfrm>
            <a:off x="3922560" y="207072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文本框 48"/>
          <p:cNvSpPr/>
          <p:nvPr/>
        </p:nvSpPr>
        <p:spPr>
          <a:xfrm>
            <a:off x="4060440" y="203184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51"/>
          <p:cNvSpPr/>
          <p:nvPr/>
        </p:nvSpPr>
        <p:spPr>
          <a:xfrm>
            <a:off x="6331320" y="2632320"/>
            <a:ext cx="2293200" cy="3262320"/>
          </a:xfrm>
          <a:custGeom>
            <a:avLst/>
            <a:gdLst>
              <a:gd name="textAreaLeft" fmla="*/ 0 w 2293200"/>
              <a:gd name="textAreaRight" fmla="*/ 2293560 w 2293200"/>
              <a:gd name="textAreaTop" fmla="*/ 0 h 3262320"/>
              <a:gd name="textAreaBottom" fmla="*/ 3262680 h 32623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任意多边形 52"/>
          <p:cNvSpPr/>
          <p:nvPr/>
        </p:nvSpPr>
        <p:spPr>
          <a:xfrm>
            <a:off x="6539400" y="207072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文本框 53"/>
          <p:cNvSpPr/>
          <p:nvPr/>
        </p:nvSpPr>
        <p:spPr>
          <a:xfrm>
            <a:off x="6677280" y="203184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55"/>
          <p:cNvSpPr/>
          <p:nvPr/>
        </p:nvSpPr>
        <p:spPr>
          <a:xfrm>
            <a:off x="8948160" y="2632320"/>
            <a:ext cx="2293200" cy="3262320"/>
          </a:xfrm>
          <a:custGeom>
            <a:avLst/>
            <a:gdLst>
              <a:gd name="textAreaLeft" fmla="*/ 0 w 2293200"/>
              <a:gd name="textAreaRight" fmla="*/ 2293560 w 2293200"/>
              <a:gd name="textAreaTop" fmla="*/ 0 h 3262320"/>
              <a:gd name="textAreaBottom" fmla="*/ 3262680 h 32623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任意多边形 56"/>
          <p:cNvSpPr/>
          <p:nvPr/>
        </p:nvSpPr>
        <p:spPr>
          <a:xfrm>
            <a:off x="9156240" y="207072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文本框 57"/>
          <p:cNvSpPr/>
          <p:nvPr/>
        </p:nvSpPr>
        <p:spPr>
          <a:xfrm>
            <a:off x="9294120" y="203184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91372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任意多边形 50"/>
          <p:cNvSpPr/>
          <p:nvPr/>
        </p:nvSpPr>
        <p:spPr>
          <a:xfrm>
            <a:off x="1715760" y="1655640"/>
            <a:ext cx="8736480" cy="767520"/>
          </a:xfrm>
          <a:custGeom>
            <a:avLst/>
            <a:gdLst>
              <a:gd name="textAreaLeft" fmla="*/ 0 w 8736480"/>
              <a:gd name="textAreaRight" fmla="*/ 8736840 w 8736480"/>
              <a:gd name="textAreaTop" fmla="*/ 0 h 767520"/>
              <a:gd name="textAreaBottom" fmla="*/ 767880 h 7675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椭圆 9"/>
          <p:cNvSpPr/>
          <p:nvPr/>
        </p:nvSpPr>
        <p:spPr>
          <a:xfrm>
            <a:off x="10053360" y="5269320"/>
            <a:ext cx="1345680" cy="13456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3938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椭圆 10"/>
          <p:cNvSpPr/>
          <p:nvPr/>
        </p:nvSpPr>
        <p:spPr>
          <a:xfrm>
            <a:off x="3480120" y="294624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椭圆 11"/>
          <p:cNvSpPr/>
          <p:nvPr/>
        </p:nvSpPr>
        <p:spPr>
          <a:xfrm>
            <a:off x="8356680" y="207648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椭圆 12"/>
          <p:cNvSpPr/>
          <p:nvPr/>
        </p:nvSpPr>
        <p:spPr>
          <a:xfrm>
            <a:off x="1476360" y="2334240"/>
            <a:ext cx="478800" cy="478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椭圆 13"/>
          <p:cNvSpPr/>
          <p:nvPr/>
        </p:nvSpPr>
        <p:spPr>
          <a:xfrm>
            <a:off x="11034360" y="609480"/>
            <a:ext cx="495000" cy="4950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椭圆 23"/>
          <p:cNvSpPr/>
          <p:nvPr/>
        </p:nvSpPr>
        <p:spPr>
          <a:xfrm>
            <a:off x="8534520" y="85716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椭圆 24"/>
          <p:cNvSpPr/>
          <p:nvPr/>
        </p:nvSpPr>
        <p:spPr>
          <a:xfrm>
            <a:off x="5806440" y="138420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椭圆 25"/>
          <p:cNvSpPr/>
          <p:nvPr/>
        </p:nvSpPr>
        <p:spPr>
          <a:xfrm>
            <a:off x="3098880" y="425448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文本框 15"/>
          <p:cNvSpPr/>
          <p:nvPr/>
        </p:nvSpPr>
        <p:spPr>
          <a:xfrm>
            <a:off x="3980880" y="1772640"/>
            <a:ext cx="2741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星空背景个人工作总结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31"/>
          <p:cNvSpPr/>
          <p:nvPr/>
        </p:nvSpPr>
        <p:spPr>
          <a:xfrm>
            <a:off x="552600" y="5452560"/>
            <a:ext cx="1162800" cy="1162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412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任意多边形 55"/>
          <p:cNvSpPr/>
          <p:nvPr/>
        </p:nvSpPr>
        <p:spPr>
          <a:xfrm>
            <a:off x="1721520" y="1655640"/>
            <a:ext cx="919800" cy="762840"/>
          </a:xfrm>
          <a:custGeom>
            <a:avLst/>
            <a:gdLst>
              <a:gd name="textAreaLeft" fmla="*/ 0 w 919800"/>
              <a:gd name="textAreaRight" fmla="*/ 920160 w 919800"/>
              <a:gd name="textAreaTop" fmla="*/ 0 h 762840"/>
              <a:gd name="textAreaBottom" fmla="*/ 763200 h 76284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文本框 56"/>
          <p:cNvSpPr/>
          <p:nvPr/>
        </p:nvSpPr>
        <p:spPr>
          <a:xfrm>
            <a:off x="1833480" y="1618920"/>
            <a:ext cx="514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98320" y="63108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椭圆 9"/>
          <p:cNvSpPr/>
          <p:nvPr/>
        </p:nvSpPr>
        <p:spPr>
          <a:xfrm>
            <a:off x="6198120" y="1403280"/>
            <a:ext cx="1345680" cy="13456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3938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椭圆 10"/>
          <p:cNvSpPr/>
          <p:nvPr/>
        </p:nvSpPr>
        <p:spPr>
          <a:xfrm>
            <a:off x="3480120" y="294624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椭圆 11"/>
          <p:cNvSpPr/>
          <p:nvPr/>
        </p:nvSpPr>
        <p:spPr>
          <a:xfrm>
            <a:off x="8356680" y="207648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椭圆 12"/>
          <p:cNvSpPr/>
          <p:nvPr/>
        </p:nvSpPr>
        <p:spPr>
          <a:xfrm>
            <a:off x="8872920" y="2803680"/>
            <a:ext cx="478800" cy="478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椭圆 13"/>
          <p:cNvSpPr/>
          <p:nvPr/>
        </p:nvSpPr>
        <p:spPr>
          <a:xfrm>
            <a:off x="7296480" y="4703400"/>
            <a:ext cx="495000" cy="4950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椭圆 23"/>
          <p:cNvSpPr/>
          <p:nvPr/>
        </p:nvSpPr>
        <p:spPr>
          <a:xfrm>
            <a:off x="4579920" y="410040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椭圆 24"/>
          <p:cNvSpPr/>
          <p:nvPr/>
        </p:nvSpPr>
        <p:spPr>
          <a:xfrm>
            <a:off x="5806440" y="138420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椭圆 25"/>
          <p:cNvSpPr/>
          <p:nvPr/>
        </p:nvSpPr>
        <p:spPr>
          <a:xfrm>
            <a:off x="3098880" y="425448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椭圆 31"/>
          <p:cNvSpPr/>
          <p:nvPr/>
        </p:nvSpPr>
        <p:spPr>
          <a:xfrm>
            <a:off x="3753000" y="3535920"/>
            <a:ext cx="801720" cy="8017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412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文本框 14"/>
          <p:cNvSpPr/>
          <p:nvPr/>
        </p:nvSpPr>
        <p:spPr>
          <a:xfrm>
            <a:off x="3758760" y="2382120"/>
            <a:ext cx="48902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8"/>
          <p:cNvSpPr/>
          <p:nvPr/>
        </p:nvSpPr>
        <p:spPr>
          <a:xfrm flipV="1">
            <a:off x="2206080" y="3928680"/>
            <a:ext cx="7986960" cy="45360"/>
          </a:xfrm>
          <a:custGeom>
            <a:avLst/>
            <a:gdLst>
              <a:gd name="textAreaLeft" fmla="*/ 0 w 7986960"/>
              <a:gd name="textAreaRight" fmla="*/ 7987320 w 7986960"/>
              <a:gd name="textAreaTop" fmla="*/ 360 h 45360"/>
              <a:gd name="textAreaBottom" fmla="*/ 46080 h 45360"/>
            </a:gdLst>
            <a:ahLst/>
            <a:rect l="textAreaLeft" t="textAreaTop" r="textAreaRight" b="textAreaBottom"/>
            <a:pathLst>
              <a:path w="7987291" h="41810">
                <a:moveTo>
                  <a:pt x="103612" y="0"/>
                </a:moveTo>
                <a:lnTo>
                  <a:pt x="7987291" y="0"/>
                </a:lnTo>
                <a:lnTo>
                  <a:pt x="7980092" y="6689"/>
                </a:lnTo>
                <a:cubicBezTo>
                  <a:pt x="7948950" y="29717"/>
                  <a:pt x="7916705" y="41810"/>
                  <a:pt x="7883679" y="41810"/>
                </a:cubicBezTo>
                <a:lnTo>
                  <a:pt x="0" y="41810"/>
                </a:lnTo>
                <a:lnTo>
                  <a:pt x="7199" y="35121"/>
                </a:lnTo>
                <a:cubicBezTo>
                  <a:pt x="38342" y="12093"/>
                  <a:pt x="70586" y="0"/>
                  <a:pt x="103612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  <Words>75</Words>
  <Paragraphs>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30T12:07:42Z</dcterms:created>
  <dc:creator>ppt宝藏</dc:creator>
  <dc:description/>
  <dc:language>en-US</dc:language>
  <cp:lastModifiedBy>王玉清</cp:lastModifiedBy>
  <dcterms:modified xsi:type="dcterms:W3CDTF">2016-03-05T09:08:46Z</dcterms:modified>
  <cp:revision>82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