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B93-97F2-47FA-A239-CDEEF63C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64E-217B-42A8-8FA5-90B097BA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552-93F6-4119-BD91-79EB2F63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1D2-EC9B-42F4-9E08-91DB9CC8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2F2D-0CE6-42DA-8275-6E9BE7DF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DC26-B055-4FC7-AC92-07844DEA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4853-5223-43B1-B46C-77311D19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BE5C-D013-426B-9E65-5B0C5A3E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8539-282B-49E7-BF34-83372AC0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BC09-2CF0-4BAD-8962-CB3B9A25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DDF7-53DA-4BAC-9574-B3592C0F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538-08CE-4FAF-A02E-7920B59F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A99E-41EA-4658-AEB4-6184E5FB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4DCA-6A2B-4737-9A7F-E29A3627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A216-3376-490E-83D0-99399EB1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9E79-797A-4A9C-B5B3-7981344C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6D9A-6834-4557-B081-B32C4E18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FEEB-3C0C-4A14-9877-041A6799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285-84E5-4AD5-9DC6-5FB2EE04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F61-77A9-4850-A9DE-B500916D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3DDD-73A9-4EBD-9122-C82971D4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513-4792-4C79-B477-A4D0FA6E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C348-4DB7-4A62-B254-C2D1D7F1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6DE-359C-459D-8FB8-5815D0A0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2"/>
          <p:cNvPicPr/>
          <p:nvPr/>
        </p:nvPicPr>
        <p:blipFill>
          <a:blip r:embed="rId2"/>
          <a:stretch/>
        </p:blipFill>
        <p:spPr>
          <a:xfrm>
            <a:off x="0" y="0"/>
            <a:ext cx="9143640" cy="6884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4"/>
          <p:cNvPicPr/>
          <p:nvPr/>
        </p:nvPicPr>
        <p:blipFill>
          <a:blip r:embed="rId3"/>
          <a:stretch/>
        </p:blipFill>
        <p:spPr>
          <a:xfrm>
            <a:off x="0" y="0"/>
            <a:ext cx="9143640" cy="688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21692C-801A-437A-8C09-76255943C3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2"/>
          <p:cNvPicPr/>
          <p:nvPr/>
        </p:nvPicPr>
        <p:blipFill>
          <a:blip r:embed="rId2"/>
          <a:stretch/>
        </p:blipFill>
        <p:spPr>
          <a:xfrm>
            <a:off x="0" y="0"/>
            <a:ext cx="9143640" cy="6884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088F34-3AA1-4984-BCD5-E83E9CA725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467280" y="1484640"/>
            <a:ext cx="1007856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熊猫吃着雨后春笋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ao">
  <a:themeElements>
    <a:clrScheme name="ma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ao">
  <a:themeElements>
    <a:clrScheme name="ma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『sy作品』雨中春笋</Template>
  <TotalTime>1</TotalTime>
  <Application>LibreOffice/7.4.7.2$Linux_X86_64 LibreOffice_project/40$Build-2</Application>
  <AppVersion>15.0000</AppVersion>
  <Words>16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4T13:23:54Z</dcterms:created>
  <dc:creator>YANGS-PC</dc:creator>
  <dc:description/>
  <dc:language>en-US</dc:language>
  <cp:lastModifiedBy>王玉清</cp:lastModifiedBy>
  <dcterms:modified xsi:type="dcterms:W3CDTF">2016-03-02T10:26:29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