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11"/>
          <p:cNvSpPr/>
          <p:nvPr/>
        </p:nvSpPr>
        <p:spPr>
          <a:xfrm>
            <a:off x="682560" y="46944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" name="图片 1" descr=""/>
          <p:cNvPicPr/>
          <p:nvPr/>
        </p:nvPicPr>
        <p:blipFill>
          <a:blip r:embed="rId1"/>
          <a:stretch/>
        </p:blipFill>
        <p:spPr>
          <a:xfrm>
            <a:off x="-111240" y="30240"/>
            <a:ext cx="9139320" cy="5143320"/>
          </a:xfrm>
          <a:prstGeom prst="rect">
            <a:avLst/>
          </a:prstGeom>
          <a:ln w="0">
            <a:noFill/>
          </a:ln>
        </p:spPr>
      </p:pic>
      <p:sp>
        <p:nvSpPr>
          <p:cNvPr id="40" name="TextBox 4"/>
          <p:cNvSpPr/>
          <p:nvPr/>
        </p:nvSpPr>
        <p:spPr>
          <a:xfrm>
            <a:off x="4304160" y="276120"/>
            <a:ext cx="435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BroadwayEngraved BT"/>
              </a:rPr>
              <a:t>HAPP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TextBox 5"/>
          <p:cNvSpPr/>
          <p:nvPr/>
        </p:nvSpPr>
        <p:spPr>
          <a:xfrm>
            <a:off x="5460480" y="95256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宋体"/>
              </a:rPr>
              <a:t>NEW 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4039200" y="1536840"/>
            <a:ext cx="308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alibri"/>
                <a:ea typeface="宋体"/>
              </a:rPr>
              <a:t>2015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5337720" y="1446120"/>
            <a:ext cx="268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6414480" y="1581120"/>
            <a:ext cx="2360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心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6230160" y="2257560"/>
            <a:ext cx="24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-111240" y="48387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763640" y="566640"/>
            <a:ext cx="318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喜庆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3240" y="324000"/>
            <a:ext cx="7883280" cy="684000"/>
            <a:chOff x="3240" y="324000"/>
            <a:chExt cx="7883280" cy="684000"/>
          </a:xfrm>
        </p:grpSpPr>
        <p:sp>
          <p:nvSpPr>
            <p:cNvPr id="50" name="剪去单角的矩形 2"/>
            <p:cNvSpPr/>
            <p:nvPr/>
          </p:nvSpPr>
          <p:spPr>
            <a:xfrm flipH="1" flipV="1" rot="10800000">
              <a:off x="2880" y="324000"/>
              <a:ext cx="7808760" cy="684000"/>
            </a:xfrm>
            <a:prstGeom prst="pi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Box 8"/>
            <p:cNvSpPr/>
            <p:nvPr/>
          </p:nvSpPr>
          <p:spPr>
            <a:xfrm>
              <a:off x="5023440" y="41256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635040" y="349740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03:06:00Z</dcterms:created>
  <dc:creator>f</dc:creator>
  <dc:description/>
  <dc:language>en-US</dc:language>
  <cp:lastModifiedBy>lenovo</cp:lastModifiedBy>
  <dcterms:modified xsi:type="dcterms:W3CDTF">2015-07-20T11:45:15Z</dcterms:modified>
  <cp:revision>4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