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E0E-0E18-4352-8B89-73F16C4484F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C1E6-4DDC-4DC0-8AC5-43F88E17BF06}" type="slidenum">
              <a:rPr b="0" lang="zh-CN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49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66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49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887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953360" y="1341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向上走势立体箭头现代商务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1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a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fc1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373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374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5511"/>
                  </a:gs>
                  <a:gs pos="50000">
                    <a:srgbClr val="f28c1c"/>
                  </a:gs>
                  <a:gs pos="100000">
                    <a:srgbClr val="925511"/>
                  </a:gs>
                </a:gsLst>
                <a:lin ang="824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5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6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c48"/>
                  </a:gs>
                  <a:gs pos="50000">
                    <a:srgbClr val="449878"/>
                  </a:gs>
                  <a:gs pos="100000">
                    <a:srgbClr val="295c48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7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917"/>
                  </a:gs>
                  <a:gs pos="50000">
                    <a:srgbClr val="77ae26"/>
                  </a:gs>
                  <a:gs pos="100000">
                    <a:srgbClr val="486917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8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379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28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28c1c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28c1c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77ae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ae26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77ae26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44987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49878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449878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49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f7319"/>
              </a:gs>
              <a:gs pos="100000">
                <a:srgbClr val="77ae2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65543"/>
              </a:gs>
              <a:gs pos="100000">
                <a:srgbClr val="44987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28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b5010"/>
              </a:gs>
              <a:gs pos="100000">
                <a:srgbClr val="f28c1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406" name="AutoShape 3"/>
          <p:cNvCxnSpPr>
            <a:endCxn id="405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407" name="AutoShape 4"/>
          <p:cNvCxnSpPr>
            <a:endCxn id="405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408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416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18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2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423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25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7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428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0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 flipH="1">
            <a:off x="5361840" y="53658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H="1" flipV="1">
            <a:off x="4829040" y="53337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1143000" y="2141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1143000" y="28591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1143000" y="36878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1143000" y="45277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1143000" y="5365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10"/>
          <p:cNvSpPr/>
          <p:nvPr/>
        </p:nvSpPr>
        <p:spPr>
          <a:xfrm flipH="1">
            <a:off x="1231560" y="6138720"/>
            <a:ext cx="185436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>
            <a:off x="1142640" y="53560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 flipH="1">
            <a:off x="1142640" y="45147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 flipH="1">
            <a:off x="1142640" y="3686040"/>
            <a:ext cx="3287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 flipH="1">
            <a:off x="1143000" y="28526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H="1">
            <a:off x="1143000" y="21337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1392120" y="21416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1398600" y="28195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Line 18"/>
          <p:cNvSpPr/>
          <p:nvPr/>
        </p:nvSpPr>
        <p:spPr>
          <a:xfrm>
            <a:off x="1398600" y="36608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Line 19"/>
          <p:cNvSpPr/>
          <p:nvPr/>
        </p:nvSpPr>
        <p:spPr>
          <a:xfrm>
            <a:off x="1398600" y="45021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Line 20"/>
          <p:cNvSpPr/>
          <p:nvPr/>
        </p:nvSpPr>
        <p:spPr>
          <a:xfrm>
            <a:off x="1398600" y="53434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Text Box 21"/>
          <p:cNvSpPr/>
          <p:nvPr/>
        </p:nvSpPr>
        <p:spPr>
          <a:xfrm>
            <a:off x="1532880" y="2286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1532880" y="31082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Text Box 23"/>
          <p:cNvSpPr/>
          <p:nvPr/>
        </p:nvSpPr>
        <p:spPr>
          <a:xfrm>
            <a:off x="1532880" y="3929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Text Box 24"/>
          <p:cNvSpPr/>
          <p:nvPr/>
        </p:nvSpPr>
        <p:spPr>
          <a:xfrm>
            <a:off x="1532880" y="4751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1532880" y="5573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1" name="Group 26"/>
          <p:cNvGrpSpPr/>
          <p:nvPr/>
        </p:nvGrpSpPr>
        <p:grpSpPr>
          <a:xfrm>
            <a:off x="3102120" y="2133720"/>
            <a:ext cx="4622400" cy="4030200"/>
            <a:chOff x="3102120" y="2133720"/>
            <a:chExt cx="4622400" cy="4030200"/>
          </a:xfrm>
        </p:grpSpPr>
        <p:sp>
          <p:nvSpPr>
            <p:cNvPr id="462" name="Freeform 27"/>
            <p:cNvSpPr/>
            <p:nvPr/>
          </p:nvSpPr>
          <p:spPr>
            <a:xfrm>
              <a:off x="6909120" y="49273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2f6a54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3" name="Freeform 28"/>
            <p:cNvSpPr/>
            <p:nvPr/>
          </p:nvSpPr>
          <p:spPr>
            <a:xfrm>
              <a:off x="3471480" y="4927320"/>
              <a:ext cx="3798720" cy="524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b61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4" name="Freeform 29"/>
            <p:cNvSpPr/>
            <p:nvPr/>
          </p:nvSpPr>
          <p:spPr>
            <a:xfrm>
              <a:off x="3102120" y="5450760"/>
              <a:ext cx="4193280" cy="713160"/>
            </a:xfrm>
            <a:custGeom>
              <a:avLst/>
              <a:gdLst>
                <a:gd name="textAreaLeft" fmla="*/ 0 w 4193280"/>
                <a:gd name="textAreaRight" fmla="*/ 4193640 w 41932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5" name="Freeform 30"/>
            <p:cNvSpPr/>
            <p:nvPr/>
          </p:nvSpPr>
          <p:spPr>
            <a:xfrm>
              <a:off x="6483600" y="42282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577f1c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6" name="Freeform 31"/>
            <p:cNvSpPr/>
            <p:nvPr/>
          </p:nvSpPr>
          <p:spPr>
            <a:xfrm>
              <a:off x="3904200" y="4228200"/>
              <a:ext cx="28526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54d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Freeform 32"/>
            <p:cNvSpPr/>
            <p:nvPr/>
          </p:nvSpPr>
          <p:spPr>
            <a:xfrm>
              <a:off x="3542040" y="4620600"/>
              <a:ext cx="3313080" cy="7257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6057720" y="3534840"/>
              <a:ext cx="630720" cy="9727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26f58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9" name="Freeform 34"/>
            <p:cNvSpPr/>
            <p:nvPr/>
          </p:nvSpPr>
          <p:spPr>
            <a:xfrm>
              <a:off x="4332600" y="3534840"/>
              <a:ext cx="190512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0483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0" name="Freeform 35"/>
            <p:cNvSpPr/>
            <p:nvPr/>
          </p:nvSpPr>
          <p:spPr>
            <a:xfrm>
              <a:off x="3965400" y="3797280"/>
              <a:ext cx="2465280" cy="710280"/>
            </a:xfrm>
            <a:custGeom>
              <a:avLst/>
              <a:gdLst>
                <a:gd name="textAreaLeft" fmla="*/ 0 w 2465280"/>
                <a:gd name="textAreaRight" fmla="*/ 2465640 w 24652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Freeform 36"/>
            <p:cNvSpPr/>
            <p:nvPr/>
          </p:nvSpPr>
          <p:spPr>
            <a:xfrm>
              <a:off x="5627520" y="28342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5e8a1e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2" name="Freeform 37"/>
            <p:cNvSpPr/>
            <p:nvPr/>
          </p:nvSpPr>
          <p:spPr>
            <a:xfrm>
              <a:off x="4768920" y="28342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d59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3" name="Freeform 38"/>
            <p:cNvSpPr/>
            <p:nvPr/>
          </p:nvSpPr>
          <p:spPr>
            <a:xfrm>
              <a:off x="4394880" y="2959920"/>
              <a:ext cx="1605600" cy="720360"/>
            </a:xfrm>
            <a:custGeom>
              <a:avLst/>
              <a:gdLst>
                <a:gd name="textAreaLeft" fmla="*/ 0 w 1605600"/>
                <a:gd name="textAreaRight" fmla="*/ 1605960 w 160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4" name="Freeform 39"/>
            <p:cNvSpPr/>
            <p:nvPr/>
          </p:nvSpPr>
          <p:spPr>
            <a:xfrm>
              <a:off x="5191920" y="2133720"/>
              <a:ext cx="46044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6785f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Freeform 40"/>
            <p:cNvSpPr/>
            <p:nvPr/>
          </p:nvSpPr>
          <p:spPr>
            <a:xfrm>
              <a:off x="4821480" y="2133720"/>
              <a:ext cx="744480" cy="7160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4899240" y="2487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Text Box 42"/>
            <p:cNvSpPr/>
            <p:nvPr/>
          </p:nvSpPr>
          <p:spPr>
            <a:xfrm>
              <a:off x="4899240" y="324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873320" y="4038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9" name="Text Box 44"/>
            <p:cNvSpPr/>
            <p:nvPr/>
          </p:nvSpPr>
          <p:spPr>
            <a:xfrm>
              <a:off x="4847400" y="4835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0" name="Text Box 45"/>
            <p:cNvSpPr/>
            <p:nvPr/>
          </p:nvSpPr>
          <p:spPr>
            <a:xfrm>
              <a:off x="4795920" y="56106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81" name="Rectangle 46"/>
          <p:cNvSpPr/>
          <p:nvPr/>
        </p:nvSpPr>
        <p:spPr>
          <a:xfrm>
            <a:off x="1247760" y="12193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84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485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449878"/>
            </a:solidFill>
            <a:ln w="0">
              <a:noFill/>
            </a:ln>
            <a:effectLst>
              <a:outerShdw dist="63360" dir="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6" name="AutoShape 6"/>
            <p:cNvSpPr/>
            <p:nvPr/>
          </p:nvSpPr>
          <p:spPr>
            <a:xfrm rot="5400000">
              <a:off x="2423520" y="26427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449878"/>
            </a:solidFill>
            <a:ln w="0">
              <a:noFill/>
            </a:ln>
            <a:effectLst>
              <a:outerShdw dist="63360" dir="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87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4498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497" name="AutoShape 17"/>
          <p:cNvCxnSpPr>
            <a:stCxn id="493" idx="3"/>
            <a:endCxn id="494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98" name="AutoShape 18"/>
          <p:cNvCxnSpPr>
            <a:stCxn id="494" idx="3"/>
            <a:endCxn id="495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99" name="AutoShape 19"/>
          <p:cNvCxnSpPr>
            <a:stCxn id="495" idx="3"/>
            <a:endCxn id="496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500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2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513" name="Freeform 6"/>
            <p:cNvSpPr/>
            <p:nvPr/>
          </p:nvSpPr>
          <p:spPr>
            <a:xfrm>
              <a:off x="2349360" y="390924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4" name="Oval 7"/>
            <p:cNvSpPr/>
            <p:nvPr/>
          </p:nvSpPr>
          <p:spPr>
            <a:xfrm flipH="1">
              <a:off x="2544480" y="3684600"/>
              <a:ext cx="221760" cy="24156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5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28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c1c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7a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ae26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28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529" name="Freeform 22"/>
            <p:cNvSpPr/>
            <p:nvPr/>
          </p:nvSpPr>
          <p:spPr>
            <a:xfrm>
              <a:off x="3201840" y="348696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0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1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2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533" name="Freeform 26"/>
            <p:cNvSpPr/>
            <p:nvPr/>
          </p:nvSpPr>
          <p:spPr>
            <a:xfrm>
              <a:off x="1511280" y="41036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4" name="Oval 27"/>
            <p:cNvSpPr/>
            <p:nvPr/>
          </p:nvSpPr>
          <p:spPr>
            <a:xfrm flipH="1">
              <a:off x="1664640" y="3925800"/>
              <a:ext cx="174600" cy="18828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5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6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537" name="Freeform 30"/>
            <p:cNvSpPr/>
            <p:nvPr/>
          </p:nvSpPr>
          <p:spPr>
            <a:xfrm>
              <a:off x="6902280" y="342648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8" name="Oval 31"/>
            <p:cNvSpPr/>
            <p:nvPr/>
          </p:nvSpPr>
          <p:spPr>
            <a:xfrm>
              <a:off x="7154640" y="3129120"/>
              <a:ext cx="305280" cy="32436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9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40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541" name="Freeform 34"/>
            <p:cNvSpPr/>
            <p:nvPr/>
          </p:nvSpPr>
          <p:spPr>
            <a:xfrm>
              <a:off x="5962680" y="36496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2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43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544" name="Freeform 37"/>
            <p:cNvSpPr/>
            <p:nvPr/>
          </p:nvSpPr>
          <p:spPr>
            <a:xfrm>
              <a:off x="5126040" y="39574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5" name="Oval 38"/>
            <p:cNvSpPr/>
            <p:nvPr/>
          </p:nvSpPr>
          <p:spPr>
            <a:xfrm>
              <a:off x="5285160" y="3772080"/>
              <a:ext cx="191520" cy="20340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46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6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567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8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69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570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1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2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573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4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576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7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f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78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86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587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8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89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590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1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2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593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4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5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596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8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599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0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1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602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3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4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605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6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7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608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0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611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77ae2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3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614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6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617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8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9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620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1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2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623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4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5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626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7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8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629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0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1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632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3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4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635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6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7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638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9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449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f28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563400" y="643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4788000" y="260280"/>
            <a:ext cx="388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双击添加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LOGO  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公司名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0" y="63086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双击添加署名</a:t>
            </a:r>
            <a:r>
              <a:rPr b="0" lang="en-US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公司名</a:t>
            </a:r>
            <a:r>
              <a:rPr b="0" lang="en-US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时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90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ea023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2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5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f8c6f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97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00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1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2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5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a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07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8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292720" y="2684520"/>
            <a:ext cx="284940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8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356080" y="27496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9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28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a1e"/>
                </a:gs>
                <a:gs pos="50000">
                  <a:srgbClr val="77ae26"/>
                </a:gs>
                <a:gs pos="100000">
                  <a:srgbClr val="5e8a1e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9" name="AutoShape 7"/>
            <p:cNvGrpSpPr/>
            <p:nvPr/>
          </p:nvGrpSpPr>
          <p:grpSpPr>
            <a:xfrm>
              <a:off x="3552840" y="2189160"/>
              <a:ext cx="127440" cy="328320"/>
              <a:chOff x="3552840" y="2189160"/>
              <a:chExt cx="127440" cy="32832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5284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65112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32" name="AutoShape 8"/>
            <p:cNvGrpSpPr/>
            <p:nvPr/>
          </p:nvGrpSpPr>
          <p:grpSpPr>
            <a:xfrm>
              <a:off x="865800" y="2189160"/>
              <a:ext cx="127800" cy="328320"/>
              <a:chOff x="865800" y="2189160"/>
              <a:chExt cx="127800" cy="328320"/>
            </a:xfrm>
          </p:grpSpPr>
          <p:pic>
            <p:nvPicPr>
              <p:cNvPr id="133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5800" y="2189160"/>
                <a:ext cx="12780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87660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9"/>
          <p:cNvGrpSpPr/>
          <p:nvPr/>
        </p:nvGrpSpPr>
        <p:grpSpPr>
          <a:xfrm>
            <a:off x="5267160" y="2120760"/>
            <a:ext cx="2857320" cy="466560"/>
            <a:chOff x="5267160" y="2120760"/>
            <a:chExt cx="2857320" cy="466560"/>
          </a:xfrm>
        </p:grpSpPr>
        <p:sp>
          <p:nvSpPr>
            <p:cNvPr id="136" name="AutoShape 10"/>
            <p:cNvSpPr/>
            <p:nvPr/>
          </p:nvSpPr>
          <p:spPr>
            <a:xfrm>
              <a:off x="526716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d19"/>
                </a:gs>
                <a:gs pos="50000">
                  <a:srgbClr val="f28c1c"/>
                </a:gs>
                <a:gs pos="100000">
                  <a:srgbClr val="d77d19"/>
                </a:gs>
              </a:gsLst>
              <a:lin ang="0"/>
            </a:gradFill>
            <a:ln w="12600">
              <a:solidFill>
                <a:srgbClr val="f28c1c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7" name="AutoShape 11"/>
            <p:cNvGrpSpPr/>
            <p:nvPr/>
          </p:nvGrpSpPr>
          <p:grpSpPr>
            <a:xfrm>
              <a:off x="7979400" y="2189160"/>
              <a:ext cx="127440" cy="328320"/>
              <a:chOff x="7979400" y="2189160"/>
              <a:chExt cx="127440" cy="328320"/>
            </a:xfrm>
          </p:grpSpPr>
          <p:pic>
            <p:nvPicPr>
              <p:cNvPr id="138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97940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808092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40" name="AutoShape 12"/>
            <p:cNvGrpSpPr/>
            <p:nvPr/>
          </p:nvGrpSpPr>
          <p:grpSpPr>
            <a:xfrm>
              <a:off x="5297400" y="2189160"/>
              <a:ext cx="127440" cy="328320"/>
              <a:chOff x="5297400" y="2189160"/>
              <a:chExt cx="127440" cy="328320"/>
            </a:xfrm>
          </p:grpSpPr>
          <p:pic>
            <p:nvPicPr>
              <p:cNvPr id="141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740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30568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5879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55393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55281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66568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66568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1" name="Group 21"/>
          <p:cNvGrpSpPr/>
          <p:nvPr/>
        </p:nvGrpSpPr>
        <p:grpSpPr>
          <a:xfrm>
            <a:off x="5424480" y="2895480"/>
            <a:ext cx="168120" cy="168480"/>
            <a:chOff x="5424480" y="2895480"/>
            <a:chExt cx="168120" cy="168480"/>
          </a:xfrm>
        </p:grpSpPr>
        <p:sp>
          <p:nvSpPr>
            <p:cNvPr id="152" name="Oval 22"/>
            <p:cNvSpPr/>
            <p:nvPr/>
          </p:nvSpPr>
          <p:spPr>
            <a:xfrm>
              <a:off x="5424480" y="28954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5437080" y="290952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7b6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5424480" y="4186080"/>
            <a:ext cx="168120" cy="168480"/>
            <a:chOff x="5424480" y="4186080"/>
            <a:chExt cx="168120" cy="168480"/>
          </a:xfrm>
        </p:grpSpPr>
        <p:sp>
          <p:nvSpPr>
            <p:cNvPr id="155" name="Oval 25"/>
            <p:cNvSpPr/>
            <p:nvPr/>
          </p:nvSpPr>
          <p:spPr>
            <a:xfrm>
              <a:off x="5424480" y="41860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5437080" y="420012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7b6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Rectangle 37"/>
          <p:cNvSpPr/>
          <p:nvPr/>
        </p:nvSpPr>
        <p:spPr>
          <a:xfrm>
            <a:off x="51991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f28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449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6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187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49878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28c1c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7ae26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317680" y="2235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7"/>
          <p:cNvSpPr/>
          <p:nvPr/>
        </p:nvSpPr>
        <p:spPr>
          <a:xfrm>
            <a:off x="79200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79200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79200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79200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79200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79200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2319480" y="2349360"/>
            <a:ext cx="968400" cy="27468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23194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Rectangle 55"/>
          <p:cNvSpPr/>
          <p:nvPr/>
        </p:nvSpPr>
        <p:spPr>
          <a:xfrm>
            <a:off x="2319480" y="3452760"/>
            <a:ext cx="419040" cy="27468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a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56"/>
          <p:cNvSpPr/>
          <p:nvPr/>
        </p:nvSpPr>
        <p:spPr>
          <a:xfrm>
            <a:off x="23194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fc1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23194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Rectangle 58"/>
          <p:cNvSpPr/>
          <p:nvPr/>
        </p:nvSpPr>
        <p:spPr>
          <a:xfrm>
            <a:off x="23194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221760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343224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343224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285912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376560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Text Box 64"/>
          <p:cNvSpPr/>
          <p:nvPr/>
        </p:nvSpPr>
        <p:spPr>
          <a:xfrm>
            <a:off x="600408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714528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Rectangle 66"/>
          <p:cNvSpPr/>
          <p:nvPr/>
        </p:nvSpPr>
        <p:spPr>
          <a:xfrm>
            <a:off x="2286000" y="14479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44987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77ae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28c1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221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124920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224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AutoShape 14"/>
            <p:cNvSpPr/>
            <p:nvPr/>
          </p:nvSpPr>
          <p:spPr>
            <a:xfrm>
              <a:off x="286848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227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" name="AutoShape 17"/>
            <p:cNvSpPr/>
            <p:nvPr/>
          </p:nvSpPr>
          <p:spPr>
            <a:xfrm>
              <a:off x="4485960" y="4919040"/>
              <a:ext cx="155268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230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" name="AutoShape 20"/>
            <p:cNvSpPr/>
            <p:nvPr/>
          </p:nvSpPr>
          <p:spPr>
            <a:xfrm>
              <a:off x="610236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f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2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0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241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244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6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247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9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250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2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253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4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5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256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259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1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262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4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265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77ae2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7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268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9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271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2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3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274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5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6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277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8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9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280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1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2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283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5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286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8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289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1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292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299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300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449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304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8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6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308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0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312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4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ae26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987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77ae26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1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4987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77ae2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28c1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327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a962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Freeform 8"/>
            <p:cNvSpPr/>
            <p:nvPr/>
          </p:nvSpPr>
          <p:spPr>
            <a:xfrm>
              <a:off x="3849480" y="18381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791"/>
                </a:gs>
                <a:gs pos="50000">
                  <a:srgbClr val="f28c1c">
                    <a:alpha val="0"/>
                  </a:srgbClr>
                </a:gs>
                <a:gs pos="100000">
                  <a:srgbClr val="f9c7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330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53791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5221080" y="3160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895"/>
                </a:gs>
                <a:gs pos="50000">
                  <a:srgbClr val="77ae26">
                    <a:alpha val="0"/>
                  </a:srgbClr>
                </a:gs>
                <a:gs pos="100000">
                  <a:srgbClr val="bdd8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2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333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2f6a5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3849480" y="45054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4cdbd"/>
                </a:gs>
                <a:gs pos="50000">
                  <a:srgbClr val="449878">
                    <a:alpha val="0"/>
                  </a:srgbClr>
                </a:gs>
                <a:gs pos="100000">
                  <a:srgbClr val="a4cd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336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Freeform 17"/>
            <p:cNvSpPr/>
            <p:nvPr/>
          </p:nvSpPr>
          <p:spPr>
            <a:xfrm>
              <a:off x="2487600" y="3170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38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419040" y="6550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6:20:02Z</dcterms:created>
  <dc:creator>User</dc:creator>
  <dc:description/>
  <dc:language>en-US</dc:language>
  <cp:lastModifiedBy>a</cp:lastModifiedBy>
  <dcterms:modified xsi:type="dcterms:W3CDTF">2015-07-25T08:33:05Z</dcterms:modified>
  <cp:revision>22</cp:revision>
  <dc:subject/>
  <dc:title>年 终 总结大会</dc:title>
</cp:coreProperties>
</file>