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1AB-0D09-4C57-BE63-8522966A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81A-AD3B-4935-8B1E-65DBC16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105-5C27-446D-8B5F-7CCB0084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F87-F584-43D9-B64C-62413A44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0A4-47E5-44B7-B764-E8FD2505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28F-A35D-4CD3-AC99-B9AF6730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B55D-252D-4E03-949B-3245626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830F-C9FD-4CFC-A8B7-B34096E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3858-D5F8-4FE1-AD27-64B99FBD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7D1-C0AF-4FF4-A45A-D184132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2D49-B095-4306-BD20-5794A44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517-4338-4F05-ADF7-AAD223A7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6B1F-328C-4AD6-8460-3A127F5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D76-28FE-4747-9BB6-FC219CE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4A44-E757-44B4-AA51-CFF9F10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9E5F-8A65-42E6-9E46-0F0D5E4F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3C45-01A1-4F0F-91FA-58922C81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437-E0CB-492F-8B3C-1DAC572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3CE-5077-454C-80BC-17EC6F54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CA6-BD3E-49CE-B9D2-2FC78101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CC2-557E-4258-B936-D0A9D4F4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C49-3AAA-4BD0-9C38-3666D45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093-A693-41C4-B117-B55CA12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CE4-F77E-4DE3-9EEF-06E1009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422-7888-4315-B37D-91660844718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335-B03A-41A8-BAE0-B5AB73A17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5373720"/>
            <a:ext cx="8870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84640" y="504828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快乐办公之心灵秘籍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2361960" y="284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心态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微笑上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63680" y="631980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044720" y="1557360"/>
            <a:ext cx="76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项黄金法则，让你快乐长伴，每天以微笑面对工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63680" y="631980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4:03:49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