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A36BD2-B4A8-49DE-A6E0-1C5BEC82F0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homa"/>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0F53DD-59F9-4508-B288-7EDDEAA675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homa"/>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5D0709-C174-4817-BE34-B4F36A769C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homa"/>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39490C-7C5F-408E-9054-59E7ABBF5B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DF78CCB-BEAC-43F2-8321-0B9B9A6EFC4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homa"/>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A9063C-2C54-4A20-853D-082B226596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homa"/>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9A6A43-93BE-4A84-A05B-F68AA7B296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homa"/>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341F6F-1429-440E-81DC-F99018A690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F1485D-209B-40F1-909E-219FC8CE17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E00BCF-75A2-471F-9CA7-8FFAA6D901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homa"/>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683D52-E5AE-41A0-B94D-6CD84A98BC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homa"/>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3299EC-4546-41B7-9D9F-CA31995D24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homa"/>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41DD74-7B58-4BE2-B9A9-D36AB33A90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homa"/>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D88C5D-615D-40E2-8275-BEC997A2E2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homa"/>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9D4488-4A08-41ED-9C19-F030EB628C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homa"/>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EB2C9DC-EAB6-46F2-B5DF-EE5C32FAB9B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homa"/>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00B25AB-2111-41EB-AE2C-D7B54517037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homa"/>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72472D-F85C-43DD-9AC0-3F72A5FD77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homa"/>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09D2CA-8E6E-41C3-AF22-9C5C89F050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E7F9C7-307B-46DF-A002-BF2AE3E7E5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1197B6-FB85-400E-B24B-EAE5E3C54C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homa"/>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29605B-F2E7-4BDB-95E1-AFEF881996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homa"/>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CBAC6B-B4DB-48AC-B0F4-29F978706C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homa"/>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65F635-D34A-429C-8A15-56D41A7B14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Click to edit the title text format</a:t>
            </a:r>
            <a:endParaRPr b="1" lang="en-US" sz="3600" spc="-1" strike="noStrike">
              <a:solidFill>
                <a:srgbClr val="000000"/>
              </a:solidFill>
              <a:latin typeface="Tahoma"/>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lick to edit the outline text format</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cond Outline Level</a:t>
            </a:r>
            <a:endParaRPr b="0" lang="en-US" sz="2000" spc="-1" strike="noStrike">
              <a:solidFill>
                <a:srgbClr val="000000"/>
              </a:solidFill>
              <a:latin typeface="Calibri"/>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ea typeface="新細明體"/>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ea typeface="新細明體"/>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ea typeface="新細明體"/>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4B5156-9184-453F-ACAC-87FA4BAFB395}" type="slidenum">
              <a:rPr b="0" lang="en-US" sz="1200" spc="-1" strike="noStrike">
                <a:solidFill>
                  <a:srgbClr val="898989"/>
                </a:solidFill>
                <a:latin typeface="Calibri"/>
                <a:ea typeface="新細明體"/>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Click to edit the title text format</a:t>
            </a:r>
            <a:endParaRPr b="1" lang="en-US" sz="3600" spc="-1" strike="noStrike">
              <a:solidFill>
                <a:srgbClr val="000000"/>
              </a:solidFill>
              <a:latin typeface="Tahoma"/>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lick to edit the outline text format</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cond Outline Level</a:t>
            </a:r>
            <a:endParaRPr b="0" lang="en-US" sz="2000" spc="-1" strike="noStrike">
              <a:solidFill>
                <a:srgbClr val="000000"/>
              </a:solidFill>
              <a:latin typeface="Calibri"/>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ea typeface="新細明體"/>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ea typeface="新細明體"/>
              </a:rPr>
              <a:t>&lt;date/time&gt;</a:t>
            </a:r>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ea typeface="新細明體"/>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25B384-B888-4E61-9BC1-27F496EDEF5D}" type="slidenum">
              <a:rPr b="0" lang="en-US" sz="1200" spc="-1" strike="noStrike">
                <a:solidFill>
                  <a:srgbClr val="898989"/>
                </a:solidFill>
                <a:latin typeface="Calibri"/>
                <a:ea typeface="新細明體"/>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152280" y="1882440"/>
            <a:ext cx="8236080" cy="14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ahoma"/>
                <a:ea typeface="宋体"/>
              </a:rPr>
              <a:t>休息的骏马通用</a:t>
            </a:r>
            <a:r>
              <a:rPr b="1" lang="en-US" sz="4000" spc="-1" strike="noStrike">
                <a:solidFill>
                  <a:srgbClr val="000000"/>
                </a:solidFill>
                <a:latin typeface="Tahoma"/>
                <a:ea typeface="宋体"/>
              </a:rPr>
              <a:t>PPT</a:t>
            </a:r>
            <a:r>
              <a:rPr b="1" lang="zh-CN" sz="4000" spc="-1" strike="noStrike">
                <a:solidFill>
                  <a:srgbClr val="000000"/>
                </a:solidFill>
                <a:latin typeface="Tahoma"/>
                <a:ea typeface="宋体"/>
              </a:rPr>
              <a:t>模板在线下载</a:t>
            </a:r>
            <a:endParaRPr b="1" lang="en-US" sz="4000" spc="-1" strike="noStrike">
              <a:solidFill>
                <a:srgbClr val="000000"/>
              </a:solidFill>
              <a:latin typeface="Tahoma"/>
            </a:endParaRPr>
          </a:p>
        </p:txBody>
      </p:sp>
      <p:sp>
        <p:nvSpPr>
          <p:cNvPr id="83" name="PlaceHolder 2"/>
          <p:cNvSpPr>
            <a:spLocks noGrp="1"/>
          </p:cNvSpPr>
          <p:nvPr>
            <p:ph type="subTitle"/>
          </p:nvPr>
        </p:nvSpPr>
        <p:spPr>
          <a:xfrm>
            <a:off x="179280" y="2895120"/>
            <a:ext cx="6400800" cy="175284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新細明體"/>
              </a:rPr>
              <a:t>Presentation Subtitle</a:t>
            </a:r>
            <a:endParaRPr b="0" lang="en-US" sz="2400" spc="-1" strike="noStrike">
              <a:solidFill>
                <a:srgbClr val="000000"/>
              </a:solidFill>
              <a:latin typeface="Calibri"/>
            </a:endParaRPr>
          </a:p>
        </p:txBody>
      </p:sp>
      <p:sp>
        <p:nvSpPr>
          <p:cNvPr id="84" name="矩形 12"/>
          <p:cNvSpPr/>
          <p:nvPr/>
        </p:nvSpPr>
        <p:spPr>
          <a:xfrm>
            <a:off x="206280" y="6519960"/>
            <a:ext cx="2992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幻灯片之家</a:t>
            </a:r>
            <a:r>
              <a:rPr b="1" lang="en-US" sz="1600" spc="-1" strike="noStrike">
                <a:solidFill>
                  <a:srgbClr val="000000"/>
                </a:solidFill>
                <a:latin typeface="Arial"/>
                <a:ea typeface="宋体"/>
              </a:rPr>
              <a:t> </a:t>
            </a:r>
            <a:r>
              <a:rPr b="1" lang="en-US" sz="1600" spc="-1" strike="noStrike">
                <a:solidFill>
                  <a:srgbClr val="000000"/>
                </a:solidFill>
                <a:latin typeface="Arial"/>
                <a:ea typeface="宋体"/>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380880" y="151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ea typeface="新細明體"/>
              </a:rPr>
              <a:t>Slide Master</a:t>
            </a:r>
            <a:endParaRPr b="1" lang="en-US" sz="3600" spc="-1" strike="noStrike">
              <a:solidFill>
                <a:srgbClr val="000000"/>
              </a:solidFill>
              <a:latin typeface="Tahoma"/>
            </a:endParaRPr>
          </a:p>
        </p:txBody>
      </p:sp>
      <p:sp>
        <p:nvSpPr>
          <p:cNvPr id="86"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新細明體"/>
              </a:rPr>
              <a:t>Your Text here</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新細明體"/>
              </a:rPr>
              <a:t>Lorem ipsum dolor sit amet, consectetuer adip iscing elit, sed diam no n u mmy nibh euismod tincidunt ut laoreet do lore magna aliquam er at v olut pat. Ut wisi enim ad mi ni m venia m, quis nostrud exerci tatio n ulla mco rper susc ip it lobor tis nisl ut aliquip ex ea commodo cons equat.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新細明體"/>
              </a:rPr>
              <a:t>Duis autem vel eum iriure dolor in hendrerit in vulputate velit esse mo les tie consequat, vel illum dolore eu feugiat nulla fac ilisis at vero eros et ac cumsan et iusto odio dign issim qui bla ndit praesent lup tatum zzril dele nit augue duis dolore te fe ug ait nulla facilisi</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209680" y="151920"/>
            <a:ext cx="640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ea typeface="新細明體"/>
              </a:rPr>
              <a:t>Print Master</a:t>
            </a:r>
            <a:endParaRPr b="1" lang="en-US" sz="3600" spc="-1" strike="noStrike">
              <a:solidFill>
                <a:srgbClr val="000000"/>
              </a:solidFill>
              <a:latin typeface="Tahoma"/>
            </a:endParaRPr>
          </a:p>
        </p:txBody>
      </p:sp>
      <p:sp>
        <p:nvSpPr>
          <p:cNvPr id="88" name=""/>
          <p:cNvSpPr txBox="1"/>
          <p:nvPr/>
        </p:nvSpPr>
        <p:spPr>
          <a:xfrm>
            <a:off x="2286000" y="1600200"/>
            <a:ext cx="6400800" cy="452592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新細明體"/>
              </a:rPr>
              <a:t>Your Text here</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新細明體"/>
              </a:rPr>
              <a:t>Lorem ipsum dolor sit amet, consectetuer adip iscing elit, sed diam no n u mmy nibh euismod tincidunt ut laoreet do lore magna aliquam er at v olut pat. Ut wisi enim ad mi ni m venia m, quis nostrud exerci tatio n ulla mco rper susc ip it lobor tis nisl ut aliquip ex ea commodo cons equat. </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新細明體"/>
              </a:rPr>
              <a:t>Duis autem vel eum iriure dolor in hendrerit in vulputate velit esse mo les tie consequat, vel illum dolore eu feugiat nulla fac ilisis at vero eros et ac cumsan et iusto odio dign issim qui bla ndit praesent lup tatum zzril dele nit augue duis dolore te fe ug ait nulla facilisi</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13T14:21:37Z</dcterms:created>
  <dc:creator>pc</dc:creator>
  <dc:description/>
  <dc:language>en-US</dc:language>
  <cp:lastModifiedBy>王玉清</cp:lastModifiedBy>
  <dcterms:modified xsi:type="dcterms:W3CDTF">2016-03-02T07:21:38Z</dcterms:modified>
  <cp:revision>2</cp:revision>
  <dc:subject/>
  <dc:title>Presentation Title</dc:title>
</cp:coreProperties>
</file>