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6C6-4DC9-44CD-AEC2-B5E4A32D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FB7-4B10-47CA-87CE-A73CA586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72C-7F4D-4FAF-BBE6-7CDC0E0E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44D-CD27-46FC-8CCF-0E40FADB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4B4-CB58-4DCC-AF32-A454C1FA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327-334A-4E65-867C-07CEE923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9E49-8D88-4D36-89C0-FF94D2DF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6A0-66E3-44B7-88BD-7B427151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47E-F7A2-4A34-8C5E-8B066FCC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AB6-93EF-4DE4-8874-F825EFB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F3C-5886-4797-A813-A46447D0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523-7D73-4E91-80CF-75E71828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3AFB-A100-44A9-AB68-B07C8E806D1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FA92-2A87-44F3-ABC6-62CB39A043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3"/>
          <p:cNvSpPr/>
          <p:nvPr/>
        </p:nvSpPr>
        <p:spPr>
          <a:xfrm>
            <a:off x="942840" y="3168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440" y="936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1440" y="32893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5"/>
          <a:stretch/>
        </p:blipFill>
        <p:spPr>
          <a:xfrm>
            <a:off x="0" y="482436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6"/>
          <a:stretch/>
        </p:blipFill>
        <p:spPr>
          <a:xfrm>
            <a:off x="1670040" y="1776240"/>
            <a:ext cx="3611520" cy="614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"/>
          <p:cNvPicPr/>
          <p:nvPr/>
        </p:nvPicPr>
        <p:blipFill>
          <a:blip r:embed="rId7"/>
          <a:stretch/>
        </p:blipFill>
        <p:spPr>
          <a:xfrm>
            <a:off x="-11160" y="1628640"/>
            <a:ext cx="1087560" cy="2149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8"/>
          <a:stretch/>
        </p:blipFill>
        <p:spPr>
          <a:xfrm>
            <a:off x="0" y="-4680"/>
            <a:ext cx="9828360" cy="150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2140200" y="165240"/>
            <a:ext cx="589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30240" y="9360"/>
            <a:ext cx="9174240" cy="6856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4"/>
          <a:stretch/>
        </p:blipFill>
        <p:spPr>
          <a:xfrm>
            <a:off x="-36360" y="3274920"/>
            <a:ext cx="7035480" cy="3576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5"/>
          <a:stretch/>
        </p:blipFill>
        <p:spPr>
          <a:xfrm>
            <a:off x="-36360" y="4826160"/>
            <a:ext cx="6557760" cy="2031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6"/>
          <a:stretch/>
        </p:blipFill>
        <p:spPr>
          <a:xfrm>
            <a:off x="-20520" y="1268280"/>
            <a:ext cx="1392120" cy="2756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80" y="4680"/>
            <a:ext cx="9139320" cy="686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08000" y="1628640"/>
            <a:ext cx="6743520" cy="4789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250920" y="1682640"/>
            <a:ext cx="5526000" cy="3508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-7920" y="3274920"/>
            <a:ext cx="7035840" cy="3576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"/>
          <p:cNvPicPr/>
          <p:nvPr/>
        </p:nvPicPr>
        <p:blipFill>
          <a:blip r:embed="rId5"/>
          <a:stretch/>
        </p:blipFill>
        <p:spPr>
          <a:xfrm>
            <a:off x="-3240" y="4827600"/>
            <a:ext cx="6558120" cy="2033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6"/>
          <a:stretch/>
        </p:blipFill>
        <p:spPr>
          <a:xfrm>
            <a:off x="-11160" y="1268280"/>
            <a:ext cx="1303560" cy="2579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"/>
          <p:cNvPicPr/>
          <p:nvPr/>
        </p:nvPicPr>
        <p:blipFill>
          <a:blip r:embed="rId7"/>
          <a:stretch/>
        </p:blipFill>
        <p:spPr>
          <a:xfrm>
            <a:off x="0" y="-520560"/>
            <a:ext cx="9972720" cy="15015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>
            <a:off x="3724560" y="36360"/>
            <a:ext cx="42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学生健康成长教育教学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1T03:32:15Z</dcterms:modified>
  <cp:revision>13</cp:revision>
  <dc:subject/>
  <dc:title>PowerPoint 演示文稿</dc:title>
</cp:coreProperties>
</file>