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A29-791B-441A-B2FD-421E9E6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16F-6DD5-4768-BA39-1391093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50F-39DD-4E85-B6CD-CD2EB238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449-7269-48A4-BFE0-6A9AA1A9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157-28AA-4385-BFD8-E04F89A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942-199E-42A6-9436-E9886F5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B16-0FAC-4CE7-B0BE-B85CF2B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A1E-23C1-43E2-B622-F1CC42D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5FD-F0F8-43AC-8EF6-F870C102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5BF-9150-4575-90C5-CC219C7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BE6-B99C-4AD9-AB9F-5910B998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D14-2636-4888-971D-3BA630AF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5C1-B879-4A73-963F-A6E0A0925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4854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497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426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569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839880" y="298440"/>
            <a:ext cx="77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夕阳下的一叶舟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57192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1192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069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8549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712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354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997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571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96800" y="6215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997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97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07:50Z</dcterms:modified>
  <cp:revision>42</cp:revision>
  <dc:subject/>
  <dc:title>幻灯片 1</dc:title>
</cp:coreProperties>
</file>