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A51-92DA-4512-BB38-44C71FC5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619-CB66-46FA-9B8F-27ECE625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D62-59DB-4248-9E74-665E42B8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19E-8AB4-4CDC-B70A-03060F1F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72C-1D36-4C2C-8913-919C9A91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E35-4E46-4FB3-B925-0A7B6818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239-371C-4413-8960-C6525A2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940-F807-44AD-9B5D-34BC7C8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DF0-58FC-4E5C-BAE3-01BDC35F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228-DF26-495B-905A-1C3E1AD5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4A9-DDB2-48E4-BBA4-519572A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AC4-E292-408E-9028-0FBB621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3B88-D3C4-4225-8E0E-824E764BCD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1743840" y="2174760"/>
            <a:ext cx="59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通用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24"/>
          <p:cNvGrpSpPr/>
          <p:nvPr/>
        </p:nvGrpSpPr>
        <p:grpSpPr>
          <a:xfrm>
            <a:off x="628200" y="211680"/>
            <a:ext cx="1360800" cy="1572480"/>
            <a:chOff x="628200" y="211680"/>
            <a:chExt cx="1360800" cy="1572480"/>
          </a:xfrm>
        </p:grpSpPr>
        <p:sp>
          <p:nvSpPr>
            <p:cNvPr id="51" name="矩形 16"/>
            <p:cNvSpPr/>
            <p:nvPr/>
          </p:nvSpPr>
          <p:spPr>
            <a:xfrm>
              <a:off x="722880" y="1489320"/>
              <a:ext cx="1159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628200" y="211680"/>
              <a:ext cx="1360800" cy="1361160"/>
              <a:chOff x="628200" y="211680"/>
              <a:chExt cx="1360800" cy="1361160"/>
            </a:xfrm>
          </p:grpSpPr>
          <p:pic>
            <p:nvPicPr>
              <p:cNvPr id="53" name="TextBox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0600" y="591120"/>
                <a:ext cx="412560" cy="68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c:\DOCUME~1\ADMINI~1\APPLIC~1\360se6\USERDA~1\Temp\DNZDYP~1.JPG"/>
              <p:cNvPicPr/>
              <p:nvPr/>
            </p:nvPicPr>
            <p:blipFill>
              <a:blip r:embed="rId5"/>
              <a:stretch/>
            </p:blipFill>
            <p:spPr>
              <a:xfrm>
                <a:off x="907200" y="487800"/>
                <a:ext cx="8010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空心弧 24"/>
              <p:cNvSpPr/>
              <p:nvPr/>
            </p:nvSpPr>
            <p:spPr>
              <a:xfrm rot="18770400">
                <a:off x="825840" y="411480"/>
                <a:ext cx="965160" cy="960840"/>
              </a:xfrm>
              <a:custGeom>
                <a:avLst/>
                <a:gdLst/>
                <a:ahLst/>
                <a:rect l="l" t="t" r="r" b="b"/>
                <a:pathLst>
                  <a:path w="1931538" h="1931076">
                    <a:moveTo>
                      <a:pt x="1257264" y="1886046"/>
                    </a:moveTo>
                    <a:cubicBezTo>
                      <a:pt x="859077" y="2012079"/>
                      <a:pt x="424973" y="1867926"/>
                      <a:pt x="181336" y="1528763"/>
                    </a:cubicBezTo>
                    <a:cubicBezTo>
                      <a:pt x="-62385" y="1189482"/>
                      <a:pt x="-60245" y="731988"/>
                      <a:pt x="186640" y="395001"/>
                    </a:cubicBezTo>
                    <a:cubicBezTo>
                      <a:pt x="433438" y="58132"/>
                      <a:pt x="868871" y="-81955"/>
                      <a:pt x="1265861" y="47795"/>
                    </a:cubicBezTo>
                    <a:cubicBezTo>
                      <a:pt x="1662937" y="177573"/>
                      <a:pt x="1931538" y="547882"/>
                      <a:pt x="1931538" y="965538"/>
                    </a:cubicBezTo>
                    <a:lnTo>
                      <a:pt x="1846783" y="965538"/>
                    </a:lnTo>
                    <a:cubicBezTo>
                      <a:pt x="1846783" y="584542"/>
                      <a:pt x="1601752" y="246737"/>
                      <a:pt x="1239519" y="128353"/>
                    </a:cubicBezTo>
                    <a:cubicBezTo>
                      <a:pt x="877373" y="9997"/>
                      <a:pt x="480160" y="137784"/>
                      <a:pt x="255021" y="445076"/>
                    </a:cubicBezTo>
                    <a:cubicBezTo>
                      <a:pt x="29795" y="752485"/>
                      <a:pt x="27843" y="1169829"/>
                      <a:pt x="250183" y="1479331"/>
                    </a:cubicBezTo>
                    <a:cubicBezTo>
                      <a:pt x="472438" y="1788715"/>
                      <a:pt x="868439" y="1920211"/>
                      <a:pt x="1231677" y="1805245"/>
                    </a:cubicBezTo>
                    <a:lnTo>
                      <a:pt x="1257264" y="188604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" name="矩形 12"/>
          <p:cNvSpPr/>
          <p:nvPr/>
        </p:nvSpPr>
        <p:spPr>
          <a:xfrm>
            <a:off x="93600" y="5398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5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00080" y="5316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8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1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2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6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2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5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2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5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9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64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5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10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1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9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00080" y="5316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7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7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84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2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6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3-07T02:30:27Z</dcterms:modified>
  <cp:revision>16</cp:revision>
  <dc:subject/>
  <dc:title>PowerPoint 演示文稿</dc:title>
</cp:coreProperties>
</file>