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move the slide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uli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DCB2-0CCF-4A5C-A072-25E96969537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5A3E-9F7E-4EBC-8B23-8F1D9A7960BD}" type="slidenum">
              <a:rPr b="0" lang="zh-CN" sz="12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BF4-E5C8-48F3-83D7-9074899F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39D-EBA5-46C8-A752-9F30FD16C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726E8-6605-4F2D-8040-55EFF079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52B831-64CB-4E5C-ABB2-F17D3DEC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86651-981B-4882-B3B1-705A97CD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99391C-1A96-4A7E-9A27-D4F13411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2D9BD-F1F5-4EBB-AFE3-15729619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7E33B-CDC5-4AC7-9E7B-0FB80929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7E82FE-0FCD-4F84-8B1F-91823831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FD919-F3E9-4AFE-89E9-276068692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864B5-8B0B-4988-BC94-C1D3B2D01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C41DC-AA61-4A41-ACD3-90149374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76A-2490-45EC-B661-2279E56E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1AC02-E809-47D2-A9D2-4B350A2F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98BC33-18B5-496C-B668-0AFBB5E4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36B99-D326-4152-BFD0-C95B7C07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D0158-8B3F-44F7-911F-C7E0AF8C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6B64B-B960-47FD-B3E7-CD37BB34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6D51F-EC6A-43D8-B9C6-C3C453B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6E056-8E17-4CBD-9A02-687E546C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41B3D-8D27-4F91-8CE5-E37D0A48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43B6E-781C-4F7D-A752-160CD4B8E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0C8A0-0404-49B8-9C9B-C924156F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6C4D-DB85-4A71-898A-4883963E2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AE670-FC0A-4957-8018-7A91E465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36AF4-BFA4-42F6-8041-12BD0B40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FA973-A533-45DB-AFE4-A27276E1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3A979-2B35-4F18-B3F2-B7F286A8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63A2C-0365-42A6-8084-C2F3CF57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70776-315C-4D77-8F42-00F25057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FD26C-CA7F-4546-A0B2-CD97CF1E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1AD19-D7E1-4D21-B840-0551EC45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38651-B78A-4949-9DCA-E27CA2A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630BD-64B2-44C5-8CE0-9F6FC21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027A-96E0-435F-B808-30D5E83B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EC230-EB9A-4E97-B02E-B4054F50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9B8D9-1E56-40B9-9C99-11D19751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05521-6A88-4DEF-B5AC-8F670369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AC004-C74C-42E6-B6CA-5C528E19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7C950-D328-4ACE-B436-4BA50FFC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BA744-4D64-4FF7-AC45-6823E8BC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B5BB6-5A14-43FC-AAE7-EF97D185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30330-5ECD-45B9-A5B7-15D00D58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DEB7C-46F3-4BA9-8688-2D23B58F5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FE00DB-9790-428F-944B-3B128FE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6B04-0E2D-498B-93B7-ADAAD970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3407E-9C1A-4E2C-96A0-A4CAB38F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47226-C6D0-4889-BCAA-180F62A7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33203D-B3AC-4630-AC13-E58B1CC3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22821-156F-43E2-B1CC-3D567ACF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0B85A-9A19-415B-833A-19C1552C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0969CF-24BF-46CB-845D-25837B8F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EA755-55FA-40E1-83F0-E2F3D114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0A9BC6-34E6-4A5E-B7E6-8BF18FC2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62E1F-8C1F-4464-8D86-2B9AA0CB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DF51E-3668-4C5D-BE3E-91AF577C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37BF-45B0-49B8-8B3F-2E493A9A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B9B16-66C7-42C0-AE51-38A86C24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52B3C-992E-4AA1-ACA6-56755AFF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88B99-7C2C-4420-B4AD-E9CF648F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4FAE5-97C1-4496-B9AA-CC898242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E820F0-3EC0-408F-BF15-9D5DD32D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BEF8C-1098-4D22-8DF5-7D24D68B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5D02B6-0078-4514-A02F-7E061A9C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46EF4A-BB89-4F1B-B221-161F17EF5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FAE246-2343-426A-917D-AD63DB57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4DB12-AC56-4645-B9AF-B855EBB4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54FB-BAAA-48E5-91B0-72F9FC44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41D85A-AD87-45E8-9A39-9EDBEE8B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E4B490-035A-4DD7-A0A6-F596A716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A29D4-AC6F-495F-8DF4-2F6AF144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9B2FC3-EF05-4020-A74C-015D3BB6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98B99-2009-464D-B128-AD7CE33D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780805-AAAE-4776-BDDC-D895639F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4C9A6-3215-456B-B8AA-5373E0D9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7DA470-4958-4E37-800D-F5BD0D82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76B66-AC5F-48E6-99DE-EB768AAB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46A9C-2691-442C-811D-C05CCED7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09CAB-64C7-4A3F-A2C0-EAA9AFDD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47CD9C-E29E-4A75-997B-09F9F20D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5E164-8A88-48AA-9B44-6A0883B8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54AC2-5649-491A-8B7E-2A73A0A1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1F3C1-C0FF-4141-BECF-90848852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9FE2A-C185-4176-B7BE-2DD62F93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02D78-5C32-4DAE-B006-EFDC6D25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8DEEB0-75C3-40C6-9F2E-EE22A539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83D4D9-3501-4F18-A7D7-05466655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86A9A-29D7-4BAA-8CD7-D4BA34F29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6F904-EF2C-42C2-9B51-E413C204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F8E8-72F3-4C53-9AD2-011CEEE0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86102-BF81-47CD-81E6-9EF2E660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41C04-7D17-4650-AE35-7AE95040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426317-EB25-45B8-8D10-ECDEF939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E1158-78B9-4546-872D-D263DDDF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11DFD-ED34-48DE-83AB-B7000865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D15D16-F0FE-45CA-8105-A8577FE8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DF758-A709-44EA-ABA4-A9CDBC49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2BCD51-8368-48CC-9C39-615A264F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B326D2-EFD5-4EE1-8FED-614070E0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8C17AF-BDCF-45CD-B6FC-950ADB3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B7A2-9F04-4492-ABF6-A26D6C58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00DC1-180F-44E7-AA6F-6481E478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70683C-32E1-4B16-B6A8-4A6D8131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96A35-9B73-4116-8D20-949C83BC9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3E893-13D8-4BC8-8051-E7FA0C11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894832-7318-414B-86F1-E95D5DA6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E33A0-46CA-4999-85D1-8329767E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186D61-6980-4DFA-843C-A64F2270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F6D43-47E2-4EFC-B8B6-6C7470CB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B9791-D21C-44FF-96CB-BA0E87D9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ABFBD-54AB-4663-8D30-B788DCBF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637-131D-406D-B099-7151A2F6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9EDD-778B-4C6D-9942-5F2B59EB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5E3F3-B3A9-4A38-BE03-9DE8D5BC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37C2B8-A163-4E4A-970D-E18BA014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E10815-5B34-4977-A9F2-72C47458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AA1C9-030A-49CE-B6F7-5E38FEF5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6BFE0-F9B2-4A0C-9E26-A6294583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3BA8EE-9F0B-4922-AB7E-3D87B35B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D0C085-C367-458A-BB82-F704F88B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5A88BF-45E9-4724-A35F-28A56F0D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9FE08-B420-4F13-B959-EADF96D4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D0DFB9-FC56-4CCB-B17A-7DDD7989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DE82-BC38-4751-BF82-F0E62EC8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3E3750-621C-4C44-8F2D-87899BFD6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426413-F65E-4BE2-A8D1-C73CE85F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86419-E0BB-4D80-9237-9947DAE7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A9942E-0778-47D9-9D96-E4EB558D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DEE818-EF4D-4B69-80D5-46317764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C319FE-2869-49DD-9343-88E68BBB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9348EA-32D0-4BB3-90B3-E38E3BDD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C3A6C7-645E-4FCA-88E4-938903D2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B0417-39BA-43A5-8C9E-D5712B5C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EDE1D2-1254-49DC-B652-79FA9B096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8D84-0D62-4D8A-BCC1-C641B7DC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3A1577-C13C-49DA-B41F-AC8B7BBE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CECB09-E8EF-425A-9B35-7E12E210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075933-B33E-4362-B14A-CA39B2AA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34E4D2-A359-406A-A153-3C58FE4A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1FD8D6-4505-4120-AF22-E1D28D6B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46FB22-0CD6-40AF-9D2C-A463E0BA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E22BC-F624-4161-977D-595E4DCB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001303-A4D4-4752-A02A-F7A749B8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DAD47-0484-4AC9-B20C-C94A526C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5878E-68FA-4211-AB31-5CF66EFDC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CB14-E118-4D93-B0BF-DC9038E7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793015-25A6-4F2E-B4F2-5CC4AA0E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82404B-58F4-45F4-8925-53029D3A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D5934-5C17-419F-9758-DC840361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228FE-9F8A-4892-9210-C3EDE627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AC79E9-ACF6-44DD-B60A-F8612CC1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396818-333C-4139-B1ED-03A5D804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BFDC8-40CB-4EA3-893B-F022C179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4D0BF4-7ACA-41F8-A5A6-D42A8E0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A007D-D6F2-434A-A552-DE4884F3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AC003E-FCD8-4E71-BBE0-67803014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DEFA-DC34-4F79-8DCC-9A7DE676F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933E92-9778-4647-9AF5-EF55F1E9D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40FC6-772F-460E-9E4D-9597F1A2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BBFBFE-EE04-48DB-BBA1-12C68C4A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BAD5EE-F54B-454A-BE3A-3F6E5511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F38BB2-8CBD-40DA-86FA-279A34A7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24F6D-A9A7-4914-8673-35853CDC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E5888-617D-4B8C-AD7F-02186B2E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56528-E2D4-4ACF-9DA9-BBB94DFB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2AEFB6-560D-4B4F-818B-9FE1433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9FE382-93A1-42D6-83CB-4204BCC2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C2427-91EA-417E-A537-E6F12490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3F339D-A428-46C7-A764-E4E02161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08664A-B2FC-4CD6-A388-0DEC0E87F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ABB0B-298F-4549-A868-0923A48E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ACD62F-A7FC-4AAE-983F-AC937486D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48A21B-A563-4966-A821-0061FA22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7B2139-B75D-45ED-AF72-2E77F895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EC5622-4222-49B5-BCB1-5C19A365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7F914F-D961-42F5-B230-ED9C211D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3E0FFC-E5FB-425E-A6C2-A6761597B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3646C0-5DFF-45C7-849D-3AA561EF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532A1-57D8-45F5-AB60-C6DC8CB8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F257E0-A34B-4775-BFC7-62C8B205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E816B-9D54-48FF-99D8-EA89AF44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244686-27EE-489E-8C32-B1F88A1F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8C8B49-62A4-44C8-8740-5ADA23A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5A2A7B-2F66-4FC7-85B9-96AC960D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E44EF-A018-4EBD-9D16-7C45ACFE0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596F17-A4B6-4C5C-B954-56487BBF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5B03F5-6AB6-4042-9D4C-A16F0CC8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C2072-CC93-4A96-A46F-A461BB94B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B997DB-0385-47A0-BBA5-FBB7891EF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84443-9046-418A-8646-E90F4726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2AD1A0-891C-41AC-AB4B-C3B28B53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F17BB1-9FFF-40A3-8534-D644AB82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A62163-644E-4083-8D05-BEDB12AA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65B858-7E48-4EB4-95F8-E609D507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6B224C-41B3-4884-82F7-4864298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7A4DF5-EAF5-4751-8F33-D0C3254DF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E0140E-8D40-4D93-BD11-58E96C57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EC1844-547A-407C-823C-6FD44CC96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A7BF2F-D693-4866-A047-2506184C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F6D0C0-2A8E-4FF9-A600-0A65D5C4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FDF56-7F71-4A06-83BC-D19AC1DB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4666C6-BDF5-45E6-95EC-A696C927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025355-B9E9-4296-8743-EE83511C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FFB9F1-9AAD-468E-BAC5-C5EA43F2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430B55-3313-4BE0-9157-0E8B1743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F36611-2124-491E-A9D6-E6D745D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51C51A-7193-406F-A294-BB84010D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27F41A-9629-4B82-841D-6403D9B4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A95425-24C0-4E9C-9D12-CE60EBD8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535A7C-1D26-4830-9493-BBBD8055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42D41-0B60-44B9-8A50-8E0EE323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4F77-236D-441D-9E2C-E56B3295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34E60-A1C1-4284-B045-180399A2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7D409-2D72-4E98-A6A9-B793ABA6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2F35-FED8-4EE0-BDC7-136B49F8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4EDA-7448-4909-B19C-CE256E08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A25C6-B931-4BC8-B9BD-D087CC28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13741-2EE6-4FF6-AA92-383BBBF9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C27A-104A-4247-BB59-71A1BCB3B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22976-4E44-447A-B53D-996DCB30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A9957-CF83-4EC5-BDE7-28F15BCA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477BB-6BD4-4686-A219-E3A6B4BF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25B-33AC-43C5-9C7A-85AC0E09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AC317-B190-406F-B7ED-0E3B5228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4218-B990-4984-A7E3-272C78F2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B9A1-BB23-44E2-A40D-8D583B67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0576E-45E1-4E38-88F8-17FCD509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9BD63-F3F5-4377-A200-1F54CE14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7B4D6-7116-4032-9ACC-48FF6DD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FF4CB-80EF-42AB-9EFB-B6CBC295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E9E2F-013C-4DD0-8CFA-D86F9EC5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5286-0915-4141-96FE-BC8DF2AB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68E28-CE9B-4A3A-9488-4CA91F3D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650-8B6B-43C6-B735-88667A88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FA54EB-F662-4F67-9F6C-00A479DC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2E62DA-0772-437A-92A3-16AEEB1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1CA7FB-176D-4564-AD0F-696F3042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76E7A5-5DD6-4BA6-991C-BB8680B71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24B2E8-364F-4EE5-A69A-4F56580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B850C1-ED29-45CD-8627-626493F7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581723-3C72-4C11-8DD1-556EF023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C1D73F-4862-412E-9734-EA73B08E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82919C-8424-40C8-A45A-48FAD162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E61332-D50D-43CA-A26D-22C01AA76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7DD4-E3D3-4C7F-9FAE-3BC5FE44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7B0107E-3D69-4528-857D-82A597A06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CB63A-9F2A-4DF4-9A5A-CCD51E10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0AF10-2D4A-4DC8-B896-5A8E36C4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EE108-8C63-4710-A1A5-04433150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8CF182-C40D-4718-8167-FAAE8D23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BE61C-1A51-4D4C-8FCB-00B1EBBD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17634-71F7-4B42-9629-F08841F8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899AE-06AC-4095-B50F-A0EA961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EF8CE-8C32-42B7-BB7E-D0790C2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023EF-656E-43D2-BE0C-227F286D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248A-DD25-490B-A8A7-8C9F2D6B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9B055-677D-42E8-A323-1BF5AAC1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7460-7E49-4286-A496-10202116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6B357-5FAA-43C6-8B2C-2F639A11E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8815F-128F-486A-BF36-D3382268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72206-AADB-4304-820D-D85CB220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C7BF-6C26-4DD8-856B-069AB935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10092-722A-45CC-BD37-C0557263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87DF6-6E49-4D5F-8FAF-95B8BDB9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530DD-978B-46B3-AA79-25247F68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20532-9675-46A6-949F-E2F5A36F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9E3-A312-46BB-9562-235BD6D9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09C67-AEE6-4134-AC43-E9FCBE56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CE4C8-9D02-4CBD-8C6F-331044AD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67F1-0E2F-4BFE-8855-84CAB41A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CD3AB-4455-4343-AB7E-48BEA64B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880D1-DCAF-42F1-9CF7-F05B81C1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68B82-959F-40DF-87D2-BEDD5DAA6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40809-F15F-4EBE-A7BA-F249B66D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AFC93-5F72-448A-A572-CB762C0A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9989C-1F4E-407E-BD40-207C7E72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5426-0210-4D0E-BDD9-F86AED93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444-6BD6-4EF2-8263-48F855C9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146160" y="42840"/>
            <a:ext cx="597672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2117E-1F86-4424-A18C-2C96052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D51AD-7877-4F52-A8AF-8271A28A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54E2A-2552-4823-8DCF-85E2C1A0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3F6CB-5345-4085-B9D9-8AB2CF46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AEF2A-00D0-4496-B0AC-C2CC2C01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BA015-F6DE-4EAE-B9FB-6EFD8101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EC53D-CC2D-4154-815B-4A2F970FC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3A0E5-70E6-468A-B187-9D2E58EC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9733C-1242-430C-A71B-2306B6C4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6160" y="11880"/>
            <a:ext cx="597672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1DFD5-4998-4E3D-B020-39221933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9557-D00F-499A-AB60-7DF7B5A5AB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7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8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9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10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11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1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422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423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24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425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426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F52D-EC96-4114-96F1-F7BA118BAD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9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470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471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472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473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474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75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1E06-654B-4C75-A412-9F72117FB5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518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19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20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521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522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A048-DA47-4CA8-991E-A77F9171B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5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566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567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568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569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570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57D8-15FE-4012-93F8-44EA92D443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3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614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615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616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617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618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CB99-E9CA-4C86-B37E-4555C9B882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7247-BD76-4F75-BE5F-30F3B357974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52C51-8768-47D9-86F2-C85B4059DD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B74F-4798-4FCC-AC05-A3B0CB64E97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DAE0-782D-4250-B629-CCE9C65EBA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527F-0B77-4DC8-B2C2-FFDEB1FEEFD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9B8-E964-43B7-9F75-344D37EDDD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6070-67FD-42A5-AE87-A42839C6BF7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D560-67BD-4FED-922D-230B6C0493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1FA6-ABEE-427C-8C40-8256705A9D5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F501-73CF-4C48-901A-01CC82CE27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5ABD-A155-4243-A306-3CA8CFF079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4" name="Picture 8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4"/>
          <p:cNvPicPr/>
          <p:nvPr/>
        </p:nvPicPr>
        <p:blipFill>
          <a:blip r:embed="rId3"/>
          <a:stretch/>
        </p:blipFill>
        <p:spPr>
          <a:xfrm>
            <a:off x="0" y="0"/>
            <a:ext cx="91440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82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57" name="WordArt 83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58" name="WordArt 84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D92B-AC9F-4723-9969-CFF5B8722AC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968C-07AA-44DE-A59F-17D847A19E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5990-B63A-403A-9E32-D3FF612958F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A3C7-36BD-4490-9897-C8D9309E54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E870-D1E6-4923-97DE-23B0882B9E8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6A36-211E-4FBC-8CB1-5C7300AB62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F753-495C-4953-9E4E-8973BC278D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CEC4-8246-492F-97AD-B9833AE7FD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3A50-D2D7-46C0-923A-DBFB83F70D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C71F-3D20-46CE-8E62-3BC5EA42B2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ED5A-06EA-416E-80E3-A4F5B435E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title"/>
          </p:nvPr>
        </p:nvSpPr>
        <p:spPr>
          <a:xfrm>
            <a:off x="146160" y="42840"/>
            <a:ext cx="59767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7535880" y="60480"/>
            <a:ext cx="1428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Gulim"/>
              </a:rPr>
              <a:t>LOGO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1" name="Picture 81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3" descr="4"/>
          <p:cNvPicPr/>
          <p:nvPr/>
        </p:nvPicPr>
        <p:blipFill>
          <a:blip r:embed="rId3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82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104" name="WordArt 83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105" name="WordArt 84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7231-41DD-40A9-BD9D-9A31AC1AC62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46AD7-853E-434E-9937-1C00A0B0420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02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203"/>
          <p:cNvGrpSpPr/>
          <p:nvPr/>
        </p:nvGrpSpPr>
        <p:grpSpPr>
          <a:xfrm>
            <a:off x="7451640" y="6237360"/>
            <a:ext cx="1441440" cy="396720"/>
            <a:chOff x="7451640" y="6237360"/>
            <a:chExt cx="1441440" cy="396720"/>
          </a:xfrm>
        </p:grpSpPr>
        <p:sp>
          <p:nvSpPr>
            <p:cNvPr id="185" name="WordArt 204"/>
            <p:cNvSpPr txBox="1"/>
            <p:nvPr/>
          </p:nvSpPr>
          <p:spPr>
            <a:xfrm>
              <a:off x="7885080" y="6237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186" name="WordArt 205"/>
            <p:cNvSpPr txBox="1"/>
            <p:nvPr/>
          </p:nvSpPr>
          <p:spPr>
            <a:xfrm>
              <a:off x="7451640" y="6561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EEC1C-DAB0-4C41-88C8-6FEE0FF8C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素彩网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ttp://www.sc115.com-ppt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230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231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32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233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34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FEBA-4DDC-4AC5-A7B3-1CEAFF2B67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278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279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80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281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282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3E7C-9787-4227-A663-178A506813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25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326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327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28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329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330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A4D0-10E4-463F-977B-CCDCA05A1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8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199"/>
          <p:cNvGrpSpPr/>
          <p:nvPr/>
        </p:nvGrpSpPr>
        <p:grpSpPr>
          <a:xfrm>
            <a:off x="7594560" y="333360"/>
            <a:ext cx="1441440" cy="396720"/>
            <a:chOff x="7594560" y="333360"/>
            <a:chExt cx="1441440" cy="396720"/>
          </a:xfrm>
        </p:grpSpPr>
        <p:sp>
          <p:nvSpPr>
            <p:cNvPr id="374" name="WordArt 188"/>
            <p:cNvSpPr txBox="1"/>
            <p:nvPr/>
          </p:nvSpPr>
          <p:spPr>
            <a:xfrm>
              <a:off x="8028000" y="333360"/>
              <a:ext cx="100800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Impact"/>
                </a:rPr>
                <a:t>' LOGO '</a:t>
              </a:r>
              <a:endParaRPr b="0" lang="en-US" sz="14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Impact"/>
                <a:ea typeface="Impact"/>
              </a:endParaRPr>
            </a:p>
          </p:txBody>
        </p:sp>
        <p:sp>
          <p:nvSpPr>
            <p:cNvPr id="375" name="WordArt 189"/>
            <p:cNvSpPr txBox="1"/>
            <p:nvPr/>
          </p:nvSpPr>
          <p:spPr>
            <a:xfrm>
              <a:off x="7594560" y="657360"/>
              <a:ext cx="1441440" cy="72720"/>
            </a:xfrm>
            <a:prstGeom prst="rect">
              <a:avLst/>
            </a:prstGeom>
          </p:spPr>
          <p:txBody>
            <a:bodyPr wrap="none" lIns="90000" rIns="90000" tIns="26280" bIns="2628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>
                      <a:alpha val="40000"/>
                    </a:srgbClr>
                  </a:solidFill>
                  <a:latin typeface="Arial"/>
                </a:rPr>
                <a:t>COMPANY LOGOTYPE INSERT</a:t>
              </a:r>
              <a:endParaRPr b="1" lang="en-US" sz="800" spc="1" strike="noStrike">
                <a:ln w="0">
                  <a:noFill/>
                </a:ln>
                <a:solidFill>
                  <a:srgbClr val="000000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76" name="Group 195"/>
          <p:cNvGrpSpPr/>
          <p:nvPr/>
        </p:nvGrpSpPr>
        <p:grpSpPr>
          <a:xfrm>
            <a:off x="6550200" y="6497640"/>
            <a:ext cx="2449440" cy="263160"/>
            <a:chOff x="6550200" y="6497640"/>
            <a:chExt cx="2449440" cy="263160"/>
          </a:xfrm>
        </p:grpSpPr>
        <p:sp>
          <p:nvSpPr>
            <p:cNvPr id="377" name="WordArt 196"/>
            <p:cNvSpPr txBox="1"/>
            <p:nvPr/>
          </p:nvSpPr>
          <p:spPr>
            <a:xfrm>
              <a:off x="6550200" y="6684480"/>
              <a:ext cx="2449440" cy="76320"/>
            </a:xfrm>
            <a:prstGeom prst="rect">
              <a:avLst/>
            </a:prstGeom>
          </p:spPr>
          <p:txBody>
            <a:bodyPr wrap="none" lIns="90000" rIns="90000" tIns="29520" bIns="295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"/>
                </a:rPr>
                <a:t>PPTKOREA PRESENTATION TEMPLATE DESIGN SERVICE</a:t>
              </a:r>
              <a:endParaRPr b="1" lang="en-US" sz="8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"/>
                <a:ea typeface="Arial"/>
              </a:endParaRPr>
            </a:p>
          </p:txBody>
        </p:sp>
        <p:sp>
          <p:nvSpPr>
            <p:cNvPr id="378" name="WordArt 197"/>
            <p:cNvSpPr txBox="1"/>
            <p:nvPr/>
          </p:nvSpPr>
          <p:spPr>
            <a:xfrm>
              <a:off x="7051320" y="6497640"/>
              <a:ext cx="1948320" cy="14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0">
                    <a:noFill/>
                  </a:ln>
                  <a:solidFill>
                    <a:srgbClr val="ffffff">
                      <a:alpha val="40000"/>
                    </a:srgbClr>
                  </a:solidFill>
                  <a:latin typeface="Arial Black"/>
                </a:rPr>
                <a:t>WWW.PPTKOREA.COM</a:t>
              </a:r>
              <a:endParaRPr b="0" lang="en-US" sz="1000" spc="1" strike="noStrike">
                <a:ln w="0">
                  <a:noFill/>
                </a:ln>
                <a:solidFill>
                  <a:srgbClr val="ffffff">
                    <a:alpha val="40000"/>
                  </a:srgbClr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1187280" y="1589040"/>
            <a:ext cx="749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title"/>
          </p:nvPr>
        </p:nvSpPr>
        <p:spPr>
          <a:xfrm>
            <a:off x="146160" y="43920"/>
            <a:ext cx="59767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1" i="1" lang="en-US" sz="3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68CD-BAE4-4198-B79E-EF1878946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Gulim"/>
              </a:rPr>
              <a:t>素彩网</a:t>
            </a:r>
            <a:r>
              <a:rPr b="0" lang="en-US" sz="1400" spc="-1" strike="noStrike">
                <a:solidFill>
                  <a:srgbClr val="ffffff"/>
                </a:solidFill>
                <a:latin typeface="Gulim"/>
              </a:rPr>
              <a:t>http://www.sc115.com-ppt</a:t>
            </a:r>
            <a:r>
              <a:rPr b="0" lang="zh-CN" sz="1400" spc="-1" strike="noStrike">
                <a:solidFill>
                  <a:srgbClr val="ffffff"/>
                </a:solidFill>
                <a:latin typeface="Gulim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8" name="矩形 1"/>
          <p:cNvSpPr/>
          <p:nvPr/>
        </p:nvSpPr>
        <p:spPr>
          <a:xfrm>
            <a:off x="2083680" y="47628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夜景烟花动态</a:t>
            </a:r>
            <a:r>
              <a:rPr b="0" lang="en-US" sz="40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Gulim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WordArt 14"/>
          <p:cNvSpPr txBox="1"/>
          <p:nvPr/>
        </p:nvSpPr>
        <p:spPr>
          <a:xfrm>
            <a:off x="179280" y="133200"/>
            <a:ext cx="5472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e1f00">
                      <a:alpha val="50000"/>
                    </a:srgbClr>
                  </a:outerShdw>
                </a:effectLst>
                <a:latin typeface="Times New Roman"/>
              </a:rPr>
              <a:t>CLICK TO EDIT TITLE STYL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5400000"/>
              </a:gradFill>
              <a:effectLst>
                <a:outerShdw dist="17819" dir="2700000" blurRad="0" rotWithShape="0">
                  <a:srgbClr val="3e1f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6:36:06Z</dcterms:created>
  <dc:creator/>
  <dc:description/>
  <cp:keywords/>
  <dc:language>en-US</dc:language>
  <cp:lastModifiedBy>王玉清</cp:lastModifiedBy>
  <dcterms:modified xsi:type="dcterms:W3CDTF">2016-02-16T07:27:02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