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7BEA3-87EC-4F3B-93D0-FE18E6DF5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AEFA5-D1C6-41EE-BBAB-23F586FD8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9DD4-56CD-4158-AD15-D2D04B629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8800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4436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3164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8800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4436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876FE-FC4F-45D9-B108-CD6ABF1AB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576360"/>
            <a:ext cx="74772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6EA83-166D-4CBB-81BA-88ED7EB06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8800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4436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3164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8800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4436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023B5-817A-4696-9BA2-6F23C73A4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59750-B674-4694-A846-62A72F08F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C07D8-34E8-4022-888F-3DA5CA530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576360"/>
            <a:ext cx="74772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E1F19-D5FE-4E15-B472-DC5251CBC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C6A11-DC87-47FC-8B14-81CD64964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11237-A735-4C7B-8FBB-3ABB5C8E0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0C334-9A6B-4D58-9B6A-F6B98674E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400000">
            <a:off x="-2099160" y="3143160"/>
            <a:ext cx="6874200" cy="59076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e400"/>
              </a:solidFill>
              <a:latin typeface="Gulim"/>
            </a:endParaRPr>
          </a:p>
        </p:txBody>
      </p:sp>
      <p:sp>
        <p:nvSpPr>
          <p:cNvPr id="1" name=""/>
          <p:cNvSpPr/>
          <p:nvPr/>
        </p:nvSpPr>
        <p:spPr>
          <a:xfrm>
            <a:off x="1106640" y="0"/>
            <a:ext cx="950760" cy="6875640"/>
          </a:xfrm>
          <a:custGeom>
            <a:avLst/>
            <a:gdLst/>
            <a:ahLst/>
            <a:rect l="l" t="t" r="r" b="b"/>
            <a:pathLst>
              <a:path w="599" h="4331">
                <a:moveTo>
                  <a:pt x="591" y="0"/>
                </a:moveTo>
                <a:cubicBezTo>
                  <a:pt x="247" y="529"/>
                  <a:pt x="73" y="1373"/>
                  <a:pt x="77" y="2094"/>
                </a:cubicBezTo>
                <a:cubicBezTo>
                  <a:pt x="78" y="2816"/>
                  <a:pt x="254" y="3788"/>
                  <a:pt x="596" y="4331"/>
                </a:cubicBezTo>
                <a:cubicBezTo>
                  <a:pt x="599" y="4331"/>
                  <a:pt x="413" y="4331"/>
                  <a:pt x="324" y="4331"/>
                </a:cubicBezTo>
                <a:cubicBezTo>
                  <a:pt x="214" y="3941"/>
                  <a:pt x="10" y="2822"/>
                  <a:pt x="5" y="2100"/>
                </a:cubicBezTo>
                <a:cubicBezTo>
                  <a:pt x="0" y="1378"/>
                  <a:pt x="196" y="351"/>
                  <a:pt x="293" y="1"/>
                </a:cubicBezTo>
                <a:cubicBezTo>
                  <a:pt x="394" y="1"/>
                  <a:pt x="591" y="0"/>
                  <a:pt x="591" y="0"/>
                </a:cubicBezTo>
                <a:close/>
              </a:path>
            </a:pathLst>
          </a:custGeom>
          <a:solidFill>
            <a:srgbClr val="e9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e400"/>
              </a:solidFill>
              <a:latin typeface="Gulim"/>
            </a:endParaRPr>
          </a:p>
        </p:txBody>
      </p:sp>
      <p:sp>
        <p:nvSpPr>
          <p:cNvPr id="2" name=""/>
          <p:cNvSpPr/>
          <p:nvPr/>
        </p:nvSpPr>
        <p:spPr>
          <a:xfrm>
            <a:off x="1217520" y="-12600"/>
            <a:ext cx="7931160" cy="6888240"/>
          </a:xfrm>
          <a:custGeom>
            <a:avLst/>
            <a:gdLst/>
            <a:ahLst/>
            <a:rect l="l" t="t" r="r" b="b"/>
            <a:pathLst>
              <a:path w="4996" h="4339">
                <a:moveTo>
                  <a:pt x="4993" y="0"/>
                </a:moveTo>
                <a:cubicBezTo>
                  <a:pt x="4993" y="0"/>
                  <a:pt x="4990" y="4335"/>
                  <a:pt x="4993" y="4336"/>
                </a:cubicBezTo>
                <a:cubicBezTo>
                  <a:pt x="4996" y="4337"/>
                  <a:pt x="615" y="4339"/>
                  <a:pt x="526" y="4339"/>
                </a:cubicBezTo>
                <a:cubicBezTo>
                  <a:pt x="342" y="4021"/>
                  <a:pt x="8" y="3349"/>
                  <a:pt x="0" y="2115"/>
                </a:cubicBezTo>
                <a:cubicBezTo>
                  <a:pt x="8" y="928"/>
                  <a:pt x="327" y="349"/>
                  <a:pt x="523" y="0"/>
                </a:cubicBezTo>
                <a:cubicBezTo>
                  <a:pt x="623" y="0"/>
                  <a:pt x="4993" y="0"/>
                  <a:pt x="4993" y="0"/>
                </a:cubicBezTo>
                <a:close/>
              </a:path>
            </a:pathLst>
          </a:custGeom>
          <a:solidFill>
            <a:srgbClr val="6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e400"/>
              </a:solidFill>
              <a:latin typeface="Gulim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9e4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5327280" y="0"/>
            <a:ext cx="381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1358640" y="6524640"/>
            <a:ext cx="765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F1B3-7F2C-4771-B992-5EC0310D6202}" type="slidenum">
              <a:rPr b="1" lang="en-US" sz="1400" spc="-1" strike="noStrike">
                <a:solidFill>
                  <a:srgbClr val="0099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47000" y="6477120"/>
            <a:ext cx="186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ff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e9e400"/>
              </a:solidFill>
              <a:latin typeface="Gulim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3240" y="1589040"/>
            <a:ext cx="9151920" cy="59076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e400"/>
              </a:solidFill>
              <a:latin typeface="Gulim"/>
            </a:endParaRPr>
          </a:p>
        </p:txBody>
      </p:sp>
      <p:sp>
        <p:nvSpPr>
          <p:cNvPr id="45" name=""/>
          <p:cNvSpPr/>
          <p:nvPr/>
        </p:nvSpPr>
        <p:spPr>
          <a:xfrm>
            <a:off x="-4680" y="1174680"/>
            <a:ext cx="9153360" cy="954000"/>
          </a:xfrm>
          <a:custGeom>
            <a:avLst/>
            <a:gdLst/>
            <a:ahLst/>
            <a:rect l="l" t="t" r="r" b="b"/>
            <a:pathLst>
              <a:path w="5766" h="601">
                <a:moveTo>
                  <a:pt x="0" y="10"/>
                </a:moveTo>
                <a:cubicBezTo>
                  <a:pt x="704" y="354"/>
                  <a:pt x="1827" y="528"/>
                  <a:pt x="2787" y="524"/>
                </a:cubicBezTo>
                <a:cubicBezTo>
                  <a:pt x="3748" y="523"/>
                  <a:pt x="5042" y="345"/>
                  <a:pt x="5765" y="3"/>
                </a:cubicBezTo>
                <a:cubicBezTo>
                  <a:pt x="5766" y="0"/>
                  <a:pt x="5765" y="188"/>
                  <a:pt x="5765" y="277"/>
                </a:cubicBezTo>
                <a:cubicBezTo>
                  <a:pt x="5246" y="387"/>
                  <a:pt x="3757" y="591"/>
                  <a:pt x="2795" y="596"/>
                </a:cubicBezTo>
                <a:cubicBezTo>
                  <a:pt x="1834" y="601"/>
                  <a:pt x="467" y="405"/>
                  <a:pt x="1" y="307"/>
                </a:cubicBezTo>
                <a:cubicBezTo>
                  <a:pt x="1" y="207"/>
                  <a:pt x="0" y="10"/>
                  <a:pt x="0" y="10"/>
                </a:cubicBezTo>
                <a:close/>
              </a:path>
            </a:pathLst>
          </a:custGeom>
          <a:solidFill>
            <a:srgbClr val="e9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e400"/>
              </a:solidFill>
              <a:latin typeface="Gulim"/>
            </a:endParaRPr>
          </a:p>
        </p:txBody>
      </p:sp>
      <p:sp>
        <p:nvSpPr>
          <p:cNvPr id="46" name=""/>
          <p:cNvSpPr/>
          <p:nvPr/>
        </p:nvSpPr>
        <p:spPr>
          <a:xfrm>
            <a:off x="0" y="-17640"/>
            <a:ext cx="9158400" cy="2048040"/>
          </a:xfrm>
          <a:custGeom>
            <a:avLst/>
            <a:gdLst/>
            <a:ahLst/>
            <a:rect l="l" t="t" r="r" b="b"/>
            <a:pathLst>
              <a:path w="5769" h="1290">
                <a:moveTo>
                  <a:pt x="0" y="3"/>
                </a:moveTo>
                <a:cubicBezTo>
                  <a:pt x="0" y="3"/>
                  <a:pt x="5767" y="6"/>
                  <a:pt x="5768" y="3"/>
                </a:cubicBezTo>
                <a:cubicBezTo>
                  <a:pt x="5769" y="0"/>
                  <a:pt x="5766" y="668"/>
                  <a:pt x="5766" y="757"/>
                </a:cubicBezTo>
                <a:cubicBezTo>
                  <a:pt x="5310" y="943"/>
                  <a:pt x="4445" y="1282"/>
                  <a:pt x="2802" y="1290"/>
                </a:cubicBezTo>
                <a:cubicBezTo>
                  <a:pt x="1222" y="1282"/>
                  <a:pt x="466" y="964"/>
                  <a:pt x="1" y="768"/>
                </a:cubicBezTo>
                <a:cubicBezTo>
                  <a:pt x="1" y="668"/>
                  <a:pt x="0" y="3"/>
                  <a:pt x="0" y="3"/>
                </a:cubicBezTo>
                <a:close/>
              </a:path>
            </a:pathLst>
          </a:custGeom>
          <a:solidFill>
            <a:srgbClr val="6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e400"/>
              </a:solidFill>
              <a:latin typeface="Gulim"/>
            </a:endParaRPr>
          </a:p>
        </p:txBody>
      </p:sp>
      <p:sp>
        <p:nvSpPr>
          <p:cNvPr id="47" name=""/>
          <p:cNvSpPr/>
          <p:nvPr/>
        </p:nvSpPr>
        <p:spPr>
          <a:xfrm>
            <a:off x="7308720" y="580536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Company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e9e400"/>
              </a:solidFill>
              <a:latin typeface="Gulim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5940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-4320" y="4771800"/>
            <a:ext cx="9151920" cy="59040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e400"/>
              </a:solidFill>
              <a:latin typeface="Gulim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-6120" y="4822560"/>
            <a:ext cx="9153720" cy="954000"/>
          </a:xfrm>
          <a:custGeom>
            <a:avLst/>
            <a:gdLst/>
            <a:ahLst/>
            <a:rect l="l" t="t" r="r" b="b"/>
            <a:pathLst>
              <a:path w="5766" h="601">
                <a:moveTo>
                  <a:pt x="0" y="10"/>
                </a:moveTo>
                <a:cubicBezTo>
                  <a:pt x="704" y="354"/>
                  <a:pt x="1827" y="528"/>
                  <a:pt x="2787" y="524"/>
                </a:cubicBezTo>
                <a:cubicBezTo>
                  <a:pt x="3748" y="523"/>
                  <a:pt x="5042" y="345"/>
                  <a:pt x="5765" y="3"/>
                </a:cubicBezTo>
                <a:cubicBezTo>
                  <a:pt x="5766" y="0"/>
                  <a:pt x="5765" y="188"/>
                  <a:pt x="5765" y="277"/>
                </a:cubicBezTo>
                <a:cubicBezTo>
                  <a:pt x="5246" y="387"/>
                  <a:pt x="3757" y="591"/>
                  <a:pt x="2795" y="596"/>
                </a:cubicBezTo>
                <a:cubicBezTo>
                  <a:pt x="1834" y="601"/>
                  <a:pt x="467" y="405"/>
                  <a:pt x="1" y="307"/>
                </a:cubicBezTo>
                <a:cubicBezTo>
                  <a:pt x="1" y="207"/>
                  <a:pt x="0" y="10"/>
                  <a:pt x="0" y="10"/>
                </a:cubicBezTo>
                <a:close/>
              </a:path>
            </a:pathLst>
          </a:custGeom>
          <a:solidFill>
            <a:srgbClr val="e9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e400"/>
              </a:solidFill>
              <a:latin typeface="Gulim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921200"/>
            <a:ext cx="9151920" cy="1940040"/>
          </a:xfrm>
          <a:custGeom>
            <a:avLst/>
            <a:gdLst/>
            <a:ahLst/>
            <a:rect l="l" t="t" r="r" b="b"/>
            <a:pathLst>
              <a:path w="5765" h="1222">
                <a:moveTo>
                  <a:pt x="0" y="1220"/>
                </a:moveTo>
                <a:cubicBezTo>
                  <a:pt x="0" y="1220"/>
                  <a:pt x="5762" y="1216"/>
                  <a:pt x="5763" y="1219"/>
                </a:cubicBezTo>
                <a:cubicBezTo>
                  <a:pt x="5764" y="1222"/>
                  <a:pt x="5765" y="622"/>
                  <a:pt x="5765" y="533"/>
                </a:cubicBezTo>
                <a:cubicBezTo>
                  <a:pt x="5309" y="347"/>
                  <a:pt x="4444" y="8"/>
                  <a:pt x="2801" y="0"/>
                </a:cubicBezTo>
                <a:cubicBezTo>
                  <a:pt x="1221" y="8"/>
                  <a:pt x="465" y="326"/>
                  <a:pt x="0" y="522"/>
                </a:cubicBezTo>
                <a:cubicBezTo>
                  <a:pt x="0" y="622"/>
                  <a:pt x="0" y="1220"/>
                  <a:pt x="0" y="1220"/>
                </a:cubicBezTo>
                <a:close/>
              </a:path>
            </a:pathLst>
          </a:custGeom>
          <a:solidFill>
            <a:srgbClr val="6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e400"/>
              </a:solidFill>
              <a:latin typeface="Guli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e9e4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9e400"/>
              </a:solidFill>
              <a:latin typeface="Verdana"/>
            </a:endParaRPr>
          </a:p>
          <a:p>
            <a:pPr lvl="3" marL="1371600" algn="ctr">
              <a:spcBef>
                <a:spcPts val="601"/>
              </a:spcBef>
              <a:buClr>
                <a:srgbClr val="e9e4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e9e400"/>
              </a:solidFill>
              <a:latin typeface="Verdana"/>
            </a:endParaRPr>
          </a:p>
          <a:p>
            <a:pPr lvl="4" marL="1828800" algn="ctr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e9e400"/>
              </a:solidFill>
              <a:latin typeface="Verdana"/>
            </a:endParaRPr>
          </a:p>
          <a:p>
            <a:pPr lvl="5" marL="18288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e9e400"/>
              </a:solidFill>
              <a:latin typeface="Verdana"/>
            </a:endParaRPr>
          </a:p>
          <a:p>
            <a:pPr lvl="6" marL="18288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e9e4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5940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24000" y="5660640"/>
            <a:ext cx="468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Gulim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e9e400"/>
              </a:solidFill>
              <a:latin typeface="Gulim"/>
            </a:endParaRPr>
          </a:p>
        </p:txBody>
      </p:sp>
      <p:sp>
        <p:nvSpPr>
          <p:cNvPr id="92" name=""/>
          <p:cNvSpPr/>
          <p:nvPr/>
        </p:nvSpPr>
        <p:spPr>
          <a:xfrm>
            <a:off x="2547360" y="549360"/>
            <a:ext cx="28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Gulim"/>
              </a:rPr>
              <a:t>游乐场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  <a:ea typeface="宋体"/>
              </a:rPr>
              <a:t>素材</a:t>
            </a:r>
            <a:endParaRPr b="0" lang="en-US" sz="4000" spc="-1" strike="noStrike">
              <a:solidFill>
                <a:srgbClr val="e9e4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9e4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e9e4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A871-059A-4C22-BA17-E683FFD8D5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2:40:0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08:5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