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hdphoto1.wdp" ContentType="image/vnd.ms-photo"/>
  <Override PartName="/ppt/media/image16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png" ContentType="image/png"/>
  <Override PartName="/ppt/media/image1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61915686836822"/>
          <c:y val="0.14508783344177"/>
          <c:w val="0.528152184303604"/>
          <c:h val="0.79223595749295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时间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explosion val="13"/>
            <c:spPr>
              <a:solidFill>
                <a:srgbClr val="00ada7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b7dac4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学数学</c:v>
                </c:pt>
                <c:pt idx="1">
                  <c:v>其他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1</c:v>
                </c:pt>
                <c:pt idx="1">
                  <c:v>29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5"/>
          <p:cNvSpPr/>
          <p:nvPr/>
        </p:nvSpPr>
        <p:spPr>
          <a:xfrm>
            <a:off x="0" y="4889520"/>
            <a:ext cx="9143640" cy="1968120"/>
          </a:xfrm>
          <a:prstGeom prst="rect">
            <a:avLst/>
          </a:prstGeom>
          <a:solidFill>
            <a:srgbClr val="f6d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7" name="标题 1"/>
          <p:cNvSpPr/>
          <p:nvPr/>
        </p:nvSpPr>
        <p:spPr>
          <a:xfrm>
            <a:off x="4285800" y="3190320"/>
            <a:ext cx="42721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zh-CN" sz="5400" spc="497" strike="noStrike">
                <a:solidFill>
                  <a:srgbClr val="d9d9d9"/>
                </a:solidFill>
                <a:latin typeface="微软雅黑"/>
                <a:ea typeface="微软雅黑"/>
              </a:rPr>
              <a:t>不一样的</a:t>
            </a:r>
            <a:br>
              <a:rPr sz="5400"/>
            </a:br>
            <a:r>
              <a:rPr b="1" lang="zh-CN" sz="5400" spc="497" strike="noStrike">
                <a:solidFill>
                  <a:srgbClr val="00ada7"/>
                </a:solidFill>
                <a:latin typeface="微软雅黑"/>
                <a:ea typeface="微软雅黑"/>
              </a:rPr>
              <a:t>成功</a:t>
            </a:r>
            <a:r>
              <a:rPr b="1" lang="zh-CN" sz="5400" spc="497" strike="noStrike">
                <a:solidFill>
                  <a:srgbClr val="d9d9d9"/>
                </a:solidFill>
                <a:latin typeface="微软雅黑"/>
                <a:ea typeface="微软雅黑"/>
              </a:rPr>
              <a:t>启示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5068080" y="802800"/>
            <a:ext cx="2467080" cy="28328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/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5000" spc="-1" strike="noStrike">
                <a:solidFill>
                  <a:srgbClr val="f5d520"/>
                </a:solidFill>
                <a:latin typeface="微软雅黑"/>
                <a:ea typeface="微软雅黑"/>
              </a:rPr>
              <a:t>异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标题 1"/>
          <p:cNvSpPr/>
          <p:nvPr/>
        </p:nvSpPr>
        <p:spPr>
          <a:xfrm>
            <a:off x="4285800" y="5021280"/>
            <a:ext cx="36460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尔科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拉德威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rcRect l="0" t="1087" r="268" b="0"/>
          <a:stretch/>
        </p:blipFill>
        <p:spPr>
          <a:xfrm>
            <a:off x="847440" y="1323360"/>
            <a:ext cx="3073320" cy="4350240"/>
          </a:xfrm>
          <a:prstGeom prst="rect">
            <a:avLst/>
          </a:prstGeom>
          <a:ln w="0">
            <a:noFill/>
          </a:ln>
          <a:effectLst>
            <a:outerShdw algn="tl" dir="2700000" dist="75858" rotWithShape="0">
              <a:schemeClr val="tx1">
                <a:lumMod val="75000"/>
                <a:lumOff val="25000"/>
                <a:alpha val="40000"/>
              </a:schemeClr>
            </a:outerShdw>
          </a:effectLst>
        </p:spPr>
      </p:pic>
      <p:sp>
        <p:nvSpPr>
          <p:cNvPr id="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直角三角形 125"/>
          <p:cNvSpPr/>
          <p:nvPr/>
        </p:nvSpPr>
        <p:spPr>
          <a:xfrm>
            <a:off x="1803600" y="323640"/>
            <a:ext cx="418320" cy="209160"/>
          </a:xfrm>
          <a:prstGeom prst="rtTriangle">
            <a:avLst/>
          </a:prstGeom>
          <a:solidFill>
            <a:srgbClr val="656b6e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582840" y="2533680"/>
            <a:ext cx="8019720" cy="457020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9" name="任意多边形 259"/>
          <p:cNvSpPr/>
          <p:nvPr/>
        </p:nvSpPr>
        <p:spPr>
          <a:xfrm>
            <a:off x="5005080" y="2545200"/>
            <a:ext cx="815400" cy="587160"/>
          </a:xfrm>
          <a:custGeom>
            <a:avLst/>
            <a:gdLst>
              <a:gd name="textAreaLeft" fmla="*/ 0 w 815400"/>
              <a:gd name="textAreaRight" fmla="*/ 815760 w 81540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815860" h="587585">
                <a:moveTo>
                  <a:pt x="0" y="0"/>
                </a:moveTo>
                <a:lnTo>
                  <a:pt x="677703" y="0"/>
                </a:lnTo>
                <a:lnTo>
                  <a:pt x="815860" y="361672"/>
                </a:lnTo>
                <a:lnTo>
                  <a:pt x="224454" y="587585"/>
                </a:lnTo>
                <a:close/>
              </a:path>
            </a:pathLst>
          </a:cu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0" name="矩形 8"/>
          <p:cNvSpPr/>
          <p:nvPr/>
        </p:nvSpPr>
        <p:spPr>
          <a:xfrm>
            <a:off x="582840" y="541800"/>
            <a:ext cx="8019720" cy="1805400"/>
          </a:xfrm>
          <a:prstGeom prst="rect">
            <a:avLst/>
          </a:prstGeom>
          <a:solidFill>
            <a:srgbClr val="e2375d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1" name="矩形 9"/>
          <p:cNvSpPr/>
          <p:nvPr/>
        </p:nvSpPr>
        <p:spPr>
          <a:xfrm>
            <a:off x="2585520" y="660960"/>
            <a:ext cx="332172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405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10000</a:t>
            </a:r>
            <a:r>
              <a:rPr b="1" lang="zh-CN" sz="405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法则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流程图: 磁盘 1"/>
          <p:cNvSpPr/>
          <p:nvPr/>
        </p:nvSpPr>
        <p:spPr>
          <a:xfrm>
            <a:off x="5134680" y="5157360"/>
            <a:ext cx="3285360" cy="778680"/>
          </a:xfrm>
          <a:prstGeom prst="flowChartMagneticDisk">
            <a:avLst/>
          </a:prstGeom>
          <a:solidFill>
            <a:schemeClr val="tx1">
              <a:lumMod val="85000"/>
              <a:lumOff val="15000"/>
            </a:schemeClr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3" name="文本框 175"/>
          <p:cNvSpPr/>
          <p:nvPr/>
        </p:nvSpPr>
        <p:spPr>
          <a:xfrm rot="412200">
            <a:off x="6009120" y="3079440"/>
            <a:ext cx="171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  <a:ea typeface="微软雅黑"/>
              </a:rPr>
              <a:t>Hey</a:t>
            </a:r>
            <a:r>
              <a:rPr b="0" lang="en-US" sz="2000" spc="-1" strike="noStrike">
                <a:solidFill>
                  <a:srgbClr val="000000"/>
                </a:solidFill>
                <a:latin typeface="Showcard Gothic"/>
                <a:ea typeface="微软雅黑"/>
              </a:rPr>
              <a:t>   Jude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组合 177"/>
          <p:cNvGrpSpPr/>
          <p:nvPr/>
        </p:nvGrpSpPr>
        <p:grpSpPr>
          <a:xfrm>
            <a:off x="1018440" y="2040480"/>
            <a:ext cx="7206120" cy="789120"/>
            <a:chOff x="1018440" y="2040480"/>
            <a:chExt cx="7206120" cy="789120"/>
          </a:xfrm>
        </p:grpSpPr>
        <p:grpSp>
          <p:nvGrpSpPr>
            <p:cNvPr id="385" name="组合 178"/>
            <p:cNvGrpSpPr/>
            <p:nvPr/>
          </p:nvGrpSpPr>
          <p:grpSpPr>
            <a:xfrm>
              <a:off x="8067600" y="2049840"/>
              <a:ext cx="156960" cy="779760"/>
              <a:chOff x="8067600" y="2049840"/>
              <a:chExt cx="156960" cy="779760"/>
            </a:xfrm>
          </p:grpSpPr>
          <p:sp>
            <p:nvSpPr>
              <p:cNvPr id="386" name="椭圆 184"/>
              <p:cNvSpPr/>
              <p:nvPr/>
            </p:nvSpPr>
            <p:spPr>
              <a:xfrm rot="5400000">
                <a:off x="8067600" y="20498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87" name="椭圆 185"/>
              <p:cNvSpPr/>
              <p:nvPr/>
            </p:nvSpPr>
            <p:spPr>
              <a:xfrm rot="5400000">
                <a:off x="8067600" y="26726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388" name="直接连接符 186"/>
              <p:cNvCxnSpPr/>
              <p:nvPr/>
            </p:nvCxnSpPr>
            <p:spPr>
              <a:xfrm>
                <a:off x="81482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389" name="组合 179"/>
            <p:cNvGrpSpPr/>
            <p:nvPr/>
          </p:nvGrpSpPr>
          <p:grpSpPr>
            <a:xfrm>
              <a:off x="1018440" y="2040480"/>
              <a:ext cx="156960" cy="779760"/>
              <a:chOff x="1018440" y="2040480"/>
              <a:chExt cx="156960" cy="779760"/>
            </a:xfrm>
          </p:grpSpPr>
          <p:grpSp>
            <p:nvGrpSpPr>
              <p:cNvPr id="390" name="组合 180"/>
              <p:cNvGrpSpPr/>
              <p:nvPr/>
            </p:nvGrpSpPr>
            <p:grpSpPr>
              <a:xfrm>
                <a:off x="1018440" y="2040480"/>
                <a:ext cx="156960" cy="779760"/>
                <a:chOff x="1018440" y="2040480"/>
                <a:chExt cx="156960" cy="779760"/>
              </a:xfrm>
            </p:grpSpPr>
            <p:sp>
              <p:nvSpPr>
                <p:cNvPr id="391" name="椭圆 182"/>
                <p:cNvSpPr/>
                <p:nvPr/>
              </p:nvSpPr>
              <p:spPr>
                <a:xfrm rot="5400000">
                  <a:off x="1018440" y="20404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392" name="椭圆 183"/>
                <p:cNvSpPr/>
                <p:nvPr/>
              </p:nvSpPr>
              <p:spPr>
                <a:xfrm rot="5400000">
                  <a:off x="1018440" y="26632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cxnSp>
            <p:nvCxnSpPr>
              <p:cNvPr id="393" name="直接连接符 181"/>
              <p:cNvCxnSpPr/>
              <p:nvPr/>
            </p:nvCxnSpPr>
            <p:spPr>
              <a:xfrm>
                <a:off x="10958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394" name="流程图: 接点 7"/>
          <p:cNvSpPr/>
          <p:nvPr/>
        </p:nvSpPr>
        <p:spPr>
          <a:xfrm rot="19778400">
            <a:off x="5200200" y="2800080"/>
            <a:ext cx="640800" cy="387720"/>
          </a:xfrm>
          <a:prstGeom prst="flowChartConnector">
            <a:avLst/>
          </a:prstGeom>
          <a:solidFill>
            <a:srgbClr val="ffffff"/>
          </a:solidFill>
          <a:ln>
            <a:solidFill>
              <a:srgbClr val="40404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5" name="任意多边形 256"/>
          <p:cNvSpPr/>
          <p:nvPr/>
        </p:nvSpPr>
        <p:spPr>
          <a:xfrm rot="19778400">
            <a:off x="5371200" y="2783160"/>
            <a:ext cx="791280" cy="1929960"/>
          </a:xfrm>
          <a:custGeom>
            <a:avLst/>
            <a:gdLst>
              <a:gd name="textAreaLeft" fmla="*/ 0 w 791280"/>
              <a:gd name="textAreaRight" fmla="*/ 791640 w 791280"/>
              <a:gd name="textAreaTop" fmla="*/ 0 h 1929960"/>
              <a:gd name="textAreaBottom" fmla="*/ 1930320 h 1929960"/>
            </a:gdLst>
            <a:ahLst/>
            <a:rect l="textAreaLeft" t="textAreaTop" r="textAreaRight" b="textAreaBottom"/>
            <a:pathLst>
              <a:path w="791607" h="1930295">
                <a:moveTo>
                  <a:pt x="346042" y="329081"/>
                </a:moveTo>
                <a:lnTo>
                  <a:pt x="349147" y="331339"/>
                </a:lnTo>
                <a:lnTo>
                  <a:pt x="349147" y="331339"/>
                </a:lnTo>
                <a:close/>
                <a:moveTo>
                  <a:pt x="791607" y="49309"/>
                </a:moveTo>
                <a:lnTo>
                  <a:pt x="787352" y="340985"/>
                </a:lnTo>
                <a:lnTo>
                  <a:pt x="787351" y="340986"/>
                </a:lnTo>
                <a:lnTo>
                  <a:pt x="764173" y="1930295"/>
                </a:lnTo>
                <a:lnTo>
                  <a:pt x="0" y="1842150"/>
                </a:lnTo>
                <a:lnTo>
                  <a:pt x="332688" y="319376"/>
                </a:lnTo>
                <a:lnTo>
                  <a:pt x="332689" y="319376"/>
                </a:lnTo>
                <a:lnTo>
                  <a:pt x="395002" y="34160"/>
                </a:lnTo>
                <a:lnTo>
                  <a:pt x="397046" y="33149"/>
                </a:lnTo>
                <a:cubicBezTo>
                  <a:pt x="448700" y="12220"/>
                  <a:pt x="510969" y="0"/>
                  <a:pt x="577998" y="0"/>
                </a:cubicBezTo>
                <a:cubicBezTo>
                  <a:pt x="645026" y="0"/>
                  <a:pt x="707295" y="12220"/>
                  <a:pt x="758948" y="33149"/>
                </a:cubicBezTo>
                <a:close/>
              </a:path>
            </a:pathLst>
          </a:custGeom>
          <a:gradFill rotWithShape="0">
            <a:gsLst>
              <a:gs pos="0">
                <a:srgbClr val="ffe699"/>
              </a:gs>
              <a:gs pos="100000">
                <a:srgbClr val="ffc000">
                  <a:alpha val="0"/>
                </a:srgbClr>
              </a:gs>
            </a:gsLst>
            <a:lin ang="357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6" name="文本框 109"/>
          <p:cNvSpPr/>
          <p:nvPr/>
        </p:nvSpPr>
        <p:spPr>
          <a:xfrm>
            <a:off x="1169640" y="3935520"/>
            <a:ext cx="29840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8800" spc="-1" strike="noStrike">
                <a:solidFill>
                  <a:srgbClr val="e2375d"/>
                </a:solidFill>
                <a:latin typeface="Showcard Gothic"/>
                <a:ea typeface="微软雅黑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4"/>
          <p:cNvGrpSpPr/>
          <p:nvPr/>
        </p:nvGrpSpPr>
        <p:grpSpPr>
          <a:xfrm>
            <a:off x="7717680" y="2539800"/>
            <a:ext cx="890280" cy="777960"/>
            <a:chOff x="7717680" y="2539800"/>
            <a:chExt cx="890280" cy="777960"/>
          </a:xfrm>
        </p:grpSpPr>
        <p:sp>
          <p:nvSpPr>
            <p:cNvPr id="398" name="任意多边形 110"/>
            <p:cNvSpPr/>
            <p:nvPr/>
          </p:nvSpPr>
          <p:spPr>
            <a:xfrm flipH="1">
              <a:off x="7792200" y="2539800"/>
              <a:ext cx="815400" cy="587160"/>
            </a:xfrm>
            <a:custGeom>
              <a:avLst/>
              <a:gdLst>
                <a:gd name="textAreaLeft" fmla="*/ -360 w 815400"/>
                <a:gd name="textAreaRight" fmla="*/ 815400 w 8154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815860" h="587585">
                  <a:moveTo>
                    <a:pt x="0" y="0"/>
                  </a:moveTo>
                  <a:lnTo>
                    <a:pt x="677703" y="0"/>
                  </a:lnTo>
                  <a:lnTo>
                    <a:pt x="815860" y="361672"/>
                  </a:lnTo>
                  <a:lnTo>
                    <a:pt x="224454" y="587585"/>
                  </a:lnTo>
                  <a:close/>
                </a:path>
              </a:pathLst>
            </a:custGeom>
            <a:solidFill>
              <a:srgbClr val="40404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9" name="流程图: 接点 111"/>
            <p:cNvSpPr/>
            <p:nvPr/>
          </p:nvSpPr>
          <p:spPr>
            <a:xfrm flipH="1" rot="1821600">
              <a:off x="7771320" y="2794680"/>
              <a:ext cx="640800" cy="387720"/>
            </a:xfrm>
            <a:prstGeom prst="flowChartConnector">
              <a:avLst/>
            </a:prstGeom>
            <a:solidFill>
              <a:srgbClr val="ffffff"/>
            </a:solidFill>
            <a:ln>
              <a:solidFill>
                <a:srgbClr val="40404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00" name="任意多边形 121"/>
          <p:cNvSpPr/>
          <p:nvPr/>
        </p:nvSpPr>
        <p:spPr>
          <a:xfrm rot="1602000">
            <a:off x="7349040" y="2710440"/>
            <a:ext cx="768960" cy="1920960"/>
          </a:xfrm>
          <a:custGeom>
            <a:avLst/>
            <a:gdLst>
              <a:gd name="textAreaLeft" fmla="*/ 0 w 768960"/>
              <a:gd name="textAreaRight" fmla="*/ 769320 w 76896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769238" h="1921450">
                <a:moveTo>
                  <a:pt x="191349" y="43345"/>
                </a:moveTo>
                <a:cubicBezTo>
                  <a:pt x="251477" y="11999"/>
                  <a:pt x="332832" y="-4560"/>
                  <a:pt x="421161" y="1096"/>
                </a:cubicBezTo>
                <a:cubicBezTo>
                  <a:pt x="465325" y="3925"/>
                  <a:pt x="507052" y="12040"/>
                  <a:pt x="544693" y="24292"/>
                </a:cubicBezTo>
                <a:lnTo>
                  <a:pt x="581406" y="39021"/>
                </a:lnTo>
                <a:lnTo>
                  <a:pt x="612632" y="351955"/>
                </a:lnTo>
                <a:lnTo>
                  <a:pt x="603547" y="355790"/>
                </a:lnTo>
                <a:lnTo>
                  <a:pt x="612631" y="351956"/>
                </a:lnTo>
                <a:lnTo>
                  <a:pt x="769238" y="1921450"/>
                </a:lnTo>
                <a:lnTo>
                  <a:pt x="0" y="1921449"/>
                </a:lnTo>
                <a:lnTo>
                  <a:pt x="161128" y="306659"/>
                </a:lnTo>
                <a:lnTo>
                  <a:pt x="173804" y="317273"/>
                </a:lnTo>
                <a:cubicBezTo>
                  <a:pt x="229444" y="356032"/>
                  <a:pt x="308022" y="382835"/>
                  <a:pt x="396350" y="388491"/>
                </a:cubicBezTo>
                <a:cubicBezTo>
                  <a:pt x="429474" y="390612"/>
                  <a:pt x="461616" y="389610"/>
                  <a:pt x="492027" y="385875"/>
                </a:cubicBezTo>
                <a:lnTo>
                  <a:pt x="574559" y="367477"/>
                </a:lnTo>
                <a:lnTo>
                  <a:pt x="492028" y="385874"/>
                </a:lnTo>
                <a:cubicBezTo>
                  <a:pt x="461617" y="389609"/>
                  <a:pt x="429475" y="390612"/>
                  <a:pt x="396351" y="388491"/>
                </a:cubicBezTo>
                <a:cubicBezTo>
                  <a:pt x="308023" y="382834"/>
                  <a:pt x="229445" y="356032"/>
                  <a:pt x="173805" y="317273"/>
                </a:cubicBezTo>
                <a:lnTo>
                  <a:pt x="161129" y="306659"/>
                </a:lnTo>
                <a:lnTo>
                  <a:pt x="187135" y="46041"/>
                </a:lnTo>
                <a:close/>
              </a:path>
            </a:pathLst>
          </a:custGeom>
          <a:gradFill rotWithShape="0">
            <a:gsLst>
              <a:gs pos="0">
                <a:srgbClr val="ffe699"/>
              </a:gs>
              <a:gs pos="100000">
                <a:srgbClr val="ffc000">
                  <a:alpha val="0"/>
                </a:srgbClr>
              </a:gs>
            </a:gsLst>
            <a:lin ang="699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401" name="图片 6" descr=""/>
          <p:cNvPicPr/>
          <p:nvPr/>
        </p:nvPicPr>
        <p:blipFill>
          <a:blip r:embed="rId1"/>
          <a:stretch/>
        </p:blipFill>
        <p:spPr>
          <a:xfrm>
            <a:off x="4839480" y="3427200"/>
            <a:ext cx="3899520" cy="2288880"/>
          </a:xfrm>
          <a:prstGeom prst="rect">
            <a:avLst/>
          </a:prstGeom>
          <a:ln w="0">
            <a:noFill/>
          </a:ln>
        </p:spPr>
      </p:pic>
      <p:sp>
        <p:nvSpPr>
          <p:cNvPr id="402" name="矩形 126"/>
          <p:cNvSpPr/>
          <p:nvPr/>
        </p:nvSpPr>
        <p:spPr>
          <a:xfrm>
            <a:off x="1014480" y="318600"/>
            <a:ext cx="781920" cy="1182960"/>
          </a:xfrm>
          <a:prstGeom prst="rect">
            <a:avLst/>
          </a:prstGeom>
          <a:solidFill>
            <a:srgbClr val="808c9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03" name="文本框 127"/>
          <p:cNvSpPr/>
          <p:nvPr/>
        </p:nvSpPr>
        <p:spPr>
          <a:xfrm>
            <a:off x="1232280" y="587520"/>
            <a:ext cx="346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5"/>
          <p:cNvSpPr/>
          <p:nvPr/>
        </p:nvSpPr>
        <p:spPr>
          <a:xfrm>
            <a:off x="1218600" y="3685680"/>
            <a:ext cx="3033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披头士乐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成名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已演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直接连接符 29"/>
          <p:cNvCxnSpPr/>
          <p:nvPr/>
        </p:nvCxnSpPr>
        <p:spPr>
          <a:xfrm>
            <a:off x="1313280" y="6635880"/>
            <a:ext cx="677952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39"/>
          <p:cNvSpPr/>
          <p:nvPr/>
        </p:nvSpPr>
        <p:spPr>
          <a:xfrm>
            <a:off x="582840" y="-225000"/>
            <a:ext cx="8019720" cy="66639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07" name="文本框 34"/>
          <p:cNvSpPr/>
          <p:nvPr/>
        </p:nvSpPr>
        <p:spPr>
          <a:xfrm>
            <a:off x="1175400" y="4423320"/>
            <a:ext cx="71085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四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任何一个领域的世界级水平都需要起码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10000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小时的刻意训练。天才都如此努力，何况我等凡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35"/>
          <p:cNvSpPr/>
          <p:nvPr/>
        </p:nvSpPr>
        <p:spPr>
          <a:xfrm>
            <a:off x="3245400" y="512640"/>
            <a:ext cx="4447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@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秋叶 老师的</a:t>
            </a:r>
            <a:r>
              <a:rPr b="0" lang="en-US" sz="24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10000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小时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2" descr=""/>
          <p:cNvPicPr/>
          <p:nvPr/>
        </p:nvPicPr>
        <p:blipFill>
          <a:blip r:embed="rId1"/>
          <a:stretch/>
        </p:blipFill>
        <p:spPr>
          <a:xfrm>
            <a:off x="1175400" y="456120"/>
            <a:ext cx="1624320" cy="3790440"/>
          </a:xfrm>
          <a:prstGeom prst="rect">
            <a:avLst/>
          </a:prstGeom>
          <a:ln w="0">
            <a:noFill/>
          </a:ln>
        </p:spPr>
      </p:pic>
      <p:sp>
        <p:nvSpPr>
          <p:cNvPr id="410" name="文本框 8"/>
          <p:cNvSpPr/>
          <p:nvPr/>
        </p:nvSpPr>
        <p:spPr>
          <a:xfrm>
            <a:off x="2519280" y="1729440"/>
            <a:ext cx="589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10000</a:t>
            </a:r>
            <a:r>
              <a:rPr b="1" lang="zh-CN" sz="20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小时</a:t>
            </a:r>
            <a:r>
              <a:rPr b="1" lang="en-US" sz="20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=5000</a:t>
            </a:r>
            <a:r>
              <a:rPr b="1" lang="zh-CN" sz="20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小时通用训练</a:t>
            </a:r>
            <a:r>
              <a:rPr b="1" lang="en-US" sz="20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+5000</a:t>
            </a:r>
            <a:r>
              <a:rPr b="1" lang="zh-CN" sz="20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小时专业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5000</a:t>
            </a:r>
            <a:r>
              <a:rPr b="1" lang="zh-CN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小时</a:t>
            </a:r>
            <a:r>
              <a:rPr b="1" lang="en-US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=10</a:t>
            </a:r>
            <a:r>
              <a:rPr b="1" lang="zh-CN" sz="1600" spc="-1" strike="noStrike" baseline="30000">
                <a:solidFill>
                  <a:srgbClr val="262626"/>
                </a:solidFill>
                <a:latin typeface="Showcard Gothic"/>
                <a:ea typeface="微软雅黑"/>
              </a:rPr>
              <a:t>小时</a:t>
            </a:r>
            <a:r>
              <a:rPr b="1" lang="zh-CN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入门</a:t>
            </a:r>
            <a:r>
              <a:rPr b="1" lang="en-US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+990</a:t>
            </a:r>
            <a:r>
              <a:rPr b="1" lang="zh-CN" sz="1600" spc="-1" strike="noStrike" baseline="30000">
                <a:solidFill>
                  <a:srgbClr val="262626"/>
                </a:solidFill>
                <a:latin typeface="Showcard Gothic"/>
                <a:ea typeface="微软雅黑"/>
              </a:rPr>
              <a:t>小时</a:t>
            </a:r>
            <a:r>
              <a:rPr b="1" lang="zh-CN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精通</a:t>
            </a:r>
            <a:r>
              <a:rPr b="1" lang="en-US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+1000</a:t>
            </a:r>
            <a:r>
              <a:rPr b="1" lang="zh-CN" sz="1600" spc="-1" strike="noStrike" baseline="30000">
                <a:solidFill>
                  <a:srgbClr val="262626"/>
                </a:solidFill>
                <a:latin typeface="Showcard Gothic"/>
                <a:ea typeface="微软雅黑"/>
              </a:rPr>
              <a:t>小时</a:t>
            </a:r>
            <a:r>
              <a:rPr b="1" lang="zh-CN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专业</a:t>
            </a:r>
            <a:r>
              <a:rPr b="1" lang="en-US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+3000</a:t>
            </a:r>
            <a:r>
              <a:rPr b="1" lang="zh-CN" sz="1600" spc="-1" strike="noStrike" baseline="30000">
                <a:solidFill>
                  <a:srgbClr val="262626"/>
                </a:solidFill>
                <a:latin typeface="Showcard Gothic"/>
                <a:ea typeface="微软雅黑"/>
              </a:rPr>
              <a:t>小时</a:t>
            </a:r>
            <a:r>
              <a:rPr b="1" lang="zh-CN" sz="16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极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直角三角形 42"/>
          <p:cNvSpPr/>
          <p:nvPr/>
        </p:nvSpPr>
        <p:spPr>
          <a:xfrm>
            <a:off x="1803600" y="323640"/>
            <a:ext cx="418320" cy="209160"/>
          </a:xfrm>
          <a:prstGeom prst="rtTriangle">
            <a:avLst/>
          </a:prstGeom>
          <a:solidFill>
            <a:srgbClr val="656b6e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12" name="矩形 19"/>
          <p:cNvSpPr/>
          <p:nvPr/>
        </p:nvSpPr>
        <p:spPr>
          <a:xfrm>
            <a:off x="582840" y="2546280"/>
            <a:ext cx="8019720" cy="45183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13" name="矩形 8"/>
          <p:cNvSpPr/>
          <p:nvPr/>
        </p:nvSpPr>
        <p:spPr>
          <a:xfrm>
            <a:off x="582840" y="541800"/>
            <a:ext cx="8019720" cy="1805400"/>
          </a:xfrm>
          <a:prstGeom prst="rect">
            <a:avLst/>
          </a:prstGeom>
          <a:solidFill>
            <a:srgbClr val="00ada7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14" name="矩形 9"/>
          <p:cNvSpPr/>
          <p:nvPr/>
        </p:nvSpPr>
        <p:spPr>
          <a:xfrm>
            <a:off x="3223800" y="696960"/>
            <a:ext cx="35841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050" spc="-1" strike="noStrike">
                <a:solidFill>
                  <a:srgbClr val="f2f2f2"/>
                </a:solidFill>
                <a:latin typeface="微软雅黑"/>
                <a:ea typeface="微软雅黑"/>
              </a:rPr>
              <a:t>比尔盖茨和乔布斯的机遇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177"/>
          <p:cNvGrpSpPr/>
          <p:nvPr/>
        </p:nvGrpSpPr>
        <p:grpSpPr>
          <a:xfrm>
            <a:off x="1018440" y="2040480"/>
            <a:ext cx="7206120" cy="789120"/>
            <a:chOff x="1018440" y="2040480"/>
            <a:chExt cx="7206120" cy="789120"/>
          </a:xfrm>
        </p:grpSpPr>
        <p:grpSp>
          <p:nvGrpSpPr>
            <p:cNvPr id="416" name="组合 178"/>
            <p:cNvGrpSpPr/>
            <p:nvPr/>
          </p:nvGrpSpPr>
          <p:grpSpPr>
            <a:xfrm>
              <a:off x="8067600" y="2049840"/>
              <a:ext cx="156960" cy="779760"/>
              <a:chOff x="8067600" y="2049840"/>
              <a:chExt cx="156960" cy="779760"/>
            </a:xfrm>
          </p:grpSpPr>
          <p:sp>
            <p:nvSpPr>
              <p:cNvPr id="417" name="椭圆 184"/>
              <p:cNvSpPr/>
              <p:nvPr/>
            </p:nvSpPr>
            <p:spPr>
              <a:xfrm rot="5400000">
                <a:off x="8067600" y="20498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18" name="椭圆 185"/>
              <p:cNvSpPr/>
              <p:nvPr/>
            </p:nvSpPr>
            <p:spPr>
              <a:xfrm rot="5400000">
                <a:off x="8067600" y="26726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419" name="直接连接符 186"/>
              <p:cNvCxnSpPr/>
              <p:nvPr/>
            </p:nvCxnSpPr>
            <p:spPr>
              <a:xfrm>
                <a:off x="81482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420" name="组合 179"/>
            <p:cNvGrpSpPr/>
            <p:nvPr/>
          </p:nvGrpSpPr>
          <p:grpSpPr>
            <a:xfrm>
              <a:off x="1018440" y="2040480"/>
              <a:ext cx="156960" cy="779760"/>
              <a:chOff x="1018440" y="2040480"/>
              <a:chExt cx="156960" cy="779760"/>
            </a:xfrm>
          </p:grpSpPr>
          <p:grpSp>
            <p:nvGrpSpPr>
              <p:cNvPr id="421" name="组合 180"/>
              <p:cNvGrpSpPr/>
              <p:nvPr/>
            </p:nvGrpSpPr>
            <p:grpSpPr>
              <a:xfrm>
                <a:off x="1018440" y="2040480"/>
                <a:ext cx="156960" cy="779760"/>
                <a:chOff x="1018440" y="2040480"/>
                <a:chExt cx="156960" cy="779760"/>
              </a:xfrm>
            </p:grpSpPr>
            <p:sp>
              <p:nvSpPr>
                <p:cNvPr id="422" name="椭圆 182"/>
                <p:cNvSpPr/>
                <p:nvPr/>
              </p:nvSpPr>
              <p:spPr>
                <a:xfrm rot="5400000">
                  <a:off x="1018440" y="20404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423" name="椭圆 183"/>
                <p:cNvSpPr/>
                <p:nvPr/>
              </p:nvSpPr>
              <p:spPr>
                <a:xfrm rot="5400000">
                  <a:off x="1018440" y="26632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cxnSp>
            <p:nvCxnSpPr>
              <p:cNvPr id="424" name="直接连接符 181"/>
              <p:cNvCxnSpPr/>
              <p:nvPr/>
            </p:nvCxnSpPr>
            <p:spPr>
              <a:xfrm>
                <a:off x="10958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425" name="矩形 46"/>
          <p:cNvSpPr/>
          <p:nvPr/>
        </p:nvSpPr>
        <p:spPr>
          <a:xfrm>
            <a:off x="1014480" y="318600"/>
            <a:ext cx="781920" cy="1182960"/>
          </a:xfrm>
          <a:prstGeom prst="rect">
            <a:avLst/>
          </a:prstGeom>
          <a:solidFill>
            <a:srgbClr val="808c9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26" name="文本框 47"/>
          <p:cNvSpPr/>
          <p:nvPr/>
        </p:nvSpPr>
        <p:spPr>
          <a:xfrm>
            <a:off x="1232280" y="587520"/>
            <a:ext cx="346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1299240" y="4274640"/>
            <a:ext cx="231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C.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时代的机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4"/>
          <p:cNvSpPr/>
          <p:nvPr/>
        </p:nvSpPr>
        <p:spPr>
          <a:xfrm>
            <a:off x="1273320" y="3007800"/>
            <a:ext cx="695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Q:</a:t>
            </a:r>
            <a:r>
              <a:rPr b="1" lang="zh-CN" sz="3200" spc="-1" strike="noStrike">
                <a:solidFill>
                  <a:srgbClr val="262626"/>
                </a:solidFill>
                <a:latin typeface="Arial"/>
                <a:ea typeface="微软雅黑"/>
              </a:rPr>
              <a:t>比尔盖茨和乔布斯成功的共同特点</a:t>
            </a:r>
            <a:r>
              <a:rPr b="1" lang="en-US" sz="3200" spc="-1" strike="noStrike">
                <a:solidFill>
                  <a:srgbClr val="262626"/>
                </a:solidFill>
                <a:latin typeface="Arial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5"/>
          <p:cNvSpPr/>
          <p:nvPr/>
        </p:nvSpPr>
        <p:spPr>
          <a:xfrm>
            <a:off x="1299240" y="3740760"/>
            <a:ext cx="251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A.</a:t>
            </a:r>
            <a:r>
              <a:rPr b="0" lang="en-US" sz="24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勤奋刻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66"/>
          <p:cNvSpPr/>
          <p:nvPr/>
        </p:nvSpPr>
        <p:spPr>
          <a:xfrm>
            <a:off x="5018040" y="3726720"/>
            <a:ext cx="381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B.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有利的社会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71"/>
          <p:cNvSpPr/>
          <p:nvPr/>
        </p:nvSpPr>
        <p:spPr>
          <a:xfrm>
            <a:off x="5018040" y="4250160"/>
            <a:ext cx="199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Showcard Gothic"/>
                <a:ea typeface="微软雅黑"/>
              </a:rPr>
              <a:t>D.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辍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直接连接符 72"/>
          <p:cNvCxnSpPr/>
          <p:nvPr/>
        </p:nvCxnSpPr>
        <p:spPr>
          <a:xfrm>
            <a:off x="1014480" y="5179320"/>
            <a:ext cx="721044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  <p:grpSp>
        <p:nvGrpSpPr>
          <p:cNvPr id="433" name="组合 76"/>
          <p:cNvGrpSpPr/>
          <p:nvPr/>
        </p:nvGrpSpPr>
        <p:grpSpPr>
          <a:xfrm>
            <a:off x="2232360" y="5544720"/>
            <a:ext cx="1099080" cy="1143720"/>
            <a:chOff x="2232360" y="5544720"/>
            <a:chExt cx="1099080" cy="1143720"/>
          </a:xfrm>
        </p:grpSpPr>
        <p:sp>
          <p:nvSpPr>
            <p:cNvPr id="434" name="Freeform 5"/>
            <p:cNvSpPr/>
            <p:nvPr/>
          </p:nvSpPr>
          <p:spPr>
            <a:xfrm>
              <a:off x="2349720" y="5544720"/>
              <a:ext cx="514800" cy="5176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96" h="1097">
                  <a:moveTo>
                    <a:pt x="217" y="241"/>
                  </a:moveTo>
                  <a:cubicBezTo>
                    <a:pt x="0" y="1044"/>
                    <a:pt x="0" y="1044"/>
                    <a:pt x="0" y="1044"/>
                  </a:cubicBezTo>
                  <a:cubicBezTo>
                    <a:pt x="0" y="1044"/>
                    <a:pt x="512" y="844"/>
                    <a:pt x="872" y="1097"/>
                  </a:cubicBezTo>
                  <a:cubicBezTo>
                    <a:pt x="1096" y="290"/>
                    <a:pt x="1096" y="290"/>
                    <a:pt x="1096" y="290"/>
                  </a:cubicBezTo>
                  <a:cubicBezTo>
                    <a:pt x="1096" y="290"/>
                    <a:pt x="752" y="0"/>
                    <a:pt x="217" y="241"/>
                  </a:cubicBezTo>
                  <a:close/>
                </a:path>
              </a:pathLst>
            </a:custGeom>
            <a:solidFill>
              <a:srgbClr val="c7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35" name="Freeform 6"/>
            <p:cNvSpPr/>
            <p:nvPr/>
          </p:nvSpPr>
          <p:spPr>
            <a:xfrm>
              <a:off x="2232360" y="5980320"/>
              <a:ext cx="516240" cy="51768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96" h="1098">
                  <a:moveTo>
                    <a:pt x="217" y="240"/>
                  </a:moveTo>
                  <a:cubicBezTo>
                    <a:pt x="0" y="1044"/>
                    <a:pt x="0" y="1044"/>
                    <a:pt x="0" y="1044"/>
                  </a:cubicBezTo>
                  <a:cubicBezTo>
                    <a:pt x="0" y="1044"/>
                    <a:pt x="512" y="844"/>
                    <a:pt x="871" y="1098"/>
                  </a:cubicBezTo>
                  <a:cubicBezTo>
                    <a:pt x="1096" y="290"/>
                    <a:pt x="1096" y="290"/>
                    <a:pt x="1096" y="290"/>
                  </a:cubicBezTo>
                  <a:cubicBezTo>
                    <a:pt x="1096" y="290"/>
                    <a:pt x="753" y="0"/>
                    <a:pt x="217" y="240"/>
                  </a:cubicBezTo>
                  <a:close/>
                </a:path>
              </a:pathLst>
            </a:custGeom>
            <a:solidFill>
              <a:srgbClr val="c7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2816640" y="5720760"/>
              <a:ext cx="514800" cy="5176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96" h="1097">
                  <a:moveTo>
                    <a:pt x="879" y="857"/>
                  </a:moveTo>
                  <a:cubicBezTo>
                    <a:pt x="1096" y="53"/>
                    <a:pt x="1096" y="53"/>
                    <a:pt x="1096" y="53"/>
                  </a:cubicBezTo>
                  <a:cubicBezTo>
                    <a:pt x="1096" y="53"/>
                    <a:pt x="584" y="254"/>
                    <a:pt x="224" y="0"/>
                  </a:cubicBezTo>
                  <a:cubicBezTo>
                    <a:pt x="0" y="808"/>
                    <a:pt x="0" y="808"/>
                    <a:pt x="0" y="808"/>
                  </a:cubicBezTo>
                  <a:cubicBezTo>
                    <a:pt x="0" y="808"/>
                    <a:pt x="344" y="1097"/>
                    <a:pt x="879" y="857"/>
                  </a:cubicBezTo>
                  <a:close/>
                </a:path>
              </a:pathLst>
            </a:custGeom>
            <a:solidFill>
              <a:srgbClr val="c7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37" name="Freeform 8"/>
            <p:cNvSpPr/>
            <p:nvPr/>
          </p:nvSpPr>
          <p:spPr>
            <a:xfrm>
              <a:off x="2691360" y="6170760"/>
              <a:ext cx="514800" cy="5176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95" h="1097">
                  <a:moveTo>
                    <a:pt x="879" y="856"/>
                  </a:moveTo>
                  <a:cubicBezTo>
                    <a:pt x="1095" y="53"/>
                    <a:pt x="1095" y="53"/>
                    <a:pt x="1095" y="53"/>
                  </a:cubicBezTo>
                  <a:cubicBezTo>
                    <a:pt x="1095" y="53"/>
                    <a:pt x="583" y="253"/>
                    <a:pt x="224" y="0"/>
                  </a:cubicBezTo>
                  <a:cubicBezTo>
                    <a:pt x="0" y="807"/>
                    <a:pt x="0" y="807"/>
                    <a:pt x="0" y="807"/>
                  </a:cubicBezTo>
                  <a:cubicBezTo>
                    <a:pt x="0" y="807"/>
                    <a:pt x="343" y="1097"/>
                    <a:pt x="879" y="856"/>
                  </a:cubicBezTo>
                  <a:close/>
                </a:path>
              </a:pathLst>
            </a:custGeom>
            <a:solidFill>
              <a:srgbClr val="c7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38" name="Freeform 12"/>
          <p:cNvSpPr/>
          <p:nvPr/>
        </p:nvSpPr>
        <p:spPr>
          <a:xfrm>
            <a:off x="6265080" y="5574240"/>
            <a:ext cx="956520" cy="1114200"/>
          </a:xfrm>
          <a:custGeom>
            <a:avLst/>
            <a:gdLst>
              <a:gd name="textAreaLeft" fmla="*/ 0 w 956520"/>
              <a:gd name="textAreaRight" fmla="*/ 956880 w 95652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3080" h="3587">
                <a:moveTo>
                  <a:pt x="2600" y="1902"/>
                </a:moveTo>
                <a:cubicBezTo>
                  <a:pt x="2596" y="1449"/>
                  <a:pt x="2969" y="1231"/>
                  <a:pt x="2987" y="1221"/>
                </a:cubicBezTo>
                <a:cubicBezTo>
                  <a:pt x="2777" y="913"/>
                  <a:pt x="2449" y="871"/>
                  <a:pt x="2332" y="866"/>
                </a:cubicBezTo>
                <a:cubicBezTo>
                  <a:pt x="2053" y="837"/>
                  <a:pt x="1788" y="1030"/>
                  <a:pt x="1647" y="1030"/>
                </a:cubicBezTo>
                <a:cubicBezTo>
                  <a:pt x="1505" y="1030"/>
                  <a:pt x="1287" y="870"/>
                  <a:pt x="1056" y="874"/>
                </a:cubicBezTo>
                <a:cubicBezTo>
                  <a:pt x="752" y="878"/>
                  <a:pt x="472" y="1051"/>
                  <a:pt x="316" y="1322"/>
                </a:cubicBezTo>
                <a:cubicBezTo>
                  <a:pt x="0" y="1870"/>
                  <a:pt x="235" y="2681"/>
                  <a:pt x="542" y="3125"/>
                </a:cubicBezTo>
                <a:cubicBezTo>
                  <a:pt x="693" y="3343"/>
                  <a:pt x="872" y="3587"/>
                  <a:pt x="1108" y="3578"/>
                </a:cubicBezTo>
                <a:cubicBezTo>
                  <a:pt x="1334" y="3569"/>
                  <a:pt x="1420" y="3432"/>
                  <a:pt x="1694" y="3432"/>
                </a:cubicBezTo>
                <a:cubicBezTo>
                  <a:pt x="1968" y="3432"/>
                  <a:pt x="2045" y="3578"/>
                  <a:pt x="2285" y="3574"/>
                </a:cubicBezTo>
                <a:cubicBezTo>
                  <a:pt x="2528" y="3569"/>
                  <a:pt x="2683" y="3352"/>
                  <a:pt x="2832" y="3134"/>
                </a:cubicBezTo>
                <a:cubicBezTo>
                  <a:pt x="3005" y="2882"/>
                  <a:pt x="3075" y="2638"/>
                  <a:pt x="3080" y="2625"/>
                </a:cubicBezTo>
                <a:cubicBezTo>
                  <a:pt x="3074" y="2623"/>
                  <a:pt x="2604" y="2443"/>
                  <a:pt x="2600" y="1902"/>
                </a:cubicBezTo>
                <a:moveTo>
                  <a:pt x="2149" y="572"/>
                </a:moveTo>
                <a:cubicBezTo>
                  <a:pt x="2274" y="420"/>
                  <a:pt x="2358" y="210"/>
                  <a:pt x="2335" y="0"/>
                </a:cubicBezTo>
                <a:cubicBezTo>
                  <a:pt x="2155" y="8"/>
                  <a:pt x="1937" y="120"/>
                  <a:pt x="1808" y="272"/>
                </a:cubicBezTo>
                <a:cubicBezTo>
                  <a:pt x="1692" y="406"/>
                  <a:pt x="1591" y="620"/>
                  <a:pt x="1618" y="825"/>
                </a:cubicBezTo>
                <a:cubicBezTo>
                  <a:pt x="1819" y="841"/>
                  <a:pt x="2024" y="723"/>
                  <a:pt x="2149" y="572"/>
                </a:cubicBezTo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cxnSp>
        <p:nvCxnSpPr>
          <p:cNvPr id="439" name="直接连接符 29"/>
          <p:cNvCxnSpPr/>
          <p:nvPr/>
        </p:nvCxnSpPr>
        <p:spPr>
          <a:xfrm>
            <a:off x="4652280" y="5179320"/>
            <a:ext cx="360" cy="217404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  <p:sp>
        <p:nvSpPr>
          <p:cNvPr id="440" name="任意多边形 5"/>
          <p:cNvSpPr/>
          <p:nvPr/>
        </p:nvSpPr>
        <p:spPr>
          <a:xfrm>
            <a:off x="1379520" y="3860640"/>
            <a:ext cx="292680" cy="322560"/>
          </a:xfrm>
          <a:custGeom>
            <a:avLst/>
            <a:gdLst>
              <a:gd name="textAreaLeft" fmla="*/ 0 w 292680"/>
              <a:gd name="textAreaRight" fmla="*/ 293040 w 2926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311150" h="342900">
                <a:moveTo>
                  <a:pt x="0" y="165100"/>
                </a:moveTo>
                <a:lnTo>
                  <a:pt x="107950" y="342900"/>
                </a:lnTo>
                <a:lnTo>
                  <a:pt x="311150" y="0"/>
                </a:lnTo>
              </a:path>
            </a:pathLst>
          </a:custGeom>
          <a:noFill/>
          <a:ln w="57150">
            <a:solidFill>
              <a:srgbClr val="e2375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1" name="任意多边形 38"/>
          <p:cNvSpPr/>
          <p:nvPr/>
        </p:nvSpPr>
        <p:spPr>
          <a:xfrm>
            <a:off x="1389960" y="4361040"/>
            <a:ext cx="292680" cy="322560"/>
          </a:xfrm>
          <a:custGeom>
            <a:avLst/>
            <a:gdLst>
              <a:gd name="textAreaLeft" fmla="*/ 0 w 292680"/>
              <a:gd name="textAreaRight" fmla="*/ 293040 w 2926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311150" h="342900">
                <a:moveTo>
                  <a:pt x="0" y="165100"/>
                </a:moveTo>
                <a:lnTo>
                  <a:pt x="107950" y="342900"/>
                </a:lnTo>
                <a:lnTo>
                  <a:pt x="311150" y="0"/>
                </a:lnTo>
              </a:path>
            </a:pathLst>
          </a:custGeom>
          <a:noFill/>
          <a:ln w="57150">
            <a:solidFill>
              <a:srgbClr val="e2375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2" name="任意多边形 39"/>
          <p:cNvSpPr/>
          <p:nvPr/>
        </p:nvSpPr>
        <p:spPr>
          <a:xfrm>
            <a:off x="5125320" y="4336200"/>
            <a:ext cx="292680" cy="322560"/>
          </a:xfrm>
          <a:custGeom>
            <a:avLst/>
            <a:gdLst>
              <a:gd name="textAreaLeft" fmla="*/ 0 w 292680"/>
              <a:gd name="textAreaRight" fmla="*/ 293040 w 2926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311150" h="342900">
                <a:moveTo>
                  <a:pt x="0" y="165100"/>
                </a:moveTo>
                <a:lnTo>
                  <a:pt x="107950" y="342900"/>
                </a:lnTo>
                <a:lnTo>
                  <a:pt x="311150" y="0"/>
                </a:lnTo>
              </a:path>
            </a:pathLst>
          </a:custGeom>
          <a:noFill/>
          <a:ln w="57150">
            <a:solidFill>
              <a:srgbClr val="e2375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3" name="任意多边形 40"/>
          <p:cNvSpPr/>
          <p:nvPr/>
        </p:nvSpPr>
        <p:spPr>
          <a:xfrm>
            <a:off x="5105520" y="3860640"/>
            <a:ext cx="292680" cy="322560"/>
          </a:xfrm>
          <a:custGeom>
            <a:avLst/>
            <a:gdLst>
              <a:gd name="textAreaLeft" fmla="*/ 0 w 292680"/>
              <a:gd name="textAreaRight" fmla="*/ 293040 w 2926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311150" h="342900">
                <a:moveTo>
                  <a:pt x="0" y="165100"/>
                </a:moveTo>
                <a:lnTo>
                  <a:pt x="107950" y="342900"/>
                </a:lnTo>
                <a:lnTo>
                  <a:pt x="311150" y="0"/>
                </a:lnTo>
              </a:path>
            </a:pathLst>
          </a:custGeom>
          <a:noFill/>
          <a:ln w="57150">
            <a:solidFill>
              <a:srgbClr val="e2375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22"/>
          <p:cNvSpPr/>
          <p:nvPr/>
        </p:nvSpPr>
        <p:spPr>
          <a:xfrm>
            <a:off x="582840" y="-247680"/>
            <a:ext cx="8019720" cy="731232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5" name="文本框 21"/>
          <p:cNvSpPr/>
          <p:nvPr/>
        </p:nvSpPr>
        <p:spPr>
          <a:xfrm>
            <a:off x="885240" y="5484600"/>
            <a:ext cx="720612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五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有利的社会环境让他们比同龄人有更多的机会接触到行业信息，并在各自领域学习专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4"/>
          <p:cNvSpPr/>
          <p:nvPr/>
        </p:nvSpPr>
        <p:spPr>
          <a:xfrm>
            <a:off x="1388880" y="3040200"/>
            <a:ext cx="31068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高中学校很早拥有计算机终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直接连接符 26"/>
          <p:cNvCxnSpPr/>
          <p:nvPr/>
        </p:nvCxnSpPr>
        <p:spPr>
          <a:xfrm>
            <a:off x="4652280" y="-86400"/>
            <a:ext cx="360" cy="51105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  <p:sp>
        <p:nvSpPr>
          <p:cNvPr id="448" name="矩形 27"/>
          <p:cNvSpPr/>
          <p:nvPr/>
        </p:nvSpPr>
        <p:spPr>
          <a:xfrm>
            <a:off x="5549040" y="3070440"/>
            <a:ext cx="30182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居住于硅谷核心地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8"/>
          <p:cNvSpPr/>
          <p:nvPr/>
        </p:nvSpPr>
        <p:spPr>
          <a:xfrm>
            <a:off x="5549040" y="3647520"/>
            <a:ext cx="29516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与惠普公司的工程师做邻居，对他们的经验去粗取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9"/>
          <p:cNvSpPr/>
          <p:nvPr/>
        </p:nvSpPr>
        <p:spPr>
          <a:xfrm>
            <a:off x="5461200" y="2373840"/>
            <a:ext cx="2843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24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STEV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0"/>
          <p:cNvSpPr/>
          <p:nvPr/>
        </p:nvSpPr>
        <p:spPr>
          <a:xfrm>
            <a:off x="1638000" y="2348640"/>
            <a:ext cx="21474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24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Bill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椭圆 31"/>
          <p:cNvSpPr/>
          <p:nvPr/>
        </p:nvSpPr>
        <p:spPr>
          <a:xfrm>
            <a:off x="1019880" y="3070080"/>
            <a:ext cx="360360" cy="360360"/>
          </a:xfrm>
          <a:prstGeom prst="ellipse">
            <a:avLst/>
          </a:prstGeom>
          <a:solidFill>
            <a:srgbClr val="e237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 42"/>
          <p:cNvSpPr/>
          <p:nvPr/>
        </p:nvSpPr>
        <p:spPr>
          <a:xfrm>
            <a:off x="5204160" y="3084120"/>
            <a:ext cx="360360" cy="36036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椭圆 43"/>
          <p:cNvSpPr/>
          <p:nvPr/>
        </p:nvSpPr>
        <p:spPr>
          <a:xfrm>
            <a:off x="5204160" y="3778200"/>
            <a:ext cx="360360" cy="36036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34" descr=""/>
          <p:cNvPicPr/>
          <p:nvPr/>
        </p:nvPicPr>
        <p:blipFill>
          <a:blip r:embed="rId1"/>
          <a:stretch/>
        </p:blipFill>
        <p:spPr>
          <a:xfrm>
            <a:off x="6052680" y="119880"/>
            <a:ext cx="1564560" cy="213156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35" descr=""/>
          <p:cNvPicPr/>
          <p:nvPr/>
        </p:nvPicPr>
        <p:blipFill>
          <a:blip r:embed="rId2"/>
          <a:stretch/>
        </p:blipFill>
        <p:spPr>
          <a:xfrm>
            <a:off x="1625400" y="62280"/>
            <a:ext cx="2283480" cy="2247120"/>
          </a:xfrm>
          <a:prstGeom prst="rect">
            <a:avLst/>
          </a:prstGeom>
          <a:ln w="0">
            <a:noFill/>
          </a:ln>
        </p:spPr>
      </p:pic>
      <p:sp>
        <p:nvSpPr>
          <p:cNvPr id="457" name="矩形 44"/>
          <p:cNvSpPr/>
          <p:nvPr/>
        </p:nvSpPr>
        <p:spPr>
          <a:xfrm>
            <a:off x="1388880" y="3647520"/>
            <a:ext cx="31068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华盛顿大学机房的空闲时间练习编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45"/>
          <p:cNvSpPr/>
          <p:nvPr/>
        </p:nvSpPr>
        <p:spPr>
          <a:xfrm>
            <a:off x="1388880" y="4488480"/>
            <a:ext cx="31878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在不同公司进行大量的编程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47"/>
          <p:cNvSpPr/>
          <p:nvPr/>
        </p:nvSpPr>
        <p:spPr>
          <a:xfrm>
            <a:off x="5577480" y="4340880"/>
            <a:ext cx="2727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在惠普的电脑装配车间装配电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50"/>
          <p:cNvSpPr/>
          <p:nvPr/>
        </p:nvSpPr>
        <p:spPr>
          <a:xfrm>
            <a:off x="1019880" y="3772440"/>
            <a:ext cx="360360" cy="360360"/>
          </a:xfrm>
          <a:prstGeom prst="ellipse">
            <a:avLst/>
          </a:prstGeom>
          <a:solidFill>
            <a:srgbClr val="e237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51"/>
          <p:cNvSpPr/>
          <p:nvPr/>
        </p:nvSpPr>
        <p:spPr>
          <a:xfrm>
            <a:off x="1019880" y="4474800"/>
            <a:ext cx="360360" cy="360360"/>
          </a:xfrm>
          <a:prstGeom prst="ellipse">
            <a:avLst/>
          </a:prstGeom>
          <a:solidFill>
            <a:srgbClr val="e237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53"/>
          <p:cNvSpPr/>
          <p:nvPr/>
        </p:nvSpPr>
        <p:spPr>
          <a:xfrm>
            <a:off x="5204160" y="4472640"/>
            <a:ext cx="360360" cy="360360"/>
          </a:xfrm>
          <a:prstGeom prst="ellips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582840" y="6381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"/>
          <p:cNvSpPr/>
          <p:nvPr/>
        </p:nvSpPr>
        <p:spPr>
          <a:xfrm flipV="1">
            <a:off x="580320" y="-595800"/>
            <a:ext cx="8019720" cy="702468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465" name="组合 65"/>
          <p:cNvGrpSpPr/>
          <p:nvPr/>
        </p:nvGrpSpPr>
        <p:grpSpPr>
          <a:xfrm>
            <a:off x="1005120" y="522000"/>
            <a:ext cx="7097760" cy="3670560"/>
            <a:chOff x="1005120" y="522000"/>
            <a:chExt cx="7097760" cy="3670560"/>
          </a:xfrm>
        </p:grpSpPr>
        <p:sp>
          <p:nvSpPr>
            <p:cNvPr id="466" name="文本框 9"/>
            <p:cNvSpPr/>
            <p:nvPr/>
          </p:nvSpPr>
          <p:spPr>
            <a:xfrm>
              <a:off x="1156680" y="2426760"/>
              <a:ext cx="162540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ce6768"/>
                  </a:solidFill>
                  <a:latin typeface="Showcard Gothic"/>
                  <a:ea typeface="微软雅黑"/>
                </a:rPr>
                <a:t>比尔盖茨生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en-US" sz="2400" spc="-1" strike="noStrike">
                  <a:solidFill>
                    <a:srgbClr val="ce6768"/>
                  </a:solidFill>
                  <a:latin typeface="Showcard Gothic"/>
                  <a:ea typeface="微软雅黑"/>
                </a:rPr>
                <a:t>1955.10.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文本框 10"/>
            <p:cNvSpPr/>
            <p:nvPr/>
          </p:nvSpPr>
          <p:spPr>
            <a:xfrm>
              <a:off x="3736440" y="2274840"/>
              <a:ext cx="1757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1" lang="zh-CN" sz="2000" spc="-1" strike="noStrike">
                  <a:solidFill>
                    <a:srgbClr val="00ada7"/>
                  </a:solidFill>
                  <a:latin typeface="Showcard Gothic"/>
                  <a:ea typeface="微软雅黑"/>
                </a:rPr>
                <a:t>个人电脑时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4000" spc="-1" strike="noStrike">
                  <a:solidFill>
                    <a:srgbClr val="00ada7"/>
                  </a:solidFill>
                  <a:latin typeface="Showcard Gothic"/>
                  <a:ea typeface="微软雅黑"/>
                </a:rPr>
                <a:t>1975</a:t>
              </a:r>
              <a:r>
                <a:rPr b="0" lang="zh-CN" sz="4000" spc="-1" strike="noStrike">
                  <a:solidFill>
                    <a:srgbClr val="00ada7"/>
                  </a:solidFill>
                  <a:latin typeface="Showcard Gothic"/>
                  <a:ea typeface="微软雅黑"/>
                </a:rPr>
                <a:t>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52"/>
            <p:cNvSpPr/>
            <p:nvPr/>
          </p:nvSpPr>
          <p:spPr>
            <a:xfrm>
              <a:off x="3473640" y="2151000"/>
              <a:ext cx="2238120" cy="1592640"/>
            </a:xfrm>
            <a:custGeom>
              <a:avLst/>
              <a:gdLst>
                <a:gd name="textAreaLeft" fmla="*/ 0 w 2238120"/>
                <a:gd name="textAreaRight" fmla="*/ 2238480 w 2238120"/>
                <a:gd name="textAreaTop" fmla="*/ 0 h 1592640"/>
                <a:gd name="textAreaBottom" fmla="*/ 1593000 h 1592640"/>
              </a:gdLst>
              <a:ahLst/>
              <a:rect l="textAreaLeft" t="textAreaTop" r="textAreaRight" b="textAreaBottom"/>
              <a:pathLst>
                <a:path w="1905000" h="1355725">
                  <a:moveTo>
                    <a:pt x="60758" y="1188366"/>
                  </a:moveTo>
                  <a:lnTo>
                    <a:pt x="64028" y="1188366"/>
                  </a:lnTo>
                  <a:lnTo>
                    <a:pt x="832362" y="1188366"/>
                  </a:lnTo>
                  <a:lnTo>
                    <a:pt x="830985" y="1190418"/>
                  </a:lnTo>
                  <a:lnTo>
                    <a:pt x="829780" y="1192640"/>
                  </a:lnTo>
                  <a:lnTo>
                    <a:pt x="828920" y="1195204"/>
                  </a:lnTo>
                  <a:lnTo>
                    <a:pt x="828059" y="1197598"/>
                  </a:lnTo>
                  <a:lnTo>
                    <a:pt x="827542" y="1200161"/>
                  </a:lnTo>
                  <a:lnTo>
                    <a:pt x="827026" y="1202555"/>
                  </a:lnTo>
                  <a:lnTo>
                    <a:pt x="826854" y="1205290"/>
                  </a:lnTo>
                  <a:lnTo>
                    <a:pt x="826682" y="1207854"/>
                  </a:lnTo>
                  <a:lnTo>
                    <a:pt x="826854" y="1211957"/>
                  </a:lnTo>
                  <a:lnTo>
                    <a:pt x="827542" y="1215889"/>
                  </a:lnTo>
                  <a:lnTo>
                    <a:pt x="828575" y="1219650"/>
                  </a:lnTo>
                  <a:lnTo>
                    <a:pt x="830125" y="1223240"/>
                  </a:lnTo>
                  <a:lnTo>
                    <a:pt x="831846" y="1226659"/>
                  </a:lnTo>
                  <a:lnTo>
                    <a:pt x="833911" y="1229907"/>
                  </a:lnTo>
                  <a:lnTo>
                    <a:pt x="836321" y="1232984"/>
                  </a:lnTo>
                  <a:lnTo>
                    <a:pt x="839075" y="1235890"/>
                  </a:lnTo>
                  <a:lnTo>
                    <a:pt x="842173" y="1238283"/>
                  </a:lnTo>
                  <a:lnTo>
                    <a:pt x="845443" y="1240676"/>
                  </a:lnTo>
                  <a:lnTo>
                    <a:pt x="849057" y="1242557"/>
                  </a:lnTo>
                  <a:lnTo>
                    <a:pt x="852672" y="1244267"/>
                  </a:lnTo>
                  <a:lnTo>
                    <a:pt x="856631" y="1245634"/>
                  </a:lnTo>
                  <a:lnTo>
                    <a:pt x="860761" y="1246489"/>
                  </a:lnTo>
                  <a:lnTo>
                    <a:pt x="864893" y="1247002"/>
                  </a:lnTo>
                  <a:lnTo>
                    <a:pt x="869367" y="1247344"/>
                  </a:lnTo>
                  <a:lnTo>
                    <a:pt x="1035805" y="1247344"/>
                  </a:lnTo>
                  <a:lnTo>
                    <a:pt x="1040109" y="1247002"/>
                  </a:lnTo>
                  <a:lnTo>
                    <a:pt x="1044411" y="1246489"/>
                  </a:lnTo>
                  <a:lnTo>
                    <a:pt x="1048370" y="1245634"/>
                  </a:lnTo>
                  <a:lnTo>
                    <a:pt x="1052329" y="1244267"/>
                  </a:lnTo>
                  <a:lnTo>
                    <a:pt x="1056115" y="1242557"/>
                  </a:lnTo>
                  <a:lnTo>
                    <a:pt x="1059730" y="1240676"/>
                  </a:lnTo>
                  <a:lnTo>
                    <a:pt x="1063000" y="1238283"/>
                  </a:lnTo>
                  <a:lnTo>
                    <a:pt x="1065926" y="1235890"/>
                  </a:lnTo>
                  <a:lnTo>
                    <a:pt x="1068680" y="1232984"/>
                  </a:lnTo>
                  <a:lnTo>
                    <a:pt x="1071089" y="1229907"/>
                  </a:lnTo>
                  <a:lnTo>
                    <a:pt x="1073327" y="1226659"/>
                  </a:lnTo>
                  <a:lnTo>
                    <a:pt x="1075048" y="1223240"/>
                  </a:lnTo>
                  <a:lnTo>
                    <a:pt x="1076597" y="1219650"/>
                  </a:lnTo>
                  <a:lnTo>
                    <a:pt x="1077458" y="1215889"/>
                  </a:lnTo>
                  <a:lnTo>
                    <a:pt x="1078318" y="1211957"/>
                  </a:lnTo>
                  <a:lnTo>
                    <a:pt x="1078490" y="1207854"/>
                  </a:lnTo>
                  <a:lnTo>
                    <a:pt x="1078318" y="1205290"/>
                  </a:lnTo>
                  <a:lnTo>
                    <a:pt x="1077974" y="1202555"/>
                  </a:lnTo>
                  <a:lnTo>
                    <a:pt x="1077458" y="1200161"/>
                  </a:lnTo>
                  <a:lnTo>
                    <a:pt x="1076941" y="1197598"/>
                  </a:lnTo>
                  <a:lnTo>
                    <a:pt x="1076081" y="1195204"/>
                  </a:lnTo>
                  <a:lnTo>
                    <a:pt x="1075220" y="1192640"/>
                  </a:lnTo>
                  <a:lnTo>
                    <a:pt x="1074015" y="1190418"/>
                  </a:lnTo>
                  <a:lnTo>
                    <a:pt x="1072638" y="1188366"/>
                  </a:lnTo>
                  <a:lnTo>
                    <a:pt x="1840972" y="1188366"/>
                  </a:lnTo>
                  <a:lnTo>
                    <a:pt x="1844243" y="1188366"/>
                  </a:lnTo>
                  <a:lnTo>
                    <a:pt x="1847513" y="1188538"/>
                  </a:lnTo>
                  <a:lnTo>
                    <a:pt x="1850783" y="1188879"/>
                  </a:lnTo>
                  <a:lnTo>
                    <a:pt x="1853881" y="1189392"/>
                  </a:lnTo>
                  <a:lnTo>
                    <a:pt x="1856980" y="1190076"/>
                  </a:lnTo>
                  <a:lnTo>
                    <a:pt x="1859906" y="1190930"/>
                  </a:lnTo>
                  <a:lnTo>
                    <a:pt x="1863003" y="1191956"/>
                  </a:lnTo>
                  <a:lnTo>
                    <a:pt x="1865929" y="1192811"/>
                  </a:lnTo>
                  <a:lnTo>
                    <a:pt x="1868855" y="1194007"/>
                  </a:lnTo>
                  <a:lnTo>
                    <a:pt x="1871437" y="1195375"/>
                  </a:lnTo>
                  <a:lnTo>
                    <a:pt x="1874191" y="1196914"/>
                  </a:lnTo>
                  <a:lnTo>
                    <a:pt x="1876601" y="1198453"/>
                  </a:lnTo>
                  <a:lnTo>
                    <a:pt x="1879355" y="1199820"/>
                  </a:lnTo>
                  <a:lnTo>
                    <a:pt x="1881592" y="1201871"/>
                  </a:lnTo>
                  <a:lnTo>
                    <a:pt x="1884002" y="1203580"/>
                  </a:lnTo>
                  <a:lnTo>
                    <a:pt x="1886240" y="1205632"/>
                  </a:lnTo>
                  <a:lnTo>
                    <a:pt x="1888305" y="1207513"/>
                  </a:lnTo>
                  <a:lnTo>
                    <a:pt x="1890198" y="1209735"/>
                  </a:lnTo>
                  <a:lnTo>
                    <a:pt x="1892092" y="1211957"/>
                  </a:lnTo>
                  <a:lnTo>
                    <a:pt x="1894157" y="1214350"/>
                  </a:lnTo>
                  <a:lnTo>
                    <a:pt x="1895534" y="1216573"/>
                  </a:lnTo>
                  <a:lnTo>
                    <a:pt x="1897083" y="1219137"/>
                  </a:lnTo>
                  <a:lnTo>
                    <a:pt x="1898632" y="1221701"/>
                  </a:lnTo>
                  <a:lnTo>
                    <a:pt x="1899837" y="1224265"/>
                  </a:lnTo>
                  <a:lnTo>
                    <a:pt x="1901042" y="1227172"/>
                  </a:lnTo>
                  <a:lnTo>
                    <a:pt x="1902074" y="1229736"/>
                  </a:lnTo>
                  <a:lnTo>
                    <a:pt x="1902935" y="1232642"/>
                  </a:lnTo>
                  <a:lnTo>
                    <a:pt x="1903623" y="1235549"/>
                  </a:lnTo>
                  <a:lnTo>
                    <a:pt x="1904139" y="1238283"/>
                  </a:lnTo>
                  <a:lnTo>
                    <a:pt x="1904656" y="1241360"/>
                  </a:lnTo>
                  <a:lnTo>
                    <a:pt x="1904828" y="1244267"/>
                  </a:lnTo>
                  <a:lnTo>
                    <a:pt x="1905000" y="1247344"/>
                  </a:lnTo>
                  <a:lnTo>
                    <a:pt x="1905000" y="1296748"/>
                  </a:lnTo>
                  <a:lnTo>
                    <a:pt x="1904828" y="1299825"/>
                  </a:lnTo>
                  <a:lnTo>
                    <a:pt x="1904656" y="1302560"/>
                  </a:lnTo>
                  <a:lnTo>
                    <a:pt x="1904139" y="1305637"/>
                  </a:lnTo>
                  <a:lnTo>
                    <a:pt x="1903623" y="1308544"/>
                  </a:lnTo>
                  <a:lnTo>
                    <a:pt x="1902935" y="1311449"/>
                  </a:lnTo>
                  <a:lnTo>
                    <a:pt x="1902074" y="1314185"/>
                  </a:lnTo>
                  <a:lnTo>
                    <a:pt x="1901042" y="1316920"/>
                  </a:lnTo>
                  <a:lnTo>
                    <a:pt x="1899837" y="1319826"/>
                  </a:lnTo>
                  <a:lnTo>
                    <a:pt x="1898632" y="1322219"/>
                  </a:lnTo>
                  <a:lnTo>
                    <a:pt x="1897083" y="1324955"/>
                  </a:lnTo>
                  <a:lnTo>
                    <a:pt x="1895534" y="1327348"/>
                  </a:lnTo>
                  <a:lnTo>
                    <a:pt x="1894157" y="1329570"/>
                  </a:lnTo>
                  <a:lnTo>
                    <a:pt x="1892092" y="1332134"/>
                  </a:lnTo>
                  <a:lnTo>
                    <a:pt x="1890198" y="1334186"/>
                  </a:lnTo>
                  <a:lnTo>
                    <a:pt x="1888305" y="1336579"/>
                  </a:lnTo>
                  <a:lnTo>
                    <a:pt x="1886240" y="1338459"/>
                  </a:lnTo>
                  <a:lnTo>
                    <a:pt x="1884002" y="1340511"/>
                  </a:lnTo>
                  <a:lnTo>
                    <a:pt x="1881592" y="1342220"/>
                  </a:lnTo>
                  <a:lnTo>
                    <a:pt x="1879355" y="1344101"/>
                  </a:lnTo>
                  <a:lnTo>
                    <a:pt x="1876601" y="1345639"/>
                  </a:lnTo>
                  <a:lnTo>
                    <a:pt x="1874191" y="1347178"/>
                  </a:lnTo>
                  <a:lnTo>
                    <a:pt x="1871437" y="1348716"/>
                  </a:lnTo>
                  <a:lnTo>
                    <a:pt x="1868855" y="1350084"/>
                  </a:lnTo>
                  <a:lnTo>
                    <a:pt x="1865929" y="1351109"/>
                  </a:lnTo>
                  <a:lnTo>
                    <a:pt x="1863003" y="1352136"/>
                  </a:lnTo>
                  <a:lnTo>
                    <a:pt x="1859906" y="1352990"/>
                  </a:lnTo>
                  <a:lnTo>
                    <a:pt x="1856980" y="1354016"/>
                  </a:lnTo>
                  <a:lnTo>
                    <a:pt x="1853881" y="1354528"/>
                  </a:lnTo>
                  <a:lnTo>
                    <a:pt x="1850783" y="1355212"/>
                  </a:lnTo>
                  <a:lnTo>
                    <a:pt x="1847513" y="1355555"/>
                  </a:lnTo>
                  <a:lnTo>
                    <a:pt x="1844243" y="1355725"/>
                  </a:lnTo>
                  <a:lnTo>
                    <a:pt x="1840972" y="1355725"/>
                  </a:lnTo>
                  <a:lnTo>
                    <a:pt x="64028" y="1355725"/>
                  </a:lnTo>
                  <a:lnTo>
                    <a:pt x="60758" y="1355725"/>
                  </a:lnTo>
                  <a:lnTo>
                    <a:pt x="57488" y="1355555"/>
                  </a:lnTo>
                  <a:lnTo>
                    <a:pt x="54217" y="1355212"/>
                  </a:lnTo>
                  <a:lnTo>
                    <a:pt x="51119" y="1354528"/>
                  </a:lnTo>
                  <a:lnTo>
                    <a:pt x="48193" y="1354016"/>
                  </a:lnTo>
                  <a:lnTo>
                    <a:pt x="45095" y="1352990"/>
                  </a:lnTo>
                  <a:lnTo>
                    <a:pt x="42169" y="1352136"/>
                  </a:lnTo>
                  <a:lnTo>
                    <a:pt x="39071" y="1351109"/>
                  </a:lnTo>
                  <a:lnTo>
                    <a:pt x="36489" y="1350084"/>
                  </a:lnTo>
                  <a:lnTo>
                    <a:pt x="33563" y="1348716"/>
                  </a:lnTo>
                  <a:lnTo>
                    <a:pt x="30809" y="1347178"/>
                  </a:lnTo>
                  <a:lnTo>
                    <a:pt x="28399" y="1345639"/>
                  </a:lnTo>
                  <a:lnTo>
                    <a:pt x="25646" y="1344101"/>
                  </a:lnTo>
                  <a:lnTo>
                    <a:pt x="23408" y="1342220"/>
                  </a:lnTo>
                  <a:lnTo>
                    <a:pt x="21171" y="1340511"/>
                  </a:lnTo>
                  <a:lnTo>
                    <a:pt x="18761" y="1338459"/>
                  </a:lnTo>
                  <a:lnTo>
                    <a:pt x="16696" y="1336579"/>
                  </a:lnTo>
                  <a:lnTo>
                    <a:pt x="14803" y="1334186"/>
                  </a:lnTo>
                  <a:lnTo>
                    <a:pt x="12909" y="1332134"/>
                  </a:lnTo>
                  <a:lnTo>
                    <a:pt x="11016" y="1329570"/>
                  </a:lnTo>
                  <a:lnTo>
                    <a:pt x="9467" y="1327348"/>
                  </a:lnTo>
                  <a:lnTo>
                    <a:pt x="7918" y="1324955"/>
                  </a:lnTo>
                  <a:lnTo>
                    <a:pt x="6368" y="1322219"/>
                  </a:lnTo>
                  <a:lnTo>
                    <a:pt x="5164" y="1319826"/>
                  </a:lnTo>
                  <a:lnTo>
                    <a:pt x="4131" y="1316920"/>
                  </a:lnTo>
                  <a:lnTo>
                    <a:pt x="2926" y="1314185"/>
                  </a:lnTo>
                  <a:lnTo>
                    <a:pt x="2238" y="1311449"/>
                  </a:lnTo>
                  <a:lnTo>
                    <a:pt x="1377" y="1308544"/>
                  </a:lnTo>
                  <a:lnTo>
                    <a:pt x="861" y="1305637"/>
                  </a:lnTo>
                  <a:lnTo>
                    <a:pt x="516" y="1302560"/>
                  </a:lnTo>
                  <a:lnTo>
                    <a:pt x="173" y="1299825"/>
                  </a:lnTo>
                  <a:lnTo>
                    <a:pt x="0" y="1296748"/>
                  </a:lnTo>
                  <a:lnTo>
                    <a:pt x="0" y="1247344"/>
                  </a:lnTo>
                  <a:lnTo>
                    <a:pt x="173" y="1244267"/>
                  </a:lnTo>
                  <a:lnTo>
                    <a:pt x="516" y="1241360"/>
                  </a:lnTo>
                  <a:lnTo>
                    <a:pt x="861" y="1238283"/>
                  </a:lnTo>
                  <a:lnTo>
                    <a:pt x="1377" y="1235549"/>
                  </a:lnTo>
                  <a:lnTo>
                    <a:pt x="2238" y="1232642"/>
                  </a:lnTo>
                  <a:lnTo>
                    <a:pt x="2926" y="1229736"/>
                  </a:lnTo>
                  <a:lnTo>
                    <a:pt x="4131" y="1227172"/>
                  </a:lnTo>
                  <a:lnTo>
                    <a:pt x="5164" y="1224265"/>
                  </a:lnTo>
                  <a:lnTo>
                    <a:pt x="6368" y="1221701"/>
                  </a:lnTo>
                  <a:lnTo>
                    <a:pt x="7918" y="1219137"/>
                  </a:lnTo>
                  <a:lnTo>
                    <a:pt x="9467" y="1216573"/>
                  </a:lnTo>
                  <a:lnTo>
                    <a:pt x="11016" y="1214350"/>
                  </a:lnTo>
                  <a:lnTo>
                    <a:pt x="12909" y="1211957"/>
                  </a:lnTo>
                  <a:lnTo>
                    <a:pt x="14803" y="1209735"/>
                  </a:lnTo>
                  <a:lnTo>
                    <a:pt x="16696" y="1207513"/>
                  </a:lnTo>
                  <a:lnTo>
                    <a:pt x="18761" y="1205632"/>
                  </a:lnTo>
                  <a:lnTo>
                    <a:pt x="21171" y="1203580"/>
                  </a:lnTo>
                  <a:lnTo>
                    <a:pt x="23408" y="1201871"/>
                  </a:lnTo>
                  <a:lnTo>
                    <a:pt x="25646" y="1199820"/>
                  </a:lnTo>
                  <a:lnTo>
                    <a:pt x="28399" y="1198453"/>
                  </a:lnTo>
                  <a:lnTo>
                    <a:pt x="30809" y="1196914"/>
                  </a:lnTo>
                  <a:lnTo>
                    <a:pt x="33563" y="1195375"/>
                  </a:lnTo>
                  <a:lnTo>
                    <a:pt x="36489" y="1194007"/>
                  </a:lnTo>
                  <a:lnTo>
                    <a:pt x="39071" y="1192811"/>
                  </a:lnTo>
                  <a:lnTo>
                    <a:pt x="42169" y="1191956"/>
                  </a:lnTo>
                  <a:lnTo>
                    <a:pt x="45095" y="1190930"/>
                  </a:lnTo>
                  <a:lnTo>
                    <a:pt x="48193" y="1190076"/>
                  </a:lnTo>
                  <a:lnTo>
                    <a:pt x="51119" y="1189392"/>
                  </a:lnTo>
                  <a:lnTo>
                    <a:pt x="54217" y="1188879"/>
                  </a:lnTo>
                  <a:lnTo>
                    <a:pt x="57488" y="1188538"/>
                  </a:lnTo>
                  <a:close/>
                  <a:moveTo>
                    <a:pt x="174199" y="69317"/>
                  </a:moveTo>
                  <a:lnTo>
                    <a:pt x="171272" y="69489"/>
                  </a:lnTo>
                  <a:lnTo>
                    <a:pt x="168346" y="69661"/>
                  </a:lnTo>
                  <a:lnTo>
                    <a:pt x="165764" y="69833"/>
                  </a:lnTo>
                  <a:lnTo>
                    <a:pt x="162838" y="70349"/>
                  </a:lnTo>
                  <a:lnTo>
                    <a:pt x="160084" y="71037"/>
                  </a:lnTo>
                  <a:lnTo>
                    <a:pt x="157502" y="71725"/>
                  </a:lnTo>
                  <a:lnTo>
                    <a:pt x="154920" y="72585"/>
                  </a:lnTo>
                  <a:lnTo>
                    <a:pt x="152338" y="73445"/>
                  </a:lnTo>
                  <a:lnTo>
                    <a:pt x="149756" y="74477"/>
                  </a:lnTo>
                  <a:lnTo>
                    <a:pt x="147518" y="75509"/>
                  </a:lnTo>
                  <a:lnTo>
                    <a:pt x="145281" y="76885"/>
                  </a:lnTo>
                  <a:lnTo>
                    <a:pt x="142871" y="78261"/>
                  </a:lnTo>
                  <a:lnTo>
                    <a:pt x="140633" y="79637"/>
                  </a:lnTo>
                  <a:lnTo>
                    <a:pt x="138567" y="81358"/>
                  </a:lnTo>
                  <a:lnTo>
                    <a:pt x="136330" y="82905"/>
                  </a:lnTo>
                  <a:lnTo>
                    <a:pt x="134436" y="84626"/>
                  </a:lnTo>
                  <a:lnTo>
                    <a:pt x="132714" y="86517"/>
                  </a:lnTo>
                  <a:lnTo>
                    <a:pt x="130821" y="88409"/>
                  </a:lnTo>
                  <a:lnTo>
                    <a:pt x="129272" y="90301"/>
                  </a:lnTo>
                  <a:lnTo>
                    <a:pt x="127723" y="92365"/>
                  </a:lnTo>
                  <a:lnTo>
                    <a:pt x="126346" y="94429"/>
                  </a:lnTo>
                  <a:lnTo>
                    <a:pt x="124969" y="96666"/>
                  </a:lnTo>
                  <a:lnTo>
                    <a:pt x="123592" y="98902"/>
                  </a:lnTo>
                  <a:lnTo>
                    <a:pt x="122559" y="101138"/>
                  </a:lnTo>
                  <a:lnTo>
                    <a:pt x="121526" y="103546"/>
                  </a:lnTo>
                  <a:lnTo>
                    <a:pt x="120665" y="105954"/>
                  </a:lnTo>
                  <a:lnTo>
                    <a:pt x="119977" y="108534"/>
                  </a:lnTo>
                  <a:lnTo>
                    <a:pt x="119116" y="110942"/>
                  </a:lnTo>
                  <a:lnTo>
                    <a:pt x="118772" y="113522"/>
                  </a:lnTo>
                  <a:lnTo>
                    <a:pt x="118428" y="116101"/>
                  </a:lnTo>
                  <a:lnTo>
                    <a:pt x="118255" y="118854"/>
                  </a:lnTo>
                  <a:lnTo>
                    <a:pt x="118255" y="121434"/>
                  </a:lnTo>
                  <a:lnTo>
                    <a:pt x="118255" y="1008795"/>
                  </a:lnTo>
                  <a:lnTo>
                    <a:pt x="118255" y="1011375"/>
                  </a:lnTo>
                  <a:lnTo>
                    <a:pt x="118428" y="1014128"/>
                  </a:lnTo>
                  <a:lnTo>
                    <a:pt x="118772" y="1016708"/>
                  </a:lnTo>
                  <a:lnTo>
                    <a:pt x="119116" y="1019287"/>
                  </a:lnTo>
                  <a:lnTo>
                    <a:pt x="119977" y="1022040"/>
                  </a:lnTo>
                  <a:lnTo>
                    <a:pt x="120665" y="1024275"/>
                  </a:lnTo>
                  <a:lnTo>
                    <a:pt x="121526" y="1026683"/>
                  </a:lnTo>
                  <a:lnTo>
                    <a:pt x="122559" y="1029264"/>
                  </a:lnTo>
                  <a:lnTo>
                    <a:pt x="123592" y="1031500"/>
                  </a:lnTo>
                  <a:lnTo>
                    <a:pt x="124969" y="1033564"/>
                  </a:lnTo>
                  <a:lnTo>
                    <a:pt x="126346" y="1035972"/>
                  </a:lnTo>
                  <a:lnTo>
                    <a:pt x="127723" y="1038036"/>
                  </a:lnTo>
                  <a:lnTo>
                    <a:pt x="129272" y="1040099"/>
                  </a:lnTo>
                  <a:lnTo>
                    <a:pt x="130821" y="1041992"/>
                  </a:lnTo>
                  <a:lnTo>
                    <a:pt x="132714" y="1044056"/>
                  </a:lnTo>
                  <a:lnTo>
                    <a:pt x="134436" y="1045776"/>
                  </a:lnTo>
                  <a:lnTo>
                    <a:pt x="136330" y="1047496"/>
                  </a:lnTo>
                  <a:lnTo>
                    <a:pt x="138567" y="1049216"/>
                  </a:lnTo>
                  <a:lnTo>
                    <a:pt x="140633" y="1050592"/>
                  </a:lnTo>
                  <a:lnTo>
                    <a:pt x="142871" y="1052140"/>
                  </a:lnTo>
                  <a:lnTo>
                    <a:pt x="145281" y="1053516"/>
                  </a:lnTo>
                  <a:lnTo>
                    <a:pt x="147518" y="1054720"/>
                  </a:lnTo>
                  <a:lnTo>
                    <a:pt x="149756" y="1055924"/>
                  </a:lnTo>
                  <a:lnTo>
                    <a:pt x="152338" y="1056956"/>
                  </a:lnTo>
                  <a:lnTo>
                    <a:pt x="154920" y="1057988"/>
                  </a:lnTo>
                  <a:lnTo>
                    <a:pt x="157502" y="1058676"/>
                  </a:lnTo>
                  <a:lnTo>
                    <a:pt x="160084" y="1059536"/>
                  </a:lnTo>
                  <a:lnTo>
                    <a:pt x="162838" y="1060052"/>
                  </a:lnTo>
                  <a:lnTo>
                    <a:pt x="165764" y="1060396"/>
                  </a:lnTo>
                  <a:lnTo>
                    <a:pt x="168346" y="1060740"/>
                  </a:lnTo>
                  <a:lnTo>
                    <a:pt x="171272" y="1061084"/>
                  </a:lnTo>
                  <a:lnTo>
                    <a:pt x="174199" y="1061084"/>
                  </a:lnTo>
                  <a:lnTo>
                    <a:pt x="1730801" y="1061084"/>
                  </a:lnTo>
                  <a:lnTo>
                    <a:pt x="1733727" y="1061084"/>
                  </a:lnTo>
                  <a:lnTo>
                    <a:pt x="1736653" y="1060740"/>
                  </a:lnTo>
                  <a:lnTo>
                    <a:pt x="1739408" y="1060396"/>
                  </a:lnTo>
                  <a:lnTo>
                    <a:pt x="1742162" y="1060052"/>
                  </a:lnTo>
                  <a:lnTo>
                    <a:pt x="1745088" y="1059536"/>
                  </a:lnTo>
                  <a:lnTo>
                    <a:pt x="1747670" y="1058676"/>
                  </a:lnTo>
                  <a:lnTo>
                    <a:pt x="1750252" y="1057988"/>
                  </a:lnTo>
                  <a:lnTo>
                    <a:pt x="1752834" y="1056956"/>
                  </a:lnTo>
                  <a:lnTo>
                    <a:pt x="1755244" y="1055924"/>
                  </a:lnTo>
                  <a:lnTo>
                    <a:pt x="1757654" y="1054720"/>
                  </a:lnTo>
                  <a:lnTo>
                    <a:pt x="1760064" y="1053516"/>
                  </a:lnTo>
                  <a:lnTo>
                    <a:pt x="1762301" y="1052140"/>
                  </a:lnTo>
                  <a:lnTo>
                    <a:pt x="1764539" y="1050592"/>
                  </a:lnTo>
                  <a:lnTo>
                    <a:pt x="1766605" y="1049216"/>
                  </a:lnTo>
                  <a:lnTo>
                    <a:pt x="1768670" y="1047496"/>
                  </a:lnTo>
                  <a:lnTo>
                    <a:pt x="1770736" y="1045776"/>
                  </a:lnTo>
                  <a:lnTo>
                    <a:pt x="1772458" y="1044056"/>
                  </a:lnTo>
                  <a:lnTo>
                    <a:pt x="1774350" y="1041992"/>
                  </a:lnTo>
                  <a:lnTo>
                    <a:pt x="1775900" y="1040099"/>
                  </a:lnTo>
                  <a:lnTo>
                    <a:pt x="1777449" y="1038036"/>
                  </a:lnTo>
                  <a:lnTo>
                    <a:pt x="1778998" y="1035972"/>
                  </a:lnTo>
                  <a:lnTo>
                    <a:pt x="1780203" y="1033564"/>
                  </a:lnTo>
                  <a:lnTo>
                    <a:pt x="1781580" y="1031500"/>
                  </a:lnTo>
                  <a:lnTo>
                    <a:pt x="1782613" y="1029264"/>
                  </a:lnTo>
                  <a:lnTo>
                    <a:pt x="1783818" y="1026683"/>
                  </a:lnTo>
                  <a:lnTo>
                    <a:pt x="1784507" y="1024275"/>
                  </a:lnTo>
                  <a:lnTo>
                    <a:pt x="1785195" y="1022040"/>
                  </a:lnTo>
                  <a:lnTo>
                    <a:pt x="1785884" y="1019287"/>
                  </a:lnTo>
                  <a:lnTo>
                    <a:pt x="1786400" y="1016708"/>
                  </a:lnTo>
                  <a:lnTo>
                    <a:pt x="1786744" y="1014128"/>
                  </a:lnTo>
                  <a:lnTo>
                    <a:pt x="1786917" y="1011375"/>
                  </a:lnTo>
                  <a:lnTo>
                    <a:pt x="1786917" y="1008795"/>
                  </a:lnTo>
                  <a:lnTo>
                    <a:pt x="1786917" y="121434"/>
                  </a:lnTo>
                  <a:lnTo>
                    <a:pt x="1786917" y="118854"/>
                  </a:lnTo>
                  <a:lnTo>
                    <a:pt x="1786744" y="116101"/>
                  </a:lnTo>
                  <a:lnTo>
                    <a:pt x="1786400" y="113522"/>
                  </a:lnTo>
                  <a:lnTo>
                    <a:pt x="1785884" y="110942"/>
                  </a:lnTo>
                  <a:lnTo>
                    <a:pt x="1785195" y="108534"/>
                  </a:lnTo>
                  <a:lnTo>
                    <a:pt x="1784507" y="105954"/>
                  </a:lnTo>
                  <a:lnTo>
                    <a:pt x="1783818" y="103546"/>
                  </a:lnTo>
                  <a:lnTo>
                    <a:pt x="1782613" y="101138"/>
                  </a:lnTo>
                  <a:lnTo>
                    <a:pt x="1781580" y="98902"/>
                  </a:lnTo>
                  <a:lnTo>
                    <a:pt x="1780203" y="96666"/>
                  </a:lnTo>
                  <a:lnTo>
                    <a:pt x="1778998" y="94429"/>
                  </a:lnTo>
                  <a:lnTo>
                    <a:pt x="1777449" y="92365"/>
                  </a:lnTo>
                  <a:lnTo>
                    <a:pt x="1775900" y="90301"/>
                  </a:lnTo>
                  <a:lnTo>
                    <a:pt x="1774350" y="88409"/>
                  </a:lnTo>
                  <a:lnTo>
                    <a:pt x="1772458" y="86517"/>
                  </a:lnTo>
                  <a:lnTo>
                    <a:pt x="1770736" y="84626"/>
                  </a:lnTo>
                  <a:lnTo>
                    <a:pt x="1768670" y="82905"/>
                  </a:lnTo>
                  <a:lnTo>
                    <a:pt x="1766605" y="81358"/>
                  </a:lnTo>
                  <a:lnTo>
                    <a:pt x="1764539" y="79637"/>
                  </a:lnTo>
                  <a:lnTo>
                    <a:pt x="1762301" y="78261"/>
                  </a:lnTo>
                  <a:lnTo>
                    <a:pt x="1760064" y="76885"/>
                  </a:lnTo>
                  <a:lnTo>
                    <a:pt x="1757654" y="75509"/>
                  </a:lnTo>
                  <a:lnTo>
                    <a:pt x="1755244" y="74477"/>
                  </a:lnTo>
                  <a:lnTo>
                    <a:pt x="1752834" y="73445"/>
                  </a:lnTo>
                  <a:lnTo>
                    <a:pt x="1750252" y="72585"/>
                  </a:lnTo>
                  <a:lnTo>
                    <a:pt x="1747670" y="71725"/>
                  </a:lnTo>
                  <a:lnTo>
                    <a:pt x="1745088" y="71037"/>
                  </a:lnTo>
                  <a:lnTo>
                    <a:pt x="1742162" y="70349"/>
                  </a:lnTo>
                  <a:lnTo>
                    <a:pt x="1739408" y="69833"/>
                  </a:lnTo>
                  <a:lnTo>
                    <a:pt x="1736653" y="69661"/>
                  </a:lnTo>
                  <a:lnTo>
                    <a:pt x="1733727" y="69489"/>
                  </a:lnTo>
                  <a:lnTo>
                    <a:pt x="1730801" y="69317"/>
                  </a:lnTo>
                  <a:close/>
                  <a:moveTo>
                    <a:pt x="61968" y="0"/>
                  </a:moveTo>
                  <a:lnTo>
                    <a:pt x="65410" y="0"/>
                  </a:lnTo>
                  <a:lnTo>
                    <a:pt x="1839934" y="0"/>
                  </a:lnTo>
                  <a:lnTo>
                    <a:pt x="1843376" y="0"/>
                  </a:lnTo>
                  <a:lnTo>
                    <a:pt x="1846474" y="172"/>
                  </a:lnTo>
                  <a:lnTo>
                    <a:pt x="1849573" y="516"/>
                  </a:lnTo>
                  <a:lnTo>
                    <a:pt x="1852844" y="1032"/>
                  </a:lnTo>
                  <a:lnTo>
                    <a:pt x="1855942" y="1720"/>
                  </a:lnTo>
                  <a:lnTo>
                    <a:pt x="1859040" y="2580"/>
                  </a:lnTo>
                  <a:lnTo>
                    <a:pt x="1861794" y="3440"/>
                  </a:lnTo>
                  <a:lnTo>
                    <a:pt x="1864721" y="4472"/>
                  </a:lnTo>
                  <a:lnTo>
                    <a:pt x="1867647" y="5676"/>
                  </a:lnTo>
                  <a:lnTo>
                    <a:pt x="1870573" y="7052"/>
                  </a:lnTo>
                  <a:lnTo>
                    <a:pt x="1873155" y="8600"/>
                  </a:lnTo>
                  <a:lnTo>
                    <a:pt x="1875737" y="10148"/>
                  </a:lnTo>
                  <a:lnTo>
                    <a:pt x="1878147" y="11696"/>
                  </a:lnTo>
                  <a:lnTo>
                    <a:pt x="1880729" y="13588"/>
                  </a:lnTo>
                  <a:lnTo>
                    <a:pt x="1882967" y="15308"/>
                  </a:lnTo>
                  <a:lnTo>
                    <a:pt x="1885204" y="17372"/>
                  </a:lnTo>
                  <a:lnTo>
                    <a:pt x="1887270" y="19264"/>
                  </a:lnTo>
                  <a:lnTo>
                    <a:pt x="1889336" y="21500"/>
                  </a:lnTo>
                  <a:lnTo>
                    <a:pt x="1891229" y="23736"/>
                  </a:lnTo>
                  <a:lnTo>
                    <a:pt x="1892951" y="26144"/>
                  </a:lnTo>
                  <a:lnTo>
                    <a:pt x="1894672" y="28552"/>
                  </a:lnTo>
                  <a:lnTo>
                    <a:pt x="1896221" y="30960"/>
                  </a:lnTo>
                  <a:lnTo>
                    <a:pt x="1897426" y="33713"/>
                  </a:lnTo>
                  <a:lnTo>
                    <a:pt x="1898803" y="36121"/>
                  </a:lnTo>
                  <a:lnTo>
                    <a:pt x="1900008" y="39044"/>
                  </a:lnTo>
                  <a:lnTo>
                    <a:pt x="1900869" y="41625"/>
                  </a:lnTo>
                  <a:lnTo>
                    <a:pt x="1901901" y="44548"/>
                  </a:lnTo>
                  <a:lnTo>
                    <a:pt x="1902590" y="47473"/>
                  </a:lnTo>
                  <a:lnTo>
                    <a:pt x="1903106" y="50224"/>
                  </a:lnTo>
                  <a:lnTo>
                    <a:pt x="1903623" y="53321"/>
                  </a:lnTo>
                  <a:lnTo>
                    <a:pt x="1903795" y="56245"/>
                  </a:lnTo>
                  <a:lnTo>
                    <a:pt x="1903795" y="59341"/>
                  </a:lnTo>
                  <a:lnTo>
                    <a:pt x="1903795" y="1070888"/>
                  </a:lnTo>
                  <a:lnTo>
                    <a:pt x="1903795" y="1073984"/>
                  </a:lnTo>
                  <a:lnTo>
                    <a:pt x="1903623" y="1077080"/>
                  </a:lnTo>
                  <a:lnTo>
                    <a:pt x="1903106" y="1080005"/>
                  </a:lnTo>
                  <a:lnTo>
                    <a:pt x="1902590" y="1082756"/>
                  </a:lnTo>
                  <a:lnTo>
                    <a:pt x="1901901" y="1085681"/>
                  </a:lnTo>
                  <a:lnTo>
                    <a:pt x="1900869" y="1088604"/>
                  </a:lnTo>
                  <a:lnTo>
                    <a:pt x="1900008" y="1091528"/>
                  </a:lnTo>
                  <a:lnTo>
                    <a:pt x="1898803" y="1094108"/>
                  </a:lnTo>
                  <a:lnTo>
                    <a:pt x="1897426" y="1096861"/>
                  </a:lnTo>
                  <a:lnTo>
                    <a:pt x="1896221" y="1099269"/>
                  </a:lnTo>
                  <a:lnTo>
                    <a:pt x="1894672" y="1101849"/>
                  </a:lnTo>
                  <a:lnTo>
                    <a:pt x="1892951" y="1104257"/>
                  </a:lnTo>
                  <a:lnTo>
                    <a:pt x="1891229" y="1106493"/>
                  </a:lnTo>
                  <a:lnTo>
                    <a:pt x="1889336" y="1108901"/>
                  </a:lnTo>
                  <a:lnTo>
                    <a:pt x="1887270" y="1110965"/>
                  </a:lnTo>
                  <a:lnTo>
                    <a:pt x="1885204" y="1113029"/>
                  </a:lnTo>
                  <a:lnTo>
                    <a:pt x="1882967" y="1114921"/>
                  </a:lnTo>
                  <a:lnTo>
                    <a:pt x="1880729" y="1116985"/>
                  </a:lnTo>
                  <a:lnTo>
                    <a:pt x="1878147" y="1118705"/>
                  </a:lnTo>
                  <a:lnTo>
                    <a:pt x="1875737" y="1120425"/>
                  </a:lnTo>
                  <a:lnTo>
                    <a:pt x="1873155" y="1121801"/>
                  </a:lnTo>
                  <a:lnTo>
                    <a:pt x="1870573" y="1123177"/>
                  </a:lnTo>
                  <a:lnTo>
                    <a:pt x="1867647" y="1124553"/>
                  </a:lnTo>
                  <a:lnTo>
                    <a:pt x="1864721" y="1125757"/>
                  </a:lnTo>
                  <a:lnTo>
                    <a:pt x="1861794" y="1126789"/>
                  </a:lnTo>
                  <a:lnTo>
                    <a:pt x="1859040" y="1127821"/>
                  </a:lnTo>
                  <a:lnTo>
                    <a:pt x="1855942" y="1128509"/>
                  </a:lnTo>
                  <a:lnTo>
                    <a:pt x="1852844" y="1129198"/>
                  </a:lnTo>
                  <a:lnTo>
                    <a:pt x="1849573" y="1129713"/>
                  </a:lnTo>
                  <a:lnTo>
                    <a:pt x="1846474" y="1130057"/>
                  </a:lnTo>
                  <a:lnTo>
                    <a:pt x="1843376" y="1130229"/>
                  </a:lnTo>
                  <a:lnTo>
                    <a:pt x="1839934" y="1130573"/>
                  </a:lnTo>
                  <a:lnTo>
                    <a:pt x="65410" y="1130573"/>
                  </a:lnTo>
                  <a:lnTo>
                    <a:pt x="61968" y="1130229"/>
                  </a:lnTo>
                  <a:lnTo>
                    <a:pt x="58697" y="1130057"/>
                  </a:lnTo>
                  <a:lnTo>
                    <a:pt x="55599" y="1129713"/>
                  </a:lnTo>
                  <a:lnTo>
                    <a:pt x="52328" y="1129198"/>
                  </a:lnTo>
                  <a:lnTo>
                    <a:pt x="49230" y="1128509"/>
                  </a:lnTo>
                  <a:lnTo>
                    <a:pt x="46132" y="1127821"/>
                  </a:lnTo>
                  <a:lnTo>
                    <a:pt x="43378" y="1126789"/>
                  </a:lnTo>
                  <a:lnTo>
                    <a:pt x="40451" y="1125757"/>
                  </a:lnTo>
                  <a:lnTo>
                    <a:pt x="37525" y="1124553"/>
                  </a:lnTo>
                  <a:lnTo>
                    <a:pt x="34771" y="1123177"/>
                  </a:lnTo>
                  <a:lnTo>
                    <a:pt x="32017" y="1121801"/>
                  </a:lnTo>
                  <a:lnTo>
                    <a:pt x="29607" y="1120425"/>
                  </a:lnTo>
                  <a:lnTo>
                    <a:pt x="27025" y="1118705"/>
                  </a:lnTo>
                  <a:lnTo>
                    <a:pt x="24615" y="1116985"/>
                  </a:lnTo>
                  <a:lnTo>
                    <a:pt x="22205" y="1114921"/>
                  </a:lnTo>
                  <a:lnTo>
                    <a:pt x="19968" y="1113029"/>
                  </a:lnTo>
                  <a:lnTo>
                    <a:pt x="17902" y="1110965"/>
                  </a:lnTo>
                  <a:lnTo>
                    <a:pt x="16009" y="1108901"/>
                  </a:lnTo>
                  <a:lnTo>
                    <a:pt x="14115" y="1106493"/>
                  </a:lnTo>
                  <a:lnTo>
                    <a:pt x="12221" y="1104257"/>
                  </a:lnTo>
                  <a:lnTo>
                    <a:pt x="10500" y="1101849"/>
                  </a:lnTo>
                  <a:lnTo>
                    <a:pt x="9123" y="1099269"/>
                  </a:lnTo>
                  <a:lnTo>
                    <a:pt x="7574" y="1096861"/>
                  </a:lnTo>
                  <a:lnTo>
                    <a:pt x="6369" y="1094108"/>
                  </a:lnTo>
                  <a:lnTo>
                    <a:pt x="5164" y="1091528"/>
                  </a:lnTo>
                  <a:lnTo>
                    <a:pt x="4131" y="1088604"/>
                  </a:lnTo>
                  <a:lnTo>
                    <a:pt x="3270" y="1085681"/>
                  </a:lnTo>
                  <a:lnTo>
                    <a:pt x="2582" y="1082756"/>
                  </a:lnTo>
                  <a:lnTo>
                    <a:pt x="1893" y="1080005"/>
                  </a:lnTo>
                  <a:lnTo>
                    <a:pt x="1549" y="1077080"/>
                  </a:lnTo>
                  <a:lnTo>
                    <a:pt x="1377" y="1073984"/>
                  </a:lnTo>
                  <a:lnTo>
                    <a:pt x="1205" y="1070888"/>
                  </a:lnTo>
                  <a:lnTo>
                    <a:pt x="1205" y="59341"/>
                  </a:lnTo>
                  <a:lnTo>
                    <a:pt x="1377" y="56245"/>
                  </a:lnTo>
                  <a:lnTo>
                    <a:pt x="1549" y="53321"/>
                  </a:lnTo>
                  <a:lnTo>
                    <a:pt x="1893" y="50224"/>
                  </a:lnTo>
                  <a:lnTo>
                    <a:pt x="2582" y="47473"/>
                  </a:lnTo>
                  <a:lnTo>
                    <a:pt x="3270" y="44548"/>
                  </a:lnTo>
                  <a:lnTo>
                    <a:pt x="4131" y="41625"/>
                  </a:lnTo>
                  <a:lnTo>
                    <a:pt x="5164" y="39044"/>
                  </a:lnTo>
                  <a:lnTo>
                    <a:pt x="6369" y="36121"/>
                  </a:lnTo>
                  <a:lnTo>
                    <a:pt x="7574" y="33713"/>
                  </a:lnTo>
                  <a:lnTo>
                    <a:pt x="9123" y="30960"/>
                  </a:lnTo>
                  <a:lnTo>
                    <a:pt x="10500" y="28552"/>
                  </a:lnTo>
                  <a:lnTo>
                    <a:pt x="12221" y="26144"/>
                  </a:lnTo>
                  <a:lnTo>
                    <a:pt x="14115" y="23736"/>
                  </a:lnTo>
                  <a:lnTo>
                    <a:pt x="16009" y="21500"/>
                  </a:lnTo>
                  <a:lnTo>
                    <a:pt x="17902" y="19264"/>
                  </a:lnTo>
                  <a:lnTo>
                    <a:pt x="19968" y="17372"/>
                  </a:lnTo>
                  <a:lnTo>
                    <a:pt x="22205" y="15308"/>
                  </a:lnTo>
                  <a:lnTo>
                    <a:pt x="24615" y="13588"/>
                  </a:lnTo>
                  <a:lnTo>
                    <a:pt x="27025" y="11696"/>
                  </a:lnTo>
                  <a:lnTo>
                    <a:pt x="29607" y="10148"/>
                  </a:lnTo>
                  <a:lnTo>
                    <a:pt x="32017" y="8600"/>
                  </a:lnTo>
                  <a:lnTo>
                    <a:pt x="34771" y="7052"/>
                  </a:lnTo>
                  <a:lnTo>
                    <a:pt x="37525" y="5676"/>
                  </a:lnTo>
                  <a:lnTo>
                    <a:pt x="40451" y="4472"/>
                  </a:lnTo>
                  <a:lnTo>
                    <a:pt x="43378" y="3440"/>
                  </a:lnTo>
                  <a:lnTo>
                    <a:pt x="46132" y="2580"/>
                  </a:lnTo>
                  <a:lnTo>
                    <a:pt x="49230" y="1720"/>
                  </a:lnTo>
                  <a:lnTo>
                    <a:pt x="52328" y="1032"/>
                  </a:lnTo>
                  <a:lnTo>
                    <a:pt x="55599" y="516"/>
                  </a:lnTo>
                  <a:lnTo>
                    <a:pt x="58697" y="172"/>
                  </a:lnTo>
                  <a:close/>
                </a:path>
              </a:pathLst>
            </a:custGeom>
            <a:solidFill>
              <a:srgbClr val="00a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2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9" name="文本框 53"/>
            <p:cNvSpPr/>
            <p:nvPr/>
          </p:nvSpPr>
          <p:spPr>
            <a:xfrm>
              <a:off x="6402240" y="2426760"/>
              <a:ext cx="16322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404040"/>
                  </a:solidFill>
                  <a:latin typeface="Showcard Gothic"/>
                  <a:ea typeface="微软雅黑"/>
                </a:rPr>
                <a:t>乔布斯的生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404040"/>
                  </a:solidFill>
                  <a:latin typeface="Showcard Gothic"/>
                  <a:ea typeface="微软雅黑"/>
                </a:rPr>
                <a:t>1955.02.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54"/>
            <p:cNvSpPr/>
            <p:nvPr/>
          </p:nvSpPr>
          <p:spPr>
            <a:xfrm>
              <a:off x="2656440" y="522000"/>
              <a:ext cx="38235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ada7"/>
                  </a:solidFill>
                  <a:latin typeface="Showcard Gothic"/>
                  <a:ea typeface="微软雅黑"/>
                </a:rPr>
                <a:t>20</a:t>
              </a:r>
              <a:r>
                <a:rPr b="1" lang="zh-CN" sz="2400" spc="-1" strike="noStrike">
                  <a:solidFill>
                    <a:srgbClr val="00ada7"/>
                  </a:solidFill>
                  <a:latin typeface="Showcard Gothic"/>
                  <a:ea typeface="微软雅黑"/>
                </a:rPr>
                <a:t>岁，赶上互联网热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55"/>
            <p:cNvSpPr/>
            <p:nvPr/>
          </p:nvSpPr>
          <p:spPr>
            <a:xfrm>
              <a:off x="6211800" y="2187720"/>
              <a:ext cx="1891080" cy="1345680"/>
            </a:xfrm>
            <a:custGeom>
              <a:avLst/>
              <a:gdLst>
                <a:gd name="textAreaLeft" fmla="*/ 0 w 1891080"/>
                <a:gd name="textAreaRight" fmla="*/ 1891440 w 1891080"/>
                <a:gd name="textAreaTop" fmla="*/ 0 h 1345680"/>
                <a:gd name="textAreaBottom" fmla="*/ 1346040 h 1345680"/>
              </a:gdLst>
              <a:ahLst/>
              <a:rect l="textAreaLeft" t="textAreaTop" r="textAreaRight" b="textAreaBottom"/>
              <a:pathLst>
                <a:path w="1905000" h="1355725">
                  <a:moveTo>
                    <a:pt x="60758" y="1188366"/>
                  </a:moveTo>
                  <a:lnTo>
                    <a:pt x="64028" y="1188366"/>
                  </a:lnTo>
                  <a:lnTo>
                    <a:pt x="832362" y="1188366"/>
                  </a:lnTo>
                  <a:lnTo>
                    <a:pt x="830985" y="1190418"/>
                  </a:lnTo>
                  <a:lnTo>
                    <a:pt x="829780" y="1192640"/>
                  </a:lnTo>
                  <a:lnTo>
                    <a:pt x="828920" y="1195204"/>
                  </a:lnTo>
                  <a:lnTo>
                    <a:pt x="828059" y="1197598"/>
                  </a:lnTo>
                  <a:lnTo>
                    <a:pt x="827542" y="1200161"/>
                  </a:lnTo>
                  <a:lnTo>
                    <a:pt x="827026" y="1202555"/>
                  </a:lnTo>
                  <a:lnTo>
                    <a:pt x="826854" y="1205290"/>
                  </a:lnTo>
                  <a:lnTo>
                    <a:pt x="826682" y="1207854"/>
                  </a:lnTo>
                  <a:lnTo>
                    <a:pt x="826854" y="1211957"/>
                  </a:lnTo>
                  <a:lnTo>
                    <a:pt x="827542" y="1215889"/>
                  </a:lnTo>
                  <a:lnTo>
                    <a:pt x="828575" y="1219650"/>
                  </a:lnTo>
                  <a:lnTo>
                    <a:pt x="830125" y="1223240"/>
                  </a:lnTo>
                  <a:lnTo>
                    <a:pt x="831846" y="1226659"/>
                  </a:lnTo>
                  <a:lnTo>
                    <a:pt x="833911" y="1229907"/>
                  </a:lnTo>
                  <a:lnTo>
                    <a:pt x="836321" y="1232984"/>
                  </a:lnTo>
                  <a:lnTo>
                    <a:pt x="839075" y="1235890"/>
                  </a:lnTo>
                  <a:lnTo>
                    <a:pt x="842173" y="1238283"/>
                  </a:lnTo>
                  <a:lnTo>
                    <a:pt x="845443" y="1240676"/>
                  </a:lnTo>
                  <a:lnTo>
                    <a:pt x="849057" y="1242557"/>
                  </a:lnTo>
                  <a:lnTo>
                    <a:pt x="852672" y="1244267"/>
                  </a:lnTo>
                  <a:lnTo>
                    <a:pt x="856631" y="1245634"/>
                  </a:lnTo>
                  <a:lnTo>
                    <a:pt x="860761" y="1246489"/>
                  </a:lnTo>
                  <a:lnTo>
                    <a:pt x="864893" y="1247002"/>
                  </a:lnTo>
                  <a:lnTo>
                    <a:pt x="869367" y="1247344"/>
                  </a:lnTo>
                  <a:lnTo>
                    <a:pt x="1035805" y="1247344"/>
                  </a:lnTo>
                  <a:lnTo>
                    <a:pt x="1040109" y="1247002"/>
                  </a:lnTo>
                  <a:lnTo>
                    <a:pt x="1044411" y="1246489"/>
                  </a:lnTo>
                  <a:lnTo>
                    <a:pt x="1048370" y="1245634"/>
                  </a:lnTo>
                  <a:lnTo>
                    <a:pt x="1052329" y="1244267"/>
                  </a:lnTo>
                  <a:lnTo>
                    <a:pt x="1056115" y="1242557"/>
                  </a:lnTo>
                  <a:lnTo>
                    <a:pt x="1059730" y="1240676"/>
                  </a:lnTo>
                  <a:lnTo>
                    <a:pt x="1063000" y="1238283"/>
                  </a:lnTo>
                  <a:lnTo>
                    <a:pt x="1065926" y="1235890"/>
                  </a:lnTo>
                  <a:lnTo>
                    <a:pt x="1068680" y="1232984"/>
                  </a:lnTo>
                  <a:lnTo>
                    <a:pt x="1071089" y="1229907"/>
                  </a:lnTo>
                  <a:lnTo>
                    <a:pt x="1073327" y="1226659"/>
                  </a:lnTo>
                  <a:lnTo>
                    <a:pt x="1075048" y="1223240"/>
                  </a:lnTo>
                  <a:lnTo>
                    <a:pt x="1076597" y="1219650"/>
                  </a:lnTo>
                  <a:lnTo>
                    <a:pt x="1077458" y="1215889"/>
                  </a:lnTo>
                  <a:lnTo>
                    <a:pt x="1078318" y="1211957"/>
                  </a:lnTo>
                  <a:lnTo>
                    <a:pt x="1078490" y="1207854"/>
                  </a:lnTo>
                  <a:lnTo>
                    <a:pt x="1078318" y="1205290"/>
                  </a:lnTo>
                  <a:lnTo>
                    <a:pt x="1077974" y="1202555"/>
                  </a:lnTo>
                  <a:lnTo>
                    <a:pt x="1077458" y="1200161"/>
                  </a:lnTo>
                  <a:lnTo>
                    <a:pt x="1076941" y="1197598"/>
                  </a:lnTo>
                  <a:lnTo>
                    <a:pt x="1076081" y="1195204"/>
                  </a:lnTo>
                  <a:lnTo>
                    <a:pt x="1075220" y="1192640"/>
                  </a:lnTo>
                  <a:lnTo>
                    <a:pt x="1074015" y="1190418"/>
                  </a:lnTo>
                  <a:lnTo>
                    <a:pt x="1072638" y="1188366"/>
                  </a:lnTo>
                  <a:lnTo>
                    <a:pt x="1840972" y="1188366"/>
                  </a:lnTo>
                  <a:lnTo>
                    <a:pt x="1844243" y="1188366"/>
                  </a:lnTo>
                  <a:lnTo>
                    <a:pt x="1847513" y="1188538"/>
                  </a:lnTo>
                  <a:lnTo>
                    <a:pt x="1850783" y="1188879"/>
                  </a:lnTo>
                  <a:lnTo>
                    <a:pt x="1853881" y="1189392"/>
                  </a:lnTo>
                  <a:lnTo>
                    <a:pt x="1856980" y="1190076"/>
                  </a:lnTo>
                  <a:lnTo>
                    <a:pt x="1859906" y="1190930"/>
                  </a:lnTo>
                  <a:lnTo>
                    <a:pt x="1863003" y="1191956"/>
                  </a:lnTo>
                  <a:lnTo>
                    <a:pt x="1865929" y="1192811"/>
                  </a:lnTo>
                  <a:lnTo>
                    <a:pt x="1868855" y="1194007"/>
                  </a:lnTo>
                  <a:lnTo>
                    <a:pt x="1871437" y="1195375"/>
                  </a:lnTo>
                  <a:lnTo>
                    <a:pt x="1874191" y="1196914"/>
                  </a:lnTo>
                  <a:lnTo>
                    <a:pt x="1876601" y="1198453"/>
                  </a:lnTo>
                  <a:lnTo>
                    <a:pt x="1879355" y="1199820"/>
                  </a:lnTo>
                  <a:lnTo>
                    <a:pt x="1881592" y="1201871"/>
                  </a:lnTo>
                  <a:lnTo>
                    <a:pt x="1884002" y="1203580"/>
                  </a:lnTo>
                  <a:lnTo>
                    <a:pt x="1886240" y="1205632"/>
                  </a:lnTo>
                  <a:lnTo>
                    <a:pt x="1888305" y="1207513"/>
                  </a:lnTo>
                  <a:lnTo>
                    <a:pt x="1890198" y="1209735"/>
                  </a:lnTo>
                  <a:lnTo>
                    <a:pt x="1892092" y="1211957"/>
                  </a:lnTo>
                  <a:lnTo>
                    <a:pt x="1894157" y="1214350"/>
                  </a:lnTo>
                  <a:lnTo>
                    <a:pt x="1895534" y="1216573"/>
                  </a:lnTo>
                  <a:lnTo>
                    <a:pt x="1897083" y="1219137"/>
                  </a:lnTo>
                  <a:lnTo>
                    <a:pt x="1898632" y="1221701"/>
                  </a:lnTo>
                  <a:lnTo>
                    <a:pt x="1899837" y="1224265"/>
                  </a:lnTo>
                  <a:lnTo>
                    <a:pt x="1901042" y="1227172"/>
                  </a:lnTo>
                  <a:lnTo>
                    <a:pt x="1902074" y="1229736"/>
                  </a:lnTo>
                  <a:lnTo>
                    <a:pt x="1902935" y="1232642"/>
                  </a:lnTo>
                  <a:lnTo>
                    <a:pt x="1903623" y="1235549"/>
                  </a:lnTo>
                  <a:lnTo>
                    <a:pt x="1904139" y="1238283"/>
                  </a:lnTo>
                  <a:lnTo>
                    <a:pt x="1904656" y="1241360"/>
                  </a:lnTo>
                  <a:lnTo>
                    <a:pt x="1904828" y="1244267"/>
                  </a:lnTo>
                  <a:lnTo>
                    <a:pt x="1905000" y="1247344"/>
                  </a:lnTo>
                  <a:lnTo>
                    <a:pt x="1905000" y="1296748"/>
                  </a:lnTo>
                  <a:lnTo>
                    <a:pt x="1904828" y="1299825"/>
                  </a:lnTo>
                  <a:lnTo>
                    <a:pt x="1904656" y="1302560"/>
                  </a:lnTo>
                  <a:lnTo>
                    <a:pt x="1904139" y="1305637"/>
                  </a:lnTo>
                  <a:lnTo>
                    <a:pt x="1903623" y="1308544"/>
                  </a:lnTo>
                  <a:lnTo>
                    <a:pt x="1902935" y="1311449"/>
                  </a:lnTo>
                  <a:lnTo>
                    <a:pt x="1902074" y="1314185"/>
                  </a:lnTo>
                  <a:lnTo>
                    <a:pt x="1901042" y="1316920"/>
                  </a:lnTo>
                  <a:lnTo>
                    <a:pt x="1899837" y="1319826"/>
                  </a:lnTo>
                  <a:lnTo>
                    <a:pt x="1898632" y="1322219"/>
                  </a:lnTo>
                  <a:lnTo>
                    <a:pt x="1897083" y="1324955"/>
                  </a:lnTo>
                  <a:lnTo>
                    <a:pt x="1895534" y="1327348"/>
                  </a:lnTo>
                  <a:lnTo>
                    <a:pt x="1894157" y="1329570"/>
                  </a:lnTo>
                  <a:lnTo>
                    <a:pt x="1892092" y="1332134"/>
                  </a:lnTo>
                  <a:lnTo>
                    <a:pt x="1890198" y="1334186"/>
                  </a:lnTo>
                  <a:lnTo>
                    <a:pt x="1888305" y="1336579"/>
                  </a:lnTo>
                  <a:lnTo>
                    <a:pt x="1886240" y="1338459"/>
                  </a:lnTo>
                  <a:lnTo>
                    <a:pt x="1884002" y="1340511"/>
                  </a:lnTo>
                  <a:lnTo>
                    <a:pt x="1881592" y="1342220"/>
                  </a:lnTo>
                  <a:lnTo>
                    <a:pt x="1879355" y="1344101"/>
                  </a:lnTo>
                  <a:lnTo>
                    <a:pt x="1876601" y="1345639"/>
                  </a:lnTo>
                  <a:lnTo>
                    <a:pt x="1874191" y="1347178"/>
                  </a:lnTo>
                  <a:lnTo>
                    <a:pt x="1871437" y="1348716"/>
                  </a:lnTo>
                  <a:lnTo>
                    <a:pt x="1868855" y="1350084"/>
                  </a:lnTo>
                  <a:lnTo>
                    <a:pt x="1865929" y="1351109"/>
                  </a:lnTo>
                  <a:lnTo>
                    <a:pt x="1863003" y="1352136"/>
                  </a:lnTo>
                  <a:lnTo>
                    <a:pt x="1859906" y="1352990"/>
                  </a:lnTo>
                  <a:lnTo>
                    <a:pt x="1856980" y="1354016"/>
                  </a:lnTo>
                  <a:lnTo>
                    <a:pt x="1853881" y="1354528"/>
                  </a:lnTo>
                  <a:lnTo>
                    <a:pt x="1850783" y="1355212"/>
                  </a:lnTo>
                  <a:lnTo>
                    <a:pt x="1847513" y="1355555"/>
                  </a:lnTo>
                  <a:lnTo>
                    <a:pt x="1844243" y="1355725"/>
                  </a:lnTo>
                  <a:lnTo>
                    <a:pt x="1840972" y="1355725"/>
                  </a:lnTo>
                  <a:lnTo>
                    <a:pt x="64028" y="1355725"/>
                  </a:lnTo>
                  <a:lnTo>
                    <a:pt x="60758" y="1355725"/>
                  </a:lnTo>
                  <a:lnTo>
                    <a:pt x="57488" y="1355555"/>
                  </a:lnTo>
                  <a:lnTo>
                    <a:pt x="54217" y="1355212"/>
                  </a:lnTo>
                  <a:lnTo>
                    <a:pt x="51119" y="1354528"/>
                  </a:lnTo>
                  <a:lnTo>
                    <a:pt x="48193" y="1354016"/>
                  </a:lnTo>
                  <a:lnTo>
                    <a:pt x="45095" y="1352990"/>
                  </a:lnTo>
                  <a:lnTo>
                    <a:pt x="42169" y="1352136"/>
                  </a:lnTo>
                  <a:lnTo>
                    <a:pt x="39071" y="1351109"/>
                  </a:lnTo>
                  <a:lnTo>
                    <a:pt x="36489" y="1350084"/>
                  </a:lnTo>
                  <a:lnTo>
                    <a:pt x="33563" y="1348716"/>
                  </a:lnTo>
                  <a:lnTo>
                    <a:pt x="30809" y="1347178"/>
                  </a:lnTo>
                  <a:lnTo>
                    <a:pt x="28399" y="1345639"/>
                  </a:lnTo>
                  <a:lnTo>
                    <a:pt x="25646" y="1344101"/>
                  </a:lnTo>
                  <a:lnTo>
                    <a:pt x="23408" y="1342220"/>
                  </a:lnTo>
                  <a:lnTo>
                    <a:pt x="21171" y="1340511"/>
                  </a:lnTo>
                  <a:lnTo>
                    <a:pt x="18761" y="1338459"/>
                  </a:lnTo>
                  <a:lnTo>
                    <a:pt x="16696" y="1336579"/>
                  </a:lnTo>
                  <a:lnTo>
                    <a:pt x="14803" y="1334186"/>
                  </a:lnTo>
                  <a:lnTo>
                    <a:pt x="12909" y="1332134"/>
                  </a:lnTo>
                  <a:lnTo>
                    <a:pt x="11016" y="1329570"/>
                  </a:lnTo>
                  <a:lnTo>
                    <a:pt x="9467" y="1327348"/>
                  </a:lnTo>
                  <a:lnTo>
                    <a:pt x="7918" y="1324955"/>
                  </a:lnTo>
                  <a:lnTo>
                    <a:pt x="6368" y="1322219"/>
                  </a:lnTo>
                  <a:lnTo>
                    <a:pt x="5164" y="1319826"/>
                  </a:lnTo>
                  <a:lnTo>
                    <a:pt x="4131" y="1316920"/>
                  </a:lnTo>
                  <a:lnTo>
                    <a:pt x="2926" y="1314185"/>
                  </a:lnTo>
                  <a:lnTo>
                    <a:pt x="2238" y="1311449"/>
                  </a:lnTo>
                  <a:lnTo>
                    <a:pt x="1377" y="1308544"/>
                  </a:lnTo>
                  <a:lnTo>
                    <a:pt x="861" y="1305637"/>
                  </a:lnTo>
                  <a:lnTo>
                    <a:pt x="516" y="1302560"/>
                  </a:lnTo>
                  <a:lnTo>
                    <a:pt x="173" y="1299825"/>
                  </a:lnTo>
                  <a:lnTo>
                    <a:pt x="0" y="1296748"/>
                  </a:lnTo>
                  <a:lnTo>
                    <a:pt x="0" y="1247344"/>
                  </a:lnTo>
                  <a:lnTo>
                    <a:pt x="173" y="1244267"/>
                  </a:lnTo>
                  <a:lnTo>
                    <a:pt x="516" y="1241360"/>
                  </a:lnTo>
                  <a:lnTo>
                    <a:pt x="861" y="1238283"/>
                  </a:lnTo>
                  <a:lnTo>
                    <a:pt x="1377" y="1235549"/>
                  </a:lnTo>
                  <a:lnTo>
                    <a:pt x="2238" y="1232642"/>
                  </a:lnTo>
                  <a:lnTo>
                    <a:pt x="2926" y="1229736"/>
                  </a:lnTo>
                  <a:lnTo>
                    <a:pt x="4131" y="1227172"/>
                  </a:lnTo>
                  <a:lnTo>
                    <a:pt x="5164" y="1224265"/>
                  </a:lnTo>
                  <a:lnTo>
                    <a:pt x="6368" y="1221701"/>
                  </a:lnTo>
                  <a:lnTo>
                    <a:pt x="7918" y="1219137"/>
                  </a:lnTo>
                  <a:lnTo>
                    <a:pt x="9467" y="1216573"/>
                  </a:lnTo>
                  <a:lnTo>
                    <a:pt x="11016" y="1214350"/>
                  </a:lnTo>
                  <a:lnTo>
                    <a:pt x="12909" y="1211957"/>
                  </a:lnTo>
                  <a:lnTo>
                    <a:pt x="14803" y="1209735"/>
                  </a:lnTo>
                  <a:lnTo>
                    <a:pt x="16696" y="1207513"/>
                  </a:lnTo>
                  <a:lnTo>
                    <a:pt x="18761" y="1205632"/>
                  </a:lnTo>
                  <a:lnTo>
                    <a:pt x="21171" y="1203580"/>
                  </a:lnTo>
                  <a:lnTo>
                    <a:pt x="23408" y="1201871"/>
                  </a:lnTo>
                  <a:lnTo>
                    <a:pt x="25646" y="1199820"/>
                  </a:lnTo>
                  <a:lnTo>
                    <a:pt x="28399" y="1198453"/>
                  </a:lnTo>
                  <a:lnTo>
                    <a:pt x="30809" y="1196914"/>
                  </a:lnTo>
                  <a:lnTo>
                    <a:pt x="33563" y="1195375"/>
                  </a:lnTo>
                  <a:lnTo>
                    <a:pt x="36489" y="1194007"/>
                  </a:lnTo>
                  <a:lnTo>
                    <a:pt x="39071" y="1192811"/>
                  </a:lnTo>
                  <a:lnTo>
                    <a:pt x="42169" y="1191956"/>
                  </a:lnTo>
                  <a:lnTo>
                    <a:pt x="45095" y="1190930"/>
                  </a:lnTo>
                  <a:lnTo>
                    <a:pt x="48193" y="1190076"/>
                  </a:lnTo>
                  <a:lnTo>
                    <a:pt x="51119" y="1189392"/>
                  </a:lnTo>
                  <a:lnTo>
                    <a:pt x="54217" y="1188879"/>
                  </a:lnTo>
                  <a:lnTo>
                    <a:pt x="57488" y="1188538"/>
                  </a:lnTo>
                  <a:close/>
                  <a:moveTo>
                    <a:pt x="174199" y="69317"/>
                  </a:moveTo>
                  <a:lnTo>
                    <a:pt x="171272" y="69489"/>
                  </a:lnTo>
                  <a:lnTo>
                    <a:pt x="168346" y="69661"/>
                  </a:lnTo>
                  <a:lnTo>
                    <a:pt x="165764" y="69833"/>
                  </a:lnTo>
                  <a:lnTo>
                    <a:pt x="162838" y="70349"/>
                  </a:lnTo>
                  <a:lnTo>
                    <a:pt x="160084" y="71037"/>
                  </a:lnTo>
                  <a:lnTo>
                    <a:pt x="157502" y="71725"/>
                  </a:lnTo>
                  <a:lnTo>
                    <a:pt x="154920" y="72585"/>
                  </a:lnTo>
                  <a:lnTo>
                    <a:pt x="152338" y="73445"/>
                  </a:lnTo>
                  <a:lnTo>
                    <a:pt x="149756" y="74477"/>
                  </a:lnTo>
                  <a:lnTo>
                    <a:pt x="147518" y="75509"/>
                  </a:lnTo>
                  <a:lnTo>
                    <a:pt x="145281" y="76885"/>
                  </a:lnTo>
                  <a:lnTo>
                    <a:pt x="142871" y="78261"/>
                  </a:lnTo>
                  <a:lnTo>
                    <a:pt x="140633" y="79637"/>
                  </a:lnTo>
                  <a:lnTo>
                    <a:pt x="138567" y="81358"/>
                  </a:lnTo>
                  <a:lnTo>
                    <a:pt x="136330" y="82905"/>
                  </a:lnTo>
                  <a:lnTo>
                    <a:pt x="134436" y="84626"/>
                  </a:lnTo>
                  <a:lnTo>
                    <a:pt x="132714" y="86517"/>
                  </a:lnTo>
                  <a:lnTo>
                    <a:pt x="130821" y="88409"/>
                  </a:lnTo>
                  <a:lnTo>
                    <a:pt x="129272" y="90301"/>
                  </a:lnTo>
                  <a:lnTo>
                    <a:pt x="127723" y="92365"/>
                  </a:lnTo>
                  <a:lnTo>
                    <a:pt x="126346" y="94429"/>
                  </a:lnTo>
                  <a:lnTo>
                    <a:pt x="124969" y="96666"/>
                  </a:lnTo>
                  <a:lnTo>
                    <a:pt x="123592" y="98902"/>
                  </a:lnTo>
                  <a:lnTo>
                    <a:pt x="122559" y="101138"/>
                  </a:lnTo>
                  <a:lnTo>
                    <a:pt x="121526" y="103546"/>
                  </a:lnTo>
                  <a:lnTo>
                    <a:pt x="120665" y="105954"/>
                  </a:lnTo>
                  <a:lnTo>
                    <a:pt x="119977" y="108534"/>
                  </a:lnTo>
                  <a:lnTo>
                    <a:pt x="119116" y="110942"/>
                  </a:lnTo>
                  <a:lnTo>
                    <a:pt x="118772" y="113522"/>
                  </a:lnTo>
                  <a:lnTo>
                    <a:pt x="118428" y="116101"/>
                  </a:lnTo>
                  <a:lnTo>
                    <a:pt x="118255" y="118854"/>
                  </a:lnTo>
                  <a:lnTo>
                    <a:pt x="118255" y="121434"/>
                  </a:lnTo>
                  <a:lnTo>
                    <a:pt x="118255" y="1008795"/>
                  </a:lnTo>
                  <a:lnTo>
                    <a:pt x="118255" y="1011375"/>
                  </a:lnTo>
                  <a:lnTo>
                    <a:pt x="118428" y="1014128"/>
                  </a:lnTo>
                  <a:lnTo>
                    <a:pt x="118772" y="1016708"/>
                  </a:lnTo>
                  <a:lnTo>
                    <a:pt x="119116" y="1019287"/>
                  </a:lnTo>
                  <a:lnTo>
                    <a:pt x="119977" y="1022040"/>
                  </a:lnTo>
                  <a:lnTo>
                    <a:pt x="120665" y="1024275"/>
                  </a:lnTo>
                  <a:lnTo>
                    <a:pt x="121526" y="1026683"/>
                  </a:lnTo>
                  <a:lnTo>
                    <a:pt x="122559" y="1029264"/>
                  </a:lnTo>
                  <a:lnTo>
                    <a:pt x="123592" y="1031500"/>
                  </a:lnTo>
                  <a:lnTo>
                    <a:pt x="124969" y="1033564"/>
                  </a:lnTo>
                  <a:lnTo>
                    <a:pt x="126346" y="1035972"/>
                  </a:lnTo>
                  <a:lnTo>
                    <a:pt x="127723" y="1038036"/>
                  </a:lnTo>
                  <a:lnTo>
                    <a:pt x="129272" y="1040099"/>
                  </a:lnTo>
                  <a:lnTo>
                    <a:pt x="130821" y="1041992"/>
                  </a:lnTo>
                  <a:lnTo>
                    <a:pt x="132714" y="1044056"/>
                  </a:lnTo>
                  <a:lnTo>
                    <a:pt x="134436" y="1045776"/>
                  </a:lnTo>
                  <a:lnTo>
                    <a:pt x="136330" y="1047496"/>
                  </a:lnTo>
                  <a:lnTo>
                    <a:pt x="138567" y="1049216"/>
                  </a:lnTo>
                  <a:lnTo>
                    <a:pt x="140633" y="1050592"/>
                  </a:lnTo>
                  <a:lnTo>
                    <a:pt x="142871" y="1052140"/>
                  </a:lnTo>
                  <a:lnTo>
                    <a:pt x="145281" y="1053516"/>
                  </a:lnTo>
                  <a:lnTo>
                    <a:pt x="147518" y="1054720"/>
                  </a:lnTo>
                  <a:lnTo>
                    <a:pt x="149756" y="1055924"/>
                  </a:lnTo>
                  <a:lnTo>
                    <a:pt x="152338" y="1056956"/>
                  </a:lnTo>
                  <a:lnTo>
                    <a:pt x="154920" y="1057988"/>
                  </a:lnTo>
                  <a:lnTo>
                    <a:pt x="157502" y="1058676"/>
                  </a:lnTo>
                  <a:lnTo>
                    <a:pt x="160084" y="1059536"/>
                  </a:lnTo>
                  <a:lnTo>
                    <a:pt x="162838" y="1060052"/>
                  </a:lnTo>
                  <a:lnTo>
                    <a:pt x="165764" y="1060396"/>
                  </a:lnTo>
                  <a:lnTo>
                    <a:pt x="168346" y="1060740"/>
                  </a:lnTo>
                  <a:lnTo>
                    <a:pt x="171272" y="1061084"/>
                  </a:lnTo>
                  <a:lnTo>
                    <a:pt x="174199" y="1061084"/>
                  </a:lnTo>
                  <a:lnTo>
                    <a:pt x="1730801" y="1061084"/>
                  </a:lnTo>
                  <a:lnTo>
                    <a:pt x="1733727" y="1061084"/>
                  </a:lnTo>
                  <a:lnTo>
                    <a:pt x="1736653" y="1060740"/>
                  </a:lnTo>
                  <a:lnTo>
                    <a:pt x="1739408" y="1060396"/>
                  </a:lnTo>
                  <a:lnTo>
                    <a:pt x="1742162" y="1060052"/>
                  </a:lnTo>
                  <a:lnTo>
                    <a:pt x="1745088" y="1059536"/>
                  </a:lnTo>
                  <a:lnTo>
                    <a:pt x="1747670" y="1058676"/>
                  </a:lnTo>
                  <a:lnTo>
                    <a:pt x="1750252" y="1057988"/>
                  </a:lnTo>
                  <a:lnTo>
                    <a:pt x="1752834" y="1056956"/>
                  </a:lnTo>
                  <a:lnTo>
                    <a:pt x="1755244" y="1055924"/>
                  </a:lnTo>
                  <a:lnTo>
                    <a:pt x="1757654" y="1054720"/>
                  </a:lnTo>
                  <a:lnTo>
                    <a:pt x="1760064" y="1053516"/>
                  </a:lnTo>
                  <a:lnTo>
                    <a:pt x="1762301" y="1052140"/>
                  </a:lnTo>
                  <a:lnTo>
                    <a:pt x="1764539" y="1050592"/>
                  </a:lnTo>
                  <a:lnTo>
                    <a:pt x="1766605" y="1049216"/>
                  </a:lnTo>
                  <a:lnTo>
                    <a:pt x="1768670" y="1047496"/>
                  </a:lnTo>
                  <a:lnTo>
                    <a:pt x="1770736" y="1045776"/>
                  </a:lnTo>
                  <a:lnTo>
                    <a:pt x="1772458" y="1044056"/>
                  </a:lnTo>
                  <a:lnTo>
                    <a:pt x="1774350" y="1041992"/>
                  </a:lnTo>
                  <a:lnTo>
                    <a:pt x="1775900" y="1040099"/>
                  </a:lnTo>
                  <a:lnTo>
                    <a:pt x="1777449" y="1038036"/>
                  </a:lnTo>
                  <a:lnTo>
                    <a:pt x="1778998" y="1035972"/>
                  </a:lnTo>
                  <a:lnTo>
                    <a:pt x="1780203" y="1033564"/>
                  </a:lnTo>
                  <a:lnTo>
                    <a:pt x="1781580" y="1031500"/>
                  </a:lnTo>
                  <a:lnTo>
                    <a:pt x="1782613" y="1029264"/>
                  </a:lnTo>
                  <a:lnTo>
                    <a:pt x="1783818" y="1026683"/>
                  </a:lnTo>
                  <a:lnTo>
                    <a:pt x="1784507" y="1024275"/>
                  </a:lnTo>
                  <a:lnTo>
                    <a:pt x="1785195" y="1022040"/>
                  </a:lnTo>
                  <a:lnTo>
                    <a:pt x="1785884" y="1019287"/>
                  </a:lnTo>
                  <a:lnTo>
                    <a:pt x="1786400" y="1016708"/>
                  </a:lnTo>
                  <a:lnTo>
                    <a:pt x="1786744" y="1014128"/>
                  </a:lnTo>
                  <a:lnTo>
                    <a:pt x="1786917" y="1011375"/>
                  </a:lnTo>
                  <a:lnTo>
                    <a:pt x="1786917" y="1008795"/>
                  </a:lnTo>
                  <a:lnTo>
                    <a:pt x="1786917" y="121434"/>
                  </a:lnTo>
                  <a:lnTo>
                    <a:pt x="1786917" y="118854"/>
                  </a:lnTo>
                  <a:lnTo>
                    <a:pt x="1786744" y="116101"/>
                  </a:lnTo>
                  <a:lnTo>
                    <a:pt x="1786400" y="113522"/>
                  </a:lnTo>
                  <a:lnTo>
                    <a:pt x="1785884" y="110942"/>
                  </a:lnTo>
                  <a:lnTo>
                    <a:pt x="1785195" y="108534"/>
                  </a:lnTo>
                  <a:lnTo>
                    <a:pt x="1784507" y="105954"/>
                  </a:lnTo>
                  <a:lnTo>
                    <a:pt x="1783818" y="103546"/>
                  </a:lnTo>
                  <a:lnTo>
                    <a:pt x="1782613" y="101138"/>
                  </a:lnTo>
                  <a:lnTo>
                    <a:pt x="1781580" y="98902"/>
                  </a:lnTo>
                  <a:lnTo>
                    <a:pt x="1780203" y="96666"/>
                  </a:lnTo>
                  <a:lnTo>
                    <a:pt x="1778998" y="94429"/>
                  </a:lnTo>
                  <a:lnTo>
                    <a:pt x="1777449" y="92365"/>
                  </a:lnTo>
                  <a:lnTo>
                    <a:pt x="1775900" y="90301"/>
                  </a:lnTo>
                  <a:lnTo>
                    <a:pt x="1774350" y="88409"/>
                  </a:lnTo>
                  <a:lnTo>
                    <a:pt x="1772458" y="86517"/>
                  </a:lnTo>
                  <a:lnTo>
                    <a:pt x="1770736" y="84626"/>
                  </a:lnTo>
                  <a:lnTo>
                    <a:pt x="1768670" y="82905"/>
                  </a:lnTo>
                  <a:lnTo>
                    <a:pt x="1766605" y="81358"/>
                  </a:lnTo>
                  <a:lnTo>
                    <a:pt x="1764539" y="79637"/>
                  </a:lnTo>
                  <a:lnTo>
                    <a:pt x="1762301" y="78261"/>
                  </a:lnTo>
                  <a:lnTo>
                    <a:pt x="1760064" y="76885"/>
                  </a:lnTo>
                  <a:lnTo>
                    <a:pt x="1757654" y="75509"/>
                  </a:lnTo>
                  <a:lnTo>
                    <a:pt x="1755244" y="74477"/>
                  </a:lnTo>
                  <a:lnTo>
                    <a:pt x="1752834" y="73445"/>
                  </a:lnTo>
                  <a:lnTo>
                    <a:pt x="1750252" y="72585"/>
                  </a:lnTo>
                  <a:lnTo>
                    <a:pt x="1747670" y="71725"/>
                  </a:lnTo>
                  <a:lnTo>
                    <a:pt x="1745088" y="71037"/>
                  </a:lnTo>
                  <a:lnTo>
                    <a:pt x="1742162" y="70349"/>
                  </a:lnTo>
                  <a:lnTo>
                    <a:pt x="1739408" y="69833"/>
                  </a:lnTo>
                  <a:lnTo>
                    <a:pt x="1736653" y="69661"/>
                  </a:lnTo>
                  <a:lnTo>
                    <a:pt x="1733727" y="69489"/>
                  </a:lnTo>
                  <a:lnTo>
                    <a:pt x="1730801" y="69317"/>
                  </a:lnTo>
                  <a:close/>
                  <a:moveTo>
                    <a:pt x="61968" y="0"/>
                  </a:moveTo>
                  <a:lnTo>
                    <a:pt x="65410" y="0"/>
                  </a:lnTo>
                  <a:lnTo>
                    <a:pt x="1839934" y="0"/>
                  </a:lnTo>
                  <a:lnTo>
                    <a:pt x="1843376" y="0"/>
                  </a:lnTo>
                  <a:lnTo>
                    <a:pt x="1846474" y="172"/>
                  </a:lnTo>
                  <a:lnTo>
                    <a:pt x="1849573" y="516"/>
                  </a:lnTo>
                  <a:lnTo>
                    <a:pt x="1852844" y="1032"/>
                  </a:lnTo>
                  <a:lnTo>
                    <a:pt x="1855942" y="1720"/>
                  </a:lnTo>
                  <a:lnTo>
                    <a:pt x="1859040" y="2580"/>
                  </a:lnTo>
                  <a:lnTo>
                    <a:pt x="1861794" y="3440"/>
                  </a:lnTo>
                  <a:lnTo>
                    <a:pt x="1864721" y="4472"/>
                  </a:lnTo>
                  <a:lnTo>
                    <a:pt x="1867647" y="5676"/>
                  </a:lnTo>
                  <a:lnTo>
                    <a:pt x="1870573" y="7052"/>
                  </a:lnTo>
                  <a:lnTo>
                    <a:pt x="1873155" y="8600"/>
                  </a:lnTo>
                  <a:lnTo>
                    <a:pt x="1875737" y="10148"/>
                  </a:lnTo>
                  <a:lnTo>
                    <a:pt x="1878147" y="11696"/>
                  </a:lnTo>
                  <a:lnTo>
                    <a:pt x="1880729" y="13588"/>
                  </a:lnTo>
                  <a:lnTo>
                    <a:pt x="1882967" y="15308"/>
                  </a:lnTo>
                  <a:lnTo>
                    <a:pt x="1885204" y="17372"/>
                  </a:lnTo>
                  <a:lnTo>
                    <a:pt x="1887270" y="19264"/>
                  </a:lnTo>
                  <a:lnTo>
                    <a:pt x="1889336" y="21500"/>
                  </a:lnTo>
                  <a:lnTo>
                    <a:pt x="1891229" y="23736"/>
                  </a:lnTo>
                  <a:lnTo>
                    <a:pt x="1892951" y="26144"/>
                  </a:lnTo>
                  <a:lnTo>
                    <a:pt x="1894672" y="28552"/>
                  </a:lnTo>
                  <a:lnTo>
                    <a:pt x="1896221" y="30960"/>
                  </a:lnTo>
                  <a:lnTo>
                    <a:pt x="1897426" y="33713"/>
                  </a:lnTo>
                  <a:lnTo>
                    <a:pt x="1898803" y="36121"/>
                  </a:lnTo>
                  <a:lnTo>
                    <a:pt x="1900008" y="39044"/>
                  </a:lnTo>
                  <a:lnTo>
                    <a:pt x="1900869" y="41625"/>
                  </a:lnTo>
                  <a:lnTo>
                    <a:pt x="1901901" y="44548"/>
                  </a:lnTo>
                  <a:lnTo>
                    <a:pt x="1902590" y="47473"/>
                  </a:lnTo>
                  <a:lnTo>
                    <a:pt x="1903106" y="50224"/>
                  </a:lnTo>
                  <a:lnTo>
                    <a:pt x="1903623" y="53321"/>
                  </a:lnTo>
                  <a:lnTo>
                    <a:pt x="1903795" y="56245"/>
                  </a:lnTo>
                  <a:lnTo>
                    <a:pt x="1903795" y="59341"/>
                  </a:lnTo>
                  <a:lnTo>
                    <a:pt x="1903795" y="1070888"/>
                  </a:lnTo>
                  <a:lnTo>
                    <a:pt x="1903795" y="1073984"/>
                  </a:lnTo>
                  <a:lnTo>
                    <a:pt x="1903623" y="1077080"/>
                  </a:lnTo>
                  <a:lnTo>
                    <a:pt x="1903106" y="1080005"/>
                  </a:lnTo>
                  <a:lnTo>
                    <a:pt x="1902590" y="1082756"/>
                  </a:lnTo>
                  <a:lnTo>
                    <a:pt x="1901901" y="1085681"/>
                  </a:lnTo>
                  <a:lnTo>
                    <a:pt x="1900869" y="1088604"/>
                  </a:lnTo>
                  <a:lnTo>
                    <a:pt x="1900008" y="1091528"/>
                  </a:lnTo>
                  <a:lnTo>
                    <a:pt x="1898803" y="1094108"/>
                  </a:lnTo>
                  <a:lnTo>
                    <a:pt x="1897426" y="1096861"/>
                  </a:lnTo>
                  <a:lnTo>
                    <a:pt x="1896221" y="1099269"/>
                  </a:lnTo>
                  <a:lnTo>
                    <a:pt x="1894672" y="1101849"/>
                  </a:lnTo>
                  <a:lnTo>
                    <a:pt x="1892951" y="1104257"/>
                  </a:lnTo>
                  <a:lnTo>
                    <a:pt x="1891229" y="1106493"/>
                  </a:lnTo>
                  <a:lnTo>
                    <a:pt x="1889336" y="1108901"/>
                  </a:lnTo>
                  <a:lnTo>
                    <a:pt x="1887270" y="1110965"/>
                  </a:lnTo>
                  <a:lnTo>
                    <a:pt x="1885204" y="1113029"/>
                  </a:lnTo>
                  <a:lnTo>
                    <a:pt x="1882967" y="1114921"/>
                  </a:lnTo>
                  <a:lnTo>
                    <a:pt x="1880729" y="1116985"/>
                  </a:lnTo>
                  <a:lnTo>
                    <a:pt x="1878147" y="1118705"/>
                  </a:lnTo>
                  <a:lnTo>
                    <a:pt x="1875737" y="1120425"/>
                  </a:lnTo>
                  <a:lnTo>
                    <a:pt x="1873155" y="1121801"/>
                  </a:lnTo>
                  <a:lnTo>
                    <a:pt x="1870573" y="1123177"/>
                  </a:lnTo>
                  <a:lnTo>
                    <a:pt x="1867647" y="1124553"/>
                  </a:lnTo>
                  <a:lnTo>
                    <a:pt x="1864721" y="1125757"/>
                  </a:lnTo>
                  <a:lnTo>
                    <a:pt x="1861794" y="1126789"/>
                  </a:lnTo>
                  <a:lnTo>
                    <a:pt x="1859040" y="1127821"/>
                  </a:lnTo>
                  <a:lnTo>
                    <a:pt x="1855942" y="1128509"/>
                  </a:lnTo>
                  <a:lnTo>
                    <a:pt x="1852844" y="1129198"/>
                  </a:lnTo>
                  <a:lnTo>
                    <a:pt x="1849573" y="1129713"/>
                  </a:lnTo>
                  <a:lnTo>
                    <a:pt x="1846474" y="1130057"/>
                  </a:lnTo>
                  <a:lnTo>
                    <a:pt x="1843376" y="1130229"/>
                  </a:lnTo>
                  <a:lnTo>
                    <a:pt x="1839934" y="1130573"/>
                  </a:lnTo>
                  <a:lnTo>
                    <a:pt x="65410" y="1130573"/>
                  </a:lnTo>
                  <a:lnTo>
                    <a:pt x="61968" y="1130229"/>
                  </a:lnTo>
                  <a:lnTo>
                    <a:pt x="58697" y="1130057"/>
                  </a:lnTo>
                  <a:lnTo>
                    <a:pt x="55599" y="1129713"/>
                  </a:lnTo>
                  <a:lnTo>
                    <a:pt x="52328" y="1129198"/>
                  </a:lnTo>
                  <a:lnTo>
                    <a:pt x="49230" y="1128509"/>
                  </a:lnTo>
                  <a:lnTo>
                    <a:pt x="46132" y="1127821"/>
                  </a:lnTo>
                  <a:lnTo>
                    <a:pt x="43378" y="1126789"/>
                  </a:lnTo>
                  <a:lnTo>
                    <a:pt x="40451" y="1125757"/>
                  </a:lnTo>
                  <a:lnTo>
                    <a:pt x="37525" y="1124553"/>
                  </a:lnTo>
                  <a:lnTo>
                    <a:pt x="34771" y="1123177"/>
                  </a:lnTo>
                  <a:lnTo>
                    <a:pt x="32017" y="1121801"/>
                  </a:lnTo>
                  <a:lnTo>
                    <a:pt x="29607" y="1120425"/>
                  </a:lnTo>
                  <a:lnTo>
                    <a:pt x="27025" y="1118705"/>
                  </a:lnTo>
                  <a:lnTo>
                    <a:pt x="24615" y="1116985"/>
                  </a:lnTo>
                  <a:lnTo>
                    <a:pt x="22205" y="1114921"/>
                  </a:lnTo>
                  <a:lnTo>
                    <a:pt x="19968" y="1113029"/>
                  </a:lnTo>
                  <a:lnTo>
                    <a:pt x="17902" y="1110965"/>
                  </a:lnTo>
                  <a:lnTo>
                    <a:pt x="16009" y="1108901"/>
                  </a:lnTo>
                  <a:lnTo>
                    <a:pt x="14115" y="1106493"/>
                  </a:lnTo>
                  <a:lnTo>
                    <a:pt x="12221" y="1104257"/>
                  </a:lnTo>
                  <a:lnTo>
                    <a:pt x="10500" y="1101849"/>
                  </a:lnTo>
                  <a:lnTo>
                    <a:pt x="9123" y="1099269"/>
                  </a:lnTo>
                  <a:lnTo>
                    <a:pt x="7574" y="1096861"/>
                  </a:lnTo>
                  <a:lnTo>
                    <a:pt x="6369" y="1094108"/>
                  </a:lnTo>
                  <a:lnTo>
                    <a:pt x="5164" y="1091528"/>
                  </a:lnTo>
                  <a:lnTo>
                    <a:pt x="4131" y="1088604"/>
                  </a:lnTo>
                  <a:lnTo>
                    <a:pt x="3270" y="1085681"/>
                  </a:lnTo>
                  <a:lnTo>
                    <a:pt x="2582" y="1082756"/>
                  </a:lnTo>
                  <a:lnTo>
                    <a:pt x="1893" y="1080005"/>
                  </a:lnTo>
                  <a:lnTo>
                    <a:pt x="1549" y="1077080"/>
                  </a:lnTo>
                  <a:lnTo>
                    <a:pt x="1377" y="1073984"/>
                  </a:lnTo>
                  <a:lnTo>
                    <a:pt x="1205" y="1070888"/>
                  </a:lnTo>
                  <a:lnTo>
                    <a:pt x="1205" y="59341"/>
                  </a:lnTo>
                  <a:lnTo>
                    <a:pt x="1377" y="56245"/>
                  </a:lnTo>
                  <a:lnTo>
                    <a:pt x="1549" y="53321"/>
                  </a:lnTo>
                  <a:lnTo>
                    <a:pt x="1893" y="50224"/>
                  </a:lnTo>
                  <a:lnTo>
                    <a:pt x="2582" y="47473"/>
                  </a:lnTo>
                  <a:lnTo>
                    <a:pt x="3270" y="44548"/>
                  </a:lnTo>
                  <a:lnTo>
                    <a:pt x="4131" y="41625"/>
                  </a:lnTo>
                  <a:lnTo>
                    <a:pt x="5164" y="39044"/>
                  </a:lnTo>
                  <a:lnTo>
                    <a:pt x="6369" y="36121"/>
                  </a:lnTo>
                  <a:lnTo>
                    <a:pt x="7574" y="33713"/>
                  </a:lnTo>
                  <a:lnTo>
                    <a:pt x="9123" y="30960"/>
                  </a:lnTo>
                  <a:lnTo>
                    <a:pt x="10500" y="28552"/>
                  </a:lnTo>
                  <a:lnTo>
                    <a:pt x="12221" y="26144"/>
                  </a:lnTo>
                  <a:lnTo>
                    <a:pt x="14115" y="23736"/>
                  </a:lnTo>
                  <a:lnTo>
                    <a:pt x="16009" y="21500"/>
                  </a:lnTo>
                  <a:lnTo>
                    <a:pt x="17902" y="19264"/>
                  </a:lnTo>
                  <a:lnTo>
                    <a:pt x="19968" y="17372"/>
                  </a:lnTo>
                  <a:lnTo>
                    <a:pt x="22205" y="15308"/>
                  </a:lnTo>
                  <a:lnTo>
                    <a:pt x="24615" y="13588"/>
                  </a:lnTo>
                  <a:lnTo>
                    <a:pt x="27025" y="11696"/>
                  </a:lnTo>
                  <a:lnTo>
                    <a:pt x="29607" y="10148"/>
                  </a:lnTo>
                  <a:lnTo>
                    <a:pt x="32017" y="8600"/>
                  </a:lnTo>
                  <a:lnTo>
                    <a:pt x="34771" y="7052"/>
                  </a:lnTo>
                  <a:lnTo>
                    <a:pt x="37525" y="5676"/>
                  </a:lnTo>
                  <a:lnTo>
                    <a:pt x="40451" y="4472"/>
                  </a:lnTo>
                  <a:lnTo>
                    <a:pt x="43378" y="3440"/>
                  </a:lnTo>
                  <a:lnTo>
                    <a:pt x="46132" y="2580"/>
                  </a:lnTo>
                  <a:lnTo>
                    <a:pt x="49230" y="1720"/>
                  </a:lnTo>
                  <a:lnTo>
                    <a:pt x="52328" y="1032"/>
                  </a:lnTo>
                  <a:lnTo>
                    <a:pt x="55599" y="516"/>
                  </a:lnTo>
                  <a:lnTo>
                    <a:pt x="58697" y="17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2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72" name="任意多边形 56"/>
            <p:cNvSpPr/>
            <p:nvPr/>
          </p:nvSpPr>
          <p:spPr>
            <a:xfrm>
              <a:off x="1005120" y="2187720"/>
              <a:ext cx="1891080" cy="1345680"/>
            </a:xfrm>
            <a:custGeom>
              <a:avLst/>
              <a:gdLst>
                <a:gd name="textAreaLeft" fmla="*/ 0 w 1891080"/>
                <a:gd name="textAreaRight" fmla="*/ 1891440 w 1891080"/>
                <a:gd name="textAreaTop" fmla="*/ 0 h 1345680"/>
                <a:gd name="textAreaBottom" fmla="*/ 1346040 h 1345680"/>
              </a:gdLst>
              <a:ahLst/>
              <a:rect l="textAreaLeft" t="textAreaTop" r="textAreaRight" b="textAreaBottom"/>
              <a:pathLst>
                <a:path w="1905000" h="1355725">
                  <a:moveTo>
                    <a:pt x="60758" y="1188366"/>
                  </a:moveTo>
                  <a:lnTo>
                    <a:pt x="64028" y="1188366"/>
                  </a:lnTo>
                  <a:lnTo>
                    <a:pt x="832362" y="1188366"/>
                  </a:lnTo>
                  <a:lnTo>
                    <a:pt x="830985" y="1190418"/>
                  </a:lnTo>
                  <a:lnTo>
                    <a:pt x="829780" y="1192640"/>
                  </a:lnTo>
                  <a:lnTo>
                    <a:pt x="828920" y="1195204"/>
                  </a:lnTo>
                  <a:lnTo>
                    <a:pt x="828059" y="1197598"/>
                  </a:lnTo>
                  <a:lnTo>
                    <a:pt x="827542" y="1200161"/>
                  </a:lnTo>
                  <a:lnTo>
                    <a:pt x="827026" y="1202555"/>
                  </a:lnTo>
                  <a:lnTo>
                    <a:pt x="826854" y="1205290"/>
                  </a:lnTo>
                  <a:lnTo>
                    <a:pt x="826682" y="1207854"/>
                  </a:lnTo>
                  <a:lnTo>
                    <a:pt x="826854" y="1211957"/>
                  </a:lnTo>
                  <a:lnTo>
                    <a:pt x="827542" y="1215889"/>
                  </a:lnTo>
                  <a:lnTo>
                    <a:pt x="828575" y="1219650"/>
                  </a:lnTo>
                  <a:lnTo>
                    <a:pt x="830125" y="1223240"/>
                  </a:lnTo>
                  <a:lnTo>
                    <a:pt x="831846" y="1226659"/>
                  </a:lnTo>
                  <a:lnTo>
                    <a:pt x="833911" y="1229907"/>
                  </a:lnTo>
                  <a:lnTo>
                    <a:pt x="836321" y="1232984"/>
                  </a:lnTo>
                  <a:lnTo>
                    <a:pt x="839075" y="1235890"/>
                  </a:lnTo>
                  <a:lnTo>
                    <a:pt x="842173" y="1238283"/>
                  </a:lnTo>
                  <a:lnTo>
                    <a:pt x="845443" y="1240676"/>
                  </a:lnTo>
                  <a:lnTo>
                    <a:pt x="849057" y="1242557"/>
                  </a:lnTo>
                  <a:lnTo>
                    <a:pt x="852672" y="1244267"/>
                  </a:lnTo>
                  <a:lnTo>
                    <a:pt x="856631" y="1245634"/>
                  </a:lnTo>
                  <a:lnTo>
                    <a:pt x="860761" y="1246489"/>
                  </a:lnTo>
                  <a:lnTo>
                    <a:pt x="864893" y="1247002"/>
                  </a:lnTo>
                  <a:lnTo>
                    <a:pt x="869367" y="1247344"/>
                  </a:lnTo>
                  <a:lnTo>
                    <a:pt x="1035805" y="1247344"/>
                  </a:lnTo>
                  <a:lnTo>
                    <a:pt x="1040109" y="1247002"/>
                  </a:lnTo>
                  <a:lnTo>
                    <a:pt x="1044411" y="1246489"/>
                  </a:lnTo>
                  <a:lnTo>
                    <a:pt x="1048370" y="1245634"/>
                  </a:lnTo>
                  <a:lnTo>
                    <a:pt x="1052329" y="1244267"/>
                  </a:lnTo>
                  <a:lnTo>
                    <a:pt x="1056115" y="1242557"/>
                  </a:lnTo>
                  <a:lnTo>
                    <a:pt x="1059730" y="1240676"/>
                  </a:lnTo>
                  <a:lnTo>
                    <a:pt x="1063000" y="1238283"/>
                  </a:lnTo>
                  <a:lnTo>
                    <a:pt x="1065926" y="1235890"/>
                  </a:lnTo>
                  <a:lnTo>
                    <a:pt x="1068680" y="1232984"/>
                  </a:lnTo>
                  <a:lnTo>
                    <a:pt x="1071089" y="1229907"/>
                  </a:lnTo>
                  <a:lnTo>
                    <a:pt x="1073327" y="1226659"/>
                  </a:lnTo>
                  <a:lnTo>
                    <a:pt x="1075048" y="1223240"/>
                  </a:lnTo>
                  <a:lnTo>
                    <a:pt x="1076597" y="1219650"/>
                  </a:lnTo>
                  <a:lnTo>
                    <a:pt x="1077458" y="1215889"/>
                  </a:lnTo>
                  <a:lnTo>
                    <a:pt x="1078318" y="1211957"/>
                  </a:lnTo>
                  <a:lnTo>
                    <a:pt x="1078490" y="1207854"/>
                  </a:lnTo>
                  <a:lnTo>
                    <a:pt x="1078318" y="1205290"/>
                  </a:lnTo>
                  <a:lnTo>
                    <a:pt x="1077974" y="1202555"/>
                  </a:lnTo>
                  <a:lnTo>
                    <a:pt x="1077458" y="1200161"/>
                  </a:lnTo>
                  <a:lnTo>
                    <a:pt x="1076941" y="1197598"/>
                  </a:lnTo>
                  <a:lnTo>
                    <a:pt x="1076081" y="1195204"/>
                  </a:lnTo>
                  <a:lnTo>
                    <a:pt x="1075220" y="1192640"/>
                  </a:lnTo>
                  <a:lnTo>
                    <a:pt x="1074015" y="1190418"/>
                  </a:lnTo>
                  <a:lnTo>
                    <a:pt x="1072638" y="1188366"/>
                  </a:lnTo>
                  <a:lnTo>
                    <a:pt x="1840972" y="1188366"/>
                  </a:lnTo>
                  <a:lnTo>
                    <a:pt x="1844243" y="1188366"/>
                  </a:lnTo>
                  <a:lnTo>
                    <a:pt x="1847513" y="1188538"/>
                  </a:lnTo>
                  <a:lnTo>
                    <a:pt x="1850783" y="1188879"/>
                  </a:lnTo>
                  <a:lnTo>
                    <a:pt x="1853881" y="1189392"/>
                  </a:lnTo>
                  <a:lnTo>
                    <a:pt x="1856980" y="1190076"/>
                  </a:lnTo>
                  <a:lnTo>
                    <a:pt x="1859906" y="1190930"/>
                  </a:lnTo>
                  <a:lnTo>
                    <a:pt x="1863003" y="1191956"/>
                  </a:lnTo>
                  <a:lnTo>
                    <a:pt x="1865929" y="1192811"/>
                  </a:lnTo>
                  <a:lnTo>
                    <a:pt x="1868855" y="1194007"/>
                  </a:lnTo>
                  <a:lnTo>
                    <a:pt x="1871437" y="1195375"/>
                  </a:lnTo>
                  <a:lnTo>
                    <a:pt x="1874191" y="1196914"/>
                  </a:lnTo>
                  <a:lnTo>
                    <a:pt x="1876601" y="1198453"/>
                  </a:lnTo>
                  <a:lnTo>
                    <a:pt x="1879355" y="1199820"/>
                  </a:lnTo>
                  <a:lnTo>
                    <a:pt x="1881592" y="1201871"/>
                  </a:lnTo>
                  <a:lnTo>
                    <a:pt x="1884002" y="1203580"/>
                  </a:lnTo>
                  <a:lnTo>
                    <a:pt x="1886240" y="1205632"/>
                  </a:lnTo>
                  <a:lnTo>
                    <a:pt x="1888305" y="1207513"/>
                  </a:lnTo>
                  <a:lnTo>
                    <a:pt x="1890198" y="1209735"/>
                  </a:lnTo>
                  <a:lnTo>
                    <a:pt x="1892092" y="1211957"/>
                  </a:lnTo>
                  <a:lnTo>
                    <a:pt x="1894157" y="1214350"/>
                  </a:lnTo>
                  <a:lnTo>
                    <a:pt x="1895534" y="1216573"/>
                  </a:lnTo>
                  <a:lnTo>
                    <a:pt x="1897083" y="1219137"/>
                  </a:lnTo>
                  <a:lnTo>
                    <a:pt x="1898632" y="1221701"/>
                  </a:lnTo>
                  <a:lnTo>
                    <a:pt x="1899837" y="1224265"/>
                  </a:lnTo>
                  <a:lnTo>
                    <a:pt x="1901042" y="1227172"/>
                  </a:lnTo>
                  <a:lnTo>
                    <a:pt x="1902074" y="1229736"/>
                  </a:lnTo>
                  <a:lnTo>
                    <a:pt x="1902935" y="1232642"/>
                  </a:lnTo>
                  <a:lnTo>
                    <a:pt x="1903623" y="1235549"/>
                  </a:lnTo>
                  <a:lnTo>
                    <a:pt x="1904139" y="1238283"/>
                  </a:lnTo>
                  <a:lnTo>
                    <a:pt x="1904656" y="1241360"/>
                  </a:lnTo>
                  <a:lnTo>
                    <a:pt x="1904828" y="1244267"/>
                  </a:lnTo>
                  <a:lnTo>
                    <a:pt x="1905000" y="1247344"/>
                  </a:lnTo>
                  <a:lnTo>
                    <a:pt x="1905000" y="1296748"/>
                  </a:lnTo>
                  <a:lnTo>
                    <a:pt x="1904828" y="1299825"/>
                  </a:lnTo>
                  <a:lnTo>
                    <a:pt x="1904656" y="1302560"/>
                  </a:lnTo>
                  <a:lnTo>
                    <a:pt x="1904139" y="1305637"/>
                  </a:lnTo>
                  <a:lnTo>
                    <a:pt x="1903623" y="1308544"/>
                  </a:lnTo>
                  <a:lnTo>
                    <a:pt x="1902935" y="1311449"/>
                  </a:lnTo>
                  <a:lnTo>
                    <a:pt x="1902074" y="1314185"/>
                  </a:lnTo>
                  <a:lnTo>
                    <a:pt x="1901042" y="1316920"/>
                  </a:lnTo>
                  <a:lnTo>
                    <a:pt x="1899837" y="1319826"/>
                  </a:lnTo>
                  <a:lnTo>
                    <a:pt x="1898632" y="1322219"/>
                  </a:lnTo>
                  <a:lnTo>
                    <a:pt x="1897083" y="1324955"/>
                  </a:lnTo>
                  <a:lnTo>
                    <a:pt x="1895534" y="1327348"/>
                  </a:lnTo>
                  <a:lnTo>
                    <a:pt x="1894157" y="1329570"/>
                  </a:lnTo>
                  <a:lnTo>
                    <a:pt x="1892092" y="1332134"/>
                  </a:lnTo>
                  <a:lnTo>
                    <a:pt x="1890198" y="1334186"/>
                  </a:lnTo>
                  <a:lnTo>
                    <a:pt x="1888305" y="1336579"/>
                  </a:lnTo>
                  <a:lnTo>
                    <a:pt x="1886240" y="1338459"/>
                  </a:lnTo>
                  <a:lnTo>
                    <a:pt x="1884002" y="1340511"/>
                  </a:lnTo>
                  <a:lnTo>
                    <a:pt x="1881592" y="1342220"/>
                  </a:lnTo>
                  <a:lnTo>
                    <a:pt x="1879355" y="1344101"/>
                  </a:lnTo>
                  <a:lnTo>
                    <a:pt x="1876601" y="1345639"/>
                  </a:lnTo>
                  <a:lnTo>
                    <a:pt x="1874191" y="1347178"/>
                  </a:lnTo>
                  <a:lnTo>
                    <a:pt x="1871437" y="1348716"/>
                  </a:lnTo>
                  <a:lnTo>
                    <a:pt x="1868855" y="1350084"/>
                  </a:lnTo>
                  <a:lnTo>
                    <a:pt x="1865929" y="1351109"/>
                  </a:lnTo>
                  <a:lnTo>
                    <a:pt x="1863003" y="1352136"/>
                  </a:lnTo>
                  <a:lnTo>
                    <a:pt x="1859906" y="1352990"/>
                  </a:lnTo>
                  <a:lnTo>
                    <a:pt x="1856980" y="1354016"/>
                  </a:lnTo>
                  <a:lnTo>
                    <a:pt x="1853881" y="1354528"/>
                  </a:lnTo>
                  <a:lnTo>
                    <a:pt x="1850783" y="1355212"/>
                  </a:lnTo>
                  <a:lnTo>
                    <a:pt x="1847513" y="1355555"/>
                  </a:lnTo>
                  <a:lnTo>
                    <a:pt x="1844243" y="1355725"/>
                  </a:lnTo>
                  <a:lnTo>
                    <a:pt x="1840972" y="1355725"/>
                  </a:lnTo>
                  <a:lnTo>
                    <a:pt x="64028" y="1355725"/>
                  </a:lnTo>
                  <a:lnTo>
                    <a:pt x="60758" y="1355725"/>
                  </a:lnTo>
                  <a:lnTo>
                    <a:pt x="57488" y="1355555"/>
                  </a:lnTo>
                  <a:lnTo>
                    <a:pt x="54217" y="1355212"/>
                  </a:lnTo>
                  <a:lnTo>
                    <a:pt x="51119" y="1354528"/>
                  </a:lnTo>
                  <a:lnTo>
                    <a:pt x="48193" y="1354016"/>
                  </a:lnTo>
                  <a:lnTo>
                    <a:pt x="45095" y="1352990"/>
                  </a:lnTo>
                  <a:lnTo>
                    <a:pt x="42169" y="1352136"/>
                  </a:lnTo>
                  <a:lnTo>
                    <a:pt x="39071" y="1351109"/>
                  </a:lnTo>
                  <a:lnTo>
                    <a:pt x="36489" y="1350084"/>
                  </a:lnTo>
                  <a:lnTo>
                    <a:pt x="33563" y="1348716"/>
                  </a:lnTo>
                  <a:lnTo>
                    <a:pt x="30809" y="1347178"/>
                  </a:lnTo>
                  <a:lnTo>
                    <a:pt x="28399" y="1345639"/>
                  </a:lnTo>
                  <a:lnTo>
                    <a:pt x="25646" y="1344101"/>
                  </a:lnTo>
                  <a:lnTo>
                    <a:pt x="23408" y="1342220"/>
                  </a:lnTo>
                  <a:lnTo>
                    <a:pt x="21171" y="1340511"/>
                  </a:lnTo>
                  <a:lnTo>
                    <a:pt x="18761" y="1338459"/>
                  </a:lnTo>
                  <a:lnTo>
                    <a:pt x="16696" y="1336579"/>
                  </a:lnTo>
                  <a:lnTo>
                    <a:pt x="14803" y="1334186"/>
                  </a:lnTo>
                  <a:lnTo>
                    <a:pt x="12909" y="1332134"/>
                  </a:lnTo>
                  <a:lnTo>
                    <a:pt x="11016" y="1329570"/>
                  </a:lnTo>
                  <a:lnTo>
                    <a:pt x="9467" y="1327348"/>
                  </a:lnTo>
                  <a:lnTo>
                    <a:pt x="7918" y="1324955"/>
                  </a:lnTo>
                  <a:lnTo>
                    <a:pt x="6368" y="1322219"/>
                  </a:lnTo>
                  <a:lnTo>
                    <a:pt x="5164" y="1319826"/>
                  </a:lnTo>
                  <a:lnTo>
                    <a:pt x="4131" y="1316920"/>
                  </a:lnTo>
                  <a:lnTo>
                    <a:pt x="2926" y="1314185"/>
                  </a:lnTo>
                  <a:lnTo>
                    <a:pt x="2238" y="1311449"/>
                  </a:lnTo>
                  <a:lnTo>
                    <a:pt x="1377" y="1308544"/>
                  </a:lnTo>
                  <a:lnTo>
                    <a:pt x="861" y="1305637"/>
                  </a:lnTo>
                  <a:lnTo>
                    <a:pt x="516" y="1302560"/>
                  </a:lnTo>
                  <a:lnTo>
                    <a:pt x="173" y="1299825"/>
                  </a:lnTo>
                  <a:lnTo>
                    <a:pt x="0" y="1296748"/>
                  </a:lnTo>
                  <a:lnTo>
                    <a:pt x="0" y="1247344"/>
                  </a:lnTo>
                  <a:lnTo>
                    <a:pt x="173" y="1244267"/>
                  </a:lnTo>
                  <a:lnTo>
                    <a:pt x="516" y="1241360"/>
                  </a:lnTo>
                  <a:lnTo>
                    <a:pt x="861" y="1238283"/>
                  </a:lnTo>
                  <a:lnTo>
                    <a:pt x="1377" y="1235549"/>
                  </a:lnTo>
                  <a:lnTo>
                    <a:pt x="2238" y="1232642"/>
                  </a:lnTo>
                  <a:lnTo>
                    <a:pt x="2926" y="1229736"/>
                  </a:lnTo>
                  <a:lnTo>
                    <a:pt x="4131" y="1227172"/>
                  </a:lnTo>
                  <a:lnTo>
                    <a:pt x="5164" y="1224265"/>
                  </a:lnTo>
                  <a:lnTo>
                    <a:pt x="6368" y="1221701"/>
                  </a:lnTo>
                  <a:lnTo>
                    <a:pt x="7918" y="1219137"/>
                  </a:lnTo>
                  <a:lnTo>
                    <a:pt x="9467" y="1216573"/>
                  </a:lnTo>
                  <a:lnTo>
                    <a:pt x="11016" y="1214350"/>
                  </a:lnTo>
                  <a:lnTo>
                    <a:pt x="12909" y="1211957"/>
                  </a:lnTo>
                  <a:lnTo>
                    <a:pt x="14803" y="1209735"/>
                  </a:lnTo>
                  <a:lnTo>
                    <a:pt x="16696" y="1207513"/>
                  </a:lnTo>
                  <a:lnTo>
                    <a:pt x="18761" y="1205632"/>
                  </a:lnTo>
                  <a:lnTo>
                    <a:pt x="21171" y="1203580"/>
                  </a:lnTo>
                  <a:lnTo>
                    <a:pt x="23408" y="1201871"/>
                  </a:lnTo>
                  <a:lnTo>
                    <a:pt x="25646" y="1199820"/>
                  </a:lnTo>
                  <a:lnTo>
                    <a:pt x="28399" y="1198453"/>
                  </a:lnTo>
                  <a:lnTo>
                    <a:pt x="30809" y="1196914"/>
                  </a:lnTo>
                  <a:lnTo>
                    <a:pt x="33563" y="1195375"/>
                  </a:lnTo>
                  <a:lnTo>
                    <a:pt x="36489" y="1194007"/>
                  </a:lnTo>
                  <a:lnTo>
                    <a:pt x="39071" y="1192811"/>
                  </a:lnTo>
                  <a:lnTo>
                    <a:pt x="42169" y="1191956"/>
                  </a:lnTo>
                  <a:lnTo>
                    <a:pt x="45095" y="1190930"/>
                  </a:lnTo>
                  <a:lnTo>
                    <a:pt x="48193" y="1190076"/>
                  </a:lnTo>
                  <a:lnTo>
                    <a:pt x="51119" y="1189392"/>
                  </a:lnTo>
                  <a:lnTo>
                    <a:pt x="54217" y="1188879"/>
                  </a:lnTo>
                  <a:lnTo>
                    <a:pt x="57488" y="1188538"/>
                  </a:lnTo>
                  <a:close/>
                  <a:moveTo>
                    <a:pt x="174199" y="69317"/>
                  </a:moveTo>
                  <a:lnTo>
                    <a:pt x="171272" y="69489"/>
                  </a:lnTo>
                  <a:lnTo>
                    <a:pt x="168346" y="69661"/>
                  </a:lnTo>
                  <a:lnTo>
                    <a:pt x="165764" y="69833"/>
                  </a:lnTo>
                  <a:lnTo>
                    <a:pt x="162838" y="70349"/>
                  </a:lnTo>
                  <a:lnTo>
                    <a:pt x="160084" y="71037"/>
                  </a:lnTo>
                  <a:lnTo>
                    <a:pt x="157502" y="71725"/>
                  </a:lnTo>
                  <a:lnTo>
                    <a:pt x="154920" y="72585"/>
                  </a:lnTo>
                  <a:lnTo>
                    <a:pt x="152338" y="73445"/>
                  </a:lnTo>
                  <a:lnTo>
                    <a:pt x="149756" y="74477"/>
                  </a:lnTo>
                  <a:lnTo>
                    <a:pt x="147518" y="75509"/>
                  </a:lnTo>
                  <a:lnTo>
                    <a:pt x="145281" y="76885"/>
                  </a:lnTo>
                  <a:lnTo>
                    <a:pt x="142871" y="78261"/>
                  </a:lnTo>
                  <a:lnTo>
                    <a:pt x="140633" y="79637"/>
                  </a:lnTo>
                  <a:lnTo>
                    <a:pt x="138567" y="81358"/>
                  </a:lnTo>
                  <a:lnTo>
                    <a:pt x="136330" y="82905"/>
                  </a:lnTo>
                  <a:lnTo>
                    <a:pt x="134436" y="84626"/>
                  </a:lnTo>
                  <a:lnTo>
                    <a:pt x="132714" y="86517"/>
                  </a:lnTo>
                  <a:lnTo>
                    <a:pt x="130821" y="88409"/>
                  </a:lnTo>
                  <a:lnTo>
                    <a:pt x="129272" y="90301"/>
                  </a:lnTo>
                  <a:lnTo>
                    <a:pt x="127723" y="92365"/>
                  </a:lnTo>
                  <a:lnTo>
                    <a:pt x="126346" y="94429"/>
                  </a:lnTo>
                  <a:lnTo>
                    <a:pt x="124969" y="96666"/>
                  </a:lnTo>
                  <a:lnTo>
                    <a:pt x="123592" y="98902"/>
                  </a:lnTo>
                  <a:lnTo>
                    <a:pt x="122559" y="101138"/>
                  </a:lnTo>
                  <a:lnTo>
                    <a:pt x="121526" y="103546"/>
                  </a:lnTo>
                  <a:lnTo>
                    <a:pt x="120665" y="105954"/>
                  </a:lnTo>
                  <a:lnTo>
                    <a:pt x="119977" y="108534"/>
                  </a:lnTo>
                  <a:lnTo>
                    <a:pt x="119116" y="110942"/>
                  </a:lnTo>
                  <a:lnTo>
                    <a:pt x="118772" y="113522"/>
                  </a:lnTo>
                  <a:lnTo>
                    <a:pt x="118428" y="116101"/>
                  </a:lnTo>
                  <a:lnTo>
                    <a:pt x="118255" y="118854"/>
                  </a:lnTo>
                  <a:lnTo>
                    <a:pt x="118255" y="121434"/>
                  </a:lnTo>
                  <a:lnTo>
                    <a:pt x="118255" y="1008795"/>
                  </a:lnTo>
                  <a:lnTo>
                    <a:pt x="118255" y="1011375"/>
                  </a:lnTo>
                  <a:lnTo>
                    <a:pt x="118428" y="1014128"/>
                  </a:lnTo>
                  <a:lnTo>
                    <a:pt x="118772" y="1016708"/>
                  </a:lnTo>
                  <a:lnTo>
                    <a:pt x="119116" y="1019287"/>
                  </a:lnTo>
                  <a:lnTo>
                    <a:pt x="119977" y="1022040"/>
                  </a:lnTo>
                  <a:lnTo>
                    <a:pt x="120665" y="1024275"/>
                  </a:lnTo>
                  <a:lnTo>
                    <a:pt x="121526" y="1026683"/>
                  </a:lnTo>
                  <a:lnTo>
                    <a:pt x="122559" y="1029264"/>
                  </a:lnTo>
                  <a:lnTo>
                    <a:pt x="123592" y="1031500"/>
                  </a:lnTo>
                  <a:lnTo>
                    <a:pt x="124969" y="1033564"/>
                  </a:lnTo>
                  <a:lnTo>
                    <a:pt x="126346" y="1035972"/>
                  </a:lnTo>
                  <a:lnTo>
                    <a:pt x="127723" y="1038036"/>
                  </a:lnTo>
                  <a:lnTo>
                    <a:pt x="129272" y="1040099"/>
                  </a:lnTo>
                  <a:lnTo>
                    <a:pt x="130821" y="1041992"/>
                  </a:lnTo>
                  <a:lnTo>
                    <a:pt x="132714" y="1044056"/>
                  </a:lnTo>
                  <a:lnTo>
                    <a:pt x="134436" y="1045776"/>
                  </a:lnTo>
                  <a:lnTo>
                    <a:pt x="136330" y="1047496"/>
                  </a:lnTo>
                  <a:lnTo>
                    <a:pt x="138567" y="1049216"/>
                  </a:lnTo>
                  <a:lnTo>
                    <a:pt x="140633" y="1050592"/>
                  </a:lnTo>
                  <a:lnTo>
                    <a:pt x="142871" y="1052140"/>
                  </a:lnTo>
                  <a:lnTo>
                    <a:pt x="145281" y="1053516"/>
                  </a:lnTo>
                  <a:lnTo>
                    <a:pt x="147518" y="1054720"/>
                  </a:lnTo>
                  <a:lnTo>
                    <a:pt x="149756" y="1055924"/>
                  </a:lnTo>
                  <a:lnTo>
                    <a:pt x="152338" y="1056956"/>
                  </a:lnTo>
                  <a:lnTo>
                    <a:pt x="154920" y="1057988"/>
                  </a:lnTo>
                  <a:lnTo>
                    <a:pt x="157502" y="1058676"/>
                  </a:lnTo>
                  <a:lnTo>
                    <a:pt x="160084" y="1059536"/>
                  </a:lnTo>
                  <a:lnTo>
                    <a:pt x="162838" y="1060052"/>
                  </a:lnTo>
                  <a:lnTo>
                    <a:pt x="165764" y="1060396"/>
                  </a:lnTo>
                  <a:lnTo>
                    <a:pt x="168346" y="1060740"/>
                  </a:lnTo>
                  <a:lnTo>
                    <a:pt x="171272" y="1061084"/>
                  </a:lnTo>
                  <a:lnTo>
                    <a:pt x="174199" y="1061084"/>
                  </a:lnTo>
                  <a:lnTo>
                    <a:pt x="1730801" y="1061084"/>
                  </a:lnTo>
                  <a:lnTo>
                    <a:pt x="1733727" y="1061084"/>
                  </a:lnTo>
                  <a:lnTo>
                    <a:pt x="1736653" y="1060740"/>
                  </a:lnTo>
                  <a:lnTo>
                    <a:pt x="1739408" y="1060396"/>
                  </a:lnTo>
                  <a:lnTo>
                    <a:pt x="1742162" y="1060052"/>
                  </a:lnTo>
                  <a:lnTo>
                    <a:pt x="1745088" y="1059536"/>
                  </a:lnTo>
                  <a:lnTo>
                    <a:pt x="1747670" y="1058676"/>
                  </a:lnTo>
                  <a:lnTo>
                    <a:pt x="1750252" y="1057988"/>
                  </a:lnTo>
                  <a:lnTo>
                    <a:pt x="1752834" y="1056956"/>
                  </a:lnTo>
                  <a:lnTo>
                    <a:pt x="1755244" y="1055924"/>
                  </a:lnTo>
                  <a:lnTo>
                    <a:pt x="1757654" y="1054720"/>
                  </a:lnTo>
                  <a:lnTo>
                    <a:pt x="1760064" y="1053516"/>
                  </a:lnTo>
                  <a:lnTo>
                    <a:pt x="1762301" y="1052140"/>
                  </a:lnTo>
                  <a:lnTo>
                    <a:pt x="1764539" y="1050592"/>
                  </a:lnTo>
                  <a:lnTo>
                    <a:pt x="1766605" y="1049216"/>
                  </a:lnTo>
                  <a:lnTo>
                    <a:pt x="1768670" y="1047496"/>
                  </a:lnTo>
                  <a:lnTo>
                    <a:pt x="1770736" y="1045776"/>
                  </a:lnTo>
                  <a:lnTo>
                    <a:pt x="1772458" y="1044056"/>
                  </a:lnTo>
                  <a:lnTo>
                    <a:pt x="1774350" y="1041992"/>
                  </a:lnTo>
                  <a:lnTo>
                    <a:pt x="1775900" y="1040099"/>
                  </a:lnTo>
                  <a:lnTo>
                    <a:pt x="1777449" y="1038036"/>
                  </a:lnTo>
                  <a:lnTo>
                    <a:pt x="1778998" y="1035972"/>
                  </a:lnTo>
                  <a:lnTo>
                    <a:pt x="1780203" y="1033564"/>
                  </a:lnTo>
                  <a:lnTo>
                    <a:pt x="1781580" y="1031500"/>
                  </a:lnTo>
                  <a:lnTo>
                    <a:pt x="1782613" y="1029264"/>
                  </a:lnTo>
                  <a:lnTo>
                    <a:pt x="1783818" y="1026683"/>
                  </a:lnTo>
                  <a:lnTo>
                    <a:pt x="1784507" y="1024275"/>
                  </a:lnTo>
                  <a:lnTo>
                    <a:pt x="1785195" y="1022040"/>
                  </a:lnTo>
                  <a:lnTo>
                    <a:pt x="1785884" y="1019287"/>
                  </a:lnTo>
                  <a:lnTo>
                    <a:pt x="1786400" y="1016708"/>
                  </a:lnTo>
                  <a:lnTo>
                    <a:pt x="1786744" y="1014128"/>
                  </a:lnTo>
                  <a:lnTo>
                    <a:pt x="1786917" y="1011375"/>
                  </a:lnTo>
                  <a:lnTo>
                    <a:pt x="1786917" y="1008795"/>
                  </a:lnTo>
                  <a:lnTo>
                    <a:pt x="1786917" y="121434"/>
                  </a:lnTo>
                  <a:lnTo>
                    <a:pt x="1786917" y="118854"/>
                  </a:lnTo>
                  <a:lnTo>
                    <a:pt x="1786744" y="116101"/>
                  </a:lnTo>
                  <a:lnTo>
                    <a:pt x="1786400" y="113522"/>
                  </a:lnTo>
                  <a:lnTo>
                    <a:pt x="1785884" y="110942"/>
                  </a:lnTo>
                  <a:lnTo>
                    <a:pt x="1785195" y="108534"/>
                  </a:lnTo>
                  <a:lnTo>
                    <a:pt x="1784507" y="105954"/>
                  </a:lnTo>
                  <a:lnTo>
                    <a:pt x="1783818" y="103546"/>
                  </a:lnTo>
                  <a:lnTo>
                    <a:pt x="1782613" y="101138"/>
                  </a:lnTo>
                  <a:lnTo>
                    <a:pt x="1781580" y="98902"/>
                  </a:lnTo>
                  <a:lnTo>
                    <a:pt x="1780203" y="96666"/>
                  </a:lnTo>
                  <a:lnTo>
                    <a:pt x="1778998" y="94429"/>
                  </a:lnTo>
                  <a:lnTo>
                    <a:pt x="1777449" y="92365"/>
                  </a:lnTo>
                  <a:lnTo>
                    <a:pt x="1775900" y="90301"/>
                  </a:lnTo>
                  <a:lnTo>
                    <a:pt x="1774350" y="88409"/>
                  </a:lnTo>
                  <a:lnTo>
                    <a:pt x="1772458" y="86517"/>
                  </a:lnTo>
                  <a:lnTo>
                    <a:pt x="1770736" y="84626"/>
                  </a:lnTo>
                  <a:lnTo>
                    <a:pt x="1768670" y="82905"/>
                  </a:lnTo>
                  <a:lnTo>
                    <a:pt x="1766605" y="81358"/>
                  </a:lnTo>
                  <a:lnTo>
                    <a:pt x="1764539" y="79637"/>
                  </a:lnTo>
                  <a:lnTo>
                    <a:pt x="1762301" y="78261"/>
                  </a:lnTo>
                  <a:lnTo>
                    <a:pt x="1760064" y="76885"/>
                  </a:lnTo>
                  <a:lnTo>
                    <a:pt x="1757654" y="75509"/>
                  </a:lnTo>
                  <a:lnTo>
                    <a:pt x="1755244" y="74477"/>
                  </a:lnTo>
                  <a:lnTo>
                    <a:pt x="1752834" y="73445"/>
                  </a:lnTo>
                  <a:lnTo>
                    <a:pt x="1750252" y="72585"/>
                  </a:lnTo>
                  <a:lnTo>
                    <a:pt x="1747670" y="71725"/>
                  </a:lnTo>
                  <a:lnTo>
                    <a:pt x="1745088" y="71037"/>
                  </a:lnTo>
                  <a:lnTo>
                    <a:pt x="1742162" y="70349"/>
                  </a:lnTo>
                  <a:lnTo>
                    <a:pt x="1739408" y="69833"/>
                  </a:lnTo>
                  <a:lnTo>
                    <a:pt x="1736653" y="69661"/>
                  </a:lnTo>
                  <a:lnTo>
                    <a:pt x="1733727" y="69489"/>
                  </a:lnTo>
                  <a:lnTo>
                    <a:pt x="1730801" y="69317"/>
                  </a:lnTo>
                  <a:close/>
                  <a:moveTo>
                    <a:pt x="61968" y="0"/>
                  </a:moveTo>
                  <a:lnTo>
                    <a:pt x="65410" y="0"/>
                  </a:lnTo>
                  <a:lnTo>
                    <a:pt x="1839934" y="0"/>
                  </a:lnTo>
                  <a:lnTo>
                    <a:pt x="1843376" y="0"/>
                  </a:lnTo>
                  <a:lnTo>
                    <a:pt x="1846474" y="172"/>
                  </a:lnTo>
                  <a:lnTo>
                    <a:pt x="1849573" y="516"/>
                  </a:lnTo>
                  <a:lnTo>
                    <a:pt x="1852844" y="1032"/>
                  </a:lnTo>
                  <a:lnTo>
                    <a:pt x="1855942" y="1720"/>
                  </a:lnTo>
                  <a:lnTo>
                    <a:pt x="1859040" y="2580"/>
                  </a:lnTo>
                  <a:lnTo>
                    <a:pt x="1861794" y="3440"/>
                  </a:lnTo>
                  <a:lnTo>
                    <a:pt x="1864721" y="4472"/>
                  </a:lnTo>
                  <a:lnTo>
                    <a:pt x="1867647" y="5676"/>
                  </a:lnTo>
                  <a:lnTo>
                    <a:pt x="1870573" y="7052"/>
                  </a:lnTo>
                  <a:lnTo>
                    <a:pt x="1873155" y="8600"/>
                  </a:lnTo>
                  <a:lnTo>
                    <a:pt x="1875737" y="10148"/>
                  </a:lnTo>
                  <a:lnTo>
                    <a:pt x="1878147" y="11696"/>
                  </a:lnTo>
                  <a:lnTo>
                    <a:pt x="1880729" y="13588"/>
                  </a:lnTo>
                  <a:lnTo>
                    <a:pt x="1882967" y="15308"/>
                  </a:lnTo>
                  <a:lnTo>
                    <a:pt x="1885204" y="17372"/>
                  </a:lnTo>
                  <a:lnTo>
                    <a:pt x="1887270" y="19264"/>
                  </a:lnTo>
                  <a:lnTo>
                    <a:pt x="1889336" y="21500"/>
                  </a:lnTo>
                  <a:lnTo>
                    <a:pt x="1891229" y="23736"/>
                  </a:lnTo>
                  <a:lnTo>
                    <a:pt x="1892951" y="26144"/>
                  </a:lnTo>
                  <a:lnTo>
                    <a:pt x="1894672" y="28552"/>
                  </a:lnTo>
                  <a:lnTo>
                    <a:pt x="1896221" y="30960"/>
                  </a:lnTo>
                  <a:lnTo>
                    <a:pt x="1897426" y="33713"/>
                  </a:lnTo>
                  <a:lnTo>
                    <a:pt x="1898803" y="36121"/>
                  </a:lnTo>
                  <a:lnTo>
                    <a:pt x="1900008" y="39044"/>
                  </a:lnTo>
                  <a:lnTo>
                    <a:pt x="1900869" y="41625"/>
                  </a:lnTo>
                  <a:lnTo>
                    <a:pt x="1901901" y="44548"/>
                  </a:lnTo>
                  <a:lnTo>
                    <a:pt x="1902590" y="47473"/>
                  </a:lnTo>
                  <a:lnTo>
                    <a:pt x="1903106" y="50224"/>
                  </a:lnTo>
                  <a:lnTo>
                    <a:pt x="1903623" y="53321"/>
                  </a:lnTo>
                  <a:lnTo>
                    <a:pt x="1903795" y="56245"/>
                  </a:lnTo>
                  <a:lnTo>
                    <a:pt x="1903795" y="59341"/>
                  </a:lnTo>
                  <a:lnTo>
                    <a:pt x="1903795" y="1070888"/>
                  </a:lnTo>
                  <a:lnTo>
                    <a:pt x="1903795" y="1073984"/>
                  </a:lnTo>
                  <a:lnTo>
                    <a:pt x="1903623" y="1077080"/>
                  </a:lnTo>
                  <a:lnTo>
                    <a:pt x="1903106" y="1080005"/>
                  </a:lnTo>
                  <a:lnTo>
                    <a:pt x="1902590" y="1082756"/>
                  </a:lnTo>
                  <a:lnTo>
                    <a:pt x="1901901" y="1085681"/>
                  </a:lnTo>
                  <a:lnTo>
                    <a:pt x="1900869" y="1088604"/>
                  </a:lnTo>
                  <a:lnTo>
                    <a:pt x="1900008" y="1091528"/>
                  </a:lnTo>
                  <a:lnTo>
                    <a:pt x="1898803" y="1094108"/>
                  </a:lnTo>
                  <a:lnTo>
                    <a:pt x="1897426" y="1096861"/>
                  </a:lnTo>
                  <a:lnTo>
                    <a:pt x="1896221" y="1099269"/>
                  </a:lnTo>
                  <a:lnTo>
                    <a:pt x="1894672" y="1101849"/>
                  </a:lnTo>
                  <a:lnTo>
                    <a:pt x="1892951" y="1104257"/>
                  </a:lnTo>
                  <a:lnTo>
                    <a:pt x="1891229" y="1106493"/>
                  </a:lnTo>
                  <a:lnTo>
                    <a:pt x="1889336" y="1108901"/>
                  </a:lnTo>
                  <a:lnTo>
                    <a:pt x="1887270" y="1110965"/>
                  </a:lnTo>
                  <a:lnTo>
                    <a:pt x="1885204" y="1113029"/>
                  </a:lnTo>
                  <a:lnTo>
                    <a:pt x="1882967" y="1114921"/>
                  </a:lnTo>
                  <a:lnTo>
                    <a:pt x="1880729" y="1116985"/>
                  </a:lnTo>
                  <a:lnTo>
                    <a:pt x="1878147" y="1118705"/>
                  </a:lnTo>
                  <a:lnTo>
                    <a:pt x="1875737" y="1120425"/>
                  </a:lnTo>
                  <a:lnTo>
                    <a:pt x="1873155" y="1121801"/>
                  </a:lnTo>
                  <a:lnTo>
                    <a:pt x="1870573" y="1123177"/>
                  </a:lnTo>
                  <a:lnTo>
                    <a:pt x="1867647" y="1124553"/>
                  </a:lnTo>
                  <a:lnTo>
                    <a:pt x="1864721" y="1125757"/>
                  </a:lnTo>
                  <a:lnTo>
                    <a:pt x="1861794" y="1126789"/>
                  </a:lnTo>
                  <a:lnTo>
                    <a:pt x="1859040" y="1127821"/>
                  </a:lnTo>
                  <a:lnTo>
                    <a:pt x="1855942" y="1128509"/>
                  </a:lnTo>
                  <a:lnTo>
                    <a:pt x="1852844" y="1129198"/>
                  </a:lnTo>
                  <a:lnTo>
                    <a:pt x="1849573" y="1129713"/>
                  </a:lnTo>
                  <a:lnTo>
                    <a:pt x="1846474" y="1130057"/>
                  </a:lnTo>
                  <a:lnTo>
                    <a:pt x="1843376" y="1130229"/>
                  </a:lnTo>
                  <a:lnTo>
                    <a:pt x="1839934" y="1130573"/>
                  </a:lnTo>
                  <a:lnTo>
                    <a:pt x="65410" y="1130573"/>
                  </a:lnTo>
                  <a:lnTo>
                    <a:pt x="61968" y="1130229"/>
                  </a:lnTo>
                  <a:lnTo>
                    <a:pt x="58697" y="1130057"/>
                  </a:lnTo>
                  <a:lnTo>
                    <a:pt x="55599" y="1129713"/>
                  </a:lnTo>
                  <a:lnTo>
                    <a:pt x="52328" y="1129198"/>
                  </a:lnTo>
                  <a:lnTo>
                    <a:pt x="49230" y="1128509"/>
                  </a:lnTo>
                  <a:lnTo>
                    <a:pt x="46132" y="1127821"/>
                  </a:lnTo>
                  <a:lnTo>
                    <a:pt x="43378" y="1126789"/>
                  </a:lnTo>
                  <a:lnTo>
                    <a:pt x="40451" y="1125757"/>
                  </a:lnTo>
                  <a:lnTo>
                    <a:pt x="37525" y="1124553"/>
                  </a:lnTo>
                  <a:lnTo>
                    <a:pt x="34771" y="1123177"/>
                  </a:lnTo>
                  <a:lnTo>
                    <a:pt x="32017" y="1121801"/>
                  </a:lnTo>
                  <a:lnTo>
                    <a:pt x="29607" y="1120425"/>
                  </a:lnTo>
                  <a:lnTo>
                    <a:pt x="27025" y="1118705"/>
                  </a:lnTo>
                  <a:lnTo>
                    <a:pt x="24615" y="1116985"/>
                  </a:lnTo>
                  <a:lnTo>
                    <a:pt x="22205" y="1114921"/>
                  </a:lnTo>
                  <a:lnTo>
                    <a:pt x="19968" y="1113029"/>
                  </a:lnTo>
                  <a:lnTo>
                    <a:pt x="17902" y="1110965"/>
                  </a:lnTo>
                  <a:lnTo>
                    <a:pt x="16009" y="1108901"/>
                  </a:lnTo>
                  <a:lnTo>
                    <a:pt x="14115" y="1106493"/>
                  </a:lnTo>
                  <a:lnTo>
                    <a:pt x="12221" y="1104257"/>
                  </a:lnTo>
                  <a:lnTo>
                    <a:pt x="10500" y="1101849"/>
                  </a:lnTo>
                  <a:lnTo>
                    <a:pt x="9123" y="1099269"/>
                  </a:lnTo>
                  <a:lnTo>
                    <a:pt x="7574" y="1096861"/>
                  </a:lnTo>
                  <a:lnTo>
                    <a:pt x="6369" y="1094108"/>
                  </a:lnTo>
                  <a:lnTo>
                    <a:pt x="5164" y="1091528"/>
                  </a:lnTo>
                  <a:lnTo>
                    <a:pt x="4131" y="1088604"/>
                  </a:lnTo>
                  <a:lnTo>
                    <a:pt x="3270" y="1085681"/>
                  </a:lnTo>
                  <a:lnTo>
                    <a:pt x="2582" y="1082756"/>
                  </a:lnTo>
                  <a:lnTo>
                    <a:pt x="1893" y="1080005"/>
                  </a:lnTo>
                  <a:lnTo>
                    <a:pt x="1549" y="1077080"/>
                  </a:lnTo>
                  <a:lnTo>
                    <a:pt x="1377" y="1073984"/>
                  </a:lnTo>
                  <a:lnTo>
                    <a:pt x="1205" y="1070888"/>
                  </a:lnTo>
                  <a:lnTo>
                    <a:pt x="1205" y="59341"/>
                  </a:lnTo>
                  <a:lnTo>
                    <a:pt x="1377" y="56245"/>
                  </a:lnTo>
                  <a:lnTo>
                    <a:pt x="1549" y="53321"/>
                  </a:lnTo>
                  <a:lnTo>
                    <a:pt x="1893" y="50224"/>
                  </a:lnTo>
                  <a:lnTo>
                    <a:pt x="2582" y="47473"/>
                  </a:lnTo>
                  <a:lnTo>
                    <a:pt x="3270" y="44548"/>
                  </a:lnTo>
                  <a:lnTo>
                    <a:pt x="4131" y="41625"/>
                  </a:lnTo>
                  <a:lnTo>
                    <a:pt x="5164" y="39044"/>
                  </a:lnTo>
                  <a:lnTo>
                    <a:pt x="6369" y="36121"/>
                  </a:lnTo>
                  <a:lnTo>
                    <a:pt x="7574" y="33713"/>
                  </a:lnTo>
                  <a:lnTo>
                    <a:pt x="9123" y="30960"/>
                  </a:lnTo>
                  <a:lnTo>
                    <a:pt x="10500" y="28552"/>
                  </a:lnTo>
                  <a:lnTo>
                    <a:pt x="12221" y="26144"/>
                  </a:lnTo>
                  <a:lnTo>
                    <a:pt x="14115" y="23736"/>
                  </a:lnTo>
                  <a:lnTo>
                    <a:pt x="16009" y="21500"/>
                  </a:lnTo>
                  <a:lnTo>
                    <a:pt x="17902" y="19264"/>
                  </a:lnTo>
                  <a:lnTo>
                    <a:pt x="19968" y="17372"/>
                  </a:lnTo>
                  <a:lnTo>
                    <a:pt x="22205" y="15308"/>
                  </a:lnTo>
                  <a:lnTo>
                    <a:pt x="24615" y="13588"/>
                  </a:lnTo>
                  <a:lnTo>
                    <a:pt x="27025" y="11696"/>
                  </a:lnTo>
                  <a:lnTo>
                    <a:pt x="29607" y="10148"/>
                  </a:lnTo>
                  <a:lnTo>
                    <a:pt x="32017" y="8600"/>
                  </a:lnTo>
                  <a:lnTo>
                    <a:pt x="34771" y="7052"/>
                  </a:lnTo>
                  <a:lnTo>
                    <a:pt x="37525" y="5676"/>
                  </a:lnTo>
                  <a:lnTo>
                    <a:pt x="40451" y="4472"/>
                  </a:lnTo>
                  <a:lnTo>
                    <a:pt x="43378" y="3440"/>
                  </a:lnTo>
                  <a:lnTo>
                    <a:pt x="46132" y="2580"/>
                  </a:lnTo>
                  <a:lnTo>
                    <a:pt x="49230" y="1720"/>
                  </a:lnTo>
                  <a:lnTo>
                    <a:pt x="52328" y="1032"/>
                  </a:lnTo>
                  <a:lnTo>
                    <a:pt x="55599" y="516"/>
                  </a:lnTo>
                  <a:lnTo>
                    <a:pt x="58697" y="172"/>
                  </a:lnTo>
                  <a:close/>
                </a:path>
              </a:pathLst>
            </a:custGeom>
            <a:solidFill>
              <a:srgbClr val="e23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2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73" name="任意多边形 63"/>
            <p:cNvSpPr/>
            <p:nvPr/>
          </p:nvSpPr>
          <p:spPr>
            <a:xfrm flipV="1">
              <a:off x="1919160" y="784440"/>
              <a:ext cx="1005840" cy="1424160"/>
            </a:xfrm>
            <a:custGeom>
              <a:avLst/>
              <a:gdLst>
                <a:gd name="textAreaLeft" fmla="*/ 0 w 1005840"/>
                <a:gd name="textAreaRight" fmla="*/ 1006200 w 1005840"/>
                <a:gd name="textAreaTop" fmla="*/ 360 h 1424160"/>
                <a:gd name="textAreaBottom" fmla="*/ 1424880 h 1424160"/>
              </a:gdLst>
              <a:ahLst/>
              <a:rect l="textAreaLeft" t="textAreaTop" r="textAreaRight" b="textAreaBottom"/>
              <a:pathLst>
                <a:path w="1117600" h="889000">
                  <a:moveTo>
                    <a:pt x="0" y="0"/>
                  </a:moveTo>
                  <a:lnTo>
                    <a:pt x="0" y="889000"/>
                  </a:lnTo>
                  <a:lnTo>
                    <a:pt x="1117600" y="889000"/>
                  </a:lnTo>
                </a:path>
              </a:pathLst>
            </a:custGeom>
            <a:noFill/>
            <a:ln w="28575">
              <a:solidFill>
                <a:srgbClr val="e2375d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74" name="任意多边形 64"/>
            <p:cNvSpPr/>
            <p:nvPr/>
          </p:nvSpPr>
          <p:spPr>
            <a:xfrm flipH="1" flipV="1">
              <a:off x="6211800" y="735120"/>
              <a:ext cx="1005840" cy="1424160"/>
            </a:xfrm>
            <a:custGeom>
              <a:avLst/>
              <a:gdLst>
                <a:gd name="textAreaLeft" fmla="*/ 360 w 1005840"/>
                <a:gd name="textAreaRight" fmla="*/ 1006560 w 1005840"/>
                <a:gd name="textAreaTop" fmla="*/ 360 h 1424160"/>
                <a:gd name="textAreaBottom" fmla="*/ 1424880 h 1424160"/>
              </a:gdLst>
              <a:ahLst/>
              <a:rect l="textAreaLeft" t="textAreaTop" r="textAreaRight" b="textAreaBottom"/>
              <a:pathLst>
                <a:path w="1117600" h="889000">
                  <a:moveTo>
                    <a:pt x="0" y="0"/>
                  </a:moveTo>
                  <a:lnTo>
                    <a:pt x="0" y="889000"/>
                  </a:lnTo>
                  <a:lnTo>
                    <a:pt x="1117600" y="889000"/>
                  </a:lnTo>
                </a:path>
              </a:pathLst>
            </a:custGeom>
            <a:noFill/>
            <a:ln w="28575">
              <a:solidFill>
                <a:srgbClr val="404040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75" name="文本框 23"/>
          <p:cNvSpPr/>
          <p:nvPr/>
        </p:nvSpPr>
        <p:spPr>
          <a:xfrm>
            <a:off x="885240" y="4501080"/>
            <a:ext cx="720612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六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社会环境给你创造了提高能力的机会，一旦遇到好的时代机遇，及时抓住它，成功的可能性将会更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直接连接符 15"/>
          <p:cNvCxnSpPr/>
          <p:nvPr/>
        </p:nvCxnSpPr>
        <p:spPr>
          <a:xfrm>
            <a:off x="1014480" y="207000"/>
            <a:ext cx="721044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19"/>
          <p:cNvSpPr/>
          <p:nvPr/>
        </p:nvSpPr>
        <p:spPr>
          <a:xfrm>
            <a:off x="582840" y="2546280"/>
            <a:ext cx="8019720" cy="457812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478" name="直接连接符 32"/>
          <p:cNvCxnSpPr/>
          <p:nvPr/>
        </p:nvCxnSpPr>
        <p:spPr>
          <a:xfrm>
            <a:off x="1232280" y="4054320"/>
            <a:ext cx="6992640" cy="360"/>
          </a:xfrm>
          <a:prstGeom prst="straightConnector1">
            <a:avLst/>
          </a:prstGeom>
          <a:ln w="28575">
            <a:solidFill>
              <a:srgbClr val="00ada7"/>
            </a:solidFill>
          </a:ln>
        </p:spPr>
      </p:cxnSp>
      <p:sp>
        <p:nvSpPr>
          <p:cNvPr id="479" name="直角三角形 3"/>
          <p:cNvSpPr/>
          <p:nvPr/>
        </p:nvSpPr>
        <p:spPr>
          <a:xfrm>
            <a:off x="1803600" y="323640"/>
            <a:ext cx="418320" cy="209160"/>
          </a:xfrm>
          <a:prstGeom prst="rtTriangle">
            <a:avLst/>
          </a:prstGeom>
          <a:solidFill>
            <a:srgbClr val="656b6e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82840" y="541800"/>
            <a:ext cx="8019720" cy="1805400"/>
          </a:xfrm>
          <a:prstGeom prst="rect">
            <a:avLst/>
          </a:prstGeom>
          <a:solidFill>
            <a:srgbClr val="b7dac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1" name="矩形 10"/>
          <p:cNvSpPr/>
          <p:nvPr/>
        </p:nvSpPr>
        <p:spPr>
          <a:xfrm>
            <a:off x="1014480" y="318600"/>
            <a:ext cx="781920" cy="1182960"/>
          </a:xfrm>
          <a:prstGeom prst="rect">
            <a:avLst/>
          </a:prstGeom>
          <a:solidFill>
            <a:srgbClr val="808c9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2" name="矩形 9"/>
          <p:cNvSpPr/>
          <p:nvPr/>
        </p:nvSpPr>
        <p:spPr>
          <a:xfrm>
            <a:off x="3249000" y="705600"/>
            <a:ext cx="35841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05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互联网创业者的机遇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组合 120"/>
          <p:cNvGrpSpPr/>
          <p:nvPr/>
        </p:nvGrpSpPr>
        <p:grpSpPr>
          <a:xfrm>
            <a:off x="1018440" y="2040480"/>
            <a:ext cx="7206120" cy="789120"/>
            <a:chOff x="1018440" y="2040480"/>
            <a:chExt cx="7206120" cy="789120"/>
          </a:xfrm>
        </p:grpSpPr>
        <p:grpSp>
          <p:nvGrpSpPr>
            <p:cNvPr id="484" name="组合 118"/>
            <p:cNvGrpSpPr/>
            <p:nvPr/>
          </p:nvGrpSpPr>
          <p:grpSpPr>
            <a:xfrm>
              <a:off x="8067600" y="2049840"/>
              <a:ext cx="156960" cy="779760"/>
              <a:chOff x="8067600" y="2049840"/>
              <a:chExt cx="156960" cy="779760"/>
            </a:xfrm>
          </p:grpSpPr>
          <p:sp>
            <p:nvSpPr>
              <p:cNvPr id="485" name="椭圆 110"/>
              <p:cNvSpPr/>
              <p:nvPr/>
            </p:nvSpPr>
            <p:spPr>
              <a:xfrm rot="5400000">
                <a:off x="8067600" y="20498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6" name="椭圆 111"/>
              <p:cNvSpPr/>
              <p:nvPr/>
            </p:nvSpPr>
            <p:spPr>
              <a:xfrm rot="5400000">
                <a:off x="8067600" y="26726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487" name="直接连接符 114"/>
              <p:cNvCxnSpPr/>
              <p:nvPr/>
            </p:nvCxnSpPr>
            <p:spPr>
              <a:xfrm>
                <a:off x="81482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488" name="组合 119"/>
            <p:cNvGrpSpPr/>
            <p:nvPr/>
          </p:nvGrpSpPr>
          <p:grpSpPr>
            <a:xfrm>
              <a:off x="1018440" y="2040480"/>
              <a:ext cx="156960" cy="779760"/>
              <a:chOff x="1018440" y="2040480"/>
              <a:chExt cx="156960" cy="779760"/>
            </a:xfrm>
          </p:grpSpPr>
          <p:grpSp>
            <p:nvGrpSpPr>
              <p:cNvPr id="489" name="组合 112"/>
              <p:cNvGrpSpPr/>
              <p:nvPr/>
            </p:nvGrpSpPr>
            <p:grpSpPr>
              <a:xfrm>
                <a:off x="1018440" y="2040480"/>
                <a:ext cx="156960" cy="779760"/>
                <a:chOff x="1018440" y="2040480"/>
                <a:chExt cx="156960" cy="779760"/>
              </a:xfrm>
            </p:grpSpPr>
            <p:sp>
              <p:nvSpPr>
                <p:cNvPr id="490" name="椭圆 116"/>
                <p:cNvSpPr/>
                <p:nvPr/>
              </p:nvSpPr>
              <p:spPr>
                <a:xfrm rot="5400000">
                  <a:off x="1018440" y="20404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491" name="椭圆 117"/>
                <p:cNvSpPr/>
                <p:nvPr/>
              </p:nvSpPr>
              <p:spPr>
                <a:xfrm rot="5400000">
                  <a:off x="1018440" y="26632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cxnSp>
            <p:nvCxnSpPr>
              <p:cNvPr id="492" name="直接连接符 115"/>
              <p:cNvCxnSpPr/>
              <p:nvPr/>
            </p:nvCxnSpPr>
            <p:spPr>
              <a:xfrm>
                <a:off x="10958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493" name="文本框 109"/>
          <p:cNvSpPr/>
          <p:nvPr/>
        </p:nvSpPr>
        <p:spPr>
          <a:xfrm>
            <a:off x="1232280" y="587520"/>
            <a:ext cx="346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57" descr=""/>
          <p:cNvPicPr/>
          <p:nvPr/>
        </p:nvPicPr>
        <p:blipFill>
          <a:blip r:embed="rId1"/>
          <a:stretch/>
        </p:blipFill>
        <p:spPr>
          <a:xfrm>
            <a:off x="1767960" y="4267080"/>
            <a:ext cx="964800" cy="53208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58" descr=""/>
          <p:cNvPicPr/>
          <p:nvPr/>
        </p:nvPicPr>
        <p:blipFill>
          <a:blip r:embed="rId2"/>
          <a:stretch/>
        </p:blipFill>
        <p:spPr>
          <a:xfrm>
            <a:off x="6337800" y="4204800"/>
            <a:ext cx="1235880" cy="54900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59" descr=""/>
          <p:cNvPicPr/>
          <p:nvPr/>
        </p:nvPicPr>
        <p:blipFill>
          <a:blip r:embed="rId3"/>
          <a:srcRect l="0" t="0" r="0" b="3537"/>
          <a:stretch/>
        </p:blipFill>
        <p:spPr>
          <a:xfrm>
            <a:off x="3370680" y="4253400"/>
            <a:ext cx="902160" cy="486000"/>
          </a:xfrm>
          <a:prstGeom prst="rect">
            <a:avLst/>
          </a:prstGeom>
          <a:ln w="0">
            <a:noFill/>
          </a:ln>
        </p:spPr>
      </p:pic>
      <p:sp>
        <p:nvSpPr>
          <p:cNvPr id="497" name="矩形 60"/>
          <p:cNvSpPr/>
          <p:nvPr/>
        </p:nvSpPr>
        <p:spPr>
          <a:xfrm>
            <a:off x="1518480" y="3382560"/>
            <a:ext cx="1398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98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61"/>
          <p:cNvSpPr/>
          <p:nvPr/>
        </p:nvSpPr>
        <p:spPr>
          <a:xfrm>
            <a:off x="3014640" y="3382560"/>
            <a:ext cx="1399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98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62"/>
          <p:cNvSpPr/>
          <p:nvPr/>
        </p:nvSpPr>
        <p:spPr>
          <a:xfrm>
            <a:off x="6066000" y="3381120"/>
            <a:ext cx="154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98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28"/>
          <p:cNvSpPr/>
          <p:nvPr/>
        </p:nvSpPr>
        <p:spPr>
          <a:xfrm>
            <a:off x="2163600" y="3955680"/>
            <a:ext cx="182520" cy="182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ada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1" name="椭圆 64"/>
          <p:cNvSpPr/>
          <p:nvPr/>
        </p:nvSpPr>
        <p:spPr>
          <a:xfrm>
            <a:off x="3730680" y="3955680"/>
            <a:ext cx="182520" cy="182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ada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2" name="椭圆 65"/>
          <p:cNvSpPr/>
          <p:nvPr/>
        </p:nvSpPr>
        <p:spPr>
          <a:xfrm>
            <a:off x="6864480" y="3973680"/>
            <a:ext cx="182520" cy="182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ada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503" name="图片 4" descr=""/>
          <p:cNvPicPr/>
          <p:nvPr/>
        </p:nvPicPr>
        <p:blipFill>
          <a:blip r:embed="rId4"/>
          <a:stretch/>
        </p:blipFill>
        <p:spPr>
          <a:xfrm>
            <a:off x="4647600" y="4344480"/>
            <a:ext cx="1333080" cy="318240"/>
          </a:xfrm>
          <a:prstGeom prst="rect">
            <a:avLst/>
          </a:prstGeom>
          <a:ln w="0">
            <a:noFill/>
          </a:ln>
        </p:spPr>
      </p:pic>
      <p:sp>
        <p:nvSpPr>
          <p:cNvPr id="504" name="文本框 5"/>
          <p:cNvSpPr/>
          <p:nvPr/>
        </p:nvSpPr>
        <p:spPr>
          <a:xfrm>
            <a:off x="624240" y="3107520"/>
            <a:ext cx="723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ada7"/>
                </a:solidFill>
                <a:latin typeface="Adobe Garamond Pro Bold"/>
                <a:ea typeface="汉仪小麦体简"/>
              </a:rPr>
              <a:t>@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3"/>
          <p:cNvSpPr/>
          <p:nvPr/>
        </p:nvSpPr>
        <p:spPr>
          <a:xfrm>
            <a:off x="4420080" y="3382560"/>
            <a:ext cx="154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98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4"/>
          <p:cNvSpPr/>
          <p:nvPr/>
        </p:nvSpPr>
        <p:spPr>
          <a:xfrm>
            <a:off x="5297400" y="3962160"/>
            <a:ext cx="182520" cy="182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ada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7" name="矩形 38"/>
          <p:cNvSpPr/>
          <p:nvPr/>
        </p:nvSpPr>
        <p:spPr>
          <a:xfrm>
            <a:off x="1613880" y="5546160"/>
            <a:ext cx="6095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为什么这些互联网公司成立于</a:t>
            </a:r>
            <a:r>
              <a:rPr b="0" lang="en-US" sz="24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98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39"/>
          <p:cNvSpPr/>
          <p:nvPr/>
        </p:nvSpPr>
        <p:spPr>
          <a:xfrm>
            <a:off x="1046160" y="5475240"/>
            <a:ext cx="63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  <a:ea typeface="微软雅黑"/>
              </a:rPr>
              <a:t>Q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4"/>
          <p:cNvSpPr/>
          <p:nvPr/>
        </p:nvSpPr>
        <p:spPr>
          <a:xfrm flipV="1">
            <a:off x="582840" y="-915120"/>
            <a:ext cx="8019720" cy="74919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0" name="矩形 84"/>
          <p:cNvSpPr/>
          <p:nvPr/>
        </p:nvSpPr>
        <p:spPr>
          <a:xfrm>
            <a:off x="1004400" y="4133520"/>
            <a:ext cx="7308720" cy="167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11" name="组合 51"/>
          <p:cNvGrpSpPr/>
          <p:nvPr/>
        </p:nvGrpSpPr>
        <p:grpSpPr>
          <a:xfrm>
            <a:off x="6919200" y="19800"/>
            <a:ext cx="1515600" cy="2054160"/>
            <a:chOff x="6919200" y="19800"/>
            <a:chExt cx="1515600" cy="2054160"/>
          </a:xfrm>
        </p:grpSpPr>
        <p:pic>
          <p:nvPicPr>
            <p:cNvPr id="512" name="图片 52" descr=""/>
            <p:cNvPicPr/>
            <p:nvPr/>
          </p:nvPicPr>
          <p:blipFill>
            <a:blip r:embed="rId1"/>
            <a:srcRect l="0" t="0" r="7717" b="0"/>
            <a:stretch/>
          </p:blipFill>
          <p:spPr>
            <a:xfrm>
              <a:off x="7061400" y="19800"/>
              <a:ext cx="114588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文本框 53"/>
            <p:cNvSpPr/>
            <p:nvPr/>
          </p:nvSpPr>
          <p:spPr>
            <a:xfrm>
              <a:off x="7122960" y="1307880"/>
              <a:ext cx="1108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马化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文本框 54"/>
            <p:cNvSpPr/>
            <p:nvPr/>
          </p:nvSpPr>
          <p:spPr>
            <a:xfrm>
              <a:off x="6919200" y="1710000"/>
              <a:ext cx="1515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97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55"/>
          <p:cNvGrpSpPr/>
          <p:nvPr/>
        </p:nvGrpSpPr>
        <p:grpSpPr>
          <a:xfrm>
            <a:off x="2410200" y="36360"/>
            <a:ext cx="1469880" cy="2021400"/>
            <a:chOff x="2410200" y="36360"/>
            <a:chExt cx="1469880" cy="2021400"/>
          </a:xfrm>
        </p:grpSpPr>
        <p:pic>
          <p:nvPicPr>
            <p:cNvPr id="516" name="图片 56" descr=""/>
            <p:cNvPicPr/>
            <p:nvPr/>
          </p:nvPicPr>
          <p:blipFill>
            <a:blip r:embed="rId2"/>
            <a:srcRect l="0" t="0" r="2762" b="0"/>
            <a:stretch/>
          </p:blipFill>
          <p:spPr>
            <a:xfrm>
              <a:off x="2566800" y="36360"/>
              <a:ext cx="115668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文本框 57"/>
            <p:cNvSpPr/>
            <p:nvPr/>
          </p:nvSpPr>
          <p:spPr>
            <a:xfrm>
              <a:off x="2410200" y="1693800"/>
              <a:ext cx="1469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969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文本框 58"/>
            <p:cNvSpPr/>
            <p:nvPr/>
          </p:nvSpPr>
          <p:spPr>
            <a:xfrm>
              <a:off x="2591280" y="1324440"/>
              <a:ext cx="1108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雷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组合 59"/>
          <p:cNvGrpSpPr/>
          <p:nvPr/>
        </p:nvGrpSpPr>
        <p:grpSpPr>
          <a:xfrm>
            <a:off x="5385960" y="22320"/>
            <a:ext cx="1515600" cy="2049480"/>
            <a:chOff x="5385960" y="22320"/>
            <a:chExt cx="1515600" cy="2049480"/>
          </a:xfrm>
        </p:grpSpPr>
        <p:pic>
          <p:nvPicPr>
            <p:cNvPr id="520" name="图片 60" descr=""/>
            <p:cNvPicPr/>
            <p:nvPr/>
          </p:nvPicPr>
          <p:blipFill>
            <a:blip r:embed="rId3"/>
            <a:srcRect l="2931" t="0" r="0" b="0"/>
            <a:stretch/>
          </p:blipFill>
          <p:spPr>
            <a:xfrm>
              <a:off x="5573880" y="22320"/>
              <a:ext cx="113976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文本框 61"/>
            <p:cNvSpPr/>
            <p:nvPr/>
          </p:nvSpPr>
          <p:spPr>
            <a:xfrm>
              <a:off x="5589720" y="1310400"/>
              <a:ext cx="1108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丁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62"/>
            <p:cNvSpPr/>
            <p:nvPr/>
          </p:nvSpPr>
          <p:spPr>
            <a:xfrm>
              <a:off x="5385960" y="1707840"/>
              <a:ext cx="1515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97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63"/>
          <p:cNvGrpSpPr/>
          <p:nvPr/>
        </p:nvGrpSpPr>
        <p:grpSpPr>
          <a:xfrm>
            <a:off x="922320" y="45720"/>
            <a:ext cx="1469880" cy="2002320"/>
            <a:chOff x="922320" y="45720"/>
            <a:chExt cx="1469880" cy="2002320"/>
          </a:xfrm>
        </p:grpSpPr>
        <p:pic>
          <p:nvPicPr>
            <p:cNvPr id="524" name="图片 64" descr=""/>
            <p:cNvPicPr/>
            <p:nvPr/>
          </p:nvPicPr>
          <p:blipFill>
            <a:blip r:embed="rId4"/>
            <a:srcRect l="0" t="0" r="4463" b="0"/>
            <a:stretch/>
          </p:blipFill>
          <p:spPr>
            <a:xfrm>
              <a:off x="1077120" y="45720"/>
              <a:ext cx="116028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文本框 65"/>
            <p:cNvSpPr/>
            <p:nvPr/>
          </p:nvSpPr>
          <p:spPr>
            <a:xfrm>
              <a:off x="1103400" y="1333800"/>
              <a:ext cx="1108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李彦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文本框 66"/>
            <p:cNvSpPr/>
            <p:nvPr/>
          </p:nvSpPr>
          <p:spPr>
            <a:xfrm>
              <a:off x="922320" y="1684080"/>
              <a:ext cx="1469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96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67"/>
          <p:cNvGrpSpPr/>
          <p:nvPr/>
        </p:nvGrpSpPr>
        <p:grpSpPr>
          <a:xfrm>
            <a:off x="3898080" y="19800"/>
            <a:ext cx="1469880" cy="2054160"/>
            <a:chOff x="3898080" y="19800"/>
            <a:chExt cx="1469880" cy="2054160"/>
          </a:xfrm>
        </p:grpSpPr>
        <p:grpSp>
          <p:nvGrpSpPr>
            <p:cNvPr id="528" name="组合 68"/>
            <p:cNvGrpSpPr/>
            <p:nvPr/>
          </p:nvGrpSpPr>
          <p:grpSpPr>
            <a:xfrm>
              <a:off x="4050000" y="19800"/>
              <a:ext cx="1166400" cy="1138320"/>
              <a:chOff x="4050000" y="19800"/>
              <a:chExt cx="1166400" cy="1138320"/>
            </a:xfrm>
          </p:grpSpPr>
          <p:sp>
            <p:nvSpPr>
              <p:cNvPr id="529" name="矩形 71"/>
              <p:cNvSpPr/>
              <p:nvPr/>
            </p:nvSpPr>
            <p:spPr>
              <a:xfrm>
                <a:off x="4078080" y="19800"/>
                <a:ext cx="1138320" cy="1138320"/>
              </a:xfrm>
              <a:prstGeom prst="rect">
                <a:avLst/>
              </a:prstGeom>
              <a:solidFill>
                <a:srgbClr val="0404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pic>
            <p:nvPicPr>
              <p:cNvPr id="530" name="图片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4050000" y="199800"/>
                <a:ext cx="1161000" cy="95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文本框 69"/>
            <p:cNvSpPr/>
            <p:nvPr/>
          </p:nvSpPr>
          <p:spPr>
            <a:xfrm>
              <a:off x="4079160" y="1307880"/>
              <a:ext cx="1108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周鸿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70"/>
            <p:cNvSpPr/>
            <p:nvPr/>
          </p:nvSpPr>
          <p:spPr>
            <a:xfrm>
              <a:off x="3898080" y="1710000"/>
              <a:ext cx="1469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97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文本框 73"/>
          <p:cNvSpPr/>
          <p:nvPr/>
        </p:nvSpPr>
        <p:spPr>
          <a:xfrm>
            <a:off x="922320" y="4202280"/>
            <a:ext cx="71924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七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如果你生在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1968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年—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1971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年，你会有更多机会萌生互联网创业的想法，咦，现在好像又是一个移动互联网创业的机会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8"/>
          <p:cNvSpPr/>
          <p:nvPr/>
        </p:nvSpPr>
        <p:spPr>
          <a:xfrm>
            <a:off x="1613880" y="2426400"/>
            <a:ext cx="6617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为什么这些互联网创业公司创始人出生年份集中于</a:t>
            </a:r>
            <a:r>
              <a:rPr b="0" lang="en-US" sz="24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68</a:t>
            </a:r>
            <a:r>
              <a:rPr b="0" lang="zh-CN" sz="24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年—</a:t>
            </a:r>
            <a:r>
              <a:rPr b="0" lang="en-US" sz="24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1971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9"/>
          <p:cNvSpPr/>
          <p:nvPr/>
        </p:nvSpPr>
        <p:spPr>
          <a:xfrm>
            <a:off x="1046160" y="2355480"/>
            <a:ext cx="63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  <a:ea typeface="微软雅黑"/>
              </a:rPr>
              <a:t>Q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直接连接符 29"/>
          <p:cNvCxnSpPr/>
          <p:nvPr/>
        </p:nvCxnSpPr>
        <p:spPr>
          <a:xfrm>
            <a:off x="1103040" y="3661200"/>
            <a:ext cx="698976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9"/>
          <p:cNvSpPr/>
          <p:nvPr/>
        </p:nvSpPr>
        <p:spPr>
          <a:xfrm>
            <a:off x="582840" y="2546280"/>
            <a:ext cx="8019720" cy="457812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8" name="直角三角形 3"/>
          <p:cNvSpPr/>
          <p:nvPr/>
        </p:nvSpPr>
        <p:spPr>
          <a:xfrm>
            <a:off x="1803600" y="323640"/>
            <a:ext cx="418320" cy="209160"/>
          </a:xfrm>
          <a:prstGeom prst="rtTriangle">
            <a:avLst/>
          </a:prstGeom>
          <a:solidFill>
            <a:srgbClr val="656b6e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9" name="矩形 8"/>
          <p:cNvSpPr/>
          <p:nvPr/>
        </p:nvSpPr>
        <p:spPr>
          <a:xfrm>
            <a:off x="582840" y="541800"/>
            <a:ext cx="8019720" cy="1805400"/>
          </a:xfrm>
          <a:prstGeom prst="rect">
            <a:avLst/>
          </a:prstGeom>
          <a:solidFill>
            <a:srgbClr val="00ada7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40" name="矩形 10"/>
          <p:cNvSpPr/>
          <p:nvPr/>
        </p:nvSpPr>
        <p:spPr>
          <a:xfrm>
            <a:off x="1014480" y="318600"/>
            <a:ext cx="781920" cy="1182960"/>
          </a:xfrm>
          <a:prstGeom prst="rect">
            <a:avLst/>
          </a:prstGeom>
          <a:solidFill>
            <a:srgbClr val="808c9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41" name="矩形 9"/>
          <p:cNvSpPr/>
          <p:nvPr/>
        </p:nvSpPr>
        <p:spPr>
          <a:xfrm>
            <a:off x="2092320" y="798120"/>
            <a:ext cx="58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稻田与数学背后的文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20"/>
          <p:cNvGrpSpPr/>
          <p:nvPr/>
        </p:nvGrpSpPr>
        <p:grpSpPr>
          <a:xfrm>
            <a:off x="1018440" y="2040480"/>
            <a:ext cx="7206120" cy="789120"/>
            <a:chOff x="1018440" y="2040480"/>
            <a:chExt cx="7206120" cy="789120"/>
          </a:xfrm>
        </p:grpSpPr>
        <p:grpSp>
          <p:nvGrpSpPr>
            <p:cNvPr id="543" name="组合 118"/>
            <p:cNvGrpSpPr/>
            <p:nvPr/>
          </p:nvGrpSpPr>
          <p:grpSpPr>
            <a:xfrm>
              <a:off x="8067600" y="2049840"/>
              <a:ext cx="156960" cy="779760"/>
              <a:chOff x="8067600" y="2049840"/>
              <a:chExt cx="156960" cy="779760"/>
            </a:xfrm>
          </p:grpSpPr>
          <p:sp>
            <p:nvSpPr>
              <p:cNvPr id="544" name="椭圆 110"/>
              <p:cNvSpPr/>
              <p:nvPr/>
            </p:nvSpPr>
            <p:spPr>
              <a:xfrm rot="5400000">
                <a:off x="8067600" y="20498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545" name="椭圆 111"/>
              <p:cNvSpPr/>
              <p:nvPr/>
            </p:nvSpPr>
            <p:spPr>
              <a:xfrm rot="5400000">
                <a:off x="8067600" y="26726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546" name="直接连接符 114"/>
              <p:cNvCxnSpPr/>
              <p:nvPr/>
            </p:nvCxnSpPr>
            <p:spPr>
              <a:xfrm>
                <a:off x="81482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547" name="组合 119"/>
            <p:cNvGrpSpPr/>
            <p:nvPr/>
          </p:nvGrpSpPr>
          <p:grpSpPr>
            <a:xfrm>
              <a:off x="1018440" y="2040480"/>
              <a:ext cx="156960" cy="779760"/>
              <a:chOff x="1018440" y="2040480"/>
              <a:chExt cx="156960" cy="779760"/>
            </a:xfrm>
          </p:grpSpPr>
          <p:grpSp>
            <p:nvGrpSpPr>
              <p:cNvPr id="548" name="组合 112"/>
              <p:cNvGrpSpPr/>
              <p:nvPr/>
            </p:nvGrpSpPr>
            <p:grpSpPr>
              <a:xfrm>
                <a:off x="1018440" y="2040480"/>
                <a:ext cx="156960" cy="779760"/>
                <a:chOff x="1018440" y="2040480"/>
                <a:chExt cx="156960" cy="779760"/>
              </a:xfrm>
            </p:grpSpPr>
            <p:sp>
              <p:nvSpPr>
                <p:cNvPr id="549" name="椭圆 116"/>
                <p:cNvSpPr/>
                <p:nvPr/>
              </p:nvSpPr>
              <p:spPr>
                <a:xfrm rot="5400000">
                  <a:off x="1018440" y="20404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550" name="椭圆 117"/>
                <p:cNvSpPr/>
                <p:nvPr/>
              </p:nvSpPr>
              <p:spPr>
                <a:xfrm rot="5400000">
                  <a:off x="1018440" y="26632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cxnSp>
            <p:nvCxnSpPr>
              <p:cNvPr id="551" name="直接连接符 115"/>
              <p:cNvCxnSpPr/>
              <p:nvPr/>
            </p:nvCxnSpPr>
            <p:spPr>
              <a:xfrm>
                <a:off x="10958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552" name="文本框 40"/>
          <p:cNvSpPr/>
          <p:nvPr/>
        </p:nvSpPr>
        <p:spPr>
          <a:xfrm>
            <a:off x="1232280" y="587520"/>
            <a:ext cx="346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21"/>
          <p:cNvSpPr/>
          <p:nvPr/>
        </p:nvSpPr>
        <p:spPr>
          <a:xfrm>
            <a:off x="2134800" y="3180600"/>
            <a:ext cx="4873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中英教育差距的文化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2"/>
          <p:cNvSpPr/>
          <p:nvPr/>
        </p:nvSpPr>
        <p:spPr>
          <a:xfrm>
            <a:off x="4748760" y="3772440"/>
            <a:ext cx="331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B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纪录片《中式教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图表 5"/>
          <p:cNvGraphicFramePr/>
          <p:nvPr/>
        </p:nvGraphicFramePr>
        <p:xfrm>
          <a:off x="436320" y="3714840"/>
          <a:ext cx="3765600" cy="3319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56" name="矩形 6"/>
          <p:cNvSpPr/>
          <p:nvPr/>
        </p:nvSpPr>
        <p:spPr>
          <a:xfrm>
            <a:off x="4387320" y="5015880"/>
            <a:ext cx="266760" cy="266760"/>
          </a:xfrm>
          <a:prstGeom prst="rect">
            <a:avLst/>
          </a:prstGeom>
          <a:solidFill>
            <a:srgbClr val="00ad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7" name="矩形 28"/>
          <p:cNvSpPr/>
          <p:nvPr/>
        </p:nvSpPr>
        <p:spPr>
          <a:xfrm>
            <a:off x="4387320" y="5865120"/>
            <a:ext cx="266760" cy="266760"/>
          </a:xfrm>
          <a:prstGeom prst="rect">
            <a:avLst/>
          </a:prstGeom>
          <a:solidFill>
            <a:srgbClr val="b7dac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8" name="文本框 29"/>
          <p:cNvSpPr/>
          <p:nvPr/>
        </p:nvSpPr>
        <p:spPr>
          <a:xfrm>
            <a:off x="4654800" y="4912200"/>
            <a:ext cx="3490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中国学生一周至少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个小时在学数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30"/>
          <p:cNvSpPr/>
          <p:nvPr/>
        </p:nvSpPr>
        <p:spPr>
          <a:xfrm>
            <a:off x="4654800" y="5798520"/>
            <a:ext cx="254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学习其他科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2"/>
          <p:cNvSpPr/>
          <p:nvPr/>
        </p:nvSpPr>
        <p:spPr>
          <a:xfrm>
            <a:off x="582840" y="-435960"/>
            <a:ext cx="8019720" cy="75603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1" name="矩形 24"/>
          <p:cNvSpPr/>
          <p:nvPr/>
        </p:nvSpPr>
        <p:spPr>
          <a:xfrm>
            <a:off x="5619960" y="4204080"/>
            <a:ext cx="1684080" cy="309600"/>
          </a:xfrm>
          <a:prstGeom prst="rect">
            <a:avLst/>
          </a:prstGeom>
          <a:solidFill>
            <a:srgbClr val="00ad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2" name="矩形 25"/>
          <p:cNvSpPr/>
          <p:nvPr/>
        </p:nvSpPr>
        <p:spPr>
          <a:xfrm>
            <a:off x="3287520" y="4204080"/>
            <a:ext cx="1434600" cy="309600"/>
          </a:xfrm>
          <a:prstGeom prst="rect">
            <a:avLst/>
          </a:prstGeom>
          <a:solidFill>
            <a:srgbClr val="00ad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aphicFrame>
        <p:nvGraphicFramePr>
          <p:cNvPr id="563" name="表格 16"/>
          <p:cNvGraphicFramePr/>
          <p:nvPr/>
        </p:nvGraphicFramePr>
        <p:xfrm>
          <a:off x="1114200" y="3657240"/>
          <a:ext cx="6989040" cy="3088440"/>
        </p:xfrm>
        <a:graphic>
          <a:graphicData uri="http://schemas.openxmlformats.org/drawingml/2006/table">
            <a:tbl>
              <a:tblPr/>
              <a:tblGrid>
                <a:gridCol w="2107080"/>
                <a:gridCol w="2381760"/>
                <a:gridCol w="249984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2000" spc="-1" strike="noStrike">
                        <a:solidFill>
                          <a:srgbClr val="404040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solidFill>
                      <a:srgbClr val="00ad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中文数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solidFill>
                      <a:srgbClr val="00ad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英文数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solidFill>
                      <a:srgbClr val="00ada7"/>
                    </a:solidFill>
                  </a:tcPr>
                </a:tc>
              </a:tr>
              <a:tr h="63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发音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平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howcard Gothic"/>
                          <a:ea typeface="微软雅黑"/>
                        </a:rPr>
                        <a:t>2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毫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平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howcard Gothic"/>
                          <a:ea typeface="微软雅黑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毫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发音规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相对规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高度不规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数字系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含义清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262626"/>
                          </a:solidFill>
                          <a:latin typeface="Arial"/>
                          <a:ea typeface="微软雅黑"/>
                        </a:rPr>
                        <a:t>模糊复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ada7"/>
                      </a:solidFill>
                    </a:lnT>
                    <a:lnB w="12240">
                      <a:solidFill>
                        <a:srgbClr val="00ad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64" name="直接连接符 18"/>
          <p:cNvCxnSpPr/>
          <p:nvPr/>
        </p:nvCxnSpPr>
        <p:spPr>
          <a:xfrm>
            <a:off x="1113840" y="2495520"/>
            <a:ext cx="698976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  <p:sp>
        <p:nvSpPr>
          <p:cNvPr id="565" name="文本框 19"/>
          <p:cNvSpPr/>
          <p:nvPr/>
        </p:nvSpPr>
        <p:spPr>
          <a:xfrm>
            <a:off x="2155680" y="2939400"/>
            <a:ext cx="4873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中英数学的语言结构差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0"/>
          <p:cNvSpPr/>
          <p:nvPr/>
        </p:nvSpPr>
        <p:spPr>
          <a:xfrm>
            <a:off x="1233000" y="962280"/>
            <a:ext cx="6592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0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ada7"/>
                </a:solidFill>
                <a:latin typeface="Arial"/>
                <a:ea typeface="微软雅黑"/>
              </a:rPr>
              <a:t>启示八】</a:t>
            </a:r>
            <a:r>
              <a:rPr b="1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中国的学生会比其他文化的人花更多时间学习，它的一个原因是基于勤劳基础的水稻文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8"/>
          <p:cNvSpPr/>
          <p:nvPr/>
        </p:nvSpPr>
        <p:spPr>
          <a:xfrm>
            <a:off x="1233000" y="19080"/>
            <a:ext cx="6742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在中国，由于每周长时间的学习，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13-14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岁这个年龄段的孩子的数学水平已经</a:t>
            </a:r>
            <a:r>
              <a:rPr b="1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领先英国学生</a:t>
            </a: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年以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1"/>
          <p:cNvSpPr/>
          <p:nvPr/>
        </p:nvSpPr>
        <p:spPr>
          <a:xfrm>
            <a:off x="582840" y="-435960"/>
            <a:ext cx="8019720" cy="561744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9" name="文本框 18"/>
          <p:cNvSpPr/>
          <p:nvPr/>
        </p:nvSpPr>
        <p:spPr>
          <a:xfrm>
            <a:off x="1143000" y="3605040"/>
            <a:ext cx="67813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九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族裔文化中数学语言结构的不同，是导致数学成绩差异的一大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19"/>
          <p:cNvGrpSpPr/>
          <p:nvPr/>
        </p:nvGrpSpPr>
        <p:grpSpPr>
          <a:xfrm>
            <a:off x="1601280" y="308160"/>
            <a:ext cx="2455200" cy="2583720"/>
            <a:chOff x="1601280" y="308160"/>
            <a:chExt cx="2455200" cy="2583720"/>
          </a:xfrm>
        </p:grpSpPr>
        <p:grpSp>
          <p:nvGrpSpPr>
            <p:cNvPr id="571" name="组合 20"/>
            <p:cNvGrpSpPr/>
            <p:nvPr/>
          </p:nvGrpSpPr>
          <p:grpSpPr>
            <a:xfrm>
              <a:off x="1601280" y="308160"/>
              <a:ext cx="2455200" cy="2583720"/>
              <a:chOff x="1601280" y="308160"/>
              <a:chExt cx="2455200" cy="2583720"/>
            </a:xfrm>
          </p:grpSpPr>
          <p:grpSp>
            <p:nvGrpSpPr>
              <p:cNvPr id="572" name="组合 22"/>
              <p:cNvGrpSpPr/>
              <p:nvPr/>
            </p:nvGrpSpPr>
            <p:grpSpPr>
              <a:xfrm>
                <a:off x="1601280" y="381240"/>
                <a:ext cx="2455200" cy="2510640"/>
                <a:chOff x="1601280" y="381240"/>
                <a:chExt cx="2455200" cy="2510640"/>
              </a:xfrm>
            </p:grpSpPr>
            <p:pic>
              <p:nvPicPr>
                <p:cNvPr id="573" name="图片 24" descr=""/>
                <p:cNvPicPr/>
                <p:nvPr/>
              </p:nvPicPr>
              <p:blipFill>
                <a:blip r:embed="rId1"/>
                <a:srcRect l="1725" t="254" r="1794" b="1354"/>
                <a:stretch/>
              </p:blipFill>
              <p:spPr>
                <a:xfrm>
                  <a:off x="1601280" y="388080"/>
                  <a:ext cx="2455200" cy="2503800"/>
                </a:xfrm>
                <a:prstGeom prst="rect">
                  <a:avLst/>
                </a:prstGeom>
                <a:ln w="63500">
                  <a:solidFill>
                    <a:srgbClr val="ffffff">
                      <a:lumMod val="85000"/>
                    </a:srgbClr>
                  </a:solidFill>
                  <a:miter/>
                </a:ln>
              </p:spPr>
            </p:pic>
            <p:sp>
              <p:nvSpPr>
                <p:cNvPr id="574" name="任意多边形 25"/>
                <p:cNvSpPr/>
                <p:nvPr/>
              </p:nvSpPr>
              <p:spPr>
                <a:xfrm>
                  <a:off x="1787040" y="381240"/>
                  <a:ext cx="1539360" cy="472320"/>
                </a:xfrm>
                <a:custGeom>
                  <a:avLst/>
                  <a:gdLst>
                    <a:gd name="textAreaLeft" fmla="*/ 0 w 1539360"/>
                    <a:gd name="textAreaRight" fmla="*/ 1539720 w 1539360"/>
                    <a:gd name="textAreaTop" fmla="*/ 0 h 472320"/>
                    <a:gd name="textAreaBottom" fmla="*/ 472680 h 472320"/>
                  </a:gdLst>
                  <a:ahLst/>
                  <a:rect l="textAreaLeft" t="textAreaTop" r="textAreaRight" b="textAreaBottom"/>
                  <a:pathLst>
                    <a:path w="2448855" h="751779">
                      <a:moveTo>
                        <a:pt x="86655" y="56380"/>
                      </a:moveTo>
                      <a:cubicBezTo>
                        <a:pt x="-2245" y="75430"/>
                        <a:pt x="44699" y="117865"/>
                        <a:pt x="29505" y="151630"/>
                      </a:cubicBezTo>
                      <a:cubicBezTo>
                        <a:pt x="15902" y="181858"/>
                        <a:pt x="3573" y="213838"/>
                        <a:pt x="930" y="246880"/>
                      </a:cubicBezTo>
                      <a:cubicBezTo>
                        <a:pt x="-2876" y="294459"/>
                        <a:pt x="5930" y="342239"/>
                        <a:pt x="10455" y="389755"/>
                      </a:cubicBezTo>
                      <a:cubicBezTo>
                        <a:pt x="11144" y="396984"/>
                        <a:pt x="15621" y="467119"/>
                        <a:pt x="39030" y="475480"/>
                      </a:cubicBezTo>
                      <a:cubicBezTo>
                        <a:pt x="75405" y="488471"/>
                        <a:pt x="116687" y="482316"/>
                        <a:pt x="153330" y="494530"/>
                      </a:cubicBezTo>
                      <a:cubicBezTo>
                        <a:pt x="212894" y="514385"/>
                        <a:pt x="161292" y="499402"/>
                        <a:pt x="267630" y="513580"/>
                      </a:cubicBezTo>
                      <a:cubicBezTo>
                        <a:pt x="323508" y="521030"/>
                        <a:pt x="312268" y="518934"/>
                        <a:pt x="353355" y="532630"/>
                      </a:cubicBezTo>
                      <a:cubicBezTo>
                        <a:pt x="394328" y="655548"/>
                        <a:pt x="284427" y="317705"/>
                        <a:pt x="372405" y="713605"/>
                      </a:cubicBezTo>
                      <a:cubicBezTo>
                        <a:pt x="374888" y="724780"/>
                        <a:pt x="389537" y="732328"/>
                        <a:pt x="400980" y="732655"/>
                      </a:cubicBezTo>
                      <a:cubicBezTo>
                        <a:pt x="724713" y="741905"/>
                        <a:pt x="1048680" y="739005"/>
                        <a:pt x="1372530" y="742180"/>
                      </a:cubicBezTo>
                      <a:cubicBezTo>
                        <a:pt x="1382055" y="745355"/>
                        <a:pt x="1391065" y="751705"/>
                        <a:pt x="1401105" y="751705"/>
                      </a:cubicBezTo>
                      <a:cubicBezTo>
                        <a:pt x="1420418" y="751705"/>
                        <a:pt x="1442433" y="753255"/>
                        <a:pt x="1458255" y="742180"/>
                      </a:cubicBezTo>
                      <a:cubicBezTo>
                        <a:pt x="1477012" y="729050"/>
                        <a:pt x="1483655" y="704080"/>
                        <a:pt x="1496355" y="685030"/>
                      </a:cubicBezTo>
                      <a:cubicBezTo>
                        <a:pt x="1502705" y="675505"/>
                        <a:pt x="1511785" y="667315"/>
                        <a:pt x="1515405" y="656455"/>
                      </a:cubicBezTo>
                      <a:cubicBezTo>
                        <a:pt x="1526091" y="624397"/>
                        <a:pt x="1525148" y="622736"/>
                        <a:pt x="1543980" y="589780"/>
                      </a:cubicBezTo>
                      <a:cubicBezTo>
                        <a:pt x="1549660" y="579841"/>
                        <a:pt x="1554935" y="569300"/>
                        <a:pt x="1563030" y="561205"/>
                      </a:cubicBezTo>
                      <a:cubicBezTo>
                        <a:pt x="1591048" y="533187"/>
                        <a:pt x="1611029" y="541968"/>
                        <a:pt x="1648755" y="523105"/>
                      </a:cubicBezTo>
                      <a:cubicBezTo>
                        <a:pt x="1661455" y="516755"/>
                        <a:pt x="1673560" y="509041"/>
                        <a:pt x="1686855" y="504055"/>
                      </a:cubicBezTo>
                      <a:cubicBezTo>
                        <a:pt x="1699112" y="499458"/>
                        <a:pt x="1712368" y="498126"/>
                        <a:pt x="1724955" y="494530"/>
                      </a:cubicBezTo>
                      <a:cubicBezTo>
                        <a:pt x="1756662" y="485471"/>
                        <a:pt x="1755898" y="481435"/>
                        <a:pt x="1791630" y="475480"/>
                      </a:cubicBezTo>
                      <a:cubicBezTo>
                        <a:pt x="1816879" y="471272"/>
                        <a:pt x="1842430" y="469130"/>
                        <a:pt x="1867830" y="465955"/>
                      </a:cubicBezTo>
                      <a:cubicBezTo>
                        <a:pt x="1877355" y="462780"/>
                        <a:pt x="1886665" y="458865"/>
                        <a:pt x="1896405" y="456430"/>
                      </a:cubicBezTo>
                      <a:cubicBezTo>
                        <a:pt x="1984192" y="434483"/>
                        <a:pt x="2050525" y="442064"/>
                        <a:pt x="2153580" y="437380"/>
                      </a:cubicBezTo>
                      <a:cubicBezTo>
                        <a:pt x="2163105" y="434205"/>
                        <a:pt x="2175055" y="434955"/>
                        <a:pt x="2182155" y="427855"/>
                      </a:cubicBezTo>
                      <a:cubicBezTo>
                        <a:pt x="2206001" y="404009"/>
                        <a:pt x="2196499" y="386796"/>
                        <a:pt x="2210730" y="361180"/>
                      </a:cubicBezTo>
                      <a:cubicBezTo>
                        <a:pt x="2221849" y="341166"/>
                        <a:pt x="2227110" y="311270"/>
                        <a:pt x="2248830" y="304030"/>
                      </a:cubicBezTo>
                      <a:cubicBezTo>
                        <a:pt x="2258355" y="300855"/>
                        <a:pt x="2268628" y="299381"/>
                        <a:pt x="2277405" y="294505"/>
                      </a:cubicBezTo>
                      <a:cubicBezTo>
                        <a:pt x="2297419" y="283386"/>
                        <a:pt x="2312835" y="263645"/>
                        <a:pt x="2334555" y="256405"/>
                      </a:cubicBezTo>
                      <a:cubicBezTo>
                        <a:pt x="2406379" y="232464"/>
                        <a:pt x="2317847" y="264759"/>
                        <a:pt x="2391705" y="227830"/>
                      </a:cubicBezTo>
                      <a:cubicBezTo>
                        <a:pt x="2400685" y="223340"/>
                        <a:pt x="2410755" y="221480"/>
                        <a:pt x="2420280" y="218305"/>
                      </a:cubicBezTo>
                      <a:cubicBezTo>
                        <a:pt x="2443281" y="183803"/>
                        <a:pt x="2448855" y="183911"/>
                        <a:pt x="2448855" y="132580"/>
                      </a:cubicBezTo>
                      <a:cubicBezTo>
                        <a:pt x="2448855" y="103829"/>
                        <a:pt x="2449155" y="73875"/>
                        <a:pt x="2439330" y="46855"/>
                      </a:cubicBezTo>
                      <a:cubicBezTo>
                        <a:pt x="2435418" y="36097"/>
                        <a:pt x="2422137" y="29025"/>
                        <a:pt x="2410755" y="27805"/>
                      </a:cubicBezTo>
                      <a:cubicBezTo>
                        <a:pt x="2331769" y="19342"/>
                        <a:pt x="2252005" y="21455"/>
                        <a:pt x="2172630" y="18280"/>
                      </a:cubicBezTo>
                      <a:cubicBezTo>
                        <a:pt x="2128223" y="3478"/>
                        <a:pt x="2115916" y="16992"/>
                        <a:pt x="2070795" y="15341"/>
                      </a:cubicBezTo>
                      <a:lnTo>
                        <a:pt x="1901902" y="8374"/>
                      </a:lnTo>
                      <a:cubicBezTo>
                        <a:pt x="1793396" y="12482"/>
                        <a:pt x="1856718" y="15030"/>
                        <a:pt x="1712872" y="3965"/>
                      </a:cubicBezTo>
                      <a:cubicBezTo>
                        <a:pt x="1622012" y="-71"/>
                        <a:pt x="1473791" y="2280"/>
                        <a:pt x="1364798" y="266"/>
                      </a:cubicBezTo>
                      <a:cubicBezTo>
                        <a:pt x="1255805" y="-1748"/>
                        <a:pt x="1125641" y="8229"/>
                        <a:pt x="1058912" y="12020"/>
                      </a:cubicBezTo>
                      <a:cubicBezTo>
                        <a:pt x="992183" y="15811"/>
                        <a:pt x="998552" y="24293"/>
                        <a:pt x="964425" y="23014"/>
                      </a:cubicBezTo>
                      <a:cubicBezTo>
                        <a:pt x="930298" y="21735"/>
                        <a:pt x="890909" y="6297"/>
                        <a:pt x="854152" y="4347"/>
                      </a:cubicBezTo>
                      <a:cubicBezTo>
                        <a:pt x="817395" y="2397"/>
                        <a:pt x="782896" y="8991"/>
                        <a:pt x="743880" y="11313"/>
                      </a:cubicBezTo>
                      <a:cubicBezTo>
                        <a:pt x="704864" y="13635"/>
                        <a:pt x="670001" y="11145"/>
                        <a:pt x="620055" y="18280"/>
                      </a:cubicBezTo>
                      <a:cubicBezTo>
                        <a:pt x="601005" y="24630"/>
                        <a:pt x="582956" y="36236"/>
                        <a:pt x="562905" y="37330"/>
                      </a:cubicBezTo>
                      <a:cubicBezTo>
                        <a:pt x="80768" y="63628"/>
                        <a:pt x="175555" y="37330"/>
                        <a:pt x="86655" y="5638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575" name="文本框 23"/>
              <p:cNvSpPr/>
              <p:nvPr/>
            </p:nvSpPr>
            <p:spPr>
              <a:xfrm>
                <a:off x="1908720" y="308160"/>
                <a:ext cx="1239480" cy="60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Showcard Gothic"/>
                    <a:ea typeface="微软雅黑"/>
                  </a:rPr>
                  <a:t>9x8=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任意多边形 21"/>
            <p:cNvSpPr/>
            <p:nvPr/>
          </p:nvSpPr>
          <p:spPr>
            <a:xfrm>
              <a:off x="2282760" y="2491560"/>
              <a:ext cx="1395360" cy="39528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749690" h="495846">
                  <a:moveTo>
                    <a:pt x="1711474" y="355127"/>
                  </a:moveTo>
                  <a:lnTo>
                    <a:pt x="1711424" y="355358"/>
                  </a:lnTo>
                  <a:cubicBezTo>
                    <a:pt x="1710487" y="359405"/>
                    <a:pt x="1709611" y="362869"/>
                    <a:pt x="1710436" y="359400"/>
                  </a:cubicBezTo>
                  <a:close/>
                  <a:moveTo>
                    <a:pt x="253090" y="41"/>
                  </a:moveTo>
                  <a:cubicBezTo>
                    <a:pt x="282152" y="642"/>
                    <a:pt x="371891" y="8100"/>
                    <a:pt x="405662" y="13752"/>
                  </a:cubicBezTo>
                  <a:cubicBezTo>
                    <a:pt x="439434" y="19405"/>
                    <a:pt x="448210" y="30588"/>
                    <a:pt x="455719" y="33955"/>
                  </a:cubicBezTo>
                  <a:lnTo>
                    <a:pt x="447754" y="33535"/>
                  </a:lnTo>
                  <a:lnTo>
                    <a:pt x="422319" y="29925"/>
                  </a:lnTo>
                  <a:cubicBezTo>
                    <a:pt x="389531" y="25390"/>
                    <a:pt x="423976" y="30893"/>
                    <a:pt x="443941" y="33334"/>
                  </a:cubicBezTo>
                  <a:lnTo>
                    <a:pt x="447754" y="33535"/>
                  </a:lnTo>
                  <a:lnTo>
                    <a:pt x="450713" y="33955"/>
                  </a:lnTo>
                  <a:cubicBezTo>
                    <a:pt x="460725" y="31430"/>
                    <a:pt x="484502" y="41531"/>
                    <a:pt x="500770" y="46582"/>
                  </a:cubicBezTo>
                  <a:lnTo>
                    <a:pt x="517944" y="52753"/>
                  </a:lnTo>
                  <a:lnTo>
                    <a:pt x="548324" y="64259"/>
                  </a:lnTo>
                  <a:cubicBezTo>
                    <a:pt x="551244" y="65312"/>
                    <a:pt x="543423" y="62155"/>
                    <a:pt x="532838" y="58104"/>
                  </a:cubicBezTo>
                  <a:lnTo>
                    <a:pt x="517944" y="52753"/>
                  </a:lnTo>
                  <a:lnTo>
                    <a:pt x="517324" y="52518"/>
                  </a:lnTo>
                  <a:cubicBezTo>
                    <a:pt x="501567" y="46605"/>
                    <a:pt x="482379" y="39555"/>
                    <a:pt x="465730" y="33955"/>
                  </a:cubicBezTo>
                  <a:cubicBezTo>
                    <a:pt x="424062" y="19940"/>
                    <a:pt x="435351" y="25389"/>
                    <a:pt x="503273" y="33955"/>
                  </a:cubicBezTo>
                  <a:cubicBezTo>
                    <a:pt x="554933" y="51330"/>
                    <a:pt x="492474" y="31974"/>
                    <a:pt x="585867" y="49107"/>
                  </a:cubicBezTo>
                  <a:cubicBezTo>
                    <a:pt x="620623" y="55483"/>
                    <a:pt x="614711" y="68300"/>
                    <a:pt x="630918" y="71836"/>
                  </a:cubicBezTo>
                  <a:cubicBezTo>
                    <a:pt x="647126" y="75371"/>
                    <a:pt x="669469" y="68515"/>
                    <a:pt x="683113" y="70319"/>
                  </a:cubicBezTo>
                  <a:cubicBezTo>
                    <a:pt x="696757" y="72123"/>
                    <a:pt x="685191" y="77355"/>
                    <a:pt x="712783" y="82658"/>
                  </a:cubicBezTo>
                  <a:cubicBezTo>
                    <a:pt x="740375" y="87962"/>
                    <a:pt x="803372" y="95646"/>
                    <a:pt x="848666" y="102140"/>
                  </a:cubicBezTo>
                  <a:cubicBezTo>
                    <a:pt x="894057" y="113589"/>
                    <a:pt x="868910" y="106423"/>
                    <a:pt x="923751" y="124868"/>
                  </a:cubicBezTo>
                  <a:cubicBezTo>
                    <a:pt x="931260" y="127393"/>
                    <a:pt x="938516" y="130878"/>
                    <a:pt x="946277" y="132444"/>
                  </a:cubicBezTo>
                  <a:cubicBezTo>
                    <a:pt x="958791" y="134969"/>
                    <a:pt x="970176" y="139876"/>
                    <a:pt x="983819" y="140020"/>
                  </a:cubicBezTo>
                  <a:cubicBezTo>
                    <a:pt x="997463" y="140164"/>
                    <a:pt x="1010468" y="133561"/>
                    <a:pt x="1028141" y="133308"/>
                  </a:cubicBezTo>
                  <a:cubicBezTo>
                    <a:pt x="1045815" y="133055"/>
                    <a:pt x="1077011" y="135978"/>
                    <a:pt x="1089861" y="138503"/>
                  </a:cubicBezTo>
                  <a:cubicBezTo>
                    <a:pt x="1102711" y="141029"/>
                    <a:pt x="1075363" y="143482"/>
                    <a:pt x="1105243" y="148461"/>
                  </a:cubicBezTo>
                  <a:cubicBezTo>
                    <a:pt x="1135124" y="153439"/>
                    <a:pt x="1227845" y="165771"/>
                    <a:pt x="1269144" y="168375"/>
                  </a:cubicBezTo>
                  <a:cubicBezTo>
                    <a:pt x="1279155" y="170900"/>
                    <a:pt x="1285656" y="184936"/>
                    <a:pt x="1299178" y="185477"/>
                  </a:cubicBezTo>
                  <a:cubicBezTo>
                    <a:pt x="1312700" y="186017"/>
                    <a:pt x="1324180" y="171009"/>
                    <a:pt x="1350278" y="171623"/>
                  </a:cubicBezTo>
                  <a:cubicBezTo>
                    <a:pt x="1376375" y="172236"/>
                    <a:pt x="1428751" y="184574"/>
                    <a:pt x="1455763" y="189155"/>
                  </a:cubicBezTo>
                  <a:cubicBezTo>
                    <a:pt x="1482776" y="193737"/>
                    <a:pt x="1495618" y="197441"/>
                    <a:pt x="1512355" y="199112"/>
                  </a:cubicBezTo>
                  <a:cubicBezTo>
                    <a:pt x="1529092" y="200783"/>
                    <a:pt x="1539936" y="197055"/>
                    <a:pt x="1556184" y="199183"/>
                  </a:cubicBezTo>
                  <a:cubicBezTo>
                    <a:pt x="1572433" y="201312"/>
                    <a:pt x="1577595" y="204066"/>
                    <a:pt x="1609845" y="211883"/>
                  </a:cubicBezTo>
                  <a:cubicBezTo>
                    <a:pt x="1642096" y="219701"/>
                    <a:pt x="1684616" y="243560"/>
                    <a:pt x="1749690" y="246085"/>
                  </a:cubicBezTo>
                  <a:cubicBezTo>
                    <a:pt x="1747284" y="255794"/>
                    <a:pt x="1740059" y="288249"/>
                    <a:pt x="1734673" y="299118"/>
                  </a:cubicBezTo>
                  <a:cubicBezTo>
                    <a:pt x="1730637" y="307262"/>
                    <a:pt x="1724662" y="314270"/>
                    <a:pt x="1719656" y="321846"/>
                  </a:cubicBezTo>
                  <a:cubicBezTo>
                    <a:pt x="1716722" y="333688"/>
                    <a:pt x="1714623" y="342209"/>
                    <a:pt x="1713155" y="348204"/>
                  </a:cubicBezTo>
                  <a:lnTo>
                    <a:pt x="1711474" y="355127"/>
                  </a:lnTo>
                  <a:lnTo>
                    <a:pt x="1712668" y="349644"/>
                  </a:lnTo>
                  <a:cubicBezTo>
                    <a:pt x="1713548" y="345080"/>
                    <a:pt x="1712718" y="346348"/>
                    <a:pt x="1704639" y="374878"/>
                  </a:cubicBezTo>
                  <a:cubicBezTo>
                    <a:pt x="1701804" y="384890"/>
                    <a:pt x="1701196" y="395612"/>
                    <a:pt x="1697130" y="405183"/>
                  </a:cubicBezTo>
                  <a:cubicBezTo>
                    <a:pt x="1693576" y="413552"/>
                    <a:pt x="1687119" y="420335"/>
                    <a:pt x="1682113" y="427911"/>
                  </a:cubicBezTo>
                  <a:cubicBezTo>
                    <a:pt x="1681623" y="429890"/>
                    <a:pt x="1671013" y="476003"/>
                    <a:pt x="1667096" y="480943"/>
                  </a:cubicBezTo>
                  <a:cubicBezTo>
                    <a:pt x="1663743" y="485172"/>
                    <a:pt x="1655339" y="490679"/>
                    <a:pt x="1646345" y="495217"/>
                  </a:cubicBezTo>
                  <a:lnTo>
                    <a:pt x="1644536" y="495846"/>
                  </a:lnTo>
                  <a:lnTo>
                    <a:pt x="228841" y="495846"/>
                  </a:lnTo>
                  <a:lnTo>
                    <a:pt x="217949" y="488519"/>
                  </a:lnTo>
                  <a:lnTo>
                    <a:pt x="195423" y="480943"/>
                  </a:lnTo>
                  <a:cubicBezTo>
                    <a:pt x="184143" y="469562"/>
                    <a:pt x="175934" y="461217"/>
                    <a:pt x="170070" y="455215"/>
                  </a:cubicBezTo>
                  <a:lnTo>
                    <a:pt x="161556" y="446404"/>
                  </a:lnTo>
                  <a:lnTo>
                    <a:pt x="161033" y="445705"/>
                  </a:lnTo>
                  <a:cubicBezTo>
                    <a:pt x="157675" y="442091"/>
                    <a:pt x="154993" y="439519"/>
                    <a:pt x="158790" y="443542"/>
                  </a:cubicBezTo>
                  <a:lnTo>
                    <a:pt x="161556" y="446404"/>
                  </a:lnTo>
                  <a:lnTo>
                    <a:pt x="167332" y="454124"/>
                  </a:lnTo>
                  <a:cubicBezTo>
                    <a:pt x="166238" y="454271"/>
                    <a:pt x="160016" y="449910"/>
                    <a:pt x="142863" y="435487"/>
                  </a:cubicBezTo>
                  <a:cubicBezTo>
                    <a:pt x="105367" y="403959"/>
                    <a:pt x="137399" y="418497"/>
                    <a:pt x="97812" y="405183"/>
                  </a:cubicBezTo>
                  <a:cubicBezTo>
                    <a:pt x="90304" y="397606"/>
                    <a:pt x="83444" y="389314"/>
                    <a:pt x="75287" y="382454"/>
                  </a:cubicBezTo>
                  <a:cubicBezTo>
                    <a:pt x="68354" y="376625"/>
                    <a:pt x="58398" y="374412"/>
                    <a:pt x="52761" y="367302"/>
                  </a:cubicBezTo>
                  <a:cubicBezTo>
                    <a:pt x="47817" y="361066"/>
                    <a:pt x="49096" y="351555"/>
                    <a:pt x="45252" y="344574"/>
                  </a:cubicBezTo>
                  <a:cubicBezTo>
                    <a:pt x="25254" y="308253"/>
                    <a:pt x="2704" y="295330"/>
                    <a:pt x="201" y="276389"/>
                  </a:cubicBezTo>
                  <a:cubicBezTo>
                    <a:pt x="-2302" y="257449"/>
                    <a:pt x="19155" y="245307"/>
                    <a:pt x="30235" y="230933"/>
                  </a:cubicBezTo>
                  <a:cubicBezTo>
                    <a:pt x="36755" y="222476"/>
                    <a:pt x="46589" y="216923"/>
                    <a:pt x="52761" y="208205"/>
                  </a:cubicBezTo>
                  <a:cubicBezTo>
                    <a:pt x="87403" y="159271"/>
                    <a:pt x="45897" y="192619"/>
                    <a:pt x="90304" y="162748"/>
                  </a:cubicBezTo>
                  <a:cubicBezTo>
                    <a:pt x="125343" y="109716"/>
                    <a:pt x="105321" y="127393"/>
                    <a:pt x="142863" y="102140"/>
                  </a:cubicBezTo>
                  <a:cubicBezTo>
                    <a:pt x="147869" y="94564"/>
                    <a:pt x="151089" y="85407"/>
                    <a:pt x="157880" y="79412"/>
                  </a:cubicBezTo>
                  <a:cubicBezTo>
                    <a:pt x="171463" y="67420"/>
                    <a:pt x="193471" y="57946"/>
                    <a:pt x="202932" y="49107"/>
                  </a:cubicBezTo>
                  <a:cubicBezTo>
                    <a:pt x="212392" y="40269"/>
                    <a:pt x="183558" y="36835"/>
                    <a:pt x="214645" y="26379"/>
                  </a:cubicBezTo>
                  <a:cubicBezTo>
                    <a:pt x="247182" y="28905"/>
                    <a:pt x="224887" y="14533"/>
                    <a:pt x="231294" y="10144"/>
                  </a:cubicBezTo>
                  <a:cubicBezTo>
                    <a:pt x="237701" y="5754"/>
                    <a:pt x="224029" y="-561"/>
                    <a:pt x="253090" y="41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577" name="文本框 26"/>
          <p:cNvSpPr/>
          <p:nvPr/>
        </p:nvSpPr>
        <p:spPr>
          <a:xfrm>
            <a:off x="4991400" y="436680"/>
            <a:ext cx="2647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Arial"/>
                <a:ea typeface="微软雅黑"/>
              </a:rPr>
              <a:t>英国引进九九乘法表，首相被</a:t>
            </a:r>
            <a:r>
              <a:rPr b="0" lang="en-US" sz="3200" spc="-1" strike="noStrike">
                <a:solidFill>
                  <a:srgbClr val="404040"/>
                </a:solidFill>
                <a:latin typeface="Showcard Gothic"/>
                <a:ea typeface="微软雅黑"/>
              </a:rPr>
              <a:t>9X8</a:t>
            </a:r>
            <a:r>
              <a:rPr b="0" lang="zh-CN" sz="3200" spc="-1" strike="noStrike">
                <a:solidFill>
                  <a:srgbClr val="404040"/>
                </a:solidFill>
                <a:latin typeface="Arial"/>
                <a:ea typeface="微软雅黑"/>
              </a:rPr>
              <a:t>所难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520200" y="253080"/>
            <a:ext cx="8103240" cy="398088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440000" y="704880"/>
            <a:ext cx="6263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Arial"/>
                <a:ea typeface="微软雅黑"/>
              </a:rPr>
              <a:t>杰出的人到底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Arial"/>
                <a:ea typeface="微软雅黑"/>
              </a:rPr>
              <a:t>由什么决定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42"/>
          <p:cNvGrpSpPr/>
          <p:nvPr/>
        </p:nvGrpSpPr>
        <p:grpSpPr>
          <a:xfrm>
            <a:off x="930600" y="6066720"/>
            <a:ext cx="7311600" cy="799560"/>
            <a:chOff x="930600" y="6066720"/>
            <a:chExt cx="7311600" cy="799560"/>
          </a:xfrm>
        </p:grpSpPr>
        <p:grpSp>
          <p:nvGrpSpPr>
            <p:cNvPr id="85" name="组合 11"/>
            <p:cNvGrpSpPr/>
            <p:nvPr/>
          </p:nvGrpSpPr>
          <p:grpSpPr>
            <a:xfrm>
              <a:off x="930600" y="6066720"/>
              <a:ext cx="730800" cy="799560"/>
              <a:chOff x="930600" y="6066720"/>
              <a:chExt cx="730800" cy="799560"/>
            </a:xfrm>
          </p:grpSpPr>
          <p:sp>
            <p:nvSpPr>
              <p:cNvPr id="86" name="椭圆 1"/>
              <p:cNvSpPr/>
              <p:nvPr/>
            </p:nvSpPr>
            <p:spPr>
              <a:xfrm>
                <a:off x="107928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7" name="任意多边形 10"/>
              <p:cNvSpPr/>
              <p:nvPr/>
            </p:nvSpPr>
            <p:spPr>
              <a:xfrm>
                <a:off x="93060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88" name="组合 12"/>
            <p:cNvGrpSpPr/>
            <p:nvPr/>
          </p:nvGrpSpPr>
          <p:grpSpPr>
            <a:xfrm>
              <a:off x="1661760" y="6066720"/>
              <a:ext cx="730800" cy="799560"/>
              <a:chOff x="1661760" y="6066720"/>
              <a:chExt cx="730800" cy="799560"/>
            </a:xfrm>
          </p:grpSpPr>
          <p:sp>
            <p:nvSpPr>
              <p:cNvPr id="89" name="椭圆 13"/>
              <p:cNvSpPr/>
              <p:nvPr/>
            </p:nvSpPr>
            <p:spPr>
              <a:xfrm>
                <a:off x="181044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0" name="任意多边形 14"/>
              <p:cNvSpPr/>
              <p:nvPr/>
            </p:nvSpPr>
            <p:spPr>
              <a:xfrm>
                <a:off x="166176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91" name="组合 15"/>
            <p:cNvGrpSpPr/>
            <p:nvPr/>
          </p:nvGrpSpPr>
          <p:grpSpPr>
            <a:xfrm>
              <a:off x="2392920" y="6066720"/>
              <a:ext cx="730800" cy="799560"/>
              <a:chOff x="2392920" y="6066720"/>
              <a:chExt cx="730800" cy="799560"/>
            </a:xfrm>
          </p:grpSpPr>
          <p:sp>
            <p:nvSpPr>
              <p:cNvPr id="92" name="椭圆 16"/>
              <p:cNvSpPr/>
              <p:nvPr/>
            </p:nvSpPr>
            <p:spPr>
              <a:xfrm>
                <a:off x="254160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3" name="任意多边形 17"/>
              <p:cNvSpPr/>
              <p:nvPr/>
            </p:nvSpPr>
            <p:spPr>
              <a:xfrm>
                <a:off x="239292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94" name="组合 18"/>
            <p:cNvGrpSpPr/>
            <p:nvPr/>
          </p:nvGrpSpPr>
          <p:grpSpPr>
            <a:xfrm>
              <a:off x="3124080" y="6066720"/>
              <a:ext cx="730800" cy="799560"/>
              <a:chOff x="3124080" y="6066720"/>
              <a:chExt cx="730800" cy="799560"/>
            </a:xfrm>
          </p:grpSpPr>
          <p:sp>
            <p:nvSpPr>
              <p:cNvPr id="95" name="椭圆 19"/>
              <p:cNvSpPr/>
              <p:nvPr/>
            </p:nvSpPr>
            <p:spPr>
              <a:xfrm>
                <a:off x="327276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6" name="任意多边形 20"/>
              <p:cNvSpPr/>
              <p:nvPr/>
            </p:nvSpPr>
            <p:spPr>
              <a:xfrm>
                <a:off x="312408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97" name="组合 21"/>
            <p:cNvGrpSpPr/>
            <p:nvPr/>
          </p:nvGrpSpPr>
          <p:grpSpPr>
            <a:xfrm>
              <a:off x="3855600" y="6066720"/>
              <a:ext cx="730800" cy="799560"/>
              <a:chOff x="3855600" y="6066720"/>
              <a:chExt cx="730800" cy="799560"/>
            </a:xfrm>
          </p:grpSpPr>
          <p:sp>
            <p:nvSpPr>
              <p:cNvPr id="98" name="椭圆 22"/>
              <p:cNvSpPr/>
              <p:nvPr/>
            </p:nvSpPr>
            <p:spPr>
              <a:xfrm>
                <a:off x="400392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9" name="任意多边形 23"/>
              <p:cNvSpPr/>
              <p:nvPr/>
            </p:nvSpPr>
            <p:spPr>
              <a:xfrm>
                <a:off x="385560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00" name="组合 24"/>
            <p:cNvGrpSpPr/>
            <p:nvPr/>
          </p:nvGrpSpPr>
          <p:grpSpPr>
            <a:xfrm>
              <a:off x="4586760" y="6066720"/>
              <a:ext cx="730800" cy="799560"/>
              <a:chOff x="4586760" y="6066720"/>
              <a:chExt cx="730800" cy="799560"/>
            </a:xfrm>
          </p:grpSpPr>
          <p:sp>
            <p:nvSpPr>
              <p:cNvPr id="101" name="椭圆 25"/>
              <p:cNvSpPr/>
              <p:nvPr/>
            </p:nvSpPr>
            <p:spPr>
              <a:xfrm>
                <a:off x="473508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2" name="任意多边形 26"/>
              <p:cNvSpPr/>
              <p:nvPr/>
            </p:nvSpPr>
            <p:spPr>
              <a:xfrm>
                <a:off x="458676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03" name="组合 27"/>
            <p:cNvGrpSpPr/>
            <p:nvPr/>
          </p:nvGrpSpPr>
          <p:grpSpPr>
            <a:xfrm>
              <a:off x="5317920" y="6066720"/>
              <a:ext cx="730800" cy="799560"/>
              <a:chOff x="5317920" y="6066720"/>
              <a:chExt cx="730800" cy="799560"/>
            </a:xfrm>
          </p:grpSpPr>
          <p:sp>
            <p:nvSpPr>
              <p:cNvPr id="104" name="椭圆 28"/>
              <p:cNvSpPr/>
              <p:nvPr/>
            </p:nvSpPr>
            <p:spPr>
              <a:xfrm>
                <a:off x="546660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5" name="任意多边形 29"/>
              <p:cNvSpPr/>
              <p:nvPr/>
            </p:nvSpPr>
            <p:spPr>
              <a:xfrm>
                <a:off x="531792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06" name="组合 33"/>
            <p:cNvGrpSpPr/>
            <p:nvPr/>
          </p:nvGrpSpPr>
          <p:grpSpPr>
            <a:xfrm>
              <a:off x="6049080" y="6066720"/>
              <a:ext cx="730800" cy="799560"/>
              <a:chOff x="6049080" y="6066720"/>
              <a:chExt cx="730800" cy="799560"/>
            </a:xfrm>
          </p:grpSpPr>
          <p:sp>
            <p:nvSpPr>
              <p:cNvPr id="107" name="椭圆 34"/>
              <p:cNvSpPr/>
              <p:nvPr/>
            </p:nvSpPr>
            <p:spPr>
              <a:xfrm>
                <a:off x="619776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8" name="任意多边形 35"/>
              <p:cNvSpPr/>
              <p:nvPr/>
            </p:nvSpPr>
            <p:spPr>
              <a:xfrm>
                <a:off x="604908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09" name="组合 36"/>
            <p:cNvGrpSpPr/>
            <p:nvPr/>
          </p:nvGrpSpPr>
          <p:grpSpPr>
            <a:xfrm>
              <a:off x="6780240" y="6066720"/>
              <a:ext cx="730800" cy="799560"/>
              <a:chOff x="6780240" y="6066720"/>
              <a:chExt cx="730800" cy="799560"/>
            </a:xfrm>
          </p:grpSpPr>
          <p:sp>
            <p:nvSpPr>
              <p:cNvPr id="110" name="椭圆 37"/>
              <p:cNvSpPr/>
              <p:nvPr/>
            </p:nvSpPr>
            <p:spPr>
              <a:xfrm>
                <a:off x="692892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" name="任意多边形 38"/>
              <p:cNvSpPr/>
              <p:nvPr/>
            </p:nvSpPr>
            <p:spPr>
              <a:xfrm>
                <a:off x="678024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2" name="组合 39"/>
            <p:cNvGrpSpPr/>
            <p:nvPr/>
          </p:nvGrpSpPr>
          <p:grpSpPr>
            <a:xfrm>
              <a:off x="7511400" y="6066720"/>
              <a:ext cx="730800" cy="799560"/>
              <a:chOff x="7511400" y="6066720"/>
              <a:chExt cx="730800" cy="799560"/>
            </a:xfrm>
          </p:grpSpPr>
          <p:sp>
            <p:nvSpPr>
              <p:cNvPr id="113" name="椭圆 40"/>
              <p:cNvSpPr/>
              <p:nvPr/>
            </p:nvSpPr>
            <p:spPr>
              <a:xfrm>
                <a:off x="7660080" y="6066720"/>
                <a:ext cx="433800" cy="4338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4" name="任意多边形 41"/>
              <p:cNvSpPr/>
              <p:nvPr/>
            </p:nvSpPr>
            <p:spPr>
              <a:xfrm>
                <a:off x="7511400" y="6500880"/>
                <a:ext cx="730800" cy="36540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018932" h="509466">
                    <a:moveTo>
                      <a:pt x="509466" y="0"/>
                    </a:moveTo>
                    <a:cubicBezTo>
                      <a:pt x="790836" y="0"/>
                      <a:pt x="1018932" y="228096"/>
                      <a:pt x="1018932" y="509466"/>
                    </a:cubicBezTo>
                    <a:lnTo>
                      <a:pt x="0" y="509466"/>
                    </a:lnTo>
                    <a:cubicBezTo>
                      <a:pt x="0" y="228096"/>
                      <a:pt x="228096" y="0"/>
                      <a:pt x="509466" y="0"/>
                    </a:cubicBezTo>
                    <a:close/>
                  </a:path>
                </a:pathLst>
              </a:cu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5" name="组合 47"/>
          <p:cNvGrpSpPr/>
          <p:nvPr/>
        </p:nvGrpSpPr>
        <p:grpSpPr>
          <a:xfrm>
            <a:off x="5466600" y="4716360"/>
            <a:ext cx="1071000" cy="1173600"/>
            <a:chOff x="5466600" y="4716360"/>
            <a:chExt cx="1071000" cy="1173600"/>
          </a:xfrm>
        </p:grpSpPr>
        <p:grpSp>
          <p:nvGrpSpPr>
            <p:cNvPr id="116" name="组合 48"/>
            <p:cNvGrpSpPr/>
            <p:nvPr/>
          </p:nvGrpSpPr>
          <p:grpSpPr>
            <a:xfrm>
              <a:off x="5466600" y="4716360"/>
              <a:ext cx="1071000" cy="1173600"/>
              <a:chOff x="5466600" y="4716360"/>
              <a:chExt cx="1071000" cy="1173600"/>
            </a:xfrm>
          </p:grpSpPr>
          <p:sp>
            <p:nvSpPr>
              <p:cNvPr id="117" name="椭圆 50"/>
              <p:cNvSpPr/>
              <p:nvPr/>
            </p:nvSpPr>
            <p:spPr>
              <a:xfrm>
                <a:off x="5466600" y="4716360"/>
                <a:ext cx="1071000" cy="10710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8" name="等腰三角形 51"/>
              <p:cNvSpPr/>
              <p:nvPr/>
            </p:nvSpPr>
            <p:spPr>
              <a:xfrm flipH="1" rot="12600000">
                <a:off x="5718960" y="5630760"/>
                <a:ext cx="245520" cy="211680"/>
              </a:xfrm>
              <a:prstGeom prst="triangle">
                <a:avLst>
                  <a:gd name="adj" fmla="val 50000"/>
                </a:avLst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19" name="矩形 49"/>
            <p:cNvSpPr/>
            <p:nvPr/>
          </p:nvSpPr>
          <p:spPr>
            <a:xfrm>
              <a:off x="5521320" y="5004720"/>
              <a:ext cx="961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勤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52"/>
          <p:cNvGrpSpPr/>
          <p:nvPr/>
        </p:nvGrpSpPr>
        <p:grpSpPr>
          <a:xfrm>
            <a:off x="3180960" y="4980960"/>
            <a:ext cx="1071000" cy="1154160"/>
            <a:chOff x="3180960" y="4980960"/>
            <a:chExt cx="1071000" cy="1154160"/>
          </a:xfrm>
        </p:grpSpPr>
        <p:grpSp>
          <p:nvGrpSpPr>
            <p:cNvPr id="121" name="组合 53"/>
            <p:cNvGrpSpPr/>
            <p:nvPr/>
          </p:nvGrpSpPr>
          <p:grpSpPr>
            <a:xfrm>
              <a:off x="3180960" y="4980960"/>
              <a:ext cx="1071000" cy="1154160"/>
              <a:chOff x="3180960" y="4980960"/>
              <a:chExt cx="1071000" cy="1154160"/>
            </a:xfrm>
          </p:grpSpPr>
          <p:sp>
            <p:nvSpPr>
              <p:cNvPr id="122" name="椭圆 55"/>
              <p:cNvSpPr/>
              <p:nvPr/>
            </p:nvSpPr>
            <p:spPr>
              <a:xfrm>
                <a:off x="3180960" y="4980960"/>
                <a:ext cx="1071000" cy="1071000"/>
              </a:xfrm>
              <a:prstGeom prst="ellipse">
                <a:avLst/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3" name="等腰三角形 56"/>
              <p:cNvSpPr/>
              <p:nvPr/>
            </p:nvSpPr>
            <p:spPr>
              <a:xfrm rot="9000000">
                <a:off x="3803760" y="5875920"/>
                <a:ext cx="245520" cy="211680"/>
              </a:xfrm>
              <a:prstGeom prst="triangle">
                <a:avLst>
                  <a:gd name="adj" fmla="val 50000"/>
                </a:avLst>
              </a:prstGeom>
              <a:solidFill>
                <a:srgbClr val="00ad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24" name="矩形 54"/>
            <p:cNvSpPr/>
            <p:nvPr/>
          </p:nvSpPr>
          <p:spPr>
            <a:xfrm>
              <a:off x="3235680" y="5268960"/>
              <a:ext cx="961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智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9"/>
          <p:cNvGrpSpPr/>
          <p:nvPr/>
        </p:nvGrpSpPr>
        <p:grpSpPr>
          <a:xfrm>
            <a:off x="7345800" y="1800"/>
            <a:ext cx="156960" cy="983520"/>
            <a:chOff x="7345800" y="1800"/>
            <a:chExt cx="156960" cy="983520"/>
          </a:xfrm>
        </p:grpSpPr>
        <p:sp>
          <p:nvSpPr>
            <p:cNvPr id="126" name="椭圆 63"/>
            <p:cNvSpPr/>
            <p:nvPr/>
          </p:nvSpPr>
          <p:spPr>
            <a:xfrm rot="5400000">
              <a:off x="7345800" y="828360"/>
              <a:ext cx="156960" cy="15696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25400">
              <a:solidFill>
                <a:srgbClr val="40404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27" name="直接连接符 64"/>
            <p:cNvCxnSpPr/>
            <p:nvPr/>
          </p:nvCxnSpPr>
          <p:spPr>
            <a:xfrm>
              <a:off x="7426080" y="1800"/>
              <a:ext cx="360" cy="903960"/>
            </a:xfrm>
            <a:prstGeom prst="straightConnector1">
              <a:avLst/>
            </a:prstGeom>
            <a:ln w="25400">
              <a:solidFill>
                <a:srgbClr val="404040"/>
              </a:solidFill>
            </a:ln>
          </p:spPr>
        </p:cxnSp>
      </p:grpSp>
      <p:grpSp>
        <p:nvGrpSpPr>
          <p:cNvPr id="128" name="组合 60"/>
          <p:cNvGrpSpPr/>
          <p:nvPr/>
        </p:nvGrpSpPr>
        <p:grpSpPr>
          <a:xfrm>
            <a:off x="1242720" y="1800"/>
            <a:ext cx="156960" cy="983520"/>
            <a:chOff x="1242720" y="1800"/>
            <a:chExt cx="156960" cy="983520"/>
          </a:xfrm>
        </p:grpSpPr>
        <p:sp>
          <p:nvSpPr>
            <p:cNvPr id="129" name="椭圆 61"/>
            <p:cNvSpPr/>
            <p:nvPr/>
          </p:nvSpPr>
          <p:spPr>
            <a:xfrm rot="5400000">
              <a:off x="1242720" y="828360"/>
              <a:ext cx="156960" cy="15696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25400">
              <a:solidFill>
                <a:srgbClr val="40404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30" name="直接连接符 62"/>
            <p:cNvCxnSpPr/>
            <p:nvPr/>
          </p:nvCxnSpPr>
          <p:spPr>
            <a:xfrm>
              <a:off x="1320120" y="1800"/>
              <a:ext cx="360" cy="913320"/>
            </a:xfrm>
            <a:prstGeom prst="straightConnector1">
              <a:avLst/>
            </a:prstGeom>
            <a:ln w="25400">
              <a:solidFill>
                <a:srgbClr val="404040"/>
              </a:solidFill>
            </a:ln>
          </p:spPr>
        </p:cxnSp>
      </p:grp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17"/>
          <p:cNvSpPr/>
          <p:nvPr/>
        </p:nvSpPr>
        <p:spPr>
          <a:xfrm>
            <a:off x="520200" y="348120"/>
            <a:ext cx="8103240" cy="398088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79" name="矩形 24"/>
          <p:cNvSpPr/>
          <p:nvPr/>
        </p:nvSpPr>
        <p:spPr>
          <a:xfrm>
            <a:off x="1440000" y="923400"/>
            <a:ext cx="6263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5400" spc="-1" strike="noStrike">
                <a:solidFill>
                  <a:srgbClr val="635752"/>
                </a:solidFill>
                <a:latin typeface="Arial"/>
                <a:ea typeface="微软雅黑"/>
              </a:rPr>
              <a:t>关于成功的新公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5400" spc="-1" strike="noStrike">
                <a:solidFill>
                  <a:srgbClr val="635752"/>
                </a:solidFill>
                <a:latin typeface="Arial"/>
                <a:ea typeface="微软雅黑"/>
              </a:rPr>
              <a:t>你心中有答案了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1"/>
          <p:cNvGrpSpPr/>
          <p:nvPr/>
        </p:nvGrpSpPr>
        <p:grpSpPr>
          <a:xfrm>
            <a:off x="-20880" y="1094760"/>
            <a:ext cx="983160" cy="2397600"/>
            <a:chOff x="-20880" y="1094760"/>
            <a:chExt cx="983160" cy="2397600"/>
          </a:xfrm>
        </p:grpSpPr>
        <p:grpSp>
          <p:nvGrpSpPr>
            <p:cNvPr id="581" name="组合 19"/>
            <p:cNvGrpSpPr/>
            <p:nvPr/>
          </p:nvGrpSpPr>
          <p:grpSpPr>
            <a:xfrm>
              <a:off x="-20880" y="1094760"/>
              <a:ext cx="983160" cy="156960"/>
              <a:chOff x="-20880" y="1094760"/>
              <a:chExt cx="983160" cy="156960"/>
            </a:xfrm>
          </p:grpSpPr>
          <p:sp>
            <p:nvSpPr>
              <p:cNvPr id="582" name="椭圆 20"/>
              <p:cNvSpPr/>
              <p:nvPr/>
            </p:nvSpPr>
            <p:spPr>
              <a:xfrm>
                <a:off x="805320" y="109476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583" name="直接连接符 21"/>
              <p:cNvCxnSpPr/>
              <p:nvPr/>
            </p:nvCxnSpPr>
            <p:spPr>
              <a:xfrm>
                <a:off x="-20880" y="1173960"/>
                <a:ext cx="912960" cy="3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584" name="组合 15"/>
            <p:cNvGrpSpPr/>
            <p:nvPr/>
          </p:nvGrpSpPr>
          <p:grpSpPr>
            <a:xfrm>
              <a:off x="-20880" y="3335400"/>
              <a:ext cx="983160" cy="156960"/>
              <a:chOff x="-20880" y="3335400"/>
              <a:chExt cx="983160" cy="156960"/>
            </a:xfrm>
          </p:grpSpPr>
          <p:sp>
            <p:nvSpPr>
              <p:cNvPr id="585" name="椭圆 25"/>
              <p:cNvSpPr/>
              <p:nvPr/>
            </p:nvSpPr>
            <p:spPr>
              <a:xfrm>
                <a:off x="805320" y="333540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586" name="直接连接符 26"/>
              <p:cNvCxnSpPr/>
              <p:nvPr/>
            </p:nvCxnSpPr>
            <p:spPr>
              <a:xfrm>
                <a:off x="-20880" y="3414600"/>
                <a:ext cx="912960" cy="3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grpSp>
        <p:nvGrpSpPr>
          <p:cNvPr id="587" name="组合 27"/>
          <p:cNvGrpSpPr/>
          <p:nvPr/>
        </p:nvGrpSpPr>
        <p:grpSpPr>
          <a:xfrm>
            <a:off x="8181360" y="1094760"/>
            <a:ext cx="983520" cy="2397600"/>
            <a:chOff x="8181360" y="1094760"/>
            <a:chExt cx="983520" cy="2397600"/>
          </a:xfrm>
        </p:grpSpPr>
        <p:grpSp>
          <p:nvGrpSpPr>
            <p:cNvPr id="588" name="组合 28"/>
            <p:cNvGrpSpPr/>
            <p:nvPr/>
          </p:nvGrpSpPr>
          <p:grpSpPr>
            <a:xfrm>
              <a:off x="8181360" y="1094760"/>
              <a:ext cx="983520" cy="156960"/>
              <a:chOff x="8181360" y="1094760"/>
              <a:chExt cx="983520" cy="156960"/>
            </a:xfrm>
          </p:grpSpPr>
          <p:sp>
            <p:nvSpPr>
              <p:cNvPr id="589" name="椭圆 32"/>
              <p:cNvSpPr/>
              <p:nvPr/>
            </p:nvSpPr>
            <p:spPr>
              <a:xfrm flipH="1">
                <a:off x="8181360" y="109476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590" name="直接连接符 33"/>
              <p:cNvCxnSpPr/>
              <p:nvPr/>
            </p:nvCxnSpPr>
            <p:spPr>
              <a:xfrm flipH="1">
                <a:off x="8251920" y="1173960"/>
                <a:ext cx="913320" cy="3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591" name="组合 29"/>
            <p:cNvGrpSpPr/>
            <p:nvPr/>
          </p:nvGrpSpPr>
          <p:grpSpPr>
            <a:xfrm>
              <a:off x="8181360" y="3335400"/>
              <a:ext cx="983520" cy="156960"/>
              <a:chOff x="8181360" y="3335400"/>
              <a:chExt cx="983520" cy="156960"/>
            </a:xfrm>
          </p:grpSpPr>
          <p:sp>
            <p:nvSpPr>
              <p:cNvPr id="592" name="椭圆 30"/>
              <p:cNvSpPr/>
              <p:nvPr/>
            </p:nvSpPr>
            <p:spPr>
              <a:xfrm flipH="1">
                <a:off x="8181360" y="333540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593" name="直接连接符 31"/>
              <p:cNvCxnSpPr/>
              <p:nvPr/>
            </p:nvCxnSpPr>
            <p:spPr>
              <a:xfrm flipH="1">
                <a:off x="8251920" y="3414600"/>
                <a:ext cx="913320" cy="3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594" name="Text Box 4"/>
          <p:cNvSpPr/>
          <p:nvPr/>
        </p:nvSpPr>
        <p:spPr>
          <a:xfrm>
            <a:off x="582840" y="6381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4"/>
          <p:cNvSpPr/>
          <p:nvPr/>
        </p:nvSpPr>
        <p:spPr>
          <a:xfrm>
            <a:off x="582840" y="3207600"/>
            <a:ext cx="8019720" cy="308484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2" name="矩形 12"/>
          <p:cNvSpPr/>
          <p:nvPr/>
        </p:nvSpPr>
        <p:spPr>
          <a:xfrm flipV="1">
            <a:off x="0" y="107280"/>
            <a:ext cx="9143640" cy="2188440"/>
          </a:xfrm>
          <a:prstGeom prst="rect">
            <a:avLst/>
          </a:prstGeom>
          <a:solidFill>
            <a:srgbClr val="00969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3" name="矩形 11"/>
          <p:cNvSpPr/>
          <p:nvPr/>
        </p:nvSpPr>
        <p:spPr>
          <a:xfrm flipV="1">
            <a:off x="0" y="-720"/>
            <a:ext cx="9143640" cy="2188440"/>
          </a:xfrm>
          <a:prstGeom prst="rect">
            <a:avLst/>
          </a:prstGeom>
          <a:solidFill>
            <a:srgbClr val="00ad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1008000" y="412560"/>
            <a:ext cx="7127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成功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智商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+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"/>
          <p:cNvSpPr/>
          <p:nvPr/>
        </p:nvSpPr>
        <p:spPr>
          <a:xfrm>
            <a:off x="1711800" y="3878640"/>
            <a:ext cx="58953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4800" spc="-1" strike="noStrike">
                <a:solidFill>
                  <a:srgbClr val="404040"/>
                </a:solidFill>
                <a:latin typeface="Arial"/>
                <a:ea typeface="微软雅黑"/>
              </a:rPr>
              <a:t>这是小学学的公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4400" spc="-1" strike="noStrike">
                <a:solidFill>
                  <a:srgbClr val="00ada7"/>
                </a:solidFill>
                <a:latin typeface="Arial"/>
                <a:ea typeface="微软雅黑"/>
              </a:rPr>
              <a:t>老观念早就需要升级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6" name="直接连接符 23"/>
          <p:cNvCxnSpPr/>
          <p:nvPr/>
        </p:nvCxnSpPr>
        <p:spPr>
          <a:xfrm>
            <a:off x="1842840" y="1856880"/>
            <a:ext cx="2011320" cy="739080"/>
          </a:xfrm>
          <a:prstGeom prst="straightConnector1">
            <a:avLst/>
          </a:prstGeom>
          <a:ln w="38100">
            <a:solidFill>
              <a:srgbClr val="585f5b"/>
            </a:solidFill>
          </a:ln>
        </p:spPr>
      </p:cxnSp>
      <p:cxnSp>
        <p:nvCxnSpPr>
          <p:cNvPr id="137" name="直接连接符 24"/>
          <p:cNvCxnSpPr/>
          <p:nvPr/>
        </p:nvCxnSpPr>
        <p:spPr>
          <a:xfrm flipV="1">
            <a:off x="2632320" y="2913120"/>
            <a:ext cx="1440000" cy="473040"/>
          </a:xfrm>
          <a:prstGeom prst="straightConnector1">
            <a:avLst/>
          </a:prstGeom>
          <a:ln w="38100">
            <a:solidFill>
              <a:srgbClr val="585f5b"/>
            </a:solidFill>
          </a:ln>
        </p:spPr>
      </p:cxnSp>
      <p:cxnSp>
        <p:nvCxnSpPr>
          <p:cNvPr id="138" name="直接连接符 26"/>
          <p:cNvCxnSpPr/>
          <p:nvPr/>
        </p:nvCxnSpPr>
        <p:spPr>
          <a:xfrm>
            <a:off x="5303520" y="2863080"/>
            <a:ext cx="1482840" cy="523080"/>
          </a:xfrm>
          <a:prstGeom prst="straightConnector1">
            <a:avLst/>
          </a:prstGeom>
          <a:ln w="38100">
            <a:solidFill>
              <a:srgbClr val="585f5b"/>
            </a:solidFill>
          </a:ln>
        </p:spPr>
      </p:cxnSp>
      <p:cxnSp>
        <p:nvCxnSpPr>
          <p:cNvPr id="139" name="直接连接符 29"/>
          <p:cNvCxnSpPr/>
          <p:nvPr/>
        </p:nvCxnSpPr>
        <p:spPr>
          <a:xfrm>
            <a:off x="3918600" y="1317960"/>
            <a:ext cx="539280" cy="1032120"/>
          </a:xfrm>
          <a:prstGeom prst="straightConnector1">
            <a:avLst/>
          </a:prstGeom>
          <a:ln w="38100">
            <a:solidFill>
              <a:srgbClr val="585f5b"/>
            </a:solidFill>
          </a:ln>
        </p:spPr>
      </p:cxnSp>
      <p:cxnSp>
        <p:nvCxnSpPr>
          <p:cNvPr id="140" name="直接连接符 31"/>
          <p:cNvCxnSpPr/>
          <p:nvPr/>
        </p:nvCxnSpPr>
        <p:spPr>
          <a:xfrm flipH="1">
            <a:off x="5189760" y="1640160"/>
            <a:ext cx="1157040" cy="758520"/>
          </a:xfrm>
          <a:prstGeom prst="straightConnector1">
            <a:avLst/>
          </a:prstGeom>
          <a:ln w="38100">
            <a:solidFill>
              <a:srgbClr val="585f5b"/>
            </a:solidFill>
          </a:ln>
        </p:spPr>
      </p:cxnSp>
      <p:grpSp>
        <p:nvGrpSpPr>
          <p:cNvPr id="141" name="组合 33"/>
          <p:cNvGrpSpPr/>
          <p:nvPr/>
        </p:nvGrpSpPr>
        <p:grpSpPr>
          <a:xfrm>
            <a:off x="3647160" y="1956960"/>
            <a:ext cx="1934640" cy="1934640"/>
            <a:chOff x="3647160" y="1956960"/>
            <a:chExt cx="1934640" cy="1934640"/>
          </a:xfrm>
        </p:grpSpPr>
        <p:sp>
          <p:nvSpPr>
            <p:cNvPr id="142" name="椭圆 34"/>
            <p:cNvSpPr/>
            <p:nvPr/>
          </p:nvSpPr>
          <p:spPr>
            <a:xfrm>
              <a:off x="3647160" y="1956960"/>
              <a:ext cx="1934640" cy="1934640"/>
            </a:xfrm>
            <a:prstGeom prst="ellipse">
              <a:avLst/>
            </a:prstGeom>
            <a:solidFill>
              <a:srgbClr val="b7dac4"/>
            </a:solidFill>
            <a:ln w="50800">
              <a:solidFill>
                <a:srgbClr val="40404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43" name="图片 35"/>
            <p:cNvSpPr/>
            <p:nvPr/>
          </p:nvSpPr>
          <p:spPr>
            <a:xfrm>
              <a:off x="3854160" y="2261160"/>
              <a:ext cx="1611360" cy="1611360"/>
            </a:xfrm>
            <a:custGeom>
              <a:avLst/>
              <a:gdLst>
                <a:gd name="textAreaLeft" fmla="*/ 0 w 1611360"/>
                <a:gd name="textAreaRight" fmla="*/ 1611720 w 16113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2145317" h="2145172">
                  <a:moveTo>
                    <a:pt x="61944" y="0"/>
                  </a:moveTo>
                  <a:lnTo>
                    <a:pt x="1979176" y="0"/>
                  </a:lnTo>
                  <a:lnTo>
                    <a:pt x="2014158" y="38490"/>
                  </a:lnTo>
                  <a:cubicBezTo>
                    <a:pt x="2040399" y="70287"/>
                    <a:pt x="2065143" y="103365"/>
                    <a:pt x="2088283" y="137616"/>
                  </a:cubicBezTo>
                  <a:lnTo>
                    <a:pt x="2145317" y="231497"/>
                  </a:lnTo>
                  <a:lnTo>
                    <a:pt x="2145317" y="1483587"/>
                  </a:lnTo>
                  <a:lnTo>
                    <a:pt x="2088283" y="1577468"/>
                  </a:lnTo>
                  <a:cubicBezTo>
                    <a:pt x="1856886" y="1919980"/>
                    <a:pt x="1465021" y="2145172"/>
                    <a:pt x="1020560" y="2145172"/>
                  </a:cubicBezTo>
                  <a:cubicBezTo>
                    <a:pt x="620545" y="2145172"/>
                    <a:pt x="263133" y="1962767"/>
                    <a:pt x="26962" y="1676594"/>
                  </a:cubicBezTo>
                  <a:lnTo>
                    <a:pt x="0" y="1640538"/>
                  </a:lnTo>
                  <a:lnTo>
                    <a:pt x="0" y="74546"/>
                  </a:lnTo>
                  <a:lnTo>
                    <a:pt x="26962" y="3849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椭圆 36"/>
          <p:cNvSpPr/>
          <p:nvPr/>
        </p:nvSpPr>
        <p:spPr>
          <a:xfrm>
            <a:off x="3038400" y="213840"/>
            <a:ext cx="1533240" cy="1533240"/>
          </a:xfrm>
          <a:prstGeom prst="ellipse">
            <a:avLst/>
          </a:prstGeom>
          <a:solidFill>
            <a:srgbClr val="e237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7"/>
          <p:cNvSpPr/>
          <p:nvPr/>
        </p:nvSpPr>
        <p:spPr>
          <a:xfrm>
            <a:off x="5979960" y="662760"/>
            <a:ext cx="1612080" cy="1612080"/>
          </a:xfrm>
          <a:prstGeom prst="ellipse">
            <a:avLst/>
          </a:prstGeom>
          <a:solidFill>
            <a:srgbClr val="ffd44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262626"/>
                </a:solidFill>
                <a:latin typeface="Arial"/>
                <a:ea typeface="微软雅黑"/>
              </a:rPr>
              <a:t>智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8"/>
          <p:cNvSpPr/>
          <p:nvPr/>
        </p:nvSpPr>
        <p:spPr>
          <a:xfrm>
            <a:off x="1641960" y="2496600"/>
            <a:ext cx="1448640" cy="1448640"/>
          </a:xfrm>
          <a:prstGeom prst="ellipse">
            <a:avLst/>
          </a:prstGeom>
          <a:solidFill>
            <a:srgbClr val="00ad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lt1"/>
                </a:solidFill>
                <a:latin typeface="Arial"/>
                <a:ea typeface="微软雅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9"/>
          <p:cNvSpPr/>
          <p:nvPr/>
        </p:nvSpPr>
        <p:spPr>
          <a:xfrm>
            <a:off x="776520" y="1101240"/>
            <a:ext cx="1234080" cy="1234080"/>
          </a:xfrm>
          <a:prstGeom prst="ellipse">
            <a:avLst/>
          </a:prstGeom>
          <a:solidFill>
            <a:srgbClr val="2e3d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Arial"/>
                <a:ea typeface="微软雅黑"/>
              </a:rPr>
              <a:t>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椭圆 40"/>
          <p:cNvSpPr/>
          <p:nvPr/>
        </p:nvSpPr>
        <p:spPr>
          <a:xfrm>
            <a:off x="6138360" y="2595960"/>
            <a:ext cx="1295640" cy="1295640"/>
          </a:xfrm>
          <a:prstGeom prst="ellipse">
            <a:avLst/>
          </a:prstGeom>
          <a:solidFill>
            <a:srgbClr val="808c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Arial"/>
                <a:ea typeface="微软雅黑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1864800" y="5000400"/>
            <a:ext cx="54561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000" spc="-1" strike="noStrike">
                <a:solidFill>
                  <a:srgbClr val="00ada7"/>
                </a:solidFill>
                <a:latin typeface="微软雅黑"/>
                <a:ea typeface="微软雅黑"/>
              </a:rPr>
              <a:t>马尔科姆</a:t>
            </a:r>
            <a:r>
              <a:rPr b="1" lang="en-US" sz="4000" spc="-1" strike="noStrike">
                <a:solidFill>
                  <a:srgbClr val="00ada7"/>
                </a:solidFill>
                <a:latin typeface="微软雅黑"/>
                <a:ea typeface="微软雅黑"/>
              </a:rPr>
              <a:t>·</a:t>
            </a:r>
            <a:r>
              <a:rPr b="1" lang="zh-CN" sz="4000" spc="-1" strike="noStrike">
                <a:solidFill>
                  <a:srgbClr val="00ada7"/>
                </a:solidFill>
                <a:latin typeface="微软雅黑"/>
                <a:ea typeface="微软雅黑"/>
              </a:rPr>
              <a:t>格拉德威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给你新的成功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4065120" y="4455720"/>
            <a:ext cx="87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《</a:t>
            </a: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纽约客》怪才、传奇作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9"/>
          <p:cNvSpPr/>
          <p:nvPr/>
        </p:nvSpPr>
        <p:spPr>
          <a:xfrm>
            <a:off x="582840" y="2546280"/>
            <a:ext cx="8019720" cy="473040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2" name="直角三角形 30"/>
          <p:cNvSpPr/>
          <p:nvPr/>
        </p:nvSpPr>
        <p:spPr>
          <a:xfrm>
            <a:off x="1803600" y="323640"/>
            <a:ext cx="418320" cy="209160"/>
          </a:xfrm>
          <a:prstGeom prst="rtTriangle">
            <a:avLst/>
          </a:prstGeom>
          <a:solidFill>
            <a:srgbClr val="656b6e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582840" y="541800"/>
            <a:ext cx="8019720" cy="1805400"/>
          </a:xfrm>
          <a:prstGeom prst="rect">
            <a:avLst/>
          </a:prstGeom>
          <a:solidFill>
            <a:srgbClr val="ffd44b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2281680" y="724680"/>
            <a:ext cx="300312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4050" spc="-1" strike="noStrike">
                <a:solidFill>
                  <a:srgbClr val="2e3d55"/>
                </a:solidFill>
                <a:latin typeface="Showcard Gothic"/>
                <a:ea typeface="微软雅黑"/>
              </a:rPr>
              <a:t>IQ</a:t>
            </a:r>
            <a:r>
              <a:rPr b="1" lang="en-US" sz="4050" spc="-1" strike="noStrike">
                <a:solidFill>
                  <a:srgbClr val="2e3d55"/>
                </a:solidFill>
                <a:latin typeface="微软雅黑"/>
                <a:ea typeface="微软雅黑"/>
              </a:rPr>
              <a:t>=</a:t>
            </a:r>
            <a:r>
              <a:rPr b="1" lang="en-US" sz="4050" spc="-1" strike="noStrike">
                <a:solidFill>
                  <a:srgbClr val="2e3d55"/>
                </a:solidFill>
                <a:latin typeface="Showcard Gothic"/>
                <a:ea typeface="微软雅黑"/>
              </a:rPr>
              <a:t>195</a:t>
            </a:r>
            <a:r>
              <a:rPr b="1" lang="en-US" sz="4050" spc="-1" strike="noStrike">
                <a:solidFill>
                  <a:srgbClr val="2e3d55"/>
                </a:solidFill>
                <a:latin typeface="微软雅黑"/>
                <a:ea typeface="微软雅黑"/>
              </a:rPr>
              <a:t>≠</a:t>
            </a:r>
            <a:r>
              <a:rPr b="1" lang="zh-CN" sz="4050" spc="-1" strike="noStrike">
                <a:solidFill>
                  <a:srgbClr val="2e3d55"/>
                </a:solidFill>
                <a:latin typeface="微软雅黑"/>
                <a:ea typeface="微软雅黑"/>
              </a:rPr>
              <a:t>成功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77"/>
          <p:cNvGrpSpPr/>
          <p:nvPr/>
        </p:nvGrpSpPr>
        <p:grpSpPr>
          <a:xfrm>
            <a:off x="1018440" y="2040480"/>
            <a:ext cx="7206120" cy="789120"/>
            <a:chOff x="1018440" y="2040480"/>
            <a:chExt cx="7206120" cy="789120"/>
          </a:xfrm>
        </p:grpSpPr>
        <p:grpSp>
          <p:nvGrpSpPr>
            <p:cNvPr id="156" name="组合 178"/>
            <p:cNvGrpSpPr/>
            <p:nvPr/>
          </p:nvGrpSpPr>
          <p:grpSpPr>
            <a:xfrm>
              <a:off x="8067600" y="2049840"/>
              <a:ext cx="156960" cy="779760"/>
              <a:chOff x="8067600" y="2049840"/>
              <a:chExt cx="156960" cy="779760"/>
            </a:xfrm>
          </p:grpSpPr>
          <p:sp>
            <p:nvSpPr>
              <p:cNvPr id="157" name="椭圆 184"/>
              <p:cNvSpPr/>
              <p:nvPr/>
            </p:nvSpPr>
            <p:spPr>
              <a:xfrm rot="5400000">
                <a:off x="8067600" y="20498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58" name="椭圆 185"/>
              <p:cNvSpPr/>
              <p:nvPr/>
            </p:nvSpPr>
            <p:spPr>
              <a:xfrm rot="5400000">
                <a:off x="8067600" y="26726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159" name="直接连接符 186"/>
              <p:cNvCxnSpPr/>
              <p:nvPr/>
            </p:nvCxnSpPr>
            <p:spPr>
              <a:xfrm>
                <a:off x="81482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160" name="组合 179"/>
            <p:cNvGrpSpPr/>
            <p:nvPr/>
          </p:nvGrpSpPr>
          <p:grpSpPr>
            <a:xfrm>
              <a:off x="1018440" y="2040480"/>
              <a:ext cx="156960" cy="779760"/>
              <a:chOff x="1018440" y="2040480"/>
              <a:chExt cx="156960" cy="779760"/>
            </a:xfrm>
          </p:grpSpPr>
          <p:grpSp>
            <p:nvGrpSpPr>
              <p:cNvPr id="161" name="组合 180"/>
              <p:cNvGrpSpPr/>
              <p:nvPr/>
            </p:nvGrpSpPr>
            <p:grpSpPr>
              <a:xfrm>
                <a:off x="1018440" y="2040480"/>
                <a:ext cx="156960" cy="779760"/>
                <a:chOff x="1018440" y="2040480"/>
                <a:chExt cx="156960" cy="779760"/>
              </a:xfrm>
            </p:grpSpPr>
            <p:sp>
              <p:nvSpPr>
                <p:cNvPr id="162" name="椭圆 182"/>
                <p:cNvSpPr/>
                <p:nvPr/>
              </p:nvSpPr>
              <p:spPr>
                <a:xfrm rot="5400000">
                  <a:off x="1018440" y="20404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63" name="椭圆 183"/>
                <p:cNvSpPr/>
                <p:nvPr/>
              </p:nvSpPr>
              <p:spPr>
                <a:xfrm rot="5400000">
                  <a:off x="1018440" y="26632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cxnSp>
            <p:nvCxnSpPr>
              <p:cNvPr id="164" name="直接连接符 181"/>
              <p:cNvCxnSpPr/>
              <p:nvPr/>
            </p:nvCxnSpPr>
            <p:spPr>
              <a:xfrm>
                <a:off x="10958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165" name="矩形 31"/>
          <p:cNvSpPr/>
          <p:nvPr/>
        </p:nvSpPr>
        <p:spPr>
          <a:xfrm>
            <a:off x="1014480" y="318600"/>
            <a:ext cx="781920" cy="1182960"/>
          </a:xfrm>
          <a:prstGeom prst="rect">
            <a:avLst/>
          </a:prstGeom>
          <a:solidFill>
            <a:srgbClr val="808c9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6" name="文本框 32"/>
          <p:cNvSpPr/>
          <p:nvPr/>
        </p:nvSpPr>
        <p:spPr>
          <a:xfrm>
            <a:off x="1232280" y="587520"/>
            <a:ext cx="346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7231320" y="936720"/>
            <a:ext cx="914040" cy="716040"/>
            <a:chOff x="7231320" y="936720"/>
            <a:chExt cx="914040" cy="716040"/>
          </a:xfrm>
        </p:grpSpPr>
        <p:sp>
          <p:nvSpPr>
            <p:cNvPr id="168" name="Freeform 5"/>
            <p:cNvSpPr/>
            <p:nvPr/>
          </p:nvSpPr>
          <p:spPr>
            <a:xfrm flipH="1">
              <a:off x="7230960" y="1137240"/>
              <a:ext cx="914040" cy="51552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1744" h="982">
                  <a:moveTo>
                    <a:pt x="1726" y="628"/>
                  </a:moveTo>
                  <a:cubicBezTo>
                    <a:pt x="1700" y="577"/>
                    <a:pt x="1646" y="542"/>
                    <a:pt x="1590" y="536"/>
                  </a:cubicBezTo>
                  <a:cubicBezTo>
                    <a:pt x="1589" y="529"/>
                    <a:pt x="1587" y="523"/>
                    <a:pt x="1583" y="517"/>
                  </a:cubicBezTo>
                  <a:cubicBezTo>
                    <a:pt x="1579" y="512"/>
                    <a:pt x="1576" y="506"/>
                    <a:pt x="1573" y="501"/>
                  </a:cubicBezTo>
                  <a:cubicBezTo>
                    <a:pt x="1570" y="495"/>
                    <a:pt x="1567" y="490"/>
                    <a:pt x="1563" y="485"/>
                  </a:cubicBezTo>
                  <a:cubicBezTo>
                    <a:pt x="1566" y="482"/>
                    <a:pt x="1568" y="478"/>
                    <a:pt x="1570" y="475"/>
                  </a:cubicBezTo>
                  <a:cubicBezTo>
                    <a:pt x="1596" y="428"/>
                    <a:pt x="1580" y="328"/>
                    <a:pt x="1550" y="277"/>
                  </a:cubicBezTo>
                  <a:cubicBezTo>
                    <a:pt x="1525" y="234"/>
                    <a:pt x="1493" y="225"/>
                    <a:pt x="1471" y="225"/>
                  </a:cubicBezTo>
                  <a:cubicBezTo>
                    <a:pt x="1471" y="225"/>
                    <a:pt x="1471" y="225"/>
                    <a:pt x="1471" y="225"/>
                  </a:cubicBezTo>
                  <a:cubicBezTo>
                    <a:pt x="1469" y="225"/>
                    <a:pt x="1469" y="225"/>
                    <a:pt x="1469" y="225"/>
                  </a:cubicBezTo>
                  <a:cubicBezTo>
                    <a:pt x="1464" y="225"/>
                    <a:pt x="1460" y="226"/>
                    <a:pt x="1455" y="228"/>
                  </a:cubicBezTo>
                  <a:cubicBezTo>
                    <a:pt x="1438" y="211"/>
                    <a:pt x="1412" y="203"/>
                    <a:pt x="1379" y="203"/>
                  </a:cubicBezTo>
                  <a:cubicBezTo>
                    <a:pt x="1372" y="203"/>
                    <a:pt x="1365" y="203"/>
                    <a:pt x="1357" y="204"/>
                  </a:cubicBezTo>
                  <a:cubicBezTo>
                    <a:pt x="1361" y="187"/>
                    <a:pt x="1359" y="169"/>
                    <a:pt x="1352" y="152"/>
                  </a:cubicBezTo>
                  <a:cubicBezTo>
                    <a:pt x="1329" y="93"/>
                    <a:pt x="1246" y="46"/>
                    <a:pt x="1167" y="46"/>
                  </a:cubicBezTo>
                  <a:cubicBezTo>
                    <a:pt x="1137" y="46"/>
                    <a:pt x="1110" y="52"/>
                    <a:pt x="1086" y="65"/>
                  </a:cubicBezTo>
                  <a:cubicBezTo>
                    <a:pt x="1053" y="33"/>
                    <a:pt x="990" y="11"/>
                    <a:pt x="934" y="11"/>
                  </a:cubicBezTo>
                  <a:cubicBezTo>
                    <a:pt x="905" y="11"/>
                    <a:pt x="879" y="17"/>
                    <a:pt x="858" y="29"/>
                  </a:cubicBezTo>
                  <a:cubicBezTo>
                    <a:pt x="856" y="27"/>
                    <a:pt x="855" y="24"/>
                    <a:pt x="853" y="22"/>
                  </a:cubicBezTo>
                  <a:cubicBezTo>
                    <a:pt x="846" y="12"/>
                    <a:pt x="836" y="5"/>
                    <a:pt x="823" y="3"/>
                  </a:cubicBezTo>
                  <a:cubicBezTo>
                    <a:pt x="814" y="1"/>
                    <a:pt x="803" y="0"/>
                    <a:pt x="793" y="0"/>
                  </a:cubicBezTo>
                  <a:cubicBezTo>
                    <a:pt x="750" y="0"/>
                    <a:pt x="709" y="14"/>
                    <a:pt x="666" y="29"/>
                  </a:cubicBezTo>
                  <a:cubicBezTo>
                    <a:pt x="654" y="33"/>
                    <a:pt x="654" y="33"/>
                    <a:pt x="654" y="33"/>
                  </a:cubicBezTo>
                  <a:cubicBezTo>
                    <a:pt x="591" y="54"/>
                    <a:pt x="525" y="76"/>
                    <a:pt x="500" y="138"/>
                  </a:cubicBezTo>
                  <a:cubicBezTo>
                    <a:pt x="489" y="137"/>
                    <a:pt x="479" y="136"/>
                    <a:pt x="467" y="136"/>
                  </a:cubicBezTo>
                  <a:cubicBezTo>
                    <a:pt x="438" y="136"/>
                    <a:pt x="407" y="142"/>
                    <a:pt x="383" y="153"/>
                  </a:cubicBezTo>
                  <a:cubicBezTo>
                    <a:pt x="378" y="155"/>
                    <a:pt x="373" y="159"/>
                    <a:pt x="369" y="163"/>
                  </a:cubicBezTo>
                  <a:cubicBezTo>
                    <a:pt x="353" y="179"/>
                    <a:pt x="349" y="194"/>
                    <a:pt x="349" y="207"/>
                  </a:cubicBezTo>
                  <a:cubicBezTo>
                    <a:pt x="347" y="207"/>
                    <a:pt x="347" y="207"/>
                    <a:pt x="347" y="207"/>
                  </a:cubicBezTo>
                  <a:cubicBezTo>
                    <a:pt x="297" y="207"/>
                    <a:pt x="259" y="221"/>
                    <a:pt x="235" y="248"/>
                  </a:cubicBezTo>
                  <a:cubicBezTo>
                    <a:pt x="217" y="269"/>
                    <a:pt x="208" y="297"/>
                    <a:pt x="207" y="330"/>
                  </a:cubicBezTo>
                  <a:cubicBezTo>
                    <a:pt x="204" y="331"/>
                    <a:pt x="201" y="332"/>
                    <a:pt x="198" y="333"/>
                  </a:cubicBezTo>
                  <a:cubicBezTo>
                    <a:pt x="182" y="339"/>
                    <a:pt x="165" y="345"/>
                    <a:pt x="150" y="356"/>
                  </a:cubicBezTo>
                  <a:cubicBezTo>
                    <a:pt x="141" y="362"/>
                    <a:pt x="135" y="370"/>
                    <a:pt x="132" y="380"/>
                  </a:cubicBezTo>
                  <a:cubicBezTo>
                    <a:pt x="123" y="406"/>
                    <a:pt x="125" y="436"/>
                    <a:pt x="137" y="461"/>
                  </a:cubicBezTo>
                  <a:cubicBezTo>
                    <a:pt x="116" y="484"/>
                    <a:pt x="99" y="521"/>
                    <a:pt x="81" y="562"/>
                  </a:cubicBezTo>
                  <a:cubicBezTo>
                    <a:pt x="76" y="573"/>
                    <a:pt x="71" y="583"/>
                    <a:pt x="68" y="588"/>
                  </a:cubicBezTo>
                  <a:cubicBezTo>
                    <a:pt x="63" y="598"/>
                    <a:pt x="57" y="608"/>
                    <a:pt x="51" y="618"/>
                  </a:cubicBezTo>
                  <a:cubicBezTo>
                    <a:pt x="27" y="657"/>
                    <a:pt x="0" y="702"/>
                    <a:pt x="8" y="756"/>
                  </a:cubicBezTo>
                  <a:cubicBezTo>
                    <a:pt x="10" y="768"/>
                    <a:pt x="18" y="780"/>
                    <a:pt x="28" y="787"/>
                  </a:cubicBezTo>
                  <a:cubicBezTo>
                    <a:pt x="36" y="793"/>
                    <a:pt x="46" y="796"/>
                    <a:pt x="55" y="796"/>
                  </a:cubicBezTo>
                  <a:cubicBezTo>
                    <a:pt x="58" y="796"/>
                    <a:pt x="62" y="795"/>
                    <a:pt x="65" y="795"/>
                  </a:cubicBezTo>
                  <a:cubicBezTo>
                    <a:pt x="64" y="808"/>
                    <a:pt x="65" y="823"/>
                    <a:pt x="66" y="838"/>
                  </a:cubicBezTo>
                  <a:cubicBezTo>
                    <a:pt x="67" y="847"/>
                    <a:pt x="70" y="856"/>
                    <a:pt x="76" y="863"/>
                  </a:cubicBezTo>
                  <a:cubicBezTo>
                    <a:pt x="87" y="877"/>
                    <a:pt x="107" y="892"/>
                    <a:pt x="144" y="892"/>
                  </a:cubicBezTo>
                  <a:cubicBezTo>
                    <a:pt x="154" y="892"/>
                    <a:pt x="164" y="891"/>
                    <a:pt x="175" y="889"/>
                  </a:cubicBezTo>
                  <a:cubicBezTo>
                    <a:pt x="178" y="897"/>
                    <a:pt x="183" y="905"/>
                    <a:pt x="190" y="910"/>
                  </a:cubicBezTo>
                  <a:cubicBezTo>
                    <a:pt x="219" y="933"/>
                    <a:pt x="255" y="944"/>
                    <a:pt x="303" y="944"/>
                  </a:cubicBezTo>
                  <a:cubicBezTo>
                    <a:pt x="346" y="944"/>
                    <a:pt x="389" y="935"/>
                    <a:pt x="424" y="927"/>
                  </a:cubicBezTo>
                  <a:cubicBezTo>
                    <a:pt x="425" y="929"/>
                    <a:pt x="426" y="930"/>
                    <a:pt x="427" y="931"/>
                  </a:cubicBezTo>
                  <a:cubicBezTo>
                    <a:pt x="457" y="962"/>
                    <a:pt x="504" y="977"/>
                    <a:pt x="570" y="977"/>
                  </a:cubicBezTo>
                  <a:cubicBezTo>
                    <a:pt x="581" y="977"/>
                    <a:pt x="593" y="976"/>
                    <a:pt x="604" y="975"/>
                  </a:cubicBezTo>
                  <a:cubicBezTo>
                    <a:pt x="674" y="971"/>
                    <a:pt x="773" y="951"/>
                    <a:pt x="839" y="917"/>
                  </a:cubicBezTo>
                  <a:cubicBezTo>
                    <a:pt x="841" y="929"/>
                    <a:pt x="845" y="940"/>
                    <a:pt x="852" y="950"/>
                  </a:cubicBezTo>
                  <a:cubicBezTo>
                    <a:pt x="867" y="970"/>
                    <a:pt x="889" y="982"/>
                    <a:pt x="913" y="982"/>
                  </a:cubicBezTo>
                  <a:cubicBezTo>
                    <a:pt x="947" y="982"/>
                    <a:pt x="976" y="961"/>
                    <a:pt x="1002" y="943"/>
                  </a:cubicBezTo>
                  <a:cubicBezTo>
                    <a:pt x="1011" y="937"/>
                    <a:pt x="1023" y="929"/>
                    <a:pt x="1028" y="926"/>
                  </a:cubicBezTo>
                  <a:cubicBezTo>
                    <a:pt x="1029" y="926"/>
                    <a:pt x="1029" y="926"/>
                    <a:pt x="1030" y="925"/>
                  </a:cubicBezTo>
                  <a:cubicBezTo>
                    <a:pt x="1032" y="928"/>
                    <a:pt x="1035" y="930"/>
                    <a:pt x="1037" y="931"/>
                  </a:cubicBezTo>
                  <a:cubicBezTo>
                    <a:pt x="1038" y="933"/>
                    <a:pt x="1040" y="934"/>
                    <a:pt x="1041" y="935"/>
                  </a:cubicBezTo>
                  <a:cubicBezTo>
                    <a:pt x="1047" y="949"/>
                    <a:pt x="1059" y="959"/>
                    <a:pt x="1073" y="962"/>
                  </a:cubicBezTo>
                  <a:cubicBezTo>
                    <a:pt x="1106" y="970"/>
                    <a:pt x="1140" y="973"/>
                    <a:pt x="1178" y="973"/>
                  </a:cubicBezTo>
                  <a:cubicBezTo>
                    <a:pt x="1260" y="973"/>
                    <a:pt x="1341" y="955"/>
                    <a:pt x="1412" y="938"/>
                  </a:cubicBezTo>
                  <a:cubicBezTo>
                    <a:pt x="1415" y="938"/>
                    <a:pt x="1415" y="938"/>
                    <a:pt x="1415" y="938"/>
                  </a:cubicBezTo>
                  <a:cubicBezTo>
                    <a:pt x="1441" y="932"/>
                    <a:pt x="1441" y="932"/>
                    <a:pt x="1441" y="932"/>
                  </a:cubicBezTo>
                  <a:cubicBezTo>
                    <a:pt x="1443" y="931"/>
                    <a:pt x="1444" y="931"/>
                    <a:pt x="1445" y="931"/>
                  </a:cubicBezTo>
                  <a:cubicBezTo>
                    <a:pt x="1465" y="924"/>
                    <a:pt x="1477" y="914"/>
                    <a:pt x="1484" y="904"/>
                  </a:cubicBezTo>
                  <a:cubicBezTo>
                    <a:pt x="1485" y="904"/>
                    <a:pt x="1486" y="904"/>
                    <a:pt x="1487" y="904"/>
                  </a:cubicBezTo>
                  <a:cubicBezTo>
                    <a:pt x="1489" y="904"/>
                    <a:pt x="1490" y="904"/>
                    <a:pt x="1492" y="904"/>
                  </a:cubicBezTo>
                  <a:cubicBezTo>
                    <a:pt x="1496" y="904"/>
                    <a:pt x="1500" y="903"/>
                    <a:pt x="1504" y="902"/>
                  </a:cubicBezTo>
                  <a:cubicBezTo>
                    <a:pt x="1517" y="911"/>
                    <a:pt x="1530" y="912"/>
                    <a:pt x="1536" y="912"/>
                  </a:cubicBezTo>
                  <a:cubicBezTo>
                    <a:pt x="1538" y="912"/>
                    <a:pt x="1540" y="911"/>
                    <a:pt x="1543" y="911"/>
                  </a:cubicBezTo>
                  <a:cubicBezTo>
                    <a:pt x="1545" y="911"/>
                    <a:pt x="1548" y="910"/>
                    <a:pt x="1551" y="910"/>
                  </a:cubicBezTo>
                  <a:cubicBezTo>
                    <a:pt x="1624" y="888"/>
                    <a:pt x="1689" y="808"/>
                    <a:pt x="1717" y="742"/>
                  </a:cubicBezTo>
                  <a:cubicBezTo>
                    <a:pt x="1731" y="709"/>
                    <a:pt x="1744" y="663"/>
                    <a:pt x="1726" y="628"/>
                  </a:cubicBezTo>
                  <a:close/>
                  <a:moveTo>
                    <a:pt x="1108" y="108"/>
                  </a:moveTo>
                  <a:cubicBezTo>
                    <a:pt x="1200" y="56"/>
                    <a:pt x="1361" y="157"/>
                    <a:pt x="1297" y="217"/>
                  </a:cubicBezTo>
                  <a:cubicBezTo>
                    <a:pt x="1280" y="224"/>
                    <a:pt x="1263" y="238"/>
                    <a:pt x="1266" y="256"/>
                  </a:cubicBezTo>
                  <a:cubicBezTo>
                    <a:pt x="1270" y="279"/>
                    <a:pt x="1423" y="216"/>
                    <a:pt x="1431" y="280"/>
                  </a:cubicBezTo>
                  <a:cubicBezTo>
                    <a:pt x="1437" y="337"/>
                    <a:pt x="1362" y="417"/>
                    <a:pt x="1400" y="431"/>
                  </a:cubicBezTo>
                  <a:cubicBezTo>
                    <a:pt x="1459" y="413"/>
                    <a:pt x="1453" y="331"/>
                    <a:pt x="1471" y="272"/>
                  </a:cubicBezTo>
                  <a:cubicBezTo>
                    <a:pt x="1524" y="271"/>
                    <a:pt x="1549" y="414"/>
                    <a:pt x="1529" y="452"/>
                  </a:cubicBezTo>
                  <a:cubicBezTo>
                    <a:pt x="1446" y="455"/>
                    <a:pt x="1358" y="453"/>
                    <a:pt x="1333" y="513"/>
                  </a:cubicBezTo>
                  <a:cubicBezTo>
                    <a:pt x="1397" y="538"/>
                    <a:pt x="1424" y="458"/>
                    <a:pt x="1495" y="480"/>
                  </a:cubicBezTo>
                  <a:cubicBezTo>
                    <a:pt x="1519" y="494"/>
                    <a:pt x="1528" y="522"/>
                    <a:pt x="1544" y="544"/>
                  </a:cubicBezTo>
                  <a:cubicBezTo>
                    <a:pt x="1523" y="600"/>
                    <a:pt x="1451" y="605"/>
                    <a:pt x="1446" y="678"/>
                  </a:cubicBezTo>
                  <a:cubicBezTo>
                    <a:pt x="1425" y="687"/>
                    <a:pt x="1412" y="703"/>
                    <a:pt x="1391" y="712"/>
                  </a:cubicBezTo>
                  <a:cubicBezTo>
                    <a:pt x="1379" y="689"/>
                    <a:pt x="1372" y="660"/>
                    <a:pt x="1364" y="632"/>
                  </a:cubicBezTo>
                  <a:cubicBezTo>
                    <a:pt x="1417" y="640"/>
                    <a:pt x="1456" y="602"/>
                    <a:pt x="1446" y="559"/>
                  </a:cubicBezTo>
                  <a:cubicBezTo>
                    <a:pt x="1444" y="548"/>
                    <a:pt x="1432" y="534"/>
                    <a:pt x="1422" y="535"/>
                  </a:cubicBezTo>
                  <a:cubicBezTo>
                    <a:pt x="1393" y="538"/>
                    <a:pt x="1411" y="589"/>
                    <a:pt x="1391" y="608"/>
                  </a:cubicBezTo>
                  <a:cubicBezTo>
                    <a:pt x="1324" y="618"/>
                    <a:pt x="1274" y="585"/>
                    <a:pt x="1221" y="571"/>
                  </a:cubicBezTo>
                  <a:cubicBezTo>
                    <a:pt x="1205" y="560"/>
                    <a:pt x="1207" y="548"/>
                    <a:pt x="1205" y="532"/>
                  </a:cubicBezTo>
                  <a:cubicBezTo>
                    <a:pt x="1256" y="505"/>
                    <a:pt x="1342" y="423"/>
                    <a:pt x="1285" y="355"/>
                  </a:cubicBezTo>
                  <a:cubicBezTo>
                    <a:pt x="1249" y="313"/>
                    <a:pt x="1181" y="280"/>
                    <a:pt x="1120" y="266"/>
                  </a:cubicBezTo>
                  <a:cubicBezTo>
                    <a:pt x="1116" y="253"/>
                    <a:pt x="1117" y="235"/>
                    <a:pt x="1117" y="217"/>
                  </a:cubicBezTo>
                  <a:cubicBezTo>
                    <a:pt x="1140" y="202"/>
                    <a:pt x="1175" y="198"/>
                    <a:pt x="1181" y="166"/>
                  </a:cubicBezTo>
                  <a:cubicBezTo>
                    <a:pt x="1159" y="153"/>
                    <a:pt x="1134" y="184"/>
                    <a:pt x="1111" y="190"/>
                  </a:cubicBezTo>
                  <a:cubicBezTo>
                    <a:pt x="1077" y="177"/>
                    <a:pt x="1075" y="126"/>
                    <a:pt x="1108" y="108"/>
                  </a:cubicBezTo>
                  <a:close/>
                  <a:moveTo>
                    <a:pt x="867" y="80"/>
                  </a:moveTo>
                  <a:cubicBezTo>
                    <a:pt x="913" y="35"/>
                    <a:pt x="1028" y="68"/>
                    <a:pt x="1059" y="105"/>
                  </a:cubicBezTo>
                  <a:cubicBezTo>
                    <a:pt x="1032" y="169"/>
                    <a:pt x="926" y="73"/>
                    <a:pt x="867" y="123"/>
                  </a:cubicBezTo>
                  <a:cubicBezTo>
                    <a:pt x="862" y="116"/>
                    <a:pt x="862" y="87"/>
                    <a:pt x="867" y="80"/>
                  </a:cubicBezTo>
                  <a:close/>
                  <a:moveTo>
                    <a:pt x="1059" y="257"/>
                  </a:moveTo>
                  <a:cubicBezTo>
                    <a:pt x="1001" y="271"/>
                    <a:pt x="955" y="297"/>
                    <a:pt x="916" y="330"/>
                  </a:cubicBezTo>
                  <a:cubicBezTo>
                    <a:pt x="889" y="365"/>
                    <a:pt x="925" y="360"/>
                    <a:pt x="935" y="360"/>
                  </a:cubicBezTo>
                  <a:cubicBezTo>
                    <a:pt x="994" y="365"/>
                    <a:pt x="999" y="304"/>
                    <a:pt x="1050" y="294"/>
                  </a:cubicBezTo>
                  <a:cubicBezTo>
                    <a:pt x="1115" y="280"/>
                    <a:pt x="1231" y="344"/>
                    <a:pt x="1257" y="379"/>
                  </a:cubicBezTo>
                  <a:cubicBezTo>
                    <a:pt x="1292" y="425"/>
                    <a:pt x="1254" y="450"/>
                    <a:pt x="1221" y="480"/>
                  </a:cubicBezTo>
                  <a:cubicBezTo>
                    <a:pt x="1187" y="509"/>
                    <a:pt x="1152" y="534"/>
                    <a:pt x="1099" y="513"/>
                  </a:cubicBezTo>
                  <a:cubicBezTo>
                    <a:pt x="1066" y="501"/>
                    <a:pt x="1051" y="460"/>
                    <a:pt x="1001" y="471"/>
                  </a:cubicBezTo>
                  <a:cubicBezTo>
                    <a:pt x="1017" y="419"/>
                    <a:pt x="1106" y="436"/>
                    <a:pt x="1105" y="423"/>
                  </a:cubicBezTo>
                  <a:cubicBezTo>
                    <a:pt x="1100" y="390"/>
                    <a:pt x="1064" y="398"/>
                    <a:pt x="1041" y="407"/>
                  </a:cubicBezTo>
                  <a:cubicBezTo>
                    <a:pt x="999" y="421"/>
                    <a:pt x="944" y="471"/>
                    <a:pt x="913" y="486"/>
                  </a:cubicBezTo>
                  <a:cubicBezTo>
                    <a:pt x="866" y="490"/>
                    <a:pt x="839" y="474"/>
                    <a:pt x="797" y="474"/>
                  </a:cubicBezTo>
                  <a:cubicBezTo>
                    <a:pt x="771" y="438"/>
                    <a:pt x="770" y="398"/>
                    <a:pt x="739" y="370"/>
                  </a:cubicBezTo>
                  <a:cubicBezTo>
                    <a:pt x="702" y="337"/>
                    <a:pt x="649" y="337"/>
                    <a:pt x="592" y="321"/>
                  </a:cubicBezTo>
                  <a:cubicBezTo>
                    <a:pt x="618" y="285"/>
                    <a:pt x="657" y="247"/>
                    <a:pt x="714" y="257"/>
                  </a:cubicBezTo>
                  <a:cubicBezTo>
                    <a:pt x="749" y="263"/>
                    <a:pt x="769" y="304"/>
                    <a:pt x="803" y="309"/>
                  </a:cubicBezTo>
                  <a:cubicBezTo>
                    <a:pt x="816" y="270"/>
                    <a:pt x="763" y="251"/>
                    <a:pt x="736" y="233"/>
                  </a:cubicBezTo>
                  <a:cubicBezTo>
                    <a:pt x="737" y="203"/>
                    <a:pt x="766" y="201"/>
                    <a:pt x="781" y="184"/>
                  </a:cubicBezTo>
                  <a:cubicBezTo>
                    <a:pt x="841" y="216"/>
                    <a:pt x="961" y="273"/>
                    <a:pt x="972" y="249"/>
                  </a:cubicBezTo>
                  <a:cubicBezTo>
                    <a:pt x="974" y="231"/>
                    <a:pt x="894" y="185"/>
                    <a:pt x="830" y="169"/>
                  </a:cubicBezTo>
                  <a:cubicBezTo>
                    <a:pt x="907" y="96"/>
                    <a:pt x="1051" y="159"/>
                    <a:pt x="1059" y="257"/>
                  </a:cubicBezTo>
                  <a:close/>
                  <a:moveTo>
                    <a:pt x="670" y="78"/>
                  </a:moveTo>
                  <a:cubicBezTo>
                    <a:pt x="723" y="60"/>
                    <a:pt x="772" y="42"/>
                    <a:pt x="815" y="50"/>
                  </a:cubicBezTo>
                  <a:cubicBezTo>
                    <a:pt x="846" y="93"/>
                    <a:pt x="822" y="97"/>
                    <a:pt x="834" y="128"/>
                  </a:cubicBezTo>
                  <a:cubicBezTo>
                    <a:pt x="821" y="144"/>
                    <a:pt x="787" y="145"/>
                    <a:pt x="776" y="163"/>
                  </a:cubicBezTo>
                  <a:cubicBezTo>
                    <a:pt x="761" y="129"/>
                    <a:pt x="718" y="107"/>
                    <a:pt x="675" y="129"/>
                  </a:cubicBezTo>
                  <a:cubicBezTo>
                    <a:pt x="683" y="149"/>
                    <a:pt x="707" y="153"/>
                    <a:pt x="726" y="163"/>
                  </a:cubicBezTo>
                  <a:cubicBezTo>
                    <a:pt x="735" y="199"/>
                    <a:pt x="672" y="243"/>
                    <a:pt x="635" y="248"/>
                  </a:cubicBezTo>
                  <a:cubicBezTo>
                    <a:pt x="605" y="252"/>
                    <a:pt x="579" y="241"/>
                    <a:pt x="580" y="211"/>
                  </a:cubicBezTo>
                  <a:cubicBezTo>
                    <a:pt x="606" y="204"/>
                    <a:pt x="651" y="215"/>
                    <a:pt x="656" y="187"/>
                  </a:cubicBezTo>
                  <a:cubicBezTo>
                    <a:pt x="630" y="170"/>
                    <a:pt x="572" y="184"/>
                    <a:pt x="537" y="181"/>
                  </a:cubicBezTo>
                  <a:cubicBezTo>
                    <a:pt x="545" y="119"/>
                    <a:pt x="599" y="101"/>
                    <a:pt x="670" y="78"/>
                  </a:cubicBezTo>
                  <a:close/>
                  <a:moveTo>
                    <a:pt x="391" y="245"/>
                  </a:moveTo>
                  <a:cubicBezTo>
                    <a:pt x="430" y="245"/>
                    <a:pt x="471" y="248"/>
                    <a:pt x="495" y="233"/>
                  </a:cubicBezTo>
                  <a:cubicBezTo>
                    <a:pt x="484" y="200"/>
                    <a:pt x="432" y="221"/>
                    <a:pt x="397" y="217"/>
                  </a:cubicBezTo>
                  <a:cubicBezTo>
                    <a:pt x="398" y="209"/>
                    <a:pt x="393" y="206"/>
                    <a:pt x="403" y="196"/>
                  </a:cubicBezTo>
                  <a:cubicBezTo>
                    <a:pt x="450" y="175"/>
                    <a:pt x="551" y="172"/>
                    <a:pt x="534" y="245"/>
                  </a:cubicBezTo>
                  <a:cubicBezTo>
                    <a:pt x="525" y="246"/>
                    <a:pt x="511" y="242"/>
                    <a:pt x="510" y="251"/>
                  </a:cubicBezTo>
                  <a:cubicBezTo>
                    <a:pt x="508" y="286"/>
                    <a:pt x="552" y="256"/>
                    <a:pt x="568" y="266"/>
                  </a:cubicBezTo>
                  <a:cubicBezTo>
                    <a:pt x="578" y="297"/>
                    <a:pt x="549" y="314"/>
                    <a:pt x="528" y="324"/>
                  </a:cubicBezTo>
                  <a:cubicBezTo>
                    <a:pt x="515" y="304"/>
                    <a:pt x="495" y="293"/>
                    <a:pt x="485" y="269"/>
                  </a:cubicBezTo>
                  <a:cubicBezTo>
                    <a:pt x="447" y="262"/>
                    <a:pt x="412" y="284"/>
                    <a:pt x="391" y="266"/>
                  </a:cubicBezTo>
                  <a:cubicBezTo>
                    <a:pt x="391" y="259"/>
                    <a:pt x="391" y="252"/>
                    <a:pt x="391" y="245"/>
                  </a:cubicBezTo>
                  <a:close/>
                  <a:moveTo>
                    <a:pt x="1538" y="864"/>
                  </a:moveTo>
                  <a:cubicBezTo>
                    <a:pt x="1524" y="866"/>
                    <a:pt x="1529" y="848"/>
                    <a:pt x="1522" y="843"/>
                  </a:cubicBezTo>
                  <a:cubicBezTo>
                    <a:pt x="1509" y="840"/>
                    <a:pt x="1498" y="856"/>
                    <a:pt x="1487" y="857"/>
                  </a:cubicBezTo>
                  <a:cubicBezTo>
                    <a:pt x="1466" y="850"/>
                    <a:pt x="1466" y="798"/>
                    <a:pt x="1437" y="818"/>
                  </a:cubicBezTo>
                  <a:cubicBezTo>
                    <a:pt x="1419" y="836"/>
                    <a:pt x="1474" y="872"/>
                    <a:pt x="1431" y="885"/>
                  </a:cubicBezTo>
                  <a:cubicBezTo>
                    <a:pt x="1327" y="909"/>
                    <a:pt x="1202" y="943"/>
                    <a:pt x="1084" y="916"/>
                  </a:cubicBezTo>
                  <a:cubicBezTo>
                    <a:pt x="1078" y="896"/>
                    <a:pt x="1049" y="889"/>
                    <a:pt x="1053" y="870"/>
                  </a:cubicBezTo>
                  <a:cubicBezTo>
                    <a:pt x="1057" y="852"/>
                    <a:pt x="1089" y="853"/>
                    <a:pt x="1089" y="831"/>
                  </a:cubicBezTo>
                  <a:cubicBezTo>
                    <a:pt x="1117" y="823"/>
                    <a:pt x="1161" y="827"/>
                    <a:pt x="1163" y="800"/>
                  </a:cubicBezTo>
                  <a:cubicBezTo>
                    <a:pt x="1164" y="764"/>
                    <a:pt x="1084" y="788"/>
                    <a:pt x="1092" y="736"/>
                  </a:cubicBezTo>
                  <a:cubicBezTo>
                    <a:pt x="1133" y="738"/>
                    <a:pt x="1248" y="778"/>
                    <a:pt x="1248" y="754"/>
                  </a:cubicBezTo>
                  <a:cubicBezTo>
                    <a:pt x="1249" y="732"/>
                    <a:pt x="1187" y="723"/>
                    <a:pt x="1153" y="718"/>
                  </a:cubicBezTo>
                  <a:cubicBezTo>
                    <a:pt x="1085" y="707"/>
                    <a:pt x="1023" y="673"/>
                    <a:pt x="970" y="641"/>
                  </a:cubicBezTo>
                  <a:cubicBezTo>
                    <a:pt x="945" y="626"/>
                    <a:pt x="923" y="597"/>
                    <a:pt x="891" y="599"/>
                  </a:cubicBezTo>
                  <a:cubicBezTo>
                    <a:pt x="866" y="618"/>
                    <a:pt x="973" y="710"/>
                    <a:pt x="1047" y="724"/>
                  </a:cubicBezTo>
                  <a:cubicBezTo>
                    <a:pt x="1054" y="750"/>
                    <a:pt x="1055" y="783"/>
                    <a:pt x="1059" y="812"/>
                  </a:cubicBezTo>
                  <a:cubicBezTo>
                    <a:pt x="1030" y="827"/>
                    <a:pt x="991" y="831"/>
                    <a:pt x="964" y="849"/>
                  </a:cubicBezTo>
                  <a:cubicBezTo>
                    <a:pt x="961" y="873"/>
                    <a:pt x="1000" y="854"/>
                    <a:pt x="1010" y="864"/>
                  </a:cubicBezTo>
                  <a:cubicBezTo>
                    <a:pt x="1010" y="870"/>
                    <a:pt x="1010" y="876"/>
                    <a:pt x="1010" y="882"/>
                  </a:cubicBezTo>
                  <a:cubicBezTo>
                    <a:pt x="975" y="897"/>
                    <a:pt x="919" y="960"/>
                    <a:pt x="891" y="922"/>
                  </a:cubicBezTo>
                  <a:cubicBezTo>
                    <a:pt x="864" y="884"/>
                    <a:pt x="938" y="818"/>
                    <a:pt x="909" y="782"/>
                  </a:cubicBezTo>
                  <a:cubicBezTo>
                    <a:pt x="898" y="768"/>
                    <a:pt x="875" y="826"/>
                    <a:pt x="855" y="849"/>
                  </a:cubicBezTo>
                  <a:cubicBezTo>
                    <a:pt x="816" y="891"/>
                    <a:pt x="688" y="922"/>
                    <a:pt x="601" y="928"/>
                  </a:cubicBezTo>
                  <a:cubicBezTo>
                    <a:pt x="545" y="932"/>
                    <a:pt x="489" y="926"/>
                    <a:pt x="461" y="898"/>
                  </a:cubicBezTo>
                  <a:cubicBezTo>
                    <a:pt x="454" y="873"/>
                    <a:pt x="477" y="860"/>
                    <a:pt x="489" y="846"/>
                  </a:cubicBezTo>
                  <a:cubicBezTo>
                    <a:pt x="523" y="803"/>
                    <a:pt x="531" y="771"/>
                    <a:pt x="577" y="735"/>
                  </a:cubicBezTo>
                  <a:cubicBezTo>
                    <a:pt x="592" y="723"/>
                    <a:pt x="647" y="715"/>
                    <a:pt x="647" y="702"/>
                  </a:cubicBezTo>
                  <a:cubicBezTo>
                    <a:pt x="649" y="665"/>
                    <a:pt x="592" y="695"/>
                    <a:pt x="583" y="699"/>
                  </a:cubicBezTo>
                  <a:cubicBezTo>
                    <a:pt x="523" y="725"/>
                    <a:pt x="469" y="845"/>
                    <a:pt x="420" y="880"/>
                  </a:cubicBezTo>
                  <a:cubicBezTo>
                    <a:pt x="361" y="893"/>
                    <a:pt x="270" y="913"/>
                    <a:pt x="220" y="873"/>
                  </a:cubicBezTo>
                  <a:cubicBezTo>
                    <a:pt x="208" y="742"/>
                    <a:pt x="274" y="644"/>
                    <a:pt x="324" y="556"/>
                  </a:cubicBezTo>
                  <a:cubicBezTo>
                    <a:pt x="351" y="561"/>
                    <a:pt x="370" y="544"/>
                    <a:pt x="397" y="547"/>
                  </a:cubicBezTo>
                  <a:cubicBezTo>
                    <a:pt x="415" y="549"/>
                    <a:pt x="428" y="564"/>
                    <a:pt x="443" y="565"/>
                  </a:cubicBezTo>
                  <a:cubicBezTo>
                    <a:pt x="477" y="569"/>
                    <a:pt x="501" y="549"/>
                    <a:pt x="516" y="519"/>
                  </a:cubicBezTo>
                  <a:cubicBezTo>
                    <a:pt x="494" y="499"/>
                    <a:pt x="481" y="535"/>
                    <a:pt x="461" y="538"/>
                  </a:cubicBezTo>
                  <a:cubicBezTo>
                    <a:pt x="434" y="541"/>
                    <a:pt x="408" y="513"/>
                    <a:pt x="376" y="526"/>
                  </a:cubicBezTo>
                  <a:cubicBezTo>
                    <a:pt x="374" y="466"/>
                    <a:pt x="427" y="461"/>
                    <a:pt x="449" y="425"/>
                  </a:cubicBezTo>
                  <a:cubicBezTo>
                    <a:pt x="467" y="421"/>
                    <a:pt x="486" y="417"/>
                    <a:pt x="492" y="401"/>
                  </a:cubicBezTo>
                  <a:cubicBezTo>
                    <a:pt x="483" y="374"/>
                    <a:pt x="460" y="397"/>
                    <a:pt x="440" y="394"/>
                  </a:cubicBezTo>
                  <a:cubicBezTo>
                    <a:pt x="413" y="391"/>
                    <a:pt x="388" y="349"/>
                    <a:pt x="351" y="370"/>
                  </a:cubicBezTo>
                  <a:cubicBezTo>
                    <a:pt x="357" y="393"/>
                    <a:pt x="417" y="412"/>
                    <a:pt x="412" y="422"/>
                  </a:cubicBezTo>
                  <a:cubicBezTo>
                    <a:pt x="394" y="457"/>
                    <a:pt x="337" y="465"/>
                    <a:pt x="351" y="522"/>
                  </a:cubicBezTo>
                  <a:cubicBezTo>
                    <a:pt x="236" y="567"/>
                    <a:pt x="205" y="697"/>
                    <a:pt x="183" y="837"/>
                  </a:cubicBezTo>
                  <a:cubicBezTo>
                    <a:pt x="163" y="845"/>
                    <a:pt x="128" y="852"/>
                    <a:pt x="113" y="834"/>
                  </a:cubicBezTo>
                  <a:cubicBezTo>
                    <a:pt x="106" y="742"/>
                    <a:pt x="132" y="702"/>
                    <a:pt x="177" y="645"/>
                  </a:cubicBezTo>
                  <a:cubicBezTo>
                    <a:pt x="198" y="619"/>
                    <a:pt x="218" y="590"/>
                    <a:pt x="235" y="571"/>
                  </a:cubicBezTo>
                  <a:cubicBezTo>
                    <a:pt x="250" y="555"/>
                    <a:pt x="279" y="543"/>
                    <a:pt x="266" y="513"/>
                  </a:cubicBezTo>
                  <a:cubicBezTo>
                    <a:pt x="238" y="516"/>
                    <a:pt x="218" y="542"/>
                    <a:pt x="202" y="562"/>
                  </a:cubicBezTo>
                  <a:cubicBezTo>
                    <a:pt x="168" y="604"/>
                    <a:pt x="138" y="644"/>
                    <a:pt x="107" y="693"/>
                  </a:cubicBezTo>
                  <a:cubicBezTo>
                    <a:pt x="94" y="714"/>
                    <a:pt x="81" y="743"/>
                    <a:pt x="55" y="748"/>
                  </a:cubicBezTo>
                  <a:cubicBezTo>
                    <a:pt x="48" y="701"/>
                    <a:pt x="85" y="657"/>
                    <a:pt x="110" y="611"/>
                  </a:cubicBezTo>
                  <a:cubicBezTo>
                    <a:pt x="124" y="585"/>
                    <a:pt x="155" y="500"/>
                    <a:pt x="183" y="483"/>
                  </a:cubicBezTo>
                  <a:cubicBezTo>
                    <a:pt x="221" y="461"/>
                    <a:pt x="291" y="492"/>
                    <a:pt x="308" y="440"/>
                  </a:cubicBezTo>
                  <a:cubicBezTo>
                    <a:pt x="271" y="436"/>
                    <a:pt x="231" y="451"/>
                    <a:pt x="196" y="458"/>
                  </a:cubicBezTo>
                  <a:cubicBezTo>
                    <a:pt x="178" y="450"/>
                    <a:pt x="169" y="419"/>
                    <a:pt x="177" y="394"/>
                  </a:cubicBezTo>
                  <a:cubicBezTo>
                    <a:pt x="200" y="378"/>
                    <a:pt x="238" y="376"/>
                    <a:pt x="257" y="355"/>
                  </a:cubicBezTo>
                  <a:cubicBezTo>
                    <a:pt x="246" y="279"/>
                    <a:pt x="285" y="253"/>
                    <a:pt x="351" y="254"/>
                  </a:cubicBezTo>
                  <a:cubicBezTo>
                    <a:pt x="352" y="264"/>
                    <a:pt x="349" y="279"/>
                    <a:pt x="354" y="285"/>
                  </a:cubicBezTo>
                  <a:cubicBezTo>
                    <a:pt x="396" y="314"/>
                    <a:pt x="499" y="283"/>
                    <a:pt x="504" y="349"/>
                  </a:cubicBezTo>
                  <a:cubicBezTo>
                    <a:pt x="519" y="383"/>
                    <a:pt x="551" y="354"/>
                    <a:pt x="559" y="343"/>
                  </a:cubicBezTo>
                  <a:cubicBezTo>
                    <a:pt x="603" y="368"/>
                    <a:pt x="672" y="348"/>
                    <a:pt x="708" y="376"/>
                  </a:cubicBezTo>
                  <a:cubicBezTo>
                    <a:pt x="729" y="392"/>
                    <a:pt x="753" y="446"/>
                    <a:pt x="742" y="483"/>
                  </a:cubicBezTo>
                  <a:cubicBezTo>
                    <a:pt x="733" y="510"/>
                    <a:pt x="699" y="531"/>
                    <a:pt x="702" y="565"/>
                  </a:cubicBezTo>
                  <a:cubicBezTo>
                    <a:pt x="687" y="570"/>
                    <a:pt x="661" y="575"/>
                    <a:pt x="644" y="568"/>
                  </a:cubicBezTo>
                  <a:cubicBezTo>
                    <a:pt x="652" y="485"/>
                    <a:pt x="578" y="437"/>
                    <a:pt x="537" y="443"/>
                  </a:cubicBezTo>
                  <a:cubicBezTo>
                    <a:pt x="496" y="449"/>
                    <a:pt x="643" y="497"/>
                    <a:pt x="598" y="571"/>
                  </a:cubicBezTo>
                  <a:cubicBezTo>
                    <a:pt x="495" y="602"/>
                    <a:pt x="448" y="689"/>
                    <a:pt x="366" y="742"/>
                  </a:cubicBezTo>
                  <a:cubicBezTo>
                    <a:pt x="346" y="741"/>
                    <a:pt x="327" y="742"/>
                    <a:pt x="321" y="754"/>
                  </a:cubicBezTo>
                  <a:cubicBezTo>
                    <a:pt x="348" y="805"/>
                    <a:pt x="416" y="744"/>
                    <a:pt x="449" y="715"/>
                  </a:cubicBezTo>
                  <a:cubicBezTo>
                    <a:pt x="500" y="668"/>
                    <a:pt x="531" y="592"/>
                    <a:pt x="638" y="605"/>
                  </a:cubicBezTo>
                  <a:cubicBezTo>
                    <a:pt x="697" y="612"/>
                    <a:pt x="776" y="669"/>
                    <a:pt x="757" y="748"/>
                  </a:cubicBezTo>
                  <a:cubicBezTo>
                    <a:pt x="730" y="766"/>
                    <a:pt x="695" y="793"/>
                    <a:pt x="656" y="803"/>
                  </a:cubicBezTo>
                  <a:cubicBezTo>
                    <a:pt x="630" y="810"/>
                    <a:pt x="576" y="808"/>
                    <a:pt x="583" y="831"/>
                  </a:cubicBezTo>
                  <a:cubicBezTo>
                    <a:pt x="599" y="880"/>
                    <a:pt x="756" y="795"/>
                    <a:pt x="812" y="751"/>
                  </a:cubicBezTo>
                  <a:cubicBezTo>
                    <a:pt x="833" y="734"/>
                    <a:pt x="862" y="700"/>
                    <a:pt x="845" y="666"/>
                  </a:cubicBezTo>
                  <a:cubicBezTo>
                    <a:pt x="796" y="690"/>
                    <a:pt x="733" y="640"/>
                    <a:pt x="726" y="602"/>
                  </a:cubicBezTo>
                  <a:cubicBezTo>
                    <a:pt x="720" y="565"/>
                    <a:pt x="751" y="504"/>
                    <a:pt x="781" y="498"/>
                  </a:cubicBezTo>
                  <a:cubicBezTo>
                    <a:pt x="812" y="492"/>
                    <a:pt x="917" y="540"/>
                    <a:pt x="949" y="498"/>
                  </a:cubicBezTo>
                  <a:cubicBezTo>
                    <a:pt x="1008" y="505"/>
                    <a:pt x="1072" y="507"/>
                    <a:pt x="1077" y="568"/>
                  </a:cubicBezTo>
                  <a:cubicBezTo>
                    <a:pt x="1103" y="583"/>
                    <a:pt x="1110" y="556"/>
                    <a:pt x="1126" y="550"/>
                  </a:cubicBezTo>
                  <a:cubicBezTo>
                    <a:pt x="1137" y="555"/>
                    <a:pt x="1151" y="558"/>
                    <a:pt x="1166" y="559"/>
                  </a:cubicBezTo>
                  <a:cubicBezTo>
                    <a:pt x="1207" y="575"/>
                    <a:pt x="1094" y="595"/>
                    <a:pt x="1108" y="645"/>
                  </a:cubicBezTo>
                  <a:cubicBezTo>
                    <a:pt x="1134" y="646"/>
                    <a:pt x="1145" y="631"/>
                    <a:pt x="1156" y="617"/>
                  </a:cubicBezTo>
                  <a:cubicBezTo>
                    <a:pt x="1181" y="616"/>
                    <a:pt x="1192" y="603"/>
                    <a:pt x="1214" y="605"/>
                  </a:cubicBezTo>
                  <a:cubicBezTo>
                    <a:pt x="1232" y="606"/>
                    <a:pt x="1325" y="645"/>
                    <a:pt x="1336" y="660"/>
                  </a:cubicBezTo>
                  <a:cubicBezTo>
                    <a:pt x="1347" y="674"/>
                    <a:pt x="1352" y="699"/>
                    <a:pt x="1345" y="721"/>
                  </a:cubicBezTo>
                  <a:cubicBezTo>
                    <a:pt x="1343" y="729"/>
                    <a:pt x="1332" y="737"/>
                    <a:pt x="1327" y="748"/>
                  </a:cubicBezTo>
                  <a:cubicBezTo>
                    <a:pt x="1319" y="768"/>
                    <a:pt x="1319" y="788"/>
                    <a:pt x="1312" y="800"/>
                  </a:cubicBezTo>
                  <a:cubicBezTo>
                    <a:pt x="1295" y="828"/>
                    <a:pt x="1210" y="861"/>
                    <a:pt x="1249" y="873"/>
                  </a:cubicBezTo>
                  <a:cubicBezTo>
                    <a:pt x="1288" y="885"/>
                    <a:pt x="1350" y="808"/>
                    <a:pt x="1376" y="751"/>
                  </a:cubicBezTo>
                  <a:cubicBezTo>
                    <a:pt x="1410" y="749"/>
                    <a:pt x="1427" y="714"/>
                    <a:pt x="1452" y="712"/>
                  </a:cubicBezTo>
                  <a:cubicBezTo>
                    <a:pt x="1499" y="708"/>
                    <a:pt x="1544" y="804"/>
                    <a:pt x="1565" y="779"/>
                  </a:cubicBezTo>
                  <a:cubicBezTo>
                    <a:pt x="1579" y="750"/>
                    <a:pt x="1520" y="708"/>
                    <a:pt x="1492" y="681"/>
                  </a:cubicBezTo>
                  <a:cubicBezTo>
                    <a:pt x="1502" y="654"/>
                    <a:pt x="1533" y="587"/>
                    <a:pt x="1568" y="583"/>
                  </a:cubicBezTo>
                  <a:cubicBezTo>
                    <a:pt x="1608" y="580"/>
                    <a:pt x="1661" y="604"/>
                    <a:pt x="1684" y="649"/>
                  </a:cubicBezTo>
                  <a:cubicBezTo>
                    <a:pt x="1707" y="694"/>
                    <a:pt x="1625" y="839"/>
                    <a:pt x="1538" y="864"/>
                  </a:cubicBezTo>
                  <a:close/>
                </a:path>
              </a:pathLst>
            </a:custGeom>
            <a:solidFill>
              <a:srgbClr val="2e3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 flipH="1">
              <a:off x="7939440" y="1068120"/>
              <a:ext cx="186840" cy="13752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57" h="264">
                  <a:moveTo>
                    <a:pt x="28" y="141"/>
                  </a:moveTo>
                  <a:cubicBezTo>
                    <a:pt x="36" y="146"/>
                    <a:pt x="36" y="146"/>
                    <a:pt x="36" y="146"/>
                  </a:cubicBezTo>
                  <a:cubicBezTo>
                    <a:pt x="78" y="167"/>
                    <a:pt x="115" y="186"/>
                    <a:pt x="149" y="204"/>
                  </a:cubicBezTo>
                  <a:cubicBezTo>
                    <a:pt x="151" y="204"/>
                    <a:pt x="151" y="204"/>
                    <a:pt x="151" y="204"/>
                  </a:cubicBezTo>
                  <a:cubicBezTo>
                    <a:pt x="152" y="205"/>
                    <a:pt x="152" y="205"/>
                    <a:pt x="152" y="205"/>
                  </a:cubicBezTo>
                  <a:cubicBezTo>
                    <a:pt x="163" y="210"/>
                    <a:pt x="175" y="216"/>
                    <a:pt x="187" y="222"/>
                  </a:cubicBezTo>
                  <a:cubicBezTo>
                    <a:pt x="212" y="234"/>
                    <a:pt x="239" y="247"/>
                    <a:pt x="266" y="259"/>
                  </a:cubicBezTo>
                  <a:cubicBezTo>
                    <a:pt x="268" y="260"/>
                    <a:pt x="268" y="260"/>
                    <a:pt x="268" y="260"/>
                  </a:cubicBezTo>
                  <a:cubicBezTo>
                    <a:pt x="275" y="262"/>
                    <a:pt x="281" y="264"/>
                    <a:pt x="288" y="264"/>
                  </a:cubicBezTo>
                  <a:cubicBezTo>
                    <a:pt x="292" y="264"/>
                    <a:pt x="297" y="263"/>
                    <a:pt x="302" y="262"/>
                  </a:cubicBezTo>
                  <a:cubicBezTo>
                    <a:pt x="315" y="258"/>
                    <a:pt x="326" y="248"/>
                    <a:pt x="331" y="236"/>
                  </a:cubicBezTo>
                  <a:cubicBezTo>
                    <a:pt x="332" y="233"/>
                    <a:pt x="332" y="233"/>
                    <a:pt x="332" y="233"/>
                  </a:cubicBezTo>
                  <a:cubicBezTo>
                    <a:pt x="338" y="221"/>
                    <a:pt x="343" y="209"/>
                    <a:pt x="348" y="197"/>
                  </a:cubicBezTo>
                  <a:cubicBezTo>
                    <a:pt x="357" y="175"/>
                    <a:pt x="350" y="151"/>
                    <a:pt x="330" y="138"/>
                  </a:cubicBezTo>
                  <a:cubicBezTo>
                    <a:pt x="317" y="130"/>
                    <a:pt x="304" y="122"/>
                    <a:pt x="292" y="114"/>
                  </a:cubicBezTo>
                  <a:cubicBezTo>
                    <a:pt x="275" y="104"/>
                    <a:pt x="275" y="104"/>
                    <a:pt x="275" y="104"/>
                  </a:cubicBezTo>
                  <a:cubicBezTo>
                    <a:pt x="263" y="97"/>
                    <a:pt x="251" y="90"/>
                    <a:pt x="239" y="83"/>
                  </a:cubicBezTo>
                  <a:cubicBezTo>
                    <a:pt x="233" y="79"/>
                    <a:pt x="226" y="76"/>
                    <a:pt x="220" y="72"/>
                  </a:cubicBezTo>
                  <a:cubicBezTo>
                    <a:pt x="185" y="52"/>
                    <a:pt x="149" y="32"/>
                    <a:pt x="108" y="10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93" y="2"/>
                    <a:pt x="85" y="0"/>
                    <a:pt x="77" y="0"/>
                  </a:cubicBezTo>
                  <a:cubicBezTo>
                    <a:pt x="59" y="0"/>
                    <a:pt x="43" y="10"/>
                    <a:pt x="35" y="26"/>
                  </a:cubicBezTo>
                  <a:cubicBezTo>
                    <a:pt x="8" y="76"/>
                    <a:pt x="8" y="76"/>
                    <a:pt x="8" y="76"/>
                  </a:cubicBezTo>
                  <a:cubicBezTo>
                    <a:pt x="2" y="87"/>
                    <a:pt x="0" y="101"/>
                    <a:pt x="4" y="113"/>
                  </a:cubicBezTo>
                  <a:cubicBezTo>
                    <a:pt x="8" y="125"/>
                    <a:pt x="17" y="135"/>
                    <a:pt x="28" y="141"/>
                  </a:cubicBezTo>
                  <a:close/>
                  <a:moveTo>
                    <a:pt x="42" y="94"/>
                  </a:moveTo>
                  <a:cubicBezTo>
                    <a:pt x="69" y="44"/>
                    <a:pt x="69" y="44"/>
                    <a:pt x="69" y="44"/>
                  </a:cubicBezTo>
                  <a:cubicBezTo>
                    <a:pt x="70" y="40"/>
                    <a:pt x="74" y="39"/>
                    <a:pt x="77" y="39"/>
                  </a:cubicBezTo>
                  <a:cubicBezTo>
                    <a:pt x="79" y="39"/>
                    <a:pt x="80" y="39"/>
                    <a:pt x="82" y="40"/>
                  </a:cubicBezTo>
                  <a:cubicBezTo>
                    <a:pt x="90" y="44"/>
                    <a:pt x="90" y="44"/>
                    <a:pt x="90" y="44"/>
                  </a:cubicBezTo>
                  <a:cubicBezTo>
                    <a:pt x="130" y="66"/>
                    <a:pt x="167" y="86"/>
                    <a:pt x="200" y="105"/>
                  </a:cubicBezTo>
                  <a:cubicBezTo>
                    <a:pt x="207" y="109"/>
                    <a:pt x="213" y="113"/>
                    <a:pt x="220" y="117"/>
                  </a:cubicBezTo>
                  <a:cubicBezTo>
                    <a:pt x="232" y="123"/>
                    <a:pt x="244" y="130"/>
                    <a:pt x="255" y="137"/>
                  </a:cubicBezTo>
                  <a:cubicBezTo>
                    <a:pt x="272" y="147"/>
                    <a:pt x="272" y="147"/>
                    <a:pt x="272" y="147"/>
                  </a:cubicBezTo>
                  <a:cubicBezTo>
                    <a:pt x="284" y="155"/>
                    <a:pt x="297" y="162"/>
                    <a:pt x="309" y="170"/>
                  </a:cubicBezTo>
                  <a:cubicBezTo>
                    <a:pt x="313" y="173"/>
                    <a:pt x="315" y="178"/>
                    <a:pt x="313" y="182"/>
                  </a:cubicBezTo>
                  <a:cubicBezTo>
                    <a:pt x="308" y="194"/>
                    <a:pt x="303" y="206"/>
                    <a:pt x="297" y="218"/>
                  </a:cubicBezTo>
                  <a:cubicBezTo>
                    <a:pt x="296" y="220"/>
                    <a:pt x="296" y="220"/>
                    <a:pt x="296" y="220"/>
                  </a:cubicBezTo>
                  <a:cubicBezTo>
                    <a:pt x="295" y="222"/>
                    <a:pt x="293" y="224"/>
                    <a:pt x="290" y="225"/>
                  </a:cubicBezTo>
                  <a:cubicBezTo>
                    <a:pt x="290" y="225"/>
                    <a:pt x="289" y="225"/>
                    <a:pt x="288" y="225"/>
                  </a:cubicBezTo>
                  <a:cubicBezTo>
                    <a:pt x="286" y="225"/>
                    <a:pt x="285" y="225"/>
                    <a:pt x="284" y="225"/>
                  </a:cubicBezTo>
                  <a:cubicBezTo>
                    <a:pt x="281" y="223"/>
                    <a:pt x="281" y="223"/>
                    <a:pt x="281" y="223"/>
                  </a:cubicBezTo>
                  <a:cubicBezTo>
                    <a:pt x="255" y="212"/>
                    <a:pt x="229" y="199"/>
                    <a:pt x="203" y="187"/>
                  </a:cubicBezTo>
                  <a:cubicBezTo>
                    <a:pt x="191" y="181"/>
                    <a:pt x="179" y="175"/>
                    <a:pt x="167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33" y="152"/>
                    <a:pt x="96" y="134"/>
                    <a:pt x="54" y="112"/>
                  </a:cubicBezTo>
                  <a:cubicBezTo>
                    <a:pt x="46" y="107"/>
                    <a:pt x="46" y="107"/>
                    <a:pt x="46" y="107"/>
                  </a:cubicBezTo>
                  <a:cubicBezTo>
                    <a:pt x="43" y="106"/>
                    <a:pt x="42" y="104"/>
                    <a:pt x="41" y="102"/>
                  </a:cubicBezTo>
                  <a:cubicBezTo>
                    <a:pt x="40" y="99"/>
                    <a:pt x="40" y="97"/>
                    <a:pt x="42" y="94"/>
                  </a:cubicBezTo>
                  <a:close/>
                </a:path>
              </a:pathLst>
            </a:custGeom>
            <a:solidFill>
              <a:srgbClr val="2e3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 flipH="1">
              <a:off x="7612920" y="936720"/>
              <a:ext cx="139680" cy="185760"/>
            </a:xfrm>
            <a:custGeom>
              <a:avLst/>
              <a:gdLst>
                <a:gd name="textAreaLeft" fmla="*/ 360 w 139680"/>
                <a:gd name="textAreaRight" fmla="*/ 140400 w 1396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67" h="354">
                  <a:moveTo>
                    <a:pt x="27" y="325"/>
                  </a:moveTo>
                  <a:cubicBezTo>
                    <a:pt x="38" y="332"/>
                    <a:pt x="49" y="339"/>
                    <a:pt x="61" y="346"/>
                  </a:cubicBezTo>
                  <a:cubicBezTo>
                    <a:pt x="63" y="347"/>
                    <a:pt x="63" y="347"/>
                    <a:pt x="63" y="347"/>
                  </a:cubicBezTo>
                  <a:cubicBezTo>
                    <a:pt x="71" y="351"/>
                    <a:pt x="79" y="354"/>
                    <a:pt x="88" y="354"/>
                  </a:cubicBezTo>
                  <a:cubicBezTo>
                    <a:pt x="93" y="354"/>
                    <a:pt x="97" y="353"/>
                    <a:pt x="102" y="352"/>
                  </a:cubicBezTo>
                  <a:cubicBezTo>
                    <a:pt x="113" y="348"/>
                    <a:pt x="122" y="341"/>
                    <a:pt x="129" y="331"/>
                  </a:cubicBezTo>
                  <a:cubicBezTo>
                    <a:pt x="130" y="329"/>
                    <a:pt x="130" y="329"/>
                    <a:pt x="130" y="329"/>
                  </a:cubicBezTo>
                  <a:cubicBezTo>
                    <a:pt x="146" y="304"/>
                    <a:pt x="160" y="278"/>
                    <a:pt x="174" y="253"/>
                  </a:cubicBezTo>
                  <a:cubicBezTo>
                    <a:pt x="181" y="242"/>
                    <a:pt x="187" y="231"/>
                    <a:pt x="194" y="219"/>
                  </a:cubicBezTo>
                  <a:cubicBezTo>
                    <a:pt x="194" y="219"/>
                    <a:pt x="194" y="219"/>
                    <a:pt x="194" y="219"/>
                  </a:cubicBezTo>
                  <a:cubicBezTo>
                    <a:pt x="195" y="217"/>
                    <a:pt x="195" y="217"/>
                    <a:pt x="195" y="217"/>
                  </a:cubicBezTo>
                  <a:cubicBezTo>
                    <a:pt x="214" y="184"/>
                    <a:pt x="233" y="147"/>
                    <a:pt x="255" y="106"/>
                  </a:cubicBezTo>
                  <a:cubicBezTo>
                    <a:pt x="260" y="97"/>
                    <a:pt x="260" y="97"/>
                    <a:pt x="260" y="97"/>
                  </a:cubicBezTo>
                  <a:cubicBezTo>
                    <a:pt x="266" y="86"/>
                    <a:pt x="267" y="73"/>
                    <a:pt x="263" y="61"/>
                  </a:cubicBezTo>
                  <a:cubicBezTo>
                    <a:pt x="259" y="48"/>
                    <a:pt x="251" y="38"/>
                    <a:pt x="239" y="32"/>
                  </a:cubicBezTo>
                  <a:cubicBezTo>
                    <a:pt x="188" y="6"/>
                    <a:pt x="188" y="6"/>
                    <a:pt x="188" y="6"/>
                  </a:cubicBezTo>
                  <a:cubicBezTo>
                    <a:pt x="182" y="2"/>
                    <a:pt x="174" y="0"/>
                    <a:pt x="166" y="0"/>
                  </a:cubicBezTo>
                  <a:cubicBezTo>
                    <a:pt x="166" y="0"/>
                    <a:pt x="166" y="0"/>
                    <a:pt x="166" y="0"/>
                  </a:cubicBezTo>
                  <a:cubicBezTo>
                    <a:pt x="148" y="0"/>
                    <a:pt x="132" y="10"/>
                    <a:pt x="124" y="26"/>
                  </a:cubicBezTo>
                  <a:cubicBezTo>
                    <a:pt x="119" y="35"/>
                    <a:pt x="119" y="35"/>
                    <a:pt x="119" y="35"/>
                  </a:cubicBezTo>
                  <a:cubicBezTo>
                    <a:pt x="98" y="76"/>
                    <a:pt x="79" y="113"/>
                    <a:pt x="62" y="149"/>
                  </a:cubicBezTo>
                  <a:cubicBezTo>
                    <a:pt x="59" y="156"/>
                    <a:pt x="56" y="162"/>
                    <a:pt x="53" y="169"/>
                  </a:cubicBezTo>
                  <a:cubicBezTo>
                    <a:pt x="47" y="181"/>
                    <a:pt x="41" y="194"/>
                    <a:pt x="35" y="207"/>
                  </a:cubicBezTo>
                  <a:cubicBezTo>
                    <a:pt x="27" y="224"/>
                    <a:pt x="27" y="224"/>
                    <a:pt x="27" y="224"/>
                  </a:cubicBezTo>
                  <a:cubicBezTo>
                    <a:pt x="21" y="238"/>
                    <a:pt x="15" y="252"/>
                    <a:pt x="9" y="266"/>
                  </a:cubicBezTo>
                  <a:cubicBezTo>
                    <a:pt x="0" y="287"/>
                    <a:pt x="7" y="312"/>
                    <a:pt x="27" y="325"/>
                  </a:cubicBezTo>
                  <a:close/>
                  <a:moveTo>
                    <a:pt x="44" y="281"/>
                  </a:moveTo>
                  <a:cubicBezTo>
                    <a:pt x="50" y="267"/>
                    <a:pt x="56" y="254"/>
                    <a:pt x="62" y="240"/>
                  </a:cubicBezTo>
                  <a:cubicBezTo>
                    <a:pt x="70" y="223"/>
                    <a:pt x="70" y="223"/>
                    <a:pt x="70" y="223"/>
                  </a:cubicBezTo>
                  <a:cubicBezTo>
                    <a:pt x="75" y="210"/>
                    <a:pt x="81" y="198"/>
                    <a:pt x="87" y="186"/>
                  </a:cubicBezTo>
                  <a:cubicBezTo>
                    <a:pt x="91" y="179"/>
                    <a:pt x="94" y="172"/>
                    <a:pt x="97" y="165"/>
                  </a:cubicBezTo>
                  <a:cubicBezTo>
                    <a:pt x="114" y="130"/>
                    <a:pt x="132" y="93"/>
                    <a:pt x="154" y="52"/>
                  </a:cubicBezTo>
                  <a:cubicBezTo>
                    <a:pt x="158" y="44"/>
                    <a:pt x="158" y="44"/>
                    <a:pt x="158" y="44"/>
                  </a:cubicBezTo>
                  <a:cubicBezTo>
                    <a:pt x="159" y="41"/>
                    <a:pt x="163" y="39"/>
                    <a:pt x="166" y="39"/>
                  </a:cubicBezTo>
                  <a:cubicBezTo>
                    <a:pt x="168" y="39"/>
                    <a:pt x="169" y="39"/>
                    <a:pt x="171" y="40"/>
                  </a:cubicBezTo>
                  <a:cubicBezTo>
                    <a:pt x="222" y="66"/>
                    <a:pt x="222" y="66"/>
                    <a:pt x="222" y="66"/>
                  </a:cubicBezTo>
                  <a:cubicBezTo>
                    <a:pt x="224" y="67"/>
                    <a:pt x="226" y="70"/>
                    <a:pt x="226" y="72"/>
                  </a:cubicBezTo>
                  <a:cubicBezTo>
                    <a:pt x="227" y="74"/>
                    <a:pt x="227" y="77"/>
                    <a:pt x="226" y="79"/>
                  </a:cubicBezTo>
                  <a:cubicBezTo>
                    <a:pt x="221" y="88"/>
                    <a:pt x="221" y="88"/>
                    <a:pt x="221" y="88"/>
                  </a:cubicBezTo>
                  <a:cubicBezTo>
                    <a:pt x="199" y="129"/>
                    <a:pt x="180" y="166"/>
                    <a:pt x="161" y="199"/>
                  </a:cubicBezTo>
                  <a:cubicBezTo>
                    <a:pt x="161" y="199"/>
                    <a:pt x="161" y="199"/>
                    <a:pt x="161" y="199"/>
                  </a:cubicBezTo>
                  <a:cubicBezTo>
                    <a:pt x="154" y="211"/>
                    <a:pt x="148" y="223"/>
                    <a:pt x="141" y="234"/>
                  </a:cubicBezTo>
                  <a:cubicBezTo>
                    <a:pt x="127" y="259"/>
                    <a:pt x="113" y="284"/>
                    <a:pt x="97" y="308"/>
                  </a:cubicBezTo>
                  <a:cubicBezTo>
                    <a:pt x="96" y="311"/>
                    <a:pt x="96" y="311"/>
                    <a:pt x="96" y="311"/>
                  </a:cubicBezTo>
                  <a:cubicBezTo>
                    <a:pt x="95" y="313"/>
                    <a:pt x="93" y="314"/>
                    <a:pt x="91" y="315"/>
                  </a:cubicBezTo>
                  <a:cubicBezTo>
                    <a:pt x="90" y="315"/>
                    <a:pt x="89" y="315"/>
                    <a:pt x="88" y="315"/>
                  </a:cubicBezTo>
                  <a:cubicBezTo>
                    <a:pt x="86" y="315"/>
                    <a:pt x="84" y="315"/>
                    <a:pt x="83" y="314"/>
                  </a:cubicBezTo>
                  <a:cubicBezTo>
                    <a:pt x="81" y="313"/>
                    <a:pt x="81" y="313"/>
                    <a:pt x="81" y="313"/>
                  </a:cubicBezTo>
                  <a:cubicBezTo>
                    <a:pt x="70" y="306"/>
                    <a:pt x="59" y="299"/>
                    <a:pt x="48" y="292"/>
                  </a:cubicBezTo>
                  <a:cubicBezTo>
                    <a:pt x="44" y="290"/>
                    <a:pt x="42" y="285"/>
                    <a:pt x="44" y="281"/>
                  </a:cubicBezTo>
                  <a:close/>
                </a:path>
              </a:pathLst>
            </a:custGeom>
            <a:solidFill>
              <a:srgbClr val="2e3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 flipH="1">
              <a:off x="7814520" y="938880"/>
              <a:ext cx="121320" cy="18792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33" h="360">
                  <a:moveTo>
                    <a:pt x="11" y="89"/>
                  </a:moveTo>
                  <a:cubicBezTo>
                    <a:pt x="25" y="133"/>
                    <a:pt x="38" y="172"/>
                    <a:pt x="51" y="210"/>
                  </a:cubicBezTo>
                  <a:cubicBezTo>
                    <a:pt x="59" y="231"/>
                    <a:pt x="59" y="231"/>
                    <a:pt x="59" y="231"/>
                  </a:cubicBezTo>
                  <a:cubicBezTo>
                    <a:pt x="63" y="244"/>
                    <a:pt x="68" y="257"/>
                    <a:pt x="73" y="270"/>
                  </a:cubicBezTo>
                  <a:cubicBezTo>
                    <a:pt x="80" y="288"/>
                    <a:pt x="80" y="288"/>
                    <a:pt x="80" y="288"/>
                  </a:cubicBezTo>
                  <a:cubicBezTo>
                    <a:pt x="85" y="302"/>
                    <a:pt x="90" y="316"/>
                    <a:pt x="96" y="330"/>
                  </a:cubicBezTo>
                  <a:cubicBezTo>
                    <a:pt x="103" y="349"/>
                    <a:pt x="121" y="360"/>
                    <a:pt x="140" y="360"/>
                  </a:cubicBezTo>
                  <a:cubicBezTo>
                    <a:pt x="144" y="360"/>
                    <a:pt x="147" y="360"/>
                    <a:pt x="151" y="359"/>
                  </a:cubicBezTo>
                  <a:cubicBezTo>
                    <a:pt x="163" y="356"/>
                    <a:pt x="176" y="353"/>
                    <a:pt x="190" y="350"/>
                  </a:cubicBezTo>
                  <a:cubicBezTo>
                    <a:pt x="192" y="349"/>
                    <a:pt x="192" y="349"/>
                    <a:pt x="192" y="349"/>
                  </a:cubicBezTo>
                  <a:cubicBezTo>
                    <a:pt x="193" y="349"/>
                    <a:pt x="193" y="349"/>
                    <a:pt x="193" y="349"/>
                  </a:cubicBezTo>
                  <a:cubicBezTo>
                    <a:pt x="194" y="349"/>
                    <a:pt x="194" y="349"/>
                    <a:pt x="194" y="349"/>
                  </a:cubicBezTo>
                  <a:cubicBezTo>
                    <a:pt x="218" y="341"/>
                    <a:pt x="233" y="316"/>
                    <a:pt x="227" y="292"/>
                  </a:cubicBezTo>
                  <a:cubicBezTo>
                    <a:pt x="226" y="289"/>
                    <a:pt x="226" y="289"/>
                    <a:pt x="226" y="289"/>
                  </a:cubicBezTo>
                  <a:cubicBezTo>
                    <a:pt x="220" y="261"/>
                    <a:pt x="212" y="232"/>
                    <a:pt x="204" y="205"/>
                  </a:cubicBezTo>
                  <a:cubicBezTo>
                    <a:pt x="204" y="204"/>
                    <a:pt x="204" y="204"/>
                    <a:pt x="204" y="204"/>
                  </a:cubicBezTo>
                  <a:cubicBezTo>
                    <a:pt x="201" y="191"/>
                    <a:pt x="197" y="178"/>
                    <a:pt x="194" y="166"/>
                  </a:cubicBezTo>
                  <a:cubicBezTo>
                    <a:pt x="183" y="128"/>
                    <a:pt x="172" y="90"/>
                    <a:pt x="157" y="43"/>
                  </a:cubicBezTo>
                  <a:cubicBezTo>
                    <a:pt x="154" y="34"/>
                    <a:pt x="154" y="34"/>
                    <a:pt x="154" y="34"/>
                  </a:cubicBezTo>
                  <a:cubicBezTo>
                    <a:pt x="151" y="21"/>
                    <a:pt x="142" y="11"/>
                    <a:pt x="131" y="5"/>
                  </a:cubicBezTo>
                  <a:cubicBezTo>
                    <a:pt x="124" y="2"/>
                    <a:pt x="116" y="0"/>
                    <a:pt x="109" y="0"/>
                  </a:cubicBezTo>
                  <a:cubicBezTo>
                    <a:pt x="104" y="0"/>
                    <a:pt x="99" y="1"/>
                    <a:pt x="94" y="2"/>
                  </a:cubicBezTo>
                  <a:cubicBezTo>
                    <a:pt x="48" y="17"/>
                    <a:pt x="48" y="17"/>
                    <a:pt x="48" y="1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14" y="27"/>
                    <a:pt x="0" y="54"/>
                    <a:pt x="8" y="80"/>
                  </a:cubicBezTo>
                  <a:lnTo>
                    <a:pt x="11" y="89"/>
                  </a:lnTo>
                  <a:close/>
                  <a:moveTo>
                    <a:pt x="51" y="56"/>
                  </a:moveTo>
                  <a:cubicBezTo>
                    <a:pt x="60" y="53"/>
                    <a:pt x="60" y="53"/>
                    <a:pt x="60" y="53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7" y="38"/>
                    <a:pt x="108" y="38"/>
                    <a:pt x="109" y="38"/>
                  </a:cubicBezTo>
                  <a:cubicBezTo>
                    <a:pt x="110" y="38"/>
                    <a:pt x="112" y="39"/>
                    <a:pt x="113" y="39"/>
                  </a:cubicBezTo>
                  <a:cubicBezTo>
                    <a:pt x="115" y="41"/>
                    <a:pt x="117" y="43"/>
                    <a:pt x="118" y="45"/>
                  </a:cubicBezTo>
                  <a:cubicBezTo>
                    <a:pt x="121" y="54"/>
                    <a:pt x="121" y="54"/>
                    <a:pt x="121" y="54"/>
                  </a:cubicBezTo>
                  <a:cubicBezTo>
                    <a:pt x="135" y="100"/>
                    <a:pt x="146" y="139"/>
                    <a:pt x="157" y="175"/>
                  </a:cubicBezTo>
                  <a:cubicBezTo>
                    <a:pt x="160" y="188"/>
                    <a:pt x="164" y="201"/>
                    <a:pt x="167" y="214"/>
                  </a:cubicBezTo>
                  <a:cubicBezTo>
                    <a:pt x="175" y="241"/>
                    <a:pt x="182" y="270"/>
                    <a:pt x="189" y="298"/>
                  </a:cubicBezTo>
                  <a:cubicBezTo>
                    <a:pt x="190" y="301"/>
                    <a:pt x="190" y="301"/>
                    <a:pt x="190" y="301"/>
                  </a:cubicBezTo>
                  <a:cubicBezTo>
                    <a:pt x="191" y="306"/>
                    <a:pt x="188" y="310"/>
                    <a:pt x="183" y="312"/>
                  </a:cubicBezTo>
                  <a:cubicBezTo>
                    <a:pt x="183" y="312"/>
                    <a:pt x="183" y="312"/>
                    <a:pt x="183" y="312"/>
                  </a:cubicBezTo>
                  <a:cubicBezTo>
                    <a:pt x="180" y="313"/>
                    <a:pt x="180" y="313"/>
                    <a:pt x="180" y="313"/>
                  </a:cubicBezTo>
                  <a:cubicBezTo>
                    <a:pt x="168" y="316"/>
                    <a:pt x="155" y="319"/>
                    <a:pt x="142" y="322"/>
                  </a:cubicBezTo>
                  <a:cubicBezTo>
                    <a:pt x="142" y="322"/>
                    <a:pt x="141" y="322"/>
                    <a:pt x="140" y="322"/>
                  </a:cubicBezTo>
                  <a:cubicBezTo>
                    <a:pt x="137" y="322"/>
                    <a:pt x="133" y="320"/>
                    <a:pt x="131" y="316"/>
                  </a:cubicBezTo>
                  <a:cubicBezTo>
                    <a:pt x="126" y="302"/>
                    <a:pt x="121" y="288"/>
                    <a:pt x="116" y="275"/>
                  </a:cubicBezTo>
                  <a:cubicBezTo>
                    <a:pt x="109" y="257"/>
                    <a:pt x="109" y="257"/>
                    <a:pt x="109" y="257"/>
                  </a:cubicBezTo>
                  <a:cubicBezTo>
                    <a:pt x="104" y="244"/>
                    <a:pt x="99" y="231"/>
                    <a:pt x="95" y="218"/>
                  </a:cubicBezTo>
                  <a:cubicBezTo>
                    <a:pt x="88" y="197"/>
                    <a:pt x="88" y="197"/>
                    <a:pt x="88" y="197"/>
                  </a:cubicBezTo>
                  <a:cubicBezTo>
                    <a:pt x="74" y="160"/>
                    <a:pt x="61" y="121"/>
                    <a:pt x="47" y="77"/>
                  </a:cubicBezTo>
                  <a:cubicBezTo>
                    <a:pt x="45" y="68"/>
                    <a:pt x="45" y="68"/>
                    <a:pt x="45" y="68"/>
                  </a:cubicBezTo>
                  <a:cubicBezTo>
                    <a:pt x="43" y="63"/>
                    <a:pt x="46" y="58"/>
                    <a:pt x="51" y="56"/>
                  </a:cubicBezTo>
                  <a:close/>
                </a:path>
              </a:pathLst>
            </a:custGeom>
            <a:solidFill>
              <a:srgbClr val="2e3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72" name="文本框 41"/>
          <p:cNvSpPr/>
          <p:nvPr/>
        </p:nvSpPr>
        <p:spPr>
          <a:xfrm>
            <a:off x="2822040" y="2914200"/>
            <a:ext cx="362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特曼人现状调查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42"/>
          <p:cNvGrpSpPr/>
          <p:nvPr/>
        </p:nvGrpSpPr>
        <p:grpSpPr>
          <a:xfrm>
            <a:off x="1869120" y="4840560"/>
            <a:ext cx="2231280" cy="957960"/>
            <a:chOff x="1869120" y="4840560"/>
            <a:chExt cx="2231280" cy="957960"/>
          </a:xfrm>
        </p:grpSpPr>
        <p:pic>
          <p:nvPicPr>
            <p:cNvPr id="174" name="图片 43" descr=""/>
            <p:cNvPicPr/>
            <p:nvPr/>
          </p:nvPicPr>
          <p:blipFill>
            <a:blip r:embed="rId1"/>
            <a:stretch/>
          </p:blipFill>
          <p:spPr>
            <a:xfrm>
              <a:off x="1869120" y="484200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图片 51" descr=""/>
            <p:cNvPicPr/>
            <p:nvPr/>
          </p:nvPicPr>
          <p:blipFill>
            <a:blip r:embed="rId2"/>
            <a:stretch/>
          </p:blipFill>
          <p:spPr>
            <a:xfrm>
              <a:off x="2315520" y="484200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54" descr=""/>
            <p:cNvPicPr/>
            <p:nvPr/>
          </p:nvPicPr>
          <p:blipFill>
            <a:blip r:embed="rId3"/>
            <a:stretch/>
          </p:blipFill>
          <p:spPr>
            <a:xfrm>
              <a:off x="2761920" y="484200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55" descr=""/>
            <p:cNvPicPr/>
            <p:nvPr/>
          </p:nvPicPr>
          <p:blipFill>
            <a:blip r:embed="rId4"/>
            <a:stretch/>
          </p:blipFill>
          <p:spPr>
            <a:xfrm>
              <a:off x="3207960" y="484200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56" descr=""/>
            <p:cNvPicPr/>
            <p:nvPr/>
          </p:nvPicPr>
          <p:blipFill>
            <a:blip r:embed="rId5"/>
            <a:stretch/>
          </p:blipFill>
          <p:spPr>
            <a:xfrm>
              <a:off x="1869120" y="535032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57" descr=""/>
            <p:cNvPicPr/>
            <p:nvPr/>
          </p:nvPicPr>
          <p:blipFill>
            <a:blip r:embed="rId6"/>
            <a:stretch/>
          </p:blipFill>
          <p:spPr>
            <a:xfrm>
              <a:off x="2315520" y="535032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58" descr=""/>
            <p:cNvPicPr/>
            <p:nvPr/>
          </p:nvPicPr>
          <p:blipFill>
            <a:blip r:embed="rId7"/>
            <a:stretch/>
          </p:blipFill>
          <p:spPr>
            <a:xfrm>
              <a:off x="2761920" y="535032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59" descr=""/>
            <p:cNvPicPr/>
            <p:nvPr/>
          </p:nvPicPr>
          <p:blipFill>
            <a:blip r:embed="rId8"/>
            <a:stretch/>
          </p:blipFill>
          <p:spPr>
            <a:xfrm>
              <a:off x="3207960" y="535032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60" descr=""/>
            <p:cNvPicPr/>
            <p:nvPr/>
          </p:nvPicPr>
          <p:blipFill>
            <a:blip r:embed="rId9"/>
            <a:stretch/>
          </p:blipFill>
          <p:spPr>
            <a:xfrm>
              <a:off x="3654360" y="4840560"/>
              <a:ext cx="4460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61" descr=""/>
            <p:cNvPicPr/>
            <p:nvPr/>
          </p:nvPicPr>
          <p:blipFill>
            <a:blip r:embed="rId10"/>
            <a:stretch/>
          </p:blipFill>
          <p:spPr>
            <a:xfrm>
              <a:off x="3654360" y="5351760"/>
              <a:ext cx="44604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文本框 124"/>
          <p:cNvSpPr/>
          <p:nvPr/>
        </p:nvSpPr>
        <p:spPr>
          <a:xfrm>
            <a:off x="4713840" y="4710240"/>
            <a:ext cx="1700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  <a:ea typeface="微软雅黑"/>
              </a:rPr>
              <a:t>2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直接连接符 126"/>
          <p:cNvCxnSpPr/>
          <p:nvPr/>
        </p:nvCxnSpPr>
        <p:spPr>
          <a:xfrm>
            <a:off x="1366560" y="5900400"/>
            <a:ext cx="677988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  <p:sp>
        <p:nvSpPr>
          <p:cNvPr id="186" name="文本框 129"/>
          <p:cNvSpPr/>
          <p:nvPr/>
        </p:nvSpPr>
        <p:spPr>
          <a:xfrm>
            <a:off x="4703040" y="5289480"/>
            <a:ext cx="18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表现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2"/>
          <p:cNvGrpSpPr/>
          <p:nvPr/>
        </p:nvGrpSpPr>
        <p:grpSpPr>
          <a:xfrm>
            <a:off x="1835640" y="5966280"/>
            <a:ext cx="2285640" cy="425880"/>
            <a:chOff x="1835640" y="5966280"/>
            <a:chExt cx="2285640" cy="425880"/>
          </a:xfrm>
        </p:grpSpPr>
        <p:pic>
          <p:nvPicPr>
            <p:cNvPr id="188" name="图片 63" descr=""/>
            <p:cNvPicPr/>
            <p:nvPr/>
          </p:nvPicPr>
          <p:blipFill>
            <a:blip r:embed="rId11"/>
            <a:stretch/>
          </p:blipFill>
          <p:spPr>
            <a:xfrm>
              <a:off x="1835640" y="59662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图片 64" descr=""/>
            <p:cNvPicPr/>
            <p:nvPr/>
          </p:nvPicPr>
          <p:blipFill>
            <a:blip r:embed="rId12"/>
            <a:stretch/>
          </p:blipFill>
          <p:spPr>
            <a:xfrm>
              <a:off x="2300760" y="59662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65" descr=""/>
            <p:cNvPicPr/>
            <p:nvPr/>
          </p:nvPicPr>
          <p:blipFill>
            <a:blip r:embed="rId13"/>
            <a:stretch/>
          </p:blipFill>
          <p:spPr>
            <a:xfrm>
              <a:off x="2765880" y="59662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66" descr=""/>
            <p:cNvPicPr/>
            <p:nvPr/>
          </p:nvPicPr>
          <p:blipFill>
            <a:blip r:embed="rId14"/>
            <a:stretch/>
          </p:blipFill>
          <p:spPr>
            <a:xfrm>
              <a:off x="3231000" y="59662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67" descr=""/>
            <p:cNvPicPr/>
            <p:nvPr/>
          </p:nvPicPr>
          <p:blipFill>
            <a:blip r:embed="rId15"/>
            <a:stretch/>
          </p:blipFill>
          <p:spPr>
            <a:xfrm>
              <a:off x="3696120" y="5966280"/>
              <a:ext cx="425160" cy="42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合 143"/>
          <p:cNvGrpSpPr/>
          <p:nvPr/>
        </p:nvGrpSpPr>
        <p:grpSpPr>
          <a:xfrm>
            <a:off x="1835640" y="6441480"/>
            <a:ext cx="2285640" cy="425880"/>
            <a:chOff x="1835640" y="6441480"/>
            <a:chExt cx="2285640" cy="425880"/>
          </a:xfrm>
        </p:grpSpPr>
        <p:pic>
          <p:nvPicPr>
            <p:cNvPr id="194" name="图片 144" descr=""/>
            <p:cNvPicPr/>
            <p:nvPr/>
          </p:nvPicPr>
          <p:blipFill>
            <a:blip r:embed="rId16"/>
            <a:stretch/>
          </p:blipFill>
          <p:spPr>
            <a:xfrm>
              <a:off x="1835640" y="64414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145" descr=""/>
            <p:cNvPicPr/>
            <p:nvPr/>
          </p:nvPicPr>
          <p:blipFill>
            <a:blip r:embed="rId17"/>
            <a:stretch/>
          </p:blipFill>
          <p:spPr>
            <a:xfrm>
              <a:off x="2300760" y="64414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146" descr=""/>
            <p:cNvPicPr/>
            <p:nvPr/>
          </p:nvPicPr>
          <p:blipFill>
            <a:blip r:embed="rId18"/>
            <a:stretch/>
          </p:blipFill>
          <p:spPr>
            <a:xfrm>
              <a:off x="2765880" y="64414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147" descr=""/>
            <p:cNvPicPr/>
            <p:nvPr/>
          </p:nvPicPr>
          <p:blipFill>
            <a:blip r:embed="rId19"/>
            <a:stretch/>
          </p:blipFill>
          <p:spPr>
            <a:xfrm>
              <a:off x="3231000" y="6441480"/>
              <a:ext cx="4251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148" descr=""/>
            <p:cNvPicPr/>
            <p:nvPr/>
          </p:nvPicPr>
          <p:blipFill>
            <a:blip r:embed="rId20"/>
            <a:stretch/>
          </p:blipFill>
          <p:spPr>
            <a:xfrm>
              <a:off x="3696120" y="6441480"/>
              <a:ext cx="425160" cy="4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文本框 173"/>
          <p:cNvSpPr/>
          <p:nvPr/>
        </p:nvSpPr>
        <p:spPr>
          <a:xfrm>
            <a:off x="1046880" y="4722840"/>
            <a:ext cx="9514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85"/>
          <p:cNvGrpSpPr/>
          <p:nvPr/>
        </p:nvGrpSpPr>
        <p:grpSpPr>
          <a:xfrm>
            <a:off x="6967800" y="4978080"/>
            <a:ext cx="643320" cy="643320"/>
            <a:chOff x="6967800" y="4978080"/>
            <a:chExt cx="643320" cy="643320"/>
          </a:xfrm>
        </p:grpSpPr>
        <p:sp>
          <p:nvSpPr>
            <p:cNvPr id="201" name="椭圆 86"/>
            <p:cNvSpPr/>
            <p:nvPr/>
          </p:nvSpPr>
          <p:spPr>
            <a:xfrm>
              <a:off x="6967800" y="4978080"/>
              <a:ext cx="643320" cy="643320"/>
            </a:xfrm>
            <a:prstGeom prst="ellipse">
              <a:avLst/>
            </a:prstGeom>
            <a:noFill/>
            <a:ln w="28575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202" name="组合 87"/>
            <p:cNvGrpSpPr/>
            <p:nvPr/>
          </p:nvGrpSpPr>
          <p:grpSpPr>
            <a:xfrm>
              <a:off x="7117560" y="5195520"/>
              <a:ext cx="344160" cy="70920"/>
              <a:chOff x="7117560" y="5195520"/>
              <a:chExt cx="344160" cy="70920"/>
            </a:xfrm>
          </p:grpSpPr>
          <p:sp>
            <p:nvSpPr>
              <p:cNvPr id="203" name="椭圆 89"/>
              <p:cNvSpPr/>
              <p:nvPr/>
            </p:nvSpPr>
            <p:spPr>
              <a:xfrm>
                <a:off x="7117560" y="5195520"/>
                <a:ext cx="70920" cy="70920"/>
              </a:xfrm>
              <a:prstGeom prst="ellipse">
                <a:avLst/>
              </a:prstGeom>
              <a:solidFill>
                <a:schemeClr val="tx1"/>
              </a:solidFill>
              <a:ln w="285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204" name="椭圆 90"/>
              <p:cNvSpPr/>
              <p:nvPr/>
            </p:nvSpPr>
            <p:spPr>
              <a:xfrm>
                <a:off x="7390800" y="5195520"/>
                <a:ext cx="70920" cy="70920"/>
              </a:xfrm>
              <a:prstGeom prst="ellipse">
                <a:avLst/>
              </a:prstGeom>
              <a:solidFill>
                <a:schemeClr val="tx1"/>
              </a:solidFill>
              <a:ln w="285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205" name="弧形 88"/>
            <p:cNvSpPr/>
            <p:nvPr/>
          </p:nvSpPr>
          <p:spPr>
            <a:xfrm>
              <a:off x="7066440" y="5050440"/>
              <a:ext cx="446400" cy="446400"/>
            </a:xfrm>
            <a:prstGeom prst="arc">
              <a:avLst>
                <a:gd name="adj1" fmla="val 1882380"/>
                <a:gd name="adj2" fmla="val 8787233"/>
              </a:avLst>
            </a:prstGeom>
            <a:noFill/>
            <a:ln w="28575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06" name="矩形 14"/>
          <p:cNvSpPr/>
          <p:nvPr/>
        </p:nvSpPr>
        <p:spPr>
          <a:xfrm>
            <a:off x="1289880" y="3489120"/>
            <a:ext cx="6646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     “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特曼人”调查报告基于研究者特曼从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25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万中小学生中挑选出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1470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个智商介于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140-200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的孩子，在这些孩子成年后，对于其中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微软雅黑"/>
              </a:rPr>
              <a:t>730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"/>
              </a:rPr>
              <a:t>位男性的现状进行调查的报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94"/>
          <p:cNvSpPr/>
          <p:nvPr/>
        </p:nvSpPr>
        <p:spPr>
          <a:xfrm>
            <a:off x="582840" y="-361800"/>
            <a:ext cx="8019720" cy="763884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208" name="直接连接符 47"/>
          <p:cNvCxnSpPr/>
          <p:nvPr/>
        </p:nvCxnSpPr>
        <p:spPr>
          <a:xfrm>
            <a:off x="1157400" y="2172240"/>
            <a:ext cx="677988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  <p:grpSp>
        <p:nvGrpSpPr>
          <p:cNvPr id="209" name="组合 1"/>
          <p:cNvGrpSpPr/>
          <p:nvPr/>
        </p:nvGrpSpPr>
        <p:grpSpPr>
          <a:xfrm>
            <a:off x="1835640" y="1062360"/>
            <a:ext cx="2285640" cy="901080"/>
            <a:chOff x="1835640" y="1062360"/>
            <a:chExt cx="2285640" cy="901080"/>
          </a:xfrm>
        </p:grpSpPr>
        <p:grpSp>
          <p:nvGrpSpPr>
            <p:cNvPr id="210" name="组合 114"/>
            <p:cNvGrpSpPr/>
            <p:nvPr/>
          </p:nvGrpSpPr>
          <p:grpSpPr>
            <a:xfrm>
              <a:off x="1835640" y="1062360"/>
              <a:ext cx="2285640" cy="425880"/>
              <a:chOff x="1835640" y="1062360"/>
              <a:chExt cx="2285640" cy="425880"/>
            </a:xfrm>
          </p:grpSpPr>
          <p:pic>
            <p:nvPicPr>
              <p:cNvPr id="211" name="图片 1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5640" y="10623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1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0760" y="10623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1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765880" y="10623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图片 118" descr=""/>
              <p:cNvPicPr/>
              <p:nvPr/>
            </p:nvPicPr>
            <p:blipFill>
              <a:blip r:embed="rId4"/>
              <a:stretch/>
            </p:blipFill>
            <p:spPr>
              <a:xfrm>
                <a:off x="3231000" y="10623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图片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3696120" y="10623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组合 120"/>
            <p:cNvGrpSpPr/>
            <p:nvPr/>
          </p:nvGrpSpPr>
          <p:grpSpPr>
            <a:xfrm>
              <a:off x="1835640" y="1537560"/>
              <a:ext cx="2285640" cy="425880"/>
              <a:chOff x="1835640" y="1537560"/>
              <a:chExt cx="2285640" cy="425880"/>
            </a:xfrm>
          </p:grpSpPr>
          <p:pic>
            <p:nvPicPr>
              <p:cNvPr id="217" name="图片 121" descr=""/>
              <p:cNvPicPr/>
              <p:nvPr/>
            </p:nvPicPr>
            <p:blipFill>
              <a:blip r:embed="rId6"/>
              <a:stretch/>
            </p:blipFill>
            <p:spPr>
              <a:xfrm>
                <a:off x="1835640" y="15375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1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300760" y="15375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图片 123" descr=""/>
              <p:cNvPicPr/>
              <p:nvPr/>
            </p:nvPicPr>
            <p:blipFill>
              <a:blip r:embed="rId8"/>
              <a:stretch/>
            </p:blipFill>
            <p:spPr>
              <a:xfrm>
                <a:off x="2765880" y="15375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图片 1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231000" y="15375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图片 1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96120" y="153756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2" name="组合 2"/>
          <p:cNvGrpSpPr/>
          <p:nvPr/>
        </p:nvGrpSpPr>
        <p:grpSpPr>
          <a:xfrm>
            <a:off x="1089720" y="2229120"/>
            <a:ext cx="6536160" cy="1172880"/>
            <a:chOff x="1089720" y="2229120"/>
            <a:chExt cx="6536160" cy="1172880"/>
          </a:xfrm>
        </p:grpSpPr>
        <p:sp>
          <p:nvSpPr>
            <p:cNvPr id="223" name="文本框 43"/>
            <p:cNvSpPr/>
            <p:nvPr/>
          </p:nvSpPr>
          <p:spPr>
            <a:xfrm>
              <a:off x="4474440" y="2229120"/>
              <a:ext cx="1916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Showcard Gothic"/>
                  <a:ea typeface="微软雅黑"/>
                </a:rPr>
                <a:t>20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44"/>
            <p:cNvSpPr/>
            <p:nvPr/>
          </p:nvSpPr>
          <p:spPr>
            <a:xfrm>
              <a:off x="5070240" y="2839680"/>
              <a:ext cx="1247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不令人满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组合 126"/>
            <p:cNvGrpSpPr/>
            <p:nvPr/>
          </p:nvGrpSpPr>
          <p:grpSpPr>
            <a:xfrm>
              <a:off x="1858320" y="2329920"/>
              <a:ext cx="2286000" cy="442440"/>
              <a:chOff x="1858320" y="2329920"/>
              <a:chExt cx="2286000" cy="442440"/>
            </a:xfrm>
          </p:grpSpPr>
          <p:grpSp>
            <p:nvGrpSpPr>
              <p:cNvPr id="226" name="组合 12"/>
              <p:cNvGrpSpPr/>
              <p:nvPr/>
            </p:nvGrpSpPr>
            <p:grpSpPr>
              <a:xfrm>
                <a:off x="1858320" y="2329920"/>
                <a:ext cx="435600" cy="442440"/>
                <a:chOff x="1858320" y="2329920"/>
                <a:chExt cx="435600" cy="442440"/>
              </a:xfrm>
            </p:grpSpPr>
            <p:pic>
              <p:nvPicPr>
                <p:cNvPr id="227" name="图片 4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937520" y="232992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Freeform 5"/>
                <p:cNvSpPr/>
                <p:nvPr/>
              </p:nvSpPr>
              <p:spPr>
                <a:xfrm>
                  <a:off x="1858320" y="25023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29" name="组合 14"/>
              <p:cNvGrpSpPr/>
              <p:nvPr/>
            </p:nvGrpSpPr>
            <p:grpSpPr>
              <a:xfrm>
                <a:off x="2320920" y="2329920"/>
                <a:ext cx="435600" cy="442440"/>
                <a:chOff x="2320920" y="2329920"/>
                <a:chExt cx="435600" cy="442440"/>
              </a:xfrm>
            </p:grpSpPr>
            <p:pic>
              <p:nvPicPr>
                <p:cNvPr id="230" name="图片 3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00120" y="232992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Freeform 5"/>
                <p:cNvSpPr/>
                <p:nvPr/>
              </p:nvSpPr>
              <p:spPr>
                <a:xfrm>
                  <a:off x="2320920" y="25023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32" name="组合 16"/>
              <p:cNvGrpSpPr/>
              <p:nvPr/>
            </p:nvGrpSpPr>
            <p:grpSpPr>
              <a:xfrm>
                <a:off x="2783520" y="2329920"/>
                <a:ext cx="435600" cy="442440"/>
                <a:chOff x="2783520" y="2329920"/>
                <a:chExt cx="435600" cy="442440"/>
              </a:xfrm>
            </p:grpSpPr>
            <p:pic>
              <p:nvPicPr>
                <p:cNvPr id="233" name="图片 3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862720" y="232992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4" name="Freeform 5"/>
                <p:cNvSpPr/>
                <p:nvPr/>
              </p:nvSpPr>
              <p:spPr>
                <a:xfrm>
                  <a:off x="2783520" y="25023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35" name="组合 18"/>
              <p:cNvGrpSpPr/>
              <p:nvPr/>
            </p:nvGrpSpPr>
            <p:grpSpPr>
              <a:xfrm>
                <a:off x="3246480" y="2329920"/>
                <a:ext cx="435240" cy="442440"/>
                <a:chOff x="3246480" y="2329920"/>
                <a:chExt cx="435240" cy="442440"/>
              </a:xfrm>
            </p:grpSpPr>
            <p:pic>
              <p:nvPicPr>
                <p:cNvPr id="236" name="图片 28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25320" y="232992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Freeform 5"/>
                <p:cNvSpPr/>
                <p:nvPr/>
              </p:nvSpPr>
              <p:spPr>
                <a:xfrm>
                  <a:off x="3246480" y="25023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38" name="组合 20"/>
              <p:cNvGrpSpPr/>
              <p:nvPr/>
            </p:nvGrpSpPr>
            <p:grpSpPr>
              <a:xfrm>
                <a:off x="3709080" y="2329920"/>
                <a:ext cx="435240" cy="442440"/>
                <a:chOff x="3709080" y="2329920"/>
                <a:chExt cx="435240" cy="442440"/>
              </a:xfrm>
            </p:grpSpPr>
            <p:pic>
              <p:nvPicPr>
                <p:cNvPr id="239" name="图片 2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787920" y="232992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Freeform 5"/>
                <p:cNvSpPr/>
                <p:nvPr/>
              </p:nvSpPr>
              <p:spPr>
                <a:xfrm>
                  <a:off x="3709080" y="25023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</p:grpSp>
        <p:grpSp>
          <p:nvGrpSpPr>
            <p:cNvPr id="241" name="组合 127"/>
            <p:cNvGrpSpPr/>
            <p:nvPr/>
          </p:nvGrpSpPr>
          <p:grpSpPr>
            <a:xfrm>
              <a:off x="1858320" y="2811960"/>
              <a:ext cx="2286000" cy="442440"/>
              <a:chOff x="1858320" y="2811960"/>
              <a:chExt cx="2286000" cy="442440"/>
            </a:xfrm>
          </p:grpSpPr>
          <p:grpSp>
            <p:nvGrpSpPr>
              <p:cNvPr id="242" name="组合 128"/>
              <p:cNvGrpSpPr/>
              <p:nvPr/>
            </p:nvGrpSpPr>
            <p:grpSpPr>
              <a:xfrm>
                <a:off x="1858320" y="2811960"/>
                <a:ext cx="435600" cy="442440"/>
                <a:chOff x="1858320" y="2811960"/>
                <a:chExt cx="435600" cy="442440"/>
              </a:xfrm>
            </p:grpSpPr>
            <p:pic>
              <p:nvPicPr>
                <p:cNvPr id="243" name="图片 14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937520" y="281196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Freeform 5"/>
                <p:cNvSpPr/>
                <p:nvPr/>
              </p:nvSpPr>
              <p:spPr>
                <a:xfrm>
                  <a:off x="1858320" y="29847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45" name="组合 129"/>
              <p:cNvGrpSpPr/>
              <p:nvPr/>
            </p:nvGrpSpPr>
            <p:grpSpPr>
              <a:xfrm>
                <a:off x="2320920" y="2811960"/>
                <a:ext cx="435600" cy="442440"/>
                <a:chOff x="2320920" y="2811960"/>
                <a:chExt cx="435600" cy="442440"/>
              </a:xfrm>
            </p:grpSpPr>
            <p:pic>
              <p:nvPicPr>
                <p:cNvPr id="246" name="图片 139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400120" y="281196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Freeform 5"/>
                <p:cNvSpPr/>
                <p:nvPr/>
              </p:nvSpPr>
              <p:spPr>
                <a:xfrm>
                  <a:off x="2320920" y="29847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48" name="组合 130"/>
              <p:cNvGrpSpPr/>
              <p:nvPr/>
            </p:nvGrpSpPr>
            <p:grpSpPr>
              <a:xfrm>
                <a:off x="2783520" y="2811960"/>
                <a:ext cx="435600" cy="442440"/>
                <a:chOff x="2783520" y="2811960"/>
                <a:chExt cx="435600" cy="442440"/>
              </a:xfrm>
            </p:grpSpPr>
            <p:pic>
              <p:nvPicPr>
                <p:cNvPr id="249" name="图片 137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862720" y="281196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Freeform 5"/>
                <p:cNvSpPr/>
                <p:nvPr/>
              </p:nvSpPr>
              <p:spPr>
                <a:xfrm>
                  <a:off x="2783520" y="29847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51" name="组合 131"/>
              <p:cNvGrpSpPr/>
              <p:nvPr/>
            </p:nvGrpSpPr>
            <p:grpSpPr>
              <a:xfrm>
                <a:off x="3246480" y="2811960"/>
                <a:ext cx="435240" cy="442440"/>
                <a:chOff x="3246480" y="2811960"/>
                <a:chExt cx="435240" cy="442440"/>
              </a:xfrm>
            </p:grpSpPr>
            <p:pic>
              <p:nvPicPr>
                <p:cNvPr id="252" name="图片 1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325320" y="281196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Freeform 5"/>
                <p:cNvSpPr/>
                <p:nvPr/>
              </p:nvSpPr>
              <p:spPr>
                <a:xfrm>
                  <a:off x="3246480" y="29847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254" name="组合 132"/>
              <p:cNvGrpSpPr/>
              <p:nvPr/>
            </p:nvGrpSpPr>
            <p:grpSpPr>
              <a:xfrm>
                <a:off x="3709080" y="2811960"/>
                <a:ext cx="435240" cy="442440"/>
                <a:chOff x="3709080" y="2811960"/>
                <a:chExt cx="435240" cy="442440"/>
              </a:xfrm>
            </p:grpSpPr>
            <p:pic>
              <p:nvPicPr>
                <p:cNvPr id="255" name="图片 133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787920" y="2811960"/>
                  <a:ext cx="356400" cy="44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Freeform 5"/>
                <p:cNvSpPr/>
                <p:nvPr/>
              </p:nvSpPr>
              <p:spPr>
                <a:xfrm>
                  <a:off x="3709080" y="2984760"/>
                  <a:ext cx="99720" cy="26964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</p:grpSp>
        <p:sp>
          <p:nvSpPr>
            <p:cNvPr id="257" name="文本框 143"/>
            <p:cNvSpPr/>
            <p:nvPr/>
          </p:nvSpPr>
          <p:spPr>
            <a:xfrm>
              <a:off x="1089720" y="2257920"/>
              <a:ext cx="9514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组合 54"/>
            <p:cNvGrpSpPr/>
            <p:nvPr/>
          </p:nvGrpSpPr>
          <p:grpSpPr>
            <a:xfrm>
              <a:off x="6982560" y="2500560"/>
              <a:ext cx="643320" cy="901440"/>
              <a:chOff x="6982560" y="2500560"/>
              <a:chExt cx="643320" cy="901440"/>
            </a:xfrm>
          </p:grpSpPr>
          <p:sp>
            <p:nvSpPr>
              <p:cNvPr id="259" name="椭圆 55"/>
              <p:cNvSpPr/>
              <p:nvPr/>
            </p:nvSpPr>
            <p:spPr>
              <a:xfrm>
                <a:off x="6982560" y="2500560"/>
                <a:ext cx="643320" cy="64332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260" name="组合 56"/>
              <p:cNvGrpSpPr/>
              <p:nvPr/>
            </p:nvGrpSpPr>
            <p:grpSpPr>
              <a:xfrm>
                <a:off x="7132320" y="2717640"/>
                <a:ext cx="344160" cy="70920"/>
                <a:chOff x="7132320" y="2717640"/>
                <a:chExt cx="344160" cy="70920"/>
              </a:xfrm>
            </p:grpSpPr>
            <p:sp>
              <p:nvSpPr>
                <p:cNvPr id="261" name="椭圆 58"/>
                <p:cNvSpPr/>
                <p:nvPr/>
              </p:nvSpPr>
              <p:spPr>
                <a:xfrm>
                  <a:off x="7132320" y="2717640"/>
                  <a:ext cx="70920" cy="70920"/>
                </a:xfrm>
                <a:prstGeom prst="ellipse">
                  <a:avLst/>
                </a:prstGeom>
                <a:solidFill>
                  <a:schemeClr val="tx1"/>
                </a:solidFill>
                <a:ln w="285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262" name="椭圆 59"/>
                <p:cNvSpPr/>
                <p:nvPr/>
              </p:nvSpPr>
              <p:spPr>
                <a:xfrm>
                  <a:off x="7405560" y="2717640"/>
                  <a:ext cx="70920" cy="70920"/>
                </a:xfrm>
                <a:prstGeom prst="ellipse">
                  <a:avLst/>
                </a:prstGeom>
                <a:solidFill>
                  <a:schemeClr val="tx1"/>
                </a:solidFill>
                <a:ln w="285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263" name="弧形 57"/>
              <p:cNvSpPr/>
              <p:nvPr/>
            </p:nvSpPr>
            <p:spPr>
              <a:xfrm flipV="1">
                <a:off x="7081200" y="2955600"/>
                <a:ext cx="446400" cy="446400"/>
              </a:xfrm>
              <a:prstGeom prst="arc">
                <a:avLst>
                  <a:gd name="adj1" fmla="val 3400393"/>
                  <a:gd name="adj2" fmla="val 7116829"/>
                </a:avLst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264" name="组合 72"/>
          <p:cNvGrpSpPr/>
          <p:nvPr/>
        </p:nvGrpSpPr>
        <p:grpSpPr>
          <a:xfrm>
            <a:off x="1060920" y="-200160"/>
            <a:ext cx="6550200" cy="1230840"/>
            <a:chOff x="1060920" y="-200160"/>
            <a:chExt cx="6550200" cy="1230840"/>
          </a:xfrm>
        </p:grpSpPr>
        <p:sp>
          <p:nvSpPr>
            <p:cNvPr id="265" name="文本框 73"/>
            <p:cNvSpPr/>
            <p:nvPr/>
          </p:nvSpPr>
          <p:spPr>
            <a:xfrm>
              <a:off x="4411800" y="-200160"/>
              <a:ext cx="1916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Showcard Gothic"/>
                  <a:ea typeface="微软雅黑"/>
                </a:rPr>
                <a:t>60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4"/>
            <p:cNvSpPr/>
            <p:nvPr/>
          </p:nvSpPr>
          <p:spPr>
            <a:xfrm>
              <a:off x="4953600" y="4946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令人满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组合 75"/>
            <p:cNvGrpSpPr/>
            <p:nvPr/>
          </p:nvGrpSpPr>
          <p:grpSpPr>
            <a:xfrm>
              <a:off x="1835640" y="15480"/>
              <a:ext cx="2285640" cy="425880"/>
              <a:chOff x="1835640" y="15480"/>
              <a:chExt cx="2285640" cy="425880"/>
            </a:xfrm>
          </p:grpSpPr>
          <p:pic>
            <p:nvPicPr>
              <p:cNvPr id="268" name="图片 89" descr=""/>
              <p:cNvPicPr/>
              <p:nvPr/>
            </p:nvPicPr>
            <p:blipFill>
              <a:blip r:embed="rId21"/>
              <a:stretch/>
            </p:blipFill>
            <p:spPr>
              <a:xfrm>
                <a:off x="1835640" y="154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图片 90" descr=""/>
              <p:cNvPicPr/>
              <p:nvPr/>
            </p:nvPicPr>
            <p:blipFill>
              <a:blip r:embed="rId22"/>
              <a:stretch/>
            </p:blipFill>
            <p:spPr>
              <a:xfrm>
                <a:off x="2300760" y="154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图片 91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65880" y="154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图片 92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31000" y="154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图片 93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96120" y="154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组合 76"/>
            <p:cNvGrpSpPr/>
            <p:nvPr/>
          </p:nvGrpSpPr>
          <p:grpSpPr>
            <a:xfrm>
              <a:off x="1835640" y="490680"/>
              <a:ext cx="2285640" cy="425880"/>
              <a:chOff x="1835640" y="490680"/>
              <a:chExt cx="2285640" cy="425880"/>
            </a:xfrm>
          </p:grpSpPr>
          <p:pic>
            <p:nvPicPr>
              <p:cNvPr id="274" name="图片 84" descr=""/>
              <p:cNvPicPr/>
              <p:nvPr/>
            </p:nvPicPr>
            <p:blipFill>
              <a:blip r:embed="rId26"/>
              <a:stretch/>
            </p:blipFill>
            <p:spPr>
              <a:xfrm>
                <a:off x="1835640" y="4906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85" descr=""/>
              <p:cNvPicPr/>
              <p:nvPr/>
            </p:nvPicPr>
            <p:blipFill>
              <a:blip r:embed="rId27"/>
              <a:stretch/>
            </p:blipFill>
            <p:spPr>
              <a:xfrm>
                <a:off x="2300760" y="4906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图片 86" descr=""/>
              <p:cNvPicPr/>
              <p:nvPr/>
            </p:nvPicPr>
            <p:blipFill>
              <a:blip r:embed="rId28"/>
              <a:stretch/>
            </p:blipFill>
            <p:spPr>
              <a:xfrm>
                <a:off x="2765880" y="4906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图片 87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31000" y="4906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图片 88" descr=""/>
              <p:cNvPicPr/>
              <p:nvPr/>
            </p:nvPicPr>
            <p:blipFill>
              <a:blip r:embed="rId30"/>
              <a:stretch/>
            </p:blipFill>
            <p:spPr>
              <a:xfrm>
                <a:off x="3696120" y="490680"/>
                <a:ext cx="425160" cy="42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9" name="文本框 77"/>
            <p:cNvSpPr/>
            <p:nvPr/>
          </p:nvSpPr>
          <p:spPr>
            <a:xfrm>
              <a:off x="1060920" y="-155880"/>
              <a:ext cx="951480" cy="11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组合 78"/>
            <p:cNvGrpSpPr/>
            <p:nvPr/>
          </p:nvGrpSpPr>
          <p:grpSpPr>
            <a:xfrm>
              <a:off x="6967800" y="180360"/>
              <a:ext cx="643320" cy="643320"/>
              <a:chOff x="6967800" y="180360"/>
              <a:chExt cx="643320" cy="643320"/>
            </a:xfrm>
          </p:grpSpPr>
          <p:sp>
            <p:nvSpPr>
              <p:cNvPr id="281" name="椭圆 79"/>
              <p:cNvSpPr/>
              <p:nvPr/>
            </p:nvSpPr>
            <p:spPr>
              <a:xfrm>
                <a:off x="6967800" y="180360"/>
                <a:ext cx="643320" cy="64332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282" name="组合 80"/>
              <p:cNvGrpSpPr/>
              <p:nvPr/>
            </p:nvGrpSpPr>
            <p:grpSpPr>
              <a:xfrm>
                <a:off x="7117560" y="397800"/>
                <a:ext cx="344160" cy="70920"/>
                <a:chOff x="7117560" y="397800"/>
                <a:chExt cx="344160" cy="70920"/>
              </a:xfrm>
            </p:grpSpPr>
            <p:sp>
              <p:nvSpPr>
                <p:cNvPr id="283" name="椭圆 82"/>
                <p:cNvSpPr/>
                <p:nvPr/>
              </p:nvSpPr>
              <p:spPr>
                <a:xfrm>
                  <a:off x="7117560" y="397800"/>
                  <a:ext cx="70920" cy="70920"/>
                </a:xfrm>
                <a:prstGeom prst="ellipse">
                  <a:avLst/>
                </a:prstGeom>
                <a:solidFill>
                  <a:schemeClr val="tx1"/>
                </a:solidFill>
                <a:ln w="285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284" name="椭圆 83"/>
                <p:cNvSpPr/>
                <p:nvPr/>
              </p:nvSpPr>
              <p:spPr>
                <a:xfrm>
                  <a:off x="7390800" y="397800"/>
                  <a:ext cx="70920" cy="70920"/>
                </a:xfrm>
                <a:prstGeom prst="ellipse">
                  <a:avLst/>
                </a:prstGeom>
                <a:solidFill>
                  <a:schemeClr val="tx1"/>
                </a:solidFill>
                <a:ln w="285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285" name="弧形 81"/>
              <p:cNvSpPr/>
              <p:nvPr/>
            </p:nvSpPr>
            <p:spPr>
              <a:xfrm>
                <a:off x="7066440" y="252720"/>
                <a:ext cx="446400" cy="446400"/>
              </a:xfrm>
              <a:prstGeom prst="arc">
                <a:avLst>
                  <a:gd name="adj1" fmla="val 3400393"/>
                  <a:gd name="adj2" fmla="val 7116829"/>
                </a:avLst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286" name="文本框 99"/>
          <p:cNvSpPr/>
          <p:nvPr/>
        </p:nvSpPr>
        <p:spPr>
          <a:xfrm>
            <a:off x="1125000" y="3826800"/>
            <a:ext cx="6987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讨论一】为什么高智商中只有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20%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的人是成功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01"/>
          <p:cNvSpPr/>
          <p:nvPr/>
        </p:nvSpPr>
        <p:spPr>
          <a:xfrm>
            <a:off x="1125000" y="4326120"/>
            <a:ext cx="6987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一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智商与成功一定程度上相互关联，并不能直接导致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02"/>
          <p:cNvSpPr/>
          <p:nvPr/>
        </p:nvSpPr>
        <p:spPr>
          <a:xfrm>
            <a:off x="1157760" y="5941800"/>
            <a:ext cx="6987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讨论二】同样都是智力超群，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C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组与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组的差距的主要原因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连接符 103"/>
          <p:cNvCxnSpPr/>
          <p:nvPr/>
        </p:nvCxnSpPr>
        <p:spPr>
          <a:xfrm>
            <a:off x="1157400" y="5779080"/>
            <a:ext cx="6779880" cy="360"/>
          </a:xfrm>
          <a:prstGeom prst="straightConnector1">
            <a:avLst/>
          </a:prstGeom>
          <a:ln w="12700">
            <a:solidFill>
              <a:srgbClr val="404040"/>
            </a:solidFill>
            <a:prstDash val="dash"/>
          </a:ln>
        </p:spPr>
      </p:cxn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42"/>
          <p:cNvSpPr/>
          <p:nvPr/>
        </p:nvSpPr>
        <p:spPr>
          <a:xfrm>
            <a:off x="582840" y="-361800"/>
            <a:ext cx="8019720" cy="655272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291" name="组合 45"/>
          <p:cNvGrpSpPr/>
          <p:nvPr/>
        </p:nvGrpSpPr>
        <p:grpSpPr>
          <a:xfrm>
            <a:off x="4728960" y="119160"/>
            <a:ext cx="3564360" cy="4491000"/>
            <a:chOff x="4728960" y="119160"/>
            <a:chExt cx="3564360" cy="4491000"/>
          </a:xfrm>
        </p:grpSpPr>
        <p:sp>
          <p:nvSpPr>
            <p:cNvPr id="292" name="矩形 107"/>
            <p:cNvSpPr/>
            <p:nvPr/>
          </p:nvSpPr>
          <p:spPr>
            <a:xfrm>
              <a:off x="4758480" y="119160"/>
              <a:ext cx="3393000" cy="44910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93" name="矩形 109"/>
            <p:cNvSpPr/>
            <p:nvPr/>
          </p:nvSpPr>
          <p:spPr>
            <a:xfrm>
              <a:off x="4728960" y="2552040"/>
              <a:ext cx="356436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姓名：奥本海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智商：和左边智力相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2e3d55"/>
                  </a:solidFill>
                  <a:latin typeface="Arial"/>
                  <a:ea typeface="微软雅黑"/>
                </a:rPr>
                <a:t>家庭：富裕，协同培养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作：曼哈顿计划首席科学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41"/>
            <p:cNvGrpSpPr/>
            <p:nvPr/>
          </p:nvGrpSpPr>
          <p:grpSpPr>
            <a:xfrm>
              <a:off x="5337720" y="260640"/>
              <a:ext cx="2178000" cy="2234520"/>
              <a:chOff x="5337720" y="260640"/>
              <a:chExt cx="2178000" cy="2234520"/>
            </a:xfrm>
          </p:grpSpPr>
          <p:grpSp>
            <p:nvGrpSpPr>
              <p:cNvPr id="295" name="组合 17"/>
              <p:cNvGrpSpPr/>
              <p:nvPr/>
            </p:nvGrpSpPr>
            <p:grpSpPr>
              <a:xfrm>
                <a:off x="5573880" y="807840"/>
                <a:ext cx="1763640" cy="1687320"/>
                <a:chOff x="5573880" y="807840"/>
                <a:chExt cx="1763640" cy="1687320"/>
              </a:xfrm>
            </p:grpSpPr>
            <p:grpSp>
              <p:nvGrpSpPr>
                <p:cNvPr id="296" name="组合 16"/>
                <p:cNvGrpSpPr/>
                <p:nvPr/>
              </p:nvGrpSpPr>
              <p:grpSpPr>
                <a:xfrm>
                  <a:off x="5757480" y="1110240"/>
                  <a:ext cx="1396080" cy="1384920"/>
                  <a:chOff x="5757480" y="1110240"/>
                  <a:chExt cx="1396080" cy="1384920"/>
                </a:xfrm>
              </p:grpSpPr>
              <p:sp>
                <p:nvSpPr>
                  <p:cNvPr id="297" name="Freeform 5"/>
                  <p:cNvSpPr/>
                  <p:nvPr/>
                </p:nvSpPr>
                <p:spPr>
                  <a:xfrm>
                    <a:off x="6698880" y="1488960"/>
                    <a:ext cx="163800" cy="397800"/>
                  </a:xfrm>
                  <a:custGeom>
                    <a:avLst/>
                    <a:gdLst>
                      <a:gd name="textAreaLeft" fmla="*/ 0 w 163800"/>
                      <a:gd name="textAreaRight" fmla="*/ 164160 w 163800"/>
                      <a:gd name="textAreaTop" fmla="*/ 0 h 397800"/>
                      <a:gd name="textAreaBottom" fmla="*/ 398160 h 397800"/>
                    </a:gdLst>
                    <a:ahLst/>
                    <a:rect l="textAreaLeft" t="textAreaTop" r="textAreaRight" b="textAreaBottom"/>
                    <a:pathLst>
                      <a:path w="282" h="683">
                        <a:moveTo>
                          <a:pt x="57" y="683"/>
                        </a:moveTo>
                        <a:cubicBezTo>
                          <a:pt x="51" y="683"/>
                          <a:pt x="45" y="682"/>
                          <a:pt x="39" y="680"/>
                        </a:cubicBezTo>
                        <a:cubicBezTo>
                          <a:pt x="13" y="670"/>
                          <a:pt x="0" y="641"/>
                          <a:pt x="10" y="615"/>
                        </a:cubicBezTo>
                        <a:cubicBezTo>
                          <a:pt x="28" y="570"/>
                          <a:pt x="42" y="524"/>
                          <a:pt x="54" y="478"/>
                        </a:cubicBezTo>
                        <a:cubicBezTo>
                          <a:pt x="58" y="462"/>
                          <a:pt x="69" y="450"/>
                          <a:pt x="84" y="444"/>
                        </a:cubicBezTo>
                        <a:cubicBezTo>
                          <a:pt x="98" y="438"/>
                          <a:pt x="115" y="439"/>
                          <a:pt x="129" y="448"/>
                        </a:cubicBezTo>
                        <a:cubicBezTo>
                          <a:pt x="145" y="449"/>
                          <a:pt x="182" y="397"/>
                          <a:pt x="182" y="300"/>
                        </a:cubicBezTo>
                        <a:cubicBezTo>
                          <a:pt x="182" y="266"/>
                          <a:pt x="177" y="233"/>
                          <a:pt x="168" y="205"/>
                        </a:cubicBezTo>
                        <a:cubicBezTo>
                          <a:pt x="165" y="196"/>
                          <a:pt x="164" y="187"/>
                          <a:pt x="166" y="178"/>
                        </a:cubicBezTo>
                        <a:cubicBezTo>
                          <a:pt x="177" y="130"/>
                          <a:pt x="182" y="89"/>
                          <a:pt x="182" y="50"/>
                        </a:cubicBezTo>
                        <a:cubicBezTo>
                          <a:pt x="182" y="22"/>
                          <a:pt x="204" y="0"/>
                          <a:pt x="232" y="0"/>
                        </a:cubicBezTo>
                        <a:cubicBezTo>
                          <a:pt x="260" y="0"/>
                          <a:pt x="282" y="22"/>
                          <a:pt x="282" y="50"/>
                        </a:cubicBezTo>
                        <a:cubicBezTo>
                          <a:pt x="282" y="93"/>
                          <a:pt x="277" y="136"/>
                          <a:pt x="267" y="187"/>
                        </a:cubicBezTo>
                        <a:cubicBezTo>
                          <a:pt x="277" y="221"/>
                          <a:pt x="282" y="260"/>
                          <a:pt x="282" y="300"/>
                        </a:cubicBezTo>
                        <a:cubicBezTo>
                          <a:pt x="282" y="439"/>
                          <a:pt x="221" y="545"/>
                          <a:pt x="138" y="550"/>
                        </a:cubicBezTo>
                        <a:cubicBezTo>
                          <a:pt x="128" y="584"/>
                          <a:pt x="117" y="618"/>
                          <a:pt x="104" y="651"/>
                        </a:cubicBezTo>
                        <a:cubicBezTo>
                          <a:pt x="96" y="671"/>
                          <a:pt x="77" y="683"/>
                          <a:pt x="57" y="683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298" name="Freeform 6"/>
                  <p:cNvSpPr/>
                  <p:nvPr/>
                </p:nvSpPr>
                <p:spPr>
                  <a:xfrm>
                    <a:off x="6049080" y="1488960"/>
                    <a:ext cx="167760" cy="408240"/>
                  </a:xfrm>
                  <a:custGeom>
                    <a:avLst/>
                    <a:gdLst>
                      <a:gd name="textAreaLeft" fmla="*/ 0 w 167760"/>
                      <a:gd name="textAreaRight" fmla="*/ 168120 w 167760"/>
                      <a:gd name="textAreaTop" fmla="*/ 0 h 408240"/>
                      <a:gd name="textAreaBottom" fmla="*/ 408600 h 408240"/>
                    </a:gdLst>
                    <a:ahLst/>
                    <a:rect l="textAreaLeft" t="textAreaTop" r="textAreaRight" b="textAreaBottom"/>
                    <a:pathLst>
                      <a:path w="289" h="701">
                        <a:moveTo>
                          <a:pt x="232" y="701"/>
                        </a:moveTo>
                        <a:cubicBezTo>
                          <a:pt x="212" y="701"/>
                          <a:pt x="194" y="689"/>
                          <a:pt x="186" y="670"/>
                        </a:cubicBezTo>
                        <a:cubicBezTo>
                          <a:pt x="170" y="631"/>
                          <a:pt x="156" y="590"/>
                          <a:pt x="144" y="550"/>
                        </a:cubicBezTo>
                        <a:cubicBezTo>
                          <a:pt x="61" y="545"/>
                          <a:pt x="0" y="439"/>
                          <a:pt x="0" y="300"/>
                        </a:cubicBezTo>
                        <a:cubicBezTo>
                          <a:pt x="0" y="260"/>
                          <a:pt x="5" y="221"/>
                          <a:pt x="15" y="187"/>
                        </a:cubicBezTo>
                        <a:cubicBezTo>
                          <a:pt x="5" y="136"/>
                          <a:pt x="0" y="93"/>
                          <a:pt x="0" y="50"/>
                        </a:cubicBezTo>
                        <a:cubicBezTo>
                          <a:pt x="0" y="22"/>
                          <a:pt x="22" y="0"/>
                          <a:pt x="50" y="0"/>
                        </a:cubicBezTo>
                        <a:cubicBezTo>
                          <a:pt x="78" y="0"/>
                          <a:pt x="100" y="22"/>
                          <a:pt x="100" y="50"/>
                        </a:cubicBezTo>
                        <a:cubicBezTo>
                          <a:pt x="100" y="89"/>
                          <a:pt x="105" y="130"/>
                          <a:pt x="116" y="178"/>
                        </a:cubicBezTo>
                        <a:cubicBezTo>
                          <a:pt x="118" y="187"/>
                          <a:pt x="117" y="196"/>
                          <a:pt x="114" y="205"/>
                        </a:cubicBezTo>
                        <a:cubicBezTo>
                          <a:pt x="105" y="233"/>
                          <a:pt x="100" y="266"/>
                          <a:pt x="100" y="300"/>
                        </a:cubicBezTo>
                        <a:cubicBezTo>
                          <a:pt x="100" y="397"/>
                          <a:pt x="138" y="450"/>
                          <a:pt x="150" y="450"/>
                        </a:cubicBezTo>
                        <a:cubicBezTo>
                          <a:pt x="164" y="442"/>
                          <a:pt x="182" y="439"/>
                          <a:pt x="197" y="445"/>
                        </a:cubicBezTo>
                        <a:cubicBezTo>
                          <a:pt x="212" y="451"/>
                          <a:pt x="224" y="463"/>
                          <a:pt x="228" y="478"/>
                        </a:cubicBezTo>
                        <a:cubicBezTo>
                          <a:pt x="241" y="530"/>
                          <a:pt x="258" y="582"/>
                          <a:pt x="278" y="632"/>
                        </a:cubicBezTo>
                        <a:cubicBezTo>
                          <a:pt x="289" y="658"/>
                          <a:pt x="276" y="687"/>
                          <a:pt x="251" y="698"/>
                        </a:cubicBezTo>
                        <a:cubicBezTo>
                          <a:pt x="245" y="700"/>
                          <a:pt x="238" y="701"/>
                          <a:pt x="232" y="701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299" name="Freeform 7"/>
                  <p:cNvSpPr/>
                  <p:nvPr/>
                </p:nvSpPr>
                <p:spPr>
                  <a:xfrm>
                    <a:off x="5757480" y="2009520"/>
                    <a:ext cx="1396080" cy="485640"/>
                  </a:xfrm>
                  <a:custGeom>
                    <a:avLst/>
                    <a:gdLst>
                      <a:gd name="textAreaLeft" fmla="*/ 0 w 1396080"/>
                      <a:gd name="textAreaRight" fmla="*/ 1396440 w 1396080"/>
                      <a:gd name="textAreaTop" fmla="*/ 0 h 485640"/>
                      <a:gd name="textAreaBottom" fmla="*/ 486000 h 485640"/>
                    </a:gdLst>
                    <a:ahLst/>
                    <a:rect l="textAreaLeft" t="textAreaTop" r="textAreaRight" b="textAreaBottom"/>
                    <a:pathLst>
                      <a:path w="2400" h="833">
                        <a:moveTo>
                          <a:pt x="1964" y="96"/>
                        </a:moveTo>
                        <a:cubicBezTo>
                          <a:pt x="1706" y="6"/>
                          <a:pt x="1706" y="6"/>
                          <a:pt x="1706" y="6"/>
                        </a:cubicBezTo>
                        <a:cubicBezTo>
                          <a:pt x="1688" y="0"/>
                          <a:pt x="1667" y="5"/>
                          <a:pt x="1653" y="19"/>
                        </a:cubicBezTo>
                        <a:cubicBezTo>
                          <a:pt x="1532" y="152"/>
                          <a:pt x="1366" y="333"/>
                          <a:pt x="1200" y="333"/>
                        </a:cubicBezTo>
                        <a:cubicBezTo>
                          <a:pt x="1034" y="333"/>
                          <a:pt x="868" y="152"/>
                          <a:pt x="747" y="20"/>
                        </a:cubicBezTo>
                        <a:cubicBezTo>
                          <a:pt x="733" y="5"/>
                          <a:pt x="712" y="0"/>
                          <a:pt x="694" y="6"/>
                        </a:cubicBezTo>
                        <a:cubicBezTo>
                          <a:pt x="436" y="96"/>
                          <a:pt x="436" y="96"/>
                          <a:pt x="436" y="96"/>
                        </a:cubicBezTo>
                        <a:cubicBezTo>
                          <a:pt x="175" y="186"/>
                          <a:pt x="0" y="433"/>
                          <a:pt x="0" y="710"/>
                        </a:cubicBezTo>
                        <a:cubicBezTo>
                          <a:pt x="0" y="783"/>
                          <a:pt x="0" y="783"/>
                          <a:pt x="0" y="783"/>
                        </a:cubicBezTo>
                        <a:cubicBezTo>
                          <a:pt x="0" y="811"/>
                          <a:pt x="22" y="833"/>
                          <a:pt x="50" y="833"/>
                        </a:cubicBezTo>
                        <a:cubicBezTo>
                          <a:pt x="2350" y="833"/>
                          <a:pt x="2350" y="833"/>
                          <a:pt x="2350" y="833"/>
                        </a:cubicBezTo>
                        <a:cubicBezTo>
                          <a:pt x="2378" y="833"/>
                          <a:pt x="2400" y="811"/>
                          <a:pt x="2400" y="783"/>
                        </a:cubicBezTo>
                        <a:cubicBezTo>
                          <a:pt x="2400" y="710"/>
                          <a:pt x="2400" y="710"/>
                          <a:pt x="2400" y="710"/>
                        </a:cubicBezTo>
                        <a:cubicBezTo>
                          <a:pt x="2400" y="433"/>
                          <a:pt x="2225" y="186"/>
                          <a:pt x="1964" y="96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0" name="Freeform 8"/>
                  <p:cNvSpPr/>
                  <p:nvPr/>
                </p:nvSpPr>
                <p:spPr>
                  <a:xfrm>
                    <a:off x="6049080" y="1110240"/>
                    <a:ext cx="813600" cy="525240"/>
                  </a:xfrm>
                  <a:custGeom>
                    <a:avLst/>
                    <a:gdLst>
                      <a:gd name="textAreaLeft" fmla="*/ 0 w 813600"/>
                      <a:gd name="textAreaRight" fmla="*/ 813960 w 813600"/>
                      <a:gd name="textAreaTop" fmla="*/ 0 h 525240"/>
                      <a:gd name="textAreaBottom" fmla="*/ 525600 h 525240"/>
                    </a:gdLst>
                    <a:ahLst/>
                    <a:rect l="textAreaLeft" t="textAreaTop" r="textAreaRight" b="textAreaBottom"/>
                    <a:pathLst>
                      <a:path w="1400" h="902">
                        <a:moveTo>
                          <a:pt x="1350" y="750"/>
                        </a:moveTo>
                        <a:cubicBezTo>
                          <a:pt x="1378" y="750"/>
                          <a:pt x="1400" y="728"/>
                          <a:pt x="1400" y="700"/>
                        </a:cubicBezTo>
                        <a:cubicBezTo>
                          <a:pt x="1400" y="314"/>
                          <a:pt x="1086" y="0"/>
                          <a:pt x="700" y="0"/>
                        </a:cubicBezTo>
                        <a:cubicBezTo>
                          <a:pt x="314" y="0"/>
                          <a:pt x="0" y="314"/>
                          <a:pt x="0" y="706"/>
                        </a:cubicBezTo>
                        <a:cubicBezTo>
                          <a:pt x="17" y="845"/>
                          <a:pt x="17" y="845"/>
                          <a:pt x="17" y="845"/>
                        </a:cubicBezTo>
                        <a:cubicBezTo>
                          <a:pt x="20" y="870"/>
                          <a:pt x="42" y="889"/>
                          <a:pt x="67" y="889"/>
                        </a:cubicBezTo>
                        <a:cubicBezTo>
                          <a:pt x="123" y="889"/>
                          <a:pt x="192" y="899"/>
                          <a:pt x="193" y="899"/>
                        </a:cubicBezTo>
                        <a:cubicBezTo>
                          <a:pt x="206" y="902"/>
                          <a:pt x="220" y="898"/>
                          <a:pt x="231" y="889"/>
                        </a:cubicBezTo>
                        <a:cubicBezTo>
                          <a:pt x="242" y="881"/>
                          <a:pt x="249" y="868"/>
                          <a:pt x="250" y="854"/>
                        </a:cubicBezTo>
                        <a:cubicBezTo>
                          <a:pt x="283" y="455"/>
                          <a:pt x="283" y="455"/>
                          <a:pt x="283" y="455"/>
                        </a:cubicBezTo>
                        <a:cubicBezTo>
                          <a:pt x="290" y="368"/>
                          <a:pt x="364" y="300"/>
                          <a:pt x="451" y="300"/>
                        </a:cubicBezTo>
                        <a:cubicBezTo>
                          <a:pt x="483" y="300"/>
                          <a:pt x="513" y="317"/>
                          <a:pt x="542" y="350"/>
                        </a:cubicBezTo>
                        <a:cubicBezTo>
                          <a:pt x="585" y="400"/>
                          <a:pt x="649" y="400"/>
                          <a:pt x="700" y="400"/>
                        </a:cubicBezTo>
                        <a:cubicBezTo>
                          <a:pt x="748" y="400"/>
                          <a:pt x="794" y="382"/>
                          <a:pt x="834" y="347"/>
                        </a:cubicBezTo>
                        <a:cubicBezTo>
                          <a:pt x="868" y="317"/>
                          <a:pt x="919" y="300"/>
                          <a:pt x="976" y="300"/>
                        </a:cubicBezTo>
                        <a:cubicBezTo>
                          <a:pt x="1047" y="300"/>
                          <a:pt x="1105" y="353"/>
                          <a:pt x="1111" y="424"/>
                        </a:cubicBezTo>
                        <a:cubicBezTo>
                          <a:pt x="1126" y="605"/>
                          <a:pt x="1150" y="855"/>
                          <a:pt x="1150" y="855"/>
                        </a:cubicBezTo>
                        <a:cubicBezTo>
                          <a:pt x="1153" y="881"/>
                          <a:pt x="1175" y="900"/>
                          <a:pt x="1200" y="900"/>
                        </a:cubicBezTo>
                        <a:cubicBezTo>
                          <a:pt x="1201" y="900"/>
                          <a:pt x="1203" y="900"/>
                          <a:pt x="1204" y="900"/>
                        </a:cubicBezTo>
                        <a:cubicBezTo>
                          <a:pt x="1337" y="889"/>
                          <a:pt x="1337" y="889"/>
                          <a:pt x="1337" y="889"/>
                        </a:cubicBezTo>
                        <a:cubicBezTo>
                          <a:pt x="1365" y="887"/>
                          <a:pt x="1385" y="863"/>
                          <a:pt x="1383" y="835"/>
                        </a:cubicBezTo>
                        <a:cubicBezTo>
                          <a:pt x="1381" y="811"/>
                          <a:pt x="1362" y="793"/>
                          <a:pt x="1339" y="790"/>
                        </a:cubicBezTo>
                        <a:cubicBezTo>
                          <a:pt x="1344" y="749"/>
                          <a:pt x="1344" y="749"/>
                          <a:pt x="1344" y="749"/>
                        </a:cubicBezTo>
                        <a:cubicBezTo>
                          <a:pt x="1346" y="749"/>
                          <a:pt x="1348" y="750"/>
                          <a:pt x="1350" y="750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1" name="Freeform 9"/>
                  <p:cNvSpPr/>
                  <p:nvPr/>
                </p:nvSpPr>
                <p:spPr>
                  <a:xfrm>
                    <a:off x="6193440" y="1576800"/>
                    <a:ext cx="232920" cy="232920"/>
                  </a:xfrm>
                  <a:custGeom>
                    <a:avLst/>
                    <a:gdLst>
                      <a:gd name="textAreaLeft" fmla="*/ 0 w 232920"/>
                      <a:gd name="textAreaRight" fmla="*/ 233280 w 2329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400" h="400">
                        <a:moveTo>
                          <a:pt x="200" y="400"/>
                        </a:moveTo>
                        <a:cubicBezTo>
                          <a:pt x="90" y="400"/>
                          <a:pt x="0" y="310"/>
                          <a:pt x="0" y="200"/>
                        </a:cubicBezTo>
                        <a:cubicBezTo>
                          <a:pt x="0" y="90"/>
                          <a:pt x="90" y="0"/>
                          <a:pt x="200" y="0"/>
                        </a:cubicBezTo>
                        <a:cubicBezTo>
                          <a:pt x="310" y="0"/>
                          <a:pt x="400" y="90"/>
                          <a:pt x="400" y="200"/>
                        </a:cubicBezTo>
                        <a:cubicBezTo>
                          <a:pt x="400" y="310"/>
                          <a:pt x="310" y="400"/>
                          <a:pt x="200" y="400"/>
                        </a:cubicBezTo>
                        <a:close/>
                        <a:moveTo>
                          <a:pt x="200" y="100"/>
                        </a:moveTo>
                        <a:cubicBezTo>
                          <a:pt x="145" y="100"/>
                          <a:pt x="100" y="145"/>
                          <a:pt x="100" y="200"/>
                        </a:cubicBezTo>
                        <a:cubicBezTo>
                          <a:pt x="100" y="255"/>
                          <a:pt x="145" y="300"/>
                          <a:pt x="200" y="300"/>
                        </a:cubicBezTo>
                        <a:cubicBezTo>
                          <a:pt x="255" y="300"/>
                          <a:pt x="300" y="255"/>
                          <a:pt x="300" y="200"/>
                        </a:cubicBezTo>
                        <a:cubicBezTo>
                          <a:pt x="300" y="145"/>
                          <a:pt x="255" y="100"/>
                          <a:pt x="200" y="100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2" name="Freeform 10"/>
                  <p:cNvSpPr/>
                  <p:nvPr/>
                </p:nvSpPr>
                <p:spPr>
                  <a:xfrm>
                    <a:off x="6485040" y="1576800"/>
                    <a:ext cx="232920" cy="232920"/>
                  </a:xfrm>
                  <a:custGeom>
                    <a:avLst/>
                    <a:gdLst>
                      <a:gd name="textAreaLeft" fmla="*/ 0 w 232920"/>
                      <a:gd name="textAreaRight" fmla="*/ 233280 w 2329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400" h="400">
                        <a:moveTo>
                          <a:pt x="200" y="400"/>
                        </a:moveTo>
                        <a:cubicBezTo>
                          <a:pt x="90" y="400"/>
                          <a:pt x="0" y="310"/>
                          <a:pt x="0" y="200"/>
                        </a:cubicBezTo>
                        <a:cubicBezTo>
                          <a:pt x="0" y="90"/>
                          <a:pt x="90" y="0"/>
                          <a:pt x="200" y="0"/>
                        </a:cubicBezTo>
                        <a:cubicBezTo>
                          <a:pt x="310" y="0"/>
                          <a:pt x="400" y="90"/>
                          <a:pt x="400" y="200"/>
                        </a:cubicBezTo>
                        <a:cubicBezTo>
                          <a:pt x="400" y="310"/>
                          <a:pt x="310" y="400"/>
                          <a:pt x="200" y="400"/>
                        </a:cubicBezTo>
                        <a:close/>
                        <a:moveTo>
                          <a:pt x="200" y="100"/>
                        </a:moveTo>
                        <a:cubicBezTo>
                          <a:pt x="145" y="100"/>
                          <a:pt x="100" y="145"/>
                          <a:pt x="100" y="200"/>
                        </a:cubicBezTo>
                        <a:cubicBezTo>
                          <a:pt x="100" y="255"/>
                          <a:pt x="145" y="300"/>
                          <a:pt x="200" y="300"/>
                        </a:cubicBezTo>
                        <a:cubicBezTo>
                          <a:pt x="255" y="300"/>
                          <a:pt x="300" y="255"/>
                          <a:pt x="300" y="200"/>
                        </a:cubicBezTo>
                        <a:cubicBezTo>
                          <a:pt x="300" y="145"/>
                          <a:pt x="255" y="100"/>
                          <a:pt x="200" y="100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3" name="Freeform 11"/>
                  <p:cNvSpPr/>
                  <p:nvPr/>
                </p:nvSpPr>
                <p:spPr>
                  <a:xfrm>
                    <a:off x="6103800" y="1573560"/>
                    <a:ext cx="150480" cy="14832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260" h="255">
                        <a:moveTo>
                          <a:pt x="205" y="255"/>
                        </a:moveTo>
                        <a:cubicBezTo>
                          <a:pt x="192" y="255"/>
                          <a:pt x="179" y="250"/>
                          <a:pt x="170" y="240"/>
                        </a:cubicBezTo>
                        <a:cubicBezTo>
                          <a:pt x="20" y="90"/>
                          <a:pt x="20" y="90"/>
                          <a:pt x="20" y="90"/>
                        </a:cubicBezTo>
                        <a:cubicBezTo>
                          <a:pt x="0" y="71"/>
                          <a:pt x="0" y="39"/>
                          <a:pt x="20" y="20"/>
                        </a:cubicBezTo>
                        <a:cubicBezTo>
                          <a:pt x="39" y="0"/>
                          <a:pt x="71" y="0"/>
                          <a:pt x="90" y="20"/>
                        </a:cubicBezTo>
                        <a:cubicBezTo>
                          <a:pt x="240" y="170"/>
                          <a:pt x="240" y="170"/>
                          <a:pt x="240" y="170"/>
                        </a:cubicBezTo>
                        <a:cubicBezTo>
                          <a:pt x="260" y="189"/>
                          <a:pt x="260" y="221"/>
                          <a:pt x="240" y="240"/>
                        </a:cubicBezTo>
                        <a:cubicBezTo>
                          <a:pt x="231" y="250"/>
                          <a:pt x="218" y="255"/>
                          <a:pt x="205" y="255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4" name="Freeform 12"/>
                  <p:cNvSpPr/>
                  <p:nvPr/>
                </p:nvSpPr>
                <p:spPr>
                  <a:xfrm>
                    <a:off x="6657120" y="1573560"/>
                    <a:ext cx="150480" cy="14832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260" h="255">
                        <a:moveTo>
                          <a:pt x="55" y="255"/>
                        </a:moveTo>
                        <a:cubicBezTo>
                          <a:pt x="42" y="255"/>
                          <a:pt x="29" y="250"/>
                          <a:pt x="20" y="240"/>
                        </a:cubicBezTo>
                        <a:cubicBezTo>
                          <a:pt x="0" y="221"/>
                          <a:pt x="0" y="189"/>
                          <a:pt x="20" y="170"/>
                        </a:cubicBezTo>
                        <a:cubicBezTo>
                          <a:pt x="170" y="20"/>
                          <a:pt x="170" y="20"/>
                          <a:pt x="170" y="20"/>
                        </a:cubicBezTo>
                        <a:cubicBezTo>
                          <a:pt x="189" y="0"/>
                          <a:pt x="221" y="0"/>
                          <a:pt x="240" y="20"/>
                        </a:cubicBezTo>
                        <a:cubicBezTo>
                          <a:pt x="260" y="39"/>
                          <a:pt x="260" y="71"/>
                          <a:pt x="240" y="90"/>
                        </a:cubicBezTo>
                        <a:cubicBezTo>
                          <a:pt x="90" y="240"/>
                          <a:pt x="90" y="240"/>
                          <a:pt x="90" y="240"/>
                        </a:cubicBezTo>
                        <a:cubicBezTo>
                          <a:pt x="81" y="250"/>
                          <a:pt x="68" y="255"/>
                          <a:pt x="55" y="255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5" name="Freeform 13"/>
                  <p:cNvSpPr/>
                  <p:nvPr/>
                </p:nvSpPr>
                <p:spPr>
                  <a:xfrm>
                    <a:off x="6364800" y="1634760"/>
                    <a:ext cx="181800" cy="91440"/>
                  </a:xfrm>
                  <a:custGeom>
                    <a:avLst/>
                    <a:gdLst>
                      <a:gd name="textAreaLeft" fmla="*/ 0 w 181800"/>
                      <a:gd name="textAreaRight" fmla="*/ 182160 w 181800"/>
                      <a:gd name="textAreaTop" fmla="*/ 0 h 91440"/>
                      <a:gd name="textAreaBottom" fmla="*/ 91800 h 91440"/>
                    </a:gdLst>
                    <a:ahLst/>
                    <a:rect l="textAreaLeft" t="textAreaTop" r="textAreaRight" b="textAreaBottom"/>
                    <a:pathLst>
                      <a:path w="314" h="157">
                        <a:moveTo>
                          <a:pt x="257" y="150"/>
                        </a:moveTo>
                        <a:cubicBezTo>
                          <a:pt x="241" y="150"/>
                          <a:pt x="225" y="142"/>
                          <a:pt x="215" y="128"/>
                        </a:cubicBezTo>
                        <a:cubicBezTo>
                          <a:pt x="215" y="127"/>
                          <a:pt x="195" y="100"/>
                          <a:pt x="157" y="100"/>
                        </a:cubicBezTo>
                        <a:cubicBezTo>
                          <a:pt x="119" y="100"/>
                          <a:pt x="99" y="127"/>
                          <a:pt x="99" y="128"/>
                        </a:cubicBezTo>
                        <a:cubicBezTo>
                          <a:pt x="83" y="151"/>
                          <a:pt x="52" y="157"/>
                          <a:pt x="29" y="142"/>
                        </a:cubicBezTo>
                        <a:cubicBezTo>
                          <a:pt x="6" y="126"/>
                          <a:pt x="0" y="95"/>
                          <a:pt x="15" y="72"/>
                        </a:cubicBezTo>
                        <a:cubicBezTo>
                          <a:pt x="33" y="45"/>
                          <a:pt x="83" y="0"/>
                          <a:pt x="157" y="0"/>
                        </a:cubicBezTo>
                        <a:cubicBezTo>
                          <a:pt x="231" y="0"/>
                          <a:pt x="281" y="45"/>
                          <a:pt x="299" y="72"/>
                        </a:cubicBezTo>
                        <a:cubicBezTo>
                          <a:pt x="314" y="95"/>
                          <a:pt x="308" y="126"/>
                          <a:pt x="285" y="142"/>
                        </a:cubicBezTo>
                        <a:cubicBezTo>
                          <a:pt x="276" y="147"/>
                          <a:pt x="267" y="150"/>
                          <a:pt x="257" y="150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6" name="Freeform 14"/>
                  <p:cNvSpPr/>
                  <p:nvPr/>
                </p:nvSpPr>
                <p:spPr>
                  <a:xfrm>
                    <a:off x="6152760" y="1809720"/>
                    <a:ext cx="610920" cy="349920"/>
                  </a:xfrm>
                  <a:custGeom>
                    <a:avLst/>
                    <a:gdLst>
                      <a:gd name="textAreaLeft" fmla="*/ 0 w 610920"/>
                      <a:gd name="textAreaRight" fmla="*/ 611280 w 610920"/>
                      <a:gd name="textAreaTop" fmla="*/ 0 h 349920"/>
                      <a:gd name="textAreaBottom" fmla="*/ 350280 h 349920"/>
                    </a:gdLst>
                    <a:ahLst/>
                    <a:rect l="textAreaLeft" t="textAreaTop" r="textAreaRight" b="textAreaBottom"/>
                    <a:pathLst>
                      <a:path w="1050" h="600">
                        <a:moveTo>
                          <a:pt x="1026" y="44"/>
                        </a:moveTo>
                        <a:cubicBezTo>
                          <a:pt x="1009" y="31"/>
                          <a:pt x="985" y="30"/>
                          <a:pt x="967" y="42"/>
                        </a:cubicBezTo>
                        <a:cubicBezTo>
                          <a:pt x="935" y="65"/>
                          <a:pt x="935" y="65"/>
                          <a:pt x="935" y="65"/>
                        </a:cubicBezTo>
                        <a:cubicBezTo>
                          <a:pt x="927" y="72"/>
                          <a:pt x="927" y="72"/>
                          <a:pt x="927" y="72"/>
                        </a:cubicBezTo>
                        <a:cubicBezTo>
                          <a:pt x="849" y="150"/>
                          <a:pt x="849" y="150"/>
                          <a:pt x="770" y="150"/>
                        </a:cubicBezTo>
                        <a:cubicBezTo>
                          <a:pt x="743" y="150"/>
                          <a:pt x="721" y="128"/>
                          <a:pt x="687" y="93"/>
                        </a:cubicBezTo>
                        <a:cubicBezTo>
                          <a:pt x="648" y="52"/>
                          <a:pt x="599" y="0"/>
                          <a:pt x="520" y="0"/>
                        </a:cubicBezTo>
                        <a:cubicBezTo>
                          <a:pt x="441" y="0"/>
                          <a:pt x="392" y="52"/>
                          <a:pt x="353" y="93"/>
                        </a:cubicBezTo>
                        <a:cubicBezTo>
                          <a:pt x="319" y="128"/>
                          <a:pt x="297" y="150"/>
                          <a:pt x="270" y="150"/>
                        </a:cubicBezTo>
                        <a:cubicBezTo>
                          <a:pt x="191" y="150"/>
                          <a:pt x="191" y="150"/>
                          <a:pt x="113" y="72"/>
                        </a:cubicBezTo>
                        <a:cubicBezTo>
                          <a:pt x="105" y="65"/>
                          <a:pt x="105" y="65"/>
                          <a:pt x="105" y="65"/>
                        </a:cubicBezTo>
                        <a:cubicBezTo>
                          <a:pt x="95" y="54"/>
                          <a:pt x="81" y="49"/>
                          <a:pt x="66" y="50"/>
                        </a:cubicBezTo>
                        <a:cubicBezTo>
                          <a:pt x="49" y="51"/>
                          <a:pt x="49" y="51"/>
                          <a:pt x="49" y="51"/>
                        </a:cubicBezTo>
                        <a:cubicBezTo>
                          <a:pt x="33" y="52"/>
                          <a:pt x="18" y="61"/>
                          <a:pt x="10" y="75"/>
                        </a:cubicBezTo>
                        <a:cubicBezTo>
                          <a:pt x="1" y="88"/>
                          <a:pt x="0" y="105"/>
                          <a:pt x="6" y="120"/>
                        </a:cubicBezTo>
                        <a:cubicBezTo>
                          <a:pt x="100" y="352"/>
                          <a:pt x="284" y="600"/>
                          <a:pt x="520" y="600"/>
                        </a:cubicBezTo>
                        <a:cubicBezTo>
                          <a:pt x="763" y="600"/>
                          <a:pt x="949" y="342"/>
                          <a:pt x="1042" y="101"/>
                        </a:cubicBezTo>
                        <a:cubicBezTo>
                          <a:pt x="1050" y="81"/>
                          <a:pt x="1043" y="58"/>
                          <a:pt x="1026" y="44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07" name="Freeform 15"/>
                  <p:cNvSpPr/>
                  <p:nvPr/>
                </p:nvSpPr>
                <p:spPr>
                  <a:xfrm>
                    <a:off x="6397200" y="1927080"/>
                    <a:ext cx="116640" cy="57600"/>
                  </a:xfrm>
                  <a:custGeom>
                    <a:avLst/>
                    <a:gdLst>
                      <a:gd name="textAreaLeft" fmla="*/ 0 w 116640"/>
                      <a:gd name="textAreaRight" fmla="*/ 117000 w 116640"/>
                      <a:gd name="textAreaTop" fmla="*/ 0 h 57600"/>
                      <a:gd name="textAreaBottom" fmla="*/ 57960 h 57600"/>
                    </a:gdLst>
                    <a:ahLst/>
                    <a:rect l="textAreaLeft" t="textAreaTop" r="textAreaRight" b="textAreaBottom"/>
                    <a:pathLst>
                      <a:path w="200" h="100">
                        <a:moveTo>
                          <a:pt x="150" y="100"/>
                        </a:moveTo>
                        <a:cubicBezTo>
                          <a:pt x="50" y="100"/>
                          <a:pt x="50" y="100"/>
                          <a:pt x="50" y="100"/>
                        </a:cubicBezTo>
                        <a:cubicBezTo>
                          <a:pt x="22" y="100"/>
                          <a:pt x="0" y="78"/>
                          <a:pt x="0" y="50"/>
                        </a:cubicBezTo>
                        <a:cubicBezTo>
                          <a:pt x="0" y="22"/>
                          <a:pt x="22" y="0"/>
                          <a:pt x="50" y="0"/>
                        </a:cubicBezTo>
                        <a:cubicBezTo>
                          <a:pt x="150" y="0"/>
                          <a:pt x="150" y="0"/>
                          <a:pt x="150" y="0"/>
                        </a:cubicBezTo>
                        <a:cubicBezTo>
                          <a:pt x="178" y="0"/>
                          <a:pt x="200" y="22"/>
                          <a:pt x="200" y="50"/>
                        </a:cubicBezTo>
                        <a:cubicBezTo>
                          <a:pt x="200" y="78"/>
                          <a:pt x="178" y="100"/>
                          <a:pt x="150" y="10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0" bIns="28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</p:grpSp>
            <p:sp>
              <p:nvSpPr>
                <p:cNvPr id="308" name="矩形 73"/>
                <p:cNvSpPr/>
                <p:nvPr/>
              </p:nvSpPr>
              <p:spPr>
                <a:xfrm>
                  <a:off x="5573880" y="807840"/>
                  <a:ext cx="1763640" cy="1685160"/>
                </a:xfrm>
                <a:prstGeom prst="rect">
                  <a:avLst/>
                </a:prstGeom>
                <a:noFill/>
                <a:ln w="28575">
                  <a:solidFill>
                    <a:srgbClr val="000000">
                      <a:lumMod val="75000"/>
                      <a:lumOff val="2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309" name="组合 77"/>
              <p:cNvGrpSpPr/>
              <p:nvPr/>
            </p:nvGrpSpPr>
            <p:grpSpPr>
              <a:xfrm>
                <a:off x="5337720" y="260640"/>
                <a:ext cx="2178000" cy="828720"/>
                <a:chOff x="5337720" y="260640"/>
                <a:chExt cx="2178000" cy="828720"/>
              </a:xfrm>
            </p:grpSpPr>
            <p:sp>
              <p:nvSpPr>
                <p:cNvPr id="310" name="任意多边形 78"/>
                <p:cNvSpPr/>
                <p:nvPr/>
              </p:nvSpPr>
              <p:spPr>
                <a:xfrm rot="254400">
                  <a:off x="5359320" y="338400"/>
                  <a:ext cx="2134080" cy="672840"/>
                </a:xfrm>
                <a:custGeom>
                  <a:avLst/>
                  <a:gdLst>
                    <a:gd name="textAreaLeft" fmla="*/ 0 w 2134080"/>
                    <a:gd name="textAreaRight" fmla="*/ 2134440 w 2134080"/>
                    <a:gd name="textAreaTop" fmla="*/ 0 h 672840"/>
                    <a:gd name="textAreaBottom" fmla="*/ 673200 h 672840"/>
                  </a:gdLst>
                  <a:ahLst/>
                  <a:rect l="textAreaLeft" t="textAreaTop" r="textAreaRight" b="textAreaBottom"/>
                  <a:pathLst>
                    <a:path w="2101092" h="680046">
                      <a:moveTo>
                        <a:pt x="239499" y="135949"/>
                      </a:moveTo>
                      <a:cubicBezTo>
                        <a:pt x="276051" y="130419"/>
                        <a:pt x="370769" y="132166"/>
                        <a:pt x="407321" y="126636"/>
                      </a:cubicBezTo>
                      <a:lnTo>
                        <a:pt x="2047214" y="0"/>
                      </a:lnTo>
                      <a:lnTo>
                        <a:pt x="2062992" y="194271"/>
                      </a:lnTo>
                      <a:lnTo>
                        <a:pt x="2101092" y="499071"/>
                      </a:lnTo>
                      <a:lnTo>
                        <a:pt x="53217" y="680046"/>
                      </a:lnTo>
                      <a:lnTo>
                        <a:pt x="41239" y="425048"/>
                      </a:lnTo>
                      <a:lnTo>
                        <a:pt x="0" y="164499"/>
                      </a:lnTo>
                      <a:lnTo>
                        <a:pt x="162894" y="138470"/>
                      </a:lnTo>
                    </a:path>
                  </a:pathLst>
                </a:custGeom>
                <a:solidFill>
                  <a:srgbClr val="ffd44b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311" name="矩形 79"/>
                <p:cNvSpPr/>
                <p:nvPr/>
              </p:nvSpPr>
              <p:spPr>
                <a:xfrm>
                  <a:off x="5902200" y="383040"/>
                  <a:ext cx="10054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2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A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组代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2" name="组合 47"/>
          <p:cNvGrpSpPr/>
          <p:nvPr/>
        </p:nvGrpSpPr>
        <p:grpSpPr>
          <a:xfrm>
            <a:off x="1036440" y="119160"/>
            <a:ext cx="3393000" cy="4491000"/>
            <a:chOff x="1036440" y="119160"/>
            <a:chExt cx="3393000" cy="4491000"/>
          </a:xfrm>
        </p:grpSpPr>
        <p:sp>
          <p:nvSpPr>
            <p:cNvPr id="313" name="矩形 82"/>
            <p:cNvSpPr/>
            <p:nvPr/>
          </p:nvSpPr>
          <p:spPr>
            <a:xfrm>
              <a:off x="1036440" y="119160"/>
              <a:ext cx="3393000" cy="449100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2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14" name="矩形 83"/>
            <p:cNvSpPr/>
            <p:nvPr/>
          </p:nvSpPr>
          <p:spPr>
            <a:xfrm>
              <a:off x="1036440" y="2566080"/>
              <a:ext cx="339300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姓名：克里斯托弗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·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兰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智商：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95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2e3d55"/>
                  </a:solidFill>
                  <a:latin typeface="Arial"/>
                  <a:ea typeface="微软雅黑"/>
                </a:rPr>
                <a:t>家庭：贫穷，自然成长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作：农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组合 102"/>
            <p:cNvGrpSpPr/>
            <p:nvPr/>
          </p:nvGrpSpPr>
          <p:grpSpPr>
            <a:xfrm>
              <a:off x="1672200" y="280080"/>
              <a:ext cx="2178000" cy="2195640"/>
              <a:chOff x="1672200" y="280080"/>
              <a:chExt cx="2178000" cy="2195640"/>
            </a:xfrm>
          </p:grpSpPr>
          <p:sp>
            <p:nvSpPr>
              <p:cNvPr id="316" name="矩形 103"/>
              <p:cNvSpPr/>
              <p:nvPr/>
            </p:nvSpPr>
            <p:spPr>
              <a:xfrm>
                <a:off x="1880640" y="790560"/>
                <a:ext cx="1763640" cy="168516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0000">
                    <a:lumMod val="75000"/>
                    <a:lumOff val="2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17" name="组合 104"/>
              <p:cNvGrpSpPr/>
              <p:nvPr/>
            </p:nvGrpSpPr>
            <p:grpSpPr>
              <a:xfrm>
                <a:off x="1949400" y="949680"/>
                <a:ext cx="1527480" cy="1526040"/>
                <a:chOff x="1949400" y="949680"/>
                <a:chExt cx="1527480" cy="1526040"/>
              </a:xfrm>
            </p:grpSpPr>
            <p:sp>
              <p:nvSpPr>
                <p:cNvPr id="318" name="Freeform 5"/>
                <p:cNvSpPr/>
                <p:nvPr/>
              </p:nvSpPr>
              <p:spPr>
                <a:xfrm>
                  <a:off x="1949400" y="1545120"/>
                  <a:ext cx="344520" cy="93060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930600"/>
                    <a:gd name="textAreaBottom" fmla="*/ 930960 h 930600"/>
                  </a:gdLst>
                  <a:ahLst/>
                  <a:rect l="textAreaLeft" t="textAreaTop" r="textAreaRight" b="textAreaBottom"/>
                  <a:pathLst>
                    <a:path w="500" h="1350">
                      <a:moveTo>
                        <a:pt x="450" y="0"/>
                      </a:moveTo>
                      <a:cubicBezTo>
                        <a:pt x="422" y="0"/>
                        <a:pt x="400" y="22"/>
                        <a:pt x="400" y="50"/>
                      </a:cubicBezTo>
                      <a:cubicBezTo>
                        <a:pt x="400" y="325"/>
                        <a:pt x="400" y="325"/>
                        <a:pt x="400" y="325"/>
                      </a:cubicBezTo>
                      <a:cubicBezTo>
                        <a:pt x="400" y="390"/>
                        <a:pt x="358" y="445"/>
                        <a:pt x="300" y="466"/>
                      </a:cubicBezTo>
                      <a:cubicBezTo>
                        <a:pt x="300" y="50"/>
                        <a:pt x="300" y="50"/>
                        <a:pt x="300" y="50"/>
                      </a:cubicBezTo>
                      <a:cubicBezTo>
                        <a:pt x="300" y="22"/>
                        <a:pt x="278" y="0"/>
                        <a:pt x="250" y="0"/>
                      </a:cubicBezTo>
                      <a:cubicBezTo>
                        <a:pt x="222" y="0"/>
                        <a:pt x="200" y="22"/>
                        <a:pt x="200" y="50"/>
                      </a:cubicBezTo>
                      <a:cubicBezTo>
                        <a:pt x="200" y="466"/>
                        <a:pt x="200" y="466"/>
                        <a:pt x="200" y="466"/>
                      </a:cubicBezTo>
                      <a:cubicBezTo>
                        <a:pt x="142" y="446"/>
                        <a:pt x="100" y="391"/>
                        <a:pt x="100" y="326"/>
                      </a:cubicBezTo>
                      <a:cubicBezTo>
                        <a:pt x="100" y="50"/>
                        <a:pt x="100" y="50"/>
                        <a:pt x="100" y="50"/>
                      </a:cubicBezTo>
                      <a:cubicBezTo>
                        <a:pt x="100" y="22"/>
                        <a:pt x="78" y="0"/>
                        <a:pt x="50" y="0"/>
                      </a:cubicBezTo>
                      <a:cubicBezTo>
                        <a:pt x="22" y="0"/>
                        <a:pt x="0" y="22"/>
                        <a:pt x="0" y="50"/>
                      </a:cubicBezTo>
                      <a:cubicBezTo>
                        <a:pt x="0" y="326"/>
                        <a:pt x="0" y="326"/>
                        <a:pt x="0" y="326"/>
                      </a:cubicBezTo>
                      <a:cubicBezTo>
                        <a:pt x="0" y="446"/>
                        <a:pt x="86" y="547"/>
                        <a:pt x="200" y="570"/>
                      </a:cubicBezTo>
                      <a:cubicBezTo>
                        <a:pt x="200" y="1350"/>
                        <a:pt x="200" y="1350"/>
                        <a:pt x="200" y="1350"/>
                      </a:cubicBezTo>
                      <a:cubicBezTo>
                        <a:pt x="300" y="1350"/>
                        <a:pt x="300" y="1350"/>
                        <a:pt x="300" y="1350"/>
                      </a:cubicBezTo>
                      <a:cubicBezTo>
                        <a:pt x="300" y="570"/>
                        <a:pt x="300" y="570"/>
                        <a:pt x="300" y="570"/>
                      </a:cubicBezTo>
                      <a:cubicBezTo>
                        <a:pt x="414" y="547"/>
                        <a:pt x="500" y="446"/>
                        <a:pt x="500" y="325"/>
                      </a:cubicBezTo>
                      <a:cubicBezTo>
                        <a:pt x="500" y="50"/>
                        <a:pt x="500" y="50"/>
                        <a:pt x="500" y="50"/>
                      </a:cubicBezTo>
                      <a:cubicBezTo>
                        <a:pt x="500" y="22"/>
                        <a:pt x="478" y="0"/>
                        <a:pt x="450" y="0"/>
                      </a:cubicBezTo>
                      <a:close/>
                    </a:path>
                  </a:pathLst>
                </a:custGeom>
                <a:solidFill>
                  <a:srgbClr val="2e3d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  <p:grpSp>
              <p:nvGrpSpPr>
                <p:cNvPr id="319" name="Group 4"/>
                <p:cNvGrpSpPr/>
                <p:nvPr/>
              </p:nvGrpSpPr>
              <p:grpSpPr>
                <a:xfrm>
                  <a:off x="2195640" y="949680"/>
                  <a:ext cx="1281240" cy="1525680"/>
                  <a:chOff x="2195640" y="949680"/>
                  <a:chExt cx="1281240" cy="1525680"/>
                </a:xfrm>
              </p:grpSpPr>
              <p:sp>
                <p:nvSpPr>
                  <p:cNvPr id="320" name="Freeform 5"/>
                  <p:cNvSpPr/>
                  <p:nvPr/>
                </p:nvSpPr>
                <p:spPr>
                  <a:xfrm>
                    <a:off x="2555280" y="1403280"/>
                    <a:ext cx="563400" cy="444960"/>
                  </a:xfrm>
                  <a:custGeom>
                    <a:avLst/>
                    <a:gdLst>
                      <a:gd name="textAreaLeft" fmla="*/ 0 w 563400"/>
                      <a:gd name="textAreaRight" fmla="*/ 563760 w 563400"/>
                      <a:gd name="textAreaTop" fmla="*/ 0 h 444960"/>
                      <a:gd name="textAreaBottom" fmla="*/ 445320 h 444960"/>
                    </a:gdLst>
                    <a:ahLst/>
                    <a:rect l="textAreaLeft" t="textAreaTop" r="textAreaRight" b="textAreaBottom"/>
                    <a:pathLst>
                      <a:path w="631" h="498">
                        <a:moveTo>
                          <a:pt x="62" y="31"/>
                        </a:moveTo>
                        <a:cubicBezTo>
                          <a:pt x="42" y="27"/>
                          <a:pt x="23" y="22"/>
                          <a:pt x="3" y="16"/>
                        </a:cubicBezTo>
                        <a:cubicBezTo>
                          <a:pt x="1" y="37"/>
                          <a:pt x="0" y="57"/>
                          <a:pt x="0" y="78"/>
                        </a:cubicBezTo>
                        <a:cubicBezTo>
                          <a:pt x="0" y="310"/>
                          <a:pt x="141" y="498"/>
                          <a:pt x="315" y="498"/>
                        </a:cubicBezTo>
                        <a:cubicBezTo>
                          <a:pt x="489" y="498"/>
                          <a:pt x="631" y="310"/>
                          <a:pt x="631" y="78"/>
                        </a:cubicBezTo>
                        <a:cubicBezTo>
                          <a:pt x="631" y="52"/>
                          <a:pt x="629" y="26"/>
                          <a:pt x="625" y="0"/>
                        </a:cubicBezTo>
                        <a:cubicBezTo>
                          <a:pt x="598" y="10"/>
                          <a:pt x="571" y="18"/>
                          <a:pt x="543" y="26"/>
                        </a:cubicBezTo>
                        <a:cubicBezTo>
                          <a:pt x="387" y="69"/>
                          <a:pt x="219" y="66"/>
                          <a:pt x="62" y="31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21" name="Freeform 6"/>
                  <p:cNvSpPr/>
                  <p:nvPr/>
                </p:nvSpPr>
                <p:spPr>
                  <a:xfrm>
                    <a:off x="2266200" y="949680"/>
                    <a:ext cx="1108080" cy="478440"/>
                  </a:xfrm>
                  <a:custGeom>
                    <a:avLst/>
                    <a:gdLst>
                      <a:gd name="textAreaLeft" fmla="*/ 0 w 1108080"/>
                      <a:gd name="textAreaRight" fmla="*/ 1108440 w 1108080"/>
                      <a:gd name="textAreaTop" fmla="*/ 0 h 478440"/>
                      <a:gd name="textAreaBottom" fmla="*/ 478800 h 478440"/>
                    </a:gdLst>
                    <a:ahLst/>
                    <a:rect l="textAreaLeft" t="textAreaTop" r="textAreaRight" b="textAreaBottom"/>
                    <a:pathLst>
                      <a:path w="1240" h="535">
                        <a:moveTo>
                          <a:pt x="154" y="447"/>
                        </a:moveTo>
                        <a:cubicBezTo>
                          <a:pt x="229" y="467"/>
                          <a:pt x="308" y="485"/>
                          <a:pt x="385" y="501"/>
                        </a:cubicBezTo>
                        <a:cubicBezTo>
                          <a:pt x="542" y="533"/>
                          <a:pt x="710" y="535"/>
                          <a:pt x="866" y="496"/>
                        </a:cubicBezTo>
                        <a:cubicBezTo>
                          <a:pt x="907" y="485"/>
                          <a:pt x="948" y="475"/>
                          <a:pt x="988" y="462"/>
                        </a:cubicBezTo>
                        <a:cubicBezTo>
                          <a:pt x="1026" y="450"/>
                          <a:pt x="1066" y="438"/>
                          <a:pt x="1102" y="421"/>
                        </a:cubicBezTo>
                        <a:cubicBezTo>
                          <a:pt x="1138" y="405"/>
                          <a:pt x="1178" y="393"/>
                          <a:pt x="1209" y="369"/>
                        </a:cubicBezTo>
                        <a:cubicBezTo>
                          <a:pt x="1226" y="355"/>
                          <a:pt x="1240" y="335"/>
                          <a:pt x="1234" y="313"/>
                        </a:cubicBezTo>
                        <a:cubicBezTo>
                          <a:pt x="1219" y="255"/>
                          <a:pt x="1107" y="265"/>
                          <a:pt x="1059" y="265"/>
                        </a:cubicBezTo>
                        <a:cubicBezTo>
                          <a:pt x="1023" y="265"/>
                          <a:pt x="978" y="264"/>
                          <a:pt x="948" y="242"/>
                        </a:cubicBezTo>
                        <a:cubicBezTo>
                          <a:pt x="905" y="210"/>
                          <a:pt x="910" y="130"/>
                          <a:pt x="886" y="85"/>
                        </a:cubicBezTo>
                        <a:cubicBezTo>
                          <a:pt x="866" y="49"/>
                          <a:pt x="840" y="12"/>
                          <a:pt x="792" y="10"/>
                        </a:cubicBezTo>
                        <a:cubicBezTo>
                          <a:pt x="740" y="7"/>
                          <a:pt x="695" y="47"/>
                          <a:pt x="644" y="44"/>
                        </a:cubicBezTo>
                        <a:cubicBezTo>
                          <a:pt x="594" y="42"/>
                          <a:pt x="559" y="1"/>
                          <a:pt x="508" y="0"/>
                        </a:cubicBezTo>
                        <a:cubicBezTo>
                          <a:pt x="459" y="0"/>
                          <a:pt x="420" y="25"/>
                          <a:pt x="400" y="65"/>
                        </a:cubicBezTo>
                        <a:cubicBezTo>
                          <a:pt x="357" y="149"/>
                          <a:pt x="360" y="199"/>
                          <a:pt x="321" y="230"/>
                        </a:cubicBezTo>
                        <a:cubicBezTo>
                          <a:pt x="495" y="330"/>
                          <a:pt x="739" y="281"/>
                          <a:pt x="739" y="281"/>
                        </a:cubicBezTo>
                        <a:cubicBezTo>
                          <a:pt x="502" y="370"/>
                          <a:pt x="326" y="284"/>
                          <a:pt x="273" y="253"/>
                        </a:cubicBezTo>
                        <a:cubicBezTo>
                          <a:pt x="263" y="256"/>
                          <a:pt x="252" y="258"/>
                          <a:pt x="239" y="260"/>
                        </a:cubicBezTo>
                        <a:cubicBezTo>
                          <a:pt x="176" y="271"/>
                          <a:pt x="62" y="263"/>
                          <a:pt x="17" y="312"/>
                        </a:cubicBezTo>
                        <a:cubicBezTo>
                          <a:pt x="2" y="328"/>
                          <a:pt x="0" y="344"/>
                          <a:pt x="6" y="358"/>
                        </a:cubicBezTo>
                        <a:cubicBezTo>
                          <a:pt x="30" y="412"/>
                          <a:pt x="101" y="433"/>
                          <a:pt x="154" y="447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22" name="Freeform 7"/>
                  <p:cNvSpPr/>
                  <p:nvPr/>
                </p:nvSpPr>
                <p:spPr>
                  <a:xfrm>
                    <a:off x="2522880" y="1881360"/>
                    <a:ext cx="602640" cy="366120"/>
                  </a:xfrm>
                  <a:custGeom>
                    <a:avLst/>
                    <a:gdLst>
                      <a:gd name="textAreaLeft" fmla="*/ 0 w 602640"/>
                      <a:gd name="textAreaRight" fmla="*/ 603000 w 602640"/>
                      <a:gd name="textAreaTop" fmla="*/ 0 h 366120"/>
                      <a:gd name="textAreaBottom" fmla="*/ 366480 h 366120"/>
                    </a:gdLst>
                    <a:ahLst/>
                    <a:rect l="textAreaLeft" t="textAreaTop" r="textAreaRight" b="textAreaBottom"/>
                    <a:pathLst>
                      <a:path w="674" h="409">
                        <a:moveTo>
                          <a:pt x="351" y="146"/>
                        </a:moveTo>
                        <a:cubicBezTo>
                          <a:pt x="101" y="4"/>
                          <a:pt x="101" y="4"/>
                          <a:pt x="101" y="4"/>
                        </a:cubicBezTo>
                        <a:cubicBezTo>
                          <a:pt x="78" y="15"/>
                          <a:pt x="46" y="27"/>
                          <a:pt x="0" y="44"/>
                        </a:cubicBezTo>
                        <a:cubicBezTo>
                          <a:pt x="0" y="359"/>
                          <a:pt x="0" y="359"/>
                          <a:pt x="0" y="359"/>
                        </a:cubicBezTo>
                        <a:cubicBezTo>
                          <a:pt x="54" y="359"/>
                          <a:pt x="54" y="359"/>
                          <a:pt x="54" y="359"/>
                        </a:cubicBezTo>
                        <a:cubicBezTo>
                          <a:pt x="54" y="409"/>
                          <a:pt x="54" y="409"/>
                          <a:pt x="54" y="409"/>
                        </a:cubicBezTo>
                        <a:cubicBezTo>
                          <a:pt x="619" y="409"/>
                          <a:pt x="619" y="409"/>
                          <a:pt x="619" y="409"/>
                        </a:cubicBezTo>
                        <a:cubicBezTo>
                          <a:pt x="619" y="359"/>
                          <a:pt x="619" y="359"/>
                          <a:pt x="619" y="359"/>
                        </a:cubicBezTo>
                        <a:cubicBezTo>
                          <a:pt x="673" y="359"/>
                          <a:pt x="673" y="359"/>
                          <a:pt x="673" y="359"/>
                        </a:cubicBezTo>
                        <a:cubicBezTo>
                          <a:pt x="673" y="34"/>
                          <a:pt x="673" y="34"/>
                          <a:pt x="673" y="34"/>
                        </a:cubicBezTo>
                        <a:cubicBezTo>
                          <a:pt x="674" y="34"/>
                          <a:pt x="674" y="34"/>
                          <a:pt x="674" y="34"/>
                        </a:cubicBezTo>
                        <a:cubicBezTo>
                          <a:pt x="636" y="20"/>
                          <a:pt x="608" y="9"/>
                          <a:pt x="589" y="0"/>
                        </a:cubicBezTo>
                        <a:lnTo>
                          <a:pt x="351" y="146"/>
                        </a:ln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23" name="Freeform 8"/>
                  <p:cNvSpPr/>
                  <p:nvPr/>
                </p:nvSpPr>
                <p:spPr>
                  <a:xfrm>
                    <a:off x="2195640" y="1944360"/>
                    <a:ext cx="267120" cy="531000"/>
                  </a:xfrm>
                  <a:custGeom>
                    <a:avLst/>
                    <a:gdLst>
                      <a:gd name="textAreaLeft" fmla="*/ 0 w 267120"/>
                      <a:gd name="textAreaRight" fmla="*/ 267480 w 267120"/>
                      <a:gd name="textAreaTop" fmla="*/ 0 h 531000"/>
                      <a:gd name="textAreaBottom" fmla="*/ 531360 h 531000"/>
                    </a:gdLst>
                    <a:ahLst/>
                    <a:rect l="textAreaLeft" t="textAreaTop" r="textAreaRight" b="textAreaBottom"/>
                    <a:pathLst>
                      <a:path w="299" h="594">
                        <a:moveTo>
                          <a:pt x="36" y="594"/>
                        </a:moveTo>
                        <a:cubicBezTo>
                          <a:pt x="245" y="594"/>
                          <a:pt x="245" y="594"/>
                          <a:pt x="245" y="594"/>
                        </a:cubicBezTo>
                        <a:cubicBezTo>
                          <a:pt x="245" y="289"/>
                          <a:pt x="245" y="289"/>
                          <a:pt x="245" y="289"/>
                        </a:cubicBezTo>
                        <a:cubicBezTo>
                          <a:pt x="299" y="289"/>
                          <a:pt x="299" y="289"/>
                          <a:pt x="299" y="289"/>
                        </a:cubicBezTo>
                        <a:cubicBezTo>
                          <a:pt x="299" y="0"/>
                          <a:pt x="299" y="0"/>
                          <a:pt x="299" y="0"/>
                        </a:cubicBezTo>
                        <a:cubicBezTo>
                          <a:pt x="192" y="46"/>
                          <a:pt x="99" y="100"/>
                          <a:pt x="99" y="100"/>
                        </a:cubicBezTo>
                        <a:cubicBezTo>
                          <a:pt x="0" y="184"/>
                          <a:pt x="36" y="594"/>
                          <a:pt x="36" y="594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24" name="Freeform 9"/>
                  <p:cNvSpPr/>
                  <p:nvPr/>
                </p:nvSpPr>
                <p:spPr>
                  <a:xfrm>
                    <a:off x="3186000" y="1933560"/>
                    <a:ext cx="290880" cy="541800"/>
                  </a:xfrm>
                  <a:custGeom>
                    <a:avLst/>
                    <a:gdLst>
                      <a:gd name="textAreaLeft" fmla="*/ 0 w 290880"/>
                      <a:gd name="textAreaRight" fmla="*/ 291240 w 290880"/>
                      <a:gd name="textAreaTop" fmla="*/ 0 h 541800"/>
                      <a:gd name="textAreaBottom" fmla="*/ 542160 h 541800"/>
                    </a:gdLst>
                    <a:ahLst/>
                    <a:rect l="textAreaLeft" t="textAreaTop" r="textAreaRight" b="textAreaBottom"/>
                    <a:pathLst>
                      <a:path w="326" h="605">
                        <a:moveTo>
                          <a:pt x="227" y="111"/>
                        </a:moveTo>
                        <a:cubicBezTo>
                          <a:pt x="227" y="111"/>
                          <a:pt x="119" y="48"/>
                          <a:pt x="0" y="0"/>
                        </a:cubicBezTo>
                        <a:cubicBezTo>
                          <a:pt x="0" y="300"/>
                          <a:pt x="0" y="300"/>
                          <a:pt x="0" y="300"/>
                        </a:cubicBezTo>
                        <a:cubicBezTo>
                          <a:pt x="54" y="300"/>
                          <a:pt x="54" y="300"/>
                          <a:pt x="54" y="300"/>
                        </a:cubicBezTo>
                        <a:cubicBezTo>
                          <a:pt x="54" y="605"/>
                          <a:pt x="54" y="605"/>
                          <a:pt x="54" y="605"/>
                        </a:cubicBezTo>
                        <a:cubicBezTo>
                          <a:pt x="290" y="605"/>
                          <a:pt x="290" y="605"/>
                          <a:pt x="290" y="605"/>
                        </a:cubicBezTo>
                        <a:cubicBezTo>
                          <a:pt x="290" y="605"/>
                          <a:pt x="326" y="195"/>
                          <a:pt x="227" y="111"/>
                        </a:cubicBezTo>
                        <a:close/>
                      </a:path>
                    </a:pathLst>
                  </a:cu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25" name="Oval 10"/>
                  <p:cNvSpPr/>
                  <p:nvPr/>
                </p:nvSpPr>
                <p:spPr>
                  <a:xfrm>
                    <a:off x="2473920" y="2247840"/>
                    <a:ext cx="37800" cy="37800"/>
                  </a:xfrm>
                  <a:prstGeom prst="ellipse">
                    <a:avLst/>
                  </a:pr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320" bIns="13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326" name="Oval 11"/>
                  <p:cNvSpPr/>
                  <p:nvPr/>
                </p:nvSpPr>
                <p:spPr>
                  <a:xfrm>
                    <a:off x="3135600" y="2247840"/>
                    <a:ext cx="38880" cy="37800"/>
                  </a:xfrm>
                  <a:prstGeom prst="ellipse">
                    <a:avLst/>
                  </a:prstGeom>
                  <a:solidFill>
                    <a:srgbClr val="2e3d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320" bIns="13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</p:grpSp>
          </p:grpSp>
          <p:sp>
            <p:nvSpPr>
              <p:cNvPr id="327" name="任意多边形 105"/>
              <p:cNvSpPr/>
              <p:nvPr/>
            </p:nvSpPr>
            <p:spPr>
              <a:xfrm rot="254400">
                <a:off x="1693800" y="357840"/>
                <a:ext cx="2134080" cy="672840"/>
              </a:xfrm>
              <a:custGeom>
                <a:avLst/>
                <a:gdLst>
                  <a:gd name="textAreaLeft" fmla="*/ 0 w 2134080"/>
                  <a:gd name="textAreaRight" fmla="*/ 2134440 w 213408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2101092" h="680046">
                    <a:moveTo>
                      <a:pt x="239499" y="135949"/>
                    </a:moveTo>
                    <a:cubicBezTo>
                      <a:pt x="276051" y="130419"/>
                      <a:pt x="370769" y="132166"/>
                      <a:pt x="407321" y="126636"/>
                    </a:cubicBezTo>
                    <a:lnTo>
                      <a:pt x="2047214" y="0"/>
                    </a:lnTo>
                    <a:lnTo>
                      <a:pt x="2062992" y="194271"/>
                    </a:lnTo>
                    <a:lnTo>
                      <a:pt x="2101092" y="499071"/>
                    </a:lnTo>
                    <a:lnTo>
                      <a:pt x="53217" y="680046"/>
                    </a:lnTo>
                    <a:lnTo>
                      <a:pt x="41239" y="425048"/>
                    </a:lnTo>
                    <a:lnTo>
                      <a:pt x="0" y="164499"/>
                    </a:lnTo>
                    <a:lnTo>
                      <a:pt x="162894" y="138470"/>
                    </a:lnTo>
                  </a:path>
                </a:pathLst>
              </a:custGeom>
              <a:solidFill>
                <a:srgbClr val="ffd44b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28" name="矩形 122"/>
              <p:cNvSpPr/>
              <p:nvPr/>
            </p:nvSpPr>
            <p:spPr>
              <a:xfrm>
                <a:off x="2236680" y="402120"/>
                <a:ext cx="10224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组代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文本框 140"/>
          <p:cNvSpPr/>
          <p:nvPr/>
        </p:nvSpPr>
        <p:spPr>
          <a:xfrm>
            <a:off x="1125000" y="4963320"/>
            <a:ext cx="71586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二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只凭个人内在因素的很难实现成功，需要外在的（社会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微软雅黑"/>
              </a:rPr>
              <a:t>&amp;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家庭）环境来帮助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82840" y="6381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9"/>
          <p:cNvSpPr/>
          <p:nvPr/>
        </p:nvSpPr>
        <p:spPr>
          <a:xfrm>
            <a:off x="592200" y="2542320"/>
            <a:ext cx="8019720" cy="548064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2" name="直角三角形 46"/>
          <p:cNvSpPr/>
          <p:nvPr/>
        </p:nvSpPr>
        <p:spPr>
          <a:xfrm>
            <a:off x="1803600" y="323640"/>
            <a:ext cx="418320" cy="209160"/>
          </a:xfrm>
          <a:prstGeom prst="rtTriangle">
            <a:avLst/>
          </a:prstGeom>
          <a:solidFill>
            <a:srgbClr val="656b6e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3" name="矩形 8"/>
          <p:cNvSpPr/>
          <p:nvPr/>
        </p:nvSpPr>
        <p:spPr>
          <a:xfrm>
            <a:off x="582840" y="541800"/>
            <a:ext cx="8019720" cy="1805400"/>
          </a:xfrm>
          <a:prstGeom prst="rect">
            <a:avLst/>
          </a:prstGeom>
          <a:solidFill>
            <a:srgbClr val="2e3d55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4" name="矩形 9"/>
          <p:cNvSpPr/>
          <p:nvPr/>
        </p:nvSpPr>
        <p:spPr>
          <a:xfrm>
            <a:off x="2102760" y="703800"/>
            <a:ext cx="552024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05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庭教育的影响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7"/>
          <p:cNvSpPr/>
          <p:nvPr/>
        </p:nvSpPr>
        <p:spPr>
          <a:xfrm>
            <a:off x="2179440" y="1441080"/>
            <a:ext cx="4628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336" name="组合 177"/>
          <p:cNvGrpSpPr/>
          <p:nvPr/>
        </p:nvGrpSpPr>
        <p:grpSpPr>
          <a:xfrm>
            <a:off x="1018440" y="2040480"/>
            <a:ext cx="7206120" cy="789120"/>
            <a:chOff x="1018440" y="2040480"/>
            <a:chExt cx="7206120" cy="789120"/>
          </a:xfrm>
        </p:grpSpPr>
        <p:grpSp>
          <p:nvGrpSpPr>
            <p:cNvPr id="337" name="组合 178"/>
            <p:cNvGrpSpPr/>
            <p:nvPr/>
          </p:nvGrpSpPr>
          <p:grpSpPr>
            <a:xfrm>
              <a:off x="8067600" y="2049840"/>
              <a:ext cx="156960" cy="779760"/>
              <a:chOff x="8067600" y="2049840"/>
              <a:chExt cx="156960" cy="779760"/>
            </a:xfrm>
          </p:grpSpPr>
          <p:sp>
            <p:nvSpPr>
              <p:cNvPr id="338" name="椭圆 184"/>
              <p:cNvSpPr/>
              <p:nvPr/>
            </p:nvSpPr>
            <p:spPr>
              <a:xfrm rot="5400000">
                <a:off x="8067600" y="20498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39" name="椭圆 185"/>
              <p:cNvSpPr/>
              <p:nvPr/>
            </p:nvSpPr>
            <p:spPr>
              <a:xfrm rot="5400000">
                <a:off x="8067600" y="2672640"/>
                <a:ext cx="156960" cy="1569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 w="25400">
                <a:solidFill>
                  <a:srgbClr val="40404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2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cxnSp>
            <p:nvCxnSpPr>
              <p:cNvPr id="340" name="直接连接符 186"/>
              <p:cNvCxnSpPr/>
              <p:nvPr/>
            </p:nvCxnSpPr>
            <p:spPr>
              <a:xfrm>
                <a:off x="81482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  <p:grpSp>
          <p:nvGrpSpPr>
            <p:cNvPr id="341" name="组合 179"/>
            <p:cNvGrpSpPr/>
            <p:nvPr/>
          </p:nvGrpSpPr>
          <p:grpSpPr>
            <a:xfrm>
              <a:off x="1018440" y="2040480"/>
              <a:ext cx="156960" cy="779760"/>
              <a:chOff x="1018440" y="2040480"/>
              <a:chExt cx="156960" cy="779760"/>
            </a:xfrm>
          </p:grpSpPr>
          <p:grpSp>
            <p:nvGrpSpPr>
              <p:cNvPr id="342" name="组合 180"/>
              <p:cNvGrpSpPr/>
              <p:nvPr/>
            </p:nvGrpSpPr>
            <p:grpSpPr>
              <a:xfrm>
                <a:off x="1018440" y="2040480"/>
                <a:ext cx="156960" cy="779760"/>
                <a:chOff x="1018440" y="2040480"/>
                <a:chExt cx="156960" cy="779760"/>
              </a:xfrm>
            </p:grpSpPr>
            <p:sp>
              <p:nvSpPr>
                <p:cNvPr id="343" name="椭圆 182"/>
                <p:cNvSpPr/>
                <p:nvPr/>
              </p:nvSpPr>
              <p:spPr>
                <a:xfrm rot="5400000">
                  <a:off x="1018440" y="20404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344" name="椭圆 183"/>
                <p:cNvSpPr/>
                <p:nvPr/>
              </p:nvSpPr>
              <p:spPr>
                <a:xfrm rot="5400000">
                  <a:off x="1018440" y="2663280"/>
                  <a:ext cx="156960" cy="156960"/>
                </a:xfrm>
                <a:prstGeom prst="ellipse">
                  <a:avLst/>
                </a:prstGeom>
                <a:solidFill>
                  <a:schemeClr val="bg1">
                    <a:lumMod val="85000"/>
                  </a:schemeClr>
                </a:solidFill>
                <a:ln w="25400">
                  <a:solidFill>
                    <a:srgbClr val="40404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lIns="68760" rIns="68760" tIns="34200" bIns="34200" anchor="ctr">
                  <a:noAutofit/>
                </a:bodyPr>
                <a:p>
                  <a:pPr algn="ctr">
                    <a:lnSpc>
                      <a:spcPct val="120000"/>
                    </a:lnSpc>
                  </a:pPr>
                  <a:endParaRPr b="0" lang="en-US" sz="135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cxnSp>
            <p:nvCxnSpPr>
              <p:cNvPr id="345" name="直接连接符 181"/>
              <p:cNvCxnSpPr/>
              <p:nvPr/>
            </p:nvCxnSpPr>
            <p:spPr>
              <a:xfrm>
                <a:off x="1095840" y="2126880"/>
                <a:ext cx="360" cy="623160"/>
              </a:xfrm>
              <a:prstGeom prst="straightConnector1">
                <a:avLst/>
              </a:prstGeom>
              <a:ln w="25400">
                <a:solidFill>
                  <a:srgbClr val="404040"/>
                </a:solidFill>
              </a:ln>
            </p:spPr>
          </p:cxnSp>
        </p:grpSp>
      </p:grpSp>
      <p:sp>
        <p:nvSpPr>
          <p:cNvPr id="346" name="矩形 47"/>
          <p:cNvSpPr/>
          <p:nvPr/>
        </p:nvSpPr>
        <p:spPr>
          <a:xfrm>
            <a:off x="1014480" y="318600"/>
            <a:ext cx="781920" cy="1182960"/>
          </a:xfrm>
          <a:prstGeom prst="rect">
            <a:avLst/>
          </a:prstGeom>
          <a:solidFill>
            <a:srgbClr val="808c94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6313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7" name="文本框 48"/>
          <p:cNvSpPr/>
          <p:nvPr/>
        </p:nvSpPr>
        <p:spPr>
          <a:xfrm>
            <a:off x="1232280" y="587520"/>
            <a:ext cx="346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91"/>
          <p:cNvSpPr/>
          <p:nvPr/>
        </p:nvSpPr>
        <p:spPr>
          <a:xfrm>
            <a:off x="4494240" y="3682440"/>
            <a:ext cx="2762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朗朗成功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6"/>
          <p:cNvSpPr/>
          <p:nvPr/>
        </p:nvSpPr>
        <p:spPr>
          <a:xfrm>
            <a:off x="5070600" y="4217760"/>
            <a:ext cx="17380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天赋异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勤奋刻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遇到良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家庭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96"/>
          <p:cNvSpPr/>
          <p:nvPr/>
        </p:nvSpPr>
        <p:spPr>
          <a:xfrm>
            <a:off x="4602960" y="4351680"/>
            <a:ext cx="360360" cy="360360"/>
          </a:xfrm>
          <a:prstGeom prst="ellipse">
            <a:avLst/>
          </a:prstGeom>
          <a:solidFill>
            <a:srgbClr val="2e3d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椭圆 97"/>
          <p:cNvSpPr/>
          <p:nvPr/>
        </p:nvSpPr>
        <p:spPr>
          <a:xfrm>
            <a:off x="4602960" y="4803840"/>
            <a:ext cx="360360" cy="360360"/>
          </a:xfrm>
          <a:prstGeom prst="ellipse">
            <a:avLst/>
          </a:prstGeom>
          <a:solidFill>
            <a:srgbClr val="2e3d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98"/>
          <p:cNvSpPr/>
          <p:nvPr/>
        </p:nvSpPr>
        <p:spPr>
          <a:xfrm>
            <a:off x="4602960" y="5256000"/>
            <a:ext cx="360360" cy="360360"/>
          </a:xfrm>
          <a:prstGeom prst="ellipse">
            <a:avLst/>
          </a:prstGeom>
          <a:solidFill>
            <a:srgbClr val="2e3d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椭圆 99"/>
          <p:cNvSpPr/>
          <p:nvPr/>
        </p:nvSpPr>
        <p:spPr>
          <a:xfrm>
            <a:off x="4602960" y="5708520"/>
            <a:ext cx="360360" cy="360360"/>
          </a:xfrm>
          <a:prstGeom prst="ellipse">
            <a:avLst/>
          </a:prstGeom>
          <a:solidFill>
            <a:srgbClr val="2e3d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Showcard Gothic"/>
                <a:ea typeface="微软雅黑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图片 41" descr=""/>
          <p:cNvPicPr/>
          <p:nvPr/>
        </p:nvPicPr>
        <p:blipFill>
          <a:blip r:embed="rId1"/>
          <a:srcRect l="4355" t="0" r="0" b="0"/>
          <a:stretch/>
        </p:blipFill>
        <p:spPr>
          <a:xfrm>
            <a:off x="1578960" y="3111120"/>
            <a:ext cx="2165400" cy="3453480"/>
          </a:xfrm>
          <a:prstGeom prst="rect">
            <a:avLst/>
          </a:prstGeom>
          <a:ln w="0">
            <a:noFill/>
          </a:ln>
        </p:spPr>
      </p:pic>
      <p:sp>
        <p:nvSpPr>
          <p:cNvPr id="355" name="椭圆 2"/>
          <p:cNvSpPr/>
          <p:nvPr/>
        </p:nvSpPr>
        <p:spPr>
          <a:xfrm>
            <a:off x="4533120" y="5623560"/>
            <a:ext cx="1791720" cy="532800"/>
          </a:xfrm>
          <a:custGeom>
            <a:avLst/>
            <a:gdLst>
              <a:gd name="textAreaLeft" fmla="*/ 0 w 1791720"/>
              <a:gd name="textAreaRight" fmla="*/ 1792080 w 1791720"/>
              <a:gd name="textAreaTop" fmla="*/ 0 h 532800"/>
              <a:gd name="textAreaBottom" fmla="*/ 533160 h 532800"/>
            </a:gdLst>
            <a:ahLst/>
            <a:rect l="textAreaLeft" t="textAreaTop" r="textAreaRight" b="textAreaBottom"/>
            <a:pathLst>
              <a:path w="1792154" h="533099">
                <a:moveTo>
                  <a:pt x="708717" y="109236"/>
                </a:moveTo>
                <a:cubicBezTo>
                  <a:pt x="923619" y="-138414"/>
                  <a:pt x="1785504" y="90770"/>
                  <a:pt x="1792061" y="248368"/>
                </a:cubicBezTo>
                <a:cubicBezTo>
                  <a:pt x="1798618" y="405966"/>
                  <a:pt x="1457883" y="507850"/>
                  <a:pt x="1162404" y="526182"/>
                </a:cubicBezTo>
                <a:cubicBezTo>
                  <a:pt x="866925" y="544514"/>
                  <a:pt x="120290" y="538041"/>
                  <a:pt x="19189" y="358359"/>
                </a:cubicBezTo>
                <a:cubicBezTo>
                  <a:pt x="-81912" y="178677"/>
                  <a:pt x="216572" y="-116871"/>
                  <a:pt x="912985" y="98168"/>
                </a:cubicBezTo>
              </a:path>
            </a:pathLst>
          </a:custGeom>
          <a:noFill/>
          <a:ln cap="rnd" w="28575">
            <a:solidFill>
              <a:srgbClr val="e237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38"/>
          <p:cNvSpPr/>
          <p:nvPr/>
        </p:nvSpPr>
        <p:spPr>
          <a:xfrm>
            <a:off x="592200" y="-571680"/>
            <a:ext cx="8019720" cy="672444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>
                <a:lumMod val="75000"/>
                <a:lumOff val="25000"/>
              </a:srgbClr>
            </a:solidFill>
          </a:ln>
          <a:effectLst>
            <a:outerShdw algn="tl" dir="2700000" dist="10131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2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57" name="矩形 2"/>
          <p:cNvSpPr/>
          <p:nvPr/>
        </p:nvSpPr>
        <p:spPr>
          <a:xfrm>
            <a:off x="1263240" y="844200"/>
            <a:ext cx="329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朗朗的父亲郎国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为了郎朗的钢琴事业辞去了公职，一直陪伴郎朗的在国内外求学、比赛、巡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3"/>
          <p:cNvSpPr/>
          <p:nvPr/>
        </p:nvSpPr>
        <p:spPr>
          <a:xfrm>
            <a:off x="1303920" y="4402440"/>
            <a:ext cx="675972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ada7"/>
                </a:solidFill>
                <a:latin typeface="Arial"/>
                <a:ea typeface="微软雅黑"/>
              </a:rPr>
              <a:t>启示三】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这并不是告诉父母一定要为了孩子的未来而辞职，而是父母对于孩子“协同培养”的教育方式可以帮助孩子成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20"/>
          <p:cNvGrpSpPr/>
          <p:nvPr/>
        </p:nvGrpSpPr>
        <p:grpSpPr>
          <a:xfrm>
            <a:off x="4810680" y="390600"/>
            <a:ext cx="2828520" cy="3393000"/>
            <a:chOff x="4810680" y="390600"/>
            <a:chExt cx="2828520" cy="3393000"/>
          </a:xfrm>
        </p:grpSpPr>
        <p:sp>
          <p:nvSpPr>
            <p:cNvPr id="360" name="矩形 21"/>
            <p:cNvSpPr/>
            <p:nvPr/>
          </p:nvSpPr>
          <p:spPr>
            <a:xfrm rot="291000">
              <a:off x="5005080" y="490680"/>
              <a:ext cx="2503440" cy="319284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1" name="矩形 22"/>
            <p:cNvSpPr/>
            <p:nvPr/>
          </p:nvSpPr>
          <p:spPr>
            <a:xfrm rot="132600">
              <a:off x="4931280" y="452880"/>
              <a:ext cx="2503440" cy="319284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62" name="组合 23"/>
            <p:cNvGrpSpPr/>
            <p:nvPr/>
          </p:nvGrpSpPr>
          <p:grpSpPr>
            <a:xfrm>
              <a:off x="4810680" y="395280"/>
              <a:ext cx="2521080" cy="3206880"/>
              <a:chOff x="4810680" y="395280"/>
              <a:chExt cx="2521080" cy="3206880"/>
            </a:xfrm>
          </p:grpSpPr>
          <p:sp>
            <p:nvSpPr>
              <p:cNvPr id="363" name="矩形 24"/>
              <p:cNvSpPr/>
              <p:nvPr/>
            </p:nvSpPr>
            <p:spPr>
              <a:xfrm rot="21580800">
                <a:off x="4819320" y="402120"/>
                <a:ext cx="2503440" cy="3192840"/>
              </a:xfrm>
              <a:prstGeom prst="rect">
                <a:avLst/>
              </a:prstGeom>
              <a:solidFill>
                <a:srgbClr val="ffffff"/>
              </a:solidFill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just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pic>
            <p:nvPicPr>
              <p:cNvPr id="364" name="图片 25" descr="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artisticPaintStrokes/>
                        </a14:imgEffect>
                      </a14:imgLayer>
                    </a14:imgProps>
                  </a:ext>
                </a:extLst>
              </a:blip>
              <a:stretch/>
            </p:blipFill>
            <p:spPr>
              <a:xfrm rot="21565200">
                <a:off x="5710320" y="993960"/>
                <a:ext cx="1306080" cy="20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矩形 26"/>
              <p:cNvSpPr/>
              <p:nvPr/>
            </p:nvSpPr>
            <p:spPr>
              <a:xfrm rot="21561600">
                <a:off x="5301720" y="563400"/>
                <a:ext cx="127836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2e3d55"/>
                    </a:solidFill>
                    <a:latin typeface="Arial"/>
                    <a:ea typeface="微软雅黑"/>
                  </a:rPr>
                  <a:t>钢琴家是如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2e3d55"/>
                    </a:solidFill>
                    <a:latin typeface="Arial"/>
                    <a:ea typeface="微软雅黑"/>
                  </a:rPr>
                  <a:t>炼成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组合 27"/>
              <p:cNvGrpSpPr/>
              <p:nvPr/>
            </p:nvGrpSpPr>
            <p:grpSpPr>
              <a:xfrm>
                <a:off x="5006520" y="1933200"/>
                <a:ext cx="2099160" cy="1462680"/>
                <a:chOff x="5006520" y="1933200"/>
                <a:chExt cx="2099160" cy="1462680"/>
              </a:xfrm>
            </p:grpSpPr>
            <p:cxnSp>
              <p:nvCxnSpPr>
                <p:cNvPr id="367" name="直接连接符 28"/>
                <p:cNvCxnSpPr/>
                <p:nvPr/>
              </p:nvCxnSpPr>
              <p:spPr>
                <a:xfrm flipV="1">
                  <a:off x="5006520" y="1933200"/>
                  <a:ext cx="65556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68" name="直接连接符 29"/>
                <p:cNvCxnSpPr/>
                <p:nvPr/>
              </p:nvCxnSpPr>
              <p:spPr>
                <a:xfrm flipV="1">
                  <a:off x="5010480" y="209376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69" name="直接连接符 30"/>
                <p:cNvCxnSpPr/>
                <p:nvPr/>
              </p:nvCxnSpPr>
              <p:spPr>
                <a:xfrm flipV="1">
                  <a:off x="5014800" y="225432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0" name="直接连接符 31"/>
                <p:cNvCxnSpPr/>
                <p:nvPr/>
              </p:nvCxnSpPr>
              <p:spPr>
                <a:xfrm flipV="1">
                  <a:off x="5018760" y="241488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1" name="直接连接符 32"/>
                <p:cNvCxnSpPr/>
                <p:nvPr/>
              </p:nvCxnSpPr>
              <p:spPr>
                <a:xfrm flipV="1">
                  <a:off x="5023080" y="257580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2" name="直接连接符 33"/>
                <p:cNvCxnSpPr/>
                <p:nvPr/>
              </p:nvCxnSpPr>
              <p:spPr>
                <a:xfrm flipV="1">
                  <a:off x="5027040" y="273636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3" name="直接连接符 34"/>
                <p:cNvCxnSpPr/>
                <p:nvPr/>
              </p:nvCxnSpPr>
              <p:spPr>
                <a:xfrm flipV="1">
                  <a:off x="5031360" y="289692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4" name="直接连接符 35"/>
                <p:cNvCxnSpPr/>
                <p:nvPr/>
              </p:nvCxnSpPr>
              <p:spPr>
                <a:xfrm flipV="1">
                  <a:off x="5035320" y="3057480"/>
                  <a:ext cx="655920" cy="1728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5" name="直接连接符 36"/>
                <p:cNvCxnSpPr/>
                <p:nvPr/>
              </p:nvCxnSpPr>
              <p:spPr>
                <a:xfrm flipV="1">
                  <a:off x="5039640" y="3181680"/>
                  <a:ext cx="2066400" cy="5364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  <p:cxnSp>
              <p:nvCxnSpPr>
                <p:cNvPr id="376" name="直接连接符 37"/>
                <p:cNvCxnSpPr/>
                <p:nvPr/>
              </p:nvCxnSpPr>
              <p:spPr>
                <a:xfrm flipV="1">
                  <a:off x="5043600" y="3342600"/>
                  <a:ext cx="2061360" cy="53640"/>
                </a:xfrm>
                <a:prstGeom prst="straightConnector1">
                  <a:avLst/>
                </a:prstGeom>
                <a:ln w="28575">
                  <a:solidFill>
                    <a:srgbClr val="2e3d55"/>
                  </a:solidFill>
                </a:ln>
              </p:spPr>
            </p:cxnSp>
          </p:grpSp>
        </p:grp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 主题​​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​​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5197</TotalTime>
  <Application>LibreOffice/7.4.7.2$Linux_X86_64 LibreOffice_project/40$Build-2</Application>
  <AppVersion>15.0000</AppVersion>
  <Words>898</Words>
  <Paragraphs>1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13:12:51Z</dcterms:created>
  <dc:creator>王亚赛</dc:creator>
  <dc:description/>
  <dc:language>en-US</dc:language>
  <cp:lastModifiedBy>王玉清</cp:lastModifiedBy>
  <dcterms:modified xsi:type="dcterms:W3CDTF">2016-02-23T02:25:41Z</dcterms:modified>
  <cp:revision>342</cp:revision>
  <dc:subject/>
  <dc:title>《异类》 不一样的成功启示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