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Track02-2.26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7AB-B315-4EA6-B86D-8B3439FDE055}" type="slidenum">
              <a:rPr b="1" lang="zh-TW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E60-8F19-438E-8EAC-FB7216647054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025-3176-48BC-B26A-F5056CF47BA2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CFB-D73B-4E78-9EF6-FAED451480C4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DF7-B933-4DE8-8AE1-C6A29D7F451C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931-CA32-47E3-8741-8F242D76E73D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81E4-1748-444E-9840-894D01F46E2B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549-A697-40A8-8096-BB2F1D3DA93B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3C31-50CC-4B95-B338-9414035D3988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2D8-AEF6-4512-BDE3-36441A47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5DA-72B7-4410-85F7-137F3C8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A7F-05CA-4F22-BB9F-B5C86EFB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56C-32A8-4ABD-9355-B271D460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AE86-1C62-4F12-9BC8-3C07BBF3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DCED-1611-4E5B-9E3C-532EAF46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B2C-B20E-43AA-8C00-559FADD6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BD9-D598-4B16-A96F-BF14F7C6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53B3-3AEB-4E5E-8C9E-E2EEA8C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445C-4A8D-4B04-A3ED-01273CA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C77-9A98-4543-9FFA-2CC5569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15B-278A-4A63-99C7-A4D60E88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36C3-5AB2-4790-B819-8EDFB40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420-09CC-43C9-A070-E73EE45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600-0F22-4CAA-A406-84EFDE5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FA5-EFAB-44F8-9724-7C73F8F1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F46-68AC-4387-94A5-C375B0E9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BD9B-5F4D-4AA7-82B6-C2FC4BA8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2A28-9454-449D-8DFF-975470DE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0FBC-C3CD-44CE-91CA-7DBB97D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8DEF-257E-4902-995F-E714F2F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7D2-20FA-42FA-892C-5B564B00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BC3-8124-4DA9-94A7-E1F0F98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EF97-B01D-465A-9F90-907B15C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37E4-99F8-4125-B1BC-A3B3544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6921-A6E0-41F3-949A-52E26D2C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3150-4CF5-4738-8D32-7A2AD20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AB43-4670-48E9-9532-25EAA1C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B09A-562C-4435-8F84-44D320D2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9DCD-BF54-4B1E-A1EF-9E7BF9D3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A374A-0BB0-4087-96BF-69463A4B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19437-DF0A-4128-8AC5-DF4E48FD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F9C03-6DB9-4F92-9490-96BCE57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FD6-2AA0-44AC-8A19-9DC4375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325F4-DE74-4EA0-B532-BC370B8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41733-75FA-4351-B91A-277A867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63375-EED8-4A40-9F05-50FE12B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F1450-6872-436C-8531-7B28BAD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75AA7-7F23-4105-A587-8809888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47F07-8B37-44BE-9B96-B59626C3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90BF6-EA6D-4319-8DA8-5459CDC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14A40-0EC0-4D1C-BDAA-46C0AC7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28456-BCAF-44DC-947E-63B4A415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7E71-8B65-4341-A0C3-B10AFBA8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3B6-D93C-4555-8F5F-E273CE9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033B-4E13-493B-8C04-00F4108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A0BC-6BD1-4F57-83A6-80677335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196B-3D7D-4540-9A87-1572E32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AEC1-2BFC-4EEC-8629-73F7145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9321-3DF4-4EB6-82C3-5D468A6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25D1-B251-4D12-8DBA-4F1A2CB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B0F9-B922-4D9F-BD67-9BB7C09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8C1F-7481-4734-8B59-914FB71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984C-AC55-4FB0-874E-FB6F6A7C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CF09-EFF7-4F9C-BC8E-27906088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C99-FE7D-4756-93C2-5F51B3E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3BF4-29B0-4245-9438-E2AF095B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9A47-4F23-4CAB-8FFA-7BE5606D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99E1D-4E4D-40C2-AD94-8E3ED098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669E-B8B2-4EE0-B0AF-7BE20E2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ABE4-750B-4308-B1B0-2893411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87B94-662F-4795-8FE4-F2C39869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A0945-AB4B-4998-A436-4CDFD94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3C61-2094-4F6F-9556-3EFC416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64EF-9C7B-48F3-8C74-E6ADE55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48984-32B6-497D-906C-139BED31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6A3-88E5-4933-AD2A-2261F7B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32F27-6AEE-4C18-8C25-C5D395EF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46C7-4D74-4345-AC78-F4B4CE54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D5F0-2B50-4DFF-B200-81A8B6B5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C75-5442-4995-B8D6-BAD6E2C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C29-7535-4B8F-B926-DFE6082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D0D2-D5F0-4701-8E3C-31E3C08BDEA1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986-7FDB-4C96-932B-FD81BBD5E2FB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75A-764D-4176-906F-8B4E882A2B9D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29E9-BC92-41AA-842C-457979595C63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C933-F3BF-4825-9882-C3F61A1D7909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E7DE-162A-4609-A7C5-8E6342859A88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05BC-A16E-4A98-AEE4-AC886D427F19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299D-D1A1-41D7-AE79-A9D08C151526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3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ED9-81BB-46E1-A1A7-BB05F5E3F61D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0D6-E612-4C45-9AB7-D0D80CE2D67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6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7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95C-621C-4623-8630-D030A4CE6699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C91-B6AD-46AD-A539-60B07CFE9B13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" descr="2306605-lg"/>
          <p:cNvPicPr/>
          <p:nvPr/>
        </p:nvPicPr>
        <p:blipFill>
          <a:blip r:embed="rId1"/>
          <a:stretch/>
        </p:blipFill>
        <p:spPr>
          <a:xfrm>
            <a:off x="-23184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友情需要表达通用</a:t>
            </a:r>
            <a:r>
              <a:rPr b="0" lang="en-US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PPT</a:t>
            </a:r>
            <a:r>
              <a:rPr b="0" lang="zh-CN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模板下载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439-21D8-40AA-8EF6-7DB8654503E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284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ABA-19A1-4B3C-98AD-DC238CF37BB0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9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2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293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4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8B9-0AA8-4DD3-94BC-4F30A564C565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01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3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F31-2D4B-46C7-B7D7-BA3A17627A3E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38120" y="6513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advTm="22000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0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2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73D-37B1-4B7E-A66B-D3605A264C1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8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0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74A-1A61-4EE1-881F-74B7D93F78FA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6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421-17B9-4222-8D69-E9C8EBA89755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34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494-7F68-46EF-B361-BC77252644D9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46160" y="64134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43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685800" y="68580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7A6D-EBD1-4361-844D-FBDC149FDB0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Roger@sanshui</dc:creator>
  <dc:description/>
  <dc:language>en-US</dc:language>
  <cp:lastModifiedBy>王玉清</cp:lastModifiedBy>
  <dcterms:modified xsi:type="dcterms:W3CDTF">2016-02-20T04:15:11Z</dcterms:modified>
  <cp:revision>96</cp:revision>
  <dc:subject/>
  <dc:title>友好要说出口</dc:title>
</cp:coreProperties>
</file>