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hdphoto3.wdp" ContentType="image/vnd.ms-photo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hdphoto2.wdp" ContentType="image/vnd.ms-photo"/>
  <Override PartName="/ppt/media/image15.jpeg" ContentType="image/jpeg"/>
  <Override PartName="/ppt/media/image13.jpeg" ContentType="image/jpeg"/>
  <Override PartName="/ppt/media/image12.png" ContentType="image/png"/>
  <Override PartName="/ppt/media/image1.png" ContentType="image/png"/>
  <Override PartName="/ppt/media/image16.png" ContentType="image/png"/>
  <Override PartName="/ppt/media/hdphoto1.wdp" ContentType="image/vnd.ms-photo"/>
  <Override PartName="/ppt/media/image8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solidFill>
              <a:srgbClr val="ffffff">
                <a:lumMod val="50000"/>
              </a:srgbClr>
            </a:solidFill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microsoft.com/office/2007/relationships/hdphoto" Target="../media/hdphoto3.wdp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microsoft.com/office/2007/relationships/hdphoto" Target="../media/hdphoto2.wdp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4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ntrast="-20000"/>
                    </a14:imgEffect>
                  </a14:imgLayer>
                </a14:imgProps>
              </a:ext>
            </a:extLst>
          </a:blip>
          <a:stretch/>
        </p:blipFill>
        <p:spPr>
          <a:xfrm flipH="1" rot="10800000">
            <a:off x="3998160" y="14400"/>
            <a:ext cx="4319640" cy="2879640"/>
          </a:xfrm>
          <a:prstGeom prst="rect">
            <a:avLst/>
          </a:prstGeom>
          <a:ln w="0">
            <a:noFill/>
          </a:ln>
        </p:spPr>
      </p:pic>
      <p:sp>
        <p:nvSpPr>
          <p:cNvPr id="40" name="文本框 3"/>
          <p:cNvSpPr/>
          <p:nvPr/>
        </p:nvSpPr>
        <p:spPr>
          <a:xfrm>
            <a:off x="1400760" y="3406680"/>
            <a:ext cx="9132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优秀个人的年终总结通用</a:t>
            </a: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文本框 4"/>
          <p:cNvSpPr/>
          <p:nvPr/>
        </p:nvSpPr>
        <p:spPr>
          <a:xfrm>
            <a:off x="5538960" y="4904280"/>
            <a:ext cx="12924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 algn="ctr">
              <a:lnSpc>
                <a:spcPct val="15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等线"/>
              </a:rPr>
              <a:t>姓名</a:t>
            </a:r>
            <a:r>
              <a:rPr b="0" lang="en-US" sz="1600" spc="-1" strike="noStrike">
                <a:solidFill>
                  <a:srgbClr val="404040"/>
                </a:solidFill>
                <a:latin typeface="等线"/>
              </a:rPr>
              <a:t>——</a:t>
            </a:r>
            <a:r>
              <a:rPr b="0" lang="en-US" sz="1600" spc="-1" strike="noStrike">
                <a:solidFill>
                  <a:srgbClr val="404040"/>
                </a:solidFill>
                <a:latin typeface="等线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等线"/>
              </a:rPr>
              <a:t>职位——</a:t>
            </a:r>
            <a:r>
              <a:rPr b="0" lang="en-US" sz="1600" spc="-1" strike="noStrike">
                <a:solidFill>
                  <a:srgbClr val="404040"/>
                </a:solidFill>
                <a:latin typeface="等线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600" spc="-1" strike="noStrike">
                <a:solidFill>
                  <a:srgbClr val="404040"/>
                </a:solidFill>
                <a:latin typeface="等线"/>
              </a:rPr>
              <a:t>部门——</a:t>
            </a:r>
            <a:r>
              <a:rPr b="0" lang="en-US" sz="1600" spc="-1" strike="noStrike">
                <a:solidFill>
                  <a:srgbClr val="404040"/>
                </a:solidFill>
                <a:latin typeface="等线"/>
              </a:rPr>
              <a:t>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5147640" y="2412720"/>
            <a:ext cx="19231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ea654"/>
                </a:solidFill>
                <a:latin typeface="华文细黑"/>
                <a:ea typeface="华文细黑"/>
              </a:rPr>
              <a:t>20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10"/>
          <p:cNvCxnSpPr/>
          <p:nvPr/>
        </p:nvCxnSpPr>
        <p:spPr>
          <a:xfrm>
            <a:off x="5640120" y="6513840"/>
            <a:ext cx="923760" cy="360"/>
          </a:xfrm>
          <a:prstGeom prst="straightConnector1">
            <a:avLst/>
          </a:prstGeom>
          <a:ln w="38100">
            <a:solidFill>
              <a:srgbClr val="dea654"/>
            </a:solidFill>
          </a:ln>
        </p:spPr>
      </p:cxnSp>
      <p:sp>
        <p:nvSpPr>
          <p:cNvPr id="44" name="文本框 17"/>
          <p:cNvSpPr/>
          <p:nvPr/>
        </p:nvSpPr>
        <p:spPr>
          <a:xfrm>
            <a:off x="5648760" y="6547320"/>
            <a:ext cx="902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808080"/>
                </a:solidFill>
                <a:latin typeface="华文细黑"/>
                <a:ea typeface="华文细黑"/>
              </a:rPr>
              <a:t>2015.11.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0"/>
          <p:cNvGrpSpPr/>
          <p:nvPr/>
        </p:nvGrpSpPr>
        <p:grpSpPr>
          <a:xfrm>
            <a:off x="1582920" y="5610600"/>
            <a:ext cx="3287160" cy="681120"/>
            <a:chOff x="1582920" y="5610600"/>
            <a:chExt cx="3287160" cy="681120"/>
          </a:xfrm>
        </p:grpSpPr>
        <p:pic>
          <p:nvPicPr>
            <p:cNvPr id="46" name="图片 15" descr=""/>
            <p:cNvPicPr/>
            <p:nvPr/>
          </p:nvPicPr>
          <p:blipFill>
            <a:blip r:embed="rId3"/>
            <a:srcRect l="0" t="0" r="0" b="21216"/>
            <a:stretch/>
          </p:blipFill>
          <p:spPr>
            <a:xfrm flipH="1">
              <a:off x="3430440" y="5610600"/>
              <a:ext cx="1439640" cy="67572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47" name="图片 18" descr=""/>
            <p:cNvPicPr/>
            <p:nvPr/>
          </p:nvPicPr>
          <p:blipFill>
            <a:blip r:embed="rId4"/>
            <a:srcRect l="0" t="0" r="0" b="21216"/>
            <a:stretch/>
          </p:blipFill>
          <p:spPr>
            <a:xfrm>
              <a:off x="1582920" y="5616000"/>
              <a:ext cx="1439640" cy="67572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48" name="组合 21"/>
          <p:cNvGrpSpPr/>
          <p:nvPr/>
        </p:nvGrpSpPr>
        <p:grpSpPr>
          <a:xfrm>
            <a:off x="7504560" y="5610600"/>
            <a:ext cx="3287520" cy="681120"/>
            <a:chOff x="7504560" y="5610600"/>
            <a:chExt cx="3287520" cy="681120"/>
          </a:xfrm>
        </p:grpSpPr>
        <p:pic>
          <p:nvPicPr>
            <p:cNvPr id="49" name="图片 22" descr=""/>
            <p:cNvPicPr/>
            <p:nvPr/>
          </p:nvPicPr>
          <p:blipFill>
            <a:blip r:embed="rId5"/>
            <a:srcRect l="0" t="0" r="0" b="21216"/>
            <a:stretch/>
          </p:blipFill>
          <p:spPr>
            <a:xfrm flipH="1">
              <a:off x="9352440" y="5610600"/>
              <a:ext cx="1439640" cy="67572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  <p:pic>
          <p:nvPicPr>
            <p:cNvPr id="50" name="图片 23" descr=""/>
            <p:cNvPicPr/>
            <p:nvPr/>
          </p:nvPicPr>
          <p:blipFill>
            <a:blip r:embed="rId6"/>
            <a:srcRect l="0" t="0" r="0" b="21216"/>
            <a:stretch/>
          </p:blipFill>
          <p:spPr>
            <a:xfrm>
              <a:off x="7504560" y="5616000"/>
              <a:ext cx="1439640" cy="675720"/>
            </a:xfrm>
            <a:prstGeom prst="rect">
              <a:avLst/>
            </a:prstGeom>
            <a:ln w="0"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</p:pic>
      </p:grpSp>
      <p:cxnSp>
        <p:nvCxnSpPr>
          <p:cNvPr id="51" name="直接连接符 26"/>
          <p:cNvCxnSpPr/>
          <p:nvPr/>
        </p:nvCxnSpPr>
        <p:spPr>
          <a:xfrm>
            <a:off x="1270080" y="2920320"/>
            <a:ext cx="3600360" cy="360"/>
          </a:xfrm>
          <a:prstGeom prst="straightConnector1">
            <a:avLst/>
          </a:prstGeom>
          <a:ln>
            <a:solidFill>
              <a:srgbClr val="dea654"/>
            </a:solidFill>
            <a:tailEnd len="med" type="oval" w="med"/>
          </a:ln>
        </p:spPr>
      </p:cxnSp>
      <p:cxnSp>
        <p:nvCxnSpPr>
          <p:cNvPr id="52" name="直接连接符 27"/>
          <p:cNvCxnSpPr/>
          <p:nvPr/>
        </p:nvCxnSpPr>
        <p:spPr>
          <a:xfrm>
            <a:off x="7348320" y="2920320"/>
            <a:ext cx="3600360" cy="360"/>
          </a:xfrm>
          <a:prstGeom prst="straightConnector1">
            <a:avLst/>
          </a:prstGeom>
          <a:ln>
            <a:solidFill>
              <a:srgbClr val="dea654"/>
            </a:solidFill>
            <a:headEnd len="med" type="oval" w="med"/>
          </a:ln>
        </p:spPr>
      </p:cxnSp>
      <p:sp>
        <p:nvSpPr>
          <p:cNvPr id="5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4310640" y="1149120"/>
            <a:ext cx="3599640" cy="239796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2"/>
          <p:cNvSpPr/>
          <p:nvPr/>
        </p:nvSpPr>
        <p:spPr>
          <a:xfrm>
            <a:off x="5044320" y="354708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对行业趋势的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"/>
          <p:cNvSpPr/>
          <p:nvPr/>
        </p:nvSpPr>
        <p:spPr>
          <a:xfrm>
            <a:off x="4724280" y="4517640"/>
            <a:ext cx="27720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把握行业的新动态，掌握行业的新思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坚信行业的主流趋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0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759120" y="1734120"/>
            <a:ext cx="4679640" cy="259560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3"/>
          <p:cNvSpPr/>
          <p:nvPr/>
        </p:nvSpPr>
        <p:spPr>
          <a:xfrm>
            <a:off x="4342320" y="829800"/>
            <a:ext cx="3512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对个人工作的深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3932280" y="416880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成功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5"/>
          <p:cNvSpPr/>
          <p:nvPr/>
        </p:nvSpPr>
        <p:spPr>
          <a:xfrm>
            <a:off x="5710320" y="416880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失败教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6"/>
          <p:cNvSpPr/>
          <p:nvPr/>
        </p:nvSpPr>
        <p:spPr>
          <a:xfrm>
            <a:off x="7488360" y="4168800"/>
            <a:ext cx="7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自我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1"/>
          <p:cNvGrpSpPr/>
          <p:nvPr/>
        </p:nvGrpSpPr>
        <p:grpSpPr>
          <a:xfrm>
            <a:off x="3935880" y="4969440"/>
            <a:ext cx="4319640" cy="959760"/>
            <a:chOff x="3935880" y="4969440"/>
            <a:chExt cx="4319640" cy="959760"/>
          </a:xfrm>
        </p:grpSpPr>
        <p:sp>
          <p:nvSpPr>
            <p:cNvPr id="152" name="文本框 7"/>
            <p:cNvSpPr/>
            <p:nvPr/>
          </p:nvSpPr>
          <p:spPr>
            <a:xfrm>
              <a:off x="4191840" y="4969440"/>
              <a:ext cx="3785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将成功的经验转化为工作模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将失败的教训转化为纠错案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将自我的反思转化为进步动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双括号 8"/>
            <p:cNvSpPr/>
            <p:nvPr/>
          </p:nvSpPr>
          <p:spPr>
            <a:xfrm>
              <a:off x="3935880" y="4969440"/>
              <a:ext cx="4319640" cy="959760"/>
            </a:xfrm>
            <a:prstGeom prst="bracketPair">
              <a:avLst>
                <a:gd name="adj" fmla="val 8265"/>
              </a:avLst>
            </a:prstGeom>
            <a:noFill/>
            <a:ln>
              <a:solidFill>
                <a:srgbClr val="ffffff">
                  <a:lumMod val="50000"/>
                </a:srgbClr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ntrast="-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812760" y="3794400"/>
            <a:ext cx="4595040" cy="306324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3"/>
          <p:cNvSpPr/>
          <p:nvPr/>
        </p:nvSpPr>
        <p:spPr>
          <a:xfrm>
            <a:off x="2779560" y="24530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808080"/>
                </a:solidFill>
                <a:latin typeface="等线"/>
              </a:rPr>
              <a:t>回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4"/>
          <p:cNvSpPr/>
          <p:nvPr/>
        </p:nvSpPr>
        <p:spPr>
          <a:xfrm>
            <a:off x="5652000" y="24530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808080"/>
                </a:solidFill>
                <a:latin typeface="等线"/>
              </a:rPr>
              <a:t>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5"/>
          <p:cNvSpPr/>
          <p:nvPr/>
        </p:nvSpPr>
        <p:spPr>
          <a:xfrm>
            <a:off x="8524440" y="24530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dea654"/>
                </a:solidFill>
                <a:latin typeface="等线"/>
              </a:rPr>
              <a:t>展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966040" y="11880"/>
            <a:ext cx="539640" cy="23511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7" descr=""/>
          <p:cNvPicPr/>
          <p:nvPr/>
        </p:nvPicPr>
        <p:blipFill>
          <a:blip r:embed="rId3">
            <a:lum bright="70000" contrast="-70000"/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825880" y="11880"/>
            <a:ext cx="539640" cy="235116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8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8685720" y="11880"/>
            <a:ext cx="539640" cy="235116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9"/>
          <p:cNvSpPr/>
          <p:nvPr/>
        </p:nvSpPr>
        <p:spPr>
          <a:xfrm>
            <a:off x="5515200" y="3794400"/>
            <a:ext cx="119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等线"/>
              </a:rPr>
              <a:t>……</a:t>
            </a:r>
            <a:r>
              <a:rPr b="0" lang="zh-CN" sz="1800" spc="-1" strike="noStrike">
                <a:solidFill>
                  <a:srgbClr val="808080"/>
                </a:solidFill>
                <a:latin typeface="等线"/>
              </a:rPr>
              <a:t>一年以来的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0"/>
          <p:cNvSpPr/>
          <p:nvPr/>
        </p:nvSpPr>
        <p:spPr>
          <a:xfrm>
            <a:off x="3008160" y="32839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1"/>
          <p:cNvSpPr/>
          <p:nvPr/>
        </p:nvSpPr>
        <p:spPr>
          <a:xfrm>
            <a:off x="5880600" y="324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2"/>
          <p:cNvSpPr/>
          <p:nvPr/>
        </p:nvSpPr>
        <p:spPr>
          <a:xfrm>
            <a:off x="8753040" y="324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未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1" descr=""/>
          <p:cNvPicPr/>
          <p:nvPr/>
        </p:nvPicPr>
        <p:blipFill>
          <a:blip r:embed="rId1"/>
          <a:srcRect l="0" t="210" r="45163" b="0"/>
          <a:stretch/>
        </p:blipFill>
        <p:spPr>
          <a:xfrm>
            <a:off x="1976040" y="29160"/>
            <a:ext cx="4119480" cy="684324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2"/>
          <p:cNvSpPr/>
          <p:nvPr/>
        </p:nvSpPr>
        <p:spPr>
          <a:xfrm>
            <a:off x="7261920" y="4231440"/>
            <a:ext cx="237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展望个人工作的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"/>
          <p:cNvSpPr/>
          <p:nvPr/>
        </p:nvSpPr>
        <p:spPr>
          <a:xfrm>
            <a:off x="6510960" y="4961160"/>
            <a:ext cx="38775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升值加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团队扩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业务转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地域调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10600" y="63212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ntrast="-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812760" y="3794400"/>
            <a:ext cx="4595040" cy="306324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3"/>
          <p:cNvSpPr/>
          <p:nvPr/>
        </p:nvSpPr>
        <p:spPr>
          <a:xfrm>
            <a:off x="2779560" y="24530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dea654"/>
                </a:solidFill>
                <a:latin typeface="等线"/>
              </a:rPr>
              <a:t>回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5652000" y="24530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808080"/>
                </a:solidFill>
                <a:latin typeface="等线"/>
              </a:rPr>
              <a:t>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"/>
          <p:cNvSpPr/>
          <p:nvPr/>
        </p:nvSpPr>
        <p:spPr>
          <a:xfrm>
            <a:off x="8524440" y="24530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808080"/>
                </a:solidFill>
                <a:latin typeface="等线"/>
              </a:rPr>
              <a:t>展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6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2966040" y="11880"/>
            <a:ext cx="539640" cy="23511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5825880" y="11880"/>
            <a:ext cx="539640" cy="2351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8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8685720" y="11880"/>
            <a:ext cx="539640" cy="235116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9"/>
          <p:cNvSpPr/>
          <p:nvPr/>
        </p:nvSpPr>
        <p:spPr>
          <a:xfrm>
            <a:off x="5515200" y="3794400"/>
            <a:ext cx="119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等线"/>
              </a:rPr>
              <a:t>……</a:t>
            </a:r>
            <a:r>
              <a:rPr b="0" lang="zh-CN" sz="1800" spc="-1" strike="noStrike">
                <a:solidFill>
                  <a:srgbClr val="808080"/>
                </a:solidFill>
                <a:latin typeface="等线"/>
              </a:rPr>
              <a:t>一年以来的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0"/>
          <p:cNvSpPr/>
          <p:nvPr/>
        </p:nvSpPr>
        <p:spPr>
          <a:xfrm>
            <a:off x="3008160" y="32839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1"/>
          <p:cNvSpPr/>
          <p:nvPr/>
        </p:nvSpPr>
        <p:spPr>
          <a:xfrm>
            <a:off x="5880600" y="324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2"/>
          <p:cNvSpPr/>
          <p:nvPr/>
        </p:nvSpPr>
        <p:spPr>
          <a:xfrm>
            <a:off x="8753040" y="324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未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组合 31"/>
          <p:cNvGrpSpPr/>
          <p:nvPr/>
        </p:nvGrpSpPr>
        <p:grpSpPr>
          <a:xfrm>
            <a:off x="687600" y="473400"/>
            <a:ext cx="1799640" cy="2519640"/>
            <a:chOff x="687600" y="473400"/>
            <a:chExt cx="1799640" cy="2519640"/>
          </a:xfrm>
        </p:grpSpPr>
        <p:sp>
          <p:nvSpPr>
            <p:cNvPr id="66" name="任意多边形 27"/>
            <p:cNvSpPr/>
            <p:nvPr/>
          </p:nvSpPr>
          <p:spPr>
            <a:xfrm>
              <a:off x="687600" y="473400"/>
              <a:ext cx="1799640" cy="233964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2339640"/>
                <a:gd name="textAreaBottom" fmla="*/ 2340000 h 2339640"/>
              </a:gdLst>
              <a:ahLst/>
              <a:rect l="textAreaLeft" t="textAreaTop" r="textAreaRight" b="textAreaBottom"/>
              <a:pathLst>
                <a:path w="1800000" h="2340000">
                  <a:moveTo>
                    <a:pt x="188535" y="2340000"/>
                  </a:moveTo>
                  <a:lnTo>
                    <a:pt x="140346" y="2340000"/>
                  </a:lnTo>
                  <a:cubicBezTo>
                    <a:pt x="62835" y="2340000"/>
                    <a:pt x="0" y="2277165"/>
                    <a:pt x="0" y="2199654"/>
                  </a:cubicBezTo>
                  <a:lnTo>
                    <a:pt x="0" y="140346"/>
                  </a:lnTo>
                  <a:cubicBezTo>
                    <a:pt x="0" y="62835"/>
                    <a:pt x="62835" y="0"/>
                    <a:pt x="140346" y="0"/>
                  </a:cubicBezTo>
                  <a:lnTo>
                    <a:pt x="1659654" y="0"/>
                  </a:lnTo>
                  <a:cubicBezTo>
                    <a:pt x="1737165" y="0"/>
                    <a:pt x="1800000" y="62835"/>
                    <a:pt x="1800000" y="140346"/>
                  </a:cubicBezTo>
                  <a:lnTo>
                    <a:pt x="1800000" y="2199654"/>
                  </a:lnTo>
                  <a:cubicBezTo>
                    <a:pt x="1800000" y="2277165"/>
                    <a:pt x="1737165" y="2340000"/>
                    <a:pt x="1659654" y="2340000"/>
                  </a:cubicBezTo>
                  <a:lnTo>
                    <a:pt x="1628535" y="2340000"/>
                  </a:lnTo>
                </a:path>
              </a:pathLst>
            </a:custGeom>
            <a:noFill/>
            <a:ln>
              <a:solidFill>
                <a:srgbClr val="e7e6e6"/>
              </a:solidFill>
              <a:headEnd len="med" type="oval" w="med"/>
              <a:tailEnd len="med" type="oval" w="med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cxnSp>
          <p:nvCxnSpPr>
            <p:cNvPr id="67" name="直接连接符 29"/>
            <p:cNvCxnSpPr/>
            <p:nvPr/>
          </p:nvCxnSpPr>
          <p:spPr>
            <a:xfrm>
              <a:off x="88776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  <p:cxnSp>
          <p:nvCxnSpPr>
            <p:cNvPr id="68" name="直接连接符 30"/>
            <p:cNvCxnSpPr/>
            <p:nvPr/>
          </p:nvCxnSpPr>
          <p:spPr>
            <a:xfrm>
              <a:off x="231300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</p:grpSp>
      <p:grpSp>
        <p:nvGrpSpPr>
          <p:cNvPr id="69" name="组合 32"/>
          <p:cNvGrpSpPr/>
          <p:nvPr/>
        </p:nvGrpSpPr>
        <p:grpSpPr>
          <a:xfrm>
            <a:off x="2990880" y="473400"/>
            <a:ext cx="1799640" cy="2519640"/>
            <a:chOff x="2990880" y="473400"/>
            <a:chExt cx="1799640" cy="2519640"/>
          </a:xfrm>
        </p:grpSpPr>
        <p:sp>
          <p:nvSpPr>
            <p:cNvPr id="70" name="任意多边形 33"/>
            <p:cNvSpPr/>
            <p:nvPr/>
          </p:nvSpPr>
          <p:spPr>
            <a:xfrm>
              <a:off x="2990880" y="473400"/>
              <a:ext cx="1799640" cy="233964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2339640"/>
                <a:gd name="textAreaBottom" fmla="*/ 2340000 h 2339640"/>
              </a:gdLst>
              <a:ahLst/>
              <a:rect l="textAreaLeft" t="textAreaTop" r="textAreaRight" b="textAreaBottom"/>
              <a:pathLst>
                <a:path w="1800000" h="2340000">
                  <a:moveTo>
                    <a:pt x="188535" y="2340000"/>
                  </a:moveTo>
                  <a:lnTo>
                    <a:pt x="140346" y="2340000"/>
                  </a:lnTo>
                  <a:cubicBezTo>
                    <a:pt x="62835" y="2340000"/>
                    <a:pt x="0" y="2277165"/>
                    <a:pt x="0" y="2199654"/>
                  </a:cubicBezTo>
                  <a:lnTo>
                    <a:pt x="0" y="140346"/>
                  </a:lnTo>
                  <a:cubicBezTo>
                    <a:pt x="0" y="62835"/>
                    <a:pt x="62835" y="0"/>
                    <a:pt x="140346" y="0"/>
                  </a:cubicBezTo>
                  <a:lnTo>
                    <a:pt x="1659654" y="0"/>
                  </a:lnTo>
                  <a:cubicBezTo>
                    <a:pt x="1737165" y="0"/>
                    <a:pt x="1800000" y="62835"/>
                    <a:pt x="1800000" y="140346"/>
                  </a:cubicBezTo>
                  <a:lnTo>
                    <a:pt x="1800000" y="2199654"/>
                  </a:lnTo>
                  <a:cubicBezTo>
                    <a:pt x="1800000" y="2277165"/>
                    <a:pt x="1737165" y="2340000"/>
                    <a:pt x="1659654" y="2340000"/>
                  </a:cubicBezTo>
                  <a:lnTo>
                    <a:pt x="1628535" y="2340000"/>
                  </a:lnTo>
                </a:path>
              </a:pathLst>
            </a:custGeom>
            <a:noFill/>
            <a:ln>
              <a:solidFill>
                <a:srgbClr val="e7e6e6"/>
              </a:solidFill>
              <a:headEnd len="med" type="oval" w="med"/>
              <a:tailEnd len="med" type="oval" w="med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cxnSp>
          <p:nvCxnSpPr>
            <p:cNvPr id="71" name="直接连接符 34"/>
            <p:cNvCxnSpPr/>
            <p:nvPr/>
          </p:nvCxnSpPr>
          <p:spPr>
            <a:xfrm>
              <a:off x="319140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  <p:cxnSp>
          <p:nvCxnSpPr>
            <p:cNvPr id="72" name="直接连接符 35"/>
            <p:cNvCxnSpPr/>
            <p:nvPr/>
          </p:nvCxnSpPr>
          <p:spPr>
            <a:xfrm>
              <a:off x="461664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</p:grpSp>
      <p:grpSp>
        <p:nvGrpSpPr>
          <p:cNvPr id="73" name="组合 36"/>
          <p:cNvGrpSpPr/>
          <p:nvPr/>
        </p:nvGrpSpPr>
        <p:grpSpPr>
          <a:xfrm>
            <a:off x="5202720" y="473400"/>
            <a:ext cx="1799640" cy="2519640"/>
            <a:chOff x="5202720" y="473400"/>
            <a:chExt cx="1799640" cy="2519640"/>
          </a:xfrm>
        </p:grpSpPr>
        <p:sp>
          <p:nvSpPr>
            <p:cNvPr id="74" name="任意多边形 37"/>
            <p:cNvSpPr/>
            <p:nvPr/>
          </p:nvSpPr>
          <p:spPr>
            <a:xfrm>
              <a:off x="5202720" y="473400"/>
              <a:ext cx="1799640" cy="233964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2339640"/>
                <a:gd name="textAreaBottom" fmla="*/ 2340000 h 2339640"/>
              </a:gdLst>
              <a:ahLst/>
              <a:rect l="textAreaLeft" t="textAreaTop" r="textAreaRight" b="textAreaBottom"/>
              <a:pathLst>
                <a:path w="1800000" h="2340000">
                  <a:moveTo>
                    <a:pt x="188535" y="2340000"/>
                  </a:moveTo>
                  <a:lnTo>
                    <a:pt x="140346" y="2340000"/>
                  </a:lnTo>
                  <a:cubicBezTo>
                    <a:pt x="62835" y="2340000"/>
                    <a:pt x="0" y="2277165"/>
                    <a:pt x="0" y="2199654"/>
                  </a:cubicBezTo>
                  <a:lnTo>
                    <a:pt x="0" y="140346"/>
                  </a:lnTo>
                  <a:cubicBezTo>
                    <a:pt x="0" y="62835"/>
                    <a:pt x="62835" y="0"/>
                    <a:pt x="140346" y="0"/>
                  </a:cubicBezTo>
                  <a:lnTo>
                    <a:pt x="1659654" y="0"/>
                  </a:lnTo>
                  <a:cubicBezTo>
                    <a:pt x="1737165" y="0"/>
                    <a:pt x="1800000" y="62835"/>
                    <a:pt x="1800000" y="140346"/>
                  </a:cubicBezTo>
                  <a:lnTo>
                    <a:pt x="1800000" y="2199654"/>
                  </a:lnTo>
                  <a:cubicBezTo>
                    <a:pt x="1800000" y="2277165"/>
                    <a:pt x="1737165" y="2340000"/>
                    <a:pt x="1659654" y="2340000"/>
                  </a:cubicBezTo>
                  <a:lnTo>
                    <a:pt x="1628535" y="2340000"/>
                  </a:lnTo>
                </a:path>
              </a:pathLst>
            </a:custGeom>
            <a:noFill/>
            <a:ln>
              <a:solidFill>
                <a:srgbClr val="e7e6e6"/>
              </a:solidFill>
              <a:headEnd len="med" type="oval" w="med"/>
              <a:tailEnd len="med" type="oval" w="med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cxnSp>
          <p:nvCxnSpPr>
            <p:cNvPr id="75" name="直接连接符 38"/>
            <p:cNvCxnSpPr/>
            <p:nvPr/>
          </p:nvCxnSpPr>
          <p:spPr>
            <a:xfrm>
              <a:off x="540324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  <p:cxnSp>
          <p:nvCxnSpPr>
            <p:cNvPr id="76" name="直接连接符 39"/>
            <p:cNvCxnSpPr/>
            <p:nvPr/>
          </p:nvCxnSpPr>
          <p:spPr>
            <a:xfrm>
              <a:off x="682812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</p:grpSp>
      <p:grpSp>
        <p:nvGrpSpPr>
          <p:cNvPr id="77" name="组合 40"/>
          <p:cNvGrpSpPr/>
          <p:nvPr/>
        </p:nvGrpSpPr>
        <p:grpSpPr>
          <a:xfrm>
            <a:off x="7473600" y="473400"/>
            <a:ext cx="1799640" cy="2519640"/>
            <a:chOff x="7473600" y="473400"/>
            <a:chExt cx="1799640" cy="2519640"/>
          </a:xfrm>
        </p:grpSpPr>
        <p:sp>
          <p:nvSpPr>
            <p:cNvPr id="78" name="任意多边形 41"/>
            <p:cNvSpPr/>
            <p:nvPr/>
          </p:nvSpPr>
          <p:spPr>
            <a:xfrm>
              <a:off x="7473600" y="473400"/>
              <a:ext cx="1799640" cy="233964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2339640"/>
                <a:gd name="textAreaBottom" fmla="*/ 2340000 h 2339640"/>
              </a:gdLst>
              <a:ahLst/>
              <a:rect l="textAreaLeft" t="textAreaTop" r="textAreaRight" b="textAreaBottom"/>
              <a:pathLst>
                <a:path w="1800000" h="2340000">
                  <a:moveTo>
                    <a:pt x="188535" y="2340000"/>
                  </a:moveTo>
                  <a:lnTo>
                    <a:pt x="140346" y="2340000"/>
                  </a:lnTo>
                  <a:cubicBezTo>
                    <a:pt x="62835" y="2340000"/>
                    <a:pt x="0" y="2277165"/>
                    <a:pt x="0" y="2199654"/>
                  </a:cubicBezTo>
                  <a:lnTo>
                    <a:pt x="0" y="140346"/>
                  </a:lnTo>
                  <a:cubicBezTo>
                    <a:pt x="0" y="62835"/>
                    <a:pt x="62835" y="0"/>
                    <a:pt x="140346" y="0"/>
                  </a:cubicBezTo>
                  <a:lnTo>
                    <a:pt x="1659654" y="0"/>
                  </a:lnTo>
                  <a:cubicBezTo>
                    <a:pt x="1737165" y="0"/>
                    <a:pt x="1800000" y="62835"/>
                    <a:pt x="1800000" y="140346"/>
                  </a:cubicBezTo>
                  <a:lnTo>
                    <a:pt x="1800000" y="2199654"/>
                  </a:lnTo>
                  <a:cubicBezTo>
                    <a:pt x="1800000" y="2277165"/>
                    <a:pt x="1737165" y="2340000"/>
                    <a:pt x="1659654" y="2340000"/>
                  </a:cubicBezTo>
                  <a:lnTo>
                    <a:pt x="1628535" y="2340000"/>
                  </a:lnTo>
                </a:path>
              </a:pathLst>
            </a:custGeom>
            <a:noFill/>
            <a:ln>
              <a:solidFill>
                <a:srgbClr val="e7e6e6"/>
              </a:solidFill>
              <a:headEnd len="med" type="oval" w="med"/>
              <a:tailEnd len="med" type="oval" w="med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cxnSp>
          <p:nvCxnSpPr>
            <p:cNvPr id="79" name="直接连接符 42"/>
            <p:cNvCxnSpPr/>
            <p:nvPr/>
          </p:nvCxnSpPr>
          <p:spPr>
            <a:xfrm>
              <a:off x="767412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  <p:cxnSp>
          <p:nvCxnSpPr>
            <p:cNvPr id="80" name="直接连接符 43"/>
            <p:cNvCxnSpPr/>
            <p:nvPr/>
          </p:nvCxnSpPr>
          <p:spPr>
            <a:xfrm>
              <a:off x="909936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</p:grpSp>
      <p:grpSp>
        <p:nvGrpSpPr>
          <p:cNvPr id="81" name="组合 44"/>
          <p:cNvGrpSpPr/>
          <p:nvPr/>
        </p:nvGrpSpPr>
        <p:grpSpPr>
          <a:xfrm>
            <a:off x="9754560" y="473400"/>
            <a:ext cx="1799640" cy="2519640"/>
            <a:chOff x="9754560" y="473400"/>
            <a:chExt cx="1799640" cy="2519640"/>
          </a:xfrm>
        </p:grpSpPr>
        <p:sp>
          <p:nvSpPr>
            <p:cNvPr id="82" name="任意多边形 45"/>
            <p:cNvSpPr/>
            <p:nvPr/>
          </p:nvSpPr>
          <p:spPr>
            <a:xfrm>
              <a:off x="9754560" y="473400"/>
              <a:ext cx="1799640" cy="2339640"/>
            </a:xfrm>
            <a:custGeom>
              <a:avLst/>
              <a:gdLst>
                <a:gd name="textAreaLeft" fmla="*/ 0 w 1799640"/>
                <a:gd name="textAreaRight" fmla="*/ 1800000 w 1799640"/>
                <a:gd name="textAreaTop" fmla="*/ 0 h 2339640"/>
                <a:gd name="textAreaBottom" fmla="*/ 2340000 h 2339640"/>
              </a:gdLst>
              <a:ahLst/>
              <a:rect l="textAreaLeft" t="textAreaTop" r="textAreaRight" b="textAreaBottom"/>
              <a:pathLst>
                <a:path w="1800000" h="2340000">
                  <a:moveTo>
                    <a:pt x="188535" y="2340000"/>
                  </a:moveTo>
                  <a:lnTo>
                    <a:pt x="140346" y="2340000"/>
                  </a:lnTo>
                  <a:cubicBezTo>
                    <a:pt x="62835" y="2340000"/>
                    <a:pt x="0" y="2277165"/>
                    <a:pt x="0" y="2199654"/>
                  </a:cubicBezTo>
                  <a:lnTo>
                    <a:pt x="0" y="140346"/>
                  </a:lnTo>
                  <a:cubicBezTo>
                    <a:pt x="0" y="62835"/>
                    <a:pt x="62835" y="0"/>
                    <a:pt x="140346" y="0"/>
                  </a:cubicBezTo>
                  <a:lnTo>
                    <a:pt x="1659654" y="0"/>
                  </a:lnTo>
                  <a:cubicBezTo>
                    <a:pt x="1737165" y="0"/>
                    <a:pt x="1800000" y="62835"/>
                    <a:pt x="1800000" y="140346"/>
                  </a:cubicBezTo>
                  <a:lnTo>
                    <a:pt x="1800000" y="2199654"/>
                  </a:lnTo>
                  <a:cubicBezTo>
                    <a:pt x="1800000" y="2277165"/>
                    <a:pt x="1737165" y="2340000"/>
                    <a:pt x="1659654" y="2340000"/>
                  </a:cubicBezTo>
                  <a:lnTo>
                    <a:pt x="1628535" y="2340000"/>
                  </a:lnTo>
                </a:path>
              </a:pathLst>
            </a:custGeom>
            <a:noFill/>
            <a:ln>
              <a:solidFill>
                <a:srgbClr val="e7e6e6"/>
              </a:solidFill>
              <a:headEnd len="med" type="oval" w="med"/>
              <a:tailEnd len="med" type="oval" w="med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</a:endParaRPr>
            </a:p>
          </p:txBody>
        </p:sp>
        <p:cxnSp>
          <p:nvCxnSpPr>
            <p:cNvPr id="83" name="直接连接符 46"/>
            <p:cNvCxnSpPr/>
            <p:nvPr/>
          </p:nvCxnSpPr>
          <p:spPr>
            <a:xfrm>
              <a:off x="995508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  <p:cxnSp>
          <p:nvCxnSpPr>
            <p:cNvPr id="84" name="直接连接符 47"/>
            <p:cNvCxnSpPr/>
            <p:nvPr/>
          </p:nvCxnSpPr>
          <p:spPr>
            <a:xfrm>
              <a:off x="11379960" y="2633040"/>
              <a:ext cx="360" cy="360360"/>
            </a:xfrm>
            <a:prstGeom prst="straightConnector1">
              <a:avLst/>
            </a:prstGeom>
            <a:ln>
              <a:solidFill>
                <a:srgbClr val="e7e6e6"/>
              </a:solidFill>
            </a:ln>
          </p:spPr>
        </p:cxnSp>
      </p:grpSp>
      <p:pic>
        <p:nvPicPr>
          <p:cNvPr id="85" name="图片 2" descr=""/>
          <p:cNvPicPr/>
          <p:nvPr/>
        </p:nvPicPr>
        <p:blipFill>
          <a:blip r:embed="rId1"/>
          <a:srcRect l="0" t="65429" r="0" b="0"/>
          <a:stretch/>
        </p:blipFill>
        <p:spPr>
          <a:xfrm>
            <a:off x="3369240" y="5175360"/>
            <a:ext cx="5714640" cy="1682280"/>
          </a:xfrm>
          <a:prstGeom prst="rect">
            <a:avLst/>
          </a:prstGeom>
          <a:ln w="0">
            <a:noFill/>
          </a:ln>
        </p:spPr>
      </p:pic>
      <p:cxnSp>
        <p:nvCxnSpPr>
          <p:cNvPr id="86" name="直接连接符 4"/>
          <p:cNvCxnSpPr/>
          <p:nvPr/>
        </p:nvCxnSpPr>
        <p:spPr>
          <a:xfrm>
            <a:off x="6101640" y="3926520"/>
            <a:ext cx="360" cy="1620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headEnd len="med" type="oval" w="med"/>
          </a:ln>
        </p:spPr>
      </p:cxnSp>
      <p:sp>
        <p:nvSpPr>
          <p:cNvPr id="87" name="弧形 5"/>
          <p:cNvSpPr/>
          <p:nvPr/>
        </p:nvSpPr>
        <p:spPr>
          <a:xfrm>
            <a:off x="-744120" y="3201120"/>
            <a:ext cx="4679640" cy="4679640"/>
          </a:xfrm>
          <a:prstGeom prst="arc">
            <a:avLst>
              <a:gd name="adj1" fmla="val 16200000"/>
              <a:gd name="adj2" fmla="val 0"/>
            </a:avLst>
          </a:prstGeom>
          <a:noFill/>
          <a:ln>
            <a:solidFill>
              <a:srgbClr val="ffffff">
                <a:lumMod val="50000"/>
              </a:srgbClr>
            </a:solidFill>
            <a:head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8" name="弧形 6"/>
          <p:cNvSpPr/>
          <p:nvPr/>
        </p:nvSpPr>
        <p:spPr>
          <a:xfrm flipH="1">
            <a:off x="8327880" y="3204720"/>
            <a:ext cx="4679640" cy="4679640"/>
          </a:xfrm>
          <a:prstGeom prst="arc">
            <a:avLst>
              <a:gd name="adj1" fmla="val 16200000"/>
              <a:gd name="adj2" fmla="val 0"/>
            </a:avLst>
          </a:prstGeom>
          <a:noFill/>
          <a:ln>
            <a:solidFill>
              <a:srgbClr val="ffffff">
                <a:lumMod val="50000"/>
              </a:srgbClr>
            </a:solidFill>
            <a:head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弧形 7"/>
          <p:cNvSpPr/>
          <p:nvPr/>
        </p:nvSpPr>
        <p:spPr>
          <a:xfrm flipH="1">
            <a:off x="7202880" y="3201120"/>
            <a:ext cx="2339640" cy="4679640"/>
          </a:xfrm>
          <a:prstGeom prst="arc">
            <a:avLst>
              <a:gd name="adj1" fmla="val 16200000"/>
              <a:gd name="adj2" fmla="val 0"/>
            </a:avLst>
          </a:prstGeom>
          <a:noFill/>
          <a:ln>
            <a:solidFill>
              <a:srgbClr val="ffffff">
                <a:lumMod val="50000"/>
              </a:srgbClr>
            </a:solidFill>
            <a:head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0" name="弧形 8"/>
          <p:cNvSpPr/>
          <p:nvPr/>
        </p:nvSpPr>
        <p:spPr>
          <a:xfrm>
            <a:off x="2720880" y="3201120"/>
            <a:ext cx="2339640" cy="4679640"/>
          </a:xfrm>
          <a:prstGeom prst="arc">
            <a:avLst>
              <a:gd name="adj1" fmla="val 16200000"/>
              <a:gd name="adj2" fmla="val 0"/>
            </a:avLst>
          </a:prstGeom>
          <a:noFill/>
          <a:ln>
            <a:solidFill>
              <a:srgbClr val="ffffff">
                <a:lumMod val="50000"/>
              </a:srgbClr>
            </a:solidFill>
            <a:headEnd len="med" type="oval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1" name="文本框 9"/>
          <p:cNvSpPr/>
          <p:nvPr/>
        </p:nvSpPr>
        <p:spPr>
          <a:xfrm>
            <a:off x="1325520" y="3429000"/>
            <a:ext cx="54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3</a:t>
            </a:r>
            <a:r>
              <a:rPr b="0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0"/>
          <p:cNvSpPr/>
          <p:nvPr/>
        </p:nvSpPr>
        <p:spPr>
          <a:xfrm>
            <a:off x="3642480" y="3429000"/>
            <a:ext cx="54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5</a:t>
            </a:r>
            <a:r>
              <a:rPr b="0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1"/>
          <p:cNvSpPr/>
          <p:nvPr/>
        </p:nvSpPr>
        <p:spPr>
          <a:xfrm>
            <a:off x="5837400" y="3429000"/>
            <a:ext cx="54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7</a:t>
            </a:r>
            <a:r>
              <a:rPr b="0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2"/>
          <p:cNvSpPr/>
          <p:nvPr/>
        </p:nvSpPr>
        <p:spPr>
          <a:xfrm>
            <a:off x="8103240" y="3429000"/>
            <a:ext cx="54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9</a:t>
            </a:r>
            <a:r>
              <a:rPr b="0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"/>
          <p:cNvSpPr/>
          <p:nvPr/>
        </p:nvSpPr>
        <p:spPr>
          <a:xfrm>
            <a:off x="10324800" y="3429000"/>
            <a:ext cx="686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11</a:t>
            </a:r>
            <a:r>
              <a:rPr b="0" lang="zh-CN" sz="2000" spc="-1" strike="noStrike">
                <a:solidFill>
                  <a:srgbClr val="808080"/>
                </a:solidFill>
                <a:latin typeface="华文细黑"/>
                <a:ea typeface="华文细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5"/>
          <p:cNvSpPr/>
          <p:nvPr/>
        </p:nvSpPr>
        <p:spPr>
          <a:xfrm>
            <a:off x="1301760" y="2523600"/>
            <a:ext cx="587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项目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6"/>
          <p:cNvSpPr/>
          <p:nvPr/>
        </p:nvSpPr>
        <p:spPr>
          <a:xfrm>
            <a:off x="3434400" y="252072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项目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645160" y="252072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项目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7921800" y="252072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项目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10197000" y="252072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项目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909000" y="1209240"/>
            <a:ext cx="1374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这是我的第一个项目，获得了什么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3203640" y="1205640"/>
            <a:ext cx="1374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这是我的第二个项目，获得了什么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7686360" y="1208520"/>
            <a:ext cx="1374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这是我的第四个项目，获得了什么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9981360" y="1204560"/>
            <a:ext cx="1374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这是我的第五个项目，获得了什么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5414400" y="1204560"/>
            <a:ext cx="1374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这是我的第三个项目，获得了什么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3" descr=""/>
          <p:cNvPicPr/>
          <p:nvPr/>
        </p:nvPicPr>
        <p:blipFill>
          <a:blip r:embed="rId1"/>
          <a:stretch/>
        </p:blipFill>
        <p:spPr>
          <a:xfrm>
            <a:off x="0" y="924120"/>
            <a:ext cx="7199640" cy="500904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4"/>
          <p:cNvSpPr/>
          <p:nvPr/>
        </p:nvSpPr>
        <p:spPr>
          <a:xfrm>
            <a:off x="7200000" y="2270520"/>
            <a:ext cx="424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项目一的工作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"/>
          <p:cNvSpPr/>
          <p:nvPr/>
        </p:nvSpPr>
        <p:spPr>
          <a:xfrm>
            <a:off x="7160040" y="3006720"/>
            <a:ext cx="428796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这是一个什么样的项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时间跨度多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自己在项目中扮演的角色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起到了什么样的作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出了什么样的成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6" descr=""/>
          <p:cNvPicPr/>
          <p:nvPr/>
        </p:nvPicPr>
        <p:blipFill>
          <a:blip r:embed="rId2"/>
          <a:srcRect l="0" t="0" r="0" b="15444"/>
          <a:stretch/>
        </p:blipFill>
        <p:spPr>
          <a:xfrm>
            <a:off x="1620000" y="2111400"/>
            <a:ext cx="3959640" cy="17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3" descr=""/>
          <p:cNvPicPr/>
          <p:nvPr/>
        </p:nvPicPr>
        <p:blipFill>
          <a:blip r:embed="rId1"/>
          <a:srcRect l="0" t="7296" r="0" b="7296"/>
          <a:stretch/>
        </p:blipFill>
        <p:spPr>
          <a:xfrm>
            <a:off x="5803920" y="1656360"/>
            <a:ext cx="5399640" cy="3037320"/>
          </a:xfrm>
          <a:prstGeom prst="rect">
            <a:avLst/>
          </a:prstGeom>
          <a:ln w="76200">
            <a:solidFill>
              <a:srgbClr val="ffffff">
                <a:lumMod val="85000"/>
              </a:srgbClr>
            </a:solidFill>
            <a:round/>
          </a:ln>
          <a:effectLst>
            <a:innerShdw blurRad="114300">
              <a:srgbClr val="000000"/>
            </a:innerShdw>
          </a:effectLst>
        </p:spPr>
      </p:pic>
      <p:sp>
        <p:nvSpPr>
          <p:cNvPr id="111" name="文本框 4"/>
          <p:cNvSpPr/>
          <p:nvPr/>
        </p:nvSpPr>
        <p:spPr>
          <a:xfrm>
            <a:off x="964440" y="2590200"/>
            <a:ext cx="4287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项目策略理解的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5"/>
          <p:cNvSpPr/>
          <p:nvPr/>
        </p:nvSpPr>
        <p:spPr>
          <a:xfrm>
            <a:off x="964440" y="3370320"/>
            <a:ext cx="42879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该项目的重要性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对项目任务的认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对领导指示的理解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以什么样的策略去执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6"/>
          <p:cNvSpPr/>
          <p:nvPr/>
        </p:nvSpPr>
        <p:spPr>
          <a:xfrm>
            <a:off x="9277200" y="317484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808080"/>
                </a:solidFill>
                <a:latin typeface="华文细黑"/>
                <a:ea typeface="华文细黑"/>
              </a:rPr>
              <a:t>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7354800" y="3174840"/>
            <a:ext cx="455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808080"/>
                </a:solidFill>
                <a:latin typeface="华文细黑"/>
                <a:ea typeface="华文细黑"/>
              </a:rPr>
              <a:t>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接连接符 9"/>
          <p:cNvCxnSpPr/>
          <p:nvPr/>
        </p:nvCxnSpPr>
        <p:spPr>
          <a:xfrm>
            <a:off x="989640" y="5359320"/>
            <a:ext cx="10296360" cy="360"/>
          </a:xfrm>
          <a:prstGeom prst="straightConnector1">
            <a:avLst/>
          </a:prstGeom>
          <a:ln>
            <a:solidFill>
              <a:srgbClr val="f2c98d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1"/>
          <a:stretch/>
        </p:blipFill>
        <p:spPr>
          <a:xfrm>
            <a:off x="6741360" y="2127600"/>
            <a:ext cx="5399640" cy="359964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2"/>
          <p:cNvSpPr/>
          <p:nvPr/>
        </p:nvSpPr>
        <p:spPr>
          <a:xfrm>
            <a:off x="7297200" y="1256760"/>
            <a:ext cx="4287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项目实施执行的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3" descr=""/>
          <p:cNvPicPr/>
          <p:nvPr/>
        </p:nvPicPr>
        <p:blipFill>
          <a:blip r:embed="rId2"/>
          <a:stretch/>
        </p:blipFill>
        <p:spPr>
          <a:xfrm>
            <a:off x="545760" y="2115000"/>
            <a:ext cx="2879640" cy="191808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  <p:pic>
        <p:nvPicPr>
          <p:cNvPr id="119" name="图片 4" descr=""/>
          <p:cNvPicPr/>
          <p:nvPr/>
        </p:nvPicPr>
        <p:blipFill>
          <a:blip r:embed="rId3"/>
          <a:stretch/>
        </p:blipFill>
        <p:spPr>
          <a:xfrm>
            <a:off x="4051800" y="2127600"/>
            <a:ext cx="2879640" cy="191808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  <p:sp>
        <p:nvSpPr>
          <p:cNvPr id="120" name="文本框 5"/>
          <p:cNvSpPr/>
          <p:nvPr/>
        </p:nvSpPr>
        <p:spPr>
          <a:xfrm>
            <a:off x="545760" y="4118760"/>
            <a:ext cx="2879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我用哪些专业知识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发挥了哪些能力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出了什么样的效果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6"/>
          <p:cNvSpPr/>
          <p:nvPr/>
        </p:nvSpPr>
        <p:spPr>
          <a:xfrm>
            <a:off x="4051800" y="4118760"/>
            <a:ext cx="28796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我如何配合团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怎么协调工作开展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带来了什么样益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直接连接符 8"/>
          <p:cNvCxnSpPr/>
          <p:nvPr/>
        </p:nvCxnSpPr>
        <p:spPr>
          <a:xfrm>
            <a:off x="545760" y="1561680"/>
            <a:ext cx="6480360" cy="360"/>
          </a:xfrm>
          <a:prstGeom prst="straightConnector1">
            <a:avLst/>
          </a:prstGeom>
          <a:ln>
            <a:solidFill>
              <a:srgbClr val="f2c98d"/>
            </a:solidFill>
          </a:ln>
        </p:spPr>
      </p:cxnSp>
      <p:sp>
        <p:nvSpPr>
          <p:cNvPr id="123" name="文本框 9"/>
          <p:cNvSpPr/>
          <p:nvPr/>
        </p:nvSpPr>
        <p:spPr>
          <a:xfrm>
            <a:off x="545760" y="5257080"/>
            <a:ext cx="28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dea654"/>
                </a:solidFill>
                <a:latin typeface="华文细黑"/>
                <a:ea typeface="华文细黑"/>
              </a:rPr>
              <a:t>个人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4051800" y="5257080"/>
            <a:ext cx="287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dea654"/>
                </a:solidFill>
                <a:latin typeface="华文细黑"/>
                <a:ea typeface="华文细黑"/>
              </a:rPr>
              <a:t>团队配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直接连接符 12"/>
          <p:cNvCxnSpPr/>
          <p:nvPr/>
        </p:nvCxnSpPr>
        <p:spPr>
          <a:xfrm>
            <a:off x="7038360" y="1269360"/>
            <a:ext cx="360" cy="585000"/>
          </a:xfrm>
          <a:prstGeom prst="straightConnector1">
            <a:avLst/>
          </a:prstGeom>
          <a:ln>
            <a:solidFill>
              <a:srgbClr val="dea654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"/>
          <p:cNvPicPr/>
          <p:nvPr/>
        </p:nvPicPr>
        <p:blipFill>
          <a:blip r:embed="rId1"/>
          <a:srcRect l="21401" t="53332" r="19895" b="15370"/>
          <a:stretch/>
        </p:blipFill>
        <p:spPr>
          <a:xfrm>
            <a:off x="4655880" y="2921040"/>
            <a:ext cx="2879640" cy="178236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  <p:sp>
        <p:nvSpPr>
          <p:cNvPr id="127" name="文本框 2"/>
          <p:cNvSpPr/>
          <p:nvPr/>
        </p:nvSpPr>
        <p:spPr>
          <a:xfrm>
            <a:off x="5256000" y="1828800"/>
            <a:ext cx="170496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200" spc="-1" strike="noStrike">
                <a:solidFill>
                  <a:srgbClr val="dea654"/>
                </a:solidFill>
                <a:latin typeface="华文细黑"/>
                <a:ea typeface="华文细黑"/>
              </a:rPr>
              <a:t>项目荣誉之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我做了哪些额外的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929160" y="1411200"/>
            <a:ext cx="3599640" cy="40356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3"/>
          <p:cNvSpPr/>
          <p:nvPr/>
        </p:nvSpPr>
        <p:spPr>
          <a:xfrm>
            <a:off x="4723920" y="3720240"/>
            <a:ext cx="361944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加班时长达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参与的公司培训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积极维护客户关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宣传公司业务信息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拜读哪些专业书籍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4" descr=""/>
          <p:cNvPicPr/>
          <p:nvPr/>
        </p:nvPicPr>
        <p:blipFill>
          <a:blip r:embed="rId2"/>
          <a:srcRect l="50131" t="44643" r="3332" b="0"/>
          <a:stretch/>
        </p:blipFill>
        <p:spPr>
          <a:xfrm>
            <a:off x="9023760" y="4107600"/>
            <a:ext cx="1799640" cy="1502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210600" y="63212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ntrast="-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812760" y="3794400"/>
            <a:ext cx="4595040" cy="306324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3"/>
          <p:cNvSpPr/>
          <p:nvPr/>
        </p:nvSpPr>
        <p:spPr>
          <a:xfrm>
            <a:off x="2779560" y="24530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808080"/>
                </a:solidFill>
                <a:latin typeface="等线"/>
              </a:rPr>
              <a:t>回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"/>
          <p:cNvSpPr/>
          <p:nvPr/>
        </p:nvSpPr>
        <p:spPr>
          <a:xfrm>
            <a:off x="5652000" y="24530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dea654"/>
                </a:solidFill>
                <a:latin typeface="等线"/>
              </a:rPr>
              <a:t>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5"/>
          <p:cNvSpPr/>
          <p:nvPr/>
        </p:nvSpPr>
        <p:spPr>
          <a:xfrm>
            <a:off x="8524440" y="2453040"/>
            <a:ext cx="912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-1" strike="noStrike">
                <a:solidFill>
                  <a:srgbClr val="808080"/>
                </a:solidFill>
                <a:latin typeface="等线"/>
              </a:rPr>
              <a:t>展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6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966040" y="11880"/>
            <a:ext cx="539640" cy="23511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7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825880" y="11880"/>
            <a:ext cx="539640" cy="23511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8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8685720" y="11880"/>
            <a:ext cx="539640" cy="235116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9"/>
          <p:cNvSpPr/>
          <p:nvPr/>
        </p:nvSpPr>
        <p:spPr>
          <a:xfrm>
            <a:off x="5515200" y="3794400"/>
            <a:ext cx="119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等线"/>
              </a:rPr>
              <a:t>……</a:t>
            </a:r>
            <a:r>
              <a:rPr b="0" lang="zh-CN" sz="1800" spc="-1" strike="noStrike">
                <a:solidFill>
                  <a:srgbClr val="808080"/>
                </a:solidFill>
                <a:latin typeface="等线"/>
              </a:rPr>
              <a:t>一年以来的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0"/>
          <p:cNvSpPr/>
          <p:nvPr/>
        </p:nvSpPr>
        <p:spPr>
          <a:xfrm>
            <a:off x="3008160" y="32839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1"/>
          <p:cNvSpPr/>
          <p:nvPr/>
        </p:nvSpPr>
        <p:spPr>
          <a:xfrm>
            <a:off x="5880600" y="324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经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2"/>
          <p:cNvSpPr/>
          <p:nvPr/>
        </p:nvSpPr>
        <p:spPr>
          <a:xfrm>
            <a:off x="8753040" y="32443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未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  <Words>382</Words>
  <Paragraphs>8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08:18:49Z</dcterms:created>
  <dc:creator>balen</dc:creator>
  <dc:description/>
  <dc:language>en-US</dc:language>
  <cp:lastModifiedBy>王玉清</cp:lastModifiedBy>
  <dcterms:modified xsi:type="dcterms:W3CDTF">2016-03-05T09:25:50Z</dcterms:modified>
  <cp:revision>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3</vt:r8>
  </property>
</Properties>
</file>