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_rels/drawing2.xml.rels" ContentType="application/vnd.openxmlformats-package.relationships+xml"/>
  <Override PartName="/ppt/diagrams/_rels/data2.xml.rels" ContentType="application/vnd.openxmlformats-package.relationship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OOXDiagramDataRels2_0.jpg" ContentType="image/jpg"/>
  <Override PartName="/ppt/media/image7.jpeg" ContentType="image/jpeg"/>
  <Override PartName="/ppt/media/OOXDiagramDrawingRels2_0.jpg" ContentType="image/jp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jpg"/>
</Relationships>
</file>

<file path=ppt/diagrams/_rels/drawing2.xml.rels><?xml version="1.0" encoding="UTF-8"?>
<Relationships xmlns="http://schemas.openxmlformats.org/package/2006/relationships"><Relationship Id="rId1" Type="http://schemas.openxmlformats.org/officeDocument/2006/relationships/image" Target="../media/OOXDiagramDrawingRels2_0.jp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6D58ECD5-CCAB-492D-9F39-0E4D57022ADC}" type="doc">
      <dgm:prSet loTypeId="urn:microsoft.com/office/officeart/2008/layout/PictureStrips" loCatId="list" qsTypeId="urn:microsoft.com/office/officeart/2005/8/quickstyle/simple2" qsCatId="simple" csTypeId="urn:microsoft.com/office/officeart/2005/8/colors/colorful5" csCatId="colorful" phldr="1"/>
      <dgm:spPr/>
      <dgm:t>
        <a:bodyPr/>
        <a:lstStyle/>
        <a:p>
          <a:endParaRPr lang="zh-CN" altLang="en-US"/>
        </a:p>
      </dgm:t>
    </dgm:pt>
    <dgm:pt modelId="{6757FC2A-26D2-4DCC-8173-1995C45F6F53}">
      <dgm:prSet phldrT="[文本]" custT="1"/>
      <dgm:spPr/>
      <dgm:t>
        <a:bodyPr/>
        <a:lstStyle/>
        <a:p>
          <a:r>
            <a:rPr lang="en-US" altLang="zh-CN" sz="4000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The </a:t>
          </a:r>
          <a:r>
            <a:rPr lang="zh-CN" altLang="en-US" sz="4000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earliest university</a:t>
          </a:r>
          <a:endParaRPr lang="zh-CN" altLang="en-US" sz="4000" b="1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JasmineUPC" pitchFamily="18" charset="-34"/>
            <a:cs typeface="JasmineUPC" pitchFamily="18" charset="-34"/>
          </a:endParaRPr>
        </a:p>
      </dgm:t>
    </dgm:pt>
    <dgm:pt modelId="{02389147-FCFA-4A28-ADEF-A155865DBA6C}" type="parTrans" cxnId="{DFF1B3D7-5930-4169-97A1-AA5D1C2F4582}">
      <dgm:prSet/>
      <dgm:spPr/>
      <dgm:t>
        <a:bodyPr/>
        <a:lstStyle/>
        <a:p>
          <a:endParaRPr lang="zh-CN" altLang="en-US" sz="4000" b="1"/>
        </a:p>
      </dgm:t>
    </dgm:pt>
    <dgm:pt modelId="{1DD036C6-CE66-473C-B822-B1085FF0454E}" type="sibTrans" cxnId="{DFF1B3D7-5930-4169-97A1-AA5D1C2F4582}">
      <dgm:prSet/>
      <dgm:spPr/>
      <dgm:t>
        <a:bodyPr/>
        <a:lstStyle/>
        <a:p>
          <a:endParaRPr lang="zh-CN" altLang="en-US" sz="4000" b="1"/>
        </a:p>
      </dgm:t>
    </dgm:pt>
    <dgm:pt modelId="{B8F98FAA-2F51-4D87-A454-BDDCBBF2FC38}">
      <dgm:prSet phldrT="[文本]" custT="1"/>
      <dgm:spPr/>
      <dgm:t>
        <a:bodyPr/>
        <a:lstStyle/>
        <a:p>
          <a:r>
            <a:rPr lang="zh-CN" altLang="en-US" sz="4000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The first modern university</a:t>
          </a:r>
          <a:endParaRPr lang="zh-CN" altLang="en-US" sz="4000" b="1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JasmineUPC" pitchFamily="18" charset="-34"/>
            <a:cs typeface="JasmineUPC" pitchFamily="18" charset="-34"/>
          </a:endParaRPr>
        </a:p>
      </dgm:t>
    </dgm:pt>
    <dgm:pt modelId="{9EC2A00D-BA91-4A5F-A337-5BB9C28BC904}" type="parTrans" cxnId="{6C023C20-BBA7-42F9-9DA4-D776C52BC140}">
      <dgm:prSet/>
      <dgm:spPr/>
      <dgm:t>
        <a:bodyPr/>
        <a:lstStyle/>
        <a:p>
          <a:endParaRPr lang="zh-CN" altLang="en-US" sz="4000" b="1"/>
        </a:p>
      </dgm:t>
    </dgm:pt>
    <dgm:pt modelId="{475402C9-9E85-4C6E-B84A-CA4187AF7465}" type="sibTrans" cxnId="{6C023C20-BBA7-42F9-9DA4-D776C52BC140}">
      <dgm:prSet/>
      <dgm:spPr/>
      <dgm:t>
        <a:bodyPr/>
        <a:lstStyle/>
        <a:p>
          <a:endParaRPr lang="zh-CN" altLang="en-US" sz="4000" b="1"/>
        </a:p>
      </dgm:t>
    </dgm:pt>
    <dgm:pt modelId="{9F60B5F2-833A-45D6-BC70-A76925D4C05D}">
      <dgm:prSet phldrT="[文本]" custT="1"/>
      <dgm:spPr/>
      <dgm:t>
        <a:bodyPr/>
        <a:lstStyle/>
        <a:p>
          <a:r>
            <a:rPr lang="en-US" altLang="zh-CN" sz="4000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The </a:t>
          </a:r>
          <a:r>
            <a:rPr lang="zh-CN" altLang="en-US" sz="4000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highest university</a:t>
          </a:r>
          <a:endParaRPr lang="zh-CN" altLang="en-US" sz="4000" b="1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JasmineUPC" pitchFamily="18" charset="-34"/>
            <a:cs typeface="JasmineUPC" pitchFamily="18" charset="-34"/>
          </a:endParaRPr>
        </a:p>
      </dgm:t>
    </dgm:pt>
    <dgm:pt modelId="{6B5E23B2-7DC1-4C94-82DD-D1D0C9684BE8}" type="parTrans" cxnId="{9B41F007-F894-4040-8B45-22D5B4E6EE57}">
      <dgm:prSet/>
      <dgm:spPr/>
      <dgm:t>
        <a:bodyPr/>
        <a:lstStyle/>
        <a:p>
          <a:endParaRPr lang="zh-CN" altLang="en-US" sz="4000" b="1"/>
        </a:p>
      </dgm:t>
    </dgm:pt>
    <dgm:pt modelId="{7E908FA7-4594-490A-B9B2-055A1DB61433}" type="sibTrans" cxnId="{9B41F007-F894-4040-8B45-22D5B4E6EE57}">
      <dgm:prSet/>
      <dgm:spPr/>
      <dgm:t>
        <a:bodyPr/>
        <a:lstStyle/>
        <a:p>
          <a:endParaRPr lang="zh-CN" altLang="en-US" sz="4000" b="1"/>
        </a:p>
      </dgm:t>
    </dgm:pt>
    <dgm:pt modelId="{8BACFEA7-950C-4114-BD0E-915776FBA635}">
      <dgm:prSet phldrT="[文本]" custT="1"/>
      <dgm:spPr/>
      <dgm:t>
        <a:bodyPr/>
        <a:lstStyle/>
        <a:p>
          <a:r>
            <a:rPr lang="en-US" altLang="zh-CN" sz="4000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Four big memorial university</a:t>
          </a:r>
          <a:endParaRPr lang="zh-CN" altLang="en-US" sz="4000" b="1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JasmineUPC" pitchFamily="18" charset="-34"/>
            <a:cs typeface="JasmineUPC" pitchFamily="18" charset="-34"/>
          </a:endParaRPr>
        </a:p>
      </dgm:t>
    </dgm:pt>
    <dgm:pt modelId="{D73AC425-29AC-4645-B3D0-EBEAF9D75F92}" type="parTrans" cxnId="{B1E118B3-E45F-4EFC-8396-5D1B40D03E9D}">
      <dgm:prSet/>
      <dgm:spPr/>
      <dgm:t>
        <a:bodyPr/>
        <a:lstStyle/>
        <a:p>
          <a:endParaRPr lang="zh-CN" altLang="en-US" sz="4000" b="1"/>
        </a:p>
      </dgm:t>
    </dgm:pt>
    <dgm:pt modelId="{20A0C53B-848E-4CBC-8F11-80438C21B260}" type="sibTrans" cxnId="{B1E118B3-E45F-4EFC-8396-5D1B40D03E9D}">
      <dgm:prSet/>
      <dgm:spPr/>
      <dgm:t>
        <a:bodyPr/>
        <a:lstStyle/>
        <a:p>
          <a:endParaRPr lang="zh-CN" altLang="en-US" sz="4000" b="1"/>
        </a:p>
      </dgm:t>
    </dgm:pt>
    <dgm:pt modelId="{F4A80E68-5F72-4B17-965A-C07E86F978AE}" type="pres">
      <dgm:prSet presAssocID="{6D58ECD5-CCAB-492D-9F39-0E4D57022ADC}" presName="Name0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42D88CEA-AE30-41EC-9C09-162DEC211415}" type="pres">
      <dgm:prSet presAssocID="{6757FC2A-26D2-4DCC-8173-1995C45F6F53}" presName="composite" presStyleCnt="0"/>
      <dgm:spPr/>
    </dgm:pt>
    <dgm:pt modelId="{8256BD79-4821-4899-A0A4-04DB93C88140}" type="pres">
      <dgm:prSet presAssocID="{6757FC2A-26D2-4DCC-8173-1995C45F6F53}" presName="rect1" presStyleLbl="trAlignAcc1" presStyleIdx="0" presStyleCnt="4" custScaleX="145073" custScaleY="83352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4BB49AA-CAFF-425E-A7A8-8FD7E4FBA28C}" type="pres">
      <dgm:prSet presAssocID="{6757FC2A-26D2-4DCC-8173-1995C45F6F53}" presName="rect2" presStyleLbl="fgImgPlace1" presStyleIdx="0" presStyleCnt="4" custLinFactX="-9648" custLinFactNeighborX="-100000" custLinFactNeighborY="9868"/>
      <dgm:spPr>
        <a:solidFill>
          <a:schemeClr val="tx2">
            <a:lumMod val="20000"/>
            <a:lumOff val="80000"/>
          </a:schemeClr>
        </a:solidFill>
      </dgm:spPr>
    </dgm:pt>
    <dgm:pt modelId="{9D75C023-5E2F-4950-A4FB-8158716CD907}" type="pres">
      <dgm:prSet presAssocID="{1DD036C6-CE66-473C-B822-B1085FF0454E}" presName="sibTrans" presStyleCnt="0"/>
      <dgm:spPr/>
    </dgm:pt>
    <dgm:pt modelId="{7A1DC11E-E7B1-4EF3-858C-FE02B965F9D2}" type="pres">
      <dgm:prSet presAssocID="{B8F98FAA-2F51-4D87-A454-BDDCBBF2FC38}" presName="composite" presStyleCnt="0"/>
      <dgm:spPr/>
    </dgm:pt>
    <dgm:pt modelId="{A7F3A9F1-6AFF-4C24-A6BE-22007EF5A5A2}" type="pres">
      <dgm:prSet presAssocID="{B8F98FAA-2F51-4D87-A454-BDDCBBF2FC38}" presName="rect1" presStyleLbl="trAlignAcc1" presStyleIdx="1" presStyleCnt="4" custScaleX="145073" custScaleY="83352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957A12C-DBF0-414C-9F28-5D59EA1621C7}" type="pres">
      <dgm:prSet presAssocID="{B8F98FAA-2F51-4D87-A454-BDDCBBF2FC38}" presName="rect2" presStyleLbl="fgImgPlace1" presStyleIdx="1" presStyleCnt="4" custLinFactX="-8061" custLinFactNeighborX="-100000" custLinFactNeighborY="9993"/>
      <dgm:spPr>
        <a:solidFill>
          <a:srgbClr val="BCED7B"/>
        </a:solidFill>
      </dgm:spPr>
    </dgm:pt>
    <dgm:pt modelId="{2997BB7E-939F-435D-9456-7068DA346D3A}" type="pres">
      <dgm:prSet presAssocID="{475402C9-9E85-4C6E-B84A-CA4187AF7465}" presName="sibTrans" presStyleCnt="0"/>
      <dgm:spPr/>
    </dgm:pt>
    <dgm:pt modelId="{C9DEA35E-9483-4FA4-A13E-98E1E732D884}" type="pres">
      <dgm:prSet presAssocID="{9F60B5F2-833A-45D6-BC70-A76925D4C05D}" presName="composite" presStyleCnt="0"/>
      <dgm:spPr/>
    </dgm:pt>
    <dgm:pt modelId="{1EADE6A8-7E1C-4196-ACD5-D3D95899D152}" type="pres">
      <dgm:prSet presAssocID="{9F60B5F2-833A-45D6-BC70-A76925D4C05D}" presName="rect1" presStyleLbl="trAlignAcc1" presStyleIdx="2" presStyleCnt="4" custScaleX="145073" custScaleY="83352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72C000B2-9741-47D0-AB0F-560B9FB64296}" type="pres">
      <dgm:prSet presAssocID="{9F60B5F2-833A-45D6-BC70-A76925D4C05D}" presName="rect2" presStyleLbl="fgImgPlace1" presStyleIdx="2" presStyleCnt="4" custLinFactX="-9648" custLinFactNeighborX="-100000" custLinFactNeighborY="10119"/>
      <dgm:spPr>
        <a:solidFill>
          <a:srgbClr val="F4F987"/>
        </a:solidFill>
      </dgm:spPr>
    </dgm:pt>
    <dgm:pt modelId="{FFEE03BA-CDA8-489B-B4B6-BC53F9E3E0A5}" type="pres">
      <dgm:prSet presAssocID="{7E908FA7-4594-490A-B9B2-055A1DB61433}" presName="sibTrans" presStyleCnt="0"/>
      <dgm:spPr/>
    </dgm:pt>
    <dgm:pt modelId="{3A6A402C-88AB-4CFD-8BD0-2C640DDC45BB}" type="pres">
      <dgm:prSet presAssocID="{8BACFEA7-950C-4114-BD0E-915776FBA635}" presName="composite" presStyleCnt="0"/>
      <dgm:spPr/>
    </dgm:pt>
    <dgm:pt modelId="{072AAA47-BED6-4352-95A6-41B5E8923256}" type="pres">
      <dgm:prSet presAssocID="{8BACFEA7-950C-4114-BD0E-915776FBA635}" presName="rect1" presStyleLbl="trAlignAcc1" presStyleIdx="3" presStyleCnt="4" custScaleX="145073" custScaleY="83352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90E166A-4DE9-40CD-B6BA-24AB5CD14FA8}" type="pres">
      <dgm:prSet presAssocID="{8BACFEA7-950C-4114-BD0E-915776FBA635}" presName="rect2" presStyleLbl="fgImgPlace1" presStyleIdx="3" presStyleCnt="4" custLinFactX="-8061" custLinFactNeighborX="-100000" custLinFactNeighborY="10244"/>
      <dgm:spPr>
        <a:solidFill>
          <a:srgbClr val="F9BCA1"/>
        </a:solidFill>
      </dgm:spPr>
    </dgm:pt>
  </dgm:ptLst>
  <dgm:cxnLst>
    <dgm:cxn modelId="{1AFC8168-9220-410A-88A1-05882CFE1187}" type="presOf" srcId="{9F60B5F2-833A-45D6-BC70-A76925D4C05D}" destId="{1EADE6A8-7E1C-4196-ACD5-D3D95899D152}" srcOrd="0" destOrd="0" presId="urn:microsoft.com/office/officeart/2008/layout/PictureStrips"/>
    <dgm:cxn modelId="{B1E118B3-E45F-4EFC-8396-5D1B40D03E9D}" srcId="{6D58ECD5-CCAB-492D-9F39-0E4D57022ADC}" destId="{8BACFEA7-950C-4114-BD0E-915776FBA635}" srcOrd="3" destOrd="0" parTransId="{D73AC425-29AC-4645-B3D0-EBEAF9D75F92}" sibTransId="{20A0C53B-848E-4CBC-8F11-80438C21B260}"/>
    <dgm:cxn modelId="{6C023C20-BBA7-42F9-9DA4-D776C52BC140}" srcId="{6D58ECD5-CCAB-492D-9F39-0E4D57022ADC}" destId="{B8F98FAA-2F51-4D87-A454-BDDCBBF2FC38}" srcOrd="1" destOrd="0" parTransId="{9EC2A00D-BA91-4A5F-A337-5BB9C28BC904}" sibTransId="{475402C9-9E85-4C6E-B84A-CA4187AF7465}"/>
    <dgm:cxn modelId="{7B62BBC7-EF5C-4C7E-B452-85DEFAA8B50A}" type="presOf" srcId="{8BACFEA7-950C-4114-BD0E-915776FBA635}" destId="{072AAA47-BED6-4352-95A6-41B5E8923256}" srcOrd="0" destOrd="0" presId="urn:microsoft.com/office/officeart/2008/layout/PictureStrips"/>
    <dgm:cxn modelId="{4CDD335C-5C03-4428-9C45-80AA65855D54}" type="presOf" srcId="{B8F98FAA-2F51-4D87-A454-BDDCBBF2FC38}" destId="{A7F3A9F1-6AFF-4C24-A6BE-22007EF5A5A2}" srcOrd="0" destOrd="0" presId="urn:microsoft.com/office/officeart/2008/layout/PictureStrips"/>
    <dgm:cxn modelId="{EE2C6936-39EC-4F82-80D2-40BD8B806566}" type="presOf" srcId="{6D58ECD5-CCAB-492D-9F39-0E4D57022ADC}" destId="{F4A80E68-5F72-4B17-965A-C07E86F978AE}" srcOrd="0" destOrd="0" presId="urn:microsoft.com/office/officeart/2008/layout/PictureStrips"/>
    <dgm:cxn modelId="{9B41F007-F894-4040-8B45-22D5B4E6EE57}" srcId="{6D58ECD5-CCAB-492D-9F39-0E4D57022ADC}" destId="{9F60B5F2-833A-45D6-BC70-A76925D4C05D}" srcOrd="2" destOrd="0" parTransId="{6B5E23B2-7DC1-4C94-82DD-D1D0C9684BE8}" sibTransId="{7E908FA7-4594-490A-B9B2-055A1DB61433}"/>
    <dgm:cxn modelId="{37D5E3B8-1DCF-48AC-A340-9385BB63B307}" type="presOf" srcId="{6757FC2A-26D2-4DCC-8173-1995C45F6F53}" destId="{8256BD79-4821-4899-A0A4-04DB93C88140}" srcOrd="0" destOrd="0" presId="urn:microsoft.com/office/officeart/2008/layout/PictureStrips"/>
    <dgm:cxn modelId="{DFF1B3D7-5930-4169-97A1-AA5D1C2F4582}" srcId="{6D58ECD5-CCAB-492D-9F39-0E4D57022ADC}" destId="{6757FC2A-26D2-4DCC-8173-1995C45F6F53}" srcOrd="0" destOrd="0" parTransId="{02389147-FCFA-4A28-ADEF-A155865DBA6C}" sibTransId="{1DD036C6-CE66-473C-B822-B1085FF0454E}"/>
    <dgm:cxn modelId="{5C887464-4469-4013-9900-3B4DA068D3A6}" type="presParOf" srcId="{F4A80E68-5F72-4B17-965A-C07E86F978AE}" destId="{42D88CEA-AE30-41EC-9C09-162DEC211415}" srcOrd="0" destOrd="0" presId="urn:microsoft.com/office/officeart/2008/layout/PictureStrips"/>
    <dgm:cxn modelId="{1ECAF420-8FB5-4A98-BEDF-F881067D5E52}" type="presParOf" srcId="{42D88CEA-AE30-41EC-9C09-162DEC211415}" destId="{8256BD79-4821-4899-A0A4-04DB93C88140}" srcOrd="0" destOrd="0" presId="urn:microsoft.com/office/officeart/2008/layout/PictureStrips"/>
    <dgm:cxn modelId="{0F9F9D7A-80D3-4CBF-B181-C92E1D53A930}" type="presParOf" srcId="{42D88CEA-AE30-41EC-9C09-162DEC211415}" destId="{34BB49AA-CAFF-425E-A7A8-8FD7E4FBA28C}" srcOrd="1" destOrd="0" presId="urn:microsoft.com/office/officeart/2008/layout/PictureStrips"/>
    <dgm:cxn modelId="{CE572C29-D075-41F2-A2B3-F2000EE5B2BB}" type="presParOf" srcId="{F4A80E68-5F72-4B17-965A-C07E86F978AE}" destId="{9D75C023-5E2F-4950-A4FB-8158716CD907}" srcOrd="1" destOrd="0" presId="urn:microsoft.com/office/officeart/2008/layout/PictureStrips"/>
    <dgm:cxn modelId="{3DD57673-CC61-495E-BF5E-842801B2DC3C}" type="presParOf" srcId="{F4A80E68-5F72-4B17-965A-C07E86F978AE}" destId="{7A1DC11E-E7B1-4EF3-858C-FE02B965F9D2}" srcOrd="2" destOrd="0" presId="urn:microsoft.com/office/officeart/2008/layout/PictureStrips"/>
    <dgm:cxn modelId="{F51E3C65-77BF-41D5-821C-029F8D6A23E1}" type="presParOf" srcId="{7A1DC11E-E7B1-4EF3-858C-FE02B965F9D2}" destId="{A7F3A9F1-6AFF-4C24-A6BE-22007EF5A5A2}" srcOrd="0" destOrd="0" presId="urn:microsoft.com/office/officeart/2008/layout/PictureStrips"/>
    <dgm:cxn modelId="{DE28153F-DD18-48F8-8685-DDA231569624}" type="presParOf" srcId="{7A1DC11E-E7B1-4EF3-858C-FE02B965F9D2}" destId="{3957A12C-DBF0-414C-9F28-5D59EA1621C7}" srcOrd="1" destOrd="0" presId="urn:microsoft.com/office/officeart/2008/layout/PictureStrips"/>
    <dgm:cxn modelId="{D60DEDAA-F344-4DC6-8539-99352FA5E4F1}" type="presParOf" srcId="{F4A80E68-5F72-4B17-965A-C07E86F978AE}" destId="{2997BB7E-939F-435D-9456-7068DA346D3A}" srcOrd="3" destOrd="0" presId="urn:microsoft.com/office/officeart/2008/layout/PictureStrips"/>
    <dgm:cxn modelId="{9FD946E0-979D-42BD-958C-1911A8885F37}" type="presParOf" srcId="{F4A80E68-5F72-4B17-965A-C07E86F978AE}" destId="{C9DEA35E-9483-4FA4-A13E-98E1E732D884}" srcOrd="4" destOrd="0" presId="urn:microsoft.com/office/officeart/2008/layout/PictureStrips"/>
    <dgm:cxn modelId="{B52D1E7E-0F38-4828-96ED-35E385F4CFF1}" type="presParOf" srcId="{C9DEA35E-9483-4FA4-A13E-98E1E732D884}" destId="{1EADE6A8-7E1C-4196-ACD5-D3D95899D152}" srcOrd="0" destOrd="0" presId="urn:microsoft.com/office/officeart/2008/layout/PictureStrips"/>
    <dgm:cxn modelId="{51A972BB-64E5-49E6-9BBB-37314F779804}" type="presParOf" srcId="{C9DEA35E-9483-4FA4-A13E-98E1E732D884}" destId="{72C000B2-9741-47D0-AB0F-560B9FB64296}" srcOrd="1" destOrd="0" presId="urn:microsoft.com/office/officeart/2008/layout/PictureStrips"/>
    <dgm:cxn modelId="{4DF16BDB-EAE5-4630-9A23-2678CDC20344}" type="presParOf" srcId="{F4A80E68-5F72-4B17-965A-C07E86F978AE}" destId="{FFEE03BA-CDA8-489B-B4B6-BC53F9E3E0A5}" srcOrd="5" destOrd="0" presId="urn:microsoft.com/office/officeart/2008/layout/PictureStrips"/>
    <dgm:cxn modelId="{6897A818-8057-433D-BE0C-936856E3E7E7}" type="presParOf" srcId="{F4A80E68-5F72-4B17-965A-C07E86F978AE}" destId="{3A6A402C-88AB-4CFD-8BD0-2C640DDC45BB}" srcOrd="6" destOrd="0" presId="urn:microsoft.com/office/officeart/2008/layout/PictureStrips"/>
    <dgm:cxn modelId="{00C163C2-C088-48DA-9277-031C84262A82}" type="presParOf" srcId="{3A6A402C-88AB-4CFD-8BD0-2C640DDC45BB}" destId="{072AAA47-BED6-4352-95A6-41B5E8923256}" srcOrd="0" destOrd="0" presId="urn:microsoft.com/office/officeart/2008/layout/PictureStrips"/>
    <dgm:cxn modelId="{FCC560E8-6B37-47EF-BBE7-8184B9E12BCD}" type="presParOf" srcId="{3A6A402C-88AB-4CFD-8BD0-2C640DDC45BB}" destId="{B90E166A-4DE9-40CD-B6BA-24AB5CD14FA8}" srcOrd="1" destOrd="0" presId="urn:microsoft.com/office/officeart/2008/layout/PictureStrips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27C98C08-CCAA-401E-A86E-07C5897A89E8}" type="doc">
      <dgm:prSet loTypeId="urn:microsoft.com/office/officeart/2009/3/layout/SnapshotPictureList" loCatId="picture" qsTypeId="urn:microsoft.com/office/officeart/2005/8/quickstyle/simple2" qsCatId="simple" csTypeId="urn:microsoft.com/office/officeart/2005/8/colors/colorful5" csCatId="colorful" phldr="1"/>
      <dgm:spPr/>
      <dgm:t>
        <a:bodyPr/>
        <a:lstStyle/>
        <a:p>
          <a:endParaRPr lang="zh-CN" altLang="en-US"/>
        </a:p>
      </dgm:t>
    </dgm:pt>
    <dgm:pt modelId="{14C142B3-29ED-4917-9321-86AED60A9F29}">
      <dgm:prSet phldrT="[文本]" custT="1"/>
      <dgm:spPr/>
      <dgm:t>
        <a:bodyPr/>
        <a:lstStyle/>
        <a:p>
          <a:r>
            <a:rPr lang="en-US" altLang="zh-CN" sz="4000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Hunan University</a:t>
          </a:r>
          <a:endParaRPr lang="zh-CN" altLang="en-US" sz="4000" b="1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JasmineUPC" pitchFamily="18" charset="-34"/>
            <a:cs typeface="JasmineUPC" pitchFamily="18" charset="-34"/>
          </a:endParaRPr>
        </a:p>
      </dgm:t>
    </dgm:pt>
    <dgm:pt modelId="{F4B0FDB9-FFFC-407A-9D78-7CBD2383E767}" type="parTrans" cxnId="{63EDA04D-2684-4B4E-BA03-4862996ADF31}">
      <dgm:prSet/>
      <dgm:spPr/>
      <dgm:t>
        <a:bodyPr/>
        <a:lstStyle/>
        <a:p>
          <a:endParaRPr lang="zh-CN" altLang="en-US"/>
        </a:p>
      </dgm:t>
    </dgm:pt>
    <dgm:pt modelId="{D4F393CB-E18F-4F36-B262-6B818D60A9EB}" type="sibTrans" cxnId="{63EDA04D-2684-4B4E-BA03-4862996ADF31}">
      <dgm:prSet/>
      <dgm:spPr/>
      <dgm:t>
        <a:bodyPr/>
        <a:lstStyle/>
        <a:p>
          <a:endParaRPr lang="zh-CN" altLang="en-US"/>
        </a:p>
      </dgm:t>
    </dgm:pt>
    <dgm:pt modelId="{9506B2D1-2C3E-4D5F-8F93-214F56E46287}">
      <dgm:prSet phldrT="[文本]"/>
      <dgm:spPr/>
      <dgm:t>
        <a:bodyPr/>
        <a:lstStyle/>
        <a:p>
          <a:r>
            <a:rPr lang="zh-CN" altLang="en-US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    As </a:t>
          </a:r>
          <a:r>
            <a:rPr lang="en-US" altLang="zh-CN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“</a:t>
          </a:r>
          <a:r>
            <a:rPr lang="zh-CN" altLang="en-US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in one thousand universities, school in one hundred</a:t>
          </a:r>
          <a:r>
            <a:rPr lang="en-US" altLang="zh-CN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”</a:t>
          </a:r>
          <a:r>
            <a:rPr lang="zh-CN" altLang="en-US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 ,</a:t>
          </a:r>
          <a:r>
            <a:rPr lang="zh-CN" altLang="en-US" b="1" dirty="0" smtClean="0">
              <a:solidFill>
                <a:srgbClr val="FF0000"/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Hunan University</a:t>
          </a:r>
          <a:r>
            <a:rPr lang="zh-CN" altLang="en-US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 stemed from Yuelu academy,which was built in 976 and was one of the four famous academy.</a:t>
          </a:r>
          <a:endParaRPr lang="en-US" altLang="zh-CN" b="1" dirty="0" smtClean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JasmineUPC" pitchFamily="18" charset="-34"/>
            <a:cs typeface="JasmineUPC" pitchFamily="18" charset="-34"/>
          </a:endParaRPr>
        </a:p>
        <a:p>
          <a:r>
            <a:rPr lang="en-US" altLang="zh-CN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    </a:t>
          </a:r>
          <a:r>
            <a:rPr lang="zh-CN" altLang="en-US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 What</a:t>
          </a:r>
          <a:r>
            <a:rPr lang="en-US" altLang="zh-CN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’</a:t>
          </a:r>
          <a:r>
            <a:rPr lang="zh-CN" altLang="en-US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s more ,it is one of the only two of the oldest university in east Asia</a:t>
          </a:r>
          <a:endParaRPr lang="zh-CN" altLang="en-US" b="1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JasmineUPC" pitchFamily="18" charset="-34"/>
            <a:cs typeface="JasmineUPC" pitchFamily="18" charset="-34"/>
          </a:endParaRPr>
        </a:p>
      </dgm:t>
    </dgm:pt>
    <dgm:pt modelId="{81F4DF17-B14A-4203-B5E5-AF928C3D4E32}" type="parTrans" cxnId="{CB17D45B-84B8-40EA-B00C-4022E294934A}">
      <dgm:prSet/>
      <dgm:spPr/>
      <dgm:t>
        <a:bodyPr/>
        <a:lstStyle/>
        <a:p>
          <a:endParaRPr lang="zh-CN" altLang="en-US"/>
        </a:p>
      </dgm:t>
    </dgm:pt>
    <dgm:pt modelId="{1486FFC6-7172-4801-84D3-02CC5130B75D}" type="sibTrans" cxnId="{CB17D45B-84B8-40EA-B00C-4022E294934A}">
      <dgm:prSet/>
      <dgm:spPr/>
      <dgm:t>
        <a:bodyPr/>
        <a:lstStyle/>
        <a:p>
          <a:endParaRPr lang="zh-CN" altLang="en-US"/>
        </a:p>
      </dgm:t>
    </dgm:pt>
    <dgm:pt modelId="{ABF1928F-9301-469E-87B6-93359E76D804}" type="pres">
      <dgm:prSet presAssocID="{27C98C08-CCAA-401E-A86E-07C5897A89E8}" presName="Name0" presStyleCnt="0">
        <dgm:presLayoutVars>
          <dgm:chMax/>
          <dgm:chPref/>
          <dgm:dir/>
          <dgm:animLvl val="lvl"/>
        </dgm:presLayoutVars>
      </dgm:prSet>
      <dgm:spPr/>
      <dgm:t>
        <a:bodyPr/>
        <a:lstStyle/>
        <a:p>
          <a:endParaRPr lang="zh-CN" altLang="en-US"/>
        </a:p>
      </dgm:t>
    </dgm:pt>
    <dgm:pt modelId="{2B7CAAC9-EF53-490F-90D7-6CF387CA3BA1}" type="pres">
      <dgm:prSet presAssocID="{14C142B3-29ED-4917-9321-86AED60A9F29}" presName="composite" presStyleCnt="0"/>
      <dgm:spPr/>
    </dgm:pt>
    <dgm:pt modelId="{44F0DD19-1BE2-4472-8003-9CB08AC4830E}" type="pres">
      <dgm:prSet presAssocID="{14C142B3-29ED-4917-9321-86AED60A9F29}" presName="ParentAccentShape" presStyleLbl="trBgShp" presStyleIdx="0" presStyleCnt="2"/>
      <dgm:spPr/>
    </dgm:pt>
    <dgm:pt modelId="{2A575194-1A83-4130-A05D-8EDEE2033D11}" type="pres">
      <dgm:prSet presAssocID="{14C142B3-29ED-4917-9321-86AED60A9F29}" presName="ParentText" presStyleLbl="revTx" presStyleIdx="0" presStyleCnt="2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82EC7E3-B364-48DC-8E2F-D2F60826DBD4}" type="pres">
      <dgm:prSet presAssocID="{14C142B3-29ED-4917-9321-86AED60A9F29}" presName="ChildText" presStyleLbl="revTx" presStyleIdx="1" presStyleCnt="2" custScaleX="116331" custScaleY="125474" custLinFactNeighborX="267" custLinFactNeighborY="-4295">
        <dgm:presLayoutVars>
          <dgm:chMax val="0"/>
          <dgm:chPref val="0"/>
        </dgm:presLayoutVars>
      </dgm:prSet>
      <dgm:spPr/>
      <dgm:t>
        <a:bodyPr/>
        <a:lstStyle/>
        <a:p>
          <a:endParaRPr lang="zh-CN" altLang="en-US"/>
        </a:p>
      </dgm:t>
    </dgm:pt>
    <dgm:pt modelId="{07A27503-5251-4347-BABE-C5C94F9A687D}" type="pres">
      <dgm:prSet presAssocID="{14C142B3-29ED-4917-9321-86AED60A9F29}" presName="ChildAccentShape" presStyleLbl="trBgShp" presStyleIdx="1" presStyleCnt="2"/>
      <dgm:spPr/>
    </dgm:pt>
    <dgm:pt modelId="{0EFEE069-E829-47FF-A2E8-B2C886BA06EA}" type="pres">
      <dgm:prSet presAssocID="{14C142B3-29ED-4917-9321-86AED60A9F29}" presName="Image" presStyleLbl="alignImgPlace1" presStyleIdx="0" presStyleCnt="1" custScaleX="103734" custScaleY="103435"/>
      <dgm:spPr>
        <a:blipFill>
          <a:blip xmlns:r="http://schemas.openxmlformats.org/officeDocument/2006/relationships" r:embed="rId1">
            <a:extLst>
              <a:ext uri="{28A0092B-C50C-407E-A947-70E740481C1C}">
                <a14:useLocalDpi xmlns:a14="http://schemas.microsoft.com/office/drawing/2010/main" val="0"/>
              </a:ext>
            </a:extLst>
          </a:blip>
          <a:srcRect/>
          <a:stretch>
            <a:fillRect t="-45000" b="-45000"/>
          </a:stretch>
        </a:blipFill>
      </dgm:spPr>
    </dgm:pt>
  </dgm:ptLst>
  <dgm:cxnLst>
    <dgm:cxn modelId="{F8249191-F26E-4E64-805B-20F2EAEB589C}" type="presOf" srcId="{14C142B3-29ED-4917-9321-86AED60A9F29}" destId="{2A575194-1A83-4130-A05D-8EDEE2033D11}" srcOrd="0" destOrd="0" presId="urn:microsoft.com/office/officeart/2009/3/layout/SnapshotPictureList"/>
    <dgm:cxn modelId="{48BFF7F2-DD78-44EF-B410-17CC8DE305EC}" type="presOf" srcId="{27C98C08-CCAA-401E-A86E-07C5897A89E8}" destId="{ABF1928F-9301-469E-87B6-93359E76D804}" srcOrd="0" destOrd="0" presId="urn:microsoft.com/office/officeart/2009/3/layout/SnapshotPictureList"/>
    <dgm:cxn modelId="{A622D6ED-0C4C-4DA3-B5ED-DEF2851889F3}" type="presOf" srcId="{9506B2D1-2C3E-4D5F-8F93-214F56E46287}" destId="{182EC7E3-B364-48DC-8E2F-D2F60826DBD4}" srcOrd="0" destOrd="0" presId="urn:microsoft.com/office/officeart/2009/3/layout/SnapshotPictureList"/>
    <dgm:cxn modelId="{CB17D45B-84B8-40EA-B00C-4022E294934A}" srcId="{14C142B3-29ED-4917-9321-86AED60A9F29}" destId="{9506B2D1-2C3E-4D5F-8F93-214F56E46287}" srcOrd="0" destOrd="0" parTransId="{81F4DF17-B14A-4203-B5E5-AF928C3D4E32}" sibTransId="{1486FFC6-7172-4801-84D3-02CC5130B75D}"/>
    <dgm:cxn modelId="{63EDA04D-2684-4B4E-BA03-4862996ADF31}" srcId="{27C98C08-CCAA-401E-A86E-07C5897A89E8}" destId="{14C142B3-29ED-4917-9321-86AED60A9F29}" srcOrd="0" destOrd="0" parTransId="{F4B0FDB9-FFFC-407A-9D78-7CBD2383E767}" sibTransId="{D4F393CB-E18F-4F36-B262-6B818D60A9EB}"/>
    <dgm:cxn modelId="{72D0C5E8-AD32-4E56-8347-7A59884BCD10}" type="presParOf" srcId="{ABF1928F-9301-469E-87B6-93359E76D804}" destId="{2B7CAAC9-EF53-490F-90D7-6CF387CA3BA1}" srcOrd="0" destOrd="0" presId="urn:microsoft.com/office/officeart/2009/3/layout/SnapshotPictureList"/>
    <dgm:cxn modelId="{34818917-B607-4941-9EDC-A95BBD48DB77}" type="presParOf" srcId="{2B7CAAC9-EF53-490F-90D7-6CF387CA3BA1}" destId="{44F0DD19-1BE2-4472-8003-9CB08AC4830E}" srcOrd="0" destOrd="0" presId="urn:microsoft.com/office/officeart/2009/3/layout/SnapshotPictureList"/>
    <dgm:cxn modelId="{F83A4951-E6E2-4FF8-A773-59DDF1A283ED}" type="presParOf" srcId="{2B7CAAC9-EF53-490F-90D7-6CF387CA3BA1}" destId="{2A575194-1A83-4130-A05D-8EDEE2033D11}" srcOrd="1" destOrd="0" presId="urn:microsoft.com/office/officeart/2009/3/layout/SnapshotPictureList"/>
    <dgm:cxn modelId="{1F6E3505-D385-4208-A203-6401EC984013}" type="presParOf" srcId="{2B7CAAC9-EF53-490F-90D7-6CF387CA3BA1}" destId="{182EC7E3-B364-48DC-8E2F-D2F60826DBD4}" srcOrd="2" destOrd="0" presId="urn:microsoft.com/office/officeart/2009/3/layout/SnapshotPictureList"/>
    <dgm:cxn modelId="{2263C9C7-7B61-428F-80FF-70114D92E9FA}" type="presParOf" srcId="{2B7CAAC9-EF53-490F-90D7-6CF387CA3BA1}" destId="{07A27503-5251-4347-BABE-C5C94F9A687D}" srcOrd="3" destOrd="0" presId="urn:microsoft.com/office/officeart/2009/3/layout/SnapshotPictureList"/>
    <dgm:cxn modelId="{3F53B32E-5F19-4C3D-ACA7-E4F1D4634E38}" type="presParOf" srcId="{2B7CAAC9-EF53-490F-90D7-6CF387CA3BA1}" destId="{0EFEE069-E829-47FF-A2E8-B2C886BA06EA}" srcOrd="4" destOrd="0" presId="urn:microsoft.com/office/officeart/2009/3/layout/SnapshotPictureLis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256BD79-4821-4899-A0A4-04DB93C88140}">
      <dsp:nvSpPr>
        <dsp:cNvPr id="0" name=""/>
        <dsp:cNvSpPr/>
      </dsp:nvSpPr>
      <dsp:spPr>
        <a:xfrm>
          <a:off x="989986" y="496674"/>
          <a:ext cx="5112417" cy="917922"/>
        </a:xfrm>
        <a:prstGeom prst="rect">
          <a:avLst/>
        </a:prstGeom>
        <a:solidFill>
          <a:schemeClr val="lt1">
            <a:alpha val="4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45920" tIns="152400" rIns="152400" bIns="152400" numCol="1" spcCol="1270" anchor="ctr" anchorCtr="0">
          <a:noAutofit/>
        </a:bodyPr>
        <a:lstStyle/>
        <a:p>
          <a:pPr lvl="0" algn="l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40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The </a:t>
          </a:r>
          <a:r>
            <a:rPr lang="zh-CN" altLang="en-US" sz="40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earliest university</a:t>
          </a:r>
          <a:endParaRPr lang="zh-CN" altLang="en-US" sz="4000" b="1" kern="1200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JasmineUPC" pitchFamily="18" charset="-34"/>
            <a:cs typeface="JasmineUPC" pitchFamily="18" charset="-34"/>
          </a:endParaRPr>
        </a:p>
      </dsp:txBody>
      <dsp:txXfrm>
        <a:off x="989986" y="496674"/>
        <a:ext cx="5112417" cy="917922"/>
      </dsp:txXfrm>
    </dsp:sp>
    <dsp:sp modelId="{34BB49AA-CAFF-425E-A7A8-8FD7E4FBA28C}">
      <dsp:nvSpPr>
        <dsp:cNvPr id="0" name=""/>
        <dsp:cNvSpPr/>
      </dsp:nvSpPr>
      <dsp:spPr>
        <a:xfrm>
          <a:off x="792088" y="360040"/>
          <a:ext cx="770881" cy="1156322"/>
        </a:xfrm>
        <a:prstGeom prst="rect">
          <a:avLst/>
        </a:prstGeom>
        <a:solidFill>
          <a:schemeClr val="tx2">
            <a:lumMod val="20000"/>
            <a:lumOff val="80000"/>
          </a:schemeClr>
        </a:solidFill>
        <a:ln w="381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/>
      </dsp:style>
    </dsp:sp>
    <dsp:sp modelId="{A7F3A9F1-6AFF-4C24-A6BE-22007EF5A5A2}">
      <dsp:nvSpPr>
        <dsp:cNvPr id="0" name=""/>
        <dsp:cNvSpPr/>
      </dsp:nvSpPr>
      <dsp:spPr>
        <a:xfrm>
          <a:off x="989986" y="1791369"/>
          <a:ext cx="5112417" cy="917922"/>
        </a:xfrm>
        <a:prstGeom prst="rect">
          <a:avLst/>
        </a:prstGeom>
        <a:solidFill>
          <a:schemeClr val="lt1">
            <a:alpha val="4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45920" tIns="152400" rIns="152400" bIns="152400" numCol="1" spcCol="1270" anchor="ctr" anchorCtr="0">
          <a:noAutofit/>
        </a:bodyPr>
        <a:lstStyle/>
        <a:p>
          <a:pPr lvl="0" algn="l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40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The first modern university</a:t>
          </a:r>
          <a:endParaRPr lang="zh-CN" altLang="en-US" sz="4000" b="1" kern="1200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JasmineUPC" pitchFamily="18" charset="-34"/>
            <a:cs typeface="JasmineUPC" pitchFamily="18" charset="-34"/>
          </a:endParaRPr>
        </a:p>
      </dsp:txBody>
      <dsp:txXfrm>
        <a:off x="989986" y="1791369"/>
        <a:ext cx="5112417" cy="917922"/>
      </dsp:txXfrm>
    </dsp:sp>
    <dsp:sp modelId="{3957A12C-DBF0-414C-9F28-5D59EA1621C7}">
      <dsp:nvSpPr>
        <dsp:cNvPr id="0" name=""/>
        <dsp:cNvSpPr/>
      </dsp:nvSpPr>
      <dsp:spPr>
        <a:xfrm>
          <a:off x="804322" y="1656181"/>
          <a:ext cx="770881" cy="1156322"/>
        </a:xfrm>
        <a:prstGeom prst="rect">
          <a:avLst/>
        </a:prstGeom>
        <a:solidFill>
          <a:srgbClr val="BCED7B"/>
        </a:solidFill>
        <a:ln w="381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/>
      </dsp:style>
    </dsp:sp>
    <dsp:sp modelId="{1EADE6A8-7E1C-4196-ACD5-D3D95899D152}">
      <dsp:nvSpPr>
        <dsp:cNvPr id="0" name=""/>
        <dsp:cNvSpPr/>
      </dsp:nvSpPr>
      <dsp:spPr>
        <a:xfrm>
          <a:off x="989986" y="3086064"/>
          <a:ext cx="5112417" cy="917922"/>
        </a:xfrm>
        <a:prstGeom prst="rect">
          <a:avLst/>
        </a:prstGeom>
        <a:solidFill>
          <a:schemeClr val="lt1">
            <a:alpha val="4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45920" tIns="152400" rIns="152400" bIns="152400" numCol="1" spcCol="1270" anchor="ctr" anchorCtr="0">
          <a:noAutofit/>
        </a:bodyPr>
        <a:lstStyle/>
        <a:p>
          <a:pPr lvl="0" algn="l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40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The </a:t>
          </a:r>
          <a:r>
            <a:rPr lang="zh-CN" altLang="en-US" sz="40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highest university</a:t>
          </a:r>
          <a:endParaRPr lang="zh-CN" altLang="en-US" sz="4000" b="1" kern="1200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JasmineUPC" pitchFamily="18" charset="-34"/>
            <a:cs typeface="JasmineUPC" pitchFamily="18" charset="-34"/>
          </a:endParaRPr>
        </a:p>
      </dsp:txBody>
      <dsp:txXfrm>
        <a:off x="989986" y="3086064"/>
        <a:ext cx="5112417" cy="917922"/>
      </dsp:txXfrm>
    </dsp:sp>
    <dsp:sp modelId="{72C000B2-9741-47D0-AB0F-560B9FB64296}">
      <dsp:nvSpPr>
        <dsp:cNvPr id="0" name=""/>
        <dsp:cNvSpPr/>
      </dsp:nvSpPr>
      <dsp:spPr>
        <a:xfrm>
          <a:off x="792088" y="2952332"/>
          <a:ext cx="770881" cy="1156322"/>
        </a:xfrm>
        <a:prstGeom prst="rect">
          <a:avLst/>
        </a:prstGeom>
        <a:solidFill>
          <a:srgbClr val="F4F987"/>
        </a:solidFill>
        <a:ln w="381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/>
      </dsp:style>
    </dsp:sp>
    <dsp:sp modelId="{072AAA47-BED6-4352-95A6-41B5E8923256}">
      <dsp:nvSpPr>
        <dsp:cNvPr id="0" name=""/>
        <dsp:cNvSpPr/>
      </dsp:nvSpPr>
      <dsp:spPr>
        <a:xfrm>
          <a:off x="989986" y="4380759"/>
          <a:ext cx="5112417" cy="917922"/>
        </a:xfrm>
        <a:prstGeom prst="rect">
          <a:avLst/>
        </a:prstGeom>
        <a:solidFill>
          <a:schemeClr val="lt1">
            <a:alpha val="4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45920" tIns="152400" rIns="152400" bIns="152400" numCol="1" spcCol="1270" anchor="ctr" anchorCtr="0">
          <a:noAutofit/>
        </a:bodyPr>
        <a:lstStyle/>
        <a:p>
          <a:pPr lvl="0" algn="l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40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Four big memorial university</a:t>
          </a:r>
          <a:endParaRPr lang="zh-CN" altLang="en-US" sz="4000" b="1" kern="1200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JasmineUPC" pitchFamily="18" charset="-34"/>
            <a:cs typeface="JasmineUPC" pitchFamily="18" charset="-34"/>
          </a:endParaRPr>
        </a:p>
      </dsp:txBody>
      <dsp:txXfrm>
        <a:off x="989986" y="4380759"/>
        <a:ext cx="5112417" cy="917922"/>
      </dsp:txXfrm>
    </dsp:sp>
    <dsp:sp modelId="{B90E166A-4DE9-40CD-B6BA-24AB5CD14FA8}">
      <dsp:nvSpPr>
        <dsp:cNvPr id="0" name=""/>
        <dsp:cNvSpPr/>
      </dsp:nvSpPr>
      <dsp:spPr>
        <a:xfrm>
          <a:off x="804322" y="4248473"/>
          <a:ext cx="770881" cy="1156322"/>
        </a:xfrm>
        <a:prstGeom prst="rect">
          <a:avLst/>
        </a:prstGeom>
        <a:solidFill>
          <a:srgbClr val="F9BCA1"/>
        </a:solidFill>
        <a:ln w="381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/>
      </dsp:style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7A27503-5251-4347-BABE-C5C94F9A687D}">
      <dsp:nvSpPr>
        <dsp:cNvPr id="0" name=""/>
        <dsp:cNvSpPr/>
      </dsp:nvSpPr>
      <dsp:spPr>
        <a:xfrm>
          <a:off x="8364244" y="923387"/>
          <a:ext cx="201551" cy="3730282"/>
        </a:xfrm>
        <a:prstGeom prst="rect">
          <a:avLst/>
        </a:prstGeom>
        <a:solidFill>
          <a:schemeClr val="accent5">
            <a:tint val="50000"/>
            <a:alpha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44F0DD19-1BE2-4472-8003-9CB08AC4830E}">
      <dsp:nvSpPr>
        <dsp:cNvPr id="0" name=""/>
        <dsp:cNvSpPr/>
      </dsp:nvSpPr>
      <dsp:spPr>
        <a:xfrm>
          <a:off x="298812" y="923387"/>
          <a:ext cx="5242022" cy="3730282"/>
        </a:xfrm>
        <a:prstGeom prst="frame">
          <a:avLst>
            <a:gd name="adj1" fmla="val 5450"/>
          </a:avLst>
        </a:prstGeom>
        <a:solidFill>
          <a:schemeClr val="accent5">
            <a:tint val="50000"/>
            <a:alpha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0EFEE069-E829-47FF-A2E8-B2C886BA06EA}">
      <dsp:nvSpPr>
        <dsp:cNvPr id="0" name=""/>
        <dsp:cNvSpPr/>
      </dsp:nvSpPr>
      <dsp:spPr>
        <a:xfrm>
          <a:off x="3155" y="415819"/>
          <a:ext cx="5228683" cy="3649725"/>
        </a:xfrm>
        <a:prstGeom prst="rect">
          <a:avLst/>
        </a:prstGeom>
        <a:blipFill>
          <a:blip xmlns:r="http://schemas.openxmlformats.org/officeDocument/2006/relationships" r:embed="rId1">
            <a:extLst>
              <a:ext uri="{28A0092B-C50C-407E-A947-70E740481C1C}">
                <a14:useLocalDpi xmlns:a14="http://schemas.microsoft.com/office/drawing/2010/main" val="0"/>
              </a:ext>
            </a:extLst>
          </a:blip>
          <a:srcRect/>
          <a:stretch>
            <a:fillRect t="-45000" b="-45000"/>
          </a:stretch>
        </a:blipFill>
        <a:ln w="381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/>
      </dsp:style>
    </dsp:sp>
    <dsp:sp modelId="{2A575194-1A83-4130-A05D-8EDEE2033D11}">
      <dsp:nvSpPr>
        <dsp:cNvPr id="0" name=""/>
        <dsp:cNvSpPr/>
      </dsp:nvSpPr>
      <dsp:spPr>
        <a:xfrm>
          <a:off x="503751" y="4006196"/>
          <a:ext cx="4835533" cy="442788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06400" tIns="152400" rIns="406400" bIns="152400" numCol="1" spcCol="1270" anchor="ctr" anchorCtr="0">
          <a:noAutofit/>
        </a:bodyPr>
        <a:lstStyle/>
        <a:p>
          <a:pPr lvl="0" algn="l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40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Hunan University</a:t>
          </a:r>
          <a:endParaRPr lang="zh-CN" altLang="en-US" sz="4000" b="1" kern="1200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JasmineUPC" pitchFamily="18" charset="-34"/>
            <a:cs typeface="JasmineUPC" pitchFamily="18" charset="-34"/>
          </a:endParaRPr>
        </a:p>
      </dsp:txBody>
      <dsp:txXfrm>
        <a:off x="503751" y="4006196"/>
        <a:ext cx="4835533" cy="442788"/>
      </dsp:txXfrm>
    </dsp:sp>
    <dsp:sp modelId="{182EC7E3-B364-48DC-8E2F-D2F60826DBD4}">
      <dsp:nvSpPr>
        <dsp:cNvPr id="0" name=""/>
        <dsp:cNvSpPr/>
      </dsp:nvSpPr>
      <dsp:spPr>
        <a:xfrm>
          <a:off x="5564947" y="288046"/>
          <a:ext cx="2787983" cy="4680534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0" rIns="0" bIns="0" numCol="1" spcCol="1270" anchor="t" anchorCtr="0">
          <a:noAutofit/>
        </a:bodyPr>
        <a:lstStyle/>
        <a:p>
          <a:pPr lvl="0" algn="l" defTabSz="9334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1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    As </a:t>
          </a:r>
          <a:r>
            <a:rPr lang="en-US" altLang="zh-CN" sz="21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“</a:t>
          </a:r>
          <a:r>
            <a:rPr lang="zh-CN" altLang="en-US" sz="21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in one thousand universities, school in one hundred</a:t>
          </a:r>
          <a:r>
            <a:rPr lang="en-US" altLang="zh-CN" sz="21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”</a:t>
          </a:r>
          <a:r>
            <a:rPr lang="zh-CN" altLang="en-US" sz="21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 ,</a:t>
          </a:r>
          <a:r>
            <a:rPr lang="zh-CN" altLang="en-US" sz="2100" b="1" kern="1200" dirty="0" smtClean="0">
              <a:solidFill>
                <a:srgbClr val="FF0000"/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Hunan University</a:t>
          </a:r>
          <a:r>
            <a:rPr lang="zh-CN" altLang="en-US" sz="21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 stemed from Yuelu academy,which was built in 976 and was one of the four famous academy.</a:t>
          </a:r>
          <a:endParaRPr lang="en-US" altLang="zh-CN" sz="2100" b="1" kern="1200" dirty="0" smtClean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JasmineUPC" pitchFamily="18" charset="-34"/>
            <a:cs typeface="JasmineUPC" pitchFamily="18" charset="-34"/>
          </a:endParaRPr>
        </a:p>
        <a:p>
          <a:pPr lvl="0" algn="l" defTabSz="9334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21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    </a:t>
          </a:r>
          <a:r>
            <a:rPr lang="zh-CN" altLang="en-US" sz="21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 What</a:t>
          </a:r>
          <a:r>
            <a:rPr lang="en-US" altLang="zh-CN" sz="21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’</a:t>
          </a:r>
          <a:r>
            <a:rPr lang="zh-CN" altLang="en-US" sz="21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JasmineUPC" pitchFamily="18" charset="-34"/>
              <a:cs typeface="JasmineUPC" pitchFamily="18" charset="-34"/>
            </a:rPr>
            <a:t>s more ,it is one of the only two of the oldest university in east Asia</a:t>
          </a:r>
          <a:endParaRPr lang="zh-CN" altLang="en-US" sz="2100" b="1" kern="1200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JasmineUPC" pitchFamily="18" charset="-34"/>
            <a:cs typeface="JasmineUPC" pitchFamily="18" charset="-34"/>
          </a:endParaRPr>
        </a:p>
      </dsp:txBody>
      <dsp:txXfrm>
        <a:off x="5564947" y="288046"/>
        <a:ext cx="2787983" cy="4680534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8/layout/PictureStrips">
  <dgm:title val=""/>
  <dgm:desc val=""/>
  <dgm:catLst>
    <dgm:cat type="list" pri="12500"/>
    <dgm:cat type="picture" pri="13000"/>
    <dgm:cat type="pictureconvert" pri="13000"/>
  </dgm:catLst>
  <dgm:samp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</dgm:ptLst>
      <dgm:cxnLst>
        <dgm:cxn modelId="40" srcId="0" destId="10" srcOrd="0" destOrd="0"/>
        <dgm:cxn modelId="50" srcId="0" destId="20" srcOrd="1" destOrd="0"/>
        <dgm:cxn modelId="60" srcId="0" destId="30" srcOrd="2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40" srcId="0" destId="10" srcOrd="0" destOrd="0"/>
        <dgm:cxn modelId="5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40">
          <dgm:prSet phldr="1"/>
        </dgm:pt>
      </dgm:ptLst>
      <dgm:cxnLst>
        <dgm:cxn modelId="40" srcId="0" destId="10" srcOrd="0" destOrd="0"/>
        <dgm:cxn modelId="50" srcId="0" destId="20" srcOrd="1" destOrd="0"/>
        <dgm:cxn modelId="60" srcId="0" destId="30" srcOrd="2" destOrd="0"/>
        <dgm:cxn modelId="70" srcId="0" destId="40" srcOrd="2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snake">
          <dgm:param type="off" val="ctr"/>
        </dgm:alg>
      </dgm:if>
      <dgm:else name="Name3">
        <dgm:alg type="snake">
          <dgm:param type="off" val="ctr"/>
          <dgm:param type="grDir" val="tR"/>
        </dgm:alg>
      </dgm:else>
    </dgm:choose>
    <dgm:shape xmlns:r="http://schemas.openxmlformats.org/officeDocument/2006/relationships" r:blip="">
      <dgm:adjLst/>
    </dgm:shape>
    <dgm:constrLst>
      <dgm:constr type="primFontSz" for="des" ptType="node" op="equ" val="65"/>
      <dgm:constr type="w" for="ch" forName="composite" refType="w"/>
      <dgm:constr type="h" for="ch" forName="composite" refType="h"/>
      <dgm:constr type="sp" refType="h" refFor="ch" refForName="composite" op="equ" fact="0.1"/>
      <dgm:constr type="h" for="ch" forName="sibTrans" refType="h" refFor="ch" refForName="composite" op="equ" fact="0.1"/>
      <dgm:constr type="w" for="ch" forName="sibTrans" refType="h" refFor="ch" refForName="sibTrans" op="equ"/>
    </dgm:constrLst>
    <dgm:forEach name="nodesForEach" axis="ch" ptType="node">
      <dgm:layoutNode name="composite">
        <dgm:alg type="composite">
          <dgm:param type="ar" val="3"/>
        </dgm:alg>
        <dgm:shape xmlns:r="http://schemas.openxmlformats.org/officeDocument/2006/relationships" r:blip="">
          <dgm:adjLst/>
        </dgm:shape>
        <dgm:choose name="Name4">
          <dgm:if name="Name5" func="var" arg="dir" op="equ" val="norm">
            <dgm:constrLst>
              <dgm:constr type="l" for="ch" forName="rect1" refType="w" fact="0.04"/>
              <dgm:constr type="t" for="ch" forName="rect1" refType="h" fact="0.13"/>
              <dgm:constr type="w" for="ch" forName="rect1" refType="w" fact="0.96"/>
              <dgm:constr type="h" for="ch" forName="rect1" refType="h" fact="0.9"/>
              <dgm:constr type="l" for="ch" forName="rect2" refType="w" fact="0"/>
              <dgm:constr type="t" for="ch" forName="rect2" refType="h" fact="0"/>
              <dgm:constr type="w" for="ch" forName="rect2" refType="w" fact="0.21"/>
              <dgm:constr type="h" for="ch" forName="rect2" refType="w" fact="0.315"/>
            </dgm:constrLst>
          </dgm:if>
          <dgm:else name="Name6">
            <dgm:constrLst>
              <dgm:constr type="l" for="ch" forName="rect1" refType="w" fact="0"/>
              <dgm:constr type="t" for="ch" forName="rect1" refType="h" fact="0.13"/>
              <dgm:constr type="w" for="ch" forName="rect1" refType="w" fact="0.96"/>
              <dgm:constr type="h" for="ch" forName="rect1" refType="h" fact="0.9"/>
              <dgm:constr type="l" for="ch" forName="rect2" refType="w" fact="0.79"/>
              <dgm:constr type="t" for="ch" forName="rect2" refType="h" fact="0"/>
              <dgm:constr type="w" for="ch" forName="rect2" refType="w" fact="0.21"/>
              <dgm:constr type="h" for="ch" forName="rect2" refType="w" fact="0.315"/>
            </dgm:constrLst>
          </dgm:else>
        </dgm:choose>
        <dgm:layoutNode name="rect1" styleLbl="trAlignAcc1">
          <dgm:varLst>
            <dgm:bulletEnabled val="1"/>
          </dgm:varLst>
          <dgm:alg type="tx">
            <dgm:param type="parTxLTRAlign" val="l"/>
          </dgm:alg>
          <dgm:shape xmlns:r="http://schemas.openxmlformats.org/officeDocument/2006/relationships" type="rect" r:blip="">
            <dgm:adjLst/>
          </dgm:shape>
          <dgm:presOf axis="desOrSelf" ptType="node"/>
          <dgm:choose name="Name7">
            <dgm:if name="Name8" func="var" arg="dir" op="equ" val="norm">
              <dgm:constrLst>
                <dgm:constr type="lMarg" refType="w" fact="0.6"/>
                <dgm:constr type="rMarg" refType="primFontSz" fact="0.3"/>
                <dgm:constr type="tMarg" refType="primFontSz" fact="0.3"/>
                <dgm:constr type="bMarg" refType="primFontSz" fact="0.3"/>
              </dgm:constrLst>
            </dgm:if>
            <dgm:else name="Name9">
              <dgm:constrLst>
                <dgm:constr type="lMarg" refType="primFontSz" fact="0.3"/>
                <dgm:constr type="rMarg" refType="w" fact="0.6"/>
                <dgm:constr type="tMarg" refType="primFontSz" fact="0.3"/>
                <dgm:constr type="bMarg" refType="primFontSz" fact="0.3"/>
              </dgm:constrLst>
            </dgm:else>
          </dgm:choose>
          <dgm:ruleLst>
            <dgm:rule type="primFontSz" val="5" fact="NaN" max="NaN"/>
          </dgm:ruleLst>
        </dgm:layoutNode>
        <dgm:layoutNode name="rect2" styleLbl="fgImgPlace1">
          <dgm:alg type="sp"/>
          <dgm:shape xmlns:r="http://schemas.openxmlformats.org/officeDocument/2006/relationships" type="rect" r:blip="" blipPhldr="1">
            <dgm:adjLst/>
          </dgm:shape>
          <dgm:presOf/>
        </dgm:layoutNode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9/3/layout/SnapshotPictureList">
  <dgm:title val=""/>
  <dgm:desc val=""/>
  <dgm:catLst>
    <dgm:cat type="picture" pri="3000"/>
    <dgm:cat type="pictureconvert" pri="30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</dgm:ptLst>
      <dgm:cxnLst>
        <dgm:cxn modelId="40" srcId="0" destId="10" srcOrd="0" destOrd="0"/>
        <dgm:cxn modelId="12" srcId="10" destId="1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11">
          <dgm:prSet phldr="1"/>
        </dgm:pt>
      </dgm:ptLst>
      <dgm:cxnLst>
        <dgm:cxn modelId="40" srcId="0" destId="10" srcOrd="0" destOrd="0"/>
        <dgm:cxn modelId="12" srcId="10" destId="11" srcOrd="0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11">
          <dgm:prSet phldr="1"/>
        </dgm:pt>
      </dgm:ptLst>
      <dgm:cxnLst>
        <dgm:cxn modelId="40" srcId="0" destId="10" srcOrd="0" destOrd="0"/>
        <dgm:cxn modelId="12" srcId="10" destId="11" srcOrd="0" destOrd="0"/>
      </dgm:cxnLst>
      <dgm:bg/>
      <dgm:whole/>
    </dgm:dataModel>
  </dgm:clrData>
  <dgm:layoutNode name="Name0">
    <dgm:varLst>
      <dgm:chMax/>
      <dgm:chPref/>
      <dgm:dir/>
      <dgm:animLvl val="lvl"/>
    </dgm:varLst>
    <dgm:alg type="snake">
      <dgm:param type="grDir" val="tL"/>
      <dgm:param type="flowDir" val="col"/>
    </dgm:alg>
    <dgm:shape xmlns:r="http://schemas.openxmlformats.org/officeDocument/2006/relationships" r:blip="">
      <dgm:adjLst/>
    </dgm:shape>
    <dgm:constrLst>
      <dgm:constr type="primFontSz" for="des" forName="ChildText" refType="primFontSz" refFor="des" refForName="ParentText" op="lte"/>
      <dgm:constr type="w" for="ch" forName="composite" refType="w"/>
      <dgm:constr type="h" for="ch" forName="composite" refType="h"/>
      <dgm:constr type="sp" refType="h" refFor="ch" refForName="composite" op="equ" fact="0.1"/>
      <dgm:constr type="h" for="ch" forName="sibTrans" refType="h" refFor="ch" refForName="composite" op="equ" fact="0.1"/>
      <dgm:constr type="w" for="ch" forName="sibTrans" refType="h" refFor="ch" refForName="sibTrans" op="equ"/>
    </dgm:constrLst>
    <dgm:forEach name="nodesForEach" axis="ch" ptType="node">
      <dgm:layoutNode name="composite">
        <dgm:alg type="composite">
          <dgm:param type="ar" val="2.0273"/>
        </dgm:alg>
        <dgm:shape xmlns:r="http://schemas.openxmlformats.org/officeDocument/2006/relationships" r:blip="">
          <dgm:adjLst/>
        </dgm:shape>
        <dgm:choose name="Name1">
          <dgm:if name="Name2" func="var" arg="dir" op="equ" val="norm">
            <dgm:constrLst>
              <dgm:constr type="l" for="ch" forName="ParentAccentShape" refType="w" fact="0.0238"/>
              <dgm:constr type="t" for="ch" forName="ParentAccentShape" refType="h" fact="0.107"/>
              <dgm:constr type="w" for="ch" forName="ParentAccentShape" refType="w" fact="0.619"/>
              <dgm:constr type="h" for="ch" forName="ParentAccentShape" refType="h" fact="0.893"/>
              <dgm:constr type="l" for="ch" forName="ParentText" refType="w" fact="0.048"/>
              <dgm:constr type="t" for="ch" forName="ParentText" refType="h" fact="0.845"/>
              <dgm:constr type="w" for="ch" forName="ParentText" refType="w" fact="0.571"/>
              <dgm:constr type="h" for="ch" forName="ParentText" refType="h" fact="0.106"/>
              <dgm:constr type="l" for="ch" forName="ChildText" refType="w" fact="0.668"/>
              <dgm:constr type="t" for="ch" forName="ChildText" refType="h" fact="0.107"/>
              <dgm:constr type="w" for="ch" forName="ChildText" refType="w" fact="0.283"/>
              <dgm:constr type="h" for="ch" forName="ChildText" refType="h" fact="0.893"/>
              <dgm:constr type="l" for="ch" forName="ChildAccentShape" refType="w" fact="0.9762"/>
              <dgm:constr type="t" for="ch" forName="ChildAccentShape" refType="h" fact="0.107"/>
              <dgm:constr type="w" for="ch" forName="ChildAccentShape" refType="w" fact="0.0238"/>
              <dgm:constr type="h" for="ch" forName="ChildAccentShape" refType="h" fact="0.893"/>
              <dgm:constr type="l" for="ch" forName="Image" refType="w" fact="0"/>
              <dgm:constr type="t" for="ch" forName="Image" refType="h" fact="0"/>
              <dgm:constr type="w" for="ch" forName="Image" refType="w" fact="0.5952"/>
              <dgm:constr type="h" for="ch" forName="Image" refType="h" fact="0.8447"/>
            </dgm:constrLst>
          </dgm:if>
          <dgm:else name="Name3">
            <dgm:constrLst>
              <dgm:constr type="l" for="ch" forName="ParentAccentShape" refType="w" fact="0.3572"/>
              <dgm:constr type="t" for="ch" forName="ParentAccentShape" refType="h" fact="0.107"/>
              <dgm:constr type="w" for="ch" forName="ParentAccentShape" refType="w" fact="0.619"/>
              <dgm:constr type="h" for="ch" forName="ParentAccentShape" refType="h" fact="0.893"/>
              <dgm:constr type="l" for="ch" forName="ParentText" refType="w" fact="0.381"/>
              <dgm:constr type="t" for="ch" forName="ParentText" refType="h" fact="0.845"/>
              <dgm:constr type="w" for="ch" forName="ParentText" refType="w" fact="0.571"/>
              <dgm:constr type="h" for="ch" forName="ParentText" refType="h" fact="0.106"/>
              <dgm:constr type="l" for="ch" forName="ChildText" refType="w" fact="0.049"/>
              <dgm:constr type="t" for="ch" forName="ChildText" refType="h" fact="0.107"/>
              <dgm:constr type="w" for="ch" forName="ChildText" refType="w" fact="0.283"/>
              <dgm:constr type="h" for="ch" forName="ChildText" refType="h" fact="0.893"/>
              <dgm:constr type="l" for="ch" forName="ChildAccentShape" refType="w" fact="0"/>
              <dgm:constr type="t" for="ch" forName="ChildAccentShape" refType="h" fact="0.107"/>
              <dgm:constr type="w" for="ch" forName="ChildAccentShape" refType="w" fact="0.0238"/>
              <dgm:constr type="h" for="ch" forName="ChildAccentShape" refType="h" fact="0.893"/>
              <dgm:constr type="l" for="ch" forName="Image" refType="w" fact="0.4048"/>
              <dgm:constr type="t" for="ch" forName="Image" refType="h" fact="0"/>
              <dgm:constr type="w" for="ch" forName="Image" refType="w" fact="0.5952"/>
              <dgm:constr type="h" for="ch" forName="Image" refType="h" fact="0.8447"/>
            </dgm:constrLst>
          </dgm:else>
        </dgm:choose>
        <dgm:layoutNode name="ParentAccentShape" styleLbl="trBgShp">
          <dgm:alg type="sp"/>
          <dgm:shape xmlns:r="http://schemas.openxmlformats.org/officeDocument/2006/relationships" type="frame" r:blip="" zOrderOff="-10">
            <dgm:adjLst>
              <dgm:adj idx="1" val="0.0545"/>
            </dgm:adjLst>
          </dgm:shape>
          <dgm:presOf/>
        </dgm:layoutNode>
        <dgm:layoutNode name="ParentText" styleLbl="revTx">
          <dgm:varLst>
            <dgm:chMax val="1"/>
            <dgm:chPref val="1"/>
            <dgm:bulletEnabled val="1"/>
          </dgm:varLst>
          <dgm:alg type="tx">
            <dgm:param type="parTxLTRAlign" val="l"/>
          </dgm:alg>
          <dgm:shape xmlns:r="http://schemas.openxmlformats.org/officeDocument/2006/relationships" type="rect" r:blip="" zOrderOff="10">
            <dgm:adjLst/>
          </dgm:shape>
          <dgm:presOf axis="self" ptType="node"/>
          <dgm:constrLst>
            <dgm:constr type="lMarg" refType="primFontSz" fact="0.8"/>
            <dgm:constr type="rMarg" refType="primFontSz" fact="0.8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layoutNode name="ChildText" styleLbl="revTx">
          <dgm:varLst>
            <dgm:chMax val="0"/>
            <dgm:chPref val="0"/>
          </dgm:varLst>
          <dgm:alg type="tx">
            <dgm:param type="parTxLTRAlign" val="l"/>
            <dgm:param type="txAnchorVert" val="t"/>
          </dgm:alg>
          <dgm:shape xmlns:r="http://schemas.openxmlformats.org/officeDocument/2006/relationships" type="rect" r:blip="" zOrderOff="10">
            <dgm:adjLst/>
          </dgm:shape>
          <dgm:choose name="Name4">
            <dgm:if name="Name5" axis="ch" ptType="node" func="cnt" op="gte" val="1">
              <dgm:presOf axis="des" ptType="node"/>
            </dgm:if>
            <dgm:else name="Name6">
              <dgm:presOf/>
            </dgm:else>
          </dgm:choose>
          <dgm:constrLst>
            <dgm:constr type="lMarg" refType="primFontSz" fact="0"/>
            <dgm:constr type="rMarg" refType="primFontSz" fact="0"/>
            <dgm:constr type="tMarg" refType="primFontSz" fact="0"/>
            <dgm:constr type="bMarg" refType="primFontSz" fact="0"/>
          </dgm:constrLst>
          <dgm:ruleLst>
            <dgm:rule type="primFontSz" val="5" fact="NaN" max="NaN"/>
          </dgm:ruleLst>
        </dgm:layoutNode>
        <dgm:layoutNode name="ChildAccentShape" styleLbl="trBgShp">
          <dgm:alg type="sp"/>
          <dgm:choose name="Name7">
            <dgm:if name="Name8" axis="ch" ptType="node" func="cnt" op="gte" val="1">
              <dgm:shape xmlns:r="http://schemas.openxmlformats.org/officeDocument/2006/relationships" type="rect" r:blip="" zOrderOff="-10">
                <dgm:adjLst/>
              </dgm:shape>
            </dgm:if>
            <dgm:else name="Name9">
              <dgm:shape xmlns:r="http://schemas.openxmlformats.org/officeDocument/2006/relationships" type="rect" r:blip="" hideGeom="1">
                <dgm:adjLst/>
              </dgm:shape>
            </dgm:else>
          </dgm:choose>
          <dgm:presOf/>
        </dgm:layoutNode>
        <dgm:layoutNode name="Image" styleLbl="alignImgPlace1">
          <dgm:alg type="sp"/>
          <dgm:shape xmlns:r="http://schemas.openxmlformats.org/officeDocument/2006/relationships" type="rect" r:blip="" blipPhldr="1">
            <dgm:adjLst/>
          </dgm:shape>
          <dgm:presOf/>
        </dgm:layoutNode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DB8-12FA-4DAB-B187-8C28C2BA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EAB-DE19-49B9-B177-D9A2D04B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62C-E6D5-43F5-B106-DFE1EDD7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945-ED9D-40EE-ACCA-5F7898AC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0A1E-AD6C-4AA1-A0A2-F28038B6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4883-6E05-47B7-973C-B33F6726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874E-D2DB-4724-ADAA-219EABF0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589C-50CF-4F24-A31F-4288C78E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F425-168B-41DE-AE2E-AFC19222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7C32-2F03-4F94-87FA-921A5D6F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4D79-1240-473F-9246-CACAA310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71A-5445-42D9-A817-6AD9367E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8A22-BA4D-49AC-B989-0EC4E3CC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CB08-1D70-4758-9DD3-2924826F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2969-CCE4-41A8-9F7B-442F1E12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7733-6DE2-44E6-B8C7-16F4CF2D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4625-7C6D-45A8-9800-904D4804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824-CB8F-47AE-AAF3-F1CD064C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42E-E513-408B-8963-50BBD278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D7B-B688-4039-8637-E3E3A7C9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76E-7C5F-4663-BE88-DC027AEF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73D0-51DB-42BE-A54A-FDEBF64D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3E7-41A8-4F12-863D-571492FD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25E-56A6-4561-8264-8BC539B8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B22DEF-1132-4CA5-9780-22472B292C8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14D0AD-B83A-4D3B-B3DF-686611E30F3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microsoft.com/office/2007/relationships/diagramDrawing" Target="../diagrams/drawing1.xml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273920" y="5013000"/>
            <a:ext cx="640044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刘振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356000" y="44280"/>
            <a:ext cx="64004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28 Days Later"/>
                <a:ea typeface="微软雅黑"/>
              </a:rPr>
              <a:t>Made  By  Ho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2946240" y="2776680"/>
            <a:ext cx="2819160" cy="1430280"/>
          </a:xfrm>
          <a:prstGeom prst="rect">
            <a:avLst/>
          </a:prstGeom>
          <a:noFill/>
          <a:ln w="0">
            <a:noFill/>
          </a:ln>
          <a:effectLst>
            <a:glow rad="165240">
              <a:srgbClr val="000000">
                <a:alpha val="40000"/>
              </a:srgbClr>
            </a:glow>
            <a:outerShdw algn="ctr" blurRad="63360" rotWithShape="0" sx="102000" sy="102000">
              <a:schemeClr val="accent5">
                <a:lumMod val="40000"/>
                <a:lumOff val="60000"/>
                <a:alpha val="40000"/>
              </a:schemeClr>
            </a:outerShdw>
            <a:reflection algn="bl" blurRad="6350" dir="5400000" endA="300" endPos="55000" rotWithShape="0" stA="50000" sy="-100000"/>
            <a:softEdge rad="12600"/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8800" spc="-1" strike="noStrike">
                <a:solidFill>
                  <a:srgbClr val="ffff00"/>
                </a:solidFill>
                <a:latin typeface="Jokerman"/>
                <a:ea typeface="方正字迹-童体毛笔字体"/>
              </a:rPr>
              <a:t>BES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4"/>
          <p:cNvGrpSpPr/>
          <p:nvPr/>
        </p:nvGrpSpPr>
        <p:grpSpPr>
          <a:xfrm>
            <a:off x="-2022480" y="2063160"/>
            <a:ext cx="7772040" cy="2920320"/>
            <a:chOff x="-2022480" y="2063160"/>
            <a:chExt cx="7772040" cy="2920320"/>
          </a:xfrm>
        </p:grpSpPr>
        <p:sp>
          <p:nvSpPr>
            <p:cNvPr id="86" name="Rectangle 2"/>
            <p:cNvSpPr/>
            <p:nvPr/>
          </p:nvSpPr>
          <p:spPr>
            <a:xfrm>
              <a:off x="-2022480" y="2063160"/>
              <a:ext cx="7772040" cy="146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 fontScale="77000"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ff0000"/>
                  </a:solidFill>
                  <a:latin typeface="Jokerman"/>
                  <a:ea typeface="方正字迹-童体毛笔字体"/>
                </a:rPr>
                <a:t>U</a:t>
              </a:r>
              <a:r>
                <a:rPr b="1" lang="en-US" sz="4400" spc="-1" strike="noStrike">
                  <a:solidFill>
                    <a:srgbClr val="000000"/>
                  </a:solidFill>
                  <a:latin typeface="Jokerman"/>
                  <a:ea typeface="方正字迹-童体毛笔字体"/>
                </a:rPr>
                <a:t>niversity </a:t>
              </a:r>
              <a:br>
                <a:rPr sz="1800"/>
              </a:br>
              <a:br>
                <a:rPr sz="18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0"/>
            <p:cNvSpPr/>
            <p:nvPr/>
          </p:nvSpPr>
          <p:spPr>
            <a:xfrm>
              <a:off x="963720" y="3217680"/>
              <a:ext cx="18000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Jokerman"/>
                  <a:ea typeface="方正字迹-童体毛笔字体"/>
                </a:rPr>
                <a:t>Of th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11"/>
            <p:cNvSpPr/>
            <p:nvPr/>
          </p:nvSpPr>
          <p:spPr>
            <a:xfrm>
              <a:off x="1863720" y="4223520"/>
              <a:ext cx="29520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000000"/>
                  </a:solidFill>
                  <a:latin typeface="Jokerman"/>
                </a:rPr>
                <a:t>In</a:t>
              </a: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Jokerman"/>
                </a:rPr>
                <a:t>Chin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矩形 1"/>
          <p:cNvSpPr/>
          <p:nvPr/>
        </p:nvSpPr>
        <p:spPr>
          <a:xfrm>
            <a:off x="2237760" y="1005840"/>
            <a:ext cx="5156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中国最好大学建校史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咸蛋超人\Desktop\刘震云\背景\Data-Transferring-ppt-background-for-Powerpoint-Templates.jpg"/>
          <p:cNvPicPr/>
          <p:nvPr/>
        </p:nvPicPr>
        <p:blipFill>
          <a:blip r:embed="rId1"/>
          <a:stretch/>
        </p:blipFill>
        <p:spPr>
          <a:xfrm>
            <a:off x="-38160" y="0"/>
            <a:ext cx="9181800" cy="6886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30960" y="-243360"/>
            <a:ext cx="324000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solidFill>
                  <a:srgbClr val="00ccff"/>
                </a:solidFill>
                <a:latin typeface="JasmineUPC"/>
                <a:ea typeface="微软雅黑"/>
              </a:rPr>
              <a:t>Conte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098687568"/>
              </p:ext>
            </p:extLst>
          </p:nvPr>
        </p:nvGraphicFramePr>
        <p:xfrm>
          <a:off x="-336600" y="980640"/>
          <a:ext cx="7092000" cy="554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5"/>
          <p:cNvSpPr/>
          <p:nvPr/>
        </p:nvSpPr>
        <p:spPr>
          <a:xfrm>
            <a:off x="0" y="-171360"/>
            <a:ext cx="94683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00b0f0"/>
                </a:solidFill>
                <a:latin typeface="28 Days Later"/>
                <a:ea typeface="Parry Hotter"/>
              </a:rPr>
              <a:t>1.The earliest  </a:t>
            </a:r>
            <a:r>
              <a:rPr b="1" lang="en-US" sz="6000" spc="-1" strike="noStrike">
                <a:solidFill>
                  <a:srgbClr val="00b0f0"/>
                </a:solidFill>
                <a:latin typeface="28 Days Later"/>
                <a:ea typeface="Parry Hotter"/>
              </a:rPr>
              <a:t>univers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458576228"/>
              </p:ext>
            </p:extLst>
          </p:nvPr>
        </p:nvGraphicFramePr>
        <p:xfrm>
          <a:off x="395640" y="1196640"/>
          <a:ext cx="8568720" cy="554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5"/>
          <p:cNvSpPr/>
          <p:nvPr/>
        </p:nvSpPr>
        <p:spPr>
          <a:xfrm>
            <a:off x="0" y="-127440"/>
            <a:ext cx="946836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700" spc="-1" strike="noStrike">
                <a:solidFill>
                  <a:srgbClr val="b2ea68"/>
                </a:solidFill>
                <a:latin typeface="28 Days Later"/>
                <a:ea typeface="Parry Hotter"/>
              </a:rPr>
              <a:t>2.The first modern university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539640" y="671760"/>
            <a:ext cx="3960000" cy="10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JasmineUPC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JasmineUPC"/>
              </a:rPr>
              <a:t>Its predecessor is</a:t>
            </a:r>
            <a:r>
              <a:rPr b="0" lang="en-US" sz="4400" spc="-1" strike="noStrike">
                <a:solidFill>
                  <a:srgbClr val="000000"/>
                </a:solidFill>
                <a:latin typeface="JasmineUPC"/>
              </a:rPr>
              <a:t> Peiyang university,whi-ch was built in 189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JasmineUPC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JasmineUPC"/>
              </a:rPr>
              <a:t>Tianjin University </a:t>
            </a:r>
            <a:r>
              <a:rPr b="0" lang="en-US" sz="4400" spc="-1" strike="noStrike">
                <a:solidFill>
                  <a:srgbClr val="000000"/>
                </a:solidFill>
                <a:latin typeface="JasmineUPC"/>
              </a:rPr>
              <a:t>was first university in the  modern educational history of  China's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C:\Users\咸蛋超人\Desktop\20100723225328_副本.jpg"/>
          <p:cNvPicPr/>
          <p:nvPr/>
        </p:nvPicPr>
        <p:blipFill>
          <a:blip r:embed="rId2"/>
          <a:stretch/>
        </p:blipFill>
        <p:spPr>
          <a:xfrm rot="4611000">
            <a:off x="5288040" y="737280"/>
            <a:ext cx="327708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4"/>
          <p:cNvSpPr/>
          <p:nvPr/>
        </p:nvSpPr>
        <p:spPr>
          <a:xfrm>
            <a:off x="323640" y="0"/>
            <a:ext cx="946836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700" spc="-1" strike="noStrike">
                <a:solidFill>
                  <a:srgbClr val="f4f987"/>
                </a:solidFill>
                <a:latin typeface="28 Days Later"/>
                <a:ea typeface="Parry Hotter"/>
              </a:rPr>
              <a:t>3.The highest university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9"/>
          <p:cNvSpPr/>
          <p:nvPr/>
        </p:nvSpPr>
        <p:spPr>
          <a:xfrm>
            <a:off x="0" y="974520"/>
            <a:ext cx="9143640" cy="2022120"/>
          </a:xfrm>
          <a:prstGeom prst="rect">
            <a:avLst/>
          </a:prstGeom>
          <a:solidFill>
            <a:schemeClr val="bg1">
              <a:alpha val="49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9" name="Picture 3" descr="C:\Users\咸蛋超人\Desktop\img2.jpg"/>
          <p:cNvPicPr/>
          <p:nvPr/>
        </p:nvPicPr>
        <p:blipFill>
          <a:blip r:embed="rId2"/>
          <a:stretch/>
        </p:blipFill>
        <p:spPr>
          <a:xfrm>
            <a:off x="539640" y="3160440"/>
            <a:ext cx="59734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323640" y="1052640"/>
            <a:ext cx="8229240" cy="20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JasmineUPC"/>
              </a:rPr>
              <a:t>       </a:t>
            </a:r>
            <a:r>
              <a:rPr b="1" lang="en-US" sz="4000" spc="-1" strike="noStrike">
                <a:solidFill>
                  <a:srgbClr val="ff0000"/>
                </a:solidFill>
                <a:latin typeface="JasmineUPC"/>
              </a:rPr>
              <a:t>Tibet University </a:t>
            </a:r>
            <a:r>
              <a:rPr b="0" lang="en-US" sz="4000" spc="-1" strike="noStrike">
                <a:solidFill>
                  <a:srgbClr val="000000"/>
                </a:solidFill>
                <a:latin typeface="JasmineUPC"/>
              </a:rPr>
              <a:t>located in the beautiful The Tibetan plateau and is  </a:t>
            </a:r>
            <a:r>
              <a:rPr b="0" lang="en-US" sz="4000" spc="-1" strike="noStrike">
                <a:solidFill>
                  <a:srgbClr val="000000"/>
                </a:solidFill>
                <a:latin typeface="JasmineUPC"/>
              </a:rPr>
              <a:t>the highest university.Its predecessor isTibetan cadres Training course in 195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63964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-108360" y="-208800"/>
            <a:ext cx="946836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700" spc="-1" strike="noStrike">
                <a:solidFill>
                  <a:srgbClr val="bced7b"/>
                </a:solidFill>
                <a:latin typeface="28 Days Later"/>
                <a:ea typeface="Parry Hotter"/>
              </a:rPr>
              <a:t>4.Four big memorial university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323640" y="1268640"/>
            <a:ext cx="3960000" cy="74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9900"/>
                </a:solidFill>
                <a:latin typeface="JasmineUPC"/>
              </a:rPr>
              <a:t>   </a:t>
            </a:r>
            <a:r>
              <a:rPr b="1" lang="en-US" sz="4400" spc="-1" strike="noStrike">
                <a:solidFill>
                  <a:srgbClr val="ff9900"/>
                </a:solidFill>
                <a:latin typeface="JasmineUPC"/>
              </a:rPr>
              <a:t>Zhongshan unive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9900"/>
                </a:solidFill>
                <a:latin typeface="JasmineUPC"/>
              </a:rPr>
              <a:t>sity</a:t>
            </a:r>
            <a:r>
              <a:rPr b="0" lang="en-US" sz="4400" spc="-1" strike="noStrike">
                <a:solidFill>
                  <a:srgbClr val="000000"/>
                </a:solidFill>
                <a:latin typeface="JasmineUPC"/>
              </a:rPr>
              <a:t>, xinghai conservat-ry of music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JasmineUPC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JasmineUPC"/>
              </a:rPr>
              <a:t>ZhongKai college of agricultural engineering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JasmineUPC"/>
              </a:rPr>
              <a:t>lu xun academ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9"/>
          <p:cNvSpPr/>
          <p:nvPr/>
        </p:nvSpPr>
        <p:spPr>
          <a:xfrm>
            <a:off x="767160" y="2080440"/>
            <a:ext cx="6552360" cy="1933200"/>
          </a:xfrm>
          <a:prstGeom prst="rect">
            <a:avLst/>
          </a:prstGeom>
          <a:solidFill>
            <a:schemeClr val="bg1">
              <a:alpha val="22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0" y="4274280"/>
            <a:ext cx="6520320" cy="2088000"/>
          </a:xfrm>
          <a:prstGeom prst="rect">
            <a:avLst/>
          </a:prstGeom>
          <a:solidFill>
            <a:schemeClr val="bg1">
              <a:alpha val="22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0" y="-171360"/>
            <a:ext cx="94683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2f2f2"/>
                </a:solidFill>
                <a:latin typeface="28 Days Later"/>
                <a:ea typeface="Parry Hotter"/>
              </a:rPr>
              <a:t>5.Peking University And Tsinghua univers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Users\咸蛋超人\Desktop\im顶顶顶顶顶ages.jpg"/>
          <p:cNvPicPr/>
          <p:nvPr/>
        </p:nvPicPr>
        <p:blipFill>
          <a:blip r:embed="rId2"/>
          <a:stretch/>
        </p:blipFill>
        <p:spPr>
          <a:xfrm>
            <a:off x="767160" y="2080440"/>
            <a:ext cx="1926720" cy="19180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8" name="Picture 3" descr="C:\Users\咸蛋超人\Desktop\image儿女s.jpg"/>
          <p:cNvPicPr/>
          <p:nvPr/>
        </p:nvPicPr>
        <p:blipFill>
          <a:blip r:embed="rId3"/>
          <a:stretch/>
        </p:blipFill>
        <p:spPr>
          <a:xfrm>
            <a:off x="4575960" y="4350960"/>
            <a:ext cx="1925640" cy="1934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09" name="TextBox 8"/>
          <p:cNvSpPr/>
          <p:nvPr/>
        </p:nvSpPr>
        <p:spPr>
          <a:xfrm>
            <a:off x="2694240" y="2095920"/>
            <a:ext cx="410688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JasmineUPC"/>
              </a:rPr>
              <a:t>Peking University</a:t>
            </a:r>
            <a:r>
              <a:rPr b="0" lang="en-US" sz="3600" spc="-1" strike="noStrike">
                <a:solidFill>
                  <a:srgbClr val="f2f2f2"/>
                </a:solidFill>
                <a:latin typeface="JasmineUPC"/>
              </a:rPr>
              <a:t>'s predecessor is university of the beginning of the imper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468720" y="4440960"/>
            <a:ext cx="41068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JasmineUPC"/>
              </a:rPr>
              <a:t>Tsinghua university </a:t>
            </a:r>
            <a:r>
              <a:rPr b="0" lang="en-US" sz="3600" spc="-1" strike="noStrike">
                <a:solidFill>
                  <a:srgbClr val="ffffff"/>
                </a:solidFill>
                <a:latin typeface="JasmineUPC"/>
              </a:rPr>
              <a:t>National's predecessor is tsing hua univers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5" descr=""/>
          <p:cNvPicPr/>
          <p:nvPr/>
        </p:nvPicPr>
        <p:blipFill>
          <a:blip r:embed="rId1"/>
          <a:stretch/>
        </p:blipFill>
        <p:spPr>
          <a:xfrm>
            <a:off x="4027680" y="798120"/>
            <a:ext cx="5440320" cy="5834160"/>
          </a:xfrm>
          <a:prstGeom prst="rect">
            <a:avLst/>
          </a:prstGeom>
          <a:ln w="0">
            <a:noFill/>
          </a:ln>
        </p:spPr>
      </p:pic>
      <p:sp>
        <p:nvSpPr>
          <p:cNvPr id="112" name="矩形 6"/>
          <p:cNvSpPr/>
          <p:nvPr/>
        </p:nvSpPr>
        <p:spPr>
          <a:xfrm>
            <a:off x="251640" y="2061000"/>
            <a:ext cx="4194360" cy="8194320"/>
          </a:xfrm>
          <a:prstGeom prst="rect">
            <a:avLst/>
          </a:prstGeom>
          <a:solidFill>
            <a:srgbClr val="ffff00">
              <a:alpha val="31000"/>
            </a:srgbClr>
          </a:solidFill>
          <a:ln w="0">
            <a:noFill/>
          </a:ln>
          <a:effectLst>
            <a:glow rad="177840">
              <a:srgbClr val="ffc000">
                <a:alpha val="20000"/>
              </a:srgbClr>
            </a:glow>
            <a:outerShdw algn="tr" blurRad="50760" dir="8100000" dist="37674" rotWithShape="0" sx="166000" sy="166000">
              <a:schemeClr val="bg1">
                <a:alpha val="1000"/>
              </a:schemeClr>
            </a:outerShdw>
            <a:softEdge rad="31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JasmineUPC"/>
              </a:rPr>
              <a:t>The three gorges university, library issubject layer </a:t>
            </a:r>
            <a:r>
              <a:rPr b="0" lang="en-US" sz="4400" spc="-1" strike="noStrike">
                <a:solidFill>
                  <a:srgbClr val="000000"/>
                </a:solidFill>
                <a:latin typeface="JasmineUPC"/>
              </a:rPr>
              <a:t>7 </a:t>
            </a:r>
            <a:r>
              <a:rPr b="0" lang="zh-CN" sz="4400" spc="-1" strike="noStrike">
                <a:solidFill>
                  <a:srgbClr val="000000"/>
                </a:solidFill>
                <a:latin typeface="JasmineUPC"/>
              </a:rPr>
              <a:t>、 </a:t>
            </a:r>
            <a:r>
              <a:rPr b="0" lang="en-US" sz="4400" spc="-1" strike="noStrike">
                <a:solidFill>
                  <a:srgbClr val="000000"/>
                </a:solidFill>
                <a:latin typeface="JasmineUPC"/>
              </a:rPr>
              <a:t>total area </a:t>
            </a:r>
            <a:r>
              <a:rPr b="1" lang="en-US" sz="4800" spc="-1" strike="noStrike">
                <a:solidFill>
                  <a:srgbClr val="ff0000"/>
                </a:solidFill>
                <a:latin typeface="JasmineUPC"/>
              </a:rPr>
              <a:t>7085</a:t>
            </a:r>
            <a:r>
              <a:rPr b="0" lang="en-US" sz="4400" spc="-1" strike="noStrike">
                <a:solidFill>
                  <a:srgbClr val="000000"/>
                </a:solidFill>
                <a:latin typeface="JasmineUPC"/>
              </a:rPr>
              <a:t> square meters is the largest monomer library in China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0" y="-171360"/>
            <a:ext cx="94683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00ccff"/>
                </a:solidFill>
                <a:latin typeface="28 Days Later"/>
                <a:ea typeface="Parry Hotter"/>
              </a:rPr>
              <a:t>6.University of Largest  libr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  <Words>263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1T03:38:23Z</dcterms:created>
  <dc:creator>咸蛋超人</dc:creator>
  <dc:description/>
  <dc:language>en-US</dc:language>
  <cp:lastModifiedBy>王玉清</cp:lastModifiedBy>
  <dcterms:modified xsi:type="dcterms:W3CDTF">2016-02-24T02:51:12Z</dcterms:modified>
  <cp:revision>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