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06D-FD0D-40DA-8737-A885F299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8E9-1ECD-46C2-BAFD-02DA9BA3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F4F-CF1C-4809-8AC2-CEFE1E1D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E75-FC4D-4060-B5FF-272051D1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63D-F5B1-46CD-8D9F-D1F3476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D79-2DF4-470E-81E1-E3506272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870-A8A8-4115-8EA4-9C93659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202-CADD-4A61-B35D-076F5570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DF7-D6C4-4959-837E-E284ECCD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299-D6D2-45A5-A18B-475BE7D1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A31-EB75-411E-8C69-21C1D79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010-AD91-46B7-A16B-95C89DA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C3D9-C826-47BD-8684-0829788093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0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Box 67"/>
          <p:cNvSpPr/>
          <p:nvPr/>
        </p:nvSpPr>
        <p:spPr>
          <a:xfrm>
            <a:off x="701640" y="2131920"/>
            <a:ext cx="79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炫丽光点动态</a:t>
            </a:r>
            <a:r>
              <a:rPr b="0" lang="en-US" sz="40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344520" y="4824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矩形 29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40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48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4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67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79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87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93" dur="75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95" dur="75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05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3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9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1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9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7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45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51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3" dur="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3" name="矩形 30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06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14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12"/>
          <p:cNvSpPr/>
          <p:nvPr/>
        </p:nvSpPr>
        <p:spPr>
          <a:xfrm>
            <a:off x="328680" y="4878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1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434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46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54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460" dur="75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462" dur="75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72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0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8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6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4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2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0" dur="2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0" name="矩形 29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73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81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7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500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512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520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7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527" dur="75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529" dur="75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9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53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5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63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69" dur="1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1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9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5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7" dur="25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538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546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30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3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71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3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64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67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grpSp>
          <p:nvGrpSpPr>
            <p:cNvPr id="70" name="组合 16"/>
            <p:cNvGrpSpPr/>
            <p:nvPr/>
          </p:nvGrpSpPr>
          <p:grpSpPr>
            <a:xfrm>
              <a:off x="-288360" y="1379520"/>
              <a:ext cx="900000" cy="520560"/>
              <a:chOff x="-288360" y="1379520"/>
              <a:chExt cx="900000" cy="520560"/>
            </a:xfrm>
          </p:grpSpPr>
          <p:sp>
            <p:nvSpPr>
              <p:cNvPr id="71" name="矩形 36"/>
              <p:cNvSpPr/>
              <p:nvPr/>
            </p:nvSpPr>
            <p:spPr>
              <a:xfrm>
                <a:off x="-21240" y="145080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TextBox 37"/>
              <p:cNvSpPr/>
              <p:nvPr/>
            </p:nvSpPr>
            <p:spPr>
              <a:xfrm>
                <a:off x="-288360" y="13795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7"/>
            <p:cNvGrpSpPr/>
            <p:nvPr/>
          </p:nvGrpSpPr>
          <p:grpSpPr>
            <a:xfrm>
              <a:off x="-288360" y="1833120"/>
              <a:ext cx="900000" cy="520560"/>
              <a:chOff x="-288360" y="1833120"/>
              <a:chExt cx="900000" cy="520560"/>
            </a:xfrm>
          </p:grpSpPr>
          <p:sp>
            <p:nvSpPr>
              <p:cNvPr id="74" name="矩形 34"/>
              <p:cNvSpPr/>
              <p:nvPr/>
            </p:nvSpPr>
            <p:spPr>
              <a:xfrm>
                <a:off x="-21240" y="1904400"/>
                <a:ext cx="3636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Box 35"/>
              <p:cNvSpPr/>
              <p:nvPr/>
            </p:nvSpPr>
            <p:spPr>
              <a:xfrm>
                <a:off x="-288360" y="18331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组合 19"/>
            <p:cNvGrpSpPr/>
            <p:nvPr/>
          </p:nvGrpSpPr>
          <p:grpSpPr>
            <a:xfrm>
              <a:off x="-288360" y="2286720"/>
              <a:ext cx="900000" cy="520560"/>
              <a:chOff x="-288360" y="2286720"/>
              <a:chExt cx="900000" cy="520560"/>
            </a:xfrm>
          </p:grpSpPr>
          <p:sp>
            <p:nvSpPr>
              <p:cNvPr id="77" name="矩形 32"/>
              <p:cNvSpPr/>
              <p:nvPr/>
            </p:nvSpPr>
            <p:spPr>
              <a:xfrm>
                <a:off x="-21240" y="235800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TextBox 33"/>
              <p:cNvSpPr/>
              <p:nvPr/>
            </p:nvSpPr>
            <p:spPr>
              <a:xfrm>
                <a:off x="-288360" y="22867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" name="组合 20"/>
            <p:cNvGrpSpPr/>
            <p:nvPr/>
          </p:nvGrpSpPr>
          <p:grpSpPr>
            <a:xfrm>
              <a:off x="-288360" y="2740320"/>
              <a:ext cx="900000" cy="520560"/>
              <a:chOff x="-288360" y="2740320"/>
              <a:chExt cx="900000" cy="520560"/>
            </a:xfrm>
          </p:grpSpPr>
          <p:sp>
            <p:nvSpPr>
              <p:cNvPr id="80" name="矩形 30"/>
              <p:cNvSpPr/>
              <p:nvPr/>
            </p:nvSpPr>
            <p:spPr>
              <a:xfrm>
                <a:off x="-21240" y="281160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TextBox 31"/>
              <p:cNvSpPr/>
              <p:nvPr/>
            </p:nvSpPr>
            <p:spPr>
              <a:xfrm>
                <a:off x="-288360" y="27403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组合 21"/>
            <p:cNvGrpSpPr/>
            <p:nvPr/>
          </p:nvGrpSpPr>
          <p:grpSpPr>
            <a:xfrm>
              <a:off x="-288360" y="3194280"/>
              <a:ext cx="900000" cy="520560"/>
              <a:chOff x="-288360" y="3194280"/>
              <a:chExt cx="900000" cy="520560"/>
            </a:xfrm>
          </p:grpSpPr>
          <p:sp>
            <p:nvSpPr>
              <p:cNvPr id="83" name="矩形 28"/>
              <p:cNvSpPr/>
              <p:nvPr/>
            </p:nvSpPr>
            <p:spPr>
              <a:xfrm>
                <a:off x="-21240" y="326556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TextBox 29"/>
              <p:cNvSpPr/>
              <p:nvPr/>
            </p:nvSpPr>
            <p:spPr>
              <a:xfrm>
                <a:off x="-288360" y="31942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组合 22"/>
            <p:cNvGrpSpPr/>
            <p:nvPr/>
          </p:nvGrpSpPr>
          <p:grpSpPr>
            <a:xfrm>
              <a:off x="-288360" y="3647880"/>
              <a:ext cx="900000" cy="520560"/>
              <a:chOff x="-288360" y="3647880"/>
              <a:chExt cx="900000" cy="520560"/>
            </a:xfrm>
          </p:grpSpPr>
          <p:sp>
            <p:nvSpPr>
              <p:cNvPr id="86" name="矩形 26"/>
              <p:cNvSpPr/>
              <p:nvPr/>
            </p:nvSpPr>
            <p:spPr>
              <a:xfrm>
                <a:off x="-21240" y="3719160"/>
                <a:ext cx="3636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Box 27"/>
              <p:cNvSpPr/>
              <p:nvPr/>
            </p:nvSpPr>
            <p:spPr>
              <a:xfrm>
                <a:off x="-288360" y="36478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组合 23"/>
            <p:cNvGrpSpPr/>
            <p:nvPr/>
          </p:nvGrpSpPr>
          <p:grpSpPr>
            <a:xfrm>
              <a:off x="-307800" y="4101480"/>
              <a:ext cx="900000" cy="520560"/>
              <a:chOff x="-307800" y="4101480"/>
              <a:chExt cx="900000" cy="520560"/>
            </a:xfrm>
          </p:grpSpPr>
          <p:sp>
            <p:nvSpPr>
              <p:cNvPr id="89" name="矩形 24"/>
              <p:cNvSpPr/>
              <p:nvPr/>
            </p:nvSpPr>
            <p:spPr>
              <a:xfrm>
                <a:off x="-40680" y="417276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Box 25"/>
              <p:cNvSpPr/>
              <p:nvPr/>
            </p:nvSpPr>
            <p:spPr>
              <a:xfrm>
                <a:off x="-307800" y="41014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1" name="TextBox 38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9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0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2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3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4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1" dur="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0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3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6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9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02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14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22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25" dur="75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27" dur="75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矩形 53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41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49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5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68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80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88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92" dur="7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94" dur="75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2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0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8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6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2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4" name="矩形 29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07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15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1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34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46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54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612720" y="4782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259" dur="75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261" dur="75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9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3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9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1" name="矩形 30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74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82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01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13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21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26" dur="75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28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8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6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4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2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0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6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微软中国</dc:creator>
  <dc:description/>
  <dc:language>en-US</dc:language>
  <cp:lastModifiedBy>王玉清</cp:lastModifiedBy>
  <dcterms:modified xsi:type="dcterms:W3CDTF">2016-02-19T04:30:33Z</dcterms:modified>
  <cp:revision>17</cp:revision>
  <dc:subject/>
  <dc:title>PowerPoint 演示文稿</dc:title>
</cp:coreProperties>
</file>