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88D-6B9F-4F62-B484-F2EDEC10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6D8-26FB-4E07-BA09-5101BE9E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BD93-4F13-4AF0-8BB6-2D89DBE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172-B1F1-4BB2-93EE-7F6D68FA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0E2F-C8BD-4115-9C22-AD7106EC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594-81B5-4771-A0BC-793A94AF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9DD-3174-4500-B10C-3A9C94F5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D7C-E712-4E0E-989F-3FB79301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4CC-BACD-424C-8488-E1ABBAA9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AA1-8381-4029-BB3F-4A6289EC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CD2-1FC9-446F-8BC4-2A143351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4A13-E2EC-40D8-90A7-94BB2E6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9F7-CEE4-42BF-8EB6-F0FA45E0B43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A45-2028-42C6-81BD-FC886013892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" name="Group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" name="Group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4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5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6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7" name="Group 3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8" name="Group 4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9" name="Group 5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0" name="Group 5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1" name="Group 6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2" name="Group 6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3" name="Group 7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4" name="Group 8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5" name="Group 8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6" name="Group 9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7" name="Group 9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8" name="Group 10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59" name="Group 1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0" name="Group 1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1" name="Group 12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2" name="Group 12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3" name="Group 13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4" name="Group 14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5" name="Group 14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6" name="Group 15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7" name="Group 15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8" name="Group 16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9" name="Group 17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0" name="Group 17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1" name="Group 18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2" name="Group 18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" name="Group 19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4" name="Group 20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5" name="Group 20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6" name="Group 2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7" name="Group 2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8" name="Group 22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9" name="Group 23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0" name="Group 23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1" name="Group 24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Group 24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Group 25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4" name="Group 26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5" name="Group 26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6" name="Group 27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Group 27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Group 28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9" name="Group 29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90" name="椭圆 310"/>
          <p:cNvSpPr/>
          <p:nvPr/>
        </p:nvSpPr>
        <p:spPr>
          <a:xfrm flipV="1">
            <a:off x="4548240" y="2546280"/>
            <a:ext cx="460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644400" y="892080"/>
            <a:ext cx="5888160" cy="6243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3151080" y="1444680"/>
            <a:ext cx="4491000" cy="4762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714760" y="339840"/>
            <a:ext cx="2921040" cy="309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4"/>
          <a:stretch/>
        </p:blipFill>
        <p:spPr>
          <a:xfrm>
            <a:off x="-752400" y="390600"/>
            <a:ext cx="5305320" cy="5627520"/>
          </a:xfrm>
          <a:prstGeom prst="rect">
            <a:avLst/>
          </a:prstGeom>
          <a:ln w="0">
            <a:noFill/>
          </a:ln>
        </p:spPr>
      </p:pic>
      <p:pic>
        <p:nvPicPr>
          <p:cNvPr id="95" name="media1.mp3" descr=""/>
          <p:cNvPicPr/>
          <p:nvPr/>
        </p:nvPicPr>
        <p:blipFill>
          <a:blip r:embed="rId5"/>
          <a:stretch/>
        </p:blipFill>
        <p:spPr>
          <a:xfrm>
            <a:off x="-1266840" y="-17640"/>
            <a:ext cx="609480" cy="60804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2283840" y="2761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炫丽特效动态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48150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" dur="1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" dur="1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" dur="1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" dur="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1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" dur="1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1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8" dur="1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1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8" dur="1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1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" dur="1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1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6" dur="1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1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1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1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" dur="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1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" dur="1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" dur="1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" dur="1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" dur="1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1" dur="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3" dur="1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1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9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1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2" dur="1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1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1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4" dur="1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0" dur="1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6" dur="1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" dur="1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1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1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1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1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0">
                                  <p:stCondLst>
                                    <p:cond delay="14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" dur="1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1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15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2" dur="1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8" dur="1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1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4" dur="1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0" dur="1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6" dur="1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2" dur="1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1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8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8" dur="1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19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10">
                                  <p:stCondLst>
                                    <p:cond delay="2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2" dur="1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8" dur="1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1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10">
                                  <p:stCondLst>
                                    <p:cond delay="2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2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1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1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2" dur="1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1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2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8" dur="1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45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2400"/>
                                  </p:stCondLst>
                                  <p:childTnLst>
                                    <p:animRot by="-21599939">
                                      <p:cBhvr>
                                        <p:cTn id="3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B7B-5229-4361-A9B2-FD57F198DB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0"/>
          <p:cNvSpPr/>
          <p:nvPr/>
        </p:nvSpPr>
        <p:spPr>
          <a:xfrm rot="20700000">
            <a:off x="6535440" y="2077560"/>
            <a:ext cx="723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33"/>
          <p:cNvSpPr/>
          <p:nvPr/>
        </p:nvSpPr>
        <p:spPr>
          <a:xfrm rot="21293400">
            <a:off x="7767720" y="2501640"/>
            <a:ext cx="67284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30"/>
          <p:cNvSpPr/>
          <p:nvPr/>
        </p:nvSpPr>
        <p:spPr>
          <a:xfrm rot="699600">
            <a:off x="6889680" y="2696760"/>
            <a:ext cx="9842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7"/>
          <p:cNvSpPr/>
          <p:nvPr/>
        </p:nvSpPr>
        <p:spPr>
          <a:xfrm rot="20212800">
            <a:off x="6019560" y="3085920"/>
            <a:ext cx="85392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4"/>
          <p:cNvSpPr/>
          <p:nvPr/>
        </p:nvSpPr>
        <p:spPr>
          <a:xfrm rot="1500000">
            <a:off x="5249520" y="1339560"/>
            <a:ext cx="1762200" cy="9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8"/>
          <p:cNvSpPr/>
          <p:nvPr/>
        </p:nvSpPr>
        <p:spPr>
          <a:xfrm rot="1500000">
            <a:off x="5363640" y="163944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2035080" y="1525680"/>
            <a:ext cx="17622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2128680" y="1816200"/>
            <a:ext cx="16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20"/>
          <p:cNvSpPr/>
          <p:nvPr/>
        </p:nvSpPr>
        <p:spPr>
          <a:xfrm>
            <a:off x="7267680" y="1370160"/>
            <a:ext cx="143820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4"/>
          <p:cNvSpPr/>
          <p:nvPr/>
        </p:nvSpPr>
        <p:spPr>
          <a:xfrm rot="20100000">
            <a:off x="5884560" y="1806120"/>
            <a:ext cx="1236600" cy="68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36"/>
          <p:cNvSpPr/>
          <p:nvPr/>
        </p:nvSpPr>
        <p:spPr>
          <a:xfrm rot="1800000">
            <a:off x="8531280" y="2581200"/>
            <a:ext cx="85572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42"/>
          <p:cNvSpPr/>
          <p:nvPr/>
        </p:nvSpPr>
        <p:spPr>
          <a:xfrm rot="558600">
            <a:off x="5543280" y="1695240"/>
            <a:ext cx="968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44"/>
          <p:cNvSpPr/>
          <p:nvPr/>
        </p:nvSpPr>
        <p:spPr>
          <a:xfrm rot="558600">
            <a:off x="3695760" y="1599840"/>
            <a:ext cx="96840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46"/>
          <p:cNvSpPr/>
          <p:nvPr/>
        </p:nvSpPr>
        <p:spPr>
          <a:xfrm rot="20646600">
            <a:off x="4618080" y="1625760"/>
            <a:ext cx="9684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8"/>
          <p:cNvSpPr/>
          <p:nvPr/>
        </p:nvSpPr>
        <p:spPr>
          <a:xfrm rot="20700000">
            <a:off x="2768400" y="1589040"/>
            <a:ext cx="793440" cy="43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50"/>
          <p:cNvSpPr/>
          <p:nvPr/>
        </p:nvSpPr>
        <p:spPr>
          <a:xfrm>
            <a:off x="1568520" y="1353960"/>
            <a:ext cx="793800" cy="43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52"/>
          <p:cNvSpPr/>
          <p:nvPr/>
        </p:nvSpPr>
        <p:spPr>
          <a:xfrm rot="900000">
            <a:off x="536040" y="1297080"/>
            <a:ext cx="67320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55"/>
          <p:cNvSpPr/>
          <p:nvPr/>
        </p:nvSpPr>
        <p:spPr>
          <a:xfrm rot="21226200">
            <a:off x="977760" y="730080"/>
            <a:ext cx="67320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57"/>
          <p:cNvSpPr/>
          <p:nvPr/>
        </p:nvSpPr>
        <p:spPr>
          <a:xfrm rot="19800000">
            <a:off x="2125440" y="466200"/>
            <a:ext cx="48708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59"/>
          <p:cNvSpPr/>
          <p:nvPr/>
        </p:nvSpPr>
        <p:spPr>
          <a:xfrm rot="20700000">
            <a:off x="2809440" y="257040"/>
            <a:ext cx="48744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61"/>
          <p:cNvSpPr/>
          <p:nvPr/>
        </p:nvSpPr>
        <p:spPr>
          <a:xfrm>
            <a:off x="3657600" y="112680"/>
            <a:ext cx="487440" cy="26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0" dur="indefinite" restart="never" nodeType="tmRoot">
          <p:childTnLst>
            <p:seq>
              <p:cTn id="1871" dur="indefinite" nodeType="mainSeq">
                <p:childTnLst>
                  <p:par>
                    <p:cTn id="1872" nodeType="clickEffect" fill="hold">
                      <p:stCondLst>
                        <p:cond delay="0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4" presetSubtype="5" repeatCount="indefinite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4" presetSubtype="5" repeatCount="indefinite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1" dur="3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4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14323 0.13313 E">
                                      <p:cBhvr>
                                        <p:cTn id="1885" dur="3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6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14323 0.13313 E">
                                      <p:cBhvr>
                                        <p:cTn id="1887" dur="3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8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14323 0.13313 E">
                                      <p:cBhvr>
                                        <p:cTn id="1889" dur="3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14323 0.13313 E">
                                      <p:cBhvr>
                                        <p:cTn id="1891" dur="3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4" presetSubtype="5" repeatCount="indefinite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4253 0.13148 L -0.41927 0.39198 E">
                                      <p:cBhvr>
                                        <p:cTn id="1896" dur="3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7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4427 0.13519 L -0.42101 0.39568 E">
                                      <p:cBhvr>
                                        <p:cTn id="1898" dur="3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4323 0.13333 L -0.41996 0.39383 E">
                                      <p:cBhvr>
                                        <p:cTn id="1900" dur="3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1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0.14323 0.13303 L -0.41997 0.39352 E">
                                      <p:cBhvr>
                                        <p:cTn id="1902" dur="3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3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-0.27674 0.26049 E">
                                      <p:cBhvr>
                                        <p:cTn id="1904" dur="3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4" presetSubtype="5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 0 L -0.27674 0.26049 E">
                                      <p:cBhvr>
                                        <p:cTn id="1909" dur="3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4" presetSubtype="5" repeatCount="indefinite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2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14" presetSubtype="5" repeatCount="indefinite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5" dur="3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4" presetSubtype="5" repeatCount="indefinite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8" dur="3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4" presetSubtype="5" repeatCount="indefinite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4" presetSubtype="5" repeatCount="indefinite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4" dur="3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4" presetSubtype="5" repeatCount="indefinite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3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4" presetSubtype="5" repeatCount="indefinite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0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4" presetSubtype="5" repeatCount="indefinite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3" dur="3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4" presetSubtype="5" repeatCount="indefinite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6" dur="3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4" presetSubtype="5" repeatCount="indefinite">
                                  <p:stCondLst>
                                    <p:cond delay="395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9" dur="3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0" nodeType="withEffect" fill="hold" presetClass="entr" presetID="14" presetSubtype="5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2" dur="3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3" nodeType="withEffect" fill="hold" presetClass="entr" presetID="14" presetSubtype="5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5" dur="3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14" presetSubtype="5" repeatCount="indefinite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8" dur="3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4" presetSubtype="5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1" dur="3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2" nodeType="withEffect" fill="hold" presetClass="entr" presetID="14" presetSubtype="5" repeatCount="indefinite">
                                  <p:stCondLst>
                                    <p:cond delay="415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4" dur="3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5" nodeType="withEffect" fill="hold" presetClass="emph" presetID="6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956" dur="7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0" y="1500000"/>
                                    </p:animScale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mph" presetID="6">
                                  <p:stCondLst>
                                    <p:cond delay="5200"/>
                                  </p:stCondLst>
                                  <p:childTnLst>
                                    <p:animScale>
                                      <p:cBhvr>
                                        <p:cTn id="1998" dur="200" fill="hold"/>
                                        <p:tgtEl>
                                          <p:spTgt spid="368"/>
                                        </p:tgtEl>
                                      </p:cBhvr>
                                      <p:to x="4000000" y="40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A18D-6F1B-473B-BBB3-5EC303D66F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12"/>
          <p:cNvSpPr/>
          <p:nvPr/>
        </p:nvSpPr>
        <p:spPr>
          <a:xfrm>
            <a:off x="6000840" y="1295280"/>
            <a:ext cx="171360" cy="171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15"/>
          <p:cNvSpPr/>
          <p:nvPr/>
        </p:nvSpPr>
        <p:spPr>
          <a:xfrm>
            <a:off x="6797520" y="1165320"/>
            <a:ext cx="88920" cy="88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16"/>
          <p:cNvSpPr/>
          <p:nvPr/>
        </p:nvSpPr>
        <p:spPr>
          <a:xfrm>
            <a:off x="7804080" y="461880"/>
            <a:ext cx="114480" cy="115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17"/>
          <p:cNvSpPr/>
          <p:nvPr/>
        </p:nvSpPr>
        <p:spPr>
          <a:xfrm>
            <a:off x="6504120" y="2359080"/>
            <a:ext cx="171360" cy="171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18"/>
          <p:cNvSpPr/>
          <p:nvPr/>
        </p:nvSpPr>
        <p:spPr>
          <a:xfrm>
            <a:off x="7912080" y="2460600"/>
            <a:ext cx="69840" cy="69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椭圆 19"/>
          <p:cNvSpPr/>
          <p:nvPr/>
        </p:nvSpPr>
        <p:spPr>
          <a:xfrm>
            <a:off x="7435800" y="2608200"/>
            <a:ext cx="103320" cy="103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椭圆 20"/>
          <p:cNvSpPr/>
          <p:nvPr/>
        </p:nvSpPr>
        <p:spPr>
          <a:xfrm>
            <a:off x="7878600" y="1203480"/>
            <a:ext cx="103320" cy="1029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 21"/>
          <p:cNvSpPr/>
          <p:nvPr/>
        </p:nvSpPr>
        <p:spPr>
          <a:xfrm flipV="1">
            <a:off x="8691480" y="1577880"/>
            <a:ext cx="46080" cy="44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6"/>
          <p:cNvSpPr/>
          <p:nvPr/>
        </p:nvSpPr>
        <p:spPr>
          <a:xfrm>
            <a:off x="5384880" y="2162160"/>
            <a:ext cx="68040" cy="6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椭圆 27"/>
          <p:cNvSpPr/>
          <p:nvPr/>
        </p:nvSpPr>
        <p:spPr>
          <a:xfrm>
            <a:off x="5551560" y="1743120"/>
            <a:ext cx="96840" cy="950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28"/>
          <p:cNvSpPr/>
          <p:nvPr/>
        </p:nvSpPr>
        <p:spPr>
          <a:xfrm>
            <a:off x="5803920" y="1990800"/>
            <a:ext cx="46080" cy="44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椭圆 29"/>
          <p:cNvSpPr/>
          <p:nvPr/>
        </p:nvSpPr>
        <p:spPr>
          <a:xfrm>
            <a:off x="6629400" y="1498680"/>
            <a:ext cx="46080" cy="44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椭圆 30"/>
          <p:cNvSpPr/>
          <p:nvPr/>
        </p:nvSpPr>
        <p:spPr>
          <a:xfrm rot="5400000">
            <a:off x="978480" y="1842120"/>
            <a:ext cx="74520" cy="76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椭圆 34"/>
          <p:cNvSpPr/>
          <p:nvPr/>
        </p:nvSpPr>
        <p:spPr>
          <a:xfrm rot="5400000">
            <a:off x="838080" y="2122200"/>
            <a:ext cx="14436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椭圆 35"/>
          <p:cNvSpPr/>
          <p:nvPr/>
        </p:nvSpPr>
        <p:spPr>
          <a:xfrm rot="5400000">
            <a:off x="475560" y="685080"/>
            <a:ext cx="7272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椭圆 36"/>
          <p:cNvSpPr/>
          <p:nvPr/>
        </p:nvSpPr>
        <p:spPr>
          <a:xfrm rot="5400000">
            <a:off x="727560" y="1065960"/>
            <a:ext cx="135000" cy="1364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椭圆 37"/>
          <p:cNvSpPr/>
          <p:nvPr/>
        </p:nvSpPr>
        <p:spPr>
          <a:xfrm flipV="1" rot="5400000">
            <a:off x="517680" y="417600"/>
            <a:ext cx="8712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椭圆 38"/>
          <p:cNvSpPr/>
          <p:nvPr/>
        </p:nvSpPr>
        <p:spPr>
          <a:xfrm flipV="1" rot="5400000">
            <a:off x="633240" y="2381400"/>
            <a:ext cx="82440" cy="82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74"/>
          <p:cNvSpPr/>
          <p:nvPr/>
        </p:nvSpPr>
        <p:spPr>
          <a:xfrm>
            <a:off x="3301920" y="1920960"/>
            <a:ext cx="74520" cy="74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75"/>
          <p:cNvSpPr/>
          <p:nvPr/>
        </p:nvSpPr>
        <p:spPr>
          <a:xfrm>
            <a:off x="3525840" y="2112840"/>
            <a:ext cx="144360" cy="1447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76"/>
          <p:cNvSpPr/>
          <p:nvPr/>
        </p:nvSpPr>
        <p:spPr>
          <a:xfrm>
            <a:off x="2060640" y="2287440"/>
            <a:ext cx="73080" cy="730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77"/>
          <p:cNvSpPr/>
          <p:nvPr/>
        </p:nvSpPr>
        <p:spPr>
          <a:xfrm>
            <a:off x="2171880" y="2054160"/>
            <a:ext cx="136440" cy="1350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78"/>
          <p:cNvSpPr/>
          <p:nvPr/>
        </p:nvSpPr>
        <p:spPr>
          <a:xfrm flipV="1">
            <a:off x="1776240" y="2165400"/>
            <a:ext cx="8748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椭圆 79"/>
          <p:cNvSpPr/>
          <p:nvPr/>
        </p:nvSpPr>
        <p:spPr>
          <a:xfrm flipV="1">
            <a:off x="3776760" y="2433600"/>
            <a:ext cx="83880" cy="84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3"/>
          <p:cNvSpPr/>
          <p:nvPr/>
        </p:nvSpPr>
        <p:spPr>
          <a:xfrm>
            <a:off x="2115000" y="3867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4"/>
          <p:cNvSpPr/>
          <p:nvPr/>
        </p:nvSpPr>
        <p:spPr>
          <a:xfrm>
            <a:off x="4458240" y="8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插入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nodeType="clickEffect" fill="hold">
                      <p:stCondLst>
                        <p:cond delay="0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20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9" dur="2000" fill="hold"/>
                                        <p:tgtEl>
                                          <p:spTgt spid="38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0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15" dur="25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8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19" dur="24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23" dur="23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4" nodeType="withEffect" fill="hold" presetClass="entr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2.77778E-007 1.35802E-006 L -0.32188 1.35802E-006 E">
                                      <p:cBhvr>
                                        <p:cTn id="2027" dur="22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8" nodeType="withEffect" fill="hold" presetClass="entr" presetID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path" presetID="42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31" dur="21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nodeType="withEffect" fill="hold" presetClass="path" presetID="42">
                                  <p:stCondLst>
                                    <p:cond delay="85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35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6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39" dur="26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0" nodeType="withEffect" fill="hold" presetClass="entr" presetID="1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path" presetID="42">
                                  <p:stCondLst>
                                    <p:cond delay="95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43" dur="27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47" dur="29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51" dur="31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55" dur="32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8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22222E-006 1.48148E-006 L -0.32187 1.48148E-006 E">
                                      <p:cBhvr>
                                        <p:cTn id="2059" dur="25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2" presetSubtype="8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1" dur="3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3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" presetSubtype="8">
                                  <p:stCondLst>
                                    <p:cond delay="3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5" dur="3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3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xit" presetID="2" presetSubtype="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9" dur="3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3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2" presetSubtype="8">
                                  <p:stCondLst>
                                    <p:cond delay="2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3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3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" presetSubtype="8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7" dur="3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3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" presetSubtype="8">
                                  <p:stCondLst>
                                    <p:cond delay="28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1" dur="3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3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2" presetSubtype="8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5" dur="3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3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2" presetSubtype="8">
                                  <p:stCondLst>
                                    <p:cond delay="36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9" dur="3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3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xit" presetID="2" presetSubtype="8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3" dur="3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3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6" nodeType="withEffect" fill="hold" presetClass="exit" presetID="2" presetSubtype="8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7" dur="3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3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2" presetSubtype="8">
                                  <p:stCondLst>
                                    <p:cond delay="3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1" dur="3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2" presetSubtype="8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5" dur="3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3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path" presetID="42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11667 -0.17222 L -2.77778E-006 -3.45679E-006 E">
                                      <p:cBhvr>
                                        <p:cTn id="2111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">
                                  <p:stCondLst>
                                    <p:cond delay="365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4" nodeType="withEffect" fill="hold" presetClass="path" presetID="42">
                                  <p:stCondLst>
                                    <p:cond delay="3650"/>
                                  </p:stCondLst>
                                  <p:childTnLst>
                                    <p:animMotion origin="layout" path="M 0.09063 0.14475 L -2.77778E-006 -1.85185E-006 E">
                                      <p:cBhvr>
                                        <p:cTn id="2115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0.10191 0.09352 L 2.5E-006 -2.09877E-006 E">
                                      <p:cBhvr>
                                        <p:cTn id="211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path" presetID="42">
                                  <p:stCondLst>
                                    <p:cond delay="3750"/>
                                  </p:stCondLst>
                                  <p:childTnLst>
                                    <p:animMotion origin="layout" path="M 0.10972 -0.1071 L 8.33333E-007 -3.7037E-007 E">
                                      <p:cBhvr>
                                        <p:cTn id="2123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path" presetID="42">
                                  <p:stCondLst>
                                    <p:cond delay="3800"/>
                                  </p:stCondLst>
                                  <p:childTnLst>
                                    <p:animMotion origin="layout" path="M 0.05607 -0.17283 L 1.66667E-006 -4.81481E-006 E">
                                      <p:cBhvr>
                                        <p:cTn id="2127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385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path" presetID="42">
                                  <p:stCondLst>
                                    <p:cond delay="3850"/>
                                  </p:stCondLst>
                                  <p:childTnLst>
                                    <p:animMotion origin="layout" path="M 0.06511 0.2287 L -4.72222E-006 3.7037E-006 E">
                                      <p:cBhvr>
                                        <p:cTn id="2131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2" presetSubtype="8">
                                  <p:stCondLst>
                                    <p:cond delay="49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6" nodeType="withEffect" fill="hold" presetClass="exit" presetID="2" presetSubtype="8">
                                  <p:stCondLst>
                                    <p:cond delay="50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7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exit" presetID="2" presetSubtype="8">
                                  <p:stCondLst>
                                    <p:cond delay="5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1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2" dur="10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nodeType="withEffect" fill="hold" presetClass="exit" presetID="2" presetSubtype="8">
                                  <p:stCondLst>
                                    <p:cond delay="5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5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nodeType="withEffect" fill="hold" presetClass="exit" presetID="2" presetSubtype="8">
                                  <p:stCondLst>
                                    <p:cond delay="53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2" presetSubtype="8">
                                  <p:stCondLst>
                                    <p:cond delay="54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6" nodeType="withEffect" fill="hold" presetClass="entr" presetID="1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0.16389 -0.16667 L 1.94444E-006 1.7284E-006 E">
                                      <p:cBhvr>
                                        <p:cTn id="2159" dur="4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0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path" presetID="42">
                                  <p:stCondLst>
                                    <p:cond delay="5450"/>
                                  </p:stCondLst>
                                  <p:childTnLst>
                                    <p:animMotion origin="layout" path="M 0.11424 -0.17408 L -2.77778E-006 2.71605E-006 E">
                                      <p:cBhvr>
                                        <p:cTn id="2163" dur="4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3021 -0.18766 L -3.05556E-006 2.46914E-006 E">
                                      <p:cBhvr>
                                        <p:cTn id="2167" dur="4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path" presetID="42">
                                  <p:stCondLst>
                                    <p:cond delay="5550"/>
                                  </p:stCondLst>
                                  <p:childTnLst>
                                    <p:animMotion origin="layout" path="M -0.03889 -0.24074 L 2.5E-006 2.71605E-006 E">
                                      <p:cBhvr>
                                        <p:cTn id="2171" dur="4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2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path" presetID="42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-0.33698 -0.05685 L -2.77778E-006 4.54742E-006 E">
                                      <p:cBhvr>
                                        <p:cTn id="2175" dur="4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6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path" presetID="42">
                                  <p:stCondLst>
                                    <p:cond delay="5650"/>
                                  </p:stCondLst>
                                  <p:childTnLst>
                                    <p:animMotion origin="layout" path="M 0.29011 -0.05468 L -4.72222E-006 6.11677E-007 E">
                                      <p:cBhvr>
                                        <p:cTn id="2179" dur="4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10">
                                  <p:stCondLst>
                                    <p:cond delay="7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0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4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8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23" presetSubtype="3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1.94444E-006 3.23448E-006 L -0.30625 0.00154 E">
                                      <p:cBhvr>
                                        <p:cTn id="2209" dur="4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0" nodeType="withEffect" fill="hold" presetClass="path" presetID="0">
                                  <p:stCondLst>
                                    <p:cond delay="10440"/>
                                  </p:stCondLst>
                                  <p:childTnLst>
                                    <p:animMotion origin="layout" path="M 0 0 L -0.71251 -0.79444 E">
                                      <p:cBhvr>
                                        <p:cTn id="2211" dur="1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2" nodeType="withEffect" fill="hold" presetClass="emph" presetID="8">
                                  <p:stCondLst>
                                    <p:cond delay="10440"/>
                                  </p:stCondLst>
                                  <p:childTnLst>
                                    <p:animRot by="21600000">
                                      <p:cBhvr>
                                        <p:cTn id="22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45">
                                  <p:stCondLst>
                                    <p:cond delay="1044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path" presetID="0">
                                  <p:stCondLst>
                                    <p:cond delay="10460"/>
                                  </p:stCondLst>
                                  <p:childTnLst>
                                    <p:animMotion origin="layout" path="M -0.30521 0.00215 L -1.01771 -0.79069 E">
                                      <p:cBhvr>
                                        <p:cTn id="2220" dur="1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1" nodeType="withEffect" fill="hold" presetClass="emph" presetID="8">
                                  <p:stCondLst>
                                    <p:cond delay="10460"/>
                                  </p:stCondLst>
                                  <p:childTnLst>
                                    <p:animRot by="21600000">
                                      <p:cBhvr>
                                        <p:cTn id="222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23" nodeType="withEffect" fill="hold" presetClass="exit" presetID="45">
                                  <p:stCondLst>
                                    <p:cond delay="1046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1005-EDCF-4A9B-BC40-229E27916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1796400" y="2381040"/>
            <a:ext cx="942840" cy="474840"/>
            <a:chOff x="1796400" y="2381040"/>
            <a:chExt cx="942840" cy="474840"/>
          </a:xfrm>
        </p:grpSpPr>
        <p:sp>
          <p:nvSpPr>
            <p:cNvPr id="411" name="矩形 1"/>
            <p:cNvSpPr/>
            <p:nvPr/>
          </p:nvSpPr>
          <p:spPr>
            <a:xfrm>
              <a:off x="1796400" y="2381040"/>
              <a:ext cx="942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方正粗活意简体"/>
                </a:rPr>
                <a:t>插入主题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7"/>
          <p:cNvGrpSpPr/>
          <p:nvPr/>
        </p:nvGrpSpPr>
        <p:grpSpPr>
          <a:xfrm>
            <a:off x="5996160" y="1834560"/>
            <a:ext cx="1643760" cy="916920"/>
            <a:chOff x="5996160" y="1834560"/>
            <a:chExt cx="1643760" cy="916920"/>
          </a:xfrm>
        </p:grpSpPr>
        <p:sp>
          <p:nvSpPr>
            <p:cNvPr id="413" name="矩形 7"/>
            <p:cNvSpPr/>
            <p:nvPr/>
          </p:nvSpPr>
          <p:spPr>
            <a:xfrm>
              <a:off x="5996160" y="1834560"/>
              <a:ext cx="1643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活意简体"/>
                  <a:ea typeface="方正粗活意简体"/>
                </a:rPr>
                <a:t>插入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方正粗活意简体"/>
                </a:rPr>
                <a:t>插入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方正粗活意简体"/>
                </a:rPr>
                <a:t>插入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0"/>
          <p:cNvGrpSpPr/>
          <p:nvPr/>
        </p:nvGrpSpPr>
        <p:grpSpPr>
          <a:xfrm>
            <a:off x="1513440" y="6202080"/>
            <a:ext cx="97920" cy="97920"/>
            <a:chOff x="1513440" y="6202080"/>
            <a:chExt cx="97920" cy="97920"/>
          </a:xfrm>
        </p:grpSpPr>
        <p:sp>
          <p:nvSpPr>
            <p:cNvPr id="415" name="Oval 7"/>
            <p:cNvSpPr/>
            <p:nvPr/>
          </p:nvSpPr>
          <p:spPr>
            <a:xfrm>
              <a:off x="1513440" y="620208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17" name="Group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18" name="Group 21"/>
          <p:cNvGrpSpPr/>
          <p:nvPr/>
        </p:nvGrpSpPr>
        <p:grpSpPr>
          <a:xfrm>
            <a:off x="5736600" y="6194160"/>
            <a:ext cx="97920" cy="97920"/>
            <a:chOff x="5736600" y="6194160"/>
            <a:chExt cx="97920" cy="97920"/>
          </a:xfrm>
        </p:grpSpPr>
        <p:sp>
          <p:nvSpPr>
            <p:cNvPr id="419" name="Oval 7"/>
            <p:cNvSpPr/>
            <p:nvPr/>
          </p:nvSpPr>
          <p:spPr>
            <a:xfrm>
              <a:off x="5736600" y="619416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1" name="Group 2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2" name="Group 32"/>
          <p:cNvGrpSpPr/>
          <p:nvPr/>
        </p:nvGrpSpPr>
        <p:grpSpPr>
          <a:xfrm>
            <a:off x="1617120" y="-280800"/>
            <a:ext cx="97920" cy="97920"/>
            <a:chOff x="1617120" y="-280800"/>
            <a:chExt cx="97920" cy="97920"/>
          </a:xfrm>
        </p:grpSpPr>
        <p:sp>
          <p:nvSpPr>
            <p:cNvPr id="423" name="Oval 7"/>
            <p:cNvSpPr/>
            <p:nvPr/>
          </p:nvSpPr>
          <p:spPr>
            <a:xfrm>
              <a:off x="1617120" y="-28080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3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5" name="Group 3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6" name="Group 43"/>
          <p:cNvGrpSpPr/>
          <p:nvPr/>
        </p:nvGrpSpPr>
        <p:grpSpPr>
          <a:xfrm>
            <a:off x="5841360" y="-288720"/>
            <a:ext cx="97920" cy="97920"/>
            <a:chOff x="5841360" y="-288720"/>
            <a:chExt cx="97920" cy="97920"/>
          </a:xfrm>
        </p:grpSpPr>
        <p:sp>
          <p:nvSpPr>
            <p:cNvPr id="427" name="Oval 7"/>
            <p:cNvSpPr/>
            <p:nvPr/>
          </p:nvSpPr>
          <p:spPr>
            <a:xfrm>
              <a:off x="5841360" y="-28872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29" name="Group 5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0" name="Group 54"/>
          <p:cNvGrpSpPr/>
          <p:nvPr/>
        </p:nvGrpSpPr>
        <p:grpSpPr>
          <a:xfrm>
            <a:off x="-741960" y="6035400"/>
            <a:ext cx="97920" cy="97920"/>
            <a:chOff x="-741960" y="6035400"/>
            <a:chExt cx="97920" cy="97920"/>
          </a:xfrm>
        </p:grpSpPr>
        <p:sp>
          <p:nvSpPr>
            <p:cNvPr id="431" name="Oval 7"/>
            <p:cNvSpPr/>
            <p:nvPr/>
          </p:nvSpPr>
          <p:spPr>
            <a:xfrm>
              <a:off x="-741960" y="603540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5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3" name="Group 6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4" name="Group 65"/>
          <p:cNvGrpSpPr/>
          <p:nvPr/>
        </p:nvGrpSpPr>
        <p:grpSpPr>
          <a:xfrm>
            <a:off x="-595800" y="-78840"/>
            <a:ext cx="97920" cy="97560"/>
            <a:chOff x="-595800" y="-78840"/>
            <a:chExt cx="97920" cy="97560"/>
          </a:xfrm>
        </p:grpSpPr>
        <p:sp>
          <p:nvSpPr>
            <p:cNvPr id="435" name="Oval 7"/>
            <p:cNvSpPr/>
            <p:nvPr/>
          </p:nvSpPr>
          <p:spPr>
            <a:xfrm>
              <a:off x="-595800" y="-78840"/>
              <a:ext cx="97920" cy="975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6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7" name="Group 7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38" name="Group 76"/>
          <p:cNvGrpSpPr/>
          <p:nvPr/>
        </p:nvGrpSpPr>
        <p:grpSpPr>
          <a:xfrm>
            <a:off x="10339920" y="2476440"/>
            <a:ext cx="97920" cy="97920"/>
            <a:chOff x="10339920" y="2476440"/>
            <a:chExt cx="97920" cy="97920"/>
          </a:xfrm>
        </p:grpSpPr>
        <p:sp>
          <p:nvSpPr>
            <p:cNvPr id="439" name="Oval 7"/>
            <p:cNvSpPr/>
            <p:nvPr/>
          </p:nvSpPr>
          <p:spPr>
            <a:xfrm>
              <a:off x="10339920" y="247644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8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41" name="Group 8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42" name="Group 87"/>
          <p:cNvGrpSpPr/>
          <p:nvPr/>
        </p:nvGrpSpPr>
        <p:grpSpPr>
          <a:xfrm>
            <a:off x="10393920" y="4912920"/>
            <a:ext cx="97920" cy="97920"/>
            <a:chOff x="10393920" y="4912920"/>
            <a:chExt cx="97920" cy="97920"/>
          </a:xfrm>
        </p:grpSpPr>
        <p:sp>
          <p:nvSpPr>
            <p:cNvPr id="443" name="Oval 7"/>
            <p:cNvSpPr/>
            <p:nvPr/>
          </p:nvSpPr>
          <p:spPr>
            <a:xfrm>
              <a:off x="10393920" y="4912920"/>
              <a:ext cx="97920" cy="9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9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445" name="Group 9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2228" dur="indefinite" restart="never" nodeType="tmRoot">
          <p:childTnLst>
            <p:seq>
              <p:cTn id="2229" dur="indefinite" nodeType="mainSeq">
                <p:childTnLst>
                  <p:par>
                    <p:cTn id="2230" nodeType="clickEffect" fill="hold">
                      <p:stCondLst>
                        <p:cond delay="0"/>
                      </p:stCondLst>
                      <p:childTnLst>
                        <p:par>
                          <p:cTn id="2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0" nodeType="withEffect" fill="hold" presetClass="path" presetID="42" repeatCount="3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2.77778E-006 -6.17284E-007 L 0.16875 -1.44444 E">
                                      <p:cBhvr>
                                        <p:cTn id="2241" dur="3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2" nodeType="withEffect" fill="hold" presetClass="path" presetID="42" repeatCount="300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3.88889E-006 1.7284E-006 L -0.26701 -1.30556 E">
                                      <p:cBhvr>
                                        <p:cTn id="2243" dur="3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4" nodeType="withEffect" fill="hold" presetClass="path" presetID="42" repeatCount="300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5.55556E-007 6.17284E-007 L -0.50312 -0.97778 E">
                                      <p:cBhvr>
                                        <p:cTn id="2245" dur="3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9" presetSubtype="10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8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9" presetSubtype="10" repeatCount="300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9" presetSubtype="10" repeatCount="300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8" nodeType="withEffect" fill="hold" presetClass="emph" presetID="8" repeatCount="3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259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0" nodeType="withEffect" fill="hold" presetClass="emph" presetID="8" repeatCount="3000">
                                  <p:stCondLst>
                                    <p:cond delay="1100"/>
                                  </p:stCondLst>
                                  <p:childTnLst>
                                    <p:animRot by="21600000">
                                      <p:cBhvr>
                                        <p:cTn id="2261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2" nodeType="withEffect" fill="hold" presetClass="emph" presetID="8" repeatCount="3000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2263" dur="3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64" nodeType="withEffect" fill="hold" presetClass="path" presetID="42" repeatCount="3000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5.55556E-007 8.64198E-007 L 0.4625 -0.58333 E">
                                      <p:cBhvr>
                                        <p:cTn id="2265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6" nodeType="withEffect" fill="hold" presetClass="path" presetID="42" repeatCount="300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5.55556E-007 -1.35802E-006 L 0.39063 -0.88333 E">
                                      <p:cBhvr>
                                        <p:cTn id="2267" dur="3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8" nodeType="withEffect" fill="hold" presetClass="path" presetID="42" repeatCount="3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8.33333E-007 2.22222E-006 L -0.90937 -0.35556 E">
                                      <p:cBhvr>
                                        <p:cTn id="2269" dur="3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19" presetSubtype="10" repeatCount="300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4" nodeType="withEffect" fill="hold" presetClass="entr" presetID="19" presetSubtype="10" repeatCount="300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19" presetSubtype="10" repeatCount="3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emph" presetID="8" repeatCount="3000">
                                  <p:stCondLst>
                                    <p:cond delay="1300"/>
                                  </p:stCondLst>
                                  <p:childTnLst>
                                    <p:animRot by="21600000">
                                      <p:cBhvr>
                                        <p:cTn id="2283" dur="3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4" nodeType="withEffect" fill="hold" presetClass="emph" presetID="8" repeatCount="3000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2285" dur="3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6" nodeType="withEffect" fill="hold" presetClass="emph" presetID="8" repeatCount="3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2287" dur="3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8" nodeType="withEffect" fill="hold" presetClass="path" presetID="42" repeatCount="300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94444E-006 1.23457E-007 L 0.95312 0.86667 E">
                                      <p:cBhvr>
                                        <p:cTn id="2289" dur="3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0" nodeType="withEffect" fill="hold" presetClass="path" presetID="42" repeatCount="300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22222E-006 1.60494E-006 L 0.80313 0.27222 E">
                                      <p:cBhvr>
                                        <p:cTn id="2291" dur="3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2" nodeType="withEffect" fill="hold" presetClass="path" presetID="42" repeatCount="3000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1.94444E-006 -6.17284E-007 L 0.2625 1.22778 E">
                                      <p:cBhvr>
                                        <p:cTn id="2293" dur="3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4" nodeType="withEffect" fill="hold" presetClass="entr" presetID="19" presetSubtype="10" repeatCount="300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6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7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8" nodeType="withEffect" fill="hold" presetClass="entr" presetID="19" presetSubtype="10" repeatCount="300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9" presetSubtype="10" repeatCount="300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8" repeatCount="3000">
                                  <p:stCondLst>
                                    <p:cond delay="1600"/>
                                  </p:stCondLst>
                                  <p:childTnLst>
                                    <p:animRot by="21600000">
                                      <p:cBhvr>
                                        <p:cTn id="2307" dur="3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8" nodeType="withEffect" fill="hold" presetClass="emph" presetID="8" repeatCount="3000">
                                  <p:stCondLst>
                                    <p:cond delay="1700"/>
                                  </p:stCondLst>
                                  <p:childTnLst>
                                    <p:animRot by="21600000">
                                      <p:cBhvr>
                                        <p:cTn id="2309" dur="3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0" nodeType="withEffect" fill="hold" presetClass="emph" presetID="8" repeatCount="3000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231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2" nodeType="withEffect" fill="hold" presetClass="path" presetID="42" repeatCount="3000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77778E-007 -3.20988E-006 L -0.26615 1.30402 E">
                                      <p:cBhvr>
                                        <p:cTn id="2313" dur="3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4" nodeType="withEffect" fill="hold" presetClass="path" presetID="42" repeatCount="3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38889E-006 4.81481E-006 L -0.74045 1.3 E">
                                      <p:cBhvr>
                                        <p:cTn id="2315" dur="3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6" nodeType="withEffect" fill="hold" presetClass="path" presetID="42" repeatCount="300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77778E-007 -4.81481E-006 L -0.36788 1.3071 E">
                                      <p:cBhvr>
                                        <p:cTn id="2317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8" nodeType="withEffect" fill="hold" presetClass="entr" presetID="19" presetSubtype="10" repeatCount="300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9" presetSubtype="10" repeatCount="3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19" presetSubtype="10" repeatCount="300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0" nodeType="withEffect" fill="hold" presetClass="emph" presetID="8" repeatCount="3000">
                                  <p:stCondLst>
                                    <p:cond delay="1900"/>
                                  </p:stCondLst>
                                  <p:childTnLst>
                                    <p:animRot by="21600000">
                                      <p:cBhvr>
                                        <p:cTn id="2331" dur="3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2" nodeType="withEffect" fill="hold" presetClass="emph" presetID="8" repeatCount="3000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2333" dur="3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4" nodeType="withEffect" fill="hold" presetClass="emph" presetID="8" repeatCount="3000">
                                  <p:stCondLst>
                                    <p:cond delay="2100"/>
                                  </p:stCondLst>
                                  <p:childTnLst>
                                    <p:animRot by="21600000">
                                      <p:cBhvr>
                                        <p:cTn id="2335" dur="3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36" nodeType="withEffect" fill="hold" presetClass="path" presetID="42" repeatCount="300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38778E-017 -1.85185E-006 L 1.2625 -1.28889 E">
                                      <p:cBhvr>
                                        <p:cTn id="2337" dur="3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8" nodeType="withEffect" fill="hold" presetClass="path" presetID="42" repeatCount="300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61111E-006 3.33333E-006 L 0.30312 0.46666 E">
                                      <p:cBhvr>
                                        <p:cTn id="2339" dur="3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0" nodeType="withEffect" fill="hold" presetClass="path" presetID="42" repeatCount="3000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-1.38889E-006 1.60494E-006 L 1.25313 -0.08889 E">
                                      <p:cBhvr>
                                        <p:cTn id="2341" dur="3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2" nodeType="withEffect" fill="hold" presetClass="entr" presetID="19" presetSubtype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9" presetSubtype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8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19" presetSubtype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4" nodeType="withEffect" fill="hold" presetClass="emph" presetID="8" repeatCount="3000">
                                  <p:stCondLst>
                                    <p:cond delay="2200"/>
                                  </p:stCondLst>
                                  <p:childTnLst>
                                    <p:animRot by="21600000">
                                      <p:cBhvr>
                                        <p:cTn id="2355" dur="3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6" nodeType="withEffect" fill="hold" presetClass="emph" presetID="8" repeatCount="3000">
                                  <p:stCondLst>
                                    <p:cond delay="2300"/>
                                  </p:stCondLst>
                                  <p:childTnLst>
                                    <p:animRot by="21600000">
                                      <p:cBhvr>
                                        <p:cTn id="2357" dur="3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8" nodeType="withEffect" fill="hold" presetClass="emph" presetID="8" repeatCount="3000">
                                  <p:stCondLst>
                                    <p:cond delay="2400"/>
                                  </p:stCondLst>
                                  <p:childTnLst>
                                    <p:animRot by="21600000">
                                      <p:cBhvr>
                                        <p:cTn id="2359" dur="3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0" nodeType="withEffect" fill="hold" presetClass="path" presetID="42" repeatCount="3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1.38778E-017 2.46914E-006 L 1.2375 0.65 E">
                                      <p:cBhvr>
                                        <p:cTn id="2361" dur="3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2" nodeType="withEffect" fill="hold" presetClass="path" presetID="42" repeatCount="3000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2.77778E-006 2.22222E-006 L 1.17812 0.62222 E">
                                      <p:cBhvr>
                                        <p:cTn id="2363" dur="3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4" nodeType="withEffect" fill="hold" presetClass="path" presetID="42" repeatCount="3000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4.16667E-006 -4.93827E-007 L 1.26875 0.12778 E">
                                      <p:cBhvr>
                                        <p:cTn id="2365" dur="3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9" presetSubtype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9" presetSubtype="10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9" presetSubtype="10" repeatCount="300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mph" presetID="8" repeatCount="3000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2379" dur="3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0" nodeType="withEffect" fill="hold" presetClass="emph" presetID="8" repeatCount="3000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2381" dur="3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2" nodeType="withEffect" fill="hold" presetClass="emph" presetID="8" repeatCount="3000">
                                  <p:stCondLst>
                                    <p:cond delay="2700"/>
                                  </p:stCondLst>
                                  <p:childTnLst>
                                    <p:animRot by="21600000">
                                      <p:cBhvr>
                                        <p:cTn id="2383" dur="3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4" nodeType="withEffect" fill="hold" presetClass="path" presetID="42" repeatCount="300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1.94444E-006 -3.95062E-006 L -1.20625 0.56112 E">
                                      <p:cBhvr>
                                        <p:cTn id="2385" dur="3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6" nodeType="withEffect" fill="hold" presetClass="path" presetID="42" repeatCount="300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94444E-006 -6.17284E-007 L -1.2 -0.61111 E">
                                      <p:cBhvr>
                                        <p:cTn id="2387" dur="3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8" nodeType="withEffect" fill="hold" presetClass="path" presetID="42" repeatCount="300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61111E-006 7.40741E-007 L -0.56875 -1.37222 E">
                                      <p:cBhvr>
                                        <p:cTn id="2389" dur="3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19" presetSubtype="10" repeatCount="300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2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4" nodeType="withEffect" fill="hold" presetClass="entr" presetID="19" presetSubtype="10" repeatCount="300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19" presetSubtype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2" nodeType="withEffect" fill="hold" presetClass="emph" presetID="8" repeatCount="3000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2403" dur="3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4" nodeType="withEffect" fill="hold" presetClass="emph" presetID="8" repeatCount="3000">
                                  <p:stCondLst>
                                    <p:cond delay="2900"/>
                                  </p:stCondLst>
                                  <p:childTnLst>
                                    <p:animRot by="21600000">
                                      <p:cBhvr>
                                        <p:cTn id="2405" dur="3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6" nodeType="withEffect" fill="hold" presetClass="emph" presetID="8" repeatCount="3000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407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8" nodeType="withEffect" fill="hold" presetClass="path" presetID="42" repeatCount="3000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-2.22222E-006 -4.69136E-006 L -1.32187 -0.41666 E">
                                      <p:cBhvr>
                                        <p:cTn id="2409" dur="3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0" nodeType="withEffect" fill="hold" presetClass="path" presetID="42" repeatCount="300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4.72222E-006 0 L -1.21875 0.43889 E">
                                      <p:cBhvr>
                                        <p:cTn id="2411" dur="3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2" nodeType="withEffect" fill="hold" presetClass="path" presetID="42" repeatCount="3000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-3.05556E-006 -3.20988E-006 L -1.25625 0.6 E">
                                      <p:cBhvr>
                                        <p:cTn id="2413" dur="3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19" presetSubtype="10" repeatCount="300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19" presetSubtype="10" repeatCount="300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19" presetSubtype="10" repeatCount="300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4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6" nodeType="withEffect" fill="hold" presetClass="emph" presetID="8" repeatCount="3000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242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8" repeatCount="3000">
                                  <p:stCondLst>
                                    <p:cond delay="3200"/>
                                  </p:stCondLst>
                                  <p:childTnLst>
                                    <p:animRot by="21600000">
                                      <p:cBhvr>
                                        <p:cTn id="2429" dur="3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0" nodeType="withEffect" fill="hold" presetClass="emph" presetID="8" repeatCount="3000">
                                  <p:stCondLst>
                                    <p:cond delay="3300"/>
                                  </p:stCondLst>
                                  <p:childTnLst>
                                    <p:animRot by="21600000">
                                      <p:cBhvr>
                                        <p:cTn id="2431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7A0-3716-480E-BAEF-49956495B7C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3"/>
          <p:cNvSpPr/>
          <p:nvPr/>
        </p:nvSpPr>
        <p:spPr>
          <a:xfrm>
            <a:off x="3914640" y="2320920"/>
            <a:ext cx="131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449" name="TextBox 10"/>
          <p:cNvSpPr/>
          <p:nvPr/>
        </p:nvSpPr>
        <p:spPr>
          <a:xfrm>
            <a:off x="3343320" y="2030400"/>
            <a:ext cx="24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粗活意简体"/>
                <a:ea typeface="方正粗活意简体"/>
              </a:rPr>
              <a:t>R   A   P   I   D   E   S   I   G  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E035-9150-42C6-9156-D7D7F299BD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8"/>
          <p:cNvSpPr/>
          <p:nvPr/>
        </p:nvSpPr>
        <p:spPr>
          <a:xfrm>
            <a:off x="952560" y="2592360"/>
            <a:ext cx="135000" cy="63360"/>
          </a:xfrm>
          <a:prstGeom prst="rect">
            <a:avLst/>
          </a:prstGeom>
          <a:solidFill>
            <a:srgbClr val="eab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6"/>
          <p:cNvSpPr/>
          <p:nvPr/>
        </p:nvSpPr>
        <p:spPr>
          <a:xfrm>
            <a:off x="1547640" y="2797200"/>
            <a:ext cx="66960" cy="73080"/>
          </a:xfrm>
          <a:prstGeom prst="rect">
            <a:avLst/>
          </a:prstGeom>
          <a:solidFill>
            <a:srgbClr val="eab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7"/>
          <p:cNvSpPr/>
          <p:nvPr/>
        </p:nvSpPr>
        <p:spPr>
          <a:xfrm>
            <a:off x="1547640" y="2797200"/>
            <a:ext cx="669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6"/>
          <p:cNvSpPr/>
          <p:nvPr/>
        </p:nvSpPr>
        <p:spPr>
          <a:xfrm>
            <a:off x="2797200" y="2655720"/>
            <a:ext cx="79200" cy="92160"/>
          </a:xfrm>
          <a:prstGeom prst="rect">
            <a:avLst/>
          </a:prstGeom>
          <a:solidFill>
            <a:srgbClr val="eab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7"/>
          <p:cNvSpPr/>
          <p:nvPr/>
        </p:nvSpPr>
        <p:spPr>
          <a:xfrm>
            <a:off x="2797200" y="2655720"/>
            <a:ext cx="792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2"/>
          <p:cNvSpPr/>
          <p:nvPr/>
        </p:nvSpPr>
        <p:spPr>
          <a:xfrm>
            <a:off x="6087960" y="2943360"/>
            <a:ext cx="125640" cy="122040"/>
          </a:xfrm>
          <a:prstGeom prst="rect">
            <a:avLst/>
          </a:prstGeom>
          <a:solidFill>
            <a:srgbClr val="eab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3"/>
          <p:cNvSpPr/>
          <p:nvPr/>
        </p:nvSpPr>
        <p:spPr>
          <a:xfrm>
            <a:off x="6087960" y="2943360"/>
            <a:ext cx="1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pic>
        <p:nvPicPr>
          <p:cNvPr id="107" name="Picture 7" descr=""/>
          <p:cNvPicPr/>
          <p:nvPr/>
        </p:nvPicPr>
        <p:blipFill>
          <a:blip r:embed="rId1"/>
          <a:srcRect l="0" t="31250" r="0" b="25000"/>
          <a:stretch/>
        </p:blipFill>
        <p:spPr>
          <a:xfrm>
            <a:off x="2679840" y="2800440"/>
            <a:ext cx="3784320" cy="1015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42"/>
          <p:cNvSpPr/>
          <p:nvPr/>
        </p:nvSpPr>
        <p:spPr>
          <a:xfrm>
            <a:off x="3343320" y="2717640"/>
            <a:ext cx="247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R   A   P   I   D   E   S   I   G  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3673800" y="2932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插入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C 0.00069 0.01018 -0.00399 0.01883 -0.00972 0.01944 C -0.01545 0.02068 -0.02066 0.01358 -0.02101 0.00308 C -0.02118 -0.00617 -0.01754 -0.0142 -0.0125 -0.01513 C -0.00764 -0.01513 -0.00295 -0.00988 -0.00278 -0.00124 C -0.00243 0.00648 -0.00538 0.01389 -0.01007 0.0145 C -0.01389 0.01512 -0.01788 0.01018 -0.01823 0.00308 C -0.01858 -0.0034 -0.01615 -0.00988 -0.0125 -0.00988 C -0.00903 -0.0105 -0.00573 -0.00648 -0.00538 -0.00124 C -0.00538 0.00432 -0.00729 0.00926 -0.01007 0.00957 C -0.01267 0.01018 -0.01511 0.0071 -0.01545 0.00278 C -0.01545 -0.00124 -0.01424 -0.00494 -0.01215 -0.00494 C -0.01024 -0.00556 -0.00851 -0.00401 -0.00851 -0.00062 C -0.00816 0.00154 -0.00903 0.00432 -0.01024 0.00494 C -0.01146 0.00494 -0.0125 0.00432 -0.0125 0.00278 C -0.01267 0.00154 -0.0125 0.00031 -0.01181 1.85185E-006 C -0.01181 0.00031 -0.01146 1.85185E-006 -0.01129 1.85185E-006 E">
                                      <p:cBhvr>
                                        <p:cTn id="35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6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6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3" presetSubtype="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4" presetSubtype="10" repeatCount="12000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2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autoRev="1" nodeType="withEffect" fill="hold" presetClass="emph" presetID="6" repeatCount="22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9" dur="20" fill="hold"/>
                                        <p:tgtEl>
                                          <p:spTgt spid="10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8 0.0003 C -0.00781 0.00524 -0.02535 0.02654 -0.04636 0.03024 C -0.06736 0.03395 -0.10938 0.02438 -0.12587 0.02283 E">
                                      <p:cBhvr>
                                        <p:cTn id="39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77778E-006 3.08642E-006 L 0.02326 3.08642E-006 E">
                                      <p:cBhvr>
                                        <p:cTn id="394" dur="3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3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00" dur="3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326 4.44444E-006 C 0.08142 0.04907 0.13941 0.09814 0.21493 0.09259 C 0.29028 0.08703 0.3849 -0.04013 0.47535 -0.03334 C 0.56563 -0.02655 0.67726 0.12222 0.7566 0.13333 C 0.83576 0.14444 0.89549 0.04567 0.95017 0.03333 C 1.00521 0.02098 1.04531 0.04012 1.08559 0.05925 E">
                                      <p:cBhvr>
                                        <p:cTn id="40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9" presetSubtype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21600000">
                                      <p:cBhvr>
                                        <p:cTn id="408" dur="2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8 0.0003 C -0.01111 4.07407000000001E-006 -0.03507 0.00123 -0.06563 -0.00093 C -0.09618 -0.00309 -0.15903 -0.00988 -0.18368 -0.01204 E">
                                      <p:cBhvr>
                                        <p:cTn id="415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2.77778E-006 3.08642E-006 L 0.02326 3.08642E-006 E">
                                      <p:cBhvr>
                                        <p:cTn id="419" dur="3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8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425" dur="3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0.02326 4.44444E-006 C 0.08142 0.04907 0.13941 0.09814 0.21493 0.09259 C 0.29028 0.08703 0.3849 -0.04013 0.47535 -0.03334 C 0.56563 -0.02655 0.67726 0.12222 0.7566 0.13333 C 0.83576 0.14444 0.89549 0.04567 0.95017 0.03333 C 1.00521 0.02098 1.04531 0.04012 1.08559 0.05925 E">
                                      <p:cBhvr>
                                        <p:cTn id="42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9" presetSubtype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8">
                                  <p:stCondLst>
                                    <p:cond delay="3400"/>
                                  </p:stCondLst>
                                  <p:childTnLst>
                                    <p:animRot by="21600000">
                                      <p:cBhvr>
                                        <p:cTn id="433" dur="2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5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33073 0.02284 C -0.29809 0.02531 -0.17465 0.03488 -0.13524 0.03704 C -0.096 0.0392 -0.10972 0.03796 -0.09392 0.03642 C -0.0783 0.03488 -0.05729 0.03395 -0.04184 0.02778 C -0.02639 0.0216 -0.0092 0.00586 -0.00069 1.35802E-006 E">
                                      <p:cBhvr>
                                        <p:cTn id="440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21600000">
                                      <p:cBhvr>
                                        <p:cTn id="4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42">
                                  <p:stCondLst>
                                    <p:cond delay="1150"/>
                                  </p:stCondLst>
                                  <p:childTnLst>
                                    <p:animMotion origin="layout" path="M 3.33333E-006 1.7284E-006 L 0.025 1.7284E-006 E">
                                      <p:cBhvr>
                                        <p:cTn id="444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9" presetSubtype="10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3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21600000">
                                      <p:cBhvr>
                                        <p:cTn id="450" dur="3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4150"/>
                                  </p:stCondLst>
                                  <p:childTnLst>
                                    <p:animMotion origin="layout" path="M 0.025 -9.87654E-007 C 0.07152 -0.05154 0.11805 -0.10309 0.175 -0.07778 C 0.23194 -0.05247 0.28958 0.14877 0.36666 0.15185 C 0.44375 0.15494 0.52777 -0.04815 0.6375 -0.05926 C 0.74722 -0.07037 0.88611 0.00741 1.025 0.08519 E">
                                      <p:cBhvr>
                                        <p:cTn id="45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9" presetSubtype="10">
                                  <p:stCondLst>
                                    <p:cond delay="36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8">
                                  <p:stCondLst>
                                    <p:cond delay="3650"/>
                                  </p:stCondLst>
                                  <p:childTnLst>
                                    <p:animRot by="21600000">
                                      <p:cBhvr>
                                        <p:cTn id="458" dur="2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68351 -0.06914 C -0.59965 -0.06512 -0.29358 -0.05648 -0.17986 -0.04506 C -0.06615 -0.03364 -0.03837 -0.00926 -0.00104 -6.17284E-007 E">
                                      <p:cBhvr>
                                        <p:cTn id="465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4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8" nodeType="with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1.7284E-006 L 0.025 1.7284E-006 E">
                                      <p:cBhvr>
                                        <p:cTn id="46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9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600000">
                                      <p:cBhvr>
                                        <p:cTn id="475" dur="32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.025 -9.87654E-007 C 0.07152 -0.05154 0.11805 -0.10309 0.175 -0.07778 C 0.23194 -0.05247 0.28958 0.14877 0.36666 0.15185 C 0.44375 0.15494 0.52777 -0.04815 0.6375 -0.05926 C 0.74722 -0.07037 0.88611 0.00741 1.025 0.08519 E">
                                      <p:cBhvr>
                                        <p:cTn id="47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9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21600000">
                                      <p:cBhvr>
                                        <p:cTn id="483" dur="2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2" presetSubtype="2">
                                  <p:stCondLst>
                                    <p:cond delay="4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B985-0B18-4159-8930-8C6984F258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30"/>
          <p:cNvSpPr/>
          <p:nvPr/>
        </p:nvSpPr>
        <p:spPr>
          <a:xfrm>
            <a:off x="3854520" y="0"/>
            <a:ext cx="175716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7"/>
          <p:cNvSpPr/>
          <p:nvPr/>
        </p:nvSpPr>
        <p:spPr>
          <a:xfrm>
            <a:off x="6797520" y="0"/>
            <a:ext cx="175896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5460840" y="0"/>
            <a:ext cx="36216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3"/>
          <p:cNvSpPr/>
          <p:nvPr/>
        </p:nvSpPr>
        <p:spPr>
          <a:xfrm>
            <a:off x="2319480" y="0"/>
            <a:ext cx="81432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0"/>
          <p:cNvSpPr/>
          <p:nvPr/>
        </p:nvSpPr>
        <p:spPr>
          <a:xfrm>
            <a:off x="1089000" y="0"/>
            <a:ext cx="814320" cy="514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7" dur="10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04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15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54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2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22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6" dur="10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04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22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9" dur="8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22" presetSubtype="1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10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04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2817720" y="5486400"/>
            <a:ext cx="466920" cy="466920"/>
            <a:chOff x="2817720" y="5486400"/>
            <a:chExt cx="466920" cy="466920"/>
          </a:xfrm>
        </p:grpSpPr>
        <p:sp>
          <p:nvSpPr>
            <p:cNvPr id="118" name="Oval 10"/>
            <p:cNvSpPr/>
            <p:nvPr/>
          </p:nvSpPr>
          <p:spPr>
            <a:xfrm>
              <a:off x="2817720" y="548640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8"/>
          <p:cNvGrpSpPr/>
          <p:nvPr/>
        </p:nvGrpSpPr>
        <p:grpSpPr>
          <a:xfrm>
            <a:off x="3049560" y="5189400"/>
            <a:ext cx="466920" cy="466920"/>
            <a:chOff x="3049560" y="5189400"/>
            <a:chExt cx="466920" cy="466920"/>
          </a:xfrm>
        </p:grpSpPr>
        <p:sp>
          <p:nvSpPr>
            <p:cNvPr id="120" name="Oval 10"/>
            <p:cNvSpPr/>
            <p:nvPr/>
          </p:nvSpPr>
          <p:spPr>
            <a:xfrm>
              <a:off x="3049560" y="518940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14"/>
          <p:cNvGrpSpPr/>
          <p:nvPr/>
        </p:nvGrpSpPr>
        <p:grpSpPr>
          <a:xfrm>
            <a:off x="3259080" y="4719600"/>
            <a:ext cx="466920" cy="466920"/>
            <a:chOff x="3259080" y="4719600"/>
            <a:chExt cx="466920" cy="466920"/>
          </a:xfrm>
        </p:grpSpPr>
        <p:sp>
          <p:nvSpPr>
            <p:cNvPr id="122" name="Oval 10"/>
            <p:cNvSpPr/>
            <p:nvPr/>
          </p:nvSpPr>
          <p:spPr>
            <a:xfrm>
              <a:off x="3259080" y="471960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3259080" y="4386240"/>
            <a:ext cx="466920" cy="466920"/>
            <a:chOff x="3259080" y="4386240"/>
            <a:chExt cx="466920" cy="466920"/>
          </a:xfrm>
        </p:grpSpPr>
        <p:sp>
          <p:nvSpPr>
            <p:cNvPr id="124" name="Oval 10"/>
            <p:cNvSpPr/>
            <p:nvPr/>
          </p:nvSpPr>
          <p:spPr>
            <a:xfrm>
              <a:off x="3259080" y="438624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26"/>
          <p:cNvGrpSpPr/>
          <p:nvPr/>
        </p:nvGrpSpPr>
        <p:grpSpPr>
          <a:xfrm>
            <a:off x="2981160" y="4155840"/>
            <a:ext cx="466920" cy="466920"/>
            <a:chOff x="2981160" y="4155840"/>
            <a:chExt cx="466920" cy="466920"/>
          </a:xfrm>
        </p:grpSpPr>
        <p:sp>
          <p:nvSpPr>
            <p:cNvPr id="126" name="Oval 10"/>
            <p:cNvSpPr/>
            <p:nvPr/>
          </p:nvSpPr>
          <p:spPr>
            <a:xfrm>
              <a:off x="2981160" y="415584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2"/>
          <p:cNvGrpSpPr/>
          <p:nvPr/>
        </p:nvGrpSpPr>
        <p:grpSpPr>
          <a:xfrm>
            <a:off x="3071880" y="3925800"/>
            <a:ext cx="466920" cy="466920"/>
            <a:chOff x="3071880" y="3925800"/>
            <a:chExt cx="466920" cy="466920"/>
          </a:xfrm>
        </p:grpSpPr>
        <p:sp>
          <p:nvSpPr>
            <p:cNvPr id="128" name="Oval 10"/>
            <p:cNvSpPr/>
            <p:nvPr/>
          </p:nvSpPr>
          <p:spPr>
            <a:xfrm>
              <a:off x="3071880" y="392580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8"/>
          <p:cNvGrpSpPr/>
          <p:nvPr/>
        </p:nvGrpSpPr>
        <p:grpSpPr>
          <a:xfrm>
            <a:off x="3214800" y="3774960"/>
            <a:ext cx="466920" cy="466920"/>
            <a:chOff x="3214800" y="3774960"/>
            <a:chExt cx="466920" cy="466920"/>
          </a:xfrm>
        </p:grpSpPr>
        <p:sp>
          <p:nvSpPr>
            <p:cNvPr id="130" name="Oval 10"/>
            <p:cNvSpPr/>
            <p:nvPr/>
          </p:nvSpPr>
          <p:spPr>
            <a:xfrm>
              <a:off x="3214800" y="377496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44"/>
          <p:cNvGrpSpPr/>
          <p:nvPr/>
        </p:nvGrpSpPr>
        <p:grpSpPr>
          <a:xfrm>
            <a:off x="3376440" y="3695760"/>
            <a:ext cx="466920" cy="466920"/>
            <a:chOff x="3376440" y="3695760"/>
            <a:chExt cx="466920" cy="466920"/>
          </a:xfrm>
        </p:grpSpPr>
        <p:sp>
          <p:nvSpPr>
            <p:cNvPr id="132" name="Oval 10"/>
            <p:cNvSpPr/>
            <p:nvPr/>
          </p:nvSpPr>
          <p:spPr>
            <a:xfrm>
              <a:off x="3376440" y="369576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50"/>
          <p:cNvGrpSpPr/>
          <p:nvPr/>
        </p:nvGrpSpPr>
        <p:grpSpPr>
          <a:xfrm>
            <a:off x="3448080" y="3511440"/>
            <a:ext cx="466920" cy="466920"/>
            <a:chOff x="3448080" y="3511440"/>
            <a:chExt cx="466920" cy="466920"/>
          </a:xfrm>
        </p:grpSpPr>
        <p:sp>
          <p:nvSpPr>
            <p:cNvPr id="134" name="Oval 10"/>
            <p:cNvSpPr/>
            <p:nvPr/>
          </p:nvSpPr>
          <p:spPr>
            <a:xfrm>
              <a:off x="3448080" y="3511440"/>
              <a:ext cx="466920" cy="466920"/>
            </a:xfrm>
            <a:prstGeom prst="ellipse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56"/>
          <p:cNvGrpSpPr/>
          <p:nvPr/>
        </p:nvGrpSpPr>
        <p:grpSpPr>
          <a:xfrm>
            <a:off x="3560760" y="3343320"/>
            <a:ext cx="466920" cy="466920"/>
            <a:chOff x="3560760" y="3343320"/>
            <a:chExt cx="466920" cy="466920"/>
          </a:xfrm>
        </p:grpSpPr>
        <p:grpSp>
          <p:nvGrpSpPr>
            <p:cNvPr id="136" name="Group 57"/>
            <p:cNvGrpSpPr/>
            <p:nvPr/>
          </p:nvGrpSpPr>
          <p:grpSpPr>
            <a:xfrm>
              <a:off x="3560760" y="3343320"/>
              <a:ext cx="466920" cy="466920"/>
              <a:chOff x="3560760" y="3343320"/>
              <a:chExt cx="466920" cy="466920"/>
            </a:xfrm>
          </p:grpSpPr>
          <p:sp>
            <p:nvSpPr>
              <p:cNvPr id="137" name="Oval 10"/>
              <p:cNvSpPr/>
              <p:nvPr/>
            </p:nvSpPr>
            <p:spPr>
              <a:xfrm>
                <a:off x="3560760" y="334332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64"/>
          <p:cNvGrpSpPr/>
          <p:nvPr/>
        </p:nvGrpSpPr>
        <p:grpSpPr>
          <a:xfrm>
            <a:off x="3860640" y="3173400"/>
            <a:ext cx="466920" cy="466920"/>
            <a:chOff x="3860640" y="3173400"/>
            <a:chExt cx="466920" cy="466920"/>
          </a:xfrm>
        </p:grpSpPr>
        <p:grpSp>
          <p:nvGrpSpPr>
            <p:cNvPr id="139" name="Group 65"/>
            <p:cNvGrpSpPr/>
            <p:nvPr/>
          </p:nvGrpSpPr>
          <p:grpSpPr>
            <a:xfrm>
              <a:off x="3860640" y="3173400"/>
              <a:ext cx="466920" cy="466920"/>
              <a:chOff x="3860640" y="3173400"/>
              <a:chExt cx="466920" cy="466920"/>
            </a:xfrm>
          </p:grpSpPr>
          <p:sp>
            <p:nvSpPr>
              <p:cNvPr id="140" name="Oval 10"/>
              <p:cNvSpPr/>
              <p:nvPr/>
            </p:nvSpPr>
            <p:spPr>
              <a:xfrm>
                <a:off x="3860640" y="317340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72"/>
          <p:cNvGrpSpPr/>
          <p:nvPr/>
        </p:nvGrpSpPr>
        <p:grpSpPr>
          <a:xfrm>
            <a:off x="3789360" y="2906640"/>
            <a:ext cx="466920" cy="466920"/>
            <a:chOff x="3789360" y="2906640"/>
            <a:chExt cx="466920" cy="466920"/>
          </a:xfrm>
        </p:grpSpPr>
        <p:grpSp>
          <p:nvGrpSpPr>
            <p:cNvPr id="142" name="Group 73"/>
            <p:cNvGrpSpPr/>
            <p:nvPr/>
          </p:nvGrpSpPr>
          <p:grpSpPr>
            <a:xfrm>
              <a:off x="3789360" y="2906640"/>
              <a:ext cx="466920" cy="466920"/>
              <a:chOff x="3789360" y="2906640"/>
              <a:chExt cx="466920" cy="466920"/>
            </a:xfrm>
          </p:grpSpPr>
          <p:sp>
            <p:nvSpPr>
              <p:cNvPr id="143" name="Oval 10"/>
              <p:cNvSpPr/>
              <p:nvPr/>
            </p:nvSpPr>
            <p:spPr>
              <a:xfrm>
                <a:off x="3789360" y="290664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80"/>
          <p:cNvGrpSpPr/>
          <p:nvPr/>
        </p:nvGrpSpPr>
        <p:grpSpPr>
          <a:xfrm>
            <a:off x="3627360" y="2705040"/>
            <a:ext cx="466920" cy="466920"/>
            <a:chOff x="3627360" y="2705040"/>
            <a:chExt cx="466920" cy="466920"/>
          </a:xfrm>
        </p:grpSpPr>
        <p:grpSp>
          <p:nvGrpSpPr>
            <p:cNvPr id="145" name="Group 81"/>
            <p:cNvGrpSpPr/>
            <p:nvPr/>
          </p:nvGrpSpPr>
          <p:grpSpPr>
            <a:xfrm>
              <a:off x="3627360" y="2705040"/>
              <a:ext cx="466920" cy="466920"/>
              <a:chOff x="3627360" y="2705040"/>
              <a:chExt cx="466920" cy="466920"/>
            </a:xfrm>
          </p:grpSpPr>
          <p:sp>
            <p:nvSpPr>
              <p:cNvPr id="146" name="Oval 10"/>
              <p:cNvSpPr/>
              <p:nvPr/>
            </p:nvSpPr>
            <p:spPr>
              <a:xfrm>
                <a:off x="3627360" y="270504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88"/>
          <p:cNvGrpSpPr/>
          <p:nvPr/>
        </p:nvGrpSpPr>
        <p:grpSpPr>
          <a:xfrm>
            <a:off x="3747960" y="2525760"/>
            <a:ext cx="466920" cy="466920"/>
            <a:chOff x="3747960" y="2525760"/>
            <a:chExt cx="466920" cy="466920"/>
          </a:xfrm>
        </p:grpSpPr>
        <p:grpSp>
          <p:nvGrpSpPr>
            <p:cNvPr id="148" name="Group 89"/>
            <p:cNvGrpSpPr/>
            <p:nvPr/>
          </p:nvGrpSpPr>
          <p:grpSpPr>
            <a:xfrm>
              <a:off x="3747960" y="2525760"/>
              <a:ext cx="466920" cy="466920"/>
              <a:chOff x="3747960" y="2525760"/>
              <a:chExt cx="466920" cy="466920"/>
            </a:xfrm>
          </p:grpSpPr>
          <p:sp>
            <p:nvSpPr>
              <p:cNvPr id="149" name="Oval 10"/>
              <p:cNvSpPr/>
              <p:nvPr/>
            </p:nvSpPr>
            <p:spPr>
              <a:xfrm>
                <a:off x="3747960" y="252576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Group 96"/>
          <p:cNvGrpSpPr/>
          <p:nvPr/>
        </p:nvGrpSpPr>
        <p:grpSpPr>
          <a:xfrm>
            <a:off x="3935520" y="2408040"/>
            <a:ext cx="466920" cy="466920"/>
            <a:chOff x="3935520" y="2408040"/>
            <a:chExt cx="466920" cy="466920"/>
          </a:xfrm>
        </p:grpSpPr>
        <p:grpSp>
          <p:nvGrpSpPr>
            <p:cNvPr id="151" name="Group 97"/>
            <p:cNvGrpSpPr/>
            <p:nvPr/>
          </p:nvGrpSpPr>
          <p:grpSpPr>
            <a:xfrm>
              <a:off x="3935520" y="2408040"/>
              <a:ext cx="466920" cy="466920"/>
              <a:chOff x="3935520" y="2408040"/>
              <a:chExt cx="466920" cy="466920"/>
            </a:xfrm>
          </p:grpSpPr>
          <p:sp>
            <p:nvSpPr>
              <p:cNvPr id="152" name="Oval 10"/>
              <p:cNvSpPr/>
              <p:nvPr/>
            </p:nvSpPr>
            <p:spPr>
              <a:xfrm>
                <a:off x="3935520" y="240804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104"/>
          <p:cNvGrpSpPr/>
          <p:nvPr/>
        </p:nvGrpSpPr>
        <p:grpSpPr>
          <a:xfrm>
            <a:off x="4124160" y="2176560"/>
            <a:ext cx="466920" cy="466920"/>
            <a:chOff x="4124160" y="2176560"/>
            <a:chExt cx="466920" cy="466920"/>
          </a:xfrm>
        </p:grpSpPr>
        <p:grpSp>
          <p:nvGrpSpPr>
            <p:cNvPr id="154" name="Group 105"/>
            <p:cNvGrpSpPr/>
            <p:nvPr/>
          </p:nvGrpSpPr>
          <p:grpSpPr>
            <a:xfrm>
              <a:off x="4124160" y="2176560"/>
              <a:ext cx="466920" cy="466920"/>
              <a:chOff x="4124160" y="2176560"/>
              <a:chExt cx="466920" cy="466920"/>
            </a:xfrm>
          </p:grpSpPr>
          <p:sp>
            <p:nvSpPr>
              <p:cNvPr id="155" name="Oval 10"/>
              <p:cNvSpPr/>
              <p:nvPr/>
            </p:nvSpPr>
            <p:spPr>
              <a:xfrm>
                <a:off x="4124160" y="217656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112"/>
          <p:cNvGrpSpPr/>
          <p:nvPr/>
        </p:nvGrpSpPr>
        <p:grpSpPr>
          <a:xfrm>
            <a:off x="4354560" y="1995480"/>
            <a:ext cx="466920" cy="466920"/>
            <a:chOff x="4354560" y="1995480"/>
            <a:chExt cx="466920" cy="466920"/>
          </a:xfrm>
        </p:grpSpPr>
        <p:grpSp>
          <p:nvGrpSpPr>
            <p:cNvPr id="157" name="Group 113"/>
            <p:cNvGrpSpPr/>
            <p:nvPr/>
          </p:nvGrpSpPr>
          <p:grpSpPr>
            <a:xfrm>
              <a:off x="4354560" y="1995480"/>
              <a:ext cx="466920" cy="466920"/>
              <a:chOff x="4354560" y="1995480"/>
              <a:chExt cx="466920" cy="466920"/>
            </a:xfrm>
          </p:grpSpPr>
          <p:sp>
            <p:nvSpPr>
              <p:cNvPr id="158" name="Oval 10"/>
              <p:cNvSpPr/>
              <p:nvPr/>
            </p:nvSpPr>
            <p:spPr>
              <a:xfrm>
                <a:off x="4354560" y="199548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120"/>
          <p:cNvGrpSpPr/>
          <p:nvPr/>
        </p:nvGrpSpPr>
        <p:grpSpPr>
          <a:xfrm>
            <a:off x="4581360" y="1805040"/>
            <a:ext cx="466920" cy="466920"/>
            <a:chOff x="4581360" y="1805040"/>
            <a:chExt cx="466920" cy="466920"/>
          </a:xfrm>
        </p:grpSpPr>
        <p:grpSp>
          <p:nvGrpSpPr>
            <p:cNvPr id="160" name="Group 121"/>
            <p:cNvGrpSpPr/>
            <p:nvPr/>
          </p:nvGrpSpPr>
          <p:grpSpPr>
            <a:xfrm>
              <a:off x="4581360" y="1805040"/>
              <a:ext cx="466920" cy="466920"/>
              <a:chOff x="4581360" y="1805040"/>
              <a:chExt cx="466920" cy="466920"/>
            </a:xfrm>
          </p:grpSpPr>
          <p:sp>
            <p:nvSpPr>
              <p:cNvPr id="161" name="Oval 10"/>
              <p:cNvSpPr/>
              <p:nvPr/>
            </p:nvSpPr>
            <p:spPr>
              <a:xfrm>
                <a:off x="4581360" y="180504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128"/>
          <p:cNvGrpSpPr/>
          <p:nvPr/>
        </p:nvGrpSpPr>
        <p:grpSpPr>
          <a:xfrm>
            <a:off x="4846680" y="1731960"/>
            <a:ext cx="466920" cy="466920"/>
            <a:chOff x="4846680" y="1731960"/>
            <a:chExt cx="466920" cy="466920"/>
          </a:xfrm>
        </p:grpSpPr>
        <p:grpSp>
          <p:nvGrpSpPr>
            <p:cNvPr id="163" name="Group 129"/>
            <p:cNvGrpSpPr/>
            <p:nvPr/>
          </p:nvGrpSpPr>
          <p:grpSpPr>
            <a:xfrm>
              <a:off x="4846680" y="1731960"/>
              <a:ext cx="466920" cy="466920"/>
              <a:chOff x="4846680" y="1731960"/>
              <a:chExt cx="466920" cy="466920"/>
            </a:xfrm>
          </p:grpSpPr>
          <p:sp>
            <p:nvSpPr>
              <p:cNvPr id="164" name="Oval 10"/>
              <p:cNvSpPr/>
              <p:nvPr/>
            </p:nvSpPr>
            <p:spPr>
              <a:xfrm>
                <a:off x="4846680" y="173196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Group 136"/>
          <p:cNvGrpSpPr/>
          <p:nvPr/>
        </p:nvGrpSpPr>
        <p:grpSpPr>
          <a:xfrm>
            <a:off x="4846680" y="1458720"/>
            <a:ext cx="466920" cy="466920"/>
            <a:chOff x="4846680" y="1458720"/>
            <a:chExt cx="466920" cy="466920"/>
          </a:xfrm>
        </p:grpSpPr>
        <p:grpSp>
          <p:nvGrpSpPr>
            <p:cNvPr id="166" name="Group 137"/>
            <p:cNvGrpSpPr/>
            <p:nvPr/>
          </p:nvGrpSpPr>
          <p:grpSpPr>
            <a:xfrm>
              <a:off x="4846680" y="1458720"/>
              <a:ext cx="466920" cy="466920"/>
              <a:chOff x="4846680" y="1458720"/>
              <a:chExt cx="466920" cy="466920"/>
            </a:xfrm>
          </p:grpSpPr>
          <p:sp>
            <p:nvSpPr>
              <p:cNvPr id="167" name="Oval 10"/>
              <p:cNvSpPr/>
              <p:nvPr/>
            </p:nvSpPr>
            <p:spPr>
              <a:xfrm>
                <a:off x="4846680" y="145872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椭圆 1034"/>
          <p:cNvSpPr/>
          <p:nvPr/>
        </p:nvSpPr>
        <p:spPr>
          <a:xfrm>
            <a:off x="3855960" y="19908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617"/>
          <p:cNvSpPr/>
          <p:nvPr/>
        </p:nvSpPr>
        <p:spPr>
          <a:xfrm>
            <a:off x="3922560" y="2057400"/>
            <a:ext cx="95400" cy="93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618"/>
          <p:cNvSpPr/>
          <p:nvPr/>
        </p:nvSpPr>
        <p:spPr>
          <a:xfrm>
            <a:off x="4892760" y="16794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619"/>
          <p:cNvSpPr/>
          <p:nvPr/>
        </p:nvSpPr>
        <p:spPr>
          <a:xfrm>
            <a:off x="4959360" y="1746360"/>
            <a:ext cx="954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620"/>
          <p:cNvSpPr/>
          <p:nvPr/>
        </p:nvSpPr>
        <p:spPr>
          <a:xfrm>
            <a:off x="4308480" y="26398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621"/>
          <p:cNvSpPr/>
          <p:nvPr/>
        </p:nvSpPr>
        <p:spPr>
          <a:xfrm>
            <a:off x="4375080" y="2706840"/>
            <a:ext cx="93600" cy="95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22"/>
          <p:cNvSpPr/>
          <p:nvPr/>
        </p:nvSpPr>
        <p:spPr>
          <a:xfrm>
            <a:off x="5554800" y="218268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623"/>
          <p:cNvSpPr/>
          <p:nvPr/>
        </p:nvSpPr>
        <p:spPr>
          <a:xfrm>
            <a:off x="5621400" y="2249640"/>
            <a:ext cx="93600" cy="93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椭圆 624"/>
          <p:cNvSpPr/>
          <p:nvPr/>
        </p:nvSpPr>
        <p:spPr>
          <a:xfrm>
            <a:off x="5583240" y="288612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625"/>
          <p:cNvSpPr/>
          <p:nvPr/>
        </p:nvSpPr>
        <p:spPr>
          <a:xfrm>
            <a:off x="5649840" y="2954160"/>
            <a:ext cx="93600" cy="93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626"/>
          <p:cNvSpPr/>
          <p:nvPr/>
        </p:nvSpPr>
        <p:spPr>
          <a:xfrm>
            <a:off x="4917960" y="3213000"/>
            <a:ext cx="2286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627"/>
          <p:cNvSpPr/>
          <p:nvPr/>
        </p:nvSpPr>
        <p:spPr>
          <a:xfrm>
            <a:off x="4984920" y="3281400"/>
            <a:ext cx="95040" cy="93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62"/>
          <p:cNvGrpSpPr/>
          <p:nvPr/>
        </p:nvGrpSpPr>
        <p:grpSpPr>
          <a:xfrm>
            <a:off x="3850920" y="1499760"/>
            <a:ext cx="1955160" cy="1973520"/>
            <a:chOff x="3850920" y="1499760"/>
            <a:chExt cx="1955160" cy="1973520"/>
          </a:xfrm>
        </p:grpSpPr>
        <p:grpSp>
          <p:nvGrpSpPr>
            <p:cNvPr id="181" name="Group 163"/>
            <p:cNvGrpSpPr/>
            <p:nvPr/>
          </p:nvGrpSpPr>
          <p:grpSpPr>
            <a:xfrm>
              <a:off x="4856040" y="1499760"/>
              <a:ext cx="466920" cy="466920"/>
              <a:chOff x="4856040" y="1499760"/>
              <a:chExt cx="466920" cy="466920"/>
            </a:xfrm>
          </p:grpSpPr>
          <p:sp>
            <p:nvSpPr>
              <p:cNvPr id="182" name="Oval 10"/>
              <p:cNvSpPr/>
              <p:nvPr/>
            </p:nvSpPr>
            <p:spPr>
              <a:xfrm>
                <a:off x="4856040" y="149976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椭圆 651"/>
            <p:cNvSpPr/>
            <p:nvPr/>
          </p:nvSpPr>
          <p:spPr>
            <a:xfrm>
              <a:off x="3850920" y="202068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652"/>
            <p:cNvSpPr/>
            <p:nvPr/>
          </p:nvSpPr>
          <p:spPr>
            <a:xfrm>
              <a:off x="3917880" y="208764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653"/>
            <p:cNvSpPr/>
            <p:nvPr/>
          </p:nvSpPr>
          <p:spPr>
            <a:xfrm>
              <a:off x="4887720" y="171072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654"/>
            <p:cNvSpPr/>
            <p:nvPr/>
          </p:nvSpPr>
          <p:spPr>
            <a:xfrm>
              <a:off x="4954680" y="177768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655"/>
            <p:cNvSpPr/>
            <p:nvPr/>
          </p:nvSpPr>
          <p:spPr>
            <a:xfrm>
              <a:off x="4303080" y="267084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656"/>
            <p:cNvSpPr/>
            <p:nvPr/>
          </p:nvSpPr>
          <p:spPr>
            <a:xfrm>
              <a:off x="4370040" y="273780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657"/>
            <p:cNvSpPr/>
            <p:nvPr/>
          </p:nvSpPr>
          <p:spPr>
            <a:xfrm>
              <a:off x="5549400" y="221292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658"/>
            <p:cNvSpPr/>
            <p:nvPr/>
          </p:nvSpPr>
          <p:spPr>
            <a:xfrm>
              <a:off x="5616360" y="227988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659"/>
            <p:cNvSpPr/>
            <p:nvPr/>
          </p:nvSpPr>
          <p:spPr>
            <a:xfrm>
              <a:off x="5577840" y="291780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660"/>
            <p:cNvSpPr/>
            <p:nvPr/>
          </p:nvSpPr>
          <p:spPr>
            <a:xfrm>
              <a:off x="5644800" y="298476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661"/>
            <p:cNvSpPr/>
            <p:nvPr/>
          </p:nvSpPr>
          <p:spPr>
            <a:xfrm>
              <a:off x="4912920" y="3245040"/>
              <a:ext cx="22824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662"/>
            <p:cNvSpPr/>
            <p:nvPr/>
          </p:nvSpPr>
          <p:spPr>
            <a:xfrm>
              <a:off x="4979880" y="3311640"/>
              <a:ext cx="94320" cy="94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Box 1"/>
          <p:cNvSpPr/>
          <p:nvPr/>
        </p:nvSpPr>
        <p:spPr>
          <a:xfrm>
            <a:off x="6633360" y="14461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"/>
          <p:cNvSpPr/>
          <p:nvPr/>
        </p:nvSpPr>
        <p:spPr>
          <a:xfrm>
            <a:off x="2278080" y="2022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2998800" y="1633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3660840" y="21970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1"/>
          <p:cNvSpPr/>
          <p:nvPr/>
        </p:nvSpPr>
        <p:spPr>
          <a:xfrm>
            <a:off x="4301280" y="1254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4849920" y="2292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3"/>
          <p:cNvSpPr/>
          <p:nvPr/>
        </p:nvSpPr>
        <p:spPr>
          <a:xfrm>
            <a:off x="5502240" y="1519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"/>
          <p:cNvSpPr/>
          <p:nvPr/>
        </p:nvSpPr>
        <p:spPr>
          <a:xfrm>
            <a:off x="6137280" y="2068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 195"/>
          <p:cNvSpPr/>
          <p:nvPr/>
        </p:nvSpPr>
        <p:spPr>
          <a:xfrm>
            <a:off x="2298600" y="214776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196"/>
          <p:cNvSpPr/>
          <p:nvPr/>
        </p:nvSpPr>
        <p:spPr>
          <a:xfrm>
            <a:off x="2421000" y="227160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197"/>
          <p:cNvSpPr/>
          <p:nvPr/>
        </p:nvSpPr>
        <p:spPr>
          <a:xfrm>
            <a:off x="3017880" y="176220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98"/>
          <p:cNvSpPr/>
          <p:nvPr/>
        </p:nvSpPr>
        <p:spPr>
          <a:xfrm>
            <a:off x="3141720" y="188604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99"/>
          <p:cNvSpPr/>
          <p:nvPr/>
        </p:nvSpPr>
        <p:spPr>
          <a:xfrm>
            <a:off x="3699000" y="231444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椭圆 200"/>
          <p:cNvSpPr/>
          <p:nvPr/>
        </p:nvSpPr>
        <p:spPr>
          <a:xfrm>
            <a:off x="3821040" y="243828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201"/>
          <p:cNvSpPr/>
          <p:nvPr/>
        </p:nvSpPr>
        <p:spPr>
          <a:xfrm>
            <a:off x="4314960" y="136836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202"/>
          <p:cNvSpPr/>
          <p:nvPr/>
        </p:nvSpPr>
        <p:spPr>
          <a:xfrm>
            <a:off x="4438800" y="149220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203"/>
          <p:cNvSpPr/>
          <p:nvPr/>
        </p:nvSpPr>
        <p:spPr>
          <a:xfrm>
            <a:off x="4886280" y="242244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204"/>
          <p:cNvSpPr/>
          <p:nvPr/>
        </p:nvSpPr>
        <p:spPr>
          <a:xfrm>
            <a:off x="5010120" y="254628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05"/>
          <p:cNvSpPr/>
          <p:nvPr/>
        </p:nvSpPr>
        <p:spPr>
          <a:xfrm>
            <a:off x="5508720" y="165420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06"/>
          <p:cNvSpPr/>
          <p:nvPr/>
        </p:nvSpPr>
        <p:spPr>
          <a:xfrm>
            <a:off x="5632560" y="177804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07"/>
          <p:cNvSpPr/>
          <p:nvPr/>
        </p:nvSpPr>
        <p:spPr>
          <a:xfrm>
            <a:off x="6157800" y="219564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208"/>
          <p:cNvSpPr/>
          <p:nvPr/>
        </p:nvSpPr>
        <p:spPr>
          <a:xfrm>
            <a:off x="6281640" y="231768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209"/>
          <p:cNvSpPr/>
          <p:nvPr/>
        </p:nvSpPr>
        <p:spPr>
          <a:xfrm>
            <a:off x="6654960" y="1577880"/>
            <a:ext cx="422280" cy="42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210"/>
          <p:cNvSpPr/>
          <p:nvPr/>
        </p:nvSpPr>
        <p:spPr>
          <a:xfrm>
            <a:off x="6778800" y="1701720"/>
            <a:ext cx="174600" cy="174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椭圆 15"/>
          <p:cNvSpPr/>
          <p:nvPr/>
        </p:nvSpPr>
        <p:spPr>
          <a:xfrm>
            <a:off x="4703760" y="2525760"/>
            <a:ext cx="1634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212"/>
          <p:cNvSpPr/>
          <p:nvPr/>
        </p:nvSpPr>
        <p:spPr>
          <a:xfrm>
            <a:off x="4475160" y="247500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213"/>
          <p:cNvSpPr/>
          <p:nvPr/>
        </p:nvSpPr>
        <p:spPr>
          <a:xfrm>
            <a:off x="4780080" y="2832120"/>
            <a:ext cx="137880" cy="138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椭圆 214"/>
          <p:cNvSpPr/>
          <p:nvPr/>
        </p:nvSpPr>
        <p:spPr>
          <a:xfrm>
            <a:off x="4983120" y="236520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215"/>
          <p:cNvSpPr/>
          <p:nvPr/>
        </p:nvSpPr>
        <p:spPr>
          <a:xfrm flipV="1">
            <a:off x="6937200" y="1283760"/>
            <a:ext cx="617760" cy="41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216"/>
          <p:cNvSpPr/>
          <p:nvPr/>
        </p:nvSpPr>
        <p:spPr>
          <a:xfrm flipV="1">
            <a:off x="728640" y="4191120"/>
            <a:ext cx="671400" cy="40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217"/>
          <p:cNvSpPr/>
          <p:nvPr/>
        </p:nvSpPr>
        <p:spPr>
          <a:xfrm>
            <a:off x="6746760" y="3244680"/>
            <a:ext cx="336600" cy="26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8"/>
          <p:cNvSpPr/>
          <p:nvPr/>
        </p:nvSpPr>
        <p:spPr>
          <a:xfrm>
            <a:off x="1938240" y="1122480"/>
            <a:ext cx="617760" cy="45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19"/>
          <p:cNvSpPr/>
          <p:nvPr/>
        </p:nvSpPr>
        <p:spPr>
          <a:xfrm>
            <a:off x="2247840" y="238932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20"/>
          <p:cNvSpPr/>
          <p:nvPr/>
        </p:nvSpPr>
        <p:spPr>
          <a:xfrm>
            <a:off x="8034480" y="238932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21"/>
          <p:cNvSpPr/>
          <p:nvPr/>
        </p:nvSpPr>
        <p:spPr>
          <a:xfrm flipV="1">
            <a:off x="4950000" y="817560"/>
            <a:ext cx="1440" cy="209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22"/>
          <p:cNvSpPr/>
          <p:nvPr/>
        </p:nvSpPr>
        <p:spPr>
          <a:xfrm flipV="1">
            <a:off x="4950000" y="4254480"/>
            <a:ext cx="1440" cy="209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5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1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51"/>
                            </p:stCondLst>
                            <p:childTnLst>
                              <p:par>
                                <p:cTn id="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52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2"/>
                            </p:stCondLst>
                            <p:childTnLst>
                              <p:par>
                                <p:cTn id="55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3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3"/>
                            </p:stCondLst>
                            <p:childTnLst>
                              <p:par>
                                <p:cTn id="5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4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304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05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355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356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406"/>
                            </p:stCondLst>
                            <p:childTnLst>
                              <p:par>
                                <p:cTn id="5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07"/>
                            </p:stCondLst>
                            <p:childTnLst>
                              <p:par>
                                <p:cTn id="5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57"/>
                            </p:stCondLst>
                            <p:childTnLst>
                              <p:par>
                                <p:cTn id="5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458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8"/>
                            </p:stCondLst>
                            <p:childTnLst>
                              <p:par>
                                <p:cTn id="5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9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59"/>
                            </p:stCondLst>
                            <p:childTnLst>
                              <p:par>
                                <p:cTn id="5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6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610"/>
                            </p:stCondLst>
                            <p:childTnLst>
                              <p:par>
                                <p:cTn id="6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611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661"/>
                            </p:stCondLst>
                            <p:childTnLst>
                              <p:par>
                                <p:cTn id="6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662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712"/>
                            </p:stCondLst>
                            <p:childTnLst>
                              <p:par>
                                <p:cTn id="6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713"/>
                            </p:stCondLst>
                            <p:childTnLst>
                              <p:par>
                                <p:cTn id="6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763"/>
                            </p:stCondLst>
                            <p:childTnLst>
                              <p:par>
                                <p:cTn id="6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764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14"/>
                            </p:stCondLst>
                            <p:childTnLst>
                              <p:par>
                                <p:cTn id="6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815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865"/>
                            </p:stCondLst>
                            <p:childTnLst>
                              <p:par>
                                <p:cTn id="6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866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916"/>
                            </p:stCondLst>
                            <p:childTnLst>
                              <p:par>
                                <p:cTn id="6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917"/>
                            </p:stCondLst>
                            <p:childTnLst>
                              <p:par>
                                <p:cTn id="6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967"/>
                            </p:stCondLst>
                            <p:childTnLst>
                              <p:par>
                                <p:cTn id="6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68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1018"/>
                            </p:stCondLst>
                            <p:childTnLst>
                              <p:par>
                                <p:cTn id="6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218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219"/>
                            </p:stCondLst>
                            <p:childTnLst>
                              <p:par>
                                <p:cTn id="6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419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680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1621"/>
                            </p:stCondLst>
                            <p:childTnLst>
                              <p:par>
                                <p:cTn id="68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821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822"/>
                            </p:stCondLst>
                            <p:childTnLst>
                              <p:par>
                                <p:cTn id="69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21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23"/>
                            </p:stCondLst>
                            <p:childTnLst>
                              <p:par>
                                <p:cTn id="70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223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2274"/>
                            </p:stCondLst>
                            <p:childTnLst>
                              <p:par>
                                <p:cTn id="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3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7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2000" y="12000"/>
                                    </p:animScale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5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7" dur="3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9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3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2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1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3" dur="3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4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6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8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3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9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3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1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0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3" dur="1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5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3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7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3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3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93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9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0" dur="2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23" presetSubtype="2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3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35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95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54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3" presetSubtype="2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5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path" presetID="0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96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968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23" presetSubtype="2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3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5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path" presetID="0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98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982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23" presetSubtype="2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4" dur="3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5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2" presetSubtype="3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2" presetSubtype="12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2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2" presetSubtype="6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2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2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2" presetSubtype="9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2" presetSubtype="8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2" presetSubtype="2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nodeType="withEffect" fill="hold" presetClass="exit" presetID="2" presetSubtype="1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2" presetSubtype="4" repeatCount="indefinite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2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4856040" y="1499760"/>
            <a:ext cx="466920" cy="466920"/>
            <a:chOff x="4856040" y="1499760"/>
            <a:chExt cx="466920" cy="466920"/>
          </a:xfrm>
        </p:grpSpPr>
        <p:grpSp>
          <p:nvGrpSpPr>
            <p:cNvPr id="232" name="Group 3"/>
            <p:cNvGrpSpPr/>
            <p:nvPr/>
          </p:nvGrpSpPr>
          <p:grpSpPr>
            <a:xfrm>
              <a:off x="4856040" y="1499760"/>
              <a:ext cx="466920" cy="466920"/>
              <a:chOff x="4856040" y="1499760"/>
              <a:chExt cx="466920" cy="466920"/>
            </a:xfrm>
          </p:grpSpPr>
          <p:sp>
            <p:nvSpPr>
              <p:cNvPr id="233" name="Oval 10"/>
              <p:cNvSpPr/>
              <p:nvPr/>
            </p:nvSpPr>
            <p:spPr>
              <a:xfrm>
                <a:off x="4856040" y="1499760"/>
                <a:ext cx="466920" cy="466920"/>
              </a:xfrm>
              <a:prstGeom prst="ellipse">
                <a:avLst/>
              </a:pr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直接连接符 29"/>
          <p:cNvSpPr/>
          <p:nvPr/>
        </p:nvSpPr>
        <p:spPr>
          <a:xfrm flipV="1">
            <a:off x="6937200" y="1283760"/>
            <a:ext cx="617760" cy="419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32"/>
          <p:cNvSpPr/>
          <p:nvPr/>
        </p:nvSpPr>
        <p:spPr>
          <a:xfrm flipV="1">
            <a:off x="728640" y="4191120"/>
            <a:ext cx="671400" cy="404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38"/>
          <p:cNvSpPr/>
          <p:nvPr/>
        </p:nvSpPr>
        <p:spPr>
          <a:xfrm>
            <a:off x="6746760" y="3244680"/>
            <a:ext cx="336600" cy="26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44"/>
          <p:cNvSpPr/>
          <p:nvPr/>
        </p:nvSpPr>
        <p:spPr>
          <a:xfrm>
            <a:off x="1938240" y="1122480"/>
            <a:ext cx="617760" cy="45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47"/>
          <p:cNvSpPr/>
          <p:nvPr/>
        </p:nvSpPr>
        <p:spPr>
          <a:xfrm>
            <a:off x="1938240" y="1573200"/>
            <a:ext cx="1800" cy="97956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50"/>
          <p:cNvSpPr/>
          <p:nvPr/>
        </p:nvSpPr>
        <p:spPr>
          <a:xfrm>
            <a:off x="7246800" y="3211560"/>
            <a:ext cx="0" cy="97956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直接连接符 51"/>
          <p:cNvSpPr/>
          <p:nvPr/>
        </p:nvSpPr>
        <p:spPr>
          <a:xfrm>
            <a:off x="7748640" y="922320"/>
            <a:ext cx="0" cy="49068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接连接符 52"/>
          <p:cNvSpPr/>
          <p:nvPr/>
        </p:nvSpPr>
        <p:spPr>
          <a:xfrm>
            <a:off x="2556000" y="3763800"/>
            <a:ext cx="0" cy="48924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54"/>
          <p:cNvSpPr/>
          <p:nvPr/>
        </p:nvSpPr>
        <p:spPr>
          <a:xfrm>
            <a:off x="2247840" y="238932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61"/>
          <p:cNvSpPr/>
          <p:nvPr/>
        </p:nvSpPr>
        <p:spPr>
          <a:xfrm>
            <a:off x="8034480" y="2389320"/>
            <a:ext cx="252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62"/>
          <p:cNvSpPr/>
          <p:nvPr/>
        </p:nvSpPr>
        <p:spPr>
          <a:xfrm flipV="1">
            <a:off x="4950000" y="817560"/>
            <a:ext cx="1440" cy="209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64"/>
          <p:cNvSpPr/>
          <p:nvPr/>
        </p:nvSpPr>
        <p:spPr>
          <a:xfrm flipV="1">
            <a:off x="4950000" y="4254480"/>
            <a:ext cx="1440" cy="209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65"/>
          <p:cNvSpPr/>
          <p:nvPr/>
        </p:nvSpPr>
        <p:spPr>
          <a:xfrm>
            <a:off x="3143160" y="1863720"/>
            <a:ext cx="7488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66"/>
          <p:cNvSpPr/>
          <p:nvPr/>
        </p:nvSpPr>
        <p:spPr>
          <a:xfrm flipH="1">
            <a:off x="4923720" y="673200"/>
            <a:ext cx="52200" cy="66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67"/>
          <p:cNvSpPr/>
          <p:nvPr/>
        </p:nvSpPr>
        <p:spPr>
          <a:xfrm>
            <a:off x="7061040" y="1284120"/>
            <a:ext cx="69840" cy="69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68"/>
          <p:cNvSpPr/>
          <p:nvPr/>
        </p:nvSpPr>
        <p:spPr>
          <a:xfrm>
            <a:off x="7015320" y="3341520"/>
            <a:ext cx="68040" cy="684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69"/>
          <p:cNvSpPr/>
          <p:nvPr/>
        </p:nvSpPr>
        <p:spPr>
          <a:xfrm flipH="1">
            <a:off x="4870440" y="4444920"/>
            <a:ext cx="446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 31"/>
          <p:cNvSpPr/>
          <p:nvPr/>
        </p:nvSpPr>
        <p:spPr>
          <a:xfrm>
            <a:off x="4703760" y="2525760"/>
            <a:ext cx="163440" cy="163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3"/>
          <p:cNvSpPr/>
          <p:nvPr/>
        </p:nvSpPr>
        <p:spPr>
          <a:xfrm>
            <a:off x="4475160" y="2475000"/>
            <a:ext cx="101520" cy="10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 34"/>
          <p:cNvSpPr/>
          <p:nvPr/>
        </p:nvSpPr>
        <p:spPr>
          <a:xfrm>
            <a:off x="4780080" y="2832120"/>
            <a:ext cx="137880" cy="138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5"/>
          <p:cNvSpPr/>
          <p:nvPr/>
        </p:nvSpPr>
        <p:spPr>
          <a:xfrm>
            <a:off x="4983120" y="2365200"/>
            <a:ext cx="101520" cy="1018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36"/>
          <p:cNvSpPr/>
          <p:nvPr/>
        </p:nvSpPr>
        <p:spPr>
          <a:xfrm>
            <a:off x="3863880" y="1809720"/>
            <a:ext cx="136800" cy="136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37"/>
          <p:cNvSpPr/>
          <p:nvPr/>
        </p:nvSpPr>
        <p:spPr>
          <a:xfrm>
            <a:off x="4560840" y="2316240"/>
            <a:ext cx="81000" cy="81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39"/>
          <p:cNvSpPr/>
          <p:nvPr/>
        </p:nvSpPr>
        <p:spPr>
          <a:xfrm>
            <a:off x="4956120" y="2014560"/>
            <a:ext cx="115920" cy="1159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40"/>
          <p:cNvSpPr/>
          <p:nvPr/>
        </p:nvSpPr>
        <p:spPr>
          <a:xfrm>
            <a:off x="5246640" y="2935440"/>
            <a:ext cx="460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1"/>
          <p:cNvSpPr/>
          <p:nvPr/>
        </p:nvSpPr>
        <p:spPr>
          <a:xfrm>
            <a:off x="4697280" y="2124000"/>
            <a:ext cx="165240" cy="165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2"/>
          <p:cNvSpPr/>
          <p:nvPr/>
        </p:nvSpPr>
        <p:spPr>
          <a:xfrm>
            <a:off x="364320" y="47102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0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1054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6" dur="2000" fill="hold"/>
                                        <p:tgtEl>
                                          <p:spTgt spid="25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23" presetSubtype="2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3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5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106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70" dur="2000" fill="hold"/>
                                        <p:tgtEl>
                                          <p:spTgt spid="2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3" presetSubtype="2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3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3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5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1082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3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84" dur="2000" fill="hold"/>
                                        <p:tgtEl>
                                          <p:spTgt spid="25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23" presetSubtype="20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3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3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35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1198 0.00031 C -0.01215 -0.01111 -0.00781 -0.02098 -0.00156 -0.0216 C 0.00434 -0.02222 0.00972 -0.01481 0.01007 -0.0037 C 0.01076 0.00649 0.00677 0.01605 0.00121 0.01667 C -0.00382 0.01729 -0.00868 0.01081 -0.00903 0.00124 C -0.00938 -0.0074 -0.00608 -0.01543 -0.00139 -0.01605 C 0.00278 -0.01666 0.00694 -0.01142 0.00729 -0.00339 C 0.00746 0.00371 0.00486 0.0105 0.00104 0.01081 C -0.00243 0.01142 -0.00573 0.00741 -0.00608 0.00093 C -0.00625 -0.00493 -0.00417 -0.01049 -0.00122 -0.0108 C 0.00139 -0.01111 0.00417 -0.00802 0.00434 -0.00308 C 0.00451 0.00124 0.00312 0.00525 0.00087 0.00556 C -0.00087 0.00587 -0.00295 0.00402 -0.00295 0.00062 C -0.00313 -0.00216 -0.00243 -0.00493 -0.00104 -0.00524 C 8.33332999999967E-007 -0.00524 0.00121 -0.00463 0.00139 -0.00277 C 0.00139 -0.00154 0.00121 -0.0003 0.00069 -3.95062E-006 C 0.00035 0.00031 0.00017 0.00031 8.33333E-007 -3.95062E-006 E">
                                      <p:cBhvr>
                                        <p:cTn id="109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7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098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xit" presetID="23" presetSubtype="20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3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3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3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3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9" presetSubtype="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2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6" dur="2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2" presetSubtype="12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2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xit" presetID="2" presetSubtype="6" repeatCount="indefinite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4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xit" presetID="2" presetSubtype="9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8" dur="2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2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xit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6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0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4" dur="2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2" presetSubtype="1" repeatCount="indefinite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2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2" presetSubtype="1" repeatCount="indefinite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2" dur="2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xit" presetID="2" presetSubtype="1" repeatCount="indefinite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6" dur="2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2" presetSubtype="1" repeatCount="indefinite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2" presetSubtype="9" repeatCount="6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2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9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xit" presetID="2" presetSubtype="1" repeatCount="indefinite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1" repeatCount="indefinite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1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2" presetSubtype="1" repeatCount="indefinite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8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8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7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xit" presetID="2" presetSubtype="1" repeatCount="indefinite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3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path" presetID="42">
                                  <p:stCondLst>
                                    <p:cond delay="3700"/>
                                  </p:stCondLst>
                                  <p:childTnLst>
                                    <p:animMotion origin="layout" path="M -3.05556E-006 -2.34568E-006 L -3.05556E-006 -0.14382 E">
                                      <p:cBhvr>
                                        <p:cTn id="1259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0" nodeType="withEffect" fill="hold" presetClass="exit" presetID="23" presetSubtype="16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mph" presetID="6">
                                  <p:stCondLst>
                                    <p:cond delay="5400"/>
                                  </p:stCondLst>
                                  <p:childTnLst>
                                    <p:animScale>
                                      <p:cBhvr>
                                        <p:cTn id="1265" dur="200" fill="hold"/>
                                        <p:tgtEl>
                                          <p:spTgt spid="25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266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7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0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3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6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9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2" dur="2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5" dur="2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8" dur="2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1" dur="2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0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4" dur="2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7551-9723-4AEC-B1EE-5E13A25923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9"/>
          <p:cNvSpPr/>
          <p:nvPr/>
        </p:nvSpPr>
        <p:spPr>
          <a:xfrm>
            <a:off x="4483080" y="3990960"/>
            <a:ext cx="168120" cy="387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椭圆 15"/>
          <p:cNvSpPr/>
          <p:nvPr/>
        </p:nvSpPr>
        <p:spPr>
          <a:xfrm>
            <a:off x="4430880" y="3471840"/>
            <a:ext cx="272880" cy="271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椭圆 18"/>
          <p:cNvSpPr/>
          <p:nvPr/>
        </p:nvSpPr>
        <p:spPr>
          <a:xfrm>
            <a:off x="4686480" y="4537080"/>
            <a:ext cx="74520" cy="763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椭圆 36"/>
          <p:cNvSpPr/>
          <p:nvPr/>
        </p:nvSpPr>
        <p:spPr>
          <a:xfrm>
            <a:off x="-746280" y="-2717640"/>
            <a:ext cx="10566720" cy="1056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4"/>
          <p:cNvSpPr/>
          <p:nvPr/>
        </p:nvSpPr>
        <p:spPr>
          <a:xfrm>
            <a:off x="4916520" y="4583160"/>
            <a:ext cx="144360" cy="14436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7"/>
          <p:cNvSpPr/>
          <p:nvPr/>
        </p:nvSpPr>
        <p:spPr>
          <a:xfrm>
            <a:off x="3857760" y="4619520"/>
            <a:ext cx="72720" cy="73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19"/>
          <p:cNvSpPr/>
          <p:nvPr/>
        </p:nvSpPr>
        <p:spPr>
          <a:xfrm>
            <a:off x="4146480" y="4435560"/>
            <a:ext cx="136440" cy="1364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椭圆 20"/>
          <p:cNvSpPr/>
          <p:nvPr/>
        </p:nvSpPr>
        <p:spPr>
          <a:xfrm flipV="1">
            <a:off x="3668760" y="4820400"/>
            <a:ext cx="87120" cy="87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21"/>
          <p:cNvSpPr/>
          <p:nvPr/>
        </p:nvSpPr>
        <p:spPr>
          <a:xfrm flipV="1">
            <a:off x="5262480" y="4803120"/>
            <a:ext cx="84240" cy="82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椭圆 27"/>
          <p:cNvSpPr/>
          <p:nvPr/>
        </p:nvSpPr>
        <p:spPr>
          <a:xfrm>
            <a:off x="4400640" y="3468600"/>
            <a:ext cx="333360" cy="76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28"/>
          <p:cNvSpPr/>
          <p:nvPr/>
        </p:nvSpPr>
        <p:spPr>
          <a:xfrm>
            <a:off x="4295880" y="2257560"/>
            <a:ext cx="542880" cy="542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25"/>
          <p:cNvSpPr/>
          <p:nvPr/>
        </p:nvSpPr>
        <p:spPr>
          <a:xfrm>
            <a:off x="3546360" y="1574640"/>
            <a:ext cx="1979640" cy="19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31"/>
          <p:cNvSpPr/>
          <p:nvPr/>
        </p:nvSpPr>
        <p:spPr>
          <a:xfrm>
            <a:off x="2898720" y="927000"/>
            <a:ext cx="3273480" cy="327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32"/>
          <p:cNvSpPr/>
          <p:nvPr/>
        </p:nvSpPr>
        <p:spPr>
          <a:xfrm>
            <a:off x="2490840" y="520560"/>
            <a:ext cx="4089240" cy="4087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33"/>
          <p:cNvSpPr/>
          <p:nvPr/>
        </p:nvSpPr>
        <p:spPr>
          <a:xfrm>
            <a:off x="1587600" y="-380880"/>
            <a:ext cx="5895720" cy="5894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34"/>
          <p:cNvSpPr/>
          <p:nvPr/>
        </p:nvSpPr>
        <p:spPr>
          <a:xfrm>
            <a:off x="633240" y="-1335240"/>
            <a:ext cx="7805880" cy="7802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5"/>
          <p:cNvSpPr/>
          <p:nvPr/>
        </p:nvSpPr>
        <p:spPr>
          <a:xfrm>
            <a:off x="-241200" y="-2212920"/>
            <a:ext cx="9556560" cy="955656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0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withEffect" fill="hold" presetClass="entr" presetID="2" presetSubtype="4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5" dur="2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xit" presetID="2" presetSubtype="4">
                                  <p:stCondLst>
                                    <p:cond delay="3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2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2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0.16389 -0.16667 L 1.94444E-006 1.7284E-006 E">
                                      <p:cBhvr>
                                        <p:cTn id="1319" dur="4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path" presetID="42">
                                  <p:stCondLst>
                                    <p:cond delay="2250"/>
                                  </p:stCondLst>
                                  <p:childTnLst>
                                    <p:animMotion origin="layout" path="M 0.11424 -0.17408 L -2.77778E-006 2.71605E-006 E">
                                      <p:cBhvr>
                                        <p:cTn id="1323" dur="4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03021 -0.18766 L -3.05556E-006 2.46914E-006 E">
                                      <p:cBhvr>
                                        <p:cTn id="1327" dur="4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path" presetID="42">
                                  <p:stCondLst>
                                    <p:cond delay="2350"/>
                                  </p:stCondLst>
                                  <p:childTnLst>
                                    <p:animMotion origin="layout" path="M -0.03889 -0.24074 L 2.5E-006 2.71605E-006 E">
                                      <p:cBhvr>
                                        <p:cTn id="1331" dur="4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4" nodeType="withEffect" fill="hold" presetClass="path" presetID="42">
                                  <p:stCondLst>
                                    <p:cond delay="2350"/>
                                  </p:stCondLst>
                                  <p:childTnLst>
                                    <p:animMotion origin="layout" path="M -0.33698 -0.05685 L -2.77778E-006 4.54742E-006 E">
                                      <p:cBhvr>
                                        <p:cTn id="1335" dur="4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8" nodeType="withEffect" fill="hold" presetClass="path" presetID="42">
                                  <p:stCondLst>
                                    <p:cond delay="2350"/>
                                  </p:stCondLst>
                                  <p:childTnLst>
                                    <p:animMotion origin="layout" path="M 0.29011 -0.05468 L -4.72222E-006 6.11677E-007 E">
                                      <p:cBhvr>
                                        <p:cTn id="1339" dur="4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0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1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xit" presetID="2" presetSubtype="4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5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" presetSubtype="4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9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xit" presetID="2" presetSubtype="4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3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6" nodeType="withEffect" fill="hold" presetClass="exit" presetID="2" presetSubtype="4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7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" presetSubtype="4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1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nodeType="withEffect" fill="hold" presetClass="exit" presetID="2" presetSubtype="4">
                                  <p:stCondLst>
                                    <p:cond delay="5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5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exit" presetID="2" presetSubtype="4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4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6" nodeType="withEffect" fill="hold" presetClass="exit" presetID="2" presetSubtype="4">
                                  <p:stCondLst>
                                    <p:cond delay="6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7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2" presetSubtype="4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4" nodeType="withEffect" fill="hold" presetClass="emph" presetID="6">
                                  <p:stCondLst>
                                    <p:cond delay="6700"/>
                                  </p:stCondLst>
                                  <p:childTnLst>
                                    <p:animScale>
                                      <p:cBhvr>
                                        <p:cTn id="1385" dur="1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86" nodeType="withEffect" fill="hold" presetClass="exit" presetID="10">
                                  <p:stCondLst>
                                    <p:cond delay="7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7" dur="3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3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89" dur="3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11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139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1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39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1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1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39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1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14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1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4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6" presetSubtype="32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EC8-F62A-4AD7-9F82-D1F1E3E1330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11"/>
          <p:cNvSpPr/>
          <p:nvPr/>
        </p:nvSpPr>
        <p:spPr>
          <a:xfrm>
            <a:off x="495360" y="2498760"/>
            <a:ext cx="260280" cy="262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12"/>
          <p:cNvSpPr/>
          <p:nvPr/>
        </p:nvSpPr>
        <p:spPr>
          <a:xfrm>
            <a:off x="755640" y="4127400"/>
            <a:ext cx="262080" cy="260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13"/>
          <p:cNvSpPr/>
          <p:nvPr/>
        </p:nvSpPr>
        <p:spPr>
          <a:xfrm>
            <a:off x="3041640" y="3824280"/>
            <a:ext cx="262080" cy="260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椭圆 14"/>
          <p:cNvSpPr/>
          <p:nvPr/>
        </p:nvSpPr>
        <p:spPr>
          <a:xfrm>
            <a:off x="8445600" y="4079880"/>
            <a:ext cx="260280" cy="260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椭圆 15"/>
          <p:cNvSpPr/>
          <p:nvPr/>
        </p:nvSpPr>
        <p:spPr>
          <a:xfrm>
            <a:off x="7203960" y="2664000"/>
            <a:ext cx="260640" cy="260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线形标注 1(带强调线) 2"/>
          <p:cNvSpPr/>
          <p:nvPr/>
        </p:nvSpPr>
        <p:spPr>
          <a:xfrm>
            <a:off x="1046160" y="2728800"/>
            <a:ext cx="24177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102" y="-2700"/>
                </a:moveTo>
                <a:lnTo>
                  <a:pt x="3330" y="10800"/>
                </a:lnTo>
              </a:path>
              <a:path w="21600" h="21600">
                <a:moveTo>
                  <a:pt x="3330" y="0"/>
                </a:moveTo>
                <a:lnTo>
                  <a:pt x="333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清晰导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1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87" name="线形标注 1(带强调线) 22"/>
          <p:cNvSpPr/>
          <p:nvPr/>
        </p:nvSpPr>
        <p:spPr>
          <a:xfrm>
            <a:off x="1765440" y="3695760"/>
            <a:ext cx="11588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675" y="29250"/>
                </a:moveTo>
                <a:lnTo>
                  <a:pt x="3330" y="10800"/>
                </a:lnTo>
              </a:path>
              <a:path w="21600" h="21600">
                <a:moveTo>
                  <a:pt x="3330" y="0"/>
                </a:moveTo>
                <a:lnTo>
                  <a:pt x="333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结构化目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2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89" name="线形标注 1(带强调线) 26"/>
          <p:cNvSpPr/>
          <p:nvPr/>
        </p:nvSpPr>
        <p:spPr>
          <a:xfrm>
            <a:off x="4056120" y="3402000"/>
            <a:ext cx="83484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644" y="28710"/>
                </a:moveTo>
                <a:lnTo>
                  <a:pt x="3330" y="10800"/>
                </a:lnTo>
              </a:path>
              <a:path w="21600" h="21600">
                <a:moveTo>
                  <a:pt x="3330" y="0"/>
                </a:moveTo>
                <a:lnTo>
                  <a:pt x="333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   </a:t>
            </a: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转场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1" name="线形标注 1(带强调线) 30"/>
          <p:cNvSpPr/>
          <p:nvPr/>
        </p:nvSpPr>
        <p:spPr>
          <a:xfrm flipH="1">
            <a:off x="5651640" y="3198960"/>
            <a:ext cx="7207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57" y="-17909"/>
                </a:moveTo>
                <a:lnTo>
                  <a:pt x="3330" y="10800"/>
                </a:lnTo>
              </a:path>
              <a:path w="21600" h="21600">
                <a:moveTo>
                  <a:pt x="3330" y="0"/>
                </a:moveTo>
                <a:lnTo>
                  <a:pt x="333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标题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3" name="线形标注 1(带强调线) 34"/>
          <p:cNvSpPr/>
          <p:nvPr/>
        </p:nvSpPr>
        <p:spPr>
          <a:xfrm flipH="1">
            <a:off x="6638760" y="3973680"/>
            <a:ext cx="113688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14" y="15750"/>
                </a:moveTo>
                <a:lnTo>
                  <a:pt x="3330" y="10800"/>
                </a:lnTo>
              </a:path>
              <a:path w="21600" h="21600">
                <a:moveTo>
                  <a:pt x="3330" y="0"/>
                </a:moveTo>
                <a:lnTo>
                  <a:pt x="3330" y="21600"/>
                </a:lnTo>
              </a:path>
            </a:pathLst>
          </a:cu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  </a:t>
            </a: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精美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95" name="椭圆 1"/>
          <p:cNvSpPr/>
          <p:nvPr/>
        </p:nvSpPr>
        <p:spPr>
          <a:xfrm>
            <a:off x="3792600" y="2052720"/>
            <a:ext cx="98280" cy="98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38"/>
          <p:cNvSpPr/>
          <p:nvPr/>
        </p:nvSpPr>
        <p:spPr>
          <a:xfrm>
            <a:off x="3181320" y="2301840"/>
            <a:ext cx="81000" cy="82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39"/>
          <p:cNvSpPr/>
          <p:nvPr/>
        </p:nvSpPr>
        <p:spPr>
          <a:xfrm flipV="1">
            <a:off x="3689280" y="22748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40"/>
          <p:cNvSpPr/>
          <p:nvPr/>
        </p:nvSpPr>
        <p:spPr>
          <a:xfrm>
            <a:off x="2968560" y="2365200"/>
            <a:ext cx="4464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椭圆 41"/>
          <p:cNvSpPr/>
          <p:nvPr/>
        </p:nvSpPr>
        <p:spPr>
          <a:xfrm>
            <a:off x="3013200" y="252108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47"/>
          <p:cNvSpPr/>
          <p:nvPr/>
        </p:nvSpPr>
        <p:spPr>
          <a:xfrm>
            <a:off x="5553000" y="2101680"/>
            <a:ext cx="98640" cy="98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48"/>
          <p:cNvSpPr/>
          <p:nvPr/>
        </p:nvSpPr>
        <p:spPr>
          <a:xfrm>
            <a:off x="4737240" y="1671480"/>
            <a:ext cx="81000" cy="810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49"/>
          <p:cNvSpPr/>
          <p:nvPr/>
        </p:nvSpPr>
        <p:spPr>
          <a:xfrm flipV="1">
            <a:off x="5497560" y="1946160"/>
            <a:ext cx="4608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椭圆 50"/>
          <p:cNvSpPr/>
          <p:nvPr/>
        </p:nvSpPr>
        <p:spPr>
          <a:xfrm>
            <a:off x="5289480" y="1959120"/>
            <a:ext cx="46080" cy="45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51"/>
          <p:cNvSpPr/>
          <p:nvPr/>
        </p:nvSpPr>
        <p:spPr>
          <a:xfrm>
            <a:off x="4568760" y="1890720"/>
            <a:ext cx="4464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nodeType="clickEffect" fill="hold">
                      <p:stCondLst>
                        <p:cond delay="0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6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5503 -0.09237 L 3.88889E-006 5.43713E-007 E">
                                      <p:cBhvr>
                                        <p:cTn id="142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3333 -0.1106 L 1.66667E-006 -6.76552E-007 E">
                                      <p:cBhvr>
                                        <p:cTn id="1428" dur="1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573 -0.13223 L 1.66667E-006 4.57522E-006 E">
                                      <p:cBhvr>
                                        <p:cTn id="1430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4271 -0.06851 L 3.33333E-006 -3.82716E-006 E">
                                      <p:cBhvr>
                                        <p:cTn id="1432" dur="1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3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04895 -0.07438 L -3.88889E-006 -3.7037E-007 E">
                                      <p:cBhvr>
                                        <p:cTn id="1434" dur="1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2.77778E-006 2.46914E-007 L -0.03333 0.08333 E">
                                      <p:cBhvr>
                                        <p:cTn id="1436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2.22222E-006 L -0.01459 0.11296 E">
                                      <p:cBhvr>
                                        <p:cTn id="1438" dur="3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9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2.83951E-006 L 5E-006 0.13518 E">
                                      <p:cBhvr>
                                        <p:cTn id="1440" dur="3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33333E-006 -1.23457E-006 L 0.03542 0.07222 E">
                                      <p:cBhvr>
                                        <p:cTn id="1442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77778E-006 1.48148E-006 L 0.02708 0.09074 E">
                                      <p:cBhvr>
                                        <p:cTn id="1444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7" nodeType="withEffect" fill="hold" presetClass="emph" presetID="26" repeatCount="2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8" dur="2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9" dur="100" autoRev="1" fill="hold"/>
                                        <p:tgtEl>
                                          <p:spTgt spid="2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0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1 L -0.03281 0.08272 E">
                                      <p:cBhvr>
                                        <p:cTn id="1451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45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1 L -0.03281 0.08272 E">
                                      <p:cBhvr>
                                        <p:cTn id="1458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nodeType="withEffect" fill="hold" presetClass="emph" presetID="26" repeatCount="2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2" dur="2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3" dur="100" autoRev="1" fill="hold"/>
                                        <p:tgtEl>
                                          <p:spTgt spid="2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64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16667E-006 0.00031 L -0.01459 0.11327 E">
                                      <p:cBhvr>
                                        <p:cTn id="1465" dur="3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46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2 L -0.01528 0.10493 E">
                                      <p:cBhvr>
                                        <p:cTn id="1472" dur="3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26" repeatCount="2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6" dur="2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7" dur="100" autoRev="1" fill="hold"/>
                                        <p:tgtEl>
                                          <p:spTgt spid="2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8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00069 -0.00185 L -0.00121 0.13333 E">
                                      <p:cBhvr>
                                        <p:cTn id="1479" dur="3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481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2 L 0.00034 0.11975 E">
                                      <p:cBhvr>
                                        <p:cTn id="1486" dur="3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mph" presetID="26" repeatCount="2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0" dur="2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1" dur="100" autoRev="1" fill="hold"/>
                                        <p:tgtEl>
                                          <p:spTgt spid="2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92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-1.60494E-006 L 0.03697 0.07593 E">
                                      <p:cBhvr>
                                        <p:cTn id="1493" dur="3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495" dur="3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6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9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2 L 0.03368 0.08179 E">
                                      <p:cBhvr>
                                        <p:cTn id="1500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mph" presetID="26" repeatCount="2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2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5" dur="100" autoRev="1" fill="hold"/>
                                        <p:tgtEl>
                                          <p:spTgt spid="2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6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35 0.00031 L 0.0283 0.09229 E">
                                      <p:cBhvr>
                                        <p:cTn id="1507" dur="3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8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509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52 -0.00062 L 0.02708 0.09352 E">
                                      <p:cBhvr>
                                        <p:cTn id="1514" dur="3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66667E-006 8.64198E-007 L -0.03004 -0.11389 C -0.03577 -0.1392 -0.04861 -0.16914 -0.06337 -0.1963 C -0.08038 -0.22901 -0.09618 -0.25124 -0.11007 -0.26358 L -0.17222 -0.32315 E">
                                      <p:cBhvr>
                                        <p:cTn id="151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path" presetID="37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1.38889E-006 4.93827E-007 L -0.04583 -0.09661 C -0.05504 -0.11759 -0.07136 -0.14105 -0.09011 -0.16049 C -0.11129 -0.18426 -0.12986 -0.19846 -0.14497 -0.2034 L -0.21337 -0.2321 E">
                                      <p:cBhvr>
                                        <p:cTn id="1525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path" presetID="37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2.22222E-006 2.34568E-006 L -0.04288 -0.10062 C -0.05156 -0.12253 -0.06736 -0.14753 -0.08542 -0.16852 C -0.10573 -0.19414 -0.12396 -0.20988 -0.13889 -0.21636 L -0.2066 -0.25124 E">
                                      <p:cBhvr>
                                        <p:cTn id="153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3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8.33333E-007 1.23457E-006 L -0.05538 -0.08025 C -0.06667 -0.09753 -0.08507 -0.11543 -0.10556 -0.1287 C -0.12847 -0.14475 -0.14844 -0.15216 -0.16354 -0.15216 L -0.23403 -0.15833 E">
                                      <p:cBhvr>
                                        <p:cTn id="153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path" presetID="3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4.72222E-006 -4.28174E-006 L -0.06303 -0.05807 C -0.07605 -0.07167 -0.09636 -0.08186 -0.11771 -0.08742 C -0.14237 -0.09484 -0.1625 -0.09515 -0.17761 -0.08989 L -0.24723 -0.06981 E">
                                      <p:cBhvr>
                                        <p:cTn id="154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path" presetID="37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3802 -0.13797 L 0.16806 -0.13858 C 0.15243 -0.14013 0.13177 -0.13272 0.11163 -0.12037 C 0.08768 -0.1071 0.06979 -0.09136 0.05764 -0.07469 L -1.38889E-006 2.59259E-006 E">
                                      <p:cBhvr>
                                        <p:cTn id="155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4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path" presetID="37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22796 -0.18179 L 0.15764 -0.16913 C 0.14289 -0.16697 0.12257 -0.15617 0.10313 -0.13981 C 0.08004 -0.12222 0.06285 -0.1037 0.05174 -0.08395 L -4.44444E-006 -4.93827E-006 E">
                                      <p:cBhvr>
                                        <p:cTn id="1560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1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path" presetID="37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.22535 -0.19383 L 0.15451 -0.17685 C 0.13976 -0.17438 0.11979 -0.16265 0.10052 -0.14506 C 0.07795 -0.12623 0.06129 -0.10617 0.05069 -0.08704 L -2.77778E-007 -4.93827E-007 E">
                                      <p:cBhvr>
                                        <p:cTn id="156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path" presetID="37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18108 -0.30741 L 0.11667 -0.25309 C 0.10295 -0.24228 0.08629 -0.22006 0.07049 -0.19321 C 0.05261 -0.16296 0.04011 -0.13488 0.03386 -0.10988 L -2.22222E-006 2.46914E-007 E">
                                      <p:cBhvr>
                                        <p:cTn id="157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path" presetID="37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16197 -0.3392 L 0.10121 -0.27346 C 0.08802 -0.26111 0.07256 -0.23488 0.05885 -0.20587 C 0.04253 -0.17222 0.03177 -0.14198 0.02656 -0.11605 L 4.72222E-006 1.35802E-006 E">
                                      <p:cBhvr>
                                        <p:cTn id="158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2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F97-3E93-448C-9BF3-3A6891C8039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-2774880" y="-2616480"/>
            <a:ext cx="14549400" cy="10692360"/>
            <a:chOff x="-2774880" y="-2616480"/>
            <a:chExt cx="14549400" cy="10692360"/>
          </a:xfrm>
        </p:grpSpPr>
        <p:sp>
          <p:nvSpPr>
            <p:cNvPr id="307" name="矩形 10"/>
            <p:cNvSpPr/>
            <p:nvPr/>
          </p:nvSpPr>
          <p:spPr>
            <a:xfrm rot="20774400">
              <a:off x="-2033640" y="-1174320"/>
              <a:ext cx="13066920" cy="780876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309" name="Group 11"/>
          <p:cNvGrpSpPr/>
          <p:nvPr/>
        </p:nvGrpSpPr>
        <p:grpSpPr>
          <a:xfrm>
            <a:off x="4184280" y="-232560"/>
            <a:ext cx="3824280" cy="3412080"/>
            <a:chOff x="4184280" y="-232560"/>
            <a:chExt cx="3824280" cy="3412080"/>
          </a:xfrm>
        </p:grpSpPr>
        <p:sp>
          <p:nvSpPr>
            <p:cNvPr id="310" name="矩形 13"/>
            <p:cNvSpPr/>
            <p:nvPr/>
          </p:nvSpPr>
          <p:spPr>
            <a:xfrm rot="1934400">
              <a:off x="4455000" y="491400"/>
              <a:ext cx="3282840" cy="1963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4"/>
          <p:cNvGrpSpPr/>
          <p:nvPr/>
        </p:nvGrpSpPr>
        <p:grpSpPr>
          <a:xfrm>
            <a:off x="4908960" y="3236400"/>
            <a:ext cx="3523320" cy="2193120"/>
            <a:chOff x="4908960" y="3236400"/>
            <a:chExt cx="3523320" cy="2193120"/>
          </a:xfrm>
        </p:grpSpPr>
        <p:sp>
          <p:nvSpPr>
            <p:cNvPr id="312" name="矩形 27"/>
            <p:cNvSpPr/>
            <p:nvPr/>
          </p:nvSpPr>
          <p:spPr>
            <a:xfrm rot="135000">
              <a:off x="4948200" y="3303000"/>
              <a:ext cx="3444840" cy="2059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38480" y="-1572840"/>
            <a:ext cx="3960360" cy="4631760"/>
            <a:chOff x="438480" y="-1572840"/>
            <a:chExt cx="3960360" cy="4631760"/>
          </a:xfrm>
        </p:grpSpPr>
        <p:sp>
          <p:nvSpPr>
            <p:cNvPr id="314" name="矩形 32"/>
            <p:cNvSpPr/>
            <p:nvPr/>
          </p:nvSpPr>
          <p:spPr>
            <a:xfrm rot="3735000">
              <a:off x="427680" y="-446760"/>
              <a:ext cx="3981600" cy="23799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0"/>
          <p:cNvGrpSpPr/>
          <p:nvPr/>
        </p:nvGrpSpPr>
        <p:grpSpPr>
          <a:xfrm>
            <a:off x="6738120" y="-481320"/>
            <a:ext cx="2684160" cy="3696840"/>
            <a:chOff x="6738120" y="-481320"/>
            <a:chExt cx="2684160" cy="3696840"/>
          </a:xfrm>
        </p:grpSpPr>
        <p:sp>
          <p:nvSpPr>
            <p:cNvPr id="316" name="矩形 37"/>
            <p:cNvSpPr/>
            <p:nvPr/>
          </p:nvSpPr>
          <p:spPr>
            <a:xfrm rot="4635000">
              <a:off x="6410520" y="368640"/>
              <a:ext cx="3338640" cy="1996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3"/>
          <p:cNvGrpSpPr/>
          <p:nvPr/>
        </p:nvGrpSpPr>
        <p:grpSpPr>
          <a:xfrm>
            <a:off x="-959040" y="862920"/>
            <a:ext cx="3141360" cy="1954440"/>
            <a:chOff x="-959040" y="862920"/>
            <a:chExt cx="3141360" cy="1954440"/>
          </a:xfrm>
        </p:grpSpPr>
        <p:sp>
          <p:nvSpPr>
            <p:cNvPr id="318" name="矩形 40"/>
            <p:cNvSpPr/>
            <p:nvPr/>
          </p:nvSpPr>
          <p:spPr>
            <a:xfrm rot="135000">
              <a:off x="-924120" y="922320"/>
              <a:ext cx="3071880" cy="1835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6"/>
          <p:cNvGrpSpPr/>
          <p:nvPr/>
        </p:nvGrpSpPr>
        <p:grpSpPr>
          <a:xfrm>
            <a:off x="-127800" y="2799360"/>
            <a:ext cx="4211280" cy="3159000"/>
            <a:chOff x="-127800" y="2799360"/>
            <a:chExt cx="4211280" cy="3159000"/>
          </a:xfrm>
        </p:grpSpPr>
        <p:sp>
          <p:nvSpPr>
            <p:cNvPr id="320" name="矩形 23"/>
            <p:cNvSpPr/>
            <p:nvPr/>
          </p:nvSpPr>
          <p:spPr>
            <a:xfrm rot="20674200">
              <a:off x="102600" y="3257640"/>
              <a:ext cx="3749760" cy="2242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9"/>
          <p:cNvGrpSpPr/>
          <p:nvPr/>
        </p:nvGrpSpPr>
        <p:grpSpPr>
          <a:xfrm>
            <a:off x="2181960" y="2208600"/>
            <a:ext cx="3825720" cy="3413520"/>
            <a:chOff x="2181960" y="2208600"/>
            <a:chExt cx="3825720" cy="3413520"/>
          </a:xfrm>
        </p:grpSpPr>
        <p:sp>
          <p:nvSpPr>
            <p:cNvPr id="322" name="矩形 44"/>
            <p:cNvSpPr/>
            <p:nvPr/>
          </p:nvSpPr>
          <p:spPr>
            <a:xfrm rot="1935000">
              <a:off x="2452320" y="2933280"/>
              <a:ext cx="3284640" cy="196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Box 42"/>
            <p:cNvSpPr/>
            <p:nvPr/>
          </p:nvSpPr>
          <p:spPr>
            <a:xfrm rot="1920000">
              <a:off x="3007080" y="3729600"/>
              <a:ext cx="23252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精美设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32"/>
          <p:cNvGrpSpPr/>
          <p:nvPr/>
        </p:nvGrpSpPr>
        <p:grpSpPr>
          <a:xfrm>
            <a:off x="2142000" y="-360"/>
            <a:ext cx="3818880" cy="3265200"/>
            <a:chOff x="2142000" y="-360"/>
            <a:chExt cx="3818880" cy="3265200"/>
          </a:xfrm>
        </p:grpSpPr>
        <p:sp>
          <p:nvSpPr>
            <p:cNvPr id="325" name="矩形 48"/>
            <p:cNvSpPr/>
            <p:nvPr/>
          </p:nvSpPr>
          <p:spPr>
            <a:xfrm rot="19935000">
              <a:off x="2409840" y="650880"/>
              <a:ext cx="3282840" cy="1962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49"/>
            <p:cNvSpPr/>
            <p:nvPr/>
          </p:nvSpPr>
          <p:spPr>
            <a:xfrm rot="19920000">
              <a:off x="3216600" y="1522080"/>
              <a:ext cx="178992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美观、简洁、炫丽、大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35"/>
          <p:cNvGrpSpPr/>
          <p:nvPr/>
        </p:nvGrpSpPr>
        <p:grpSpPr>
          <a:xfrm>
            <a:off x="4422960" y="1289160"/>
            <a:ext cx="3719160" cy="2849400"/>
            <a:chOff x="4422960" y="1289160"/>
            <a:chExt cx="3719160" cy="2849400"/>
          </a:xfrm>
        </p:grpSpPr>
        <p:sp>
          <p:nvSpPr>
            <p:cNvPr id="328" name="矩形 51"/>
            <p:cNvSpPr/>
            <p:nvPr/>
          </p:nvSpPr>
          <p:spPr>
            <a:xfrm rot="1035000">
              <a:off x="4640400" y="1731600"/>
              <a:ext cx="3284280" cy="1963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52"/>
            <p:cNvSpPr/>
            <p:nvPr/>
          </p:nvSpPr>
          <p:spPr>
            <a:xfrm rot="1020000">
              <a:off x="5461560" y="2562480"/>
              <a:ext cx="1699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实用、前卫创意、个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椭圆 53"/>
          <p:cNvSpPr/>
          <p:nvPr/>
        </p:nvSpPr>
        <p:spPr>
          <a:xfrm>
            <a:off x="3908520" y="2028960"/>
            <a:ext cx="1336680" cy="133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43"/>
          <p:cNvSpPr/>
          <p:nvPr/>
        </p:nvSpPr>
        <p:spPr>
          <a:xfrm>
            <a:off x="3546360" y="1574640"/>
            <a:ext cx="1979640" cy="1979640"/>
          </a:xfrm>
          <a:prstGeom prst="ellipse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45"/>
          <p:cNvSpPr/>
          <p:nvPr/>
        </p:nvSpPr>
        <p:spPr>
          <a:xfrm>
            <a:off x="2898720" y="927000"/>
            <a:ext cx="3273480" cy="3275280"/>
          </a:xfrm>
          <a:prstGeom prst="ellipse">
            <a:avLst/>
          </a:prstGeom>
          <a:noFill/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54"/>
          <p:cNvSpPr/>
          <p:nvPr/>
        </p:nvSpPr>
        <p:spPr>
          <a:xfrm>
            <a:off x="2490840" y="520560"/>
            <a:ext cx="4089240" cy="4087800"/>
          </a:xfrm>
          <a:prstGeom prst="ellipse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椭圆 55"/>
          <p:cNvSpPr/>
          <p:nvPr/>
        </p:nvSpPr>
        <p:spPr>
          <a:xfrm>
            <a:off x="1587600" y="-380880"/>
            <a:ext cx="5895720" cy="5894280"/>
          </a:xfrm>
          <a:prstGeom prst="ellipse">
            <a:avLst/>
          </a:pr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56"/>
          <p:cNvSpPr/>
          <p:nvPr/>
        </p:nvSpPr>
        <p:spPr>
          <a:xfrm>
            <a:off x="633240" y="-1335240"/>
            <a:ext cx="7805880" cy="7802640"/>
          </a:xfrm>
          <a:prstGeom prst="ellipse">
            <a:avLst/>
          </a:prstGeom>
          <a:noFill/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57"/>
          <p:cNvSpPr/>
          <p:nvPr/>
        </p:nvSpPr>
        <p:spPr>
          <a:xfrm>
            <a:off x="-241200" y="-2212920"/>
            <a:ext cx="9556560" cy="9556560"/>
          </a:xfrm>
          <a:prstGeom prst="ellipse">
            <a:avLst/>
          </a:prstGeom>
          <a:noFill/>
          <a:ln w="152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0" dur="500" fill="hold"/>
                                        <p:tgtEl>
                                          <p:spTgt spid="30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23" presetSubtype="3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23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3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3" presetSubtype="3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3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3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23" presetSubtype="3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3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23" presetSubtype="32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3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3" presetSubtype="32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3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23" presetSubtype="3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mph" presetID="6">
                                  <p:stCondLst>
                                    <p:cond delay="4800"/>
                                  </p:stCondLst>
                                  <p:childTnLst>
                                    <p:animScale>
                                      <p:cBhvr>
                                        <p:cTn id="1632" dur="200" fill="hold"/>
                                        <p:tgtEl>
                                          <p:spTgt spid="33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2" presetSubtype="4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2" presetSubtype="1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xit" presetID="2" presetSubtype="8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2" presetSubtype="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xit" presetID="2" presetSubtype="1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2" presetSubtype="3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xit" presetID="2" presetSubtype="9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xit" presetID="2" presetSubtype="6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xit" presetID="2" presetSubtype="8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2" presetSubtype="2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7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5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7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9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1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5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8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7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8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9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1" nodeType="withEffect" fill="hold" presetClass="emph" presetID="8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69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3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6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0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6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nodeType="withEffect" fill="hold" presetClass="exit" presetID="19" presetSubtype="10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0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3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1" repeatCount="3000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7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1" repeatCount="3000">
                                  <p:stCondLst>
                                    <p:cond delay="4850"/>
                                  </p:stCondLst>
                                  <p:childTnLst>
                                    <p:set>
                                      <p:cBhvr>
                                        <p:cTn id="1738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1" repeatCount="300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74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1" repeatCount="3000">
                                  <p:stCondLst>
                                    <p:cond delay="4950"/>
                                  </p:stCondLst>
                                  <p:childTnLst>
                                    <p:set>
                                      <p:cBhvr>
                                        <p:cTn id="174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1" repeatCount="3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11" repeatCount="3000">
                                  <p:stCondLst>
                                    <p:cond delay="5050"/>
                                  </p:stCondLst>
                                  <p:childTnLst>
                                    <p:set>
                                      <p:cBhvr>
                                        <p:cTn id="174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BF76-3EA8-4D1C-B071-12AD7F028B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17"/>
          <p:cNvSpPr/>
          <p:nvPr/>
        </p:nvSpPr>
        <p:spPr>
          <a:xfrm>
            <a:off x="8012160" y="541440"/>
            <a:ext cx="600120" cy="598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5"/>
          <p:cNvGrpSpPr/>
          <p:nvPr/>
        </p:nvGrpSpPr>
        <p:grpSpPr>
          <a:xfrm>
            <a:off x="2654280" y="4067640"/>
            <a:ext cx="2762280" cy="3984120"/>
            <a:chOff x="2654280" y="4067640"/>
            <a:chExt cx="2762280" cy="3984120"/>
          </a:xfrm>
        </p:grpSpPr>
        <p:sp>
          <p:nvSpPr>
            <p:cNvPr id="340" name="矩形 1"/>
            <p:cNvSpPr/>
            <p:nvPr/>
          </p:nvSpPr>
          <p:spPr>
            <a:xfrm>
              <a:off x="2654280" y="4067640"/>
              <a:ext cx="2762280" cy="39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椭圆 56"/>
          <p:cNvSpPr/>
          <p:nvPr/>
        </p:nvSpPr>
        <p:spPr>
          <a:xfrm>
            <a:off x="4678200" y="3986280"/>
            <a:ext cx="144720" cy="144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3619440" y="4022640"/>
            <a:ext cx="73080" cy="716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58"/>
          <p:cNvSpPr/>
          <p:nvPr/>
        </p:nvSpPr>
        <p:spPr>
          <a:xfrm>
            <a:off x="4446720" y="3940200"/>
            <a:ext cx="745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3908520" y="3838680"/>
            <a:ext cx="136440" cy="1350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椭圆 60"/>
          <p:cNvSpPr/>
          <p:nvPr/>
        </p:nvSpPr>
        <p:spPr>
          <a:xfrm flipV="1">
            <a:off x="3429000" y="4222800"/>
            <a:ext cx="87480" cy="87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61"/>
          <p:cNvSpPr/>
          <p:nvPr/>
        </p:nvSpPr>
        <p:spPr>
          <a:xfrm flipV="1">
            <a:off x="5024520" y="4205160"/>
            <a:ext cx="82440" cy="842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2"/>
          <p:cNvSpPr/>
          <p:nvPr/>
        </p:nvSpPr>
        <p:spPr>
          <a:xfrm>
            <a:off x="3625920" y="4062240"/>
            <a:ext cx="1681200" cy="7956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椭圆 62"/>
          <p:cNvSpPr/>
          <p:nvPr/>
        </p:nvSpPr>
        <p:spPr>
          <a:xfrm>
            <a:off x="2635200" y="4044960"/>
            <a:ext cx="3483000" cy="1098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63"/>
          <p:cNvSpPr/>
          <p:nvPr/>
        </p:nvSpPr>
        <p:spPr>
          <a:xfrm>
            <a:off x="-1930320" y="4327560"/>
            <a:ext cx="12963600" cy="1995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6"/>
          <p:cNvSpPr/>
          <p:nvPr/>
        </p:nvSpPr>
        <p:spPr>
          <a:xfrm>
            <a:off x="-1974960" y="307800"/>
            <a:ext cx="8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转场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97"/>
          <p:cNvSpPr/>
          <p:nvPr/>
        </p:nvSpPr>
        <p:spPr>
          <a:xfrm>
            <a:off x="-1930320" y="10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装设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98"/>
          <p:cNvSpPr/>
          <p:nvPr/>
        </p:nvSpPr>
        <p:spPr>
          <a:xfrm>
            <a:off x="-774720" y="100080"/>
            <a:ext cx="8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开场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99"/>
          <p:cNvSpPr/>
          <p:nvPr/>
        </p:nvSpPr>
        <p:spPr>
          <a:xfrm>
            <a:off x="-1579680" y="498600"/>
            <a:ext cx="8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逻辑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100"/>
          <p:cNvSpPr/>
          <p:nvPr/>
        </p:nvSpPr>
        <p:spPr>
          <a:xfrm>
            <a:off x="-1239840" y="736560"/>
            <a:ext cx="8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强调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01"/>
          <p:cNvSpPr/>
          <p:nvPr/>
        </p:nvSpPr>
        <p:spPr>
          <a:xfrm>
            <a:off x="-774720" y="100188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情景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02"/>
          <p:cNvSpPr/>
          <p:nvPr/>
        </p:nvSpPr>
        <p:spPr>
          <a:xfrm>
            <a:off x="-1239840" y="1305000"/>
            <a:ext cx="93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方正粗活意简体"/>
                <a:ea typeface="方正粗活意简体"/>
              </a:rPr>
              <a:t>片尾动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682640" y="1989000"/>
            <a:ext cx="4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创意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6"/>
          <p:cNvSpPr/>
          <p:nvPr/>
        </p:nvSpPr>
        <p:spPr>
          <a:xfrm>
            <a:off x="-9207360" y="0"/>
            <a:ext cx="9144000" cy="560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nodeType="clickEffect" fill="hold">
                      <p:stCondLst>
                        <p:cond delay="0"/>
                      </p:stCondLst>
                      <p:childTnLst>
                        <p:par>
                          <p:cTn id="175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7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4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3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89 -0.16667 L 1.94444E-006 1.7284E-006 E">
                                      <p:cBhvr>
                                        <p:cTn id="1761" dur="4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path" presetID="42">
                                  <p:stCondLst>
                                    <p:cond delay="50"/>
                                  </p:stCondLst>
                                  <p:childTnLst>
                                    <p:animMotion origin="layout" path="M 0.11424 -0.17408 L -2.77778E-006 2.71605E-006 E">
                                      <p:cBhvr>
                                        <p:cTn id="1765" dur="4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021 -0.18766 L -3.05556E-006 2.46914E-006 E">
                                      <p:cBhvr>
                                        <p:cTn id="1769" dur="4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0.03889 -0.24074 L 2.5E-006 2.71605E-006 E">
                                      <p:cBhvr>
                                        <p:cTn id="1773" dur="4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-0.33698 -0.05685 L -2.77778E-006 4.54742E-006 E">
                                      <p:cBhvr>
                                        <p:cTn id="1777" dur="4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path" presetID="42">
                                  <p:stCondLst>
                                    <p:cond delay="150"/>
                                  </p:stCondLst>
                                  <p:childTnLst>
                                    <p:animMotion origin="layout" path="M 0.29011 -0.05468 L -4.72222E-006 6.11677E-007 E">
                                      <p:cBhvr>
                                        <p:cTn id="1781" dur="4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2" presetSubtype="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2" presetSubtype="4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7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1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4" nodeType="withEffect" fill="hold" presetClass="exit" presetID="2" presetSubtype="4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5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2" presetSubtype="4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9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2" presetSubtype="4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1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-299940">
                                      <p:cBhvr>
                                        <p:cTn id="1809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2" presetSubtype="1">
                                  <p:stCondLst>
                                    <p:cond delay="5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xit" presetID="56">
                                  <p:stCondLst>
                                    <p:cond delay="7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8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8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8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82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82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" presetSubtype="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8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8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7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78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7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76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7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7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72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72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5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autoRev="1" nodeType="withEffect" fill="hold" presetClass="emph" presetID="6" repeatCount="3000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1857" dur="1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2" presetSubtype="8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59" dur="5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" presetSubtype="2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" presetSubtype="2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8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2:11:00Z</dcterms:created>
  <dc:creator>a</dc:creator>
  <dc:description/>
  <cp:keywords/>
  <dc:language>en-US</dc:language>
  <cp:lastModifiedBy>王玉清</cp:lastModifiedBy>
  <dcterms:modified xsi:type="dcterms:W3CDTF">2016-02-16T07:33:40Z</dcterms:modified>
  <cp:revision>3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