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273-760B-423D-B6EA-BC974567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9C0-C1D9-496D-830E-A4952909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0B8-038F-4B2E-86FB-5B4EDC11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888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77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03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888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77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C9C-162D-4ABC-AC6A-5528685E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2D42-0128-4E61-847F-73BC06ED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4094-3F2B-463D-A516-D844D2AB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4515-F213-4D2F-8BFB-500D57C9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6463-ED13-439C-A0CE-96621B2B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B48B-F220-48AF-BD7F-2747F32F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0360" y="216000"/>
            <a:ext cx="809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D640-D300-410A-BF98-DC09440A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2D72-3711-49DC-A8C5-551BBA95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F4D-F4D1-4E69-9A1C-4086A251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3C73-F761-48CB-A712-6707959A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9449-D034-41E4-BE9E-82CF5766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18F7-6125-4C76-ABAE-72BB79ED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7937-26BE-40C5-AB4F-71C1F474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888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7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03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888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7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BF3D-B31A-46FF-8401-CC4D0FBE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96AAF-B9D5-40CF-9880-40AB4E01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3F96-1572-4BFE-B924-E272453A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4F86-47D0-4582-AAE8-E2962E0D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8270-D1BA-42F5-AFBE-F8A9A486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F6E4-8B8C-423F-8668-D1468943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6D2-5898-4C98-BF1B-A55BD5AF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0360" y="216000"/>
            <a:ext cx="809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88BC-586E-4AD0-883E-C11F84D3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361D-7369-47DD-9BE9-B3143A9B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6886-8BE2-4B9B-8749-9CA8AA5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6908-CA65-4EB9-9DF9-017528B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24FC-6DD8-4C6E-BCEA-BB0822F6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5751-5B93-499E-8D3A-EC3CB32C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888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77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03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888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77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E370-741F-4E3A-896F-F563CB74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7AB-4E7C-4797-A40C-BD26AD42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D09-6219-4EF5-A4DD-4856AC41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360" y="216000"/>
            <a:ext cx="809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E6C-FC83-4060-A1F9-7046DAE3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01F-2FC3-40D4-96D4-51CD5E9E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42B-E866-474B-970F-B061EF26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ADF-D159-4C74-90AF-4788AD7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 fontScale="99000"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249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2240" indent="-20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201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3F63-BC02-49A7-98FB-2574A56D0AC3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E7CC-846D-487D-9561-A971775A6B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4916520"/>
            <a:ext cx="9001080" cy="482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2160" y="216000"/>
            <a:ext cx="8096040" cy="900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2160" y="1258920"/>
            <a:ext cx="8096040" cy="3564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89000"/>
          </a:bodyPr>
          <a:p>
            <a:pPr marL="299520" indent="-299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920" indent="-2484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199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394280" indent="-198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792800" indent="-1990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792800" indent="-1990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792800" indent="-1990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2160" y="4916160"/>
            <a:ext cx="2097000" cy="37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9304-38A2-4399-BFE7-477C7143A047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73320" y="4916160"/>
            <a:ext cx="2852640" cy="37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1200" y="4916160"/>
            <a:ext cx="2097000" cy="37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4923-8AA1-49BD-9E41-BD9A9E834E33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 fontScale="99000"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249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2240" indent="-20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201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75F-30B6-4F00-BE2B-773727327B57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0D25-3EC2-4CA1-9DAE-82D380DE12A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"/>
          <p:cNvSpPr/>
          <p:nvPr/>
        </p:nvSpPr>
        <p:spPr>
          <a:xfrm>
            <a:off x="3061440" y="2544840"/>
            <a:ext cx="28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1"/>
          <p:cNvPicPr/>
          <p:nvPr/>
        </p:nvPicPr>
        <p:blipFill>
          <a:blip r:embed="rId3"/>
          <a:stretch/>
        </p:blipFill>
        <p:spPr>
          <a:xfrm>
            <a:off x="0" y="971640"/>
            <a:ext cx="8999640" cy="2759040"/>
          </a:xfrm>
          <a:prstGeom prst="rect">
            <a:avLst/>
          </a:prstGeom>
          <a:ln w="0">
            <a:noFill/>
          </a:ln>
        </p:spPr>
      </p:pic>
      <p:sp>
        <p:nvSpPr>
          <p:cNvPr id="126" name="Line 3"/>
          <p:cNvSpPr/>
          <p:nvPr/>
        </p:nvSpPr>
        <p:spPr>
          <a:xfrm>
            <a:off x="7091280" y="4140360"/>
            <a:ext cx="1800" cy="8632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641640" y="4140360"/>
            <a:ext cx="4086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方正细倩简体"/>
              </a:rPr>
              <a:t>过去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130520" y="4140360"/>
            <a:ext cx="4086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方正细倩简体"/>
              </a:rPr>
              <a:t>现在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7570800" y="4140360"/>
            <a:ext cx="0" cy="8632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08240" y="4140360"/>
            <a:ext cx="4086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方正细倩简体"/>
              </a:rPr>
              <a:t>未来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66560" y="233280"/>
            <a:ext cx="83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浪漫雅圆"/>
              </a:rPr>
              <a:t>致青春年代的爱情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浪漫雅圆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浪漫雅圆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457200" y="5060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832040" y="1417680"/>
            <a:ext cx="5641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9e002c"/>
                </a:solidFill>
                <a:latin typeface="Arial"/>
                <a:ea typeface="微软雅黑"/>
              </a:rPr>
              <a:t>不愿怠惰的青春爱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755720" y="2262240"/>
            <a:ext cx="5545080" cy="993600"/>
          </a:xfrm>
          <a:prstGeom prst="rect">
            <a:avLst/>
          </a:prstGeom>
          <a:solidFill>
            <a:srgbClr val="9e0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ffffff"/>
                </a:solidFill>
                <a:latin typeface="Arial"/>
                <a:ea typeface="微软雅黑"/>
              </a:rPr>
              <a:t>这一刻，爱吧！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圆1"/>
          <p:cNvPicPr/>
          <p:nvPr/>
        </p:nvPicPr>
        <p:blipFill>
          <a:blip r:embed="rId1"/>
          <a:srcRect l="9507" t="0" r="0" b="0"/>
          <a:stretch/>
        </p:blipFill>
        <p:spPr>
          <a:xfrm>
            <a:off x="2398680" y="539640"/>
            <a:ext cx="4046400" cy="293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14"/>
          <p:cNvPicPr/>
          <p:nvPr/>
        </p:nvPicPr>
        <p:blipFill>
          <a:blip r:embed="rId2"/>
          <a:srcRect l="3215" t="0" r="19583" b="0"/>
          <a:stretch/>
        </p:blipFill>
        <p:spPr>
          <a:xfrm>
            <a:off x="2398680" y="539640"/>
            <a:ext cx="4035600" cy="2932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6"/>
          <p:cNvPicPr/>
          <p:nvPr/>
        </p:nvPicPr>
        <p:blipFill>
          <a:blip r:embed="rId3"/>
          <a:srcRect l="16020" t="0" r="6796" b="0"/>
          <a:stretch/>
        </p:blipFill>
        <p:spPr>
          <a:xfrm>
            <a:off x="2400480" y="541440"/>
            <a:ext cx="4044600" cy="2931840"/>
          </a:xfrm>
          <a:prstGeom prst="rect">
            <a:avLst/>
          </a:prstGeom>
          <a:ln w="0">
            <a:noFill/>
          </a:ln>
        </p:spPr>
      </p:pic>
      <p:sp>
        <p:nvSpPr>
          <p:cNvPr id="224" name="矩形 12"/>
          <p:cNvSpPr/>
          <p:nvPr/>
        </p:nvSpPr>
        <p:spPr>
          <a:xfrm>
            <a:off x="457200" y="4788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373480" y="1979640"/>
            <a:ext cx="42876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300" spc="-1" strike="noStrike">
                <a:solidFill>
                  <a:srgbClr val="ffffff"/>
                </a:solidFill>
                <a:latin typeface="Arial"/>
                <a:ea typeface="方正静蕾简体"/>
              </a:rPr>
              <a:t>谢谢观赏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959360" y="3527280"/>
            <a:ext cx="162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2013.5.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 flipV="1">
            <a:off x="-33480" y="12600"/>
            <a:ext cx="9029880" cy="111456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6661080" y="304920"/>
            <a:ext cx="71640" cy="1081080"/>
          </a:xfrm>
          <a:prstGeom prst="line">
            <a:avLst/>
          </a:prstGeom>
          <a:ln w="127080">
            <a:solidFill>
              <a:srgbClr val="9e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4233960" y="611280"/>
            <a:ext cx="71280" cy="792000"/>
          </a:xfrm>
          <a:prstGeom prst="line">
            <a:avLst/>
          </a:prstGeom>
          <a:ln w="127080">
            <a:solidFill>
              <a:srgbClr val="9e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908000" y="900000"/>
            <a:ext cx="71640" cy="503280"/>
          </a:xfrm>
          <a:prstGeom prst="line">
            <a:avLst/>
          </a:prstGeom>
          <a:ln w="127080">
            <a:solidFill>
              <a:srgbClr val="9e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1058760" y="1296000"/>
            <a:ext cx="2057400" cy="2431440"/>
            <a:chOff x="1058760" y="1296000"/>
            <a:chExt cx="2057400" cy="2431440"/>
          </a:xfrm>
        </p:grpSpPr>
        <p:sp>
          <p:nvSpPr>
            <p:cNvPr id="138" name="Rectangle 7"/>
            <p:cNvSpPr/>
            <p:nvPr/>
          </p:nvSpPr>
          <p:spPr>
            <a:xfrm rot="21180000">
              <a:off x="1187640" y="1397160"/>
              <a:ext cx="1799280" cy="2228760"/>
            </a:xfrm>
            <a:prstGeom prst="rect">
              <a:avLst/>
            </a:prstGeom>
            <a:solidFill>
              <a:srgbClr val="9c0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插入图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8" descr="13"/>
            <p:cNvPicPr/>
            <p:nvPr/>
          </p:nvPicPr>
          <p:blipFill>
            <a:blip r:embed="rId1"/>
            <a:srcRect l="2089" t="0" r="0" b="0"/>
            <a:stretch/>
          </p:blipFill>
          <p:spPr>
            <a:xfrm flipH="1" rot="21180000">
              <a:off x="1168560" y="1563480"/>
              <a:ext cx="17377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9"/>
            <p:cNvSpPr/>
            <p:nvPr/>
          </p:nvSpPr>
          <p:spPr>
            <a:xfrm rot="21180000">
              <a:off x="1401840" y="2843280"/>
              <a:ext cx="15778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爱情考卷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这题有点难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0"/>
          <p:cNvGrpSpPr/>
          <p:nvPr/>
        </p:nvGrpSpPr>
        <p:grpSpPr>
          <a:xfrm>
            <a:off x="3435840" y="1302120"/>
            <a:ext cx="2058840" cy="2433240"/>
            <a:chOff x="3435840" y="1302120"/>
            <a:chExt cx="2058840" cy="2433240"/>
          </a:xfrm>
        </p:grpSpPr>
        <p:sp>
          <p:nvSpPr>
            <p:cNvPr id="142" name="Rectangle 11"/>
            <p:cNvSpPr/>
            <p:nvPr/>
          </p:nvSpPr>
          <p:spPr>
            <a:xfrm rot="21180000">
              <a:off x="3564720" y="1403280"/>
              <a:ext cx="1800360" cy="2230560"/>
            </a:xfrm>
            <a:prstGeom prst="rect">
              <a:avLst/>
            </a:prstGeom>
            <a:solidFill>
              <a:srgbClr val="9e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990000"/>
                  </a:solidFill>
                  <a:latin typeface="Arial"/>
                  <a:ea typeface="微软雅黑"/>
                </a:rPr>
                <a:t>插入图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2" descr="4"/>
            <p:cNvPicPr/>
            <p:nvPr/>
          </p:nvPicPr>
          <p:blipFill>
            <a:blip r:embed="rId2"/>
            <a:srcRect l="0" t="0" r="42238" b="0"/>
            <a:stretch/>
          </p:blipFill>
          <p:spPr>
            <a:xfrm rot="21180000">
              <a:off x="3562200" y="1509840"/>
              <a:ext cx="1770480" cy="17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3"/>
            <p:cNvSpPr/>
            <p:nvPr/>
          </p:nvSpPr>
          <p:spPr>
            <a:xfrm rot="21180000">
              <a:off x="3740040" y="3270960"/>
              <a:ext cx="15800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最后的第一次约会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5882760" y="1270440"/>
            <a:ext cx="2058480" cy="2433240"/>
            <a:chOff x="5882760" y="1270440"/>
            <a:chExt cx="2058480" cy="2433240"/>
          </a:xfrm>
        </p:grpSpPr>
        <p:sp>
          <p:nvSpPr>
            <p:cNvPr id="146" name="Rectangle 15"/>
            <p:cNvSpPr/>
            <p:nvPr/>
          </p:nvSpPr>
          <p:spPr>
            <a:xfrm rot="21180000">
              <a:off x="6011640" y="1371600"/>
              <a:ext cx="1800000" cy="2230560"/>
            </a:xfrm>
            <a:prstGeom prst="rect">
              <a:avLst/>
            </a:prstGeom>
            <a:solidFill>
              <a:srgbClr val="9e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990000"/>
                  </a:solidFill>
                  <a:latin typeface="Arial"/>
                  <a:ea typeface="微软雅黑"/>
                </a:rPr>
                <a:t>插入图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6" descr="1"/>
            <p:cNvPicPr/>
            <p:nvPr/>
          </p:nvPicPr>
          <p:blipFill>
            <a:blip r:embed="rId3"/>
            <a:srcRect l="11031" t="0" r="14862" b="0"/>
            <a:stretch/>
          </p:blipFill>
          <p:spPr>
            <a:xfrm rot="21180000">
              <a:off x="6000840" y="1450800"/>
              <a:ext cx="1733040" cy="13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7"/>
            <p:cNvSpPr/>
            <p:nvPr/>
          </p:nvSpPr>
          <p:spPr>
            <a:xfrm rot="21180000">
              <a:off x="6171840" y="2842920"/>
              <a:ext cx="15793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8</a:t>
              </a: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度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该沸腾吗？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1547640" y="2556000"/>
            <a:ext cx="5616720" cy="0"/>
          </a:xfrm>
          <a:prstGeom prst="line">
            <a:avLst/>
          </a:prstGeom>
          <a:ln w="9360">
            <a:solidFill>
              <a:srgbClr val="b2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4282920" y="755640"/>
            <a:ext cx="1800" cy="3600360"/>
          </a:xfrm>
          <a:prstGeom prst="line">
            <a:avLst/>
          </a:prstGeom>
          <a:ln w="9360">
            <a:solidFill>
              <a:srgbClr val="b2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7164360" y="245736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相信真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03320" y="2457360"/>
            <a:ext cx="574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不信爱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011480" y="549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主动争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011480" y="435600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被动等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003640" y="14382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真爱无惧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050920" y="14382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现实主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050920" y="31320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哪有真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5003640" y="31320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恋人未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332000" y="2195640"/>
            <a:ext cx="6624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9e002c"/>
                </a:solidFill>
                <a:latin typeface="Arial"/>
                <a:ea typeface="微软雅黑"/>
              </a:rPr>
              <a:t>你的爱情在第几象限？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2"/>
          <p:cNvPicPr/>
          <p:nvPr/>
        </p:nvPicPr>
        <p:blipFill>
          <a:blip r:embed="rId1"/>
          <a:stretch/>
        </p:blipFill>
        <p:spPr>
          <a:xfrm>
            <a:off x="4643280" y="1185840"/>
            <a:ext cx="3494160" cy="1955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4484520" y="3403440"/>
            <a:ext cx="3816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990000"/>
                </a:solidFill>
                <a:latin typeface="Arial"/>
                <a:ea typeface="方正静蕾简体"/>
              </a:rPr>
              <a:t>爱情</a:t>
            </a:r>
            <a:r>
              <a:rPr b="1" lang="zh-CN" sz="6500" spc="-1" strike="noStrike">
                <a:solidFill>
                  <a:srgbClr val="990000"/>
                </a:solidFill>
                <a:latin typeface="Arial"/>
                <a:ea typeface="方正静蕾简体"/>
              </a:rPr>
              <a:t>放大</a:t>
            </a:r>
            <a:r>
              <a:rPr b="1" lang="zh-CN" sz="4700" spc="-1" strike="noStrike">
                <a:solidFill>
                  <a:srgbClr val="990000"/>
                </a:solidFill>
                <a:latin typeface="Arial"/>
                <a:ea typeface="方正静蕾简体"/>
              </a:rPr>
              <a:t>镜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555640" y="0"/>
            <a:ext cx="636840" cy="2482920"/>
            <a:chOff x="2555640" y="0"/>
            <a:chExt cx="636840" cy="2482920"/>
          </a:xfrm>
        </p:grpSpPr>
        <p:sp>
          <p:nvSpPr>
            <p:cNvPr id="163" name="Rectangle 5"/>
            <p:cNvSpPr/>
            <p:nvPr/>
          </p:nvSpPr>
          <p:spPr>
            <a:xfrm>
              <a:off x="2760840" y="0"/>
              <a:ext cx="431640" cy="23749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555640" y="108000"/>
              <a:ext cx="63684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昨天为什么没接我电话？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7"/>
          <p:cNvGrpSpPr/>
          <p:nvPr/>
        </p:nvGrpSpPr>
        <p:grpSpPr>
          <a:xfrm>
            <a:off x="2236680" y="1440"/>
            <a:ext cx="433440" cy="2698920"/>
            <a:chOff x="2236680" y="1440"/>
            <a:chExt cx="433440" cy="2698920"/>
          </a:xfrm>
        </p:grpSpPr>
        <p:sp>
          <p:nvSpPr>
            <p:cNvPr id="166" name="Rectangle 8"/>
            <p:cNvSpPr/>
            <p:nvPr/>
          </p:nvSpPr>
          <p:spPr>
            <a:xfrm>
              <a:off x="2236680" y="1440"/>
              <a:ext cx="433440" cy="26276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2258640" y="108000"/>
              <a:ext cx="4086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今天是我们恋爱一周年耶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"/>
          <p:cNvGrpSpPr/>
          <p:nvPr/>
        </p:nvGrpSpPr>
        <p:grpSpPr>
          <a:xfrm>
            <a:off x="1501560" y="1440"/>
            <a:ext cx="636840" cy="3640320"/>
            <a:chOff x="1501560" y="1440"/>
            <a:chExt cx="636840" cy="3640320"/>
          </a:xfrm>
        </p:grpSpPr>
        <p:sp>
          <p:nvSpPr>
            <p:cNvPr id="169" name="Rectangle 11"/>
            <p:cNvSpPr/>
            <p:nvPr/>
          </p:nvSpPr>
          <p:spPr>
            <a:xfrm>
              <a:off x="1704960" y="1440"/>
              <a:ext cx="433440" cy="33951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501560" y="108000"/>
              <a:ext cx="636840" cy="35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你跟公司的那位</a:t>
              </a:r>
              <a:r>
                <a:rPr b="0" lang="zh-CN" sz="15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MM</a:t>
              </a:r>
              <a:r>
                <a:rPr b="0" lang="zh-CN" sz="15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关系好像很不错哟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3"/>
          <p:cNvGrpSpPr/>
          <p:nvPr/>
        </p:nvGrpSpPr>
        <p:grpSpPr>
          <a:xfrm>
            <a:off x="964800" y="1440"/>
            <a:ext cx="636840" cy="2783160"/>
            <a:chOff x="964800" y="1440"/>
            <a:chExt cx="636840" cy="2783160"/>
          </a:xfrm>
        </p:grpSpPr>
        <p:sp>
          <p:nvSpPr>
            <p:cNvPr id="172" name="Rectangle 14"/>
            <p:cNvSpPr/>
            <p:nvPr/>
          </p:nvSpPr>
          <p:spPr>
            <a:xfrm>
              <a:off x="1170000" y="1440"/>
              <a:ext cx="431640" cy="27831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964800" y="108720"/>
              <a:ext cx="636840" cy="23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亲爱的，我好像感冒了啦</a:t>
              </a: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~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20840" y="1440"/>
            <a:ext cx="657000" cy="3149640"/>
            <a:chOff x="420840" y="1440"/>
            <a:chExt cx="657000" cy="3149640"/>
          </a:xfrm>
        </p:grpSpPr>
        <p:sp>
          <p:nvSpPr>
            <p:cNvPr id="175" name="Rectangle 17"/>
            <p:cNvSpPr/>
            <p:nvPr/>
          </p:nvSpPr>
          <p:spPr>
            <a:xfrm>
              <a:off x="646200" y="1440"/>
              <a:ext cx="431640" cy="26982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840" y="108000"/>
              <a:ext cx="63684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你好久没带我去吃好吃的了</a:t>
              </a: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~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9" descr="未命名-1"/>
          <p:cNvPicPr/>
          <p:nvPr/>
        </p:nvPicPr>
        <p:blipFill>
          <a:blip r:embed="rId2"/>
          <a:stretch/>
        </p:blipFill>
        <p:spPr>
          <a:xfrm>
            <a:off x="2762280" y="2432160"/>
            <a:ext cx="447480" cy="668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未命名-2"/>
          <p:cNvPicPr/>
          <p:nvPr/>
        </p:nvPicPr>
        <p:blipFill>
          <a:blip r:embed="rId3"/>
          <a:stretch/>
        </p:blipFill>
        <p:spPr>
          <a:xfrm>
            <a:off x="1168560" y="2843280"/>
            <a:ext cx="433080" cy="64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未命名-3"/>
          <p:cNvPicPr/>
          <p:nvPr/>
        </p:nvPicPr>
        <p:blipFill>
          <a:blip r:embed="rId4"/>
          <a:stretch/>
        </p:blipFill>
        <p:spPr>
          <a:xfrm>
            <a:off x="2235240" y="2687760"/>
            <a:ext cx="450720" cy="57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2" descr="未命名-4"/>
          <p:cNvPicPr/>
          <p:nvPr/>
        </p:nvPicPr>
        <p:blipFill>
          <a:blip r:embed="rId5"/>
          <a:stretch/>
        </p:blipFill>
        <p:spPr>
          <a:xfrm>
            <a:off x="647640" y="2746440"/>
            <a:ext cx="432000" cy="86364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23"/>
          <p:cNvGrpSpPr/>
          <p:nvPr/>
        </p:nvGrpSpPr>
        <p:grpSpPr>
          <a:xfrm>
            <a:off x="5848200" y="3191040"/>
            <a:ext cx="1943280" cy="2050920"/>
            <a:chOff x="5848200" y="3191040"/>
            <a:chExt cx="1943280" cy="2050920"/>
          </a:xfrm>
        </p:grpSpPr>
        <p:grpSp>
          <p:nvGrpSpPr>
            <p:cNvPr id="182" name="Group 24"/>
            <p:cNvGrpSpPr/>
            <p:nvPr/>
          </p:nvGrpSpPr>
          <p:grpSpPr>
            <a:xfrm>
              <a:off x="7154280" y="4572360"/>
              <a:ext cx="637200" cy="669600"/>
              <a:chOff x="7154280" y="4572360"/>
              <a:chExt cx="637200" cy="669600"/>
            </a:xfrm>
          </p:grpSpPr>
          <p:sp>
            <p:nvSpPr>
              <p:cNvPr id="183" name="Oval 25"/>
              <p:cNvSpPr/>
              <p:nvPr/>
            </p:nvSpPr>
            <p:spPr>
              <a:xfrm>
                <a:off x="7683840" y="5134320"/>
                <a:ext cx="107640" cy="107640"/>
              </a:xfrm>
              <a:prstGeom prst="ellipse">
                <a:avLst/>
              </a:prstGeom>
              <a:solidFill>
                <a:srgbClr val="2d2a02"/>
              </a:solidFill>
              <a:ln w="9360">
                <a:solidFill>
                  <a:srgbClr val="2d2a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>
                <a:off x="7154280" y="4572360"/>
                <a:ext cx="579600" cy="612000"/>
              </a:xfrm>
              <a:prstGeom prst="line">
                <a:avLst/>
              </a:prstGeom>
              <a:ln w="127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Oval 27"/>
            <p:cNvSpPr/>
            <p:nvPr/>
          </p:nvSpPr>
          <p:spPr>
            <a:xfrm>
              <a:off x="5848200" y="3191040"/>
              <a:ext cx="1595520" cy="1595880"/>
            </a:xfrm>
            <a:prstGeom prst="ellipse">
              <a:avLst/>
            </a:prstGeom>
            <a:noFill/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Oval 28"/>
            <p:cNvGrpSpPr/>
            <p:nvPr/>
          </p:nvGrpSpPr>
          <p:grpSpPr>
            <a:xfrm>
              <a:off x="5906520" y="3249360"/>
              <a:ext cx="1487520" cy="1481040"/>
              <a:chOff x="5906520" y="3249360"/>
              <a:chExt cx="1487520" cy="1481040"/>
            </a:xfrm>
          </p:grpSpPr>
          <p:pic>
            <p:nvPicPr>
              <p:cNvPr id="187" name="Oval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906520" y="3249360"/>
                <a:ext cx="1487520" cy="14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6126480" y="3463920"/>
                <a:ext cx="104976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908520" y="2355840"/>
            <a:ext cx="1152360" cy="1152360"/>
          </a:xfrm>
          <a:prstGeom prst="rect">
            <a:avLst/>
          </a:prstGeom>
          <a:solidFill>
            <a:srgbClr val="b20000"/>
          </a:solidFill>
          <a:ln w="0">
            <a:noFill/>
          </a:ln>
          <a:effectLst>
            <a:outerShdw dist="17819" dir="2700000" blurRad="0" rotWithShape="0">
              <a:srgbClr val="6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3541680" y="844560"/>
            <a:ext cx="1871640" cy="1366920"/>
            <a:chOff x="3541680" y="844560"/>
            <a:chExt cx="1871640" cy="1366920"/>
          </a:xfrm>
        </p:grpSpPr>
        <p:sp>
          <p:nvSpPr>
            <p:cNvPr id="191" name="AutoShape 4"/>
            <p:cNvSpPr/>
            <p:nvPr/>
          </p:nvSpPr>
          <p:spPr>
            <a:xfrm>
              <a:off x="3541680" y="844560"/>
              <a:ext cx="1871640" cy="1366920"/>
            </a:xfrm>
            <a:custGeom>
              <a:avLst/>
              <a:gdLst>
                <a:gd name="textAreaLeft" fmla="*/ 389880 w 1871640"/>
                <a:gd name="textAreaRight" fmla="*/ 1481760 w 1871640"/>
                <a:gd name="textAreaTop" fmla="*/ 284760 h 1366920"/>
                <a:gd name="textAreaBottom" fmla="*/ 108216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0000">
                    <a:alpha val="85098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3693960" y="1014480"/>
              <a:ext cx="158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在式的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现在的爱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6"/>
          <p:cNvGrpSpPr/>
          <p:nvPr/>
        </p:nvGrpSpPr>
        <p:grpSpPr>
          <a:xfrm>
            <a:off x="2279520" y="1995480"/>
            <a:ext cx="1584360" cy="1871640"/>
            <a:chOff x="2279520" y="1995480"/>
            <a:chExt cx="1584360" cy="1871640"/>
          </a:xfrm>
        </p:grpSpPr>
        <p:sp>
          <p:nvSpPr>
            <p:cNvPr id="194" name="AutoShape 7"/>
            <p:cNvSpPr/>
            <p:nvPr/>
          </p:nvSpPr>
          <p:spPr>
            <a:xfrm flipH="1" rot="16200000">
              <a:off x="2125440" y="2247480"/>
              <a:ext cx="1871640" cy="1367640"/>
            </a:xfrm>
            <a:custGeom>
              <a:avLst/>
              <a:gdLst>
                <a:gd name="textAreaLeft" fmla="*/ 389880 w 1871640"/>
                <a:gd name="textAreaRight" fmla="*/ 1481760 w 1871640"/>
                <a:gd name="textAreaTop" fmla="*/ 285120 h 1367640"/>
                <a:gd name="textAreaBottom" fmla="*/ 1082520 h 13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0000">
                    <a:alpha val="85098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2279520" y="26283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ve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过去的爱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9"/>
          <p:cNvGrpSpPr/>
          <p:nvPr/>
        </p:nvGrpSpPr>
        <p:grpSpPr>
          <a:xfrm>
            <a:off x="5092560" y="1995480"/>
            <a:ext cx="1582920" cy="1871640"/>
            <a:chOff x="5092560" y="1995480"/>
            <a:chExt cx="1582920" cy="1871640"/>
          </a:xfrm>
        </p:grpSpPr>
        <p:sp>
          <p:nvSpPr>
            <p:cNvPr id="197" name="AutoShape 10"/>
            <p:cNvSpPr/>
            <p:nvPr/>
          </p:nvSpPr>
          <p:spPr>
            <a:xfrm rot="5400000">
              <a:off x="4960080" y="2247840"/>
              <a:ext cx="1871640" cy="1366560"/>
            </a:xfrm>
            <a:custGeom>
              <a:avLst/>
              <a:gdLst>
                <a:gd name="textAreaLeft" fmla="*/ 389880 w 1871640"/>
                <a:gd name="textAreaRight" fmla="*/ 1481760 w 1871640"/>
                <a:gd name="textAreaTop" fmla="*/ 284760 h 1366560"/>
                <a:gd name="textAreaBottom" fmla="*/ 1081800 h 13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0000">
                    <a:alpha val="85098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5092560" y="2628360"/>
              <a:ext cx="158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ve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未来的爱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矩形 12"/>
          <p:cNvSpPr/>
          <p:nvPr/>
        </p:nvSpPr>
        <p:spPr>
          <a:xfrm>
            <a:off x="476280" y="47354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1730520" y="976320"/>
            <a:ext cx="504720" cy="3022560"/>
          </a:xfrm>
          <a:custGeom>
            <a:avLst/>
            <a:gdLst>
              <a:gd name="textAreaLeft" fmla="*/ 322560 w 504720"/>
              <a:gd name="textAreaRight" fmla="*/ 505080 w 504720"/>
              <a:gd name="textAreaTop" fmla="*/ 78480 h 3022560"/>
              <a:gd name="textAreaBottom" fmla="*/ 2944080 h 302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0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2308320" y="1249200"/>
            <a:ext cx="1079280" cy="360360"/>
          </a:xfrm>
          <a:prstGeom prst="flowChartDelay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lov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08320" y="2317680"/>
            <a:ext cx="1079280" cy="360360"/>
          </a:xfrm>
          <a:prstGeom prst="flowChartDelay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308320" y="3336840"/>
            <a:ext cx="1079280" cy="360360"/>
          </a:xfrm>
          <a:prstGeom prst="flowChartDelay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will  lo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722760" y="2303640"/>
            <a:ext cx="421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升温的恋情里，总忍不住测试对方，收集爱的证据，谁爱谁多一点，真得打分衡量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722760" y="3262320"/>
            <a:ext cx="421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恋人未满的状态，你们，真的会有可能吗？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98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度爱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该沸腾吗？如果因为害怕改变现状而退却，就永远感觉不到真爱沸腾的炽烈。不要犹豫，勇敢爱吧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722760" y="1249200"/>
            <a:ext cx="421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曾经的暗恋对象，那些挥之不去的憧憬，却始终没有跨出这一步。为什么不向那个人诉说真心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932040" y="2195640"/>
            <a:ext cx="576000" cy="576000"/>
          </a:xfrm>
          <a:custGeom>
            <a:avLst/>
            <a:gdLst>
              <a:gd name="textAreaLeft" fmla="*/ 134280 w 576000"/>
              <a:gd name="textAreaRight" fmla="*/ 441720 w 576000"/>
              <a:gd name="textAreaTop" fmla="*/ 60480 h 576000"/>
              <a:gd name="textAreaBottom" fmla="*/ 364680 h 576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c0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"/>
          <p:cNvSpPr/>
          <p:nvPr/>
        </p:nvSpPr>
        <p:spPr>
          <a:xfrm>
            <a:off x="2929320" y="2529000"/>
            <a:ext cx="162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1ppt.com/xiazai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2"/>
          <p:cNvPicPr/>
          <p:nvPr/>
        </p:nvPicPr>
        <p:blipFill>
          <a:blip r:embed="rId1"/>
          <a:srcRect l="3246" t="2861" r="11346" b="5217"/>
          <a:stretch/>
        </p:blipFill>
        <p:spPr>
          <a:xfrm>
            <a:off x="611280" y="755640"/>
            <a:ext cx="30906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10"/>
          <p:cNvPicPr/>
          <p:nvPr/>
        </p:nvPicPr>
        <p:blipFill>
          <a:blip r:embed="rId2"/>
          <a:stretch/>
        </p:blipFill>
        <p:spPr>
          <a:xfrm>
            <a:off x="5391000" y="755640"/>
            <a:ext cx="3036960" cy="1722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5"/>
          <p:cNvPicPr/>
          <p:nvPr/>
        </p:nvPicPr>
        <p:blipFill>
          <a:blip r:embed="rId3"/>
          <a:stretch/>
        </p:blipFill>
        <p:spPr>
          <a:xfrm>
            <a:off x="2562120" y="2629080"/>
            <a:ext cx="1281240" cy="1760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13"/>
          <p:cNvPicPr/>
          <p:nvPr/>
        </p:nvPicPr>
        <p:blipFill>
          <a:blip r:embed="rId4"/>
          <a:stretch/>
        </p:blipFill>
        <p:spPr>
          <a:xfrm>
            <a:off x="3924360" y="2620800"/>
            <a:ext cx="3144600" cy="1768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16"/>
          <p:cNvPicPr/>
          <p:nvPr/>
        </p:nvPicPr>
        <p:blipFill>
          <a:blip r:embed="rId5"/>
          <a:srcRect l="0" t="0" r="40832" b="0"/>
          <a:stretch/>
        </p:blipFill>
        <p:spPr>
          <a:xfrm>
            <a:off x="612720" y="2629080"/>
            <a:ext cx="1852560" cy="1760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7"/>
          <p:cNvPicPr/>
          <p:nvPr/>
        </p:nvPicPr>
        <p:blipFill>
          <a:blip r:embed="rId6"/>
          <a:stretch/>
        </p:blipFill>
        <p:spPr>
          <a:xfrm>
            <a:off x="3780000" y="755640"/>
            <a:ext cx="1530360" cy="1722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9"/>
          <p:cNvPicPr/>
          <p:nvPr/>
        </p:nvPicPr>
        <p:blipFill>
          <a:blip r:embed="rId7"/>
          <a:stretch/>
        </p:blipFill>
        <p:spPr>
          <a:xfrm>
            <a:off x="7149960" y="2629080"/>
            <a:ext cx="1278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703520" y="920880"/>
            <a:ext cx="56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e002c"/>
                </a:solidFill>
                <a:latin typeface="Arial"/>
                <a:ea typeface="微软雅黑"/>
              </a:rPr>
              <a:t>青春时代的爱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803240" y="1957320"/>
            <a:ext cx="5361120" cy="1572840"/>
          </a:xfrm>
          <a:prstGeom prst="rect">
            <a:avLst/>
          </a:prstGeom>
          <a:solidFill>
            <a:srgbClr val="9c0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700" spc="-1" strike="noStrike">
                <a:solidFill>
                  <a:srgbClr val="ffffff"/>
                </a:solidFill>
                <a:latin typeface="Arial"/>
                <a:ea typeface="微软雅黑"/>
              </a:rPr>
              <a:t>如何抉择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689120" y="3657600"/>
            <a:ext cx="5740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关于爱情的考卷，这题有点难！！！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王玉清</cp:lastModifiedBy>
  <dcterms:modified xsi:type="dcterms:W3CDTF">2016-02-20T03:54:58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2</vt:lpwstr>
  </property>
</Properties>
</file>