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F10-4B0D-43EE-A508-B7288F21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1CD-3C76-46D4-846F-75EFEBE5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786-616B-4B7D-82EA-42CB8A8D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EA4-1BF2-48CD-92C6-9B5E6C77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FAB-8DA0-421A-8C0D-803F8311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B4B-9904-43E5-9475-3DB940E4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A49-4A92-4727-9667-ACA33114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FF9-43B5-47FC-B9CF-BBEAE845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F48-271F-4D93-B7D6-AFC34164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058-2F71-40CC-B7AC-91540354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5C6-B658-49F8-9607-DB1F9744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BA8-4E50-4FA5-A488-30FBFBB9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EFC7-3CB5-46E3-9637-AA604DB3B28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非凡图库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ffp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D13B-C12D-4CB1-B625-44CF15C3930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3257640"/>
            <a:ext cx="5113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250920" y="4049640"/>
            <a:ext cx="542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6012000" y="4649760"/>
            <a:ext cx="649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05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9840" y="5076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自我介绍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840" y="179280"/>
            <a:ext cx="1428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lidan\Desktop\1.png"/>
          <p:cNvPicPr/>
          <p:nvPr/>
        </p:nvPicPr>
        <p:blipFill>
          <a:blip r:embed="rId2"/>
          <a:stretch/>
        </p:blipFill>
        <p:spPr>
          <a:xfrm>
            <a:off x="1785960" y="157176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429000" y="16430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lidan\Desktop\1.png"/>
          <p:cNvPicPr/>
          <p:nvPr/>
        </p:nvPicPr>
        <p:blipFill>
          <a:blip r:embed="rId3"/>
          <a:stretch/>
        </p:blipFill>
        <p:spPr>
          <a:xfrm>
            <a:off x="1785960" y="228600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lidan\Desktop\1.png"/>
          <p:cNvPicPr/>
          <p:nvPr/>
        </p:nvPicPr>
        <p:blipFill>
          <a:blip r:embed="rId4"/>
          <a:stretch/>
        </p:blipFill>
        <p:spPr>
          <a:xfrm>
            <a:off x="1785960" y="303228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lidan\Desktop\1.png"/>
          <p:cNvPicPr/>
          <p:nvPr/>
        </p:nvPicPr>
        <p:blipFill>
          <a:blip r:embed="rId5"/>
          <a:stretch/>
        </p:blipFill>
        <p:spPr>
          <a:xfrm>
            <a:off x="1785960" y="378000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429000" y="234468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429000" y="308772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429000" y="384480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-425160" y="173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6800" y="857160"/>
            <a:ext cx="67150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本人刘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，性别男，汉族人，于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1979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日出生在柳州市的一个干部小家庭。系湖南商学院信息工程与信息管理系九八级自考班的学生，现担任本系自考部的团总支书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iciency in AutoCAD drawing software, Pro / E software, Photoshop software, to use word, excel and software to operate independently and in a timely and efficient comple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8413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-631080" y="17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7" descr="2476235_231918247241_2.jpg"/>
          <p:cNvPicPr/>
          <p:nvPr/>
        </p:nvPicPr>
        <p:blipFill>
          <a:blip r:embed="rId2"/>
          <a:stretch/>
        </p:blipFill>
        <p:spPr>
          <a:xfrm>
            <a:off x="4071960" y="1357200"/>
            <a:ext cx="3771720" cy="28288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60" name="Picture 2" descr="C:\Users\lidan\Desktop\未标题-3.png"/>
          <p:cNvPicPr/>
          <p:nvPr/>
        </p:nvPicPr>
        <p:blipFill>
          <a:blip r:embed="rId3"/>
          <a:stretch/>
        </p:blipFill>
        <p:spPr>
          <a:xfrm>
            <a:off x="217440" y="1084320"/>
            <a:ext cx="4105440" cy="642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0"/>
          <p:cNvSpPr/>
          <p:nvPr/>
        </p:nvSpPr>
        <p:spPr>
          <a:xfrm>
            <a:off x="46800" y="1084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65160" y="-792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副标题 2"/>
          <p:cNvSpPr/>
          <p:nvPr/>
        </p:nvSpPr>
        <p:spPr>
          <a:xfrm>
            <a:off x="157320" y="3429000"/>
            <a:ext cx="3985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THE ENG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766-4F44-4A2F-82F3-7439FC47CF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11:15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