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408-A360-4297-88AF-1A6167FB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DFC-19B9-44DD-A172-47BB9238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F70-6B1B-4344-9862-40C2C7C3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4BC-F590-45E4-9E08-7306FFEF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AC3D-93D5-48D2-8676-2D63025E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344B-6991-4B5E-A1DA-1A3CC208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3460-61A9-49AD-9972-C964A0AD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B406-CB7E-459A-9769-F2B2DCE7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3E14-18B1-4AFF-BDCF-943C09FD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D8C7-0A14-423F-9B12-D819B2A5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041F-0A0A-4B2A-90C5-16B4B72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8C9-B516-468A-8E35-9E1E5481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A149-B36A-4B07-AD74-369B644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5E7F-92D2-4391-87DE-790940B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66AC-FFC1-478C-A008-83B3793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251D-7C69-4C6C-B50E-64693493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8131-1D11-4BC6-A234-7B69C14B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AC6F-F705-4496-A321-3E99E79C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9652-F729-477B-8EE9-7B8C70D8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182D-04E4-4D04-AAD3-DB854590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E74CC-56C1-4942-AFB0-6FFEB8B6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D659-9085-4D94-82AA-E3C8A3B4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09C-0B61-4705-81C6-E1DAD5A6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E58B-1043-4034-8A7C-ED67E730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D30A-6EEE-4679-8450-D868AC7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7224-47C3-471E-A3EA-60D78618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ABFB-CFAE-4997-91F7-8F8EECF7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9F12-1684-48C7-9159-59A5D996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22C2-9CC8-42A6-B563-E65C16C6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844C-A697-46BC-A628-0BFED165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7263A-9928-4287-B40B-9468464E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343C0-BE0C-4EF7-B2E5-033C88B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8EBD-0859-48CA-B2FF-2FB2D97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D8C-9333-4A2A-9969-752E1C83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9F4D7-3DE8-4177-8CBC-AF03BE29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586D-1C8F-4C62-827A-1AE933F1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A862-F652-4FE7-9D93-F792ABEE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99BD-0A30-4046-88F5-FC5344E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44A35-8893-4C5E-87A0-37528979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D5BD9-5AF2-4708-8022-99BC8608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DB1F-2EAF-4DFA-9F13-85EFFA30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F373-E59D-4AFE-87CB-948C3B4C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39BA-8BD3-47F1-AD33-955D2E74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C041E-1A28-456F-8ACF-AF8E8DEE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332-69AF-496F-BEE5-FECA7E31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7BC22-452E-4147-8A6F-7EE7C8CE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79283-ABE2-454C-83D5-C1FBA627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B7E9-0850-4D56-98B8-1139290B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A4B86-EAD5-4B51-A1CC-81AA0EB8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9EA9-5E4E-4726-B5B2-2F384C5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5B04-7245-4619-AF18-351A9A4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CB73-9968-40AA-928F-4EC8F334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0302C-C20E-4BBD-9001-93153426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0FFFD-B92A-4576-BE2B-FA32D846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E76C-0AC1-4194-BBA4-8A12E984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143-8266-4328-8963-50FF7633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B411-AC83-4887-A853-F9C92F12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5B1F-033B-4D02-9691-7D2478B3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92D48-F432-4142-901E-F65EF0C6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03FF0-4F4F-4C5C-B926-BA3E4FFA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1B9FC-FFB5-49D1-8013-97D6E9F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02D41-3D06-489B-9036-D28E2DB1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88920"/>
            <a:ext cx="7772040" cy="55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F3897-3DCB-45C6-9F95-906D7D73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EFC84-3C8F-40B9-BD42-F0C9156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28613-F65C-461C-A7BB-A4234494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8062-BA0D-4FE7-88C5-FD8FC02C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930-992B-4846-B2EB-5A478BC2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7D47F-C406-40E1-A9D5-6B30D1E7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8F51-C7D1-495B-96A9-77FC3ADA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F57C7-CC8C-4EDF-9ADD-315055B9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415-4203-4598-B590-C3AE7FEF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402-3C25-47A8-AF3B-2E276A4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7619760" cy="8377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59D487-C2AD-438B-A354-6CD6473A6E5F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3809520" cy="41907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单击此处编辑母版文本样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二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28600">
              <a:lnSpc>
                <a:spcPct val="12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三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9064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四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五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724280" y="1600200"/>
            <a:ext cx="3809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单击图标添加剪 贴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8E0ADD-55F0-4336-9170-87AA88F92B1D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CFDF32-7D83-47E9-91BF-CF40ED70C24B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040" cy="41907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单击此处编辑母版文本样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二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28600">
              <a:lnSpc>
                <a:spcPct val="12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三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9064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四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五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689AC5-4581-4365-82B8-F11A8B4551EF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3809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单击图标添加剪 贴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4724280" y="1600200"/>
            <a:ext cx="3809520" cy="41907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单击此处编辑母版文本样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二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28600">
              <a:lnSpc>
                <a:spcPct val="12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三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9064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四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22860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五级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E33266-4875-4A65-A146-6BC455DF28C6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单击此处编辑母版标题样式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单击图标添加表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DAF117-E509-4756-B281-F118D3A5387C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7619760" cy="8377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中学生物通用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Picture 8" descr="tt"/>
          <p:cNvPicPr/>
          <p:nvPr/>
        </p:nvPicPr>
        <p:blipFill>
          <a:blip r:embed="rId2"/>
          <a:stretch/>
        </p:blipFill>
        <p:spPr>
          <a:xfrm>
            <a:off x="8172360" y="189000"/>
            <a:ext cx="647280" cy="431280"/>
          </a:xfrm>
          <a:prstGeom prst="rect">
            <a:avLst/>
          </a:prstGeom>
          <a:ln w="0">
            <a:noFill/>
          </a:ln>
        </p:spPr>
      </p:pic>
      <p:sp>
        <p:nvSpPr>
          <p:cNvPr id="25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一级标题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040" cy="33523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二级标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文本内容，此处有图片超级连接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二级标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文本内容，此处有图片超级连接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新课内容二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040" cy="419076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一级标题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内容……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例题和练习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1981080" y="175248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例题一（非选择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1981080" y="297180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例题二（选择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1981080" y="4191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练习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1981080" y="5334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练习题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例题分析一（非选择题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3809520" cy="419076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txBody>
          <a:bodyPr numCol="1" spcCol="0" anchor="t">
            <a:noAutofit/>
          </a:bodyPr>
          <a:p>
            <a:pPr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题文内容 ……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8" name="Picture 5" descr="NA01607_"/>
          <p:cNvPicPr/>
          <p:nvPr/>
        </p:nvPicPr>
        <p:blipFill>
          <a:blip r:embed="rId1"/>
          <a:stretch/>
        </p:blipFill>
        <p:spPr>
          <a:xfrm>
            <a:off x="5257800" y="1905120"/>
            <a:ext cx="2819160" cy="25999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5715000" y="4952880"/>
            <a:ext cx="213336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题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例题分析二（选择题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086240" cy="39621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题文内容…… 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正确答案是：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练习一（选择题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086240" cy="39621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题文内容…… 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练习二（选择题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086240" cy="39621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题文内容…… 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00240" indent="-53352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AutoNum type="alphaUcPeriod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扩展资料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981080" y="1905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扩展资料一（文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1981080" y="320040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扩展资料二（图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1981080" y="4495680"/>
            <a:ext cx="5562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扩展资料三（文本和图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扩展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040" cy="44953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文本资料……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扩展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Picture 3" descr="BD00028_"/>
          <p:cNvPicPr/>
          <p:nvPr/>
        </p:nvPicPr>
        <p:blipFill>
          <a:blip r:embed="rId1"/>
          <a:stretch/>
        </p:blipFill>
        <p:spPr>
          <a:xfrm>
            <a:off x="2208240" y="1752480"/>
            <a:ext cx="4954320" cy="4571640"/>
          </a:xfrm>
          <a:prstGeom prst="rect">
            <a:avLst/>
          </a:prstGeom>
          <a:ln cap="sq" w="12700">
            <a:solidFill>
              <a:srgbClr val="eaeaea"/>
            </a:solidFill>
            <a:miter/>
          </a:ln>
        </p:spPr>
      </p:pic>
      <p:sp>
        <p:nvSpPr>
          <p:cNvPr id="321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520" y="317520"/>
            <a:ext cx="5790960" cy="7488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课件标题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1676520" y="1447920"/>
            <a:ext cx="5790960" cy="4952520"/>
          </a:xfrm>
          <a:prstGeom prst="roundRect">
            <a:avLst>
              <a:gd name="adj" fmla="val 4074"/>
            </a:avLst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8900000"/>
          </a:gradFill>
          <a:ln w="12700">
            <a:noFill/>
          </a:ln>
          <a:scene3d>
            <a:camera prst="legacyObliqueBottomRight"/>
            <a:lightRig dir="t" rig="legacyFlat3"/>
          </a:scene3d>
          <a:sp3d extrusionH="176200" prstMaterial="legacyMatte">
            <a:bevelT prst="angle" w="13500" h="13500"/>
            <a:bevelB prst="angle" w="13500" h="13500"/>
            <a:extrusionClr>
              <a:srgbClr val="0099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400" spc="-1" strike="noStrike">
              <a:solidFill>
                <a:srgbClr val="eaeaea"/>
              </a:solidFill>
              <a:latin typeface="Times New Roman"/>
              <a:ea typeface="楷体_GB2312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2743200" y="1752480"/>
            <a:ext cx="3962160" cy="40294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引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新课内容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新课内容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例题和练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资料扩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StarSymbol"/>
              <a:buAutoNum type="arabicPeriod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结  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扩展三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Picture 5" descr="BD00028_"/>
          <p:cNvPicPr/>
          <p:nvPr/>
        </p:nvPicPr>
        <p:blipFill>
          <a:blip r:embed="rId1"/>
          <a:stretch/>
        </p:blipFill>
        <p:spPr>
          <a:xfrm>
            <a:off x="533520" y="1600200"/>
            <a:ext cx="4039920" cy="4419360"/>
          </a:xfrm>
          <a:prstGeom prst="rect">
            <a:avLst/>
          </a:prstGeom>
          <a:ln w="0">
            <a:solidFill>
              <a:srgbClr val="eaeaea"/>
            </a:solidFill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240" cy="44193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56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文字说明……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小结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27" name="Group 15"/>
          <p:cNvGrpSpPr/>
          <p:nvPr/>
        </p:nvGrpSpPr>
        <p:grpSpPr>
          <a:xfrm>
            <a:off x="944640" y="1981080"/>
            <a:ext cx="1341000" cy="3657240"/>
            <a:chOff x="944640" y="1981080"/>
            <a:chExt cx="1341000" cy="3657240"/>
          </a:xfrm>
        </p:grpSpPr>
        <p:sp>
          <p:nvSpPr>
            <p:cNvPr id="328" name="Text Box 3"/>
            <p:cNvSpPr/>
            <p:nvPr/>
          </p:nvSpPr>
          <p:spPr>
            <a:xfrm>
              <a:off x="944640" y="2755080"/>
              <a:ext cx="793440" cy="22503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0" lang="zh-CN" sz="4000" spc="-1" strike="noStrike">
                  <a:solidFill>
                    <a:srgbClr val="eaeaea"/>
                  </a:solidFill>
                  <a:latin typeface="Times New Roman"/>
                  <a:ea typeface="黑体"/>
                </a:rPr>
                <a:t>课件标题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905120" y="1981080"/>
              <a:ext cx="380520" cy="3657240"/>
            </a:xfrm>
            <a:prstGeom prst="leftBrace">
              <a:avLst>
                <a:gd name="adj1" fmla="val 86667"/>
                <a:gd name="adj2" fmla="val 50000"/>
              </a:avLst>
            </a:prstGeom>
            <a:noFill/>
            <a:ln cap="sq"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  <a:ea typeface="楷体_GB2312"/>
              </a:endParaRPr>
            </a:p>
          </p:txBody>
        </p:sp>
      </p:grpSp>
      <p:sp>
        <p:nvSpPr>
          <p:cNvPr id="330" name="Text Box 7"/>
          <p:cNvSpPr/>
          <p:nvPr/>
        </p:nvSpPr>
        <p:spPr>
          <a:xfrm>
            <a:off x="2438280" y="1828800"/>
            <a:ext cx="2819160" cy="674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新课内容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438280" y="4800600"/>
            <a:ext cx="2819160" cy="674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新课内容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5105520" y="4419720"/>
            <a:ext cx="380520" cy="1371240"/>
          </a:xfrm>
          <a:prstGeom prst="leftBrace">
            <a:avLst>
              <a:gd name="adj1" fmla="val 30000"/>
              <a:gd name="adj2" fmla="val 50000"/>
            </a:avLst>
          </a:prstGeom>
          <a:noFill/>
          <a:ln cap="sq" w="2857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en-US" sz="2400" spc="-1" strike="noStrike">
              <a:solidFill>
                <a:srgbClr val="eaeaea"/>
              </a:solidFill>
              <a:latin typeface="Times New Roman"/>
              <a:ea typeface="楷体_GB2312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5562720" y="4205160"/>
            <a:ext cx="2514240" cy="516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级标题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562720" y="5500800"/>
            <a:ext cx="2514240" cy="516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级标题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5410080" y="1905120"/>
            <a:ext cx="2514240" cy="516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级标题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鱼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320" y="6172200"/>
            <a:ext cx="2209320" cy="609120"/>
          </a:xfrm>
          <a:prstGeom prst="rect">
            <a:avLst/>
          </a:prstGeom>
          <a:solidFill>
            <a:srgbClr val="006600"/>
          </a:solidFill>
          <a:ln cap="sq" w="19080">
            <a:solidFill>
              <a:srgbClr val="eaeaea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图片说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鱼3"/>
          <p:cNvPicPr/>
          <p:nvPr/>
        </p:nvPicPr>
        <p:blipFill>
          <a:blip r:embed="rId1"/>
          <a:stretch/>
        </p:blipFill>
        <p:spPr>
          <a:xfrm>
            <a:off x="762120" y="533520"/>
            <a:ext cx="7924320" cy="5409720"/>
          </a:xfrm>
          <a:prstGeom prst="rect">
            <a:avLst/>
          </a:prstGeom>
          <a:ln w="19050">
            <a:solidFill>
              <a:srgbClr val="eaeaea"/>
            </a:solidFill>
            <a:miter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6095880"/>
            <a:ext cx="2742840" cy="6091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marL="216000" indent="-216000">
              <a:lnSpc>
                <a:spcPct val="100000"/>
              </a:lnSpc>
              <a:buClr>
                <a:srgbClr val="eaeaea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图片说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7696080" y="617220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120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引入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1981080" y="1905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引入一（图片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1981080" y="320040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引入二（文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1981080" y="4495680"/>
            <a:ext cx="48765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引入三（文本和图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引入一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0" y="5791320"/>
            <a:ext cx="4571640" cy="83772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0" algn="ctr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图片说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2" name="Picture 4" descr="AN02542_"/>
          <p:cNvPicPr/>
          <p:nvPr/>
        </p:nvPicPr>
        <p:blipFill>
          <a:blip r:embed="rId1"/>
          <a:stretch/>
        </p:blipFill>
        <p:spPr>
          <a:xfrm>
            <a:off x="2209680" y="1308240"/>
            <a:ext cx="4495320" cy="4346280"/>
          </a:xfrm>
          <a:prstGeom prst="rect">
            <a:avLst/>
          </a:prstGeom>
          <a:ln w="0">
            <a:solidFill>
              <a:srgbClr val="eaeaea"/>
            </a:solidFill>
          </a:ln>
        </p:spPr>
      </p:pic>
      <p:sp>
        <p:nvSpPr>
          <p:cNvPr id="263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引入二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040" cy="419076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此处是引入的文本正文内容……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引入三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76920" y="1676520"/>
            <a:ext cx="3657240" cy="41144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56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图片说明……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Picture 7" descr="AN02097_"/>
          <p:cNvPicPr/>
          <p:nvPr/>
        </p:nvPicPr>
        <p:blipFill>
          <a:blip r:embed="rId1"/>
          <a:stretch/>
        </p:blipFill>
        <p:spPr>
          <a:xfrm>
            <a:off x="838080" y="1676520"/>
            <a:ext cx="3582720" cy="4114440"/>
          </a:xfrm>
          <a:prstGeom prst="rect">
            <a:avLst/>
          </a:prstGeom>
          <a:ln w="0">
            <a:solidFill>
              <a:srgbClr val="eaeaea"/>
            </a:solidFill>
          </a:ln>
        </p:spPr>
      </p:pic>
      <p:sp>
        <p:nvSpPr>
          <p:cNvPr id="270" name="AutoShape 9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新课内容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1981080" y="190512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一级标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2"/>
          <p:cNvSpPr/>
          <p:nvPr/>
        </p:nvSpPr>
        <p:spPr>
          <a:xfrm>
            <a:off x="1981080" y="320040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一级标题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1981080" y="4495680"/>
            <a:ext cx="4419360" cy="685440"/>
          </a:xfrm>
          <a:prstGeom prst="roundRect">
            <a:avLst>
              <a:gd name="adj" fmla="val 18125"/>
            </a:avLst>
          </a:pr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568440" indent="-56844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一级标题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4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主  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800" spc="-1" strike="noStrike">
                <a:solidFill>
                  <a:srgbClr val="ffff00"/>
                </a:solidFill>
                <a:latin typeface="Times New Roman"/>
                <a:ea typeface="黑体"/>
              </a:rPr>
              <a:t>一级标题一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543440" cy="342864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二级标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文本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二级标题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560" indent="-285840">
              <a:lnSpc>
                <a:spcPct val="120000"/>
              </a:lnSpc>
              <a:spcBef>
                <a:spcPts val="561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文文本内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8920"/>
            <a:ext cx="7772040" cy="120600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200" spc="-1" strike="noStrike">
                <a:solidFill>
                  <a:srgbClr val="ffff00"/>
                </a:solidFill>
                <a:latin typeface="Times New Roman"/>
                <a:ea typeface="黑体"/>
              </a:rPr>
              <a:t>一级标题二</a:t>
            </a:r>
            <a:endParaRPr b="0" lang="en-US" sz="4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695720" cy="990360"/>
          </a:xfrm>
          <a:prstGeom prst="rect">
            <a:avLst/>
          </a:prstGeom>
          <a:noFill/>
          <a:ln w="12600">
            <a:noFill/>
          </a:ln>
        </p:spPr>
        <p:txBody>
          <a:bodyPr numCol="1" spcCol="0" anchor="t">
            <a:noAutofit/>
          </a:bodyPr>
          <a:p>
            <a:pPr marL="476280" indent="-476280">
              <a:lnSpc>
                <a:spcPct val="120000"/>
              </a:lnSpc>
              <a:spcBef>
                <a:spcPts val="641"/>
              </a:spcBef>
              <a:buClr>
                <a:srgbClr val="ffff99"/>
              </a:buClr>
              <a:buSzPct val="90000"/>
              <a:buFont typeface="Wingdings" charset="2"/>
              <a:buChar char=""/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表格说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1" name="Group 1077"/>
          <p:cNvGraphicFramePr/>
          <p:nvPr/>
        </p:nvGraphicFramePr>
        <p:xfrm>
          <a:off x="1066680" y="2209680"/>
          <a:ext cx="7162560" cy="365724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  <a:gridCol w="1193760"/>
                <a:gridCol w="1193760"/>
                <a:gridCol w="1193760"/>
              </a:tblGrid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2808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  <a:ea typeface="黑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eaeaea"/>
                      </a:solidFill>
                    </a:lnL>
                    <a:lnR w="2808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280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AutoShape 1081"/>
          <p:cNvSpPr/>
          <p:nvPr/>
        </p:nvSpPr>
        <p:spPr>
          <a:xfrm>
            <a:off x="7772400" y="6248520"/>
            <a:ext cx="1218960" cy="4568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006600"/>
              </a:gs>
              <a:gs pos="50000">
                <a:srgbClr val="66ffcc"/>
              </a:gs>
              <a:gs pos="100000">
                <a:srgbClr val="006600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中学生物-植物类-主页型">
  <a:themeElements>
    <a:clrScheme name="">
      <a:dk1>
        <a:srgbClr val="200b5b"/>
      </a:dk1>
      <a:lt1>
        <a:srgbClr val="eaeaea"/>
      </a:lt1>
      <a:dk2>
        <a:srgbClr val="6600ff"/>
      </a:dk2>
      <a:lt2>
        <a:srgbClr val="ffcc66"/>
      </a:lt2>
      <a:accent1>
        <a:srgbClr val="eeb00b"/>
      </a:accent1>
      <a:accent2>
        <a:srgbClr val="6600cc"/>
      </a:accent2>
      <a:accent3>
        <a:srgbClr val="b8aaff"/>
      </a:accent3>
      <a:accent4>
        <a:srgbClr val="c8c8c8"/>
      </a:accent4>
      <a:accent5>
        <a:srgbClr val="f5d4aa"/>
      </a:accent5>
      <a:accent6>
        <a:srgbClr val="5c00b9"/>
      </a:accent6>
      <a:hlink>
        <a:srgbClr val="ffff99"/>
      </a:hlink>
      <a:folHlink>
        <a:srgbClr val="eaeae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中学生物-植物类-主页型</Template>
  <TotalTime>4</TotalTime>
  <Application>LibreOffice/7.4.7.2$Linux_X86_64 LibreOffice_project/40$Build-2</Application>
  <AppVersion>15.0000</AppVersion>
  <Words>344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教案课件</cp:category>
  <dcterms:created xsi:type="dcterms:W3CDTF">2012-01-01T15:35:54Z</dcterms:created>
  <dc:creator>wang</dc:creator>
  <dc:description/>
  <dc:language>en-US</dc:language>
  <cp:lastModifiedBy>王玉清</cp:lastModifiedBy>
  <cp:lastPrinted>1601-01-01T00:00:00Z</cp:lastPrinted>
  <dcterms:modified xsi:type="dcterms:W3CDTF">2016-02-24T02:58:23Z</dcterms:modified>
  <cp:revision>2</cp:revision>
  <dc:subject/>
  <dc:title>本课件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3</vt:r8>
  </property>
  <property fmtid="{D5CDD505-2E9C-101B-9397-08002B2CF9AE}" pid="4" name="_TemplateID">
    <vt:lpwstr>TC011586942052</vt:lpwstr>
  </property>
</Properties>
</file>